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2B0-DBE9-471F-967B-C2EA3CD7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FC5-6326-40DE-8B6F-F25CAD90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785-3431-4285-9124-BBD584D9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1076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52352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572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1076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070880"/>
            <a:ext cx="240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149-5512-4FCD-8A6A-36390812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206-CABC-4151-B412-BDD4B581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9F2-4121-4DE8-AC7E-F0F1E8B6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7C8-A744-4489-A374-8E6D9925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789-873C-48C0-9EAC-036A9F65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6080" y="151920"/>
            <a:ext cx="74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7F0-E98A-489E-84D6-4DB053D9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78C-D919-45B3-B343-1478F9A6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12160" y="407088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F6D-DA2D-4667-9B63-A479FA2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572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2160" y="1523520"/>
            <a:ext cx="364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5720" y="4070880"/>
            <a:ext cx="7467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B7E-AFF0-49CF-83DF-2BDDBA60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outlet vert"/>
          <p:cNvPicPr/>
          <p:nvPr/>
        </p:nvPicPr>
        <p:blipFill>
          <a:blip r:embed="rId3"/>
          <a:srcRect l="0" t="26283" r="0" b="6071"/>
          <a:stretch/>
        </p:blipFill>
        <p:spPr>
          <a:xfrm>
            <a:off x="0" y="2603520"/>
            <a:ext cx="1004760" cy="98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98480" indent="-280800">
              <a:spcBef>
                <a:spcPts val="1749"/>
              </a:spcBef>
              <a:buClr>
                <a:srgbClr val="33ccff"/>
              </a:buClr>
              <a:buSzPct val="7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46240" indent="-233280">
              <a:spcBef>
                <a:spcPts val="1749"/>
              </a:spcBef>
              <a:buClr>
                <a:srgbClr val="33cc33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5BFE-0603-488B-85F4-253BABEC8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air pillution stack"/>
          <p:cNvPicPr/>
          <p:nvPr/>
        </p:nvPicPr>
        <p:blipFill>
          <a:blip r:embed="rId4"/>
          <a:srcRect l="0" t="7228" r="0" b="0"/>
          <a:stretch/>
        </p:blipFill>
        <p:spPr>
          <a:xfrm>
            <a:off x="0" y="0"/>
            <a:ext cx="1004760" cy="1450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silverfish"/>
          <p:cNvPicPr/>
          <p:nvPr/>
        </p:nvPicPr>
        <p:blipFill>
          <a:blip r:embed="rId5"/>
          <a:srcRect l="0" t="0" r="0" b="10046"/>
          <a:stretch/>
        </p:blipFill>
        <p:spPr>
          <a:xfrm>
            <a:off x="0" y="4884840"/>
            <a:ext cx="1004760" cy="67284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3"/>
          <p:cNvSpPr/>
          <p:nvPr/>
        </p:nvSpPr>
        <p:spPr>
          <a:xfrm>
            <a:off x="0" y="1320840"/>
            <a:ext cx="9144000" cy="46080"/>
          </a:xfrm>
          <a:prstGeom prst="rect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pfa2"/>
          <p:cNvPicPr/>
          <p:nvPr/>
        </p:nvPicPr>
        <p:blipFill>
          <a:blip r:embed="rId6"/>
          <a:srcRect l="47685" t="2034" r="0" b="16251"/>
          <a:stretch/>
        </p:blipFill>
        <p:spPr>
          <a:xfrm>
            <a:off x="0" y="1397160"/>
            <a:ext cx="1004760" cy="1158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wetland 8"/>
          <p:cNvPicPr/>
          <p:nvPr/>
        </p:nvPicPr>
        <p:blipFill>
          <a:blip r:embed="rId7"/>
          <a:srcRect l="21493" t="0" r="21493" b="0"/>
          <a:stretch/>
        </p:blipFill>
        <p:spPr>
          <a:xfrm>
            <a:off x="0" y="3638520"/>
            <a:ext cx="1004760" cy="1198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6" descr="Kammer port"/>
          <p:cNvPicPr/>
          <p:nvPr/>
        </p:nvPicPr>
        <p:blipFill>
          <a:blip r:embed="rId8"/>
          <a:srcRect l="0" t="0" r="0" b="13601"/>
          <a:stretch/>
        </p:blipFill>
        <p:spPr>
          <a:xfrm>
            <a:off x="0" y="5605560"/>
            <a:ext cx="1004760" cy="13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2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peciation and Bioavailability of Mercury in Ambient and Wastewater-Influenced Water Samples: A Preliminary Study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571640"/>
            <a:ext cx="71625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Rob Reash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American Electric Power, Columbus, OH</a:t>
            </a: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aramond"/>
              </a:rPr>
              <a:t>ORSANCO Technical Committee Meeting, February 2016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50" name="Picture 4" descr="outlet vert"/>
          <p:cNvPicPr/>
          <p:nvPr/>
        </p:nvPicPr>
        <p:blipFill>
          <a:blip r:embed="rId1"/>
          <a:srcRect l="0" t="26285" r="0" b="6059"/>
          <a:stretch/>
        </p:blipFill>
        <p:spPr>
          <a:xfrm>
            <a:off x="2360520" y="2857680"/>
            <a:ext cx="116388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ir pillution stack"/>
          <p:cNvPicPr/>
          <p:nvPr/>
        </p:nvPicPr>
        <p:blipFill>
          <a:blip r:embed="rId2"/>
          <a:srcRect l="0" t="7228" r="0" b="0"/>
          <a:stretch/>
        </p:blipFill>
        <p:spPr>
          <a:xfrm>
            <a:off x="1079640" y="2743200"/>
            <a:ext cx="94932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ilverfish"/>
          <p:cNvPicPr/>
          <p:nvPr/>
        </p:nvPicPr>
        <p:blipFill>
          <a:blip r:embed="rId3"/>
          <a:srcRect l="0" t="0" r="0" b="10046"/>
          <a:stretch/>
        </p:blipFill>
        <p:spPr>
          <a:xfrm>
            <a:off x="3855960" y="2948040"/>
            <a:ext cx="143532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fa2"/>
          <p:cNvPicPr/>
          <p:nvPr/>
        </p:nvPicPr>
        <p:blipFill>
          <a:blip r:embed="rId4"/>
          <a:srcRect l="47685" t="2034" r="0" b="16251"/>
          <a:stretch/>
        </p:blipFill>
        <p:spPr>
          <a:xfrm>
            <a:off x="5622840" y="285768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Kammer port"/>
          <p:cNvPicPr/>
          <p:nvPr/>
        </p:nvPicPr>
        <p:blipFill>
          <a:blip r:embed="rId5"/>
          <a:srcRect l="0" t="0" r="0" b="13605"/>
          <a:stretch/>
        </p:blipFill>
        <p:spPr>
          <a:xfrm>
            <a:off x="6934320" y="2743200"/>
            <a:ext cx="10573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rcury in Water Samples: Typical Analyse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otal Hg (and dissolved Hg) by EPA   Method 1631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eHg by EPA Method 1630*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* Assumption is that the proportion of   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MeHg to THg represents the bioavailable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fraction of all sum mercury speci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ioavailable Hg -  Not Just MeHg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Bioavailable Hg consists of two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      components: MeHg and inorganic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      bioavailable Hg (IB – Hg) that may be 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       readily converted to MeHg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                               WERF, 2009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 IB – Hg also called “reactive inorganic Hg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us, the Fraction of Bioavailable Hg is: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 (B – Hg) = f (MeHg) + f (IB – Hg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*However, the formation and  persistence of methylmercury is not always at steady state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g</a:t>
            </a:r>
            <a:r>
              <a:rPr b="0" lang="en-US" sz="2800" spc="-1" strike="noStrike" baseline="-25000">
                <a:solidFill>
                  <a:srgbClr val="f8f8f8"/>
                </a:solidFill>
                <a:latin typeface="Arial"/>
              </a:rPr>
              <a:t>methylate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↔ Hg</a:t>
            </a:r>
            <a:r>
              <a:rPr b="0" lang="en-US" sz="2800" spc="-1" strike="noStrike" baseline="-25000">
                <a:solidFill>
                  <a:srgbClr val="f8f8f8"/>
                </a:solidFill>
                <a:latin typeface="Arial"/>
              </a:rPr>
              <a:t>demethylate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Proposed Study – Phase 1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ollection and analysis of ambient, wastewater, and mixing zone (simulated) water samples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alysis of THg and dissolved Hg  by CV-AFS.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alysis of Hg</a:t>
            </a:r>
            <a:r>
              <a:rPr b="0" lang="en-US" sz="2400" spc="-1" strike="noStrike" baseline="30000">
                <a:solidFill>
                  <a:srgbClr val="f8f8f8"/>
                </a:solidFill>
                <a:latin typeface="Arial"/>
              </a:rPr>
              <a:t>+2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d MeHg by IPC-CV-ICP-MS.  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500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Other variables that influence Hg bioavailability (TSS, TOC, pH, sulfide)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6080" y="1519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cc66"/>
                </a:solidFill>
                <a:latin typeface="Arial"/>
              </a:rPr>
              <a:t>Purpose of Study</a:t>
            </a:r>
            <a:endParaRPr b="1" i="1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8572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ssess the operationally-defined bioavailability of Hg in Ohio River and mixing zone samples.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valuate a potential mechanism where bioavailable Hg,  not total Hg, can be regulated at site-specific settings. 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03200" indent="-403200">
              <a:spcBef>
                <a:spcPts val="1749"/>
              </a:spcBef>
              <a:buClr>
                <a:srgbClr val="ff9900"/>
              </a:buClr>
              <a:buSzPct val="90000"/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xact analogy: regulation of dissolved metal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29716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Questions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590920" y="2390760"/>
            <a:ext cx="38098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18:53Z</dcterms:created>
  <dc:creator>American Electric Power®</dc:creator>
  <dc:description/>
  <dc:language>en-US</dc:language>
  <cp:lastModifiedBy>Jason Heath</cp:lastModifiedBy>
  <dcterms:modified xsi:type="dcterms:W3CDTF">2016-02-05T20:41:00Z</dcterms:modified>
  <cp:revision>130</cp:revision>
  <dc:subject/>
  <dc:title>PowerPoint Presentation</dc:title>
</cp:coreProperties>
</file>