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C7DE-9A32-48A5-99FF-E81459F11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86080" y="151920"/>
            <a:ext cx="74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85720" y="152352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85720" y="40708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CE0A-8C91-45F3-A21D-856D6EFE1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86080" y="151920"/>
            <a:ext cx="74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5720" y="15235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12160" y="15235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85720" y="40708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12160" y="40708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1C8A-F6A2-4C87-BE51-4EEF8B06E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86080" y="151920"/>
            <a:ext cx="74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85720" y="15235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010760" y="15235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35800" y="15235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85720" y="40708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010760" y="40708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35800" y="40708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FE7B-338E-44FD-9AA7-5ECABA1D0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3C86A-E644-4710-A90A-B9CA58963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86080" y="151920"/>
            <a:ext cx="74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85720" y="15235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3F483-9FA6-4E4D-B893-E1B47FFB9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86080" y="151920"/>
            <a:ext cx="74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85720" y="15235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39FA9-DF24-4A5E-B5FE-4CE7B4681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86080" y="151920"/>
            <a:ext cx="74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85720" y="1523520"/>
            <a:ext cx="3643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12160" y="1523520"/>
            <a:ext cx="3643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C52E9-DCE0-4440-8445-6C1C3EBAB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86080" y="151920"/>
            <a:ext cx="74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4CD04-9810-49E9-8D2D-01EFB3292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86080" y="151920"/>
            <a:ext cx="746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D6440-B1EB-4667-8C19-F3419A361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86080" y="151920"/>
            <a:ext cx="74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85720" y="15235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12160" y="1523520"/>
            <a:ext cx="3643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85720" y="40708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94BB1-26F6-4306-9859-61786716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86080" y="151920"/>
            <a:ext cx="74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85720" y="15235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7002-2C9F-4E37-A014-D9E228D21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86080" y="151920"/>
            <a:ext cx="74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85720" y="1523520"/>
            <a:ext cx="3643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12160" y="15235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12160" y="40708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26379-7DFB-43F7-821B-95F1870B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86080" y="151920"/>
            <a:ext cx="74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85720" y="15235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12160" y="15235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85720" y="40708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39DC0-79C4-46BC-9854-40C5698E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86080" y="151920"/>
            <a:ext cx="74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85720" y="152352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85720" y="40708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4F103-18BC-444E-B664-64DCC1B53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86080" y="151920"/>
            <a:ext cx="74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85720" y="15235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12160" y="15235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85720" y="40708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12160" y="40708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E389D-9259-46B6-A138-91AA44FA4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86080" y="151920"/>
            <a:ext cx="74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85720" y="15235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010760" y="15235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35800" y="15235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85720" y="40708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010760" y="40708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35800" y="40708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CF8C3-63A3-459F-AA85-F1310CE35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86080" y="151920"/>
            <a:ext cx="74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85720" y="15235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F9F7-FD23-49EF-8772-9709120F4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86080" y="151920"/>
            <a:ext cx="74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5720" y="1523520"/>
            <a:ext cx="3643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12160" y="1523520"/>
            <a:ext cx="3643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80ED-7277-49A3-BDA8-9DCF05581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86080" y="151920"/>
            <a:ext cx="74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156C-AD3A-433B-A78D-4886AB30F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86080" y="151920"/>
            <a:ext cx="746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0412-7569-47DE-A685-FDB72292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86080" y="151920"/>
            <a:ext cx="74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85720" y="15235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12160" y="1523520"/>
            <a:ext cx="3643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85720" y="40708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D5F5-17C0-4177-ABC5-C7EC11CB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86080" y="151920"/>
            <a:ext cx="74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85720" y="1523520"/>
            <a:ext cx="3643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12160" y="15235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12160" y="40708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649D-1E5D-4B8A-BD61-DE1947C0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86080" y="151920"/>
            <a:ext cx="74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85720" y="15235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2160" y="15235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85720" y="40708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5406-016F-433D-A2CB-90117D6D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7" descr="outlet vert"/>
          <p:cNvPicPr/>
          <p:nvPr/>
        </p:nvPicPr>
        <p:blipFill>
          <a:blip r:embed="rId3"/>
          <a:srcRect l="0" t="26283" r="0" b="6071"/>
          <a:stretch/>
        </p:blipFill>
        <p:spPr>
          <a:xfrm>
            <a:off x="0" y="2603520"/>
            <a:ext cx="1004760" cy="987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86080" y="151920"/>
            <a:ext cx="74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85720" y="15235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3200" indent="-403200">
              <a:spcBef>
                <a:spcPts val="1749"/>
              </a:spcBef>
              <a:buClr>
                <a:srgbClr val="ff9900"/>
              </a:buClr>
              <a:buSzPct val="9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98480" indent="-280800">
              <a:spcBef>
                <a:spcPts val="1749"/>
              </a:spcBef>
              <a:buClr>
                <a:srgbClr val="33ccff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2" marL="1146240" indent="-233280">
              <a:spcBef>
                <a:spcPts val="1749"/>
              </a:spcBef>
              <a:buClr>
                <a:srgbClr val="33cc33"/>
              </a:buClr>
              <a:buSzPct val="7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3" marL="1600200" indent="-228600"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4" marL="2057400" indent="-228600">
              <a:spcBef>
                <a:spcPts val="17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5" marL="2057400" indent="-228600">
              <a:spcBef>
                <a:spcPts val="17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6" marL="2057400" indent="-228600">
              <a:spcBef>
                <a:spcPts val="17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50384-2897-4A63-A29C-CD1A94B4B6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0" descr="air pillution stack"/>
          <p:cNvPicPr/>
          <p:nvPr/>
        </p:nvPicPr>
        <p:blipFill>
          <a:blip r:embed="rId4"/>
          <a:srcRect l="0" t="7228" r="0" b="0"/>
          <a:stretch/>
        </p:blipFill>
        <p:spPr>
          <a:xfrm>
            <a:off x="0" y="0"/>
            <a:ext cx="1004760" cy="14508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1" descr="silverfish"/>
          <p:cNvPicPr/>
          <p:nvPr/>
        </p:nvPicPr>
        <p:blipFill>
          <a:blip r:embed="rId5"/>
          <a:srcRect l="0" t="0" r="0" b="10046"/>
          <a:stretch/>
        </p:blipFill>
        <p:spPr>
          <a:xfrm>
            <a:off x="0" y="4884840"/>
            <a:ext cx="1004760" cy="67284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3"/>
          <p:cNvSpPr/>
          <p:nvPr/>
        </p:nvSpPr>
        <p:spPr>
          <a:xfrm>
            <a:off x="0" y="1320840"/>
            <a:ext cx="9144000" cy="46080"/>
          </a:xfrm>
          <a:prstGeom prst="rect">
            <a:avLst/>
          </a:prstGeom>
          <a:solidFill>
            <a:srgbClr val="00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Picture 14" descr="pfa2"/>
          <p:cNvPicPr/>
          <p:nvPr/>
        </p:nvPicPr>
        <p:blipFill>
          <a:blip r:embed="rId6"/>
          <a:srcRect l="47685" t="2034" r="0" b="16251"/>
          <a:stretch/>
        </p:blipFill>
        <p:spPr>
          <a:xfrm>
            <a:off x="0" y="1397160"/>
            <a:ext cx="1004760" cy="115884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15" descr="wetland 8"/>
          <p:cNvPicPr/>
          <p:nvPr/>
        </p:nvPicPr>
        <p:blipFill>
          <a:blip r:embed="rId7"/>
          <a:srcRect l="21493" t="0" r="21493" b="0"/>
          <a:stretch/>
        </p:blipFill>
        <p:spPr>
          <a:xfrm>
            <a:off x="0" y="3638520"/>
            <a:ext cx="1004760" cy="119844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6" descr="Kammer port"/>
          <p:cNvPicPr/>
          <p:nvPr/>
        </p:nvPicPr>
        <p:blipFill>
          <a:blip r:embed="rId8"/>
          <a:srcRect l="0" t="0" r="0" b="13601"/>
          <a:stretch/>
        </p:blipFill>
        <p:spPr>
          <a:xfrm>
            <a:off x="0" y="5605560"/>
            <a:ext cx="1004760" cy="130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43631-9B51-41F4-A245-FA277E257F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2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Mercury Speciation and Bioavailability In Power Plant Wastewater and Ambient Ohio River Samples: Final Results</a:t>
            </a:r>
            <a:endParaRPr b="1" i="1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990720" y="4571640"/>
            <a:ext cx="71625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aramond"/>
              </a:rPr>
              <a:t>Rob Reash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aramond"/>
              </a:rPr>
              <a:t>American Electric Power, Columbus, OH</a:t>
            </a:r>
            <a:br>
              <a:rPr sz="1800"/>
            </a:b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Garamond"/>
              </a:rPr>
              <a:t>ORSANCO Technical Committee Meeting, October 2017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91" name="Picture 4" descr="outlet vert"/>
          <p:cNvPicPr/>
          <p:nvPr/>
        </p:nvPicPr>
        <p:blipFill>
          <a:blip r:embed="rId1"/>
          <a:srcRect l="0" t="26285" r="0" b="6059"/>
          <a:stretch/>
        </p:blipFill>
        <p:spPr>
          <a:xfrm>
            <a:off x="2360520" y="2857680"/>
            <a:ext cx="1163880" cy="1143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air pillution stack"/>
          <p:cNvPicPr/>
          <p:nvPr/>
        </p:nvPicPr>
        <p:blipFill>
          <a:blip r:embed="rId2"/>
          <a:srcRect l="0" t="7228" r="0" b="0"/>
          <a:stretch/>
        </p:blipFill>
        <p:spPr>
          <a:xfrm>
            <a:off x="1079640" y="2743200"/>
            <a:ext cx="949320" cy="1371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silverfish"/>
          <p:cNvPicPr/>
          <p:nvPr/>
        </p:nvPicPr>
        <p:blipFill>
          <a:blip r:embed="rId3"/>
          <a:srcRect l="0" t="0" r="0" b="10046"/>
          <a:stretch/>
        </p:blipFill>
        <p:spPr>
          <a:xfrm>
            <a:off x="3855960" y="2948040"/>
            <a:ext cx="1435320" cy="961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pfa2"/>
          <p:cNvPicPr/>
          <p:nvPr/>
        </p:nvPicPr>
        <p:blipFill>
          <a:blip r:embed="rId4"/>
          <a:srcRect l="47685" t="2034" r="0" b="16251"/>
          <a:stretch/>
        </p:blipFill>
        <p:spPr>
          <a:xfrm>
            <a:off x="5622840" y="2857680"/>
            <a:ext cx="990720" cy="1143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Kammer port"/>
          <p:cNvPicPr/>
          <p:nvPr/>
        </p:nvPicPr>
        <p:blipFill>
          <a:blip r:embed="rId5"/>
          <a:srcRect l="0" t="0" r="0" b="13605"/>
          <a:stretch/>
        </p:blipFill>
        <p:spPr>
          <a:xfrm>
            <a:off x="6934320" y="2743200"/>
            <a:ext cx="1057320" cy="13716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86080" y="151920"/>
            <a:ext cx="74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Arial"/>
              </a:rPr>
              <a:t>Results – Median Concentrations</a:t>
            </a:r>
            <a:endParaRPr b="1" i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485720" y="15235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523880" y="1905120"/>
          <a:ext cx="6096240" cy="362736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1981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mple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g (ng/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ctive Hg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g/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Hg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g/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bi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4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stewa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1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4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8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905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xing z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6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8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56"/>
          <p:cNvSpPr/>
          <p:nvPr/>
        </p:nvSpPr>
        <p:spPr>
          <a:xfrm>
            <a:off x="791280" y="10447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Box 57"/>
          <p:cNvSpPr/>
          <p:nvPr/>
        </p:nvSpPr>
        <p:spPr>
          <a:xfrm>
            <a:off x="791280" y="138600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Box 58"/>
          <p:cNvSpPr/>
          <p:nvPr/>
        </p:nvSpPr>
        <p:spPr>
          <a:xfrm>
            <a:off x="791280" y="17287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Box 59"/>
          <p:cNvSpPr/>
          <p:nvPr/>
        </p:nvSpPr>
        <p:spPr>
          <a:xfrm>
            <a:off x="791280" y="20732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Box 60"/>
          <p:cNvSpPr/>
          <p:nvPr/>
        </p:nvSpPr>
        <p:spPr>
          <a:xfrm>
            <a:off x="791280" y="241308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Box 61"/>
          <p:cNvSpPr/>
          <p:nvPr/>
        </p:nvSpPr>
        <p:spPr>
          <a:xfrm>
            <a:off x="791280" y="275580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Box 62"/>
          <p:cNvSpPr/>
          <p:nvPr/>
        </p:nvSpPr>
        <p:spPr>
          <a:xfrm>
            <a:off x="735120" y="34336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Box 63"/>
          <p:cNvSpPr/>
          <p:nvPr/>
        </p:nvSpPr>
        <p:spPr>
          <a:xfrm>
            <a:off x="735120" y="377496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Box 64"/>
          <p:cNvSpPr/>
          <p:nvPr/>
        </p:nvSpPr>
        <p:spPr>
          <a:xfrm>
            <a:off x="735120" y="41148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Box 65"/>
          <p:cNvSpPr/>
          <p:nvPr/>
        </p:nvSpPr>
        <p:spPr>
          <a:xfrm>
            <a:off x="735120" y="445464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Box 66"/>
          <p:cNvSpPr/>
          <p:nvPr/>
        </p:nvSpPr>
        <p:spPr>
          <a:xfrm>
            <a:off x="735120" y="47941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28"/>
          <p:cNvSpPr/>
          <p:nvPr/>
        </p:nvSpPr>
        <p:spPr>
          <a:xfrm>
            <a:off x="2000160" y="2720880"/>
            <a:ext cx="1297080" cy="554040"/>
          </a:xfrm>
          <a:prstGeom prst="rect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32"/>
          <p:cNvSpPr/>
          <p:nvPr/>
        </p:nvSpPr>
        <p:spPr>
          <a:xfrm>
            <a:off x="4264200" y="2967120"/>
            <a:ext cx="1295280" cy="307800"/>
          </a:xfrm>
          <a:prstGeom prst="rect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33"/>
          <p:cNvSpPr/>
          <p:nvPr/>
        </p:nvSpPr>
        <p:spPr>
          <a:xfrm>
            <a:off x="6519960" y="2940120"/>
            <a:ext cx="1295280" cy="334800"/>
          </a:xfrm>
          <a:prstGeom prst="rect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138"/>
          <p:cNvSpPr/>
          <p:nvPr/>
        </p:nvSpPr>
        <p:spPr>
          <a:xfrm>
            <a:off x="2000160" y="5064120"/>
            <a:ext cx="1297080" cy="250920"/>
          </a:xfrm>
          <a:prstGeom prst="rect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39"/>
          <p:cNvSpPr/>
          <p:nvPr/>
        </p:nvSpPr>
        <p:spPr>
          <a:xfrm>
            <a:off x="4264200" y="4673520"/>
            <a:ext cx="1295280" cy="641520"/>
          </a:xfrm>
          <a:prstGeom prst="rect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40"/>
          <p:cNvSpPr/>
          <p:nvPr/>
        </p:nvSpPr>
        <p:spPr>
          <a:xfrm>
            <a:off x="6519960" y="4324320"/>
            <a:ext cx="1295280" cy="990720"/>
          </a:xfrm>
          <a:prstGeom prst="rect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Straight Connector 156"/>
          <p:cNvSpPr/>
          <p:nvPr/>
        </p:nvSpPr>
        <p:spPr>
          <a:xfrm>
            <a:off x="2543040" y="2525760"/>
            <a:ext cx="21132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traight Connector 157"/>
          <p:cNvSpPr/>
          <p:nvPr/>
        </p:nvSpPr>
        <p:spPr>
          <a:xfrm>
            <a:off x="2543040" y="2868480"/>
            <a:ext cx="21132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Straight Connector 158"/>
          <p:cNvSpPr/>
          <p:nvPr/>
        </p:nvSpPr>
        <p:spPr>
          <a:xfrm flipV="1">
            <a:off x="2647800" y="2525400"/>
            <a:ext cx="0" cy="34596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traight Connector 160"/>
          <p:cNvSpPr/>
          <p:nvPr/>
        </p:nvSpPr>
        <p:spPr>
          <a:xfrm>
            <a:off x="4807080" y="1700280"/>
            <a:ext cx="21096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traight Connector 161"/>
          <p:cNvSpPr/>
          <p:nvPr/>
        </p:nvSpPr>
        <p:spPr>
          <a:xfrm>
            <a:off x="4807080" y="3132000"/>
            <a:ext cx="21096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Straight Connector 162"/>
          <p:cNvSpPr/>
          <p:nvPr/>
        </p:nvSpPr>
        <p:spPr>
          <a:xfrm flipV="1">
            <a:off x="4911840" y="1698480"/>
            <a:ext cx="0" cy="143352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Straight Connector 164"/>
          <p:cNvSpPr/>
          <p:nvPr/>
        </p:nvSpPr>
        <p:spPr>
          <a:xfrm>
            <a:off x="7061040" y="1266840"/>
            <a:ext cx="21276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traight Connector 165"/>
          <p:cNvSpPr/>
          <p:nvPr/>
        </p:nvSpPr>
        <p:spPr>
          <a:xfrm>
            <a:off x="7061040" y="3095640"/>
            <a:ext cx="21276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Straight Connector 166"/>
          <p:cNvSpPr/>
          <p:nvPr/>
        </p:nvSpPr>
        <p:spPr>
          <a:xfrm flipV="1">
            <a:off x="7167600" y="1266480"/>
            <a:ext cx="0" cy="182556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traight Connector 172"/>
          <p:cNvSpPr/>
          <p:nvPr/>
        </p:nvSpPr>
        <p:spPr>
          <a:xfrm>
            <a:off x="2543040" y="4935600"/>
            <a:ext cx="21132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traight Connector 173"/>
          <p:cNvSpPr/>
          <p:nvPr/>
        </p:nvSpPr>
        <p:spPr>
          <a:xfrm>
            <a:off x="2543040" y="5221440"/>
            <a:ext cx="21132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traight Connector 174"/>
          <p:cNvSpPr/>
          <p:nvPr/>
        </p:nvSpPr>
        <p:spPr>
          <a:xfrm flipV="1">
            <a:off x="2647800" y="4935240"/>
            <a:ext cx="0" cy="27612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Straight Connector 177"/>
          <p:cNvSpPr/>
          <p:nvPr/>
        </p:nvSpPr>
        <p:spPr>
          <a:xfrm>
            <a:off x="4807080" y="3774960"/>
            <a:ext cx="21096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traight Connector 179"/>
          <p:cNvSpPr/>
          <p:nvPr/>
        </p:nvSpPr>
        <p:spPr>
          <a:xfrm flipV="1">
            <a:off x="4911840" y="3773160"/>
            <a:ext cx="0" cy="129996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traight Connector 180"/>
          <p:cNvSpPr/>
          <p:nvPr/>
        </p:nvSpPr>
        <p:spPr>
          <a:xfrm>
            <a:off x="4807080" y="5073480"/>
            <a:ext cx="21096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Straight Connector 183"/>
          <p:cNvSpPr/>
          <p:nvPr/>
        </p:nvSpPr>
        <p:spPr>
          <a:xfrm>
            <a:off x="7061040" y="3735360"/>
            <a:ext cx="21276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traight Connector 184"/>
          <p:cNvSpPr/>
          <p:nvPr/>
        </p:nvSpPr>
        <p:spPr>
          <a:xfrm>
            <a:off x="7061040" y="4975200"/>
            <a:ext cx="21276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Straight Connector 185"/>
          <p:cNvSpPr/>
          <p:nvPr/>
        </p:nvSpPr>
        <p:spPr>
          <a:xfrm flipV="1">
            <a:off x="7167600" y="3735360"/>
            <a:ext cx="0" cy="123984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1139760" y="1228680"/>
            <a:ext cx="7543800" cy="40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traight Connector 410"/>
          <p:cNvSpPr/>
          <p:nvPr/>
        </p:nvSpPr>
        <p:spPr>
          <a:xfrm>
            <a:off x="1076400" y="1228680"/>
            <a:ext cx="760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Straight Connector 425"/>
          <p:cNvSpPr/>
          <p:nvPr/>
        </p:nvSpPr>
        <p:spPr>
          <a:xfrm>
            <a:off x="1076400" y="1569960"/>
            <a:ext cx="760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Straight Connector 426"/>
          <p:cNvSpPr/>
          <p:nvPr/>
        </p:nvSpPr>
        <p:spPr>
          <a:xfrm>
            <a:off x="1076400" y="1916280"/>
            <a:ext cx="760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Straight Connector 427"/>
          <p:cNvSpPr/>
          <p:nvPr/>
        </p:nvSpPr>
        <p:spPr>
          <a:xfrm>
            <a:off x="1076400" y="2257560"/>
            <a:ext cx="760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Straight Connector 428"/>
          <p:cNvSpPr/>
          <p:nvPr/>
        </p:nvSpPr>
        <p:spPr>
          <a:xfrm>
            <a:off x="1076400" y="2598840"/>
            <a:ext cx="760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Straight Connector 429"/>
          <p:cNvSpPr/>
          <p:nvPr/>
        </p:nvSpPr>
        <p:spPr>
          <a:xfrm>
            <a:off x="1076400" y="2940120"/>
            <a:ext cx="760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traight Connector 430"/>
          <p:cNvSpPr/>
          <p:nvPr/>
        </p:nvSpPr>
        <p:spPr>
          <a:xfrm>
            <a:off x="1076400" y="3278160"/>
            <a:ext cx="7607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Straight Connector 431"/>
          <p:cNvSpPr/>
          <p:nvPr/>
        </p:nvSpPr>
        <p:spPr>
          <a:xfrm>
            <a:off x="1076400" y="3614760"/>
            <a:ext cx="760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Straight Connector 432"/>
          <p:cNvSpPr/>
          <p:nvPr/>
        </p:nvSpPr>
        <p:spPr>
          <a:xfrm>
            <a:off x="1076400" y="3959280"/>
            <a:ext cx="760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Straight Connector 433"/>
          <p:cNvSpPr/>
          <p:nvPr/>
        </p:nvSpPr>
        <p:spPr>
          <a:xfrm>
            <a:off x="1076400" y="4295880"/>
            <a:ext cx="760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Straight Connector 434"/>
          <p:cNvSpPr/>
          <p:nvPr/>
        </p:nvSpPr>
        <p:spPr>
          <a:xfrm>
            <a:off x="1076400" y="4633920"/>
            <a:ext cx="760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traight Connector 435"/>
          <p:cNvSpPr/>
          <p:nvPr/>
        </p:nvSpPr>
        <p:spPr>
          <a:xfrm>
            <a:off x="1076400" y="4975200"/>
            <a:ext cx="760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Box 437"/>
          <p:cNvSpPr/>
          <p:nvPr/>
        </p:nvSpPr>
        <p:spPr>
          <a:xfrm rot="16200000">
            <a:off x="-586080" y="4148280"/>
            <a:ext cx="204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"/>
                <a:ea typeface="Arial"/>
              </a:rPr>
              <a:t>% Bioavailable H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Box 438"/>
          <p:cNvSpPr/>
          <p:nvPr/>
        </p:nvSpPr>
        <p:spPr>
          <a:xfrm>
            <a:off x="2337480" y="3278160"/>
            <a:ext cx="62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Arial"/>
              </a:rPr>
              <a:t>Amb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Box 439"/>
          <p:cNvSpPr/>
          <p:nvPr/>
        </p:nvSpPr>
        <p:spPr>
          <a:xfrm>
            <a:off x="4508280" y="3278160"/>
            <a:ext cx="80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Arial"/>
              </a:rPr>
              <a:t>Wastewa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Box 440"/>
          <p:cNvSpPr/>
          <p:nvPr/>
        </p:nvSpPr>
        <p:spPr>
          <a:xfrm>
            <a:off x="6760800" y="3278160"/>
            <a:ext cx="81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Arial"/>
              </a:rPr>
              <a:t>Mixing Z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Box 441"/>
          <p:cNvSpPr/>
          <p:nvPr/>
        </p:nvSpPr>
        <p:spPr>
          <a:xfrm>
            <a:off x="2337480" y="5318280"/>
            <a:ext cx="62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Arial"/>
              </a:rPr>
              <a:t>Amb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444"/>
          <p:cNvSpPr/>
          <p:nvPr/>
        </p:nvSpPr>
        <p:spPr>
          <a:xfrm>
            <a:off x="4508280" y="5326200"/>
            <a:ext cx="80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Arial"/>
              </a:rPr>
              <a:t>Wastewa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445"/>
          <p:cNvSpPr/>
          <p:nvPr/>
        </p:nvSpPr>
        <p:spPr>
          <a:xfrm>
            <a:off x="6760800" y="5326200"/>
            <a:ext cx="81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Arial"/>
              </a:rPr>
              <a:t>Mixing Z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Box 449"/>
          <p:cNvSpPr/>
          <p:nvPr/>
        </p:nvSpPr>
        <p:spPr>
          <a:xfrm rot="16200000">
            <a:off x="-584640" y="2097360"/>
            <a:ext cx="204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"/>
                <a:ea typeface="Arial"/>
              </a:rPr>
              <a:t>%  MeH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Box 465"/>
          <p:cNvSpPr/>
          <p:nvPr/>
        </p:nvSpPr>
        <p:spPr>
          <a:xfrm>
            <a:off x="0" y="59436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ample 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Straight Connector 58"/>
          <p:cNvSpPr/>
          <p:nvPr/>
        </p:nvSpPr>
        <p:spPr>
          <a:xfrm>
            <a:off x="1076400" y="5315040"/>
            <a:ext cx="7607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86080" y="151920"/>
            <a:ext cx="74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Study Result Conclusions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485720" y="15235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74760" indent="-374760">
              <a:spcBef>
                <a:spcPts val="1500"/>
              </a:spcBef>
              <a:buClr>
                <a:srgbClr val="ff9900"/>
              </a:buClr>
              <a:buSzPct val="9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Median concentrations of all Hg species were marginally higher in wastewater and mixing zone samples, however the median concentration of THg in wastewater samples was &lt; 12 ng/L.</a:t>
            </a:r>
            <a:br>
              <a:rPr sz="2400"/>
            </a:b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74760" indent="-374760">
              <a:spcBef>
                <a:spcPts val="1500"/>
              </a:spcBef>
              <a:buClr>
                <a:srgbClr val="ff9900"/>
              </a:buClr>
              <a:buSzPct val="9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The median % MeHg was highest in ambient river samples, but this was &lt; 2%.  Consistent with ORSANCO monitoring data.</a:t>
            </a:r>
            <a:br>
              <a:rPr sz="2400"/>
            </a:b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74760" indent="-374760">
              <a:spcBef>
                <a:spcPts val="1500"/>
              </a:spcBef>
              <a:buClr>
                <a:srgbClr val="ff9900"/>
              </a:buClr>
              <a:buSzPct val="9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The median % bioavailable Hg ranged from 8% (ambient river) to 29% (mixing zone). Thus, the median bioavailable fraction of THg for all samples was &lt; 30%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86080" y="151920"/>
            <a:ext cx="74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Recognition of the need to understand bioavailable Hg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485720" y="15235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   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Although THg concentration is relevant for any investigation </a:t>
            </a:r>
            <a:br>
              <a:rPr sz="2000"/>
            </a:b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       of Hg-contaminated soils and sediments, the fraction </a:t>
            </a:r>
            <a:br>
              <a:rPr sz="2000"/>
            </a:b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       available for methylation and, ultimately, for accumulation in</a:t>
            </a:r>
            <a:br>
              <a:rPr sz="2000"/>
            </a:b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       the food web is of particular importance…Identification of </a:t>
            </a:r>
            <a:br>
              <a:rPr sz="2000"/>
            </a:b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       the particular chemical species is less important than </a:t>
            </a:r>
            <a:br>
              <a:rPr sz="2000"/>
            </a:b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       understanding the overall “available” Hg concentration.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G.N. Bigham et al. 2016. Biogeochemical controls on </a:t>
            </a:r>
            <a:br>
              <a:rPr sz="2000"/>
            </a:b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     methylmercury in soils and sediments: implications for site  </a:t>
            </a:r>
            <a:br>
              <a:rPr sz="2000"/>
            </a:b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     management.</a:t>
            </a:r>
            <a:r>
              <a:rPr b="0" i="1" lang="en-US" sz="2000" spc="-1" strike="noStrike">
                <a:solidFill>
                  <a:srgbClr val="f8f8f8"/>
                </a:solidFill>
                <a:latin typeface="Arial"/>
              </a:rPr>
              <a:t> Integrated Environmental Assessment and </a:t>
            </a:r>
            <a:br>
              <a:rPr sz="2000"/>
            </a:br>
            <a:r>
              <a:rPr b="0" i="1" lang="en-US" sz="2000" spc="-1" strike="noStrike">
                <a:solidFill>
                  <a:srgbClr val="f8f8f8"/>
                </a:solidFill>
                <a:latin typeface="Arial"/>
              </a:rPr>
              <a:t>     Management 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13: 249 - 263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86080" y="151920"/>
            <a:ext cx="74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Arial"/>
              </a:rPr>
              <a:t>Another persepective</a:t>
            </a:r>
            <a:endParaRPr b="1" i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485720" y="15235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Furthermore, given the difference in concentration</a:t>
            </a:r>
            <a:br>
              <a:rPr sz="2400"/>
            </a:b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    distribution and bioavailability of inorganic Hg and</a:t>
            </a:r>
            <a:br>
              <a:rPr sz="2400"/>
            </a:b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    MeHg from sediments, it is clear that management</a:t>
            </a:r>
            <a:br>
              <a:rPr sz="2400"/>
            </a:b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    decisions based only on total Hg concentration</a:t>
            </a:r>
            <a:br>
              <a:rPr sz="2400"/>
            </a:b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    will not result in a correct prediction of sediment</a:t>
            </a:r>
            <a:br>
              <a:rPr sz="2400"/>
            </a:b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    Hg and MeHg bioavailability and/or toxicity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son, R.P., and A.L. Lawrence. 1999. Concentration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distribution, and bioavailability of mercury and methylmercury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 sediments of Baltimore Harbor and Chesapeake Bay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Maryland, USA.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Environmental Toxicology and Chemistry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18: 2438 – 2447.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4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cc66"/>
                </a:solidFill>
                <a:latin typeface="Arial"/>
              </a:rPr>
              <a:t>Recommdations</a:t>
            </a:r>
            <a:endParaRPr b="1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485720" y="15235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0960" indent="-390960">
              <a:spcBef>
                <a:spcPts val="1749"/>
              </a:spcBef>
              <a:buClr>
                <a:srgbClr val="ff9900"/>
              </a:buClr>
              <a:buSzPct val="9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ORSANCO and bordering states should </a:t>
            </a:r>
            <a:br>
              <a:rPr sz="2800"/>
            </a:b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allow Hg translator studies for facilities who wish to conduct Hg speciation studies.</a:t>
            </a:r>
            <a:br>
              <a:rPr sz="2800"/>
            </a:b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90960" indent="-390960">
              <a:spcBef>
                <a:spcPts val="1749"/>
              </a:spcBef>
              <a:buClr>
                <a:srgbClr val="ff9900"/>
              </a:buClr>
              <a:buSzPct val="9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Regulating total Hg, while convenient for </a:t>
            </a:r>
            <a:br>
              <a:rPr sz="2800"/>
            </a:b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permitting and reporting purposes, will often incur treatment costs with no promise of environmental benefits (reduced fish</a:t>
            </a:r>
            <a:br>
              <a:rPr sz="2800"/>
            </a:b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tissue Hg levels)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90960" indent="-39096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86080" y="151920"/>
            <a:ext cx="74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cc66"/>
                </a:solidFill>
                <a:latin typeface="Arial"/>
              </a:rPr>
              <a:t>Basic Assumption</a:t>
            </a:r>
            <a:endParaRPr b="1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485720" y="15235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spcBef>
                <a:spcPts val="1749"/>
              </a:spcBef>
              <a:buClr>
                <a:srgbClr val="ff9900"/>
              </a:buClr>
              <a:buSzPct val="9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All (or most) of mercury is available for bioaccumulation.  Thus,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total Hg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should be regulated.</a:t>
            </a:r>
            <a:br>
              <a:rPr sz="2800"/>
            </a:b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03200" indent="-403200">
              <a:spcBef>
                <a:spcPts val="1749"/>
              </a:spcBef>
              <a:buClr>
                <a:srgbClr val="ff9900"/>
              </a:buClr>
              <a:buSzPct val="9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But…..if this were true then fish tissue Hg levels should spike after high flow events.</a:t>
            </a:r>
            <a:br>
              <a:rPr sz="2800"/>
            </a:b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03200" indent="-403200">
              <a:spcBef>
                <a:spcPts val="1749"/>
              </a:spcBef>
              <a:buClr>
                <a:srgbClr val="ff9900"/>
              </a:buClr>
              <a:buSzPct val="9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ORSANCO Hg sampling shows the % MeHg of THg is 2 – 3%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86080" y="151920"/>
            <a:ext cx="74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cc66"/>
                </a:solidFill>
                <a:latin typeface="Arial"/>
              </a:rPr>
              <a:t>Purpose of Study</a:t>
            </a:r>
            <a:endParaRPr b="1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485720" y="15235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spcBef>
                <a:spcPts val="1749"/>
              </a:spcBef>
              <a:buClr>
                <a:srgbClr val="ff9900"/>
              </a:buClr>
              <a:buSzPct val="9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Assess the operationally-defined bioavailability of Hg in various water sample types.</a:t>
            </a:r>
            <a:br>
              <a:rPr sz="2800"/>
            </a:b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03200" indent="-403200">
              <a:spcBef>
                <a:spcPts val="1749"/>
              </a:spcBef>
              <a:buClr>
                <a:srgbClr val="ff9900"/>
              </a:buClr>
              <a:buSzPct val="9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Evaluate whether treated wastewater contributes to increased Hg bioavailability.</a:t>
            </a:r>
            <a:br>
              <a:rPr sz="2800"/>
            </a:b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03200" indent="-403200">
              <a:spcBef>
                <a:spcPts val="1749"/>
              </a:spcBef>
              <a:buClr>
                <a:srgbClr val="ff9900"/>
              </a:buClr>
              <a:buSzPct val="9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Joint AEP/EPRI study. </a:t>
            </a:r>
            <a:br>
              <a:rPr sz="2800"/>
            </a:b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86080" y="151920"/>
            <a:ext cx="74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Mercury in Water Samples: Typical Analyses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2057400"/>
            <a:ext cx="899136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spcBef>
                <a:spcPts val="1749"/>
              </a:spcBef>
              <a:buClr>
                <a:srgbClr val="ff9900"/>
              </a:buClr>
              <a:buSzPct val="9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Total Hg (and dissolved Hg) by EPA Method </a:t>
            </a:r>
            <a:br>
              <a:rPr sz="2800"/>
            </a:b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1631 </a:t>
            </a:r>
            <a:br>
              <a:rPr sz="2800"/>
            </a:b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03200" indent="-403200">
              <a:spcBef>
                <a:spcPts val="1749"/>
              </a:spcBef>
              <a:buClr>
                <a:srgbClr val="ff9900"/>
              </a:buClr>
              <a:buSzPct val="9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MeHg by EPA Method 1630*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* Assumption is that the proportion of    </a:t>
            </a:r>
            <a:br>
              <a:rPr sz="2800"/>
            </a:b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  MeHg to THg represents the bioavailable</a:t>
            </a:r>
            <a:br>
              <a:rPr sz="2800"/>
            </a:b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  fraction of all sum mercury species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. </a:t>
            </a:r>
            <a:br>
              <a:rPr sz="2800"/>
            </a:b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86080" y="151920"/>
            <a:ext cx="74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Arial"/>
              </a:rPr>
              <a:t>Bioavailable Hg -  Not Just MeHg</a:t>
            </a:r>
            <a:endParaRPr b="1" i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485720" y="15235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      </a:t>
            </a:r>
            <a:r>
              <a:rPr b="0" i="1" lang="en-US" sz="2800" spc="-1" strike="noStrike">
                <a:solidFill>
                  <a:srgbClr val="f8f8f8"/>
                </a:solidFill>
                <a:latin typeface="Arial"/>
              </a:rPr>
              <a:t>Bioavailable Hg consists of two</a:t>
            </a:r>
            <a:br>
              <a:rPr sz="2800"/>
            </a:br>
            <a:r>
              <a:rPr b="0" i="1" lang="en-US" sz="2800" spc="-1" strike="noStrike">
                <a:solidFill>
                  <a:srgbClr val="f8f8f8"/>
                </a:solidFill>
                <a:latin typeface="Arial"/>
              </a:rPr>
              <a:t>       components: MeHg and inorganic</a:t>
            </a:r>
            <a:br>
              <a:rPr sz="2800"/>
            </a:br>
            <a:r>
              <a:rPr b="0" i="1" lang="en-US" sz="2800" spc="-1" strike="noStrike">
                <a:solidFill>
                  <a:srgbClr val="f8f8f8"/>
                </a:solidFill>
                <a:latin typeface="Arial"/>
              </a:rPr>
              <a:t>       bioavailable Hg (IB – Hg) that may be </a:t>
            </a:r>
            <a:br>
              <a:rPr sz="2800"/>
            </a:br>
            <a:r>
              <a:rPr b="0" i="1" lang="en-US" sz="2800" spc="-1" strike="noStrike">
                <a:solidFill>
                  <a:srgbClr val="f8f8f8"/>
                </a:solidFill>
                <a:latin typeface="Arial"/>
              </a:rPr>
              <a:t>       readily converted to MeHg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                                            WERF, 2009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* IB – Hg also called “reactive inorganic” Hg   or “acid soluble” Hg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86080" y="151920"/>
            <a:ext cx="74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Thus, the amount of bioavailable Hg is:</a:t>
            </a:r>
            <a:endParaRPr b="1" i="1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485720" y="15235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(B – Hg)(ng/L) = (MeHg)(ng/L) + (IB – Hg)(ng/L)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And, the fraction of bioavailable Hg is: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 (B – Hg) = [(MeHg + IB – Hg)/THg] * 100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86080" y="151920"/>
            <a:ext cx="74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Arial"/>
              </a:rPr>
              <a:t>Basic Methodology</a:t>
            </a:r>
            <a:endParaRPr b="1" i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485720" y="15235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spcBef>
                <a:spcPts val="1500"/>
              </a:spcBef>
              <a:buClr>
                <a:srgbClr val="ff9900"/>
              </a:buClr>
              <a:buSzPct val="9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Collection and analysis of ambient, wastewater, and mixing zone (simulated) water samples.</a:t>
            </a:r>
            <a:br>
              <a:rPr sz="2400"/>
            </a:b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403200" indent="-403200">
              <a:spcBef>
                <a:spcPts val="1500"/>
              </a:spcBef>
              <a:buClr>
                <a:srgbClr val="ff9900"/>
              </a:buClr>
              <a:buSzPct val="9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Analysis of THg and dissolved Hg by CV-AFS.</a:t>
            </a:r>
            <a:br>
              <a:rPr sz="2400"/>
            </a:b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403200" indent="-403200">
              <a:spcBef>
                <a:spcPts val="1500"/>
              </a:spcBef>
              <a:buClr>
                <a:srgbClr val="ff9900"/>
              </a:buClr>
              <a:buSzPct val="9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Analysis of MeHg by IPC-CV-ICP-MS. </a:t>
            </a:r>
            <a:br>
              <a:rPr sz="2400"/>
            </a:b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403200" indent="-403200">
              <a:spcBef>
                <a:spcPts val="1500"/>
              </a:spcBef>
              <a:buClr>
                <a:srgbClr val="ff9900"/>
              </a:buClr>
              <a:buSzPct val="9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Analysis of acid-labile (IB) Hg by fluorescence</a:t>
            </a:r>
            <a:br>
              <a:rPr sz="2400"/>
            </a:b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403200" indent="-403200">
              <a:spcBef>
                <a:spcPts val="1500"/>
              </a:spcBef>
              <a:buClr>
                <a:srgbClr val="ff9900"/>
              </a:buClr>
              <a:buSzPct val="9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Other variables that influence Hg bioavailability (TSS, TOC, pH, sulfide, sulfate, TDS)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reeform 5"/>
          <p:cNvSpPr/>
          <p:nvPr/>
        </p:nvSpPr>
        <p:spPr>
          <a:xfrm rot="562200">
            <a:off x="380880" y="146160"/>
            <a:ext cx="5840640" cy="5146560"/>
          </a:xfrm>
          <a:custGeom>
            <a:avLst/>
            <a:gdLst/>
            <a:ahLst/>
            <a:rect l="l" t="t" r="r" b="b"/>
            <a:pathLst>
              <a:path w="4536831" h="3997569">
                <a:moveTo>
                  <a:pt x="0" y="3176954"/>
                </a:moveTo>
                <a:lnTo>
                  <a:pt x="46892" y="3259015"/>
                </a:lnTo>
                <a:lnTo>
                  <a:pt x="175846" y="3282461"/>
                </a:lnTo>
                <a:lnTo>
                  <a:pt x="345831" y="3616569"/>
                </a:lnTo>
                <a:lnTo>
                  <a:pt x="562708" y="3663461"/>
                </a:lnTo>
                <a:lnTo>
                  <a:pt x="685800" y="3634154"/>
                </a:lnTo>
                <a:lnTo>
                  <a:pt x="820615" y="3645877"/>
                </a:lnTo>
                <a:lnTo>
                  <a:pt x="955431" y="3745523"/>
                </a:lnTo>
                <a:lnTo>
                  <a:pt x="961292" y="3804138"/>
                </a:lnTo>
                <a:lnTo>
                  <a:pt x="1084385" y="3821723"/>
                </a:lnTo>
                <a:lnTo>
                  <a:pt x="1137138" y="3733800"/>
                </a:lnTo>
                <a:lnTo>
                  <a:pt x="1260231" y="3692769"/>
                </a:lnTo>
                <a:lnTo>
                  <a:pt x="1395046" y="3727938"/>
                </a:lnTo>
                <a:lnTo>
                  <a:pt x="1524000" y="3774831"/>
                </a:lnTo>
                <a:lnTo>
                  <a:pt x="1559169" y="3810000"/>
                </a:lnTo>
                <a:lnTo>
                  <a:pt x="1652954" y="3757246"/>
                </a:lnTo>
                <a:lnTo>
                  <a:pt x="1746738" y="3774831"/>
                </a:lnTo>
                <a:lnTo>
                  <a:pt x="1875692" y="3622431"/>
                </a:lnTo>
                <a:lnTo>
                  <a:pt x="1957754" y="3534507"/>
                </a:lnTo>
                <a:lnTo>
                  <a:pt x="2063262" y="3528646"/>
                </a:lnTo>
                <a:lnTo>
                  <a:pt x="2116015" y="3675184"/>
                </a:lnTo>
                <a:lnTo>
                  <a:pt x="2168769" y="3768969"/>
                </a:lnTo>
                <a:lnTo>
                  <a:pt x="2297723" y="3810000"/>
                </a:lnTo>
                <a:lnTo>
                  <a:pt x="2379785" y="3845169"/>
                </a:lnTo>
                <a:lnTo>
                  <a:pt x="2491154" y="3956538"/>
                </a:lnTo>
                <a:lnTo>
                  <a:pt x="2520462" y="3997569"/>
                </a:lnTo>
                <a:lnTo>
                  <a:pt x="2842846" y="3886200"/>
                </a:lnTo>
                <a:lnTo>
                  <a:pt x="2860431" y="3657600"/>
                </a:lnTo>
                <a:lnTo>
                  <a:pt x="2995246" y="3604846"/>
                </a:lnTo>
                <a:lnTo>
                  <a:pt x="2919046" y="3399692"/>
                </a:lnTo>
                <a:lnTo>
                  <a:pt x="2907323" y="3305907"/>
                </a:lnTo>
                <a:lnTo>
                  <a:pt x="2965938" y="3235569"/>
                </a:lnTo>
                <a:lnTo>
                  <a:pt x="2995246" y="3036277"/>
                </a:lnTo>
                <a:lnTo>
                  <a:pt x="3077308" y="2901461"/>
                </a:lnTo>
                <a:lnTo>
                  <a:pt x="3241431" y="2983523"/>
                </a:lnTo>
                <a:lnTo>
                  <a:pt x="3241431" y="3077307"/>
                </a:lnTo>
                <a:lnTo>
                  <a:pt x="3282462" y="3112477"/>
                </a:lnTo>
                <a:lnTo>
                  <a:pt x="3364523" y="3006969"/>
                </a:lnTo>
                <a:lnTo>
                  <a:pt x="3429000" y="3006969"/>
                </a:lnTo>
                <a:lnTo>
                  <a:pt x="3411415" y="2930769"/>
                </a:lnTo>
                <a:lnTo>
                  <a:pt x="3399692" y="2860431"/>
                </a:lnTo>
                <a:lnTo>
                  <a:pt x="3341077" y="2778369"/>
                </a:lnTo>
                <a:lnTo>
                  <a:pt x="3399692" y="2743200"/>
                </a:lnTo>
                <a:lnTo>
                  <a:pt x="3405554" y="2667000"/>
                </a:lnTo>
                <a:lnTo>
                  <a:pt x="3399692" y="2602523"/>
                </a:lnTo>
                <a:lnTo>
                  <a:pt x="3464169" y="2420815"/>
                </a:lnTo>
                <a:lnTo>
                  <a:pt x="3581400" y="2420815"/>
                </a:lnTo>
                <a:lnTo>
                  <a:pt x="3640015" y="2286000"/>
                </a:lnTo>
                <a:lnTo>
                  <a:pt x="3716215" y="2168769"/>
                </a:lnTo>
                <a:lnTo>
                  <a:pt x="3815862" y="2250831"/>
                </a:lnTo>
                <a:lnTo>
                  <a:pt x="3938954" y="2180492"/>
                </a:lnTo>
                <a:lnTo>
                  <a:pt x="4038600" y="2098431"/>
                </a:lnTo>
                <a:lnTo>
                  <a:pt x="4191000" y="1922584"/>
                </a:lnTo>
                <a:lnTo>
                  <a:pt x="4249615" y="1805354"/>
                </a:lnTo>
                <a:lnTo>
                  <a:pt x="4349262" y="1723292"/>
                </a:lnTo>
                <a:lnTo>
                  <a:pt x="4402015" y="1547446"/>
                </a:lnTo>
                <a:lnTo>
                  <a:pt x="4349262" y="1471246"/>
                </a:lnTo>
                <a:lnTo>
                  <a:pt x="4396154" y="1377461"/>
                </a:lnTo>
                <a:lnTo>
                  <a:pt x="4407877" y="1260231"/>
                </a:lnTo>
                <a:lnTo>
                  <a:pt x="4402015" y="1219200"/>
                </a:lnTo>
                <a:lnTo>
                  <a:pt x="4448908" y="1172307"/>
                </a:lnTo>
                <a:lnTo>
                  <a:pt x="4454769" y="1078523"/>
                </a:lnTo>
                <a:lnTo>
                  <a:pt x="4419600" y="943707"/>
                </a:lnTo>
                <a:lnTo>
                  <a:pt x="4448908" y="873369"/>
                </a:lnTo>
                <a:lnTo>
                  <a:pt x="4454769" y="791307"/>
                </a:lnTo>
                <a:lnTo>
                  <a:pt x="4478215" y="644769"/>
                </a:lnTo>
                <a:lnTo>
                  <a:pt x="4507523" y="574431"/>
                </a:lnTo>
                <a:lnTo>
                  <a:pt x="4513385" y="480646"/>
                </a:lnTo>
                <a:lnTo>
                  <a:pt x="4489938" y="422031"/>
                </a:lnTo>
                <a:lnTo>
                  <a:pt x="4489938" y="357554"/>
                </a:lnTo>
                <a:lnTo>
                  <a:pt x="4495800" y="287215"/>
                </a:lnTo>
                <a:lnTo>
                  <a:pt x="4448908" y="205154"/>
                </a:lnTo>
                <a:lnTo>
                  <a:pt x="4402015" y="117231"/>
                </a:lnTo>
                <a:lnTo>
                  <a:pt x="4402015" y="82061"/>
                </a:lnTo>
                <a:lnTo>
                  <a:pt x="4454769" y="41031"/>
                </a:lnTo>
                <a:lnTo>
                  <a:pt x="4536831" y="0"/>
                </a:ln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reeform 6"/>
          <p:cNvSpPr/>
          <p:nvPr/>
        </p:nvSpPr>
        <p:spPr>
          <a:xfrm rot="562200">
            <a:off x="3086280" y="5331960"/>
            <a:ext cx="520560" cy="1225800"/>
          </a:xfrm>
          <a:custGeom>
            <a:avLst/>
            <a:gdLst/>
            <a:ahLst/>
            <a:rect l="l" t="t" r="r" b="b"/>
            <a:pathLst>
              <a:path w="404447" h="952317">
                <a:moveTo>
                  <a:pt x="12089" y="0"/>
                </a:moveTo>
                <a:cubicBezTo>
                  <a:pt x="11967" y="43900"/>
                  <a:pt x="11846" y="87801"/>
                  <a:pt x="11724" y="131701"/>
                </a:cubicBezTo>
                <a:lnTo>
                  <a:pt x="52754" y="178594"/>
                </a:lnTo>
                <a:lnTo>
                  <a:pt x="52754" y="266517"/>
                </a:lnTo>
                <a:lnTo>
                  <a:pt x="35170" y="289963"/>
                </a:lnTo>
                <a:lnTo>
                  <a:pt x="29308" y="389609"/>
                </a:lnTo>
                <a:lnTo>
                  <a:pt x="0" y="424778"/>
                </a:lnTo>
                <a:lnTo>
                  <a:pt x="35170" y="495117"/>
                </a:lnTo>
                <a:lnTo>
                  <a:pt x="187570" y="659240"/>
                </a:lnTo>
                <a:lnTo>
                  <a:pt x="269631" y="700271"/>
                </a:lnTo>
                <a:lnTo>
                  <a:pt x="216877" y="764747"/>
                </a:lnTo>
                <a:lnTo>
                  <a:pt x="263770" y="817501"/>
                </a:lnTo>
                <a:lnTo>
                  <a:pt x="304800" y="817501"/>
                </a:lnTo>
                <a:lnTo>
                  <a:pt x="345831" y="858532"/>
                </a:lnTo>
                <a:lnTo>
                  <a:pt x="357554" y="899563"/>
                </a:lnTo>
                <a:lnTo>
                  <a:pt x="381000" y="946455"/>
                </a:lnTo>
                <a:lnTo>
                  <a:pt x="404447" y="952317"/>
                </a:ln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reeform 8"/>
          <p:cNvSpPr/>
          <p:nvPr/>
        </p:nvSpPr>
        <p:spPr>
          <a:xfrm rot="562200">
            <a:off x="6397200" y="442440"/>
            <a:ext cx="2700360" cy="2309760"/>
          </a:xfrm>
          <a:custGeom>
            <a:avLst/>
            <a:gdLst/>
            <a:ahLst/>
            <a:rect l="l" t="t" r="r" b="b"/>
            <a:pathLst>
              <a:path w="2096676" h="1794126">
                <a:moveTo>
                  <a:pt x="0" y="0"/>
                </a:moveTo>
                <a:lnTo>
                  <a:pt x="309042" y="1794126"/>
                </a:lnTo>
                <a:lnTo>
                  <a:pt x="2096676" y="1480885"/>
                </a:ln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reeform 9"/>
          <p:cNvSpPr/>
          <p:nvPr/>
        </p:nvSpPr>
        <p:spPr>
          <a:xfrm rot="562200">
            <a:off x="8205480" y="2627280"/>
            <a:ext cx="757080" cy="1079640"/>
          </a:xfrm>
          <a:custGeom>
            <a:avLst/>
            <a:gdLst/>
            <a:ahLst/>
            <a:rect l="l" t="t" r="r" b="b"/>
            <a:pathLst>
              <a:path w="588169" h="838200">
                <a:moveTo>
                  <a:pt x="0" y="0"/>
                </a:moveTo>
                <a:lnTo>
                  <a:pt x="133350" y="838200"/>
                </a:lnTo>
                <a:lnTo>
                  <a:pt x="188119" y="814388"/>
                </a:lnTo>
                <a:lnTo>
                  <a:pt x="347663" y="645319"/>
                </a:lnTo>
                <a:lnTo>
                  <a:pt x="383382" y="576263"/>
                </a:lnTo>
                <a:lnTo>
                  <a:pt x="373857" y="542925"/>
                </a:lnTo>
                <a:lnTo>
                  <a:pt x="495300" y="469106"/>
                </a:lnTo>
                <a:lnTo>
                  <a:pt x="547688" y="319088"/>
                </a:lnTo>
                <a:lnTo>
                  <a:pt x="588169" y="300038"/>
                </a:ln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reeform 10"/>
          <p:cNvSpPr/>
          <p:nvPr/>
        </p:nvSpPr>
        <p:spPr>
          <a:xfrm rot="562200">
            <a:off x="3822480" y="4537080"/>
            <a:ext cx="1290600" cy="1165320"/>
          </a:xfrm>
          <a:custGeom>
            <a:avLst/>
            <a:gdLst/>
            <a:ahLst/>
            <a:rect l="l" t="t" r="r" b="b"/>
            <a:pathLst>
              <a:path w="1002507" h="904875">
                <a:moveTo>
                  <a:pt x="0" y="0"/>
                </a:moveTo>
                <a:lnTo>
                  <a:pt x="133350" y="52388"/>
                </a:lnTo>
                <a:lnTo>
                  <a:pt x="216694" y="88107"/>
                </a:lnTo>
                <a:lnTo>
                  <a:pt x="273844" y="150019"/>
                </a:lnTo>
                <a:lnTo>
                  <a:pt x="292894" y="230982"/>
                </a:lnTo>
                <a:lnTo>
                  <a:pt x="288132" y="292894"/>
                </a:lnTo>
                <a:lnTo>
                  <a:pt x="259557" y="361950"/>
                </a:lnTo>
                <a:lnTo>
                  <a:pt x="257175" y="395288"/>
                </a:lnTo>
                <a:lnTo>
                  <a:pt x="307182" y="426244"/>
                </a:lnTo>
                <a:lnTo>
                  <a:pt x="383382" y="461963"/>
                </a:lnTo>
                <a:lnTo>
                  <a:pt x="419100" y="435769"/>
                </a:lnTo>
                <a:lnTo>
                  <a:pt x="473869" y="488157"/>
                </a:lnTo>
                <a:lnTo>
                  <a:pt x="488157" y="545307"/>
                </a:lnTo>
                <a:cubicBezTo>
                  <a:pt x="488951" y="568326"/>
                  <a:pt x="489744" y="591344"/>
                  <a:pt x="490538" y="614363"/>
                </a:cubicBezTo>
                <a:lnTo>
                  <a:pt x="483394" y="654844"/>
                </a:lnTo>
                <a:lnTo>
                  <a:pt x="528638" y="661988"/>
                </a:lnTo>
                <a:lnTo>
                  <a:pt x="616744" y="681038"/>
                </a:lnTo>
                <a:lnTo>
                  <a:pt x="659607" y="714375"/>
                </a:lnTo>
                <a:lnTo>
                  <a:pt x="716757" y="661988"/>
                </a:lnTo>
                <a:lnTo>
                  <a:pt x="795338" y="695325"/>
                </a:lnTo>
                <a:lnTo>
                  <a:pt x="881063" y="759619"/>
                </a:lnTo>
                <a:cubicBezTo>
                  <a:pt x="881857" y="791369"/>
                  <a:pt x="882650" y="823119"/>
                  <a:pt x="883444" y="854869"/>
                </a:cubicBezTo>
                <a:lnTo>
                  <a:pt x="950119" y="890588"/>
                </a:lnTo>
                <a:lnTo>
                  <a:pt x="1002507" y="904875"/>
                </a:lnTo>
                <a:lnTo>
                  <a:pt x="1002507" y="904875"/>
                </a:ln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Box 26"/>
          <p:cNvSpPr/>
          <p:nvPr/>
        </p:nvSpPr>
        <p:spPr>
          <a:xfrm>
            <a:off x="2063160" y="1596960"/>
            <a:ext cx="67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OH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Box 31"/>
          <p:cNvSpPr/>
          <p:nvPr/>
        </p:nvSpPr>
        <p:spPr>
          <a:xfrm>
            <a:off x="691920" y="573408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KENTUCK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32"/>
          <p:cNvSpPr/>
          <p:nvPr/>
        </p:nvSpPr>
        <p:spPr>
          <a:xfrm>
            <a:off x="5353560" y="415440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WEST VIRGI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33"/>
          <p:cNvSpPr/>
          <p:nvPr/>
        </p:nvSpPr>
        <p:spPr>
          <a:xfrm>
            <a:off x="7081560" y="1276200"/>
            <a:ext cx="161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ENNSYLVA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Freeform 34"/>
          <p:cNvSpPr/>
          <p:nvPr/>
        </p:nvSpPr>
        <p:spPr>
          <a:xfrm rot="562200">
            <a:off x="4438440" y="2109600"/>
            <a:ext cx="765000" cy="1087200"/>
          </a:xfrm>
          <a:custGeom>
            <a:avLst/>
            <a:gdLst/>
            <a:ahLst/>
            <a:rect l="l" t="t" r="r" b="b"/>
            <a:pathLst>
              <a:path w="851945" h="1211045">
                <a:moveTo>
                  <a:pt x="0" y="0"/>
                </a:moveTo>
                <a:lnTo>
                  <a:pt x="136376" y="363596"/>
                </a:lnTo>
                <a:lnTo>
                  <a:pt x="237344" y="368329"/>
                </a:lnTo>
                <a:lnTo>
                  <a:pt x="255591" y="486366"/>
                </a:lnTo>
                <a:lnTo>
                  <a:pt x="228038" y="597854"/>
                </a:lnTo>
                <a:lnTo>
                  <a:pt x="296886" y="799533"/>
                </a:lnTo>
                <a:lnTo>
                  <a:pt x="393944" y="886007"/>
                </a:lnTo>
                <a:cubicBezTo>
                  <a:pt x="403072" y="914979"/>
                  <a:pt x="417335" y="990099"/>
                  <a:pt x="438766" y="1012721"/>
                </a:cubicBezTo>
                <a:lnTo>
                  <a:pt x="534685" y="877468"/>
                </a:lnTo>
                <a:lnTo>
                  <a:pt x="605779" y="963096"/>
                </a:lnTo>
                <a:lnTo>
                  <a:pt x="693376" y="941090"/>
                </a:lnTo>
                <a:lnTo>
                  <a:pt x="851945" y="1034538"/>
                </a:lnTo>
                <a:lnTo>
                  <a:pt x="833590" y="1119917"/>
                </a:lnTo>
                <a:cubicBezTo>
                  <a:pt x="831730" y="1149335"/>
                  <a:pt x="843947" y="1195137"/>
                  <a:pt x="840787" y="1211045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Box 35"/>
          <p:cNvSpPr/>
          <p:nvPr/>
        </p:nvSpPr>
        <p:spPr>
          <a:xfrm rot="4136400">
            <a:off x="4372200" y="2253240"/>
            <a:ext cx="96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usking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Box 36"/>
          <p:cNvSpPr/>
          <p:nvPr/>
        </p:nvSpPr>
        <p:spPr>
          <a:xfrm rot="2846400">
            <a:off x="4870440" y="280980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ular Callout 27"/>
          <p:cNvSpPr/>
          <p:nvPr/>
        </p:nvSpPr>
        <p:spPr>
          <a:xfrm>
            <a:off x="4654440" y="609480"/>
            <a:ext cx="727200" cy="533520"/>
          </a:xfrm>
          <a:prstGeom prst="wedgeRectCallout">
            <a:avLst>
              <a:gd name="adj1" fmla="val 177074"/>
              <a:gd name="adj2" fmla="val 106601"/>
            </a:avLst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dinal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RK 12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ular Callout 39"/>
          <p:cNvSpPr/>
          <p:nvPr/>
        </p:nvSpPr>
        <p:spPr>
          <a:xfrm>
            <a:off x="6443640" y="2873520"/>
            <a:ext cx="727200" cy="555480"/>
          </a:xfrm>
          <a:prstGeom prst="wedgeRectCallout">
            <a:avLst>
              <a:gd name="adj1" fmla="val -79263"/>
              <a:gd name="adj2" fmla="val -169310"/>
            </a:avLst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tch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RK 18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ular Callout 40"/>
          <p:cNvSpPr/>
          <p:nvPr/>
        </p:nvSpPr>
        <p:spPr>
          <a:xfrm>
            <a:off x="1981080" y="3639960"/>
            <a:ext cx="727200" cy="528840"/>
          </a:xfrm>
          <a:prstGeom prst="wedgeRectCallout">
            <a:avLst>
              <a:gd name="adj1" fmla="val 218587"/>
              <a:gd name="adj2" fmla="val 76597"/>
            </a:avLst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v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RK 41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ular Callout 41"/>
          <p:cNvSpPr/>
          <p:nvPr/>
        </p:nvSpPr>
        <p:spPr>
          <a:xfrm>
            <a:off x="3301920" y="2894040"/>
            <a:ext cx="1005120" cy="534960"/>
          </a:xfrm>
          <a:prstGeom prst="wedgeRectCallout">
            <a:avLst>
              <a:gd name="adj1" fmla="val 41050"/>
              <a:gd name="adj2" fmla="val 172217"/>
            </a:avLst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untain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RK 39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Oval 14"/>
          <p:cNvSpPr/>
          <p:nvPr/>
        </p:nvSpPr>
        <p:spPr>
          <a:xfrm rot="562200">
            <a:off x="6305040" y="1398240"/>
            <a:ext cx="128880" cy="127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Oval 17"/>
          <p:cNvSpPr/>
          <p:nvPr/>
        </p:nvSpPr>
        <p:spPr>
          <a:xfrm rot="562200">
            <a:off x="6141600" y="2107800"/>
            <a:ext cx="128520" cy="127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18"/>
          <p:cNvSpPr/>
          <p:nvPr/>
        </p:nvSpPr>
        <p:spPr>
          <a:xfrm rot="562200">
            <a:off x="4169880" y="4079880"/>
            <a:ext cx="127080" cy="127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Oval 19"/>
          <p:cNvSpPr/>
          <p:nvPr/>
        </p:nvSpPr>
        <p:spPr>
          <a:xfrm rot="562200">
            <a:off x="3920760" y="4249440"/>
            <a:ext cx="128520" cy="127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42"/>
          <p:cNvSpPr/>
          <p:nvPr/>
        </p:nvSpPr>
        <p:spPr>
          <a:xfrm rot="3856200">
            <a:off x="4058640" y="4735440"/>
            <a:ext cx="81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Kanaw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Box 43"/>
          <p:cNvSpPr/>
          <p:nvPr/>
        </p:nvSpPr>
        <p:spPr>
          <a:xfrm rot="2369400">
            <a:off x="4509000" y="519876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44"/>
          <p:cNvSpPr/>
          <p:nvPr/>
        </p:nvSpPr>
        <p:spPr>
          <a:xfrm rot="1779600">
            <a:off x="1000800" y="4276800"/>
            <a:ext cx="5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h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Box 45"/>
          <p:cNvSpPr/>
          <p:nvPr/>
        </p:nvSpPr>
        <p:spPr>
          <a:xfrm rot="700800">
            <a:off x="1419120" y="441936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Group 13"/>
          <p:cNvGrpSpPr/>
          <p:nvPr/>
        </p:nvGrpSpPr>
        <p:grpSpPr>
          <a:xfrm>
            <a:off x="7162920" y="6027840"/>
            <a:ext cx="914400" cy="378360"/>
            <a:chOff x="7162920" y="6027840"/>
            <a:chExt cx="914400" cy="378360"/>
          </a:xfrm>
        </p:grpSpPr>
        <p:sp>
          <p:nvSpPr>
            <p:cNvPr id="133" name="Straight Connector 30"/>
            <p:cNvSpPr/>
            <p:nvPr/>
          </p:nvSpPr>
          <p:spPr>
            <a:xfrm>
              <a:off x="7162920" y="610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Straight Connector 46"/>
            <p:cNvSpPr/>
            <p:nvPr/>
          </p:nvSpPr>
          <p:spPr>
            <a:xfrm>
              <a:off x="7162920" y="60278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Straight Connector 54"/>
            <p:cNvSpPr/>
            <p:nvPr/>
          </p:nvSpPr>
          <p:spPr>
            <a:xfrm>
              <a:off x="8077320" y="60278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Box 51"/>
            <p:cNvSpPr/>
            <p:nvPr/>
          </p:nvSpPr>
          <p:spPr>
            <a:xfrm>
              <a:off x="7308360" y="6099120"/>
              <a:ext cx="62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50 k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Group 58"/>
          <p:cNvGrpSpPr/>
          <p:nvPr/>
        </p:nvGrpSpPr>
        <p:grpSpPr>
          <a:xfrm>
            <a:off x="521280" y="612360"/>
            <a:ext cx="328680" cy="788760"/>
            <a:chOff x="521280" y="612360"/>
            <a:chExt cx="328680" cy="788760"/>
          </a:xfrm>
        </p:grpSpPr>
        <p:cxnSp>
          <p:nvCxnSpPr>
            <p:cNvPr id="138" name="Straight Arrow Connector 56"/>
            <p:cNvCxnSpPr/>
            <p:nvPr/>
          </p:nvCxnSpPr>
          <p:spPr>
            <a:xfrm flipV="1">
              <a:off x="685440" y="612360"/>
              <a:ext cx="1080" cy="42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39" name="TextBox 60"/>
            <p:cNvSpPr/>
            <p:nvPr/>
          </p:nvSpPr>
          <p:spPr>
            <a:xfrm>
              <a:off x="521280" y="1032840"/>
              <a:ext cx="32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86080" y="151920"/>
            <a:ext cx="74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cc66"/>
                </a:solidFill>
                <a:latin typeface="Arial"/>
              </a:rPr>
              <a:t>Water Sample Types</a:t>
            </a:r>
            <a:endParaRPr b="1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485720" y="15235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spcBef>
                <a:spcPts val="1500"/>
              </a:spcBef>
              <a:buClr>
                <a:srgbClr val="ff9900"/>
              </a:buClr>
              <a:buSzPct val="9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Treated wastewater:</a:t>
            </a:r>
            <a:br>
              <a:rPr sz="2400"/>
            </a:b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  &gt; FGD landfill leachate</a:t>
            </a:r>
            <a:br>
              <a:rPr sz="2400"/>
            </a:b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  &gt; FGD purge stream w/ fly ash landfill leachate</a:t>
            </a:r>
            <a:br>
              <a:rPr sz="2400"/>
            </a:b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  &gt; FGD purge stream w/bottom ash sluice and</a:t>
            </a:r>
            <a:br>
              <a:rPr sz="2400"/>
            </a:b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        miscellaneous low-volume streams</a:t>
            </a:r>
            <a:br>
              <a:rPr sz="2400"/>
            </a:b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  &gt;FGD purge stream (from 2° clarifier)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403200" indent="-403200">
              <a:spcBef>
                <a:spcPts val="1500"/>
              </a:spcBef>
              <a:buClr>
                <a:srgbClr val="ff9900"/>
              </a:buClr>
              <a:buSzPct val="9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Mixing zone</a:t>
            </a:r>
            <a:br>
              <a:rPr sz="2400"/>
            </a:b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  &gt; 50:50 mix of wastewater and ambient Ohio R.</a:t>
            </a:r>
            <a:br>
              <a:rPr sz="2400"/>
            </a:b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  &gt; Worst-case (unrealistic) mixture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403200" indent="-403200">
              <a:spcBef>
                <a:spcPts val="1500"/>
              </a:spcBef>
              <a:buClr>
                <a:srgbClr val="ff9900"/>
              </a:buClr>
              <a:buSzPct val="9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Ambient Ohio River</a:t>
            </a:r>
            <a:br>
              <a:rPr sz="2400"/>
            </a:b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  &gt; RM 73, 241, 260</a:t>
            </a:r>
            <a:br>
              <a:rPr sz="2400"/>
            </a:b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403200" indent="-403200">
              <a:spcBef>
                <a:spcPts val="1500"/>
              </a:spcBef>
              <a:buClr>
                <a:srgbClr val="ff9900"/>
              </a:buClr>
              <a:buSzPct val="9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0T18:18:53Z</dcterms:created>
  <dc:creator>American Electric Power®</dc:creator>
  <dc:description/>
  <dc:language>en-US</dc:language>
  <cp:lastModifiedBy>Jason Heath</cp:lastModifiedBy>
  <dcterms:modified xsi:type="dcterms:W3CDTF">2017-09-27T17:04:44Z</dcterms:modified>
  <cp:revision>151</cp:revision>
  <dc:subject/>
  <dc:title>PowerPoint Presentation</dc:title>
</cp:coreProperties>
</file>