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689-AF39-4B51-8059-2679BEA1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BC5-64A0-4A06-8824-E928295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3DB-1F55-4ED2-980E-D87A247E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CF3-B45B-4751-AD26-79AF43FB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D7B-DE62-4459-8B03-0FC01243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548B-2CDD-4905-9B3E-B69CCF6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74D9-80AC-4F71-B9CC-C84497B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F53-C4F7-4D21-B6E5-6185232B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ADC-8157-4E66-BB99-A6E014E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7C6E-3B3D-4A13-BB66-00A05B5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554-D4E6-4B3F-93FE-89302B3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CBE-6E6C-43BF-8293-99295C2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9A9-C35F-414D-A8B9-7FB129D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6D3D-6608-460B-87FB-3F3728C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C3F-B5CF-4249-8EEB-9779CEA2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B627-50B1-4B99-8289-529B2F9D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36EA-4DE2-472F-B98B-EFEBAA7C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089C-8512-4D72-A71D-A499C4E6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6278-9BD4-46BA-91FD-6EB4566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553C-2F83-461E-AEA5-E2FD31D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459D-746B-4C00-97CC-8CD6542D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CE8C-94B6-4E8C-863F-425AC06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756-3D19-4429-9101-6A7D3F03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3273-A7B7-4DF1-B94F-4356850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5CF5-CDAD-4315-B6CC-1658D20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1113-08C6-4486-912C-876A814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9FB5-5872-4FF4-97E7-C9041D1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4C65-E03F-4778-903F-E5542532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3961-5345-43AE-AB81-E8028DA0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13A3-FA2C-4883-9452-488FC635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B8D0-9D20-4168-8CBB-7494929C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2323-4DDD-4293-B5E1-3274025E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5254-7EA8-43C0-BF89-E344B07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1EC-E7B1-4FB4-9F05-EDC6815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96EF-E812-4ED6-965B-97BAE8F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A75C-444D-45BF-9E55-9C855D0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8D7E-9E54-4DBB-B19D-F4E1F80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EB19-7030-40B5-BEE3-07EFBD1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3040-332C-40B8-9C53-73B4F7D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4FC4-DD9A-432E-830C-91B499E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C445-12D7-41DD-8A40-717A3221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BC86-FFF0-417B-A28E-9DAF1064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195E-6A2A-47B7-9A66-E703009C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A747D-C275-47EC-94FC-BC831AA3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A4F-76FB-4C2C-A7EE-F445EF4C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8C79-49AF-4FAF-8009-8F3E9B6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143E-4D41-4F1C-97BA-88216DD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C06F-A53D-4ED4-984F-4A2C6F06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E65A0-CFEA-4863-9263-A4DAF75B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DE8A-A59F-466D-A79E-5BAE5AE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B9EF-CACE-4067-9FFB-D7D56EB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3919-B3B8-49C4-99AD-BCD2343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6F2A-DB46-4230-AA3C-9307816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A8B1-766F-44A7-874E-395D7FB0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2D69-521F-44CD-89DB-336B6DAE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2E6-43BC-4CDE-A4D2-670BE0D8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E8BF-3D44-4F1E-AD72-CBD5763E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8012-561F-472A-831E-B339057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6238-C569-4847-9F71-466880A5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D77A-6DC0-423A-BCF9-4E8A391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8551-1119-4804-B348-B7ED1B0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003B-D03C-4E31-93F7-F62F5F4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E179-D32F-44F8-8895-BA3E2657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5A69-A296-453F-811A-2DA98B1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ACFD-40B5-41E8-8126-DCDF2CF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34CC-AC57-489E-BE87-4BCCD1E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4F7-5CEF-460A-B4AA-A8CA278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89DF-35CA-4DB1-B891-67A5CAB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E476-5E7A-48BC-A529-6952D661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CC32B-E8FB-4EFD-A3AA-9B87E690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36D-12C9-4705-AB77-8AB4D4C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6B7-4006-442A-9598-CFC50BE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D5D-C604-4684-9387-EB589FED60A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FEE-66DE-4CF2-9E95-EA16F60375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5B7-26FC-4F86-B46E-CFC9BC1C439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6D6-5F4D-45D0-A021-BF2A7D60248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E2A6-3B30-4C59-9D27-91A99FD400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214B-CE56-47DA-9BA0-43B86A6D80E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preadsheet Observa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ndout with ICIS discharge dat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70 Hg discharges in ICIS basin-wid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6 Ohio River discharges of mercury indicating exceedances of the 12 ng/L criter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g discharges in all states except P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ome problems with the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ing location not end-of-pi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orrect data entered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mittee Calls/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mber 28, 2012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n 23, 2013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enda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for developing permit limits for criteria that apply at drinking water inta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ion of ORSANCO’s variance process with states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rcury discharges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ermit Limit Development  for  Criteria that Apply at Drinking Water Intak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752120"/>
            <a:ext cx="74674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DS (500 mg/L) and Ammonia (1 mg/L) are to protect public water suppl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apply drinking water intak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 time ORSANCO criteria specified to apply at intak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lementation procedure necessary for development of permit lim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oal:  calculate a pollutant loading from a point discharge that will not exceed criteria at down-river intak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" y="19051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xing/dilution between discharge and downstream intak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background concentrat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ve (interstate) discharges presen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ay losses of the pollutant occur instrea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fety factor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ubcommittee Discussion/Proposal …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tain instream data at all DW intakes for TDS and ammon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whether there are potential problems at int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re are no problems at the intake, states reissue permits for Existing Discharges w/o load allocation for TDS and ammon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re Are Problems, or for New Discharges, a procedure that can be applied on an interstate basis is still need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ommend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Dischar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SANCO staff compile existing TDS and ammonia data for all DW intak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what additional data is necessary and develop an approach to collect additional missing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no ‘reasonable potential’ – don’t develop permit lim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ittee continue to work on developing a recommended modeling appro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Coordinating Variance Process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ANCO has draft Variance Application &amp; review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&amp; OH both have Mercury Variance Processes approved by USEPA Region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s are generally drafted in a 6 month or shorter timeframe – state specific submitt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ANCO’s timeframe has been estimated to require 270 days and ORSANCO 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bmittal requir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determine how process can be integrated with existing state varianc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imelines and application submitt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ORSANCO staff to identify similarities and differences between states’ and ORSANCO’s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at next committee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rcury Dischar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ff compiled listing of Ohio River mercury discharges (handout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s that there may be multiple discharges in multiple states requesting variance from ORSANC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e:  There are multiple issues/problems with the ICIS data presented in the spreadshe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9:29:41Z</dcterms:created>
  <dc:creator>jason</dc:creator>
  <dc:description/>
  <dc:language>en-US</dc:language>
  <cp:lastModifiedBy>jklear</cp:lastModifiedBy>
  <cp:lastPrinted>2013-02-12T14:53:33Z</cp:lastPrinted>
  <dcterms:modified xsi:type="dcterms:W3CDTF">2013-07-24T11:20:55Z</dcterms:modified>
  <cp:revision>56</cp:revision>
  <dc:subject/>
  <dc:title>Report of the NPDES Subcommittee</dc:title>
</cp:coreProperties>
</file>