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C6A-2728-4F55-B1B5-4A89F662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0CE-B7BB-4345-B2DE-1D5ECE08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6D7DA-2A98-4AE3-911D-D4D3186E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6C502-9FF4-4F6E-9B5D-AE661FFF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02912-24DF-41EE-98AC-19F8765B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D435B-2BA6-4D18-B827-C974D31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1C7AD-7889-4AF9-81F0-9F345BE5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AF7E2-2BDB-46D3-8F5F-14E6690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13C1E-FA8A-4DFF-AABB-9216B131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A1574-C340-4967-8A65-5BDBB430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15919-A607-40DB-A729-63FD55FF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66359-67CF-4F0F-9A5A-10191153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81D-E4FA-4014-9DB5-723008E8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6ACF8-BBC4-4854-86DE-BBB70C4B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23996-0E62-4C9C-9577-102D7E8E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81734-A681-4D69-A740-86EAAA7B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55CFF-4A6C-4455-8D99-2C609290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D5128-A902-406F-860C-761BE849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CE27B-9279-4D2E-B92E-63799458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A1D0F-F44B-4242-B413-31F720D1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5B2C8-8AD3-499E-8ED8-46C37AA1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381C6-9928-41A3-9DDD-4C0CD781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A8A0A-65FE-41F1-B6CF-1F038402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6C0-6018-4CE0-A1C2-7622C6F9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96A79-917A-4F8E-9E04-80C72938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69F3B-47F2-406C-ACC5-97969F68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BC775-CA9B-4DF1-B38E-4722B686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ACFC2-1FE5-48CD-9153-6150E5A1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8816A-E758-4696-9AAC-4DDBDDB7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96FF8-0FE7-4F92-939D-8B85570D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16414-4882-44B0-BFEC-6E6404A8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C5CEE-02BE-4179-B7B4-71F39C2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083E7-AF6D-45E0-948B-BEF7D6C4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F322E-4598-413C-9661-5445559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9C8E-3402-4657-A083-7D5C938A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1CDD5-E542-40F6-8F8A-9DB84E95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49E09-209F-4CD5-88FE-7A80550E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AA54D-3B9E-4FA0-A6D1-977DF863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3DCF8-A8A6-4955-92D9-0550DF29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F0800-4914-40DD-90C9-616E53CC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4E355-2BA4-4BF8-A99F-BC05F768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E0917-52A8-4C59-A1CC-5983BC76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13477-217A-4D90-A14B-AD8E166A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5D62C-7897-440C-B0BE-E383B2D8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F8E6E-2287-4B87-916E-771EC49E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E3DA-BB8F-430B-A318-73F3435F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E20C6-FBE8-4798-9058-26A8E6F2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2BA6F-AAF3-4EA3-8A99-89676D5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EE076-DCAE-4488-B8D8-DD7E3FDB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464E2-5063-4431-A9A3-096709D1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06932-3E44-4351-A936-D43EC560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4B23-4626-4151-AAD9-2C55B1C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3F4D-5287-44AB-A587-C6CE7751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8141-56A4-466E-9F30-C2427C47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1C78-85E6-4FE6-BC45-ACF51D19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C4F7-DE23-4239-ADB2-95E9D219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125-DF2E-440D-8822-94D9CF7D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069B-6910-4E03-985B-FC7F7879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86D9-44E1-4925-8A18-0411572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B4C3-B718-4B09-89AC-2252D88D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4059-B7D0-46A2-B717-78D7F7C4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6CE4-6E6C-47B8-9ED1-EA6FEDC7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E6AB-B484-4ED4-9764-E8A094D1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6830-5759-410F-963D-AB5CCE56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E164-0A45-49B6-B248-377A698D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E97D5-7ABD-4D55-AAF5-00BE5153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AD38-F15D-4EBE-B356-1CF2F179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19C-17E4-403B-9AEF-18B0DB47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DBD7-F1DA-4388-B578-25B63946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81B4-0BF8-434F-AFBD-0C75A1C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86B6-25B2-4ADC-BC63-281726D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93C1-ADDF-4891-909E-BBFB88A4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BF85-BE14-4231-A252-D92C6C25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C702-21FD-4AAE-B298-A4452882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1E77-7BB8-4289-B516-FF088F5B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CE47D-1005-4F68-8135-B0D17755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CCDE-6CA4-4BFF-B264-D1E124E4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6179-DE53-4071-9B16-05AB7A88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14D-7D10-436C-B5A7-05A6A66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1196-556B-404A-92E8-A9BBB19D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1982-8BBD-4651-B99A-A4D1D336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512B-A354-45D9-A62E-A3B4A4A0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65041-7274-461B-B85A-BF91DE39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F447-0A7A-4B89-8B02-9C9352E0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C0B4-652C-4E0E-913F-ADF28A16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4DB9-BADB-4CDA-9120-9406A682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BE8E7-01E2-4A99-9A67-09AD6CCB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A2A8-1B88-49AF-A2EC-C64A0649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DF336-9F4A-42C2-A3CA-2FE8CAD1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DAF-31F0-4418-BA24-E9739EF1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F196-1D35-4F93-8CC9-3C4F357C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04A2-ECFB-4CB6-96F1-F12EB845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3D72-8663-4D5E-989A-BE62A55C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E463B-81E6-45FA-A910-6B4D3E21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26AF8-3154-4195-8D39-18A8CCDB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6FB58-0C48-4C59-B894-D25CD841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474DF-256F-437E-998E-EF28A77C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C0747-B1D8-4BA4-9466-CF59A307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1E52-AF80-4BA1-BFFE-D33E5F69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63C4-4CD7-48DA-B7D4-E69198ED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5C3-AA31-40C8-B241-E7D484B9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766B2-9E43-4619-95AA-CFCCFD07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1437-4B51-4E3E-AB89-4F8267BB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B42DD-633E-4BBB-90E3-1505C2CE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AB858-F672-4CFF-910B-11CD206D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5BD8C-1CA9-4300-90F3-B19BB209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F3293-8705-427B-A3BE-2A7D677D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9AA9-163D-4FBA-8203-5071F37B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97200-4014-4EE4-A32A-D9F173DE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E6AC7-D453-46D8-8149-3D71C94C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8341-FAE0-48E9-8EB1-F3A03B50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747-3013-46C7-A3A0-458F28A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D5AB9-7108-4B92-AB75-32EF395A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AEAB2-2EAE-473A-BB81-FA7DB439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68CC-96AE-442C-BDAE-0969A8E7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66BC-167B-4D5D-A275-3DEA8503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91878-C215-40E7-A87D-CE49E8D0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6EFB1-4348-4524-B19C-ACC51E8C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6BE2D-345C-4DA3-9FF8-A527EBCD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A803F-5F18-43ED-97B2-4B4F4B0A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C165D-013D-4AA7-92C6-6EA90D42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20549-CDAE-4E8D-A1CC-27F8105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538-FB45-4B47-B5BE-1701543E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51C02-276B-4BD5-BA62-E7DBEAF3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8D225-871F-4D2B-ACB9-4011416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CEE5-0C19-42F5-A7BA-BC9477AB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79FB6-9FE6-45B9-B77C-FA94940C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2969C-2378-4967-817F-ED2A230C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93CDB-A459-4C67-B3A5-0F05B301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0059F-C0B1-4C0E-BF2F-E8724C0E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97FCF-E569-45B6-B813-F1F55658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4F432-99B5-47E8-A69D-181C2EFE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E102D-6A19-4914-BD1F-DCA521E3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6E2-A724-4B57-AB1F-3B7149C6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3EA99-18C8-469B-840E-A351EEDF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C027F-78F4-425C-AD22-9F55947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FD65C-F030-4083-8F08-957F3A29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7ECE0-8CBE-4CDA-BD3C-EB37E6CE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89F57-949F-467C-B428-06B379F2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F12EC-6A61-4BCF-840A-0A8166A8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195F1-28FD-4FE6-8EAC-DF68A9A0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DE801-2493-460C-A95F-022A3D5D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B6339-BF40-4DC4-8FCC-1F906431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58319-85C1-4DFA-876D-5FE06EE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5C55-C57D-428D-BC25-29803C07A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02BD-1FF5-4948-981D-D9658527B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369F-491B-4B61-ADC2-4BC84233B5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6E5-93FC-43E4-AE46-DE32B6389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559-1924-4904-A1B7-B0121315C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E338-2DF4-4CEF-B440-DF3C3EAF1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EFA6-2D36-4459-92EE-3A4830F61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2C7-2419-451E-B6F3-0EDBE6A37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974D-AFFC-42BD-B538-D07E7D53B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4AF-44A1-462D-BFA5-A83ABF1DF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862E-6FBA-446E-B6F7-799C020D79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F822-ACF5-4A89-9014-A7B65E482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7816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NPDES SUBCOMMITTE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IOLOGICAL SUBCOMMITTE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ONITORING STRATEG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Y 14 Program Recommenda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imonthly &amp; Clean Metal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cost-benefit of reducing from bimonthly to quarterly sampl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cost-benefit of reducing number of stations versus reducing sampling frequenc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current set of parameters analyz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cost-benefit of reducing blank analyses (currently 100%) for clean metals progra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vestigate adding parameters that can be run using the in-house Ion Chromatograph (especially bromide and fluoride)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commmendations (Cont.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mperature violations in lower river need to be investigat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oad Scan survey of pollutants with criteria that are not routinely monitored is valuable and should be repeated every 5-1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vestigate the feasibility of making ODS data sets publicly availab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Biological Program Recs  (from Monitoring  Strategy Subcommittee Mtg)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ive to maintain 4 pools per year which keeps us on schedule to complete entire river every 5 y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tilize HOBO continuous monitors to bracket the 4 pools in which biological monitoring will be conduct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e the fish species which fall into each of the trophic levels specifically for the Ohio River (important for mercury impairment issue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vestigate entering biological data into EPA’s STORET national data bas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NPDES Subcommittee Recommenda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posal for Criteria that Apply at Intak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isting Discharge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RSANCO staff compile existing TDS and ammonia data for all DW intakes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termine what additional data is necessary and develop an approach to collect additional missing data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f no ‘reasonable potential’ – don’t develop permit limi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w Sour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mmittee continue to work on developing a recommended modeling approach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commendations to Support Coordination of Varian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RSANCO staff needs to identify similarities and differences between states’ and ORSANCO’s procedur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ed to determine how process can be streamlined to shorten ORSANCO’s timefra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uman Health Temperature Criter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PDES Subcommittee work with PIAC on implementation language for the human health temperature criter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2012 BWQSC Recommend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cept Emsworth, Pike Island, Meldahl, &amp; Newburgh as meeting their designated Aquatic Life U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lidate responsiveness of newly created Macroinvertebrate index for 1-2 years before using it in 305(b) report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acket biological survey pools with continuous conductivity &amp; temperature data loggers prior to samp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2012 BWQSC Recommend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tinue with plans to participate in USEPA’s National Rivers &amp; Streams Assessment as plann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 maintain data quality under current restricted budget &amp; personnel conditions, conduct biological assessments in 3 pools in 201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ashields, Hannibal, &amp; Smithlan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tinue to pursue external funding to conduct additional mussel survey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uture Direction of Mussel Surve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tinue in as many pools as possi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nnibal – USFWS &amp; WVDNR offered to conduct protocol at select probabilistic sites in 201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mithland - ??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orporate quantitative quadrat sampling at 2-3 sites that overlap known be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pply draft Mississippi River multi-metric index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Monitoring Strategy Subcommittee Recommendations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5:54:02Z</dcterms:created>
  <dc:creator>jason</dc:creator>
  <dc:description/>
  <dc:language>en-US</dc:language>
  <cp:lastModifiedBy>jklear</cp:lastModifiedBy>
  <dcterms:modified xsi:type="dcterms:W3CDTF">2013-07-24T11:22:18Z</dcterms:modified>
  <cp:revision>22</cp:revision>
  <dc:subject/>
  <dc:title>Slide 1</dc:title>
</cp:coreProperties>
</file>