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jpeg" ContentType="image/jpeg"/>
  <Override PartName="/ppt/media/image7.wmf" ContentType="image/x-wmf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AA9-B6BC-45F6-9AEB-CAE6338E2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amount of water withdrawn from 1955 to 2005 by category (1,000 Mgal/day = 1 Bgal/day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203-403B-4A3E-8AB8-ECBF4E0DD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total amount of water withdrawn in the ORB from 1955 to 2005 by category (excluding thermoelectric)  (1,000 Mgal/day = 1 Bgal/day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85D-32DA-4F10-9BB9-EBAFE3112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CDC-4CA2-4167-BF5B-00FBF6E53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d to have in advance of committee meeting for comment and ed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15C-CE49-445A-93E6-429327573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land mass in the heart of the nation with extensive water resources opportunities and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undance of surface and sub-surface water resources supports the diversity and growth of the population, the diversity of terrestrial and aquatic ecosystems, industrial development and energy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Corps Districts within LRD working cooperatively to address water resources issues which include the threat of climate change effects on infrastructure and eco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66A-451D-4139-95B3-317E150A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ng the many potential climate change effects these four components give concern to the study te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effects water resources to some extent and projects a threat to Corps infrastructure, water quality and eco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cerns will be fleshed out in more detail by the PDT during the study and the at-risk infrastructure, ecosystem elements and population risks will be identif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3B4-657B-4468-A61A-54CAF0C29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880-F3C4-4E49-B7A3-38F3F7F0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D6D-94A8-4EB6-BDBF-53CFA62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7A8-4D59-4509-98DA-0D918086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E9D-0ACF-48FB-863C-687A3AE0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8AEB-4171-41D2-83FC-1D3E9630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FB8-A389-44E6-A97F-4C7FDB4B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9095-42B3-4450-A377-A78A6CE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464-C41D-4262-9EC0-853152D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02B-8D06-4513-B4E0-441B22B3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5D6-A677-4FFF-8744-4559678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CEE1-F35D-4A97-9911-AEA11F7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F19-CA83-45BB-B0C0-97970B7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5EF-B0E9-4406-A453-321FE8E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549-C396-48E5-B903-4973731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FD20-C1DE-4BD0-A398-898C1B44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943-6420-4424-BD9D-8D602CEB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AC8-BE41-4444-AB03-40341763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E76C0-6DF1-405E-8E9E-D3895651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1B5C6-884C-4562-8D79-6B84E0AA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C0F18-98A6-4608-93DC-EB6C691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9C14E-1735-4794-A333-71D7D5FD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53682-F849-4937-9592-35ED460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735-D86E-4719-974A-13B599C7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E9E30-5E12-4F94-9D84-4C08590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E9C69-DBD2-40E3-9392-A30411C0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5C082-1FAF-4841-97DF-1E3FB67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C83AE-704D-4551-A70E-B87B85D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2BEF1-F013-45CE-B2E9-DA2B4386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8E76D-7E92-47F9-A7DF-E0668F9F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40CD5-919F-48CF-8B7A-4CA01C65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9FEE1-4F2A-4172-A5D6-F70926BF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ED899-30C6-4EF7-90C3-A9A68DC6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0E76C-75EF-434B-80C7-1CAF701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FDC-54EA-4167-8C6D-CECF3E0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7990C-3E82-47CE-BA04-23D9138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EA204-D7CF-4DAB-9AA8-19DA9FDA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EC41C-E508-4BDE-BF8E-A59C18F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30169-30A4-4997-B15D-AF162A2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B5E76-1A66-47BD-B26E-A8512CE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95C30-423D-49C6-813F-88C81C1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8CFFF-3740-4260-82CC-770D685F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05A6A-BAD1-4F38-BB21-2A1E8438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B8AA3-FE7C-416C-A36A-8371D7FC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D217D-D74B-4489-A9C0-901F56E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2A5-973D-4654-8D8A-B94F96BA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B6AE6-EB48-4C45-90F5-BDF67128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8CA91-93DF-455A-AA88-8A56BAA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4AF04-27BB-4BB8-B5FC-A78EF25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41D04-CD2E-44D3-A658-3BD2102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6DF1C-8C14-46C2-BC10-9A461268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A8968-B193-45EF-92B9-04E4E1E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1FE5E-5F76-453D-A41C-24536F5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CDBE2-923A-4EEC-BC6C-79CC1C2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57574-B32F-47F0-A7CA-6669B73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A237B-5B66-40E7-885A-AD41DD74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A3C-2FF1-4B6D-ADF6-2B26104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0281F-3EC3-4FA6-B07A-6A475276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D680-11EC-4BCC-8C33-5A2660B1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D9872-507C-4060-ACA2-6E9E41E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4878-16D2-4EE6-BB2A-7C62DACB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81B8F-40D8-4F29-B9F5-735842D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82928-0789-49B2-A3F9-39F62915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8685-7920-4401-9C88-D76CF1A0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500B-3A21-4553-9560-0DD790D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AF69-AEB4-4276-B638-031639F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7F59-E2A9-4E93-AEED-A29F80F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460-C07F-4014-9778-C2F4179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F16A-50C3-4923-ADB9-2E5F1EDD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CB4A-C7E2-497B-8D44-4837A20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69A6-441B-458A-A459-3705E9FA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3BAB3-859F-4487-90A2-8B43A369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2926E-D17D-4267-9D15-F04D9EF9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D0A0E-A267-4969-B9DB-5581A0E1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ECCAE-009C-4593-BA1A-BBD4DE77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E588A-A596-4670-8118-88D5FEB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3123E-D883-47B9-AD6E-EB67090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8B2D3-D5DD-47E6-B06B-1BD934D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69A-5F98-43C6-BCA5-E09E13B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3E038-46B2-46B3-B7EA-F5F4179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467FA-8622-421C-9FFB-93CA47E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E9AA4-315B-406B-BC86-9E30D85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74997-FFC5-4F71-A60F-E769E53A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04B0A-4B44-4038-B1B0-37C9630C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4980-5DAC-4481-A01E-D90A5FE5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809CD-08A1-451D-A6C9-9AFF673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A2E6-68C0-48E7-8E8E-53716DA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0957-1D38-45E7-AB5E-CEDBDC4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8933-FF78-4445-B929-284329D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9F4-940D-41D3-8B25-F136DCB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B3498-C710-4184-80D2-B5BA0A6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31D5E-69CC-40AF-8A62-55537A5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9D097-4819-4A0C-AE26-A030EB1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B6C5F-1999-4C6F-B227-FD71730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A014-0DD8-45E8-A8E8-6A6DC9B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B7069-F36C-420F-A608-99539901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D8635-1126-47B8-9C39-4CB737C0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E68F-5B5D-4C3F-92E9-3F70D6669F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F62-5EED-42D3-8D6F-043B9AB0E358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8878-78CB-4DC6-95EB-A5575EE789E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421-E641-4A33-8BB4-295DFC8DC9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591-E17C-4AFA-B621-393BFC3F2F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4B3-D3B1-463A-9F7C-222F796D373D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39D-3ED5-43A3-B76F-70A36719AB5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8B34-0BF4-40CE-829E-32AD0167DE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WATER RESOURCES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SANCO Technical Committe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ebruary 12-13, 2013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1832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Quintennial water withdrawals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in ORB (1955-2005)</a:t>
            </a:r>
            <a:endParaRPr b="0" lang="en-US" sz="20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80" name="Content Placeholder 3" descr=""/>
          <p:cNvPicPr/>
          <p:nvPr/>
        </p:nvPicPr>
        <p:blipFill>
          <a:blip r:embed="rId1"/>
          <a:srcRect l="2992" t="4872" r="0" b="0"/>
          <a:stretch/>
        </p:blipFill>
        <p:spPr>
          <a:xfrm>
            <a:off x="900000" y="1341360"/>
            <a:ext cx="7344000" cy="5332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2788b">
                <a:alpha val="31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Quintennial water withdrawals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in ORB (1955-2005)</a:t>
            </a:r>
            <a:br>
              <a:rPr sz="2400"/>
            </a:br>
            <a:r>
              <a:rPr b="0" lang="en-US" sz="1600" spc="-1" strike="noStrike">
                <a:solidFill>
                  <a:srgbClr val="1f497d"/>
                </a:solidFill>
                <a:latin typeface="Tw Cen MT"/>
              </a:rPr>
              <a:t>--Excluding Thermoelectric--</a:t>
            </a:r>
            <a:endParaRPr b="0" lang="en-US" sz="16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82" name="Content Placeholder 9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53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cid:image001.jpg@01CDB83E.ADE28880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533520" y="990720"/>
            <a:ext cx="7978680" cy="5790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2788b">
                <a:alpha val="31000"/>
              </a:srgbClr>
            </a:outerShdw>
          </a:effectLst>
        </p:spPr>
      </p:pic>
      <p:grpSp>
        <p:nvGrpSpPr>
          <p:cNvPr id="384" name="Group 31"/>
          <p:cNvGrpSpPr/>
          <p:nvPr/>
        </p:nvGrpSpPr>
        <p:grpSpPr>
          <a:xfrm>
            <a:off x="1116000" y="5430960"/>
            <a:ext cx="5559480" cy="842760"/>
            <a:chOff x="1116000" y="5430960"/>
            <a:chExt cx="5559480" cy="842760"/>
          </a:xfrm>
        </p:grpSpPr>
        <p:pic>
          <p:nvPicPr>
            <p:cNvPr id="385" name="Picture 2" descr="Thumbnail Image"/>
            <p:cNvPicPr/>
            <p:nvPr/>
          </p:nvPicPr>
          <p:blipFill>
            <a:blip r:embed="rId2"/>
            <a:stretch/>
          </p:blipFill>
          <p:spPr>
            <a:xfrm>
              <a:off x="1116000" y="5442120"/>
              <a:ext cx="62388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4" descr="Thumbnail Image"/>
            <p:cNvPicPr/>
            <p:nvPr/>
          </p:nvPicPr>
          <p:blipFill>
            <a:blip r:embed="rId3"/>
            <a:stretch/>
          </p:blipFill>
          <p:spPr>
            <a:xfrm>
              <a:off x="1816200" y="5455080"/>
              <a:ext cx="614160" cy="8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" descr="Thumbnail Image"/>
            <p:cNvPicPr/>
            <p:nvPr/>
          </p:nvPicPr>
          <p:blipFill>
            <a:blip r:embed="rId4"/>
            <a:stretch/>
          </p:blipFill>
          <p:spPr>
            <a:xfrm>
              <a:off x="2507040" y="5447520"/>
              <a:ext cx="619920" cy="82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8" descr="thumbnail of 1975 report cover"/>
            <p:cNvPicPr/>
            <p:nvPr/>
          </p:nvPicPr>
          <p:blipFill>
            <a:blip r:embed="rId5"/>
            <a:stretch/>
          </p:blipFill>
          <p:spPr>
            <a:xfrm>
              <a:off x="3203280" y="5442480"/>
              <a:ext cx="645840" cy="83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Thumbnail of 1980 report cover"/>
            <p:cNvPicPr/>
            <p:nvPr/>
          </p:nvPicPr>
          <p:blipFill>
            <a:blip r:embed="rId6"/>
            <a:stretch/>
          </p:blipFill>
          <p:spPr>
            <a:xfrm>
              <a:off x="3919320" y="5430960"/>
              <a:ext cx="642600" cy="8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Thumbnail Image"/>
            <p:cNvPicPr/>
            <p:nvPr/>
          </p:nvPicPr>
          <p:blipFill>
            <a:blip r:embed="rId7"/>
            <a:stretch/>
          </p:blipFill>
          <p:spPr>
            <a:xfrm>
              <a:off x="4628880" y="5430960"/>
              <a:ext cx="649080" cy="8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4" descr="thumbnail of 1990 report cover"/>
            <p:cNvPicPr/>
            <p:nvPr/>
          </p:nvPicPr>
          <p:blipFill>
            <a:blip r:embed="rId8"/>
            <a:stretch/>
          </p:blipFill>
          <p:spPr>
            <a:xfrm>
              <a:off x="5330160" y="5430960"/>
              <a:ext cx="653040" cy="8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6" descr="thumbnail of 1995 report cover"/>
            <p:cNvPicPr/>
            <p:nvPr/>
          </p:nvPicPr>
          <p:blipFill>
            <a:blip r:embed="rId9"/>
            <a:stretch/>
          </p:blipFill>
          <p:spPr>
            <a:xfrm>
              <a:off x="6022440" y="5430960"/>
              <a:ext cx="653040" cy="8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Group 24"/>
          <p:cNvGrpSpPr/>
          <p:nvPr/>
        </p:nvGrpSpPr>
        <p:grpSpPr>
          <a:xfrm>
            <a:off x="6348240" y="1523880"/>
            <a:ext cx="1957680" cy="2334960"/>
            <a:chOff x="6348240" y="1523880"/>
            <a:chExt cx="1957680" cy="2334960"/>
          </a:xfrm>
        </p:grpSpPr>
        <p:sp>
          <p:nvSpPr>
            <p:cNvPr id="394" name="Oval 10"/>
            <p:cNvSpPr/>
            <p:nvPr/>
          </p:nvSpPr>
          <p:spPr>
            <a:xfrm>
              <a:off x="6933960" y="3353040"/>
              <a:ext cx="144000" cy="144000"/>
            </a:xfrm>
            <a:prstGeom prst="ellipse">
              <a:avLst/>
            </a:prstGeom>
            <a:solidFill>
              <a:srgbClr val="52788b"/>
            </a:solidFill>
            <a:ln w="19080">
              <a:solidFill>
                <a:srgbClr val="5278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5" name="Oval 11"/>
            <p:cNvSpPr/>
            <p:nvPr/>
          </p:nvSpPr>
          <p:spPr>
            <a:xfrm>
              <a:off x="7639920" y="3127680"/>
              <a:ext cx="144000" cy="144000"/>
            </a:xfrm>
            <a:prstGeom prst="ellipse">
              <a:avLst/>
            </a:prstGeom>
            <a:solidFill>
              <a:srgbClr val="52788b"/>
            </a:solidFill>
            <a:ln w="19080">
              <a:solidFill>
                <a:srgbClr val="5278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6" name="Oval 12"/>
            <p:cNvSpPr/>
            <p:nvPr/>
          </p:nvSpPr>
          <p:spPr>
            <a:xfrm rot="20551200">
              <a:off x="6746760" y="2915280"/>
              <a:ext cx="1235160" cy="775440"/>
            </a:xfrm>
            <a:prstGeom prst="ellipse">
              <a:avLst/>
            </a:prstGeom>
            <a:solidFill>
              <a:srgbClr val="52788b">
                <a:alpha val="20000"/>
              </a:srgbClr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TextBox 16"/>
            <p:cNvSpPr/>
            <p:nvPr/>
          </p:nvSpPr>
          <p:spPr>
            <a:xfrm>
              <a:off x="6348240" y="1523880"/>
              <a:ext cx="1729080" cy="6426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22031"/>
                  </a:solidFill>
                  <a:latin typeface="Tw Cen MT"/>
                </a:rPr>
                <a:t>county-level estimations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398" name="Elbow Connector 30"/>
            <p:cNvCxnSpPr>
              <a:stCxn id="397" idx="3"/>
              <a:endCxn id="396" idx="6"/>
            </p:cNvCxnSpPr>
            <p:nvPr/>
          </p:nvCxnSpPr>
          <p:spPr>
            <a:xfrm flipH="1">
              <a:off x="7953120" y="1847160"/>
              <a:ext cx="124560" cy="1271520"/>
            </a:xfrm>
            <a:prstGeom prst="bentConnector3">
              <a:avLst>
                <a:gd name="adj1" fmla="val -184057"/>
              </a:avLst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1832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Quintennial Consumption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C:\Documents and Settings\jspaeth.ORV\Desktop\OH &amp; TN River Basin 50transp.tif"/>
          <p:cNvPicPr/>
          <p:nvPr/>
        </p:nvPicPr>
        <p:blipFill>
          <a:blip r:embed="rId1"/>
          <a:srcRect l="4042" t="6538" r="3062" b="0"/>
          <a:stretch/>
        </p:blipFill>
        <p:spPr>
          <a:xfrm>
            <a:off x="4952880" y="2971800"/>
            <a:ext cx="3705480" cy="2879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0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Next Step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6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raft reports complet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of Laws and Regulat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aracterizing Water-Us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C will review at next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pril 9, 2013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ext topic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limate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ter-basin transfer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hale gas developme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uture trends in water use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Governors’ MOU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knowledges the Ohio River Basin as a vital, shared water resourc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rves as States’ endorsement of a Commission role in water resources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ort expressed by four st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, KY, OH, WV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orts ongoing to gain further suppo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w Cen MT"/>
              </a:rPr>
              <a:t>Presentation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Tw Cen MT"/>
              </a:rPr>
              <a:t>Jim Noel (NWS) – Climate Trends/Chan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Tw Cen MT"/>
              </a:rPr>
              <a:t>Debbie Lee (USACE) – CC Pilot Stud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limate Chang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Regional Temperature/Rainfall Trends</a:t>
            </a:r>
            <a:br>
              <a:rPr sz="4000"/>
            </a:br>
            <a:r>
              <a:rPr b="0" lang="en-US" sz="1200" spc="-1" strike="noStrike">
                <a:solidFill>
                  <a:srgbClr val="1f497d"/>
                </a:solidFill>
                <a:latin typeface="Tw Cen MT"/>
              </a:rPr>
              <a:t>Jim Noel (National Weather Service)</a:t>
            </a:r>
            <a:endParaRPr b="0" lang="en-US" sz="1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05520" y="15235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end in Ohio has been for warming from 1976 to recent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st significant warming has occurred in the winter seas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cipit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end in Rainfall has been for increased rainfall from 1976 to recent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uch of the increase has been in late summer through autum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41817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limate Change Summary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some parts of the country, climate models do better than others. The Ohio Valley is a tough place as the jet stream flows through he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limate will change. Variability will likely increase. Predictability will not be high in our reg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all of the uncertainty, developing innovative and flexible adaptations will be k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Arial"/>
                <a:ea typeface="Arial"/>
              </a:rPr>
              <a:t>Ohio River Basin Climate Change Pilot Study 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  <a:ea typeface="Arial"/>
              </a:rPr>
              <a:t>(Debbie Lee, US Army Corps of Engineers)</a:t>
            </a:r>
            <a:endParaRPr b="0" lang="en-US" sz="11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13" name="Picture 5" descr="Picture1"/>
          <p:cNvPicPr/>
          <p:nvPr/>
        </p:nvPicPr>
        <p:blipFill>
          <a:blip r:embed="rId1"/>
          <a:stretch/>
        </p:blipFill>
        <p:spPr>
          <a:xfrm>
            <a:off x="457200" y="1940040"/>
            <a:ext cx="5334120" cy="41558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5791320" y="2063880"/>
            <a:ext cx="3200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e Ohio River Basin Climate Change Pilot Study addresses potential threats to water resources management and infrastructure posed by CC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e Corps study partners with the ORB Alliance through joint formulation of mitigation and adaptation strategi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 permanent CC working group will be established in the ORB Alliance during the study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AA, USGS, USEPA, USACE, Battelle, TNC, UC, UNH and MU are represented on the 18 person team.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w Cen MT"/>
              </a:rPr>
              <a:t>Future Uses of Study Findings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14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stablishment of permanent working group in the ORB Alliance to assist water management agencies in further understanding of climate change effects and implementing adaptation strateg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14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creased general knowledge of the potential effects of climate changes on ecological systems and infrastructure used for flood control, water supply, hydropower, navigation and aquatic species enhanc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14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dentify opportunities for modifications to flood control structures that address adaptation to climate change effects during planned rehabilitation for Dam Safety issu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14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aising public awareness of climate change effects and potential future operational changes in water management needed to mitigate for or adapt to impact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Water Resources Committee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C met November 27, 20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in discussion ite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ater Resources Initiative Upda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ventory of water resources regulat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ater use invento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vernor’s M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mate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mbria"/>
              </a:rPr>
              <a:t>Inventory of Water Resource Regulations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0496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14 St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Multiple Intrabasin Jurisdictions (TVA, USACE, and mor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Federal Regul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Multiple Neighboring Compacts/Commi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7" descr="US States - projection.jpg"/>
          <p:cNvPicPr/>
          <p:nvPr/>
        </p:nvPicPr>
        <p:blipFill>
          <a:blip r:embed="rId1"/>
          <a:stretch/>
        </p:blipFill>
        <p:spPr>
          <a:xfrm>
            <a:off x="228600" y="1905120"/>
            <a:ext cx="3238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pic>
        <p:nvPicPr>
          <p:cNvPr id="366" name="Content Placeholder 19" descr="local waterhseds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80880" y="496800"/>
            <a:ext cx="8382240" cy="951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3822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2005 Total Freshwater-use</a:t>
            </a:r>
            <a:br>
              <a:rPr sz="3600"/>
            </a:b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in the Ohio River basin (43.82 Bgal/day)</a:t>
            </a:r>
            <a:endParaRPr b="0" lang="en-US" sz="20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1" name="Picture 3" descr="\\Hulkstor\tech\Projects\Water Resources Initiative\Maps and Tables\2005 USGS Total FW Use.jpg"/>
          <p:cNvPicPr/>
          <p:nvPr/>
        </p:nvPicPr>
        <p:blipFill>
          <a:blip r:embed="rId1"/>
          <a:stretch/>
        </p:blipFill>
        <p:spPr>
          <a:xfrm>
            <a:off x="63360" y="1684440"/>
            <a:ext cx="6309000" cy="487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1000"/>
              </a:srgbClr>
            </a:outerShdw>
          </a:effectLst>
        </p:spPr>
      </p:pic>
      <p:sp>
        <p:nvSpPr>
          <p:cNvPr id="372" name="TextBox 9"/>
          <p:cNvSpPr/>
          <p:nvPr/>
        </p:nvSpPr>
        <p:spPr>
          <a:xfrm>
            <a:off x="2700360" y="1461960"/>
            <a:ext cx="644364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65760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2788b"/>
                </a:solidFill>
                <a:latin typeface="Calibri"/>
              </a:rPr>
              <a:t>Trends in water withdrawals: </a:t>
            </a: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2788b"/>
                </a:solidFill>
                <a:latin typeface="Calibri"/>
              </a:rPr>
              <a:t>1) </a:t>
            </a: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Juxtapose to a larg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7600" indent="-365760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water body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7600" indent="-365760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788b"/>
                </a:solidFill>
                <a:latin typeface="Calibri"/>
              </a:rPr>
              <a:t>2) </a:t>
            </a: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Thermoelectric facil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7600" indent="-365760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788b"/>
                </a:solidFill>
                <a:latin typeface="Calibri"/>
              </a:rPr>
              <a:t>3) </a:t>
            </a: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Contain a metropolit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7600" indent="-365760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libri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w Cen MT"/>
              </a:rPr>
              <a:t>2005 Freshwater-Use in ORB by Category</a:t>
            </a:r>
            <a:endParaRPr b="0" lang="en-US" sz="30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4" name="Content Placeholder 6" descr=""/>
          <p:cNvPicPr/>
          <p:nvPr/>
        </p:nvPicPr>
        <p:blipFill>
          <a:blip r:embed="rId1"/>
          <a:stretch/>
        </p:blipFill>
        <p:spPr>
          <a:xfrm>
            <a:off x="268200" y="1335240"/>
            <a:ext cx="8742600" cy="52783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867280" y="59436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otal = 43,817 Mgal/da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6705720" y="65152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ata Source: USGS 200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22400"/>
            <a:ext cx="837576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Content Placeholder 5" descr=""/>
          <p:cNvPicPr/>
          <p:nvPr/>
        </p:nvPicPr>
        <p:blipFill>
          <a:blip r:embed="rId2"/>
          <a:stretch/>
        </p:blipFill>
        <p:spPr>
          <a:xfrm>
            <a:off x="260280" y="1560600"/>
            <a:ext cx="8623440" cy="4748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2788b">
                <a:alpha val="31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9:41:30Z</dcterms:created>
  <dc:creator>sam</dc:creator>
  <dc:description/>
  <dc:language>en-US</dc:language>
  <cp:lastModifiedBy>jklear</cp:lastModifiedBy>
  <dcterms:modified xsi:type="dcterms:W3CDTF">2013-07-24T11:18:24Z</dcterms:modified>
  <cp:revision>98</cp:revision>
  <dc:subject/>
  <dc:title>Building ORSANCO’s Capacity to Engage in Water Resources Management</dc:title>
</cp:coreProperties>
</file>