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15F-475F-48F1-909A-09966140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F54-18E3-46D3-B8DB-B95CEAD4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ABD-148E-4B41-BA16-6CA15D55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A66-A920-4293-BCF8-C49F24CE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B071-B48F-4B81-89E4-CD22300C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8EDA-FEF8-4291-9A96-A1763A6F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02EE-5501-42D0-9A23-E93AE25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B3E0-7701-4A58-A679-501EC885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F5D-30B9-476D-A59B-5976996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354C-37EB-40ED-B7FB-B14C04D3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812F-4409-484E-A0BE-BC30C4D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82E-E636-44D7-A87E-05D344AB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8AEA-77D6-42E7-86AC-1A6278F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FA73-D1E7-4D5E-A8CB-B4C58EFA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E9B6-9937-451A-A122-5DE9644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4859-7B97-4AB8-BBD6-3279FE52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D91-2DB7-49C0-A808-20E639D1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B3D7-E4CD-4659-B112-39B80DEE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83D3-6330-4E60-A018-3DD0CCB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372B-2A7F-43D6-B1CF-943F6B3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1921-E4D8-4C6F-8F3D-D00A4189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0535-8675-4BA2-BB01-DADEEBCE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070-0D91-4BE4-B39F-AE079C0E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66D3-7CB6-4E37-9E8E-F572DF1A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9423-F141-485C-9107-A33D384F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9A7E-F883-48F2-8E66-F0F43C89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26CC-0D33-4658-9F55-477076A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76B5-7C8F-4D8C-B24C-EB773D65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EF67-BC93-4A28-8F45-93DD1C32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6E8B-8AA9-4FAB-A762-B77097E4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2499-2D0F-4C6F-80C8-D81423A1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74CAF-EF49-472D-B3A7-C47D5DBD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A20C-8D25-41F0-B7F7-FD14C25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B90-2574-46E4-B37A-8EC93DD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EDD4-B12E-415C-9845-BFA82B2C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CE3E3-44EC-4ABA-8F23-4BB41BBE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40F0-DD2C-4723-9332-3C46987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A147-D587-4231-8B92-22877C2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40A8-B239-4E1F-A675-B88EEAE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D622-E50C-44E2-8E79-6F28EA6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92B8-B47B-48C6-816E-205FE23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C84E-6FD0-47D4-A56A-B2881D7D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D79B-42FC-4F36-8E9C-0F6A795B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E74-2001-4710-A93F-C1860EC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E8F-A164-4AA8-B30F-9E35FC33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67C-784F-487E-83AE-57751D5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E4B-398B-4635-9A50-F7764E2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DA0-B66F-44E3-A60C-A5DF2BA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3049-2738-4DBC-B35B-F10CD7A60C9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CABF-6A9C-43C4-AD86-605776C35A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879-09C6-4122-8AB3-1FFFE7100A7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79D1-662F-4B3A-8FDF-943689ED8A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ORSANCO’s Involvement in Enforcement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ckground &amp; Pream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SANCO is party to Federal Consent Decree regarding Cincinnati MSD CSO Wet Weather Improvement Progr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roach is to participate but to allow USEPA &amp; OEPA to take the le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ly working towards approval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81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r Mill Creek Partial Remedy (storage tunnel vs. green control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81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l plan for control of SSO 70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---------------------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ference that states’ take lead in enforcing Compa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SANCO interested in supporting/assisting states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uthorization to A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2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S Committee majority vote needed to approve staff to request info on any enforcement case.  If the state objects to the info request, then any further efforts require Commission approv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ission majority approval and majority of Commissioners  from the enforcement action state necessary for ORSANCO to become party to an enforcement a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rve right to implement Compact Article IX:  To issue orders to entities discharging to interstate waters; requires Commission majority vo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iteria for A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1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Discharge violates Compact and Pollution Control  Standa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Threatens interstate water use by discharge in another st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Request by other regulatory entities or other Compact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) Ability to apply ORSANCO’s unique knowledge/capabil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) Need to represent downstream river users interes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19:49Z</dcterms:created>
  <dc:creator>jason</dc:creator>
  <dc:description/>
  <dc:language>en-US</dc:language>
  <cp:lastModifiedBy>jklear</cp:lastModifiedBy>
  <dcterms:modified xsi:type="dcterms:W3CDTF">2013-07-24T11:22:00Z</dcterms:modified>
  <cp:revision>27</cp:revision>
  <dc:subject/>
  <dc:title>comm</dc:title>
</cp:coreProperties>
</file>