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A21-7C01-41E9-B479-BCCC850D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8B3-11FE-4389-A17D-45B407B0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5F7B3-5557-47FF-85DD-3A12A5BE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4ED34-95E2-43DC-BCB6-79A58EEC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8C6E3-FEB9-4601-A4ED-8BA83865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63E16-E4E7-45FD-9BFA-8C73280E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C41A2-F234-43FF-ABCE-55126176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7DFA7-01FF-478C-8824-09D69CB5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58778-F9E8-4938-869F-0BE40169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524CD-FA55-40A4-8977-B7BAF1B6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4409E-6429-47BF-B406-FCF00CF1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A43E9-DB12-4B10-82C2-04FD16FC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41F-9270-4D93-BE99-B9BC603B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997FB-62D8-45A9-A3DA-A29577B1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AD0F0-6DB3-4749-A21F-92C59EF8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1E16D-F49C-41DA-ABB7-111C54CE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47A64-8A70-48F7-B6D6-7035A412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494FB-0160-4C4F-8813-481C469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84BB6-F9C5-49E8-9E3F-3C3A84ED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538DB-A65A-4F04-8A4F-0EAAC97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8868A-ACD4-4111-868B-703CB4B6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B19B7-D23B-4F72-A1F2-F25249A4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D0467-84BA-4EB8-832B-785ACA69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D07-B057-4A05-B9FD-754CA116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63F79-D42F-4171-9C9A-137B4013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C728F-D7BA-4C3A-9C6A-9B3C4761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6C83F-2540-4232-8388-2004D17B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72D1F-E947-4D16-8914-099BC23D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FE335-6223-4032-AEE2-19630CE6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DBA06-79A7-432F-964A-C81E310E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564C3-F288-40AF-AF3D-1B62502F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65E8A-7096-4EB8-98E4-59E4E3DC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A329E-4326-4ABD-812D-5E80C5D7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2F348-AEE3-4864-8828-2354BAE6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8045-45AC-4ECA-8F26-208A3E66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0D747-EE0A-4BAE-A3AA-F7D0A374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54450-C861-4B43-BCFE-8F120869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72A40-7239-46BC-AD06-C56312BB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4A126-8318-4DA1-B987-72761186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4E632-9865-47AE-B7B0-828CAA7E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E67B4-C109-412E-97C4-1C8D9344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BA351-B679-4C8C-BAF5-00A61E6B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3A24D-B901-49B1-B33A-71B7D859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7F546-0B31-42AF-9976-C935182E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BFF80-0B20-4A79-B8B1-DC30C595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DACC-7B5B-4009-B07D-BC213C03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C13E7-3D8F-4C7E-90A7-D94700CA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2ACD7-75CC-4286-B515-C32B8BA1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95630-1BC4-4E57-9769-35D09084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C9E63-38AE-42A9-8B02-B4D8D02B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2E840-9FB9-46EF-BC98-FE55F895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59D6-7BF8-46F3-8A32-93C8510D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FAA5-08A8-4CCA-8F54-DF42F0A6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193E-80A6-4191-B737-FBBDCBA0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A72E-9C23-49DB-8AF5-A3256F5F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919A-80F2-41B9-AE57-E9421EBA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F3A-4901-403C-8023-48D64679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FC38-8B69-4E2A-9315-B1C07B51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7843-FA63-4179-9A1E-BB987153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C144-6753-4143-A255-B0406E6C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8A7D-E6CB-4467-9DFB-66CC0F8E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55EB-B8C4-49D5-BF38-66803D07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512C-C37E-4633-AA63-4765601D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8FB9-0C88-4C68-8CBB-3BE70F49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D938A-29E8-4A5F-A7EA-D3C6BDCE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F4D71-8B52-4F24-B2E4-EDF8554C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5F333-4619-4239-B582-D85AF59C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4DC-BC4F-4AC3-B530-6BB3D30E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6B3B-1C7D-4049-B725-6B79AE2E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F81D6-B9CC-4CE9-9DB8-24F20CD8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DAC2B-4D53-4C96-B232-15B9E00C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41CA4-A2A9-4F0D-AE3E-08D3CEB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C0B7-40BD-4B4E-8368-E4D2ADEE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A0AE-ACCD-47BA-9BDE-8AD56281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4367D-C474-440F-8B0A-9327E9F9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8532D-827C-43DD-B085-7C0A1816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DFAAB-A5D4-4478-94A2-C0CC951E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9F50-5F5A-4612-A01B-7A14FCD9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758-E795-4DEC-8FBB-2384B417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2263D-75EB-44BB-BA11-D44F9550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9F7AA-C91A-4A53-B31A-A1171971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1B7DF-6B30-4D6D-9405-D4DC35B0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023C3-07E3-4768-BCDD-171BA234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C84A8-4D73-409A-BEE1-6E5E9725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F19F-6412-412F-99BF-201F2858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E611-E3B3-43C0-B06F-927C40A2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A3A1D-77C3-44C7-8D30-D0DA1F00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D29E-A834-4FE6-BBD2-85FA7D85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295E9-E726-449A-8F2F-5AEB9216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AFD-693C-4BC3-B8DF-BAFC74C6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29E03-AB9C-4593-B46B-FB89BA65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6B86E-4900-4B41-A896-80C61A1C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C2D45-733D-4F40-ACB5-107366FB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365D6-0CFB-4378-8A8B-847AAD33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5726A-37EA-4C6C-A4D4-7A874C14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1B314-4845-47B4-8294-0DB78D24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A96EC-664C-4581-8C34-A4B2FBF9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6948C-8ECC-469C-8126-D2FA9863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2D593-F061-4E73-A052-46F57FDB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511FE-D539-4E2C-9170-82457B78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3E4-2885-42CD-8363-85AE7EB6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75843-07CD-498D-987D-8A7693C6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0321-D43F-4DA6-B1A6-AF67962F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C398D-E2CC-4862-B342-29CE4378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E41AB-455B-494C-9C4D-0E1F64D9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9255A-1546-49D7-832E-BCB3AA09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441FA-4D27-4F83-B510-43CF18E8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8F505-796C-4536-988F-7FC2DB6B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470E0-4861-440B-875D-8D506636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0F289-04D7-4283-BD59-F29A1BA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77C9D-B1AB-43BA-9AFA-7724166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5B4-7AE9-40D4-BC7F-90310F96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CA1F6-D391-408B-8465-5E86C84D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DB77A-88A6-4AA5-B80E-CE87EFAF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19F4F-6AC8-4BFC-8C06-5588DBEA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D10D7-FEE8-4509-965C-C3BDF271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57790-F8F0-41C2-8331-D3DAEE53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2F4EF-F8BE-4633-87D2-3404DBE5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8393A-B540-4DE5-902A-5F8DB5B0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27239-CC24-4C18-9CCD-883403B5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A15F0-440A-41FA-BC42-A1150BAE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B39D7-0BE3-4728-9CB8-D9897B85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2E2-D061-4078-A28F-9453F643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CA290-75E1-4F06-9461-1611D483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C582D-E78A-4A35-A870-8D2E848D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706B4-56D3-4191-A19E-BBDD39C3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3CFF9-DC83-4D1F-B583-791F0C84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4F2BF-077E-41D5-AF5F-6615ED7A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BCDA2-B13D-4AA9-956A-BB41BFF4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6171D-B18F-4DE8-A0F4-F16C7E15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50EA3-3E13-4055-9B9D-625DD04E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87143-0B17-4F1F-9F2F-1A7BE08C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68FF1-921E-4E40-9756-61E5E941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7E1-F417-43FD-A131-AB6D5142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C7BB3-2C8E-4C1B-92F1-1CD8A8FC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C1A58-204C-4E59-A0E0-9B1D53EF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28EA3-B002-4F77-9F1F-56DF51C6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22F2-E947-4E01-B320-D3E02E0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AEB68-4C3A-45A1-88D1-BD612DA7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E00B7-BD7D-4BAF-BD85-DB8A9E72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E3378-29BD-4A58-B4CC-77C87C57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2D91D-9D6A-46FC-8FDD-4617A730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860BC-68A1-4503-8492-E57E8423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7EB12-549F-41F7-BADA-46F15E6F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E678-43D2-40A9-9988-FFA3AFC80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64CC-5720-4AF6-98E9-DC0E148C9F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F972-AFBE-4AF8-8453-E91B989FCD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28ED-A6E6-4D5D-B3C5-C0AB27647D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9126-D59F-4563-BDE2-DAA0B7725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3B6A-7FE9-4E5E-A125-18762DD52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C0EB-A664-457E-9A82-390A96676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4DF8-94A5-45F6-B8F8-5FC99DFE6E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2493-4E68-4DD2-B6E1-F7833F988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7AE6-C00B-4999-9E42-69FCACB712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9F63-99E5-4735-A8A8-DE3DF04FD9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5F71-06CB-4BBC-893E-986B7FA02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7816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MET ON JAN 16-17 AT ORSANCO OFFIC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LL MAINSTEM STATES, VA &amp; CORPS REPRESENTE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Recommendations of the Monitoring Strategy Subcommittee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imonthly &amp; Clean Metal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cost-benefit of reducing from bimonthly to quarterly sampl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cost-benefit of reducing number of stations versus reducing sampling frequenc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current set of parameters analyz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cost-benefit of reducing blank analyses (currently 100%) for clean metals progra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vestigate adding parameters that can be run using the in-house Ion Chromatograph (especially bromide and fluoride)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commmendations (Cont.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mperature violations in lower river need to be investigat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oad Scan survey of pollutants with criteria that are not routinely monitored is valuable and should be repeated every 5-1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vestigate the feasibility of making ODS data sets publicly availab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iological Program Rec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ive to maintain 4 pools per year which keeps us on schedule to complete entire river every 5 y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tilize HOBO continuous monitors to bracket the 4 pools in which biological monitoring will be conduct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e the fish species which fall into each of the trophic levels specifically for the Ohio River (important for mercury impairment issue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vestigate entering biological data into EPA’s STORET national data bas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5:54:02Z</dcterms:created>
  <dc:creator>jason</dc:creator>
  <dc:description/>
  <dc:language>en-US</dc:language>
  <cp:lastModifiedBy>jklear</cp:lastModifiedBy>
  <dcterms:modified xsi:type="dcterms:W3CDTF">2013-07-24T11:22:39Z</dcterms:modified>
  <cp:revision>11</cp:revision>
  <dc:subject/>
  <dc:title>Slide 1</dc:title>
</cp:coreProperties>
</file>