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03E-D639-4FD5-82E0-212D377C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EF5-1D89-4D83-9EA0-7E9B6A6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F5B-D95F-41D7-9DE4-E891A278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C81-04A0-400F-A1B3-3943BE08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A27-6A1D-425F-AD16-739E4BC6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1A8-67C7-4F1B-AE13-959CCBCB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3C0-1E7D-4992-83A4-2A3BB46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4C5-7D33-4438-BB0E-4027727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6D2-EDF8-4B4F-BCB5-A4D4F7E9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6ED-665C-40AE-84C1-97C2E74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DCF-0FA5-49D5-B26A-D655630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A3A-D4FA-4A15-A8BD-8C6F639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8506-EDD4-4E5B-88C5-2C7B5331E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pa.state.oh.us/ddagw/DrinkingandGroundWaters.asp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io EPA Division of Surface Water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SANCO Februar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rge Elmaraghy, Chief, P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Calibri"/>
              </a:rPr>
              <a:t>Biosol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ed program rules effective 7/1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July 2013, beneficial users have to evaluate phosphorus loadings as well as nitrogen loadings for beneficial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s on phosphorus application based on phosphorus soil tests for beneficial use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io EPA creating tool to assi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rate calc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562720" y="331920"/>
            <a:ext cx="30477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Calibri"/>
              </a:rPr>
              <a:t>Biosolid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July 2015, any treatment plant who beneficially uses biosolids must screen out manufactured inerts from influent sewage and septag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wage slu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accomplished through fine screening (5/8” max aperture, but the finer the better) or other means approved by Dir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Salt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14300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m water runoff from exposed salt piles, concentrated brine, can contaminate ground water drinking water supplies and adversely impact fish &amp; other aquatic life in surface wa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an industrial waste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t piles of any size, managed outdoors for &gt;7 days need PTI from DSW for brine collec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unpermitted discharges to surface or ground wa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see: OWRC’s Recommendations for Salt Storage – Guidance for Protecting Ohio’s Water Resources availabl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pa.state.oh.us/ddagw/DrinkingandGroundWaters.asp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Facility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ion to Hamilton County &amp; Cincinnati Wet Weather Improvement Program in 2010 allows for consideration of money-saving alternative plan for overflows in Lower Mill Creek portion of service 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PA now seeking comments on plan through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ebruary 10, 2013 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epa.gov/region5/water/lowermillcree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Facility Update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Cremer NA South Terminal 1IG00003*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 2012 Agency copied on citizen Notice of Intent to 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of facility comp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ure to submit sampling data resolved in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Sept 2010, total of 9 violations of oil &amp; grease and pH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 prepared Compliance and Enforc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Facility Update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&amp;L Energy and Hardrock Excavating, Youngst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 caught dumping oilfield waste into storm sewer tributary to Mahoning River water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up continues, civil &amp; criminal investigations ong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action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&amp;L will cease all injection well operations  and temporary storage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ocation of D&amp;L’s 6 current injection well permits, denial of 3 pending new perm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ocation of Hardrock Excavating’s brine haulers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ail:  george.elmaraghy@epa.ohio.go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ne:  614-644-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SW Website:  www.epa.ohio.gov/ds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20:26:12Z</dcterms:created>
  <dc:creator>Mary McCarron</dc:creator>
  <dc:description/>
  <dc:language>en-US</dc:language>
  <cp:lastModifiedBy>jklear</cp:lastModifiedBy>
  <dcterms:modified xsi:type="dcterms:W3CDTF">2013-07-24T11:23:47Z</dcterms:modified>
  <cp:revision>16</cp:revision>
  <dc:subject/>
  <dc:title>PowerPoint Presentation</dc:title>
</cp:coreProperties>
</file>