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4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FB0-790E-43CE-8423-6E1EF332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88F-944B-43E1-B7F1-EF532C39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779-FBF8-49B5-A714-579F54CC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7FE-31BC-4D80-B345-6C93A375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D4A-DFE0-4C5E-B4B9-64ED8884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3DF-7FA5-4302-AABF-105096E0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35C-96B7-4E71-8F24-E62992AA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957-EE5E-421B-B28E-88E98FEC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E6D-7835-4D8E-B08E-5868FAC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15F-D5DA-4B78-B56E-1B3618F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D26-A4E0-4178-94DD-84665CA4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C73-CFAD-4015-98B3-E34DEE9B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AE23-42C1-4486-BE80-E02DD9C58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DSC_3345.JPG"/>
          <p:cNvPicPr/>
          <p:nvPr/>
        </p:nvPicPr>
        <p:blipFill>
          <a:blip r:embed="rId1"/>
          <a:srcRect l="16216" t="16321" r="10811" b="27745"/>
          <a:stretch/>
        </p:blipFill>
        <p:spPr>
          <a:xfrm>
            <a:off x="1905120" y="2971800"/>
            <a:ext cx="6869160" cy="34876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42" name="Rectangle 4"/>
          <p:cNvSpPr/>
          <p:nvPr/>
        </p:nvSpPr>
        <p:spPr>
          <a:xfrm>
            <a:off x="990720" y="91440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us of the Organics Detection System Upgr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ODS Network and 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CMS 5000 Process GC/ Purge and Tra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228600" y="3352680"/>
          <a:ext cx="1179360" cy="11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352680"/>
                    <a:ext cx="11793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4"/>
          <p:cNvGraphicFramePr/>
          <p:nvPr/>
        </p:nvGraphicFramePr>
        <p:xfrm>
          <a:off x="533520" y="4800600"/>
          <a:ext cx="823680" cy="155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800600"/>
                    <a:ext cx="82368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390760" y="76320"/>
            <a:ext cx="6676920" cy="6742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76320" y="304920"/>
            <a:ext cx="2209680" cy="49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DS website displays the current status of each of the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Green dots indicate that data is successfully being uploaded to the secure 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By selecting the sites you can view recent VOC data for that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357280" y="52560"/>
            <a:ext cx="6710400" cy="6729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76320" y="304920"/>
            <a:ext cx="2209680" cy="52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ily organics detection system data is available remotely using a password protected webs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Volatile organic carbon data from ODS sites is displayed automatically and updated as new data is availa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DS Network Progress to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2438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159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All ODS Sites have been network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ORSANCO staff can access all of the ODS sites remotely to troubleshoot, review chromatography data and provide 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The Sites with CMS have been setup to log data to the ODS 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57200" y="4119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ing Forw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57200" y="4729320"/>
            <a:ext cx="83818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1592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The reports generated by the Thermo GC/MS will be set up to export to the ODS 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Compound Names will be standardiz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Reports on the website will include unknown compound det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U:\Source Water Protection\source water pictures\picwvchemicalplant4.jpg"/>
          <p:cNvPicPr/>
          <p:nvPr/>
        </p:nvPicPr>
        <p:blipFill>
          <a:blip r:embed="rId1"/>
          <a:stretch/>
        </p:blipFill>
        <p:spPr>
          <a:xfrm>
            <a:off x="914400" y="152280"/>
            <a:ext cx="7391520" cy="1708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SC_0064.JPG"/>
          <p:cNvPicPr/>
          <p:nvPr/>
        </p:nvPicPr>
        <p:blipFill>
          <a:blip r:embed="rId1"/>
          <a:stretch/>
        </p:blipFill>
        <p:spPr>
          <a:xfrm>
            <a:off x="6242040" y="225360"/>
            <a:ext cx="2541600" cy="3816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57200" y="1522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MS 5000 Process GC/ Purge and Tra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80880" y="1143000"/>
            <a:ext cx="510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159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CMS 5000s are currently in use at Midland, Ashland and Cincinnati Water 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An additional CMS is scheduled to be installed at Wheeling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The CMS 5000 monitors VOCs at user defined intervals allowing for around the clock op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159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Unlike previous process VOC instrumentation, the CMS 5000 uses large diameter fittings and is perfectly suited for the demands of real time monitoring of Ohio River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DSC_3020.JPG"/>
          <p:cNvPicPr/>
          <p:nvPr/>
        </p:nvPicPr>
        <p:blipFill>
          <a:blip r:embed="rId2"/>
          <a:stretch/>
        </p:blipFill>
        <p:spPr>
          <a:xfrm>
            <a:off x="5937120" y="4492800"/>
            <a:ext cx="2835360" cy="207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5"/>
          <p:cNvGraphicFramePr/>
          <p:nvPr/>
        </p:nvGraphicFramePr>
        <p:xfrm>
          <a:off x="2057400" y="5638680"/>
          <a:ext cx="94788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638680"/>
                    <a:ext cx="947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6"/>
          <p:cNvGraphicFramePr/>
          <p:nvPr/>
        </p:nvGraphicFramePr>
        <p:xfrm>
          <a:off x="3505320" y="5638680"/>
          <a:ext cx="90648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638680"/>
                    <a:ext cx="9064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7"/>
          <p:cNvGraphicFramePr/>
          <p:nvPr/>
        </p:nvGraphicFramePr>
        <p:xfrm>
          <a:off x="838080" y="5334120"/>
          <a:ext cx="685800" cy="14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334120"/>
                    <a:ext cx="6858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85800" y="3808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Number of Ohio River Water samples analyzed for 2013:  45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 Upgraded ODS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Total Number of Ohio River Water samp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analyzed by ODS sites that have been upgraded: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18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Number of volatile organic compound detec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over 2ppb:     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    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For the upgraded ODS sites detections over 2 parts per billion occurred in less than 2% of Ohio River water samp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Of the volatile organics detected the trihalomethanes were by far the most common.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U:\Source Water Protection\source water pictures\piclockanddam.jpg"/>
          <p:cNvPicPr/>
          <p:nvPr/>
        </p:nvPicPr>
        <p:blipFill>
          <a:blip r:embed="rId1"/>
          <a:stretch/>
        </p:blipFill>
        <p:spPr>
          <a:xfrm>
            <a:off x="5153040" y="4449600"/>
            <a:ext cx="3152880" cy="210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U:\Source Water Protection\source water pictures\picwvchemicalplant2.jpg"/>
          <p:cNvPicPr/>
          <p:nvPr/>
        </p:nvPicPr>
        <p:blipFill>
          <a:blip r:embed="rId2"/>
          <a:stretch/>
        </p:blipFill>
        <p:spPr>
          <a:xfrm>
            <a:off x="762120" y="4419720"/>
            <a:ext cx="37544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-390600" y="907920"/>
            <a:ext cx="10680840" cy="6334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609480" y="152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S Detections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18:31:17Z</dcterms:created>
  <dc:creator>tluncan</dc:creator>
  <dc:description/>
  <dc:language>en-US</dc:language>
  <cp:lastModifiedBy>jklear</cp:lastModifiedBy>
  <dcterms:modified xsi:type="dcterms:W3CDTF">2013-07-24T11:23:05Z</dcterms:modified>
  <cp:revision>38</cp:revision>
  <dc:subject/>
  <dc:title>Slide 1</dc:title>
</cp:coreProperties>
</file>