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7731-1975-421B-B8D8-DACF2B3D2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= Fl-, NO2, Br-, NO3, PO4, Li, NH3, K+, M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136D-7CC1-475F-B6A5-C17381F69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72D-BB7F-42B2-ABA9-DA1BF866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1E1-84A8-4590-B7F4-4533EFF5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B139D-2711-4132-8BCA-B9901E3D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72538-4091-44EF-A266-E524C1F3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C0AF4-26B2-416C-9245-1B93767D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FED63-1D8E-43BD-95E2-DC112061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9E9E6-6E1E-4481-8956-D4AA0B58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5DD27-8143-462A-A7BC-16FC3D6F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E0538B-BF4D-4CD4-B6E4-1F41324C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399FE-6FDF-4528-AF85-CE374935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953F5F-B42F-460B-80E4-0CF7D12E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BF2363-94F6-448C-B11F-22EC78C0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F28C-3350-4727-AC28-C82F003D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22837-CD2B-45E5-B227-4027A06A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AC583B-F471-4C4D-A524-FED1A32B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2D2766-EBA3-4CAF-844D-DBB7CF9E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663B8C-7EA0-4837-A5A3-8013C9BB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17CFD-11D4-4E77-9812-AF2D54D2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885F66-0FBB-422E-B0D9-0F62120D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87A79-AB0A-4A94-A3AC-D053FBB0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2C829-C387-4371-9539-008572C9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795D1-7C67-4FF3-8ECC-08DAD722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9A1904-193C-4734-9A23-011A1E25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DF2-FAAF-4DC3-856A-3D7C2C02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050568-CCFF-482E-A927-4CCEFFC6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E9AC2-6DA3-445D-ADE5-247C099B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CD352-D33D-4E9D-9EE1-4B0DB144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D633F-C403-4E89-9B50-83D54EB8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F0A3C-9B82-48D8-B28B-2A75D395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BFA2D-11B5-49D4-8401-445793DB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F8FEA-9E54-4D5F-8EC8-4C3BCEE0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BA000-25F8-40BD-8094-BEBE1EA7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7EB15-98B6-4376-B313-0BE57AEA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C87E3-6E3B-40AF-8CFE-70C334B7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2E37-0AE2-4B44-B4AC-FA583907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FE64C-74B7-4CF2-9A27-3965498D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BDFF6-0C7C-4183-8F24-DD9D7301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C2A83-C96D-46C8-BFB0-0BD30DAA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72E4F-2BCE-4787-9797-85894E60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886C28-2936-46A4-BF10-C35CD0D3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C0E8F7-A0E5-441A-9E68-D8592F27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37FA2-05AE-4FB2-94D5-245E9B24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166CE6-ED01-4D20-BC0A-34D19FAE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ABE60-5E75-4A3F-B5BB-AE92BC4B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15D62-9E52-4263-A6BF-FCC51707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991B-E621-4DEA-9067-FAEF6F30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29095-5827-44A5-9B45-12108AE5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3C5FF9-0159-4238-A7CF-D6C14501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3913CD-F746-4D98-AE3F-E1D38228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D94E87-EF21-4201-8CFD-85E961D1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F8FC4-9407-423E-923B-7D19EB84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B01B-B558-42DE-9BA4-7C1CE4D2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9D80-FD20-46CC-B141-B911CFE7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2A14-5C80-43AE-B830-CE3CF96C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1772-9939-4908-B6B4-B0C87C97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8EF6-347C-4466-A541-DA8B2CD0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413-B08D-490C-876F-280EBAD1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9CD5-13A4-45C8-A2B7-C7288E6F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384F-38ED-42A1-9B69-653CFCFC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0A51-D00E-45C1-AE15-26B82A32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F854-49EA-4D5D-8062-1EFA2781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F241-4F31-4DBC-8F29-43B6EC1A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65792-157C-4689-B812-4F07B725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AC54F-A1B5-4228-91CD-BBC9E0DA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40D2D-E2FF-4CF2-82A4-D6CE1DAB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FFCEC-4C1F-47C2-B47E-CC7F49A7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E1CB8-6F53-49B6-91FE-86B32B8A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6B9A-57BD-401A-8FA5-01D749EA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93186-1447-4E68-815C-48D4B4D4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C9B5C-7DED-42F5-BA18-12AF53F9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EEDA3-7C77-4849-8F5B-7EF2B44F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191DB-674E-4D54-A07A-EC931CD2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5A523-CEF0-4A3B-BB60-DBDF2434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17A13-2EE5-4E30-94E9-393F7BF8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54396-1A8B-4C48-8480-E413E0A7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5F93E-7602-4A48-AD7C-B5B75F7F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0C441-4FE5-4D20-A731-0D7EF95D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326A0-F28D-45F3-B95A-0C59BF0F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0BB-F149-4971-B581-EFEEB092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39E7A-8B67-471C-A383-E98A6096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EE037-CDC9-478B-B0A4-07D4B92C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B4A22-2AA1-467E-ABEA-6E36296B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6157F-F0EE-40FB-BE1A-F061E6C5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CCA13-E9E4-438C-8D8F-1B842BE9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8F8C8-A034-45F5-AFEA-F8C379C7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06A05-B7BD-4C70-9725-EB75CCFA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CD185-B403-4F64-9C7E-25687C19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9E58A-ECB1-4BC3-A457-C58D98C5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6E4BE-9811-4AD9-9AF0-27F10FE2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B59-2097-46FC-8F5A-D06F2404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EF259-FCAE-4C3D-818C-CCF03825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13BE9-8C93-4C46-B3CF-59A473CA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E66F8-EA29-4E98-BF61-37921798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80022-CF2D-48EA-A63F-03BC34CB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FF5FF-5451-4DEA-8E2C-501F085B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9A9A7-1909-48DD-929F-1FA9AB8A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6D167-51E0-4D77-BD10-2346C11A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92FDA-44F1-421D-A75A-901713A6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215FA-092B-40C7-8F7A-4027C306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71990-97AB-4346-83CD-5C531902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06C-4E37-4039-ACBF-4F337B52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29C69-A9B1-4FE3-8098-8D0F992B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883DA-5B17-42E8-A997-9101F12D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A52EF-EF77-4FF6-A50A-476EA8DB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83FA0-CEBB-4697-A78D-09CC7C5A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2CEE2-056D-41CD-BEE3-6F8CC4CF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A7EE1-F6DD-499C-8883-BF6EEC84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5FECE-E741-4D01-BEF7-12DC9EF1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ABB0B-6D3C-42E2-82D3-6410141E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EABE8-0EB8-42B0-BBC8-E8E13CDE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5F412-F283-4298-9872-D10201EF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13F-537F-4F27-846D-7A80D824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0AF3B-E916-47F2-A0A6-D26E3CB2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ABE69-45C0-483C-9B76-5FC703BD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0D26B-7EA3-4D30-9BBC-30F26408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EB8EB-430E-40FF-A65F-20DE7228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A36C3-F98B-43CA-88AD-6055B184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F5A75-8B58-4165-8A6A-115C9857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16B5B-A8F0-457F-A8E4-BDF91BCE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E07CC-40EF-400F-9C96-A07094E4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D3BC4-27F3-456D-BAEE-C7785F8A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BC6A1-67EC-4038-9CD5-ED9685D3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CB2A-4160-49BD-86EF-A7040CCD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13283-9912-4B98-8244-D90AAF26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34652-6DB7-4522-AE67-CC818D49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30E6C-4998-4539-BE31-5DC76B32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CAF09-4128-4364-8302-2E55D8C8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BFF7A-7BD6-412D-8190-F7BDE0C0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C1BD8-B695-4906-95CB-CA11478D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038F3-2C7F-465C-A0B8-8B92A2D8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6163E-50AF-464B-A63D-E75B2C84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BBCED-2F5E-490E-98B6-928E4F72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361D1-2A57-433A-9A64-9194E9C2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842-144E-4EDF-9952-713B1136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F40A3-5C0D-4F5E-86C4-9F6EB312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1F045-3D97-4BF5-AB90-5A26BC8E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768DC-FF5B-492F-AAF4-0559A7C8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E9E96-AAE7-4A62-B784-9DB89115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F6F77-CC9F-4AA3-95EE-1B390469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C9F72-C167-4424-8663-EAEAB605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2BAA3-50AC-4C4A-9948-3EDB69C3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22A479-EA3E-41FE-8D19-01855D8B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0EAB5-FECF-4307-A865-A53CA02A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09132-E97B-487D-A9E6-2177F4EC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0594-4A40-4D6F-B13A-9E1FA6EC1FCC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43D3-6030-4436-A42A-A27EC30189D8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90E0-6D37-465D-A8A0-CFB4F23A8549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228A-AA47-42E8-8A44-584202C2C088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BE08-A02F-4F36-8163-075596CC370D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D0C8-1F0D-4EE4-A75B-FC0A4B8DB21B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D2D1-860D-47BF-A1C8-65C222416144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010D-16A6-4FB6-B6F4-0F8883BC772B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62BB-EEB2-4C26-9C24-E8BF7C76FED9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E33F-92B5-4E7B-A31E-9EE6B1DD1BCB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5E72-3A25-4F0A-96AC-281D132123B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9822-CB6D-4B01-82C2-ABA93E2A078E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Georgia"/>
              </a:rPr>
              <a:t>TECHNICAL COMMITTEE MEET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Georgia"/>
              </a:rPr>
              <a:t>FEBRUARY 12-13, 2013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f81bd"/>
                </a:solidFill>
                <a:latin typeface="Georgia"/>
              </a:rPr>
              <a:t>Characterization of Dissolved Solids in the Ohio River</a:t>
            </a:r>
            <a:endParaRPr b="0" lang="en-US" sz="38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3581280" y="4114800"/>
            <a:ext cx="21146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itle 2"/>
          <p:cNvSpPr/>
          <p:nvPr/>
        </p:nvSpPr>
        <p:spPr>
          <a:xfrm>
            <a:off x="30168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8a44d"/>
                </a:solidFill>
                <a:latin typeface="Georgia"/>
              </a:rPr>
              <a:t>TDS by Date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299280" cy="4724280"/>
          </a:xfrm>
          <a:prstGeom prst="rect">
            <a:avLst/>
          </a:prstGeom>
          <a:ln w="0">
            <a:noFill/>
          </a:ln>
        </p:spPr>
      </p:pic>
      <p:sp>
        <p:nvSpPr>
          <p:cNvPr id="646" name="TextBox 4"/>
          <p:cNvSpPr/>
          <p:nvPr/>
        </p:nvSpPr>
        <p:spPr>
          <a:xfrm>
            <a:off x="7543800" y="2233440"/>
            <a:ext cx="133992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TDS Standard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=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500 mg/L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Straight Connector 2"/>
          <p:cNvSpPr/>
          <p:nvPr/>
        </p:nvSpPr>
        <p:spPr>
          <a:xfrm>
            <a:off x="1752480" y="2678040"/>
            <a:ext cx="5562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Bromide Results Summary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228600" y="1735200"/>
          <a:ext cx="6477120" cy="3903480"/>
        </p:xfrm>
        <a:graphic>
          <a:graphicData uri="http://schemas.openxmlformats.org/drawingml/2006/table">
            <a:tbl>
              <a:tblPr/>
              <a:tblGrid>
                <a:gridCol w="938160"/>
                <a:gridCol w="924120"/>
                <a:gridCol w="696600"/>
                <a:gridCol w="963720"/>
                <a:gridCol w="714600"/>
                <a:gridCol w="642600"/>
                <a:gridCol w="763920"/>
                <a:gridCol w="833400"/>
              </a:tblGrid>
              <a:tr h="243720"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SANCO Bromide Results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omide Result, m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 Ri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Detects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1-1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L 100 p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Detects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 13-48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L 35 p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eghe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0.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ongah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0.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0.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17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0.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2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0.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0.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0.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8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sking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0.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0.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4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0.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0.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9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San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0.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.1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0.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0.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6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0.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0.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0" name="TextBox 5"/>
          <p:cNvSpPr/>
          <p:nvPr/>
        </p:nvSpPr>
        <p:spPr>
          <a:xfrm>
            <a:off x="6781680" y="2498760"/>
            <a:ext cx="23623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Ohio Rive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anged from &lt;0.035 to 1.17 mg/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Median conc 0.076 to 0.125 mg/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ributari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anged from &lt;0.035 to 1.12 mg/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Median conc 0.036 to 0.105 mg/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Bromide by Location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52" name="Picture 1" descr=""/>
          <p:cNvPicPr/>
          <p:nvPr/>
        </p:nvPicPr>
        <p:blipFill>
          <a:blip r:embed="rId1"/>
          <a:stretch/>
        </p:blipFill>
        <p:spPr>
          <a:xfrm>
            <a:off x="1468440" y="1558800"/>
            <a:ext cx="6303960" cy="47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Bromide by Location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Bromide by Dat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tretch/>
        </p:blipFill>
        <p:spPr>
          <a:xfrm>
            <a:off x="1481040" y="1600200"/>
            <a:ext cx="62485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Chart 3" descr=""/>
          <p:cNvPicPr/>
          <p:nvPr/>
        </p:nvPicPr>
        <p:blipFill>
          <a:blip r:embed="rId1"/>
          <a:stretch/>
        </p:blipFill>
        <p:spPr>
          <a:xfrm>
            <a:off x="146160" y="146160"/>
            <a:ext cx="8864640" cy="64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Data Assessmen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ata assessment ongoing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Compare TDS results to 500 mg/L standard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Georgia"/>
              </a:rPr>
              <a:t>Levels did not approach standard on the Ohio River</a:t>
            </a:r>
            <a:endParaRPr b="0" lang="en-US" sz="15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Georgia"/>
              </a:rPr>
              <a:t>6 samples from Muskingum and Big Sandy &gt;500 mg/L </a:t>
            </a:r>
            <a:endParaRPr b="0" lang="en-US" sz="15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Evaluate spatial and seasonal trend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Georgia"/>
              </a:rPr>
              <a:t>Concentrations are inversely correlated with stream flow</a:t>
            </a:r>
            <a:endParaRPr b="0" lang="en-US" sz="15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Georgia"/>
              </a:rPr>
              <a:t>Tributaries exhibited higher and more variable levels of TDS; lower and less variable bromide levels</a:t>
            </a:r>
            <a:endParaRPr b="0" lang="en-US" sz="15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f497d"/>
                </a:solidFill>
                <a:latin typeface="Georgia"/>
              </a:rPr>
              <a:t> </a:t>
            </a:r>
            <a:endParaRPr b="0" lang="en-US" sz="7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evelop site specific relationship between TDS and conductivity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Georgia"/>
              </a:rPr>
              <a:t>Not yet assessed</a:t>
            </a:r>
            <a:endParaRPr b="0" lang="en-US" sz="15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20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Evaluate relationship between bromide in source water and THMs in finished water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Georgia"/>
              </a:rPr>
              <a:t>Not yet assessed; Compiling THM data from water utilities</a:t>
            </a:r>
            <a:endParaRPr b="0" lang="en-US" sz="15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Report to be completed mid 2013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Questions ?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Study Objectives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6765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haracterize ambient background levels of T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velop site-specific translators to convert conductivity to T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Quantify TDS constituent makeup to evaluate seasonal and spatial variabili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vide data to support possible development of an Ohio River bromide stream criter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Sampling Design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6765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ekly samples collected at 16 sit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llection sites located at water intak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Georgia"/>
              </a:rPr>
              <a:t>Participants identified through the WUAC and PIAC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ampling conducted for 1-ye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Georgia"/>
              </a:rPr>
              <a:t>December, 2011 thru December 2012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alysis – In-house and contract lab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21" name="Picture 4" descr="TDS.jp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nalysis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Text Placeholder 3"/>
          <p:cNvSpPr/>
          <p:nvPr/>
        </p:nvSpPr>
        <p:spPr>
          <a:xfrm>
            <a:off x="533520" y="1676520"/>
            <a:ext cx="4039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Dissolved Solids Analyt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533520" y="2361960"/>
            <a:ext cx="26668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odiu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550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otassiu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550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agnesiu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550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alciu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550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ithiu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Content Placeholder 4"/>
          <p:cNvSpPr/>
          <p:nvPr/>
        </p:nvSpPr>
        <p:spPr>
          <a:xfrm>
            <a:off x="457200" y="5105520"/>
            <a:ext cx="4040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icarbonat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otal Dissolved Solid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Rounded Rectangle 7"/>
          <p:cNvSpPr/>
          <p:nvPr/>
        </p:nvSpPr>
        <p:spPr>
          <a:xfrm>
            <a:off x="304920" y="4876920"/>
            <a:ext cx="4419360" cy="12952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Rounded Rectangle 8"/>
          <p:cNvSpPr/>
          <p:nvPr/>
        </p:nvSpPr>
        <p:spPr>
          <a:xfrm>
            <a:off x="304920" y="2133720"/>
            <a:ext cx="4419360" cy="25905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33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Text Placeholder 5"/>
          <p:cNvSpPr/>
          <p:nvPr/>
        </p:nvSpPr>
        <p:spPr>
          <a:xfrm>
            <a:off x="5029200" y="1679400"/>
            <a:ext cx="39625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Supplemental Parameter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025960" y="2403000"/>
            <a:ext cx="396576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H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onductivit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emperatur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tream flow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oordinate THM sampling when possibl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Rounded Rectangle 11"/>
          <p:cNvSpPr/>
          <p:nvPr/>
        </p:nvSpPr>
        <p:spPr>
          <a:xfrm>
            <a:off x="4876920" y="2133720"/>
            <a:ext cx="3962160" cy="29718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Content Placeholder 4"/>
          <p:cNvSpPr/>
          <p:nvPr/>
        </p:nvSpPr>
        <p:spPr>
          <a:xfrm>
            <a:off x="2743200" y="2438280"/>
            <a:ext cx="2287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hlorid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ulfat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romid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luorid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TDS Results Summary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228600" y="1523880"/>
          <a:ext cx="5905440" cy="4662720"/>
        </p:xfrm>
        <a:graphic>
          <a:graphicData uri="http://schemas.openxmlformats.org/drawingml/2006/table">
            <a:tbl>
              <a:tblPr/>
              <a:tblGrid>
                <a:gridCol w="1170000"/>
                <a:gridCol w="946080"/>
                <a:gridCol w="1247760"/>
                <a:gridCol w="1082880"/>
                <a:gridCol w="730080"/>
                <a:gridCol w="728640"/>
              </a:tblGrid>
              <a:tr h="51876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SANCO Total Dissolved Solids Results Summa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 2011 - December 20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DS Result, m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 R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eghe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8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ongah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8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8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sking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8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Sa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8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4" name="TextBox 3"/>
          <p:cNvSpPr/>
          <p:nvPr/>
        </p:nvSpPr>
        <p:spPr>
          <a:xfrm>
            <a:off x="6248520" y="2498760"/>
            <a:ext cx="2895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hio Rive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anged from 104 to 368 mg/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edian conc ~190 to 230 mg/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anged from 62 to 584 mg/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edian conc ~160 to 360 mg/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8a44d"/>
                </a:solidFill>
                <a:latin typeface="Georgia"/>
              </a:rPr>
              <a:t>TDS by Location</a:t>
            </a:r>
            <a:br>
              <a:rPr sz="3000"/>
            </a:br>
            <a:r>
              <a:rPr b="0" lang="en-US" sz="3000" spc="-1" strike="noStrike">
                <a:solidFill>
                  <a:srgbClr val="88a44d"/>
                </a:solidFill>
                <a:latin typeface="Georgia"/>
              </a:rPr>
              <a:t>All Sites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grpSp>
        <p:nvGrpSpPr>
          <p:cNvPr id="636" name="Group 7"/>
          <p:cNvGrpSpPr/>
          <p:nvPr/>
        </p:nvGrpSpPr>
        <p:grpSpPr>
          <a:xfrm>
            <a:off x="1371600" y="1504800"/>
            <a:ext cx="6477120" cy="4857840"/>
            <a:chOff x="1371600" y="1504800"/>
            <a:chExt cx="6477120" cy="4857840"/>
          </a:xfrm>
        </p:grpSpPr>
        <p:pic>
          <p:nvPicPr>
            <p:cNvPr id="637" name="Picture 3" descr=""/>
            <p:cNvPicPr/>
            <p:nvPr/>
          </p:nvPicPr>
          <p:blipFill>
            <a:blip r:embed="rId1"/>
            <a:stretch/>
          </p:blipFill>
          <p:spPr>
            <a:xfrm>
              <a:off x="1371600" y="1504800"/>
              <a:ext cx="6477120" cy="48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Straight Connector 3"/>
            <p:cNvSpPr/>
            <p:nvPr/>
          </p:nvSpPr>
          <p:spPr>
            <a:xfrm>
              <a:off x="1992240" y="2610720"/>
              <a:ext cx="490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39" name="TextBox 5"/>
          <p:cNvSpPr/>
          <p:nvPr/>
        </p:nvSpPr>
        <p:spPr>
          <a:xfrm>
            <a:off x="7315200" y="2286000"/>
            <a:ext cx="133992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TDS Standard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=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500 mg/L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Flow vs TDS (ORM 12)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41" name="Picture 2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197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Flow vs TDS (MU029)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43" name="Picture 1" descr=""/>
          <p:cNvPicPr/>
          <p:nvPr/>
        </p:nvPicPr>
        <p:blipFill>
          <a:blip r:embed="rId1"/>
          <a:stretch/>
        </p:blipFill>
        <p:spPr>
          <a:xfrm>
            <a:off x="1492200" y="1611360"/>
            <a:ext cx="6197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3:12:18Z</dcterms:created>
  <dc:creator>jwisenall</dc:creator>
  <dc:description/>
  <dc:language>en-US</dc:language>
  <cp:lastModifiedBy>jklear</cp:lastModifiedBy>
  <dcterms:modified xsi:type="dcterms:W3CDTF">2013-07-24T11:18:45Z</dcterms:modified>
  <cp:revision>285</cp:revision>
  <dc:subject/>
  <dc:title>ORSANCO  Total Dissolved Solids Project</dc:title>
</cp:coreProperties>
</file>