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A2CD-68C5-4D6F-9223-618EE2CB4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0D20-1773-4BE2-B3A8-D58160E2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51D6-61B4-4DDD-A7CD-80A373B9E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BFDB-9146-41E0-A690-9DF872F77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7BBE-6C0D-4F54-A993-A23DCA164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D6183-6102-47B6-BDFA-5918372A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AEC9-10E5-4D8B-BFA0-34FE355E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E01F-A8DD-4EF3-88CD-120A1B15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CD5F-CAED-4AC3-A838-71C9A6FC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98BB-CC95-4928-A9BF-165878E9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3EC4-8F1B-4981-A28C-33CB3E2A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DFF7-BAFA-41EF-B692-E9E36E9B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6DC18-5C06-4C57-BD49-0F90B62D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9D94-C23D-4A6B-9B88-829014C2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A8FB-25AA-4244-A40D-99B4DC6F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A702-CE5B-4275-BFA3-B49BE5947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3E9E-200C-40DC-9C09-97C6D5F2A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E5A9-B12E-447E-9ED5-C24695C4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E7F4-EAB5-42B0-BF82-7D3DEA26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3715-18D2-4B21-9E31-4F343F5B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FF7A-6694-4F15-92A1-AB312374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991B-72F0-41E1-8E6A-DFFF4D53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7CC3-7A1C-4505-B344-FBD8E16C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40D9-85F1-42CC-A6E7-F6100E2B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F378-C842-43F0-9041-5B775E4049C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7AFC-E291-4ADF-B0E3-B855EEE06FD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ollution Control Standa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15998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) Variance review Process &amp; Coordination with State Process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) Reevaluation of TDS Criter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) Update on bacteria &amp; temperature criteri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) Schedule for Next Triennial Revie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te: Report of the PCS Committee attached to Commission Meeting agend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emperature Criterion for Human Health Protection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28600" y="1793880"/>
            <a:ext cx="8610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 protect human health from exposure to contact with water; to prevent burn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ximum temperature of 110 deg F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pplies at any location where public access is possibl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emperature workgroup recommended 116.5 deg F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76320" y="152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merican Burn Association – Scald Injury Educator’s Guid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5 min exposure to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20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= adult 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rd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degree bur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hildren have thinner skin &amp; less surface are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57040" indent="-25704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ADE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ublic safety value =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1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57040" indent="-25704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t tub temperatures should be &lt;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0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= prolonged exposure (15-20 min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57040" indent="-25704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ntiscald Inc (based on Moritz &amp; Henriques 1947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20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=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degree burn in 8 mi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857160" indent="-171360"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ub says 9 min 30 sec to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degree burn at 120.2 degre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18.4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=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degree burn in 15 mi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16.6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=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degree burn in 20 min (25 according to original pub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13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=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degree burn in 2 hou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57040" indent="-25704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ller 2006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duce temp standards by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-4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degrees to apply to childr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57040" indent="-25704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uyer et al 199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08-113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= “too hot for activities; threshold for sensation of pain in adults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creational Use Criter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52280" y="12952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) Recreation season extended from May-Oct to Apr-Oc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2) Revisions based on USEPA’s proposed criteria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) Fecal coliform criteria removed from Chapters 3 &amp; 5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) Monthly geometric mean E. coli criterion of 130/100mL revised to 90-day geometric mean criteri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) Single sample monthly max E. coli criterion of 240/100mL revised to not to be exceeded in more than 25% of samples in 90 day period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3) New EPA Criteria: E. coli 126/100mL mo geo me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410/100mL 10% sample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CS Schedu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51920" y="11426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ring, 2014 – Webinars to support initial public inpu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ring, 2014 through Spring, 201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velopment of specific proposal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une, 2015 – Webinars, Hearing, and public comment period on specific proposal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ctober, 2015 – Commission Ac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Questions?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Variance Application &amp; Review Process</a:t>
            </a:r>
            <a:br>
              <a:rPr sz="4000"/>
            </a:b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&amp; </a:t>
            </a:r>
            <a:br>
              <a:rPr sz="4000"/>
            </a:b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Coordination With States’ Process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73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RSANCO Proces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draft process was in place through the PPG variance proces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lan was to finalize after PPG evaluation complet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C requested that it be coordinated with states’ process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&amp; OH have streamlined mercury variance processes approved by Region 5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te:  There is also variance language contained in the standard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tents of Draf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ackground – how the variance fits into the standards (only allowed to mixing zone and wastewater discharge requirements sections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ministr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dicates Commission need for 270 days to evaluat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pecific information request.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cess (cont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51920" y="1599840"/>
            <a:ext cx="8534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ublic Notificatio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tification that variance application receive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0 day public comment period after initial determination made by PCS Committe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ep-by-step process outlin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riteria for approval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pproval criter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monstrate cannot meet standards for MZs or Discharge Requirement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monstrate no reasonable alternativ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equate pollutant minimization plan has been submitte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monstration of best effluent quality achievable and that discharge will meet all designated uses and water quality criteria outside the mixing zon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51920" y="1599840"/>
            <a:ext cx="8534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SEPA does not like our use of the term “Variance”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 &amp; OH have processes approved by USEPA 5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RSANCO 270 day process is too lo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tes typically complete permits in 6 months or les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W Variance Reques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ve received application request from Ironton, OH POTW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ublic notification is on the web pag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 WVDEP permits have interim mercury limits until Oct 16, 2013 and indicate that a variance is needed from ORSANCO’s MZ prohibition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oppers – Follansbee, WV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, ORM 69.4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untain State Carbon, Follansbee, WV  ORM 68.8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53760" indent="-25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evaluation of TDS Criter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51920" y="91404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00 mg/L TDS criterion which applies at public water supply intak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ary drinking water MCL = 500 mg/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5 Nuisance chemica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t enforceab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esthetics, not health-based risk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ticeable effects above secondary MCL include hardness; deposits; colored water; staining; salty tas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port completed for June 2013 mtg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9T20:15:52Z</dcterms:created>
  <dc:creator>peter</dc:creator>
  <dc:description/>
  <dc:language>en-US</dc:language>
  <cp:lastModifiedBy>jklear</cp:lastModifiedBy>
  <dcterms:modified xsi:type="dcterms:W3CDTF">2013-07-24T11:23:29Z</dcterms:modified>
  <cp:revision>329</cp:revision>
  <dc:subject/>
  <dc:title>ORSANCO Pollution Control Standards</dc:title>
</cp:coreProperties>
</file>