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C1F6F-59A8-4190-8F95-50D9A5981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C9DB7-60EF-4993-8646-11A95BFEB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D9A59-8E50-4AF3-8CC4-20172C9A7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6FF66-AACE-4D0F-BA48-D4AFDAA8F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355E3-7631-4DCD-8A9F-8E441D797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44850-DFB1-41D0-B6B2-48D486958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FFE79-AEA4-48A3-B976-48DCA71DB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8B5D3-55B4-4F0E-A9A2-F14F0E117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FBA74-96BF-404F-A52D-BB25E7DEA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3E586-1644-4788-8B10-5E606477D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27134-8B26-4D21-BD82-1ACCDCA3A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DE67E-AA6C-4FD0-B032-34D899A8F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47EFE-CF75-476F-B48F-AD6FD927C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02F95-D733-4694-9374-2A3BA17C4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6B162-9845-4D4C-BE39-83A5B00B8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7B549-4053-45D6-8D91-D7A85C059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77339-1486-4EB2-A6DF-F4F46260C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8E6016-987E-431D-8DE8-3FFF933969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87957-EBE2-47CB-8ED0-223ABB4F52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B2CEF-605C-49BB-ADCE-6EDEA4F1C2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6A434B-1FF3-4FB2-B6E1-9F079B306D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31FBAB-A007-4C07-8C36-8287B5B00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985C7-C5A3-4170-A1AA-50B384819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FACDFB-2B92-48D9-8171-8FCB4DD48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65F9F4-C1D7-4EFE-98F8-30B0DC49F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14262-64E7-4490-B63A-D24D1467F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8303A-7246-4E8D-94D2-4E82E9F8D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E91428-7321-43F3-BE09-BF13B867C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A19346-3008-4D79-9743-62A592ABF4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CEBD93-623F-4EC3-83EA-60D93F238E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EB50C2-26A0-495F-9FE3-528C01EEDB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3032B7-BA42-4650-ACDE-73B6A84ACB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1B3DE7-58F3-4958-A2BE-20305559F6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790ED-6185-40B9-8355-6217A40F2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A86E05-2243-4B54-8D9F-211338843A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B507B2-296B-42E5-A5E2-FCDD2064B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D0B2A-D0DB-48C5-8EF5-A98EBD133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1B182-EC1F-420C-9018-627010249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ABF344-D5AC-4D9A-B1BD-AE1A4CE27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298B7-3263-4A34-9DD4-ACA95000F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E285A-DE92-443F-995D-63D4BDFD0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083396-A749-4698-9232-DD0D004E46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3D5736-5C99-46DD-B0D2-190A8BD473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E67BF-FB54-48E2-A22A-CD8EA4002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A4930-FC7A-41FD-9437-14F0FF2F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173B4-4116-49AE-9BB5-2B6047CCE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3B42-E363-4223-AFBE-0BCBE429C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041E1-0CC3-446D-B3CD-E20346368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0449-B67B-4B66-9E32-BDDBAF3EF0E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8872-8E5C-45D4-AAE7-3BB260BC206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2C04-9DC1-49CC-8983-77A64AEE10C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6095-DACC-4995-A81C-5E1E9AC5F75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url?sa=i&amp;rct=j&amp;q=ohio+river+hydropower&amp;source=images&amp;cd=&amp;cad=rja&amp;docid=2yQjxFM55Y1PVM&amp;tbnid=SrS01ZZ71tO_yM:&amp;ved=0CAUQjRw&amp;url=http://www.boilermakers.org/news/jobs/Boilermakers_build_tube_liners_for_Ohio_River_hydro_plant&amp;ei=OQAMUeD2B8mw2QWspYBY&amp;bvm=bv.41867550,d.b2I&amp;psig=AFQjCNFerI776IpSJD3iQLyPDFmLQM3KaQ&amp;ust=1359827231865493"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1060560"/>
            <a:ext cx="8328240" cy="2603520"/>
          </a:xfrm>
          <a:prstGeom prst="rect">
            <a:avLst/>
          </a:prstGeom>
          <a:ln w="0">
            <a:noFill/>
          </a:ln>
        </p:spPr>
      </p:pic>
      <p:sp>
        <p:nvSpPr>
          <p:cNvPr id="196" name="PlaceHolder 1"/>
          <p:cNvSpPr>
            <a:spLocks noGrp="1"/>
          </p:cNvSpPr>
          <p:nvPr>
            <p:ph type="subTitle"/>
          </p:nvPr>
        </p:nvSpPr>
        <p:spPr>
          <a:xfrm>
            <a:off x="533160" y="4267080"/>
            <a:ext cx="7854840" cy="1981440"/>
          </a:xfrm>
          <a:prstGeom prst="rect">
            <a:avLst/>
          </a:prstGeom>
          <a:noFill/>
          <a:ln w="0">
            <a:noFill/>
          </a:ln>
        </p:spPr>
        <p:txBody>
          <a:bodyPr lIns="0" rIns="1836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echnical Committee Meeting</a:t>
            </a:r>
            <a:endParaRPr b="0" lang="en-US" sz="1800" spc="-1" strike="noStrike">
              <a:solidFill>
                <a:srgbClr val="ffffff"/>
              </a:solidFill>
              <a:latin typeface="Constant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ebruary 12-14, 2013</a:t>
            </a:r>
            <a:endParaRPr b="0" lang="en-US" sz="1800" spc="-1" strike="noStrike">
              <a:solidFill>
                <a:srgbClr val="ffffff"/>
              </a:solidFill>
              <a:latin typeface="Constant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genda Item # 15</a:t>
            </a:r>
            <a:endParaRPr b="0" lang="en-US" sz="1800" spc="-1" strike="noStrike">
              <a:solidFill>
                <a:srgbClr val="ffffff"/>
              </a:solidFill>
              <a:latin typeface="Constant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197" name="Picture 4" descr="Meldahl aerial Oct 2012 from the north"/>
          <p:cNvPicPr/>
          <p:nvPr/>
        </p:nvPicPr>
        <p:blipFill>
          <a:blip r:embed="rId2"/>
          <a:stretch/>
        </p:blipFill>
        <p:spPr>
          <a:xfrm>
            <a:off x="685800" y="4038480"/>
            <a:ext cx="373392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0666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04617b"/>
                </a:solidFill>
                <a:latin typeface="Calibri"/>
              </a:rPr>
              <a:t>Policy on Dissolved Oxygen Monitoring Requirements</a:t>
            </a:r>
            <a:br>
              <a:rPr sz="2400"/>
            </a:br>
            <a:r>
              <a:rPr b="1" lang="en-US" sz="2400" spc="-1" strike="noStrike">
                <a:solidFill>
                  <a:srgbClr val="04617b"/>
                </a:solidFill>
                <a:latin typeface="Calibri"/>
              </a:rPr>
              <a:t>For Ohio River Hydroelectric Power Generating Facilities</a:t>
            </a:r>
            <a:br>
              <a:rPr sz="4500"/>
            </a:br>
            <a:endParaRPr b="0" lang="en-US" sz="2400" spc="-1" strike="noStrike">
              <a:solidFill>
                <a:srgbClr val="04617b"/>
              </a:solidFill>
              <a:latin typeface="Calibri"/>
            </a:endParaRPr>
          </a:p>
        </p:txBody>
      </p:sp>
      <p:sp>
        <p:nvSpPr>
          <p:cNvPr id="199" name=""/>
          <p:cNvSpPr txBox="1"/>
          <p:nvPr/>
        </p:nvSpPr>
        <p:spPr>
          <a:xfrm>
            <a:off x="457200" y="1981080"/>
            <a:ext cx="8229600" cy="4724640"/>
          </a:xfrm>
          <a:prstGeom prst="rect">
            <a:avLst/>
          </a:prstGeom>
          <a:noFill/>
          <a:ln w="0">
            <a:noFill/>
          </a:ln>
        </p:spPr>
        <p:txBody>
          <a:bodyPr lIns="90000" rIns="90000" tIns="46800" bIns="46800"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ackground</a:t>
            </a:r>
            <a:endParaRPr b="0" lang="en-US" sz="2000" spc="-1" strike="noStrike">
              <a:solidFill>
                <a:srgbClr val="000000"/>
              </a:solidFill>
              <a:latin typeface="Constantia"/>
            </a:endParaRPr>
          </a:p>
          <a:p>
            <a:pPr lvl="1" marL="626760" indent="-24084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Adopted by the Commission at its 131</a:t>
            </a:r>
            <a:r>
              <a:rPr b="0" lang="en-US" sz="1500" spc="-1" strike="noStrike" baseline="30000">
                <a:solidFill>
                  <a:srgbClr val="000000"/>
                </a:solidFill>
                <a:latin typeface="Constantia"/>
              </a:rPr>
              <a:t>st</a:t>
            </a:r>
            <a:r>
              <a:rPr b="0" lang="en-US" sz="1500" spc="-1" strike="noStrike">
                <a:solidFill>
                  <a:srgbClr val="000000"/>
                </a:solidFill>
                <a:latin typeface="Constantia"/>
              </a:rPr>
              <a:t> meeting on May 26, 1988 at Louisville, Kentucky.</a:t>
            </a:r>
            <a:endParaRPr b="0" lang="en-US" sz="1500" spc="-1" strike="noStrike">
              <a:solidFill>
                <a:srgbClr val="000000"/>
              </a:solidFill>
              <a:latin typeface="Constantia"/>
            </a:endParaRPr>
          </a:p>
          <a:p>
            <a:pPr lvl="1" marL="626760" indent="-24084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1" marL="626760" indent="-24084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The Commission’s primary concern with hydropower development was the potential impact on dissolved oxygen (DO) concentrations. </a:t>
            </a:r>
            <a:endParaRPr b="0" lang="en-US" sz="1500" spc="-1" strike="noStrike">
              <a:solidFill>
                <a:srgbClr val="000000"/>
              </a:solidFill>
              <a:latin typeface="Constantia"/>
            </a:endParaRPr>
          </a:p>
          <a:p>
            <a:pPr lvl="1" marL="626760" indent="-24084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1" marL="626760" indent="-24084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In 1987, the Federal Energy Regulatory Commission (FERC) issued an environmental impact study of hydropower development on the lower Allegheny and upper Ohio Rivers. Among the study findings was that some dams were “good aerators” and some were not. For the “good aerator” dams, it was proposed that FERC licenses require maintenance of a 6.5 mg/L DO level while a 5.0 mg/L level (the water quality standard for the main stem states) was recommended for the “poor aerators”. </a:t>
            </a:r>
            <a:endParaRPr b="0" lang="en-US" sz="1500" spc="-1" strike="noStrike">
              <a:solidFill>
                <a:srgbClr val="000000"/>
              </a:solidFill>
              <a:latin typeface="Constantia"/>
            </a:endParaRPr>
          </a:p>
          <a:p>
            <a:pPr lvl="1" marL="626760" indent="-24084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1" marL="626760" indent="-24084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A hydro facility does not lower the DO level directly; rather it prevents the river from receiving an input of oxygen. It is that oxygen input that needs to be preserved at critical periods (i.e., low flow, high temperature periods when DO is typically lowest). The Technical Committee therefore recommended, and the Commission adopted, a policy based on the protection of the aeration capability of each dam.</a:t>
            </a:r>
            <a:endParaRPr b="0" lang="en-US" sz="15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Policy on Dissolved Oxygen Monitoring Requirements</a:t>
            </a:r>
            <a:br>
              <a:rPr sz="2400"/>
            </a:br>
            <a:r>
              <a:rPr b="1" lang="en-US" sz="2400" spc="-1" strike="noStrike">
                <a:solidFill>
                  <a:srgbClr val="04617b"/>
                </a:solidFill>
                <a:latin typeface="Calibri"/>
              </a:rPr>
              <a:t>For Ohio River Hydroelectric Power Generating Facilities, Cont’</a:t>
            </a:r>
            <a:endParaRPr b="0" lang="en-US" sz="24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licy</a:t>
            </a:r>
            <a:endParaRPr b="0" lang="en-US" sz="2400" spc="-1" strike="noStrike">
              <a:solidFill>
                <a:srgbClr val="000000"/>
              </a:solidFill>
              <a:latin typeface="Constantia"/>
            </a:endParaRPr>
          </a:p>
          <a:p>
            <a:pPr lvl="1" marL="639720" indent="-245880">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Operating licenses for Ohio River hydropower facilities should contain provisions to assure that:</a:t>
            </a:r>
            <a:endParaRPr b="0" lang="en-US" sz="1500" spc="-1" strike="noStrike">
              <a:solidFill>
                <a:srgbClr val="000000"/>
              </a:solidFill>
              <a:latin typeface="Constantia"/>
            </a:endParaRPr>
          </a:p>
          <a:p>
            <a:pPr marL="272880" indent="-272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2" marL="914400" indent="-246240">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Adequate studies are conducted prior to facility operation to define aeration characteristics of the dam.</a:t>
            </a:r>
            <a:endParaRPr b="0" lang="en-US" sz="1500" spc="-1" strike="noStrike">
              <a:solidFill>
                <a:srgbClr val="000000"/>
              </a:solidFill>
              <a:latin typeface="Constantia"/>
            </a:endParaRPr>
          </a:p>
          <a:p>
            <a:pPr lvl="2" marL="914400" indent="-246240">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Continuous monitoring of dissolved oxygen is provided at representative locations above and below the facility as appropriate, with data available to ORSANCO through remote interrogations.</a:t>
            </a:r>
            <a:endParaRPr b="0" lang="en-US" sz="1500" spc="-1" strike="noStrike">
              <a:solidFill>
                <a:srgbClr val="000000"/>
              </a:solidFill>
              <a:latin typeface="Constantia"/>
            </a:endParaRPr>
          </a:p>
          <a:p>
            <a:pPr lvl="2" marL="914400" indent="-246240">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Provisions are made in the facility design and operation to allow maintenance of the full aeration potential of the dam during critical conditions.</a:t>
            </a:r>
            <a:endParaRPr b="0" lang="en-US" sz="1500" spc="-1" strike="noStrike">
              <a:solidFill>
                <a:srgbClr val="000000"/>
              </a:solidFill>
              <a:latin typeface="Constantia"/>
            </a:endParaRPr>
          </a:p>
          <a:p>
            <a:pPr marL="272880" indent="-272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Specific application of this policy shall be on a case-by-case basis. </a:t>
            </a:r>
            <a:endParaRPr b="0" lang="en-US" sz="1500" spc="-1" strike="noStrike">
              <a:solidFill>
                <a:srgbClr val="000000"/>
              </a:solidFill>
              <a:latin typeface="Constantia"/>
            </a:endParaRPr>
          </a:p>
          <a:p>
            <a:pPr marL="272880" indent="-272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03" name="Picture 2" descr="C:\Users\stacey\AppData\Local\Microsoft\Windows\Temporary Internet Files\Content.Outlook\5TSAKQJ3\hydropower 201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ydropower Highlight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plication Filed with FERC</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ewburgh </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niontown</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 Construction</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illow Island</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Meldahl</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mithland</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rrendered its License</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ew Cumberland</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ike Island</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2189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ydropower Highlights, Cont</a:t>
            </a:r>
            <a:br>
              <a:rPr sz="4500"/>
            </a:br>
            <a:endParaRPr b="0" lang="en-US" sz="45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tive Hydro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w Martinsvil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llevil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cin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eenu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lan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hio Fal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nelt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ydropower D.O. Dat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rrent Data Collection:</a:t>
            </a:r>
            <a:endParaRPr b="0" lang="en-US" sz="24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nnibal and Greenup via dial-up modem</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cine and Markland real time</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hio Falls weekly from Louisville Gas &amp; Electric</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ohn T. Myers (Uniontown) and Smithland via ORSANCO</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lleville annual report</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RSANCO does not receive data from Willow Island, Meldahl, Cannelton, or Newburgh at this time. </a:t>
            </a:r>
            <a:endParaRPr b="0" lang="en-US" sz="20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U.S. Army Corps of Engineers has asked the districts to revise existing MOAs (memorandum of understanding) such that hydro operators will be required to collect temperature and D.O. data in real time and make the data available via the web between May 1 and Oct 31. </a:t>
            </a:r>
            <a:endParaRPr b="0" lang="en-US" sz="19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http://www.boilermakers.org/files/news/photos/Cannelton_HydoTubeLiner_L-40_NSE_1.jpg">
            <a:hlinkClick r:id="rId1"/>
          </p:cNvPr>
          <p:cNvPicPr/>
          <p:nvPr/>
        </p:nvPicPr>
        <p:blipFill>
          <a:blip r:embed="rId2">
            <a:lum contrast="-28000"/>
          </a:blip>
          <a:stretch/>
        </p:blipFill>
        <p:spPr>
          <a:xfrm>
            <a:off x="838080" y="1066680"/>
            <a:ext cx="7391520" cy="5181840"/>
          </a:xfrm>
          <a:prstGeom prst="rect">
            <a:avLst/>
          </a:prstGeom>
          <a:ln w="0">
            <a:noFill/>
          </a:ln>
        </p:spPr>
      </p:pic>
      <p:pic>
        <p:nvPicPr>
          <p:cNvPr id="211" name="Title 3" descr=""/>
          <p:cNvPicPr/>
          <p:nvPr/>
        </p:nvPicPr>
        <p:blipFill>
          <a:blip r:embed="rId3"/>
          <a:stretch/>
        </p:blipFill>
        <p:spPr>
          <a:xfrm>
            <a:off x="450720" y="701640"/>
            <a:ext cx="832176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5:30:55Z</dcterms:created>
  <dc:creator>stacey</dc:creator>
  <dc:description/>
  <dc:language>en-US</dc:language>
  <cp:lastModifiedBy>jklear</cp:lastModifiedBy>
  <dcterms:modified xsi:type="dcterms:W3CDTF">2013-07-24T11:22:50Z</dcterms:modified>
  <cp:revision>44</cp:revision>
  <dc:subject/>
  <dc:title>Slide 1</dc:title>
</cp:coreProperties>
</file>