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679-B67A-423B-B059-3F5C76C5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940-B1C1-4E96-8A68-9695B6A5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49F-BE55-4B44-8DC9-EB350A0A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C7B-971F-4482-8716-FB3A614C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7F85-25A7-49C0-94A3-E3487B67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DB0D-7BA9-4133-AA60-227C34B6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EA32-9EF0-492F-8B67-58232C70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46AB-59C3-4A6B-B723-1B548F7B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EDD1-A351-45EB-A4C7-C0D4E477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B7A5-5042-48C0-8E9F-2AC3D0CB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2EE0-E012-4E3A-B5E5-4C5FACE7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885-BC09-4B45-8BF0-4327DDC9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87B7-1339-45B9-9206-8FEE1C6D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4BC1-CB41-4911-8016-6D70BAE3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CA68-3B92-4C5D-9534-6D5EB9CC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1B06-73F8-41D0-AB32-CD9C9BD3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2355-D721-49AD-A85A-73A1F787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22C33-42A5-43EF-9978-D8E4D9C7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3873-710F-46FB-A299-D7A97A54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4021F-26B8-4896-886F-2F6434C4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66A5-0E8F-49A4-BEBF-24D6B86A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B615-3B50-45AE-8D9C-A813902C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5F4-FE18-447C-8E81-357076DF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8C5A-990F-4345-9AAD-585955F7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C43E-447B-410B-A2B1-F4721157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EA82-87EA-45D0-9E3E-9B27601A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58169-4C80-48F7-B7D4-D6EDD685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374B-28A9-40BE-AFD9-DFD9CF2C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0B2E-0C83-4E5B-A4CA-52439DB0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9BA0-336A-4169-B1F4-A1AC7394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19FD-C92C-44E9-856B-6DC8E42A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E7BD5-9956-44B2-8872-1BCEB888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DDEB-ED12-465A-A3D2-35F38332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DAA-AD40-4005-864F-8DA379E8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748C-31DB-45D9-A402-92FE5F9F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4AC0-5EF5-4AD4-A7A4-F60EDA74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C2C8-FDFE-46B6-BC94-2434F550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9D08-C507-40F5-A664-F0ECB7FA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3527-5AF3-45C1-87C5-06F0B18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E591-6C11-4F24-BDA0-01DD3B07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B904-E45B-4E97-B0F7-A9168275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57B1D-FC6D-4799-B05A-C19D1517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4F3D2-2E2E-41DC-B6F6-5E91EF90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4596-6B91-467E-BD22-F00D4EBB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40D-904D-4570-99D4-FF6CEC2E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643C4-A4C6-4A5A-A7E4-32671395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300A5-0520-4CD0-8E04-E5E4ADB2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FB75C-3CAB-4776-89D5-EDDD8E4B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302FE-A179-4808-B71F-E0A11586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FE378-1C16-41F0-B2CF-F4DC948F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EAD5A-D2CD-4E1E-83F8-704705B9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AA3DE-D7C7-40DF-B6E1-E3EB7D7E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EA18C-EF72-4B48-B04A-98D19687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1B289-D9DB-4331-AACD-9D551FC1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B2B30-9A01-46C6-BC20-5EF2DA92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F1B-2D9E-4AC5-B3DE-6BBF01AC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FD505-86E1-4EAC-B904-36071C6E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1EB63-ADFA-4660-96F6-75C7289A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E6849-8860-41FB-86A4-C09BEB3D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DA0BD-5943-4794-B2F2-143E74EC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73D4A-DCE5-4CD8-A3E7-BADAF49E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61C0-210A-4C4A-AFC7-43B577FA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78EE3-4E1C-4F59-9B22-923CED6A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53B06-471E-454D-80C2-92E8B141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7D818-A0E0-400E-BA46-EB2FBB7A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8B349-AFF7-4BFD-ADF4-58641790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708-8D70-44A0-8FA1-B0D39C66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98014-0B83-4906-8ADC-05F076A1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C77B2-86D4-449B-B2C0-8CB1754E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1AB0B-513E-438D-A3F8-23D12060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13D-CA6E-4045-BF3F-81B7F757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E48-5DBD-4B62-9737-DEC60344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4DF2-F932-430C-A516-1CAC5CC54A5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EDB8-BD48-471F-AD54-98766B95522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034D-CA29-49BE-805E-286C7A5E895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8F13-BCD6-4B6D-B21F-9D5A1C5874A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513C-49E0-4A7D-B10C-4CB3FD740FF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AA79-4460-49DD-8045-8290F429679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l Novak, Ohio E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rcury Discharg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ff compiled listing of Ohio River mercury discharges (handout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ears that there may be multiple discharges in multiple states requesting variance from ORSANC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e:  There are multiple issues/problems with the ICIS data presented in the spreadshee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committee was provided the list for possible use in contacting affected discharg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Human Health Temperature Criterion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C directed NPDES Subcommittee work with PIAC (Power Industry Advisory Committee) on implementation language for new 110 deg F criter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ndards state that the criterion is applicable “at any location where public access is possible.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IAC concerned about implementation in perm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emp Criterion (cont.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9903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Novak, Rob Reash, Jason Heath met by conference c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AC offered following langu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access is determined by consideration of site-specific factors such as: 1) the availability of public property on land proximal to the thermal mixing zone; 2) the likelihood of temporary full-body immersion in the thermal mixing zone; and 3) deliberate efforts made by a permittee to restrict and/or discourage the legal access of persons inside the thermal mixing zone.  The temperature criterion shall apply where both the accessibility and potential for temporary full-body immersion is reason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emp Criterion (cont.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PDES Subcommittee did not feel that the proposed language was clarifying in terms of incorporating criterion into perm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PDES Subcommittee also did not believe that the criterion would be implemented as an end-of-pipe effluent limi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EC Conside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ents/recommendation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lined variance proced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guidance fo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DS &amp; ammonia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health temperature criter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-7632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mmittee Meetings/Agend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27  -- call of full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0 -- meeting with IDEM, OEPA, ORSANCO on streamlined variance proced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6 -- call of workgroup on permitting TDS &amp; Ammonia for protection of downstream int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15 -- call of full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lined variance proced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permit limits for criteria that apply at downstream inta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fication to discharges of potential need for variance and list of mercury dischar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language for human health temperature criteri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Streamlined, Coordinated Mercury Variance Procedur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2179440"/>
            <a:ext cx="85345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M &amp; OEPA have streamlined mercury variance processes approved by Region 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ceptually similar to a general NPDES permit vs. an individually-issued permi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jective is to ease the burden on permittees and ORSANCO for lower-level discharges of mercur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posed Proces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quire low-level mercury monitoring to determine reasonable potenti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Hg discharge &lt; 30 ng/L as monthly average (criterion is 12 ng/L) and an acceptable pollutant minimization plan has been submitted, then a streamlined variance will be gran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other conditions &amp; procedures remain as in the currently adopted proced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reamlined Variance Proces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licable to discharges &lt; 30 ng/L mo. Av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rrent variance requests from Ironton, OH WWTP and Koppers In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ed on more recent dat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ronton would qualify for streamlined vari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oppers appears to be a borderline case in terms of qualifying for streamlined variance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Permitting of Criteria that Apply at Downstream Intak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752120"/>
            <a:ext cx="84582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DS (500 mg/L) and Ammonia (1 mg/L) criteria are to protect public water suppl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rst time ORSANCO criteria specified to apply at downstream intak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w permitting application for sta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lementation procedure necessary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ssue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calculate a pollutant load from a point discharge that will not exceed a downstream concentration at water intak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nstream mixing/dilution occurs at the downstream intak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background concentrati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other (interstate) discharges contribute to total loadi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losses of the pollutant occur instrea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a uniform procedure fit within the states permitting procedure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fety factor/reserve necessary?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ubcommittee Proposal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ff compiles list of discharges &amp; intak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tain instream data at all DW intakes for TDS and ammoni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termine whether there are potential problems at intak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there are No Problems at the intake, states reissue permits for Existing Discharg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there Are Problems, or for New Discharges, a procedure that can be applied on an interstate basis is still need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commend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e all existing TDS and Ammonia data for all DW int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individual state permitting practices for existing discharges upstream of water intakes having no issues with the ammonia or TDS crite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 approach for new discharges or where TDS or ammonia problems exist at the downstream in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9:29:41Z</dcterms:created>
  <dc:creator>jason</dc:creator>
  <dc:description/>
  <dc:language>en-US</dc:language>
  <cp:lastModifiedBy>jklear</cp:lastModifiedBy>
  <dcterms:modified xsi:type="dcterms:W3CDTF">2013-07-22T14:23:45Z</dcterms:modified>
  <cp:revision>85</cp:revision>
  <dc:subject/>
  <dc:title>Report of the NPDES Subcommittee</dc:title>
</cp:coreProperties>
</file>