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7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9.wmf" ContentType="image/x-wmf"/>
  <Override PartName="/ppt/media/image21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20.wmf" ContentType="image/x-wmf"/>
  <Override PartName="/ppt/media/image19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BD4-4208-4D45-8ED0-9CC02220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5720" y="40708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C22-C2CD-498A-B258-1A485EA2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572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1216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410-C502-41AF-9411-C3F62507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10760" y="15235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800" y="15235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5720" y="40708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10760" y="40708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800" y="40708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02F-D4BE-4C3E-8795-5B3A87A9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2D8-6562-4DD8-B69C-87296B47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3AB-124B-4A40-9BB0-E9F29669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841-4422-4C25-81EB-48784738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66D-4112-4C77-B3C4-89296932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6080" y="151920"/>
            <a:ext cx="74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D29-9BFE-4793-9769-84B75E95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572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74C-283B-483A-8F6B-AB216EDD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1216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95A-DA6D-492C-A9A8-F340E04F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5720" y="40708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6F0-089F-4E4F-8B69-0DC0D472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outlet vert"/>
          <p:cNvPicPr/>
          <p:nvPr/>
        </p:nvPicPr>
        <p:blipFill>
          <a:blip r:embed="rId2"/>
          <a:srcRect l="0" t="26283" r="0" b="6071"/>
          <a:stretch/>
        </p:blipFill>
        <p:spPr>
          <a:xfrm>
            <a:off x="0" y="2603520"/>
            <a:ext cx="1004760" cy="987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98480" indent="-280800">
              <a:spcBef>
                <a:spcPts val="1749"/>
              </a:spcBef>
              <a:buClr>
                <a:srgbClr val="33ccff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146240" indent="-233280">
              <a:spcBef>
                <a:spcPts val="1749"/>
              </a:spcBef>
              <a:buClr>
                <a:srgbClr val="33cc33"/>
              </a:buClr>
              <a:buSzPct val="7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B316-1D58-4368-A735-75D6DB37A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air pillution stack"/>
          <p:cNvPicPr/>
          <p:nvPr/>
        </p:nvPicPr>
        <p:blipFill>
          <a:blip r:embed="rId3"/>
          <a:srcRect l="0" t="7228" r="0" b="0"/>
          <a:stretch/>
        </p:blipFill>
        <p:spPr>
          <a:xfrm>
            <a:off x="0" y="0"/>
            <a:ext cx="1004760" cy="1450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silverfish"/>
          <p:cNvPicPr/>
          <p:nvPr/>
        </p:nvPicPr>
        <p:blipFill>
          <a:blip r:embed="rId4"/>
          <a:srcRect l="0" t="0" r="0" b="10046"/>
          <a:stretch/>
        </p:blipFill>
        <p:spPr>
          <a:xfrm>
            <a:off x="0" y="4884840"/>
            <a:ext cx="1004760" cy="67284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3"/>
          <p:cNvSpPr/>
          <p:nvPr/>
        </p:nvSpPr>
        <p:spPr>
          <a:xfrm>
            <a:off x="0" y="1320840"/>
            <a:ext cx="9144000" cy="46080"/>
          </a:xfrm>
          <a:prstGeom prst="rect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4" descr="pfa2"/>
          <p:cNvPicPr/>
          <p:nvPr/>
        </p:nvPicPr>
        <p:blipFill>
          <a:blip r:embed="rId5"/>
          <a:srcRect l="47685" t="2034" r="0" b="16251"/>
          <a:stretch/>
        </p:blipFill>
        <p:spPr>
          <a:xfrm>
            <a:off x="0" y="1397160"/>
            <a:ext cx="1004760" cy="1158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wetland 8"/>
          <p:cNvPicPr/>
          <p:nvPr/>
        </p:nvPicPr>
        <p:blipFill>
          <a:blip r:embed="rId6"/>
          <a:srcRect l="21493" t="0" r="21493" b="0"/>
          <a:stretch/>
        </p:blipFill>
        <p:spPr>
          <a:xfrm>
            <a:off x="0" y="3638520"/>
            <a:ext cx="1004760" cy="11984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6" descr="Kammer port"/>
          <p:cNvPicPr/>
          <p:nvPr/>
        </p:nvPicPr>
        <p:blipFill>
          <a:blip r:embed="rId7"/>
          <a:srcRect l="0" t="0" r="0" b="13601"/>
          <a:stretch/>
        </p:blipFill>
        <p:spPr>
          <a:xfrm>
            <a:off x="0" y="5605560"/>
            <a:ext cx="1004760" cy="13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Fish Otolith Ablation: A New Technique for Evaluating Lifetime Exposure to Mercury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571640"/>
            <a:ext cx="71625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Garamond"/>
              </a:rPr>
              <a:t>Rob Reash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Garamond"/>
              </a:rPr>
              <a:t>American Electric Power, Columbus, Ohio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50" name="Picture 1028" descr="outlet vert"/>
          <p:cNvPicPr/>
          <p:nvPr/>
        </p:nvPicPr>
        <p:blipFill>
          <a:blip r:embed="rId1"/>
          <a:srcRect l="0" t="26285" r="0" b="6059"/>
          <a:stretch/>
        </p:blipFill>
        <p:spPr>
          <a:xfrm>
            <a:off x="2360520" y="2857680"/>
            <a:ext cx="116388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0" descr="air pillution stack"/>
          <p:cNvPicPr/>
          <p:nvPr/>
        </p:nvPicPr>
        <p:blipFill>
          <a:blip r:embed="rId2"/>
          <a:srcRect l="0" t="7228" r="0" b="0"/>
          <a:stretch/>
        </p:blipFill>
        <p:spPr>
          <a:xfrm>
            <a:off x="1079640" y="2743200"/>
            <a:ext cx="94932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31" descr="silverfish"/>
          <p:cNvPicPr/>
          <p:nvPr/>
        </p:nvPicPr>
        <p:blipFill>
          <a:blip r:embed="rId3"/>
          <a:srcRect l="0" t="0" r="0" b="10046"/>
          <a:stretch/>
        </p:blipFill>
        <p:spPr>
          <a:xfrm>
            <a:off x="3855960" y="2948040"/>
            <a:ext cx="143532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33" descr="pfa2"/>
          <p:cNvPicPr/>
          <p:nvPr/>
        </p:nvPicPr>
        <p:blipFill>
          <a:blip r:embed="rId4"/>
          <a:srcRect l="47685" t="2034" r="0" b="16251"/>
          <a:stretch/>
        </p:blipFill>
        <p:spPr>
          <a:xfrm>
            <a:off x="5622840" y="285768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35" descr="Kammer port"/>
          <p:cNvPicPr/>
          <p:nvPr/>
        </p:nvPicPr>
        <p:blipFill>
          <a:blip r:embed="rId5"/>
          <a:srcRect l="0" t="0" r="0" b="13605"/>
          <a:stretch/>
        </p:blipFill>
        <p:spPr>
          <a:xfrm>
            <a:off x="6934320" y="2743200"/>
            <a:ext cx="10573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038"/>
          <p:cNvGrpSpPr/>
          <p:nvPr/>
        </p:nvGrpSpPr>
        <p:grpSpPr>
          <a:xfrm>
            <a:off x="4267080" y="6172200"/>
            <a:ext cx="654120" cy="546120"/>
            <a:chOff x="4267080" y="6172200"/>
            <a:chExt cx="654120" cy="546120"/>
          </a:xfrm>
        </p:grpSpPr>
        <p:sp>
          <p:nvSpPr>
            <p:cNvPr id="56" name="Freeform 1037"/>
            <p:cNvSpPr/>
            <p:nvPr/>
          </p:nvSpPr>
          <p:spPr>
            <a:xfrm>
              <a:off x="4287600" y="6331680"/>
              <a:ext cx="574200" cy="227880"/>
            </a:xfrm>
            <a:custGeom>
              <a:avLst/>
              <a:gdLst>
                <a:gd name="textAreaLeft" fmla="*/ 0 w 574200"/>
                <a:gd name="textAreaRight" fmla="*/ 574560 w 5742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92" h="354">
                  <a:moveTo>
                    <a:pt x="46" y="0"/>
                  </a:moveTo>
                  <a:lnTo>
                    <a:pt x="892" y="4"/>
                  </a:lnTo>
                  <a:lnTo>
                    <a:pt x="846" y="342"/>
                  </a:lnTo>
                  <a:lnTo>
                    <a:pt x="0" y="35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" name="Picture 1036" descr="colorsymbol"/>
            <p:cNvPicPr/>
            <p:nvPr/>
          </p:nvPicPr>
          <p:blipFill>
            <a:blip r:embed="rId6"/>
            <a:stretch/>
          </p:blipFill>
          <p:spPr>
            <a:xfrm>
              <a:off x="4267080" y="6172200"/>
              <a:ext cx="654120" cy="546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589200" y="0"/>
            <a:ext cx="3711600" cy="6858000"/>
            <a:chOff x="3589200" y="0"/>
            <a:chExt cx="3711600" cy="6858000"/>
          </a:xfrm>
        </p:grpSpPr>
        <p:pic>
          <p:nvPicPr>
            <p:cNvPr id="83" name="Picture 3" descr="STU FWD 1 edit"/>
            <p:cNvPicPr/>
            <p:nvPr/>
          </p:nvPicPr>
          <p:blipFill>
            <a:blip r:embed="rId1"/>
            <a:stretch/>
          </p:blipFill>
          <p:spPr>
            <a:xfrm>
              <a:off x="3589200" y="0"/>
              <a:ext cx="37116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4" descr=""/>
            <p:cNvPicPr/>
            <p:nvPr/>
          </p:nvPicPr>
          <p:blipFill>
            <a:blip r:embed="rId2"/>
            <a:stretch/>
          </p:blipFill>
          <p:spPr>
            <a:xfrm>
              <a:off x="4075200" y="2451600"/>
              <a:ext cx="2957760" cy="14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Text Box 5" descr=""/>
            <p:cNvPicPr/>
            <p:nvPr/>
          </p:nvPicPr>
          <p:blipFill>
            <a:blip r:embed="rId3"/>
            <a:stretch/>
          </p:blipFill>
          <p:spPr>
            <a:xfrm>
              <a:off x="3858480" y="2663640"/>
              <a:ext cx="396000" cy="77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Text Box 6"/>
          <p:cNvSpPr/>
          <p:nvPr/>
        </p:nvSpPr>
        <p:spPr>
          <a:xfrm>
            <a:off x="3917880" y="3882960"/>
            <a:ext cx="1527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tance (micrometers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1225080" y="685800"/>
            <a:ext cx="15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fill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H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 = 21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3427560" y="3240"/>
            <a:ext cx="4146480" cy="6851520"/>
            <a:chOff x="3427560" y="3240"/>
            <a:chExt cx="4146480" cy="6851520"/>
          </a:xfrm>
        </p:grpSpPr>
        <p:pic>
          <p:nvPicPr>
            <p:cNvPr id="89" name="Picture 3" descr="STU FWD 2a edit"/>
            <p:cNvPicPr/>
            <p:nvPr/>
          </p:nvPicPr>
          <p:blipFill>
            <a:blip r:embed="rId1"/>
            <a:stretch/>
          </p:blipFill>
          <p:spPr>
            <a:xfrm>
              <a:off x="3427560" y="3240"/>
              <a:ext cx="4146480" cy="685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4" descr=""/>
            <p:cNvPicPr/>
            <p:nvPr/>
          </p:nvPicPr>
          <p:blipFill>
            <a:blip r:embed="rId2"/>
            <a:stretch/>
          </p:blipFill>
          <p:spPr>
            <a:xfrm>
              <a:off x="5288040" y="3599640"/>
              <a:ext cx="2283840" cy="108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Text Box 5" descr=""/>
            <p:cNvPicPr/>
            <p:nvPr/>
          </p:nvPicPr>
          <p:blipFill>
            <a:blip r:embed="rId3"/>
            <a:stretch/>
          </p:blipFill>
          <p:spPr>
            <a:xfrm>
              <a:off x="5029560" y="3706560"/>
              <a:ext cx="396000" cy="77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6"/>
            <p:cNvSpPr/>
            <p:nvPr/>
          </p:nvSpPr>
          <p:spPr>
            <a:xfrm>
              <a:off x="5704200" y="4665960"/>
              <a:ext cx="152244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stance (micrometers)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TextBox 9"/>
          <p:cNvSpPr/>
          <p:nvPr/>
        </p:nvSpPr>
        <p:spPr>
          <a:xfrm>
            <a:off x="1226880" y="685800"/>
            <a:ext cx="14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fille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H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 = 21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eliminary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observations based o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mall 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sample size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Exposure patterns differ for each fish….such information cannot be inferred by tissue analysis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e relationship between tissue MeHg and recent (last 12 month) otolith Hg concentration is difficult to discern….need larger sample siz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Need to understand the importance of moving average vs. peak vs. upper percentile concentration re: best predictor of otolith [Hg]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cc66"/>
                </a:solidFill>
                <a:latin typeface="Arial"/>
              </a:rPr>
              <a:t>My contact</a:t>
            </a: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Rob Reash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incipal Environmental Scientist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ertified Fisheries Scientist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merican Electric Power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1 Riverside Plaza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olumbus, OH  43215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: 614-716-1237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rjreash@aep.com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Issues re: Hg in Ohio River fish</a:t>
            </a:r>
            <a:endParaRPr b="1" i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s fish consumption use impaired?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re levels increasing for any species?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at are the primary point-source and non-point sources?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at is the extent of 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in situ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methylation?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What tools are being implemented?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Long-term monitoring of THg (and, recently, MeHg) in several fish species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Monitoring of THg and MeHg in ambient water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Implementation of adopted MeHg human health criterion re: use attainment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Fish fillet analyses - limitations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t is a snapshot ; year-to-year variation in Hg exposure is unknown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nalysis of composite samples masks exposure patterns of individual fish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Selecting largest, oldest fish for fish consumption use attainment may bias potential risk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tolith laser ablation: the concep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race elements deposit onto otoliths (ear bones) based on timing and magnitude of exposure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evels of trace elements are quantified directly from fish “birth” to time of collection using ICP-MS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echnique first used at Canadian mining sites where regulators were concerned of salmonid exposure to Se-enriched wastewater. 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Preliminary evaluation – Ohio River freshwater drum 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lnSpc>
                <a:spcPct val="90000"/>
              </a:lnSpc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EP/EPRI study (2010) documented levels of THg, MeHg, and Se in five fish species collected near coal power plant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lnSpc>
                <a:spcPct val="90000"/>
              </a:lnSpc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ll fish aged using scale, spine, or otolith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Otoliths from six freshwater drum analyzed for THg and Se (cannot speciate metals).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Range of measured THg, MeHg, and Se in fillet samples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g:  0.117 – 0.419 mg/kg wet wt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MeHg: 0.072 – 0.368 mg/kg wet wt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: 1.67 – 4.84 mg/kg dry wt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4049640" y="0"/>
            <a:ext cx="2946600" cy="6831000"/>
            <a:chOff x="4049640" y="0"/>
            <a:chExt cx="2946600" cy="6831000"/>
          </a:xfrm>
        </p:grpSpPr>
        <p:pic>
          <p:nvPicPr>
            <p:cNvPr id="71" name="Picture 3" descr="LKC FWD 1 edit"/>
            <p:cNvPicPr/>
            <p:nvPr/>
          </p:nvPicPr>
          <p:blipFill>
            <a:blip r:embed="rId1"/>
            <a:stretch/>
          </p:blipFill>
          <p:spPr>
            <a:xfrm>
              <a:off x="4049640" y="0"/>
              <a:ext cx="2946600" cy="683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4" descr=""/>
            <p:cNvPicPr/>
            <p:nvPr/>
          </p:nvPicPr>
          <p:blipFill>
            <a:blip r:embed="rId2"/>
            <a:stretch/>
          </p:blipFill>
          <p:spPr>
            <a:xfrm>
              <a:off x="5051880" y="2953080"/>
              <a:ext cx="188568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 Box 5" descr=""/>
            <p:cNvPicPr/>
            <p:nvPr/>
          </p:nvPicPr>
          <p:blipFill>
            <a:blip r:embed="rId3"/>
            <a:stretch/>
          </p:blipFill>
          <p:spPr>
            <a:xfrm>
              <a:off x="4803480" y="2944080"/>
              <a:ext cx="389880" cy="76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Text Box 6"/>
          <p:cNvSpPr/>
          <p:nvPr/>
        </p:nvSpPr>
        <p:spPr>
          <a:xfrm>
            <a:off x="4280040" y="3854520"/>
            <a:ext cx="1527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tance (micrometers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229040" y="685800"/>
            <a:ext cx="23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fillet MeHg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 = 4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405240" y="0"/>
            <a:ext cx="4273560" cy="6858000"/>
            <a:chOff x="3405240" y="0"/>
            <a:chExt cx="4273560" cy="6858000"/>
          </a:xfrm>
        </p:grpSpPr>
        <p:pic>
          <p:nvPicPr>
            <p:cNvPr id="77" name="Picture 3" descr="BEC FWD 2a edit"/>
            <p:cNvPicPr/>
            <p:nvPr/>
          </p:nvPicPr>
          <p:blipFill>
            <a:blip r:embed="rId1"/>
            <a:stretch/>
          </p:blipFill>
          <p:spPr>
            <a:xfrm>
              <a:off x="3405240" y="0"/>
              <a:ext cx="42735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4" descr=""/>
            <p:cNvPicPr/>
            <p:nvPr/>
          </p:nvPicPr>
          <p:blipFill>
            <a:blip r:embed="rId2"/>
            <a:stretch/>
          </p:blipFill>
          <p:spPr>
            <a:xfrm>
              <a:off x="4408200" y="3367080"/>
              <a:ext cx="3247200" cy="13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Text Box 5" descr=""/>
            <p:cNvPicPr/>
            <p:nvPr/>
          </p:nvPicPr>
          <p:blipFill>
            <a:blip r:embed="rId3"/>
            <a:stretch/>
          </p:blipFill>
          <p:spPr>
            <a:xfrm>
              <a:off x="4163400" y="3572280"/>
              <a:ext cx="432720" cy="78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6"/>
            <p:cNvSpPr/>
            <p:nvPr/>
          </p:nvSpPr>
          <p:spPr>
            <a:xfrm>
              <a:off x="5351040" y="4582800"/>
              <a:ext cx="15271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stance (micrometers)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TextBox 10"/>
          <p:cNvSpPr/>
          <p:nvPr/>
        </p:nvSpPr>
        <p:spPr>
          <a:xfrm>
            <a:off x="1225080" y="685800"/>
            <a:ext cx="18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um fille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Hg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 = 17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8:18:53Z</dcterms:created>
  <dc:creator>American Electric Power®</dc:creator>
  <dc:description/>
  <dc:language>en-US</dc:language>
  <cp:lastModifiedBy>jklear</cp:lastModifiedBy>
  <dcterms:modified xsi:type="dcterms:W3CDTF">2013-07-22T14:26:24Z</dcterms:modified>
  <cp:revision>155</cp:revision>
  <dc:subject/>
  <dc:title>PowerPoint Presentation</dc:title>
</cp:coreProperties>
</file>