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wmf" ContentType="image/x-wmf"/>
  <Override PartName="/ppt/media/image14.png" ContentType="image/png"/>
  <Override PartName="/ppt/media/image1.jpeg" ContentType="image/jpeg"/>
  <Override PartName="/ppt/media/image9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-3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388440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C6C8-3583-44EB-A973-EB1118E7B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71B5-686F-4F5E-828D-627B1430E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B741-7AFD-4DAB-ABF1-35B4EB43A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0E72-69ED-4DEC-9E68-88B13B2F7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4BE8-A652-4161-AF5A-EF3FEDB6F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52C3-463C-4744-94D7-21EBED168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4226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BA96-2F93-401F-B13A-9FC3876FE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4226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2CCC-97B1-402A-80C8-E47B88A19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4226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4E7B-AD9E-44DF-861E-D25DCB485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4226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E6CD-82B8-484C-A1CE-BF9C9E01F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B674-140B-4191-9DA8-3832C06EB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DE47-FBFC-4073-84BC-9FE28D93A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F0B3-51E5-49B9-9DBF-566764FEE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F8D4-1A16-49CD-92F8-97D1C756F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3FCE-0F11-45E4-AFF1-F0449CD25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AB6E-DF70-436F-8833-827760F0E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1FB4-1F73-44F4-A061-BCC1B7238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6DD1-D2D3-4EE7-9A45-751C0FB43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38080"/>
            <a:ext cx="777240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79B1-DC2A-4176-B2C1-9375AA17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38080"/>
            <a:ext cx="379260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38080"/>
            <a:ext cx="379260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D94E-11D9-480E-8AE1-AC57560B9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38080"/>
            <a:ext cx="25023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38080"/>
            <a:ext cx="25023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38080"/>
            <a:ext cx="25023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DA89-78FC-4C66-BCF2-CB2083A96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6320" y="38052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438080"/>
            <a:ext cx="379260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306E-9CDD-46AA-B6AC-7EF31C57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438080"/>
            <a:ext cx="379260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438080"/>
            <a:ext cx="777240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438080"/>
            <a:ext cx="777240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438080"/>
            <a:ext cx="379260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438080"/>
            <a:ext cx="379260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438080"/>
            <a:ext cx="25023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438080"/>
            <a:ext cx="25023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438080"/>
            <a:ext cx="25023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CE21-0CC6-476F-9362-E23390F3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F3EA-A62F-4047-ACE1-C8A824AA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5645-8575-4BB0-9739-C72B5987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320" y="38052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5ED3-6ECE-40DE-A174-8181E0EB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38080"/>
            <a:ext cx="379260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87E2-ABBE-4071-B12A-9020C809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38080"/>
            <a:ext cx="379260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11D0-FA81-4DB7-9A78-3F97AD06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38080"/>
            <a:ext cx="777240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1D4C-DAB6-4FE8-B69C-CDBEBFE9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029E-1A9B-45CB-A11E-07D090BDC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Picture 4" descr="UMRBA Logo"/>
          <p:cNvPicPr/>
          <p:nvPr/>
        </p:nvPicPr>
        <p:blipFill>
          <a:blip r:embed="rId3"/>
          <a:stretch/>
        </p:blipFill>
        <p:spPr>
          <a:xfrm>
            <a:off x="7753320" y="293760"/>
            <a:ext cx="1287360" cy="1338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dhokanson@umrba.org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umrba.org/" TargetMode="Externa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dde2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35200" y="457200"/>
            <a:ext cx="7408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Upper Mississippi River Basin Association:  Spills Coordination, Mapping &amp;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04560" y="12952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Joint ORSANCO-UMRBA Technical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June 5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295280" cy="13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1522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Response Plan &amp; Resource Manual Cont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Response Plan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ublic and Private Organization Roles in Respon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terstate Notification Protocol and Notification Ro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sponse Protocol for UMR Spi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cident Command System Implementation Protoc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olicy on In Situ Burning and COS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olicy on Bioreme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olicy on Vessel Detai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ate Hazardous Waste Disposal Requir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olicy on Coordination with US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1522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Response Plan &amp; Resource Manual Cont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Resource Appendices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asic river inform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ounty lines, locks &amp; dams, USCG &amp; USACE bounda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nsitive human and natural re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water intakes, National Wildlife refuges, sensitive habita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otential sources of spi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ighway and rail crossings, pipelines, dischargers, commodities transported, tributaries, oil-handling termina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sponse asse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azmat teams, response equipment, river access poi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untermeasur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 situ burning information and considerations, chemical oil spill treating agents information and consider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685800" y="60948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523880" y="30492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UMR Emergency Action Field Guide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7" name="Picture 8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3978000" cy="5105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"/>
          <p:cNvPicPr/>
          <p:nvPr/>
        </p:nvPicPr>
        <p:blipFill>
          <a:blip r:embed="rId2"/>
          <a:stretch/>
        </p:blipFill>
        <p:spPr>
          <a:xfrm>
            <a:off x="4648320" y="1752480"/>
            <a:ext cx="393372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Regional Planning &amp;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Mapping Activ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685800" y="1905120"/>
            <a:ext cx="784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pported under cooperative agreement with USEPA Region 5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1 years of work, implemented under OPA 90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unding varies by year ($75,000 to $175,000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-3 project staff, plus part of WQP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ork focused in Illinois, Minnesota, Wisconsi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Great Lakes Commission does similar work in Indiana, Michigan, and Ohi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Regional Planning &amp;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Mapping Activ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28600" y="1676520"/>
            <a:ext cx="5715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land Sensitivity Atla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ate-wide atlases, completing updat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otential spill sources (pipelines, oil storage, hazardous materials, etc.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nsitive resources (water intakes, sensitive species, managed lands, tribal lands, marinas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sponse resources (boat accesses, response strategies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GIS-based, GeoPDF-formatte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VD distributio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5943600" y="2514600"/>
            <a:ext cx="2841480" cy="3665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Regional Planning &amp;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Mapping Activ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457200" y="1752480"/>
            <a:ext cx="830592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eographic Response Planning Tool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Response Strategies for UMR Metro Areas (Sub-areas): Minneapolis-St. Paul, Quad Cities, and St. Loui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Wildlife Refuges and Other Sensitive Areas: UMR Pools 7, 10 and 13; these include initial incident action pla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tegrated into Inland Sensitivity Atlas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abitat-Specific Response Fact Sheet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b-area Contingency Plan Suppor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inneapolis-St. Paul, Chicag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ssist in Quad Cities, St. Loui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DEMONSTRATION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Questions and Discus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304920" y="1905120"/>
            <a:ext cx="8610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For More Information, Contact: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Dave Hokanson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Calibri"/>
                <a:ea typeface="Calibri"/>
                <a:hlinkClick r:id="rId1"/>
              </a:rPr>
              <a:t>dhokanson@umrba.org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651-224-2880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See also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UMRBA Web Sit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Calibri"/>
                <a:ea typeface="Calibri"/>
              </a:rPr>
              <a:t>www.umrba.org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dde2e3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UMRBA Focus Ar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UMlogosmall"/>
          <p:cNvPicPr/>
          <p:nvPr/>
        </p:nvPicPr>
        <p:blipFill>
          <a:blip r:embed="rId1"/>
          <a:stretch/>
        </p:blipFill>
        <p:spPr>
          <a:xfrm>
            <a:off x="8001000" y="304920"/>
            <a:ext cx="900000" cy="914400"/>
          </a:xfrm>
          <a:prstGeom prst="rect">
            <a:avLst/>
          </a:prstGeom>
          <a:ln w="0">
            <a:noFill/>
          </a:ln>
        </p:spPr>
      </p:pic>
      <p:pic>
        <p:nvPicPr>
          <p:cNvPr id="93" name="Content Placeholder 2" descr=""/>
          <p:cNvPicPr/>
          <p:nvPr/>
        </p:nvPicPr>
        <p:blipFill>
          <a:blip r:embed="rId2"/>
          <a:stretch/>
        </p:blipFill>
        <p:spPr>
          <a:xfrm>
            <a:off x="2590920" y="1295280"/>
            <a:ext cx="4279680" cy="55119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4"/>
          <p:cNvSpPr/>
          <p:nvPr/>
        </p:nvSpPr>
        <p:spPr>
          <a:xfrm>
            <a:off x="2438280" y="4267080"/>
            <a:ext cx="1524240" cy="19814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Overview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UMR Response Consider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UMR Hazardous Spills Coordination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UMR Spill Plan and Response Man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Regional Mapping and Planning Activities (US EPA cooperative agreeme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Questions and Discu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UMR Spill Response - Consider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5715000" cy="47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Unique Characteristics &amp; 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omplex Physical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cks and dams, main channel, side channel, backwat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lows/spill trajectories variable and hard to predi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High Value Natural Resources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asonal concentrations of migratory waterfow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reatened and endangered spec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iverse habitats, National Wildlife Refu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4" descr="Lockdam_2"/>
          <p:cNvPicPr/>
          <p:nvPr/>
        </p:nvPicPr>
        <p:blipFill>
          <a:blip r:embed="rId1"/>
          <a:stretch/>
        </p:blipFill>
        <p:spPr>
          <a:xfrm>
            <a:off x="5867280" y="1981080"/>
            <a:ext cx="2590920" cy="20178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00" name="Picture 5" descr="eagles"/>
          <p:cNvPicPr/>
          <p:nvPr/>
        </p:nvPicPr>
        <p:blipFill>
          <a:blip r:embed="rId2"/>
          <a:stretch/>
        </p:blipFill>
        <p:spPr>
          <a:xfrm>
            <a:off x="5867280" y="4191120"/>
            <a:ext cx="2624400" cy="2276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UMR Spill Response - Consider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5029200" cy="47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Water Supply Used F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inking Wa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dustrial Proces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oling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resence of Commercial and Recreational Vess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afety consider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terference with response efforts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iverse Potential Pollution 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essels, pipelines, railroads, highway crossings, industrial dischar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6781680" y="30481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4" name="Picture 6" descr="oil refinery 1"/>
          <p:cNvPicPr/>
          <p:nvPr/>
        </p:nvPicPr>
        <p:blipFill>
          <a:blip r:embed="rId1"/>
          <a:stretch/>
        </p:blipFill>
        <p:spPr>
          <a:xfrm>
            <a:off x="5486400" y="4343400"/>
            <a:ext cx="3048120" cy="2286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05" name="Picture 7" descr="100_0440"/>
          <p:cNvPicPr/>
          <p:nvPr/>
        </p:nvPicPr>
        <p:blipFill>
          <a:blip r:embed="rId2"/>
          <a:stretch/>
        </p:blipFill>
        <p:spPr>
          <a:xfrm>
            <a:off x="5486400" y="1905120"/>
            <a:ext cx="3048120" cy="234612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Need for Cooperation and Coordination in Response on the UMR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5562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Multiple Jurisdictions and Agenc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otential for Downstream Impa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Government-Private Sector Coordination Import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Need to Target Limited Resources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(equipment, personnel, planning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5638680" y="1905120"/>
            <a:ext cx="2994120" cy="2000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9" name="Picture 1" descr=""/>
          <p:cNvPicPr/>
          <p:nvPr/>
        </p:nvPicPr>
        <p:blipFill>
          <a:blip r:embed="rId2"/>
          <a:stretch/>
        </p:blipFill>
        <p:spPr>
          <a:xfrm>
            <a:off x="5638680" y="4038480"/>
            <a:ext cx="2982960" cy="198936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UMR Hazardous Spills Coordination Grou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28191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Formed 198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Memb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Illinois </a:t>
            </a: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Iow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Minnesot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Missouri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Wisconsi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5638680" y="1905120"/>
            <a:ext cx="2994120" cy="2000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13" name="Picture 1" descr=""/>
          <p:cNvPicPr/>
          <p:nvPr/>
        </p:nvPicPr>
        <p:blipFill>
          <a:blip r:embed="rId2"/>
          <a:stretch/>
        </p:blipFill>
        <p:spPr>
          <a:xfrm>
            <a:off x="5638680" y="4038480"/>
            <a:ext cx="2982960" cy="198936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14" name="TextBox 5"/>
          <p:cNvSpPr/>
          <p:nvPr/>
        </p:nvSpPr>
        <p:spPr>
          <a:xfrm>
            <a:off x="2743200" y="3352680"/>
            <a:ext cx="23623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USACE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USCG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USEPA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USFWS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NOAA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UMR Hazardous Spills Coordination Grou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Fun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orum for regional coordination and communic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aintain UMR Spill Plan (Group members are signatori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ponsor training ev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dvocate for shared posi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Meet twice per year, plus occasional trai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UMRBA provides staff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609840" y="380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UMR Spill Response Pla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and Resource Manu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5334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 contingency plan to supplement other area and agency plans (R5, R7 area) maintained by UMR Spills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ddresses how state and federal agencies respond to UMR spill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cludes resource manual appendices with reference in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stricted access and public distribution versions (due to contents of appendices in resource manual) – see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umrba.org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for public pl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urrently undergoing comprehensive update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5943600" y="2590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2"/>
          <a:stretch/>
        </p:blipFill>
        <p:spPr>
          <a:xfrm>
            <a:off x="5562720" y="1981080"/>
            <a:ext cx="3355920" cy="4343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4:53:00Z</dcterms:created>
  <dc:creator>Kirsten Mickelsen</dc:creator>
  <dc:description/>
  <dc:language>en-US</dc:language>
  <cp:lastModifiedBy>jklear</cp:lastModifiedBy>
  <cp:lastPrinted>2012-02-10T19:22:08Z</cp:lastPrinted>
  <dcterms:modified xsi:type="dcterms:W3CDTF">2013-07-22T15:11:38Z</dcterms:modified>
  <cp:revision>394</cp:revision>
  <dc:subject/>
  <dc:title>UMR Biologic</dc:title>
</cp:coreProperties>
</file>