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F35-AB2E-48F7-8A05-30F0D6ED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4A5-9079-41E7-B870-F3574C54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3CB-19B4-40A6-A6E7-EF2135F6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BDF-343C-48AA-B590-592F2927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4EE-A18C-4979-8146-46F4F338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BBB-FA56-4995-945E-88CA3A21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63E-4647-48DE-82DA-88DB40E5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3D1-6BDA-4A68-A714-9D8AE2E0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D54-3598-4EBD-9833-D78E54C5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B6C-22D0-4A69-ABE0-5743941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BF4-CD0B-4D64-A3BE-CE83719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DC2-E81F-4C92-9F9E-219DC076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ACFE-2447-4F11-9404-E7161187D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george.elmaraghy@epa.ohio.go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io EPA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RSANCO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orge Elmaraghy, Chief, P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QS Rulem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 period on draft WQS rules package extended to Jun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ORSANCO 2012 PCS up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s Rulem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 period on initial step of rule process (Early Stakeholder Outreach) closed May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input generally supportive of Ohio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on draft rules this su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lfate Limits in Coal NP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PA 2011 Guidance – Concern states not conducting reasonable potential reviews in permi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io only has narrative crite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“best science” to translate narrative criteria into numeric to determine reasonable pot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how we currently handle Phosphoru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1999 Associations docu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Supreme Court ruling backs Agency – will not hea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lackstone v. E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lity 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mont Cou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ORWA WWTP – Draft DFFOs include – proper O&amp;M of the collection systems, certified operators and proper reporting of system overflows.  All five satellite communities should sign orders so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fferson Cou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ubenville WWTP – switched to peracetic acid (PAA) for dis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ed in cost savings that other communities now evaluating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tion use at facilities on low flow streams due to toxicity and mixing zone area of avoidance concer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milton Cou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nder Morgan – salt pile facility on Ohio River.  Renewing NPDES permit.  Will be evaluating storm water/industrial waste discharge for tox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Elmaraghy, Chief, P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io EPA, Division of Surface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george.elmaraghy@epa.ohio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14-644-2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20:25:10Z</dcterms:created>
  <dc:creator>Mary McCarron</dc:creator>
  <dc:description/>
  <dc:language>en-US</dc:language>
  <cp:lastModifiedBy>jklear</cp:lastModifiedBy>
  <dcterms:modified xsi:type="dcterms:W3CDTF">2013-07-22T14:25:26Z</dcterms:modified>
  <cp:revision>14</cp:revision>
  <dc:subject/>
  <dc:title>PowerPoint Presentation</dc:title>
</cp:coreProperties>
</file>