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C48-0D56-4B5B-BF41-8B7C229A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C70-DBC0-445D-96F3-96F2A9A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10C-5D93-4140-8A7F-24179860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4BA-47C1-4EB2-963E-2BC0F4F7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A36-C381-4B0D-9336-82BBC7FD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1E9-1292-4BAC-88BE-9A7A1E84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449F-AE8C-4D88-9859-9E093D1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BF2-9184-429F-AC39-45EBDA6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827-7E50-4F65-A9EA-CAA2BA22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2BE-58C8-4D41-8539-43379A94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3D1-93DF-4CD1-939A-F9C2AB3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E57-C593-4D2A-9FC8-994BA29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2DE-6741-464A-B5A6-4C12B83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2A14-4EB7-422D-9CC6-A80B4C4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2EB6-1B2B-49EF-9F7F-00FBAD5F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3EB3-9CE3-4CB5-A96B-265F9C2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5F33-7F28-45F3-A449-02673BDA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EA78-3DBC-4275-8F98-2C292C8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E1FD-A94F-418E-9268-D90821D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43A8-4275-4ABA-BF19-9B1FE7B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D601-654D-42F7-91DF-A294E68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84C5-EE28-4F25-8C0B-81C669A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B11-D8A2-416C-AB43-63C0A59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0194-5E3E-4D4A-8277-8E9CE87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F7B8-C585-4C96-A36A-883468D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F54B-B749-4F44-81C5-4E30449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CA46-B4E5-44A4-9515-263D3F2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19AD-282D-4BBB-A7C5-D9E989E4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FD0F-24F6-470B-85D9-524F1B5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08AB-9C56-4709-9BCD-EDFDAAFA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FFD1-00E8-4C3E-AD7A-4292E4F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C649-1CCF-4883-A98E-18164D10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A9F7-A397-4B1F-907A-7C22B68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ADC-26F8-46DA-9BE2-7D75E35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2A41-721B-410E-868A-615E6DAC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2618-8DF6-474A-AA56-8ADE7F1D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E8C0-31F3-44DD-A860-E98B7993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7026-4958-4CF0-AE09-C617BBB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CCED-064E-47D1-874A-6860C87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DD4B-C22A-4362-8D0A-575E05C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F72C-CA57-41F6-8F30-7CBB8DFA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D41C-46F8-43B5-9B07-4B9F80B5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F782-BAE0-4196-AC2A-91EE92FD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3F3-C41C-4B88-AD38-5E0714D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258-92C2-4DB3-9400-5714308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517-7D4B-4557-BEA2-665B49C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7EE-E4C1-423F-B2A1-5DB8124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9D2-925E-44E1-9D63-B86815B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BED5-3E0E-4633-AB4B-0E9768FD76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F41D-F14E-4E6B-9266-F4DD4A6936B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8688-91BF-4DFF-97D1-F13A12F731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E86-2ADD-489D-B9B7-4A0A717070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ohio+river+hydropower&amp;source=images&amp;cd=&amp;cad=rja&amp;docid=2yQjxFM55Y1PVM&amp;tbnid=SrS01ZZ71tO_yM:&amp;ved=0CAUQjRw&amp;url=http://www.boilermakers.org/news/jobs/Boilermakers_build_tube_liners_for_Ohio_River_hydro_plant&amp;ei=OQAMUeD2B8mw2QWspYBY&amp;bvm=bv.41867550,d.b2I&amp;psig=AFQjCNFerI776IpSJD3iQLyPDFmLQM3KaQ&amp;ust=1359827231865493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1060560"/>
            <a:ext cx="8328240" cy="260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267080"/>
            <a:ext cx="78548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Meldahl aerial Oct 2012 from the north"/>
          <p:cNvPicPr/>
          <p:nvPr/>
        </p:nvPicPr>
        <p:blipFill>
          <a:blip r:embed="rId2"/>
          <a:stretch/>
        </p:blipFill>
        <p:spPr>
          <a:xfrm>
            <a:off x="685800" y="403848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ter Quality Concer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solved Oxy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ms are good aera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dropower  facilities divert water from da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itical conditions  exist under low flow and high temperature = low  dissolved oxy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ave historically had some dissolved oxygen impairments in lower riv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at hydropower facilities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dropower Highligh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0 Locks &amp; Dams on Ohio Riv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 Operating Hydropower Pla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ceive Near Real Time DO Data for all operating facilities June thru October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vers critical conditio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 Applications for New Facilitie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 Facilities Under Constru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C:\Users\stacey\AppData\Local\Microsoft\Windows\Temporary Internet Files\Content.Outlook\5TSAKQJ3\hydropower 2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ORSANCO Policy on DO Monitoring Requirements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or Ohio River Hydropower Facilities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987, the Federal Energy Regulatory Commission (FERC) issued an environmental impact study of hydropower development on the lower Allegheny and upper Ohio River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y findings that some dams were “good aerators” and some were not. For the “good aerator” dams, it was proposed that FERC licenses require maintenance of a 6.5 mg/L DO level while a 5.0 mg/L level (the water quality standard for the main stem states) was recommended for the “poor aerators”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ORSANCO 1988 Policy on DO Monitor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rating licenses should contain provisions to assure tha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)  Adequate studies are conducted prior to facility operation to define aeration characteristics of the da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)  Continuous monitoring of dissolved oxygen is provided at representative locations above and below the facility as appropriate, with data available to ORSANCO through remote interroga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) Provisions are made in the facility design and operation to allow maintenance of the full aeration potential of the dam during critical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boilermakers.org/files/news/photos/Cannelton_HydoTubeLiner_L-40_NSE_1.jpg">
            <a:hlinkClick r:id="rId1"/>
          </p:cNvPr>
          <p:cNvPicPr/>
          <p:nvPr/>
        </p:nvPicPr>
        <p:blipFill>
          <a:blip r:embed="rId2">
            <a:lum contrast="-28000"/>
          </a:blip>
          <a:stretch/>
        </p:blipFill>
        <p:spPr>
          <a:xfrm>
            <a:off x="838080" y="1066680"/>
            <a:ext cx="7391520" cy="5181840"/>
          </a:xfrm>
          <a:prstGeom prst="rect">
            <a:avLst/>
          </a:prstGeom>
          <a:ln w="0">
            <a:noFill/>
          </a:ln>
        </p:spPr>
      </p:pic>
      <p:pic>
        <p:nvPicPr>
          <p:cNvPr id="209" name="Title 3" descr=""/>
          <p:cNvPicPr/>
          <p:nvPr/>
        </p:nvPicPr>
        <p:blipFill>
          <a:blip r:embed="rId3"/>
          <a:stretch/>
        </p:blipFill>
        <p:spPr>
          <a:xfrm>
            <a:off x="450720" y="-311040"/>
            <a:ext cx="83217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ydropower Highlights, Cont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e Hyd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 Martinsvil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llevil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c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een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kl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hio 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nel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5:30:55Z</dcterms:created>
  <dc:creator>stacey</dc:creator>
  <dc:description/>
  <dc:language>en-US</dc:language>
  <cp:lastModifiedBy>jklear</cp:lastModifiedBy>
  <dcterms:modified xsi:type="dcterms:W3CDTF">2013-07-22T15:10:52Z</dcterms:modified>
  <cp:revision>60</cp:revision>
  <dc:subject/>
  <dc:title>Slide 1</dc:title>
</cp:coreProperties>
</file>