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8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CBF-FB97-473A-AE29-0E149FA1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B50-F7B5-4D7D-BF98-E18BC7E6EF0B}" type="slidenum"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E3DD-89EB-4742-A503-05127B3C702E}" type="slidenum"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370-6FE3-4581-A77E-7E9E42B1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A80-C67E-4448-A351-6AA4ECB3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00C-5F32-41E1-AECE-F4E14340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EB7-FF35-4838-A787-39BC5644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855-D318-48AE-BB87-DB073336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B805-5E15-4770-B736-3AD6B70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C5F1-5C8F-4971-AEDA-B205C66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A6D7-B048-4147-80EE-3BA4B087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6661-F207-46CC-8F41-02906393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F4CC-8D2F-4878-9FBE-830111E6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DFA4-A311-4453-91C3-A02BB09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39C-5256-4052-8A46-EC72663B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638B-F49D-451A-BF4F-DF71AFA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2C00-0DFF-4C48-904E-3C6CBA5E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686C-7791-4411-9FD4-A8408733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9DEF-A18F-43AD-A21C-479A1D27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DD85-C259-4D3A-B347-2ADF1575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D2D-E8A8-4840-945F-A49B0E9A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A43-CD35-40E3-9A69-E794490A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5FB-D26C-4F3C-AE87-3A1E2AF5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183-B703-4B6A-9F91-C33F8BC7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D06-5925-4B2B-9A5F-7449684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B86-C4A5-49BB-B791-5F38B11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F9E-DE55-4B75-8082-977841B7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9A71-BA5A-405C-B6D3-45FC4591C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8551-4853-40C9-90E3-A215A82C482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364680"/>
            <a:ext cx="9144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RSANCO Commissioners Represent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nicipal Utilit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ate/Fed environmenta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genci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torney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lected Officia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vironmental consulta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ducational institu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dustr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096" name="Picture 4" descr="j0198101"/>
          <p:cNvPicPr/>
          <p:nvPr/>
        </p:nvPicPr>
        <p:blipFill>
          <a:blip r:embed="rId8"/>
          <a:stretch/>
        </p:blipFill>
        <p:spPr>
          <a:xfrm>
            <a:off x="6705720" y="2209680"/>
            <a:ext cx="230508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2" descr="commissionmtg"/>
          <p:cNvPicPr/>
          <p:nvPr/>
        </p:nvPicPr>
        <p:blipFill>
          <a:blip r:embed="rId1"/>
          <a:stretch/>
        </p:blipFill>
        <p:spPr>
          <a:xfrm>
            <a:off x="3809880" y="1905120"/>
            <a:ext cx="5181840" cy="231120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SAN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099" name="Picture 4" descr="BUILDING"/>
          <p:cNvPicPr/>
          <p:nvPr/>
        </p:nvPicPr>
        <p:blipFill>
          <a:blip r:embed="rId2"/>
          <a:stretch/>
        </p:blipFill>
        <p:spPr>
          <a:xfrm>
            <a:off x="762120" y="3540240"/>
            <a:ext cx="43434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rrent Program 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ater Quality Monitoring and Assess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iological Stud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pill Detection and Respon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ollution Control Stand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ublic Involve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ter Quality Condition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 194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ss than 1% of wastes received any treatmen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sign life of marine structures was reduced by 30% compared to other rive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iverfront areas considered uninhabitable on hot summer day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ing to Make it Bet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RSANCO Clean Streams Campaig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tes working with local communit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dustry action committe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merging Federal ro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gns of Progre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shing tournam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gatta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rina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iverfront property is in deman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creational Pressu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SANCO’s Partn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te Environmental agenc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te Health departm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 EP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GS, US COE, USC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nicipalit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dustr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day’s Challen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t Weather Problem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thoge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utri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oss Media Pollu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nd Use Chang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Ohio River Bas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hio River/ Basin Fa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981 Miles long from Pittsburgh, PA, to Cairo, I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rainage basin covers 204,000 sq. miles in 14 stat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asin home to 25+ million peo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rinking water for 3 million peo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20+ species of fish live in the Ohio Riv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0" y="9903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0 dams and 49 power-generating facilit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30 million tons of cargo transported annual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4343400" y="2590920"/>
            <a:ext cx="4343400" cy="3809880"/>
            <a:chOff x="4343400" y="2590920"/>
            <a:chExt cx="4343400" cy="3809880"/>
          </a:xfrm>
        </p:grpSpPr>
        <p:sp>
          <p:nvSpPr>
            <p:cNvPr id="151" name="Rectangle 6"/>
            <p:cNvSpPr/>
            <p:nvPr/>
          </p:nvSpPr>
          <p:spPr>
            <a:xfrm>
              <a:off x="4343400" y="2590920"/>
              <a:ext cx="4343400" cy="3809880"/>
            </a:xfrm>
            <a:prstGeom prst="rect">
              <a:avLst/>
            </a:prstGeom>
            <a:solidFill>
              <a:srgbClr val="fcfede"/>
            </a:solidFill>
            <a:ln w="63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52" name="Group 7"/>
            <p:cNvGrpSpPr/>
            <p:nvPr/>
          </p:nvGrpSpPr>
          <p:grpSpPr>
            <a:xfrm>
              <a:off x="4495680" y="2819520"/>
              <a:ext cx="4038480" cy="3200400"/>
              <a:chOff x="4495680" y="2819520"/>
              <a:chExt cx="4038480" cy="3200400"/>
            </a:xfrm>
          </p:grpSpPr>
          <p:grpSp>
            <p:nvGrpSpPr>
              <p:cNvPr id="153" name="Group 8"/>
              <p:cNvGrpSpPr/>
              <p:nvPr/>
            </p:nvGrpSpPr>
            <p:grpSpPr>
              <a:xfrm>
                <a:off x="4495680" y="2819520"/>
                <a:ext cx="4038480" cy="3032280"/>
                <a:chOff x="4495680" y="2819520"/>
                <a:chExt cx="4038480" cy="3032280"/>
              </a:xfrm>
            </p:grpSpPr>
            <p:sp>
              <p:nvSpPr>
                <p:cNvPr id="154" name="Freeform 9"/>
                <p:cNvSpPr/>
                <p:nvPr/>
              </p:nvSpPr>
              <p:spPr>
                <a:xfrm>
                  <a:off x="6786720" y="3909240"/>
                  <a:ext cx="303840" cy="208800"/>
                </a:xfrm>
                <a:custGeom>
                  <a:avLst/>
                  <a:gdLst>
                    <a:gd name="textAreaLeft" fmla="*/ 0 w 303840"/>
                    <a:gd name="textAreaRight" fmla="*/ 304200 w 303840"/>
                    <a:gd name="textAreaTop" fmla="*/ 0 h 208800"/>
                    <a:gd name="textAreaBottom" fmla="*/ 209160 h 208800"/>
                  </a:gdLst>
                  <a:ahLst/>
                  <a:rect l="textAreaLeft" t="textAreaTop" r="textAreaRight" b="textAreaBottom"/>
                  <a:pathLst>
                    <a:path w="304" h="215">
                      <a:moveTo>
                        <a:pt x="304" y="30"/>
                      </a:moveTo>
                      <a:lnTo>
                        <a:pt x="298" y="48"/>
                      </a:lnTo>
                      <a:lnTo>
                        <a:pt x="274" y="54"/>
                      </a:lnTo>
                      <a:lnTo>
                        <a:pt x="268" y="60"/>
                      </a:lnTo>
                      <a:lnTo>
                        <a:pt x="256" y="90"/>
                      </a:lnTo>
                      <a:lnTo>
                        <a:pt x="239" y="102"/>
                      </a:lnTo>
                      <a:lnTo>
                        <a:pt x="221" y="119"/>
                      </a:lnTo>
                      <a:lnTo>
                        <a:pt x="203" y="119"/>
                      </a:lnTo>
                      <a:lnTo>
                        <a:pt x="191" y="137"/>
                      </a:lnTo>
                      <a:lnTo>
                        <a:pt x="173" y="167"/>
                      </a:lnTo>
                      <a:lnTo>
                        <a:pt x="155" y="179"/>
                      </a:lnTo>
                      <a:lnTo>
                        <a:pt x="149" y="191"/>
                      </a:lnTo>
                      <a:lnTo>
                        <a:pt x="149" y="209"/>
                      </a:lnTo>
                      <a:lnTo>
                        <a:pt x="137" y="209"/>
                      </a:lnTo>
                      <a:lnTo>
                        <a:pt x="125" y="215"/>
                      </a:lnTo>
                      <a:lnTo>
                        <a:pt x="119" y="209"/>
                      </a:lnTo>
                      <a:lnTo>
                        <a:pt x="95" y="203"/>
                      </a:lnTo>
                      <a:lnTo>
                        <a:pt x="83" y="185"/>
                      </a:lnTo>
                      <a:lnTo>
                        <a:pt x="66" y="173"/>
                      </a:lnTo>
                      <a:lnTo>
                        <a:pt x="54" y="167"/>
                      </a:lnTo>
                      <a:lnTo>
                        <a:pt x="24" y="143"/>
                      </a:lnTo>
                      <a:lnTo>
                        <a:pt x="6" y="131"/>
                      </a:lnTo>
                      <a:lnTo>
                        <a:pt x="0" y="119"/>
                      </a:lnTo>
                      <a:lnTo>
                        <a:pt x="24" y="113"/>
                      </a:lnTo>
                      <a:lnTo>
                        <a:pt x="42" y="125"/>
                      </a:lnTo>
                      <a:lnTo>
                        <a:pt x="60" y="143"/>
                      </a:lnTo>
                      <a:lnTo>
                        <a:pt x="71" y="143"/>
                      </a:lnTo>
                      <a:lnTo>
                        <a:pt x="101" y="137"/>
                      </a:lnTo>
                      <a:lnTo>
                        <a:pt x="113" y="119"/>
                      </a:lnTo>
                      <a:lnTo>
                        <a:pt x="119" y="113"/>
                      </a:lnTo>
                      <a:lnTo>
                        <a:pt x="125" y="84"/>
                      </a:lnTo>
                      <a:lnTo>
                        <a:pt x="125" y="78"/>
                      </a:lnTo>
                      <a:lnTo>
                        <a:pt x="107" y="66"/>
                      </a:lnTo>
                      <a:lnTo>
                        <a:pt x="95" y="60"/>
                      </a:lnTo>
                      <a:lnTo>
                        <a:pt x="89" y="54"/>
                      </a:lnTo>
                      <a:lnTo>
                        <a:pt x="89" y="42"/>
                      </a:lnTo>
                      <a:lnTo>
                        <a:pt x="83" y="24"/>
                      </a:lnTo>
                      <a:lnTo>
                        <a:pt x="71" y="18"/>
                      </a:lnTo>
                      <a:lnTo>
                        <a:pt x="71" y="12"/>
                      </a:lnTo>
                      <a:lnTo>
                        <a:pt x="77" y="12"/>
                      </a:lnTo>
                      <a:lnTo>
                        <a:pt x="89" y="12"/>
                      </a:lnTo>
                      <a:lnTo>
                        <a:pt x="107" y="6"/>
                      </a:lnTo>
                      <a:lnTo>
                        <a:pt x="119" y="6"/>
                      </a:lnTo>
                      <a:lnTo>
                        <a:pt x="125" y="18"/>
                      </a:lnTo>
                      <a:lnTo>
                        <a:pt x="131" y="24"/>
                      </a:lnTo>
                      <a:lnTo>
                        <a:pt x="155" y="24"/>
                      </a:lnTo>
                      <a:lnTo>
                        <a:pt x="179" y="18"/>
                      </a:lnTo>
                      <a:lnTo>
                        <a:pt x="191" y="0"/>
                      </a:lnTo>
                      <a:lnTo>
                        <a:pt x="197" y="0"/>
                      </a:lnTo>
                      <a:lnTo>
                        <a:pt x="215" y="0"/>
                      </a:lnTo>
                      <a:lnTo>
                        <a:pt x="233" y="0"/>
                      </a:lnTo>
                      <a:lnTo>
                        <a:pt x="262" y="0"/>
                      </a:lnTo>
                      <a:lnTo>
                        <a:pt x="274" y="6"/>
                      </a:lnTo>
                      <a:lnTo>
                        <a:pt x="292" y="12"/>
                      </a:lnTo>
                      <a:lnTo>
                        <a:pt x="304" y="3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10"/>
                <p:cNvSpPr/>
                <p:nvPr/>
              </p:nvSpPr>
              <p:spPr>
                <a:xfrm>
                  <a:off x="6935400" y="3909240"/>
                  <a:ext cx="226800" cy="20304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27" h="209">
                      <a:moveTo>
                        <a:pt x="0" y="209"/>
                      </a:moveTo>
                      <a:lnTo>
                        <a:pt x="0" y="191"/>
                      </a:lnTo>
                      <a:lnTo>
                        <a:pt x="6" y="179"/>
                      </a:lnTo>
                      <a:lnTo>
                        <a:pt x="24" y="167"/>
                      </a:lnTo>
                      <a:lnTo>
                        <a:pt x="42" y="137"/>
                      </a:lnTo>
                      <a:lnTo>
                        <a:pt x="54" y="119"/>
                      </a:lnTo>
                      <a:lnTo>
                        <a:pt x="72" y="119"/>
                      </a:lnTo>
                      <a:lnTo>
                        <a:pt x="90" y="102"/>
                      </a:lnTo>
                      <a:lnTo>
                        <a:pt x="107" y="90"/>
                      </a:lnTo>
                      <a:lnTo>
                        <a:pt x="119" y="60"/>
                      </a:lnTo>
                      <a:lnTo>
                        <a:pt x="125" y="54"/>
                      </a:lnTo>
                      <a:lnTo>
                        <a:pt x="149" y="48"/>
                      </a:lnTo>
                      <a:lnTo>
                        <a:pt x="155" y="30"/>
                      </a:lnTo>
                      <a:lnTo>
                        <a:pt x="155" y="12"/>
                      </a:lnTo>
                      <a:lnTo>
                        <a:pt x="161" y="12"/>
                      </a:lnTo>
                      <a:lnTo>
                        <a:pt x="173" y="0"/>
                      </a:lnTo>
                      <a:lnTo>
                        <a:pt x="203" y="6"/>
                      </a:lnTo>
                      <a:lnTo>
                        <a:pt x="221" y="6"/>
                      </a:lnTo>
                      <a:lnTo>
                        <a:pt x="227" y="24"/>
                      </a:lnTo>
                      <a:lnTo>
                        <a:pt x="215" y="30"/>
                      </a:lnTo>
                      <a:lnTo>
                        <a:pt x="215" y="48"/>
                      </a:lnTo>
                      <a:lnTo>
                        <a:pt x="209" y="66"/>
                      </a:lnTo>
                      <a:lnTo>
                        <a:pt x="215" y="96"/>
                      </a:lnTo>
                      <a:lnTo>
                        <a:pt x="215" y="107"/>
                      </a:lnTo>
                      <a:lnTo>
                        <a:pt x="197" y="137"/>
                      </a:lnTo>
                      <a:lnTo>
                        <a:pt x="185" y="149"/>
                      </a:lnTo>
                      <a:lnTo>
                        <a:pt x="179" y="155"/>
                      </a:lnTo>
                      <a:lnTo>
                        <a:pt x="167" y="155"/>
                      </a:lnTo>
                      <a:lnTo>
                        <a:pt x="167" y="149"/>
                      </a:lnTo>
                      <a:lnTo>
                        <a:pt x="167" y="131"/>
                      </a:lnTo>
                      <a:lnTo>
                        <a:pt x="161" y="125"/>
                      </a:lnTo>
                      <a:lnTo>
                        <a:pt x="155" y="119"/>
                      </a:lnTo>
                      <a:lnTo>
                        <a:pt x="131" y="125"/>
                      </a:lnTo>
                      <a:lnTo>
                        <a:pt x="119" y="131"/>
                      </a:lnTo>
                      <a:lnTo>
                        <a:pt x="113" y="143"/>
                      </a:lnTo>
                      <a:lnTo>
                        <a:pt x="107" y="167"/>
                      </a:lnTo>
                      <a:lnTo>
                        <a:pt x="90" y="173"/>
                      </a:lnTo>
                      <a:lnTo>
                        <a:pt x="90" y="185"/>
                      </a:lnTo>
                      <a:lnTo>
                        <a:pt x="90" y="191"/>
                      </a:lnTo>
                      <a:lnTo>
                        <a:pt x="60" y="197"/>
                      </a:lnTo>
                      <a:lnTo>
                        <a:pt x="54" y="203"/>
                      </a:lnTo>
                      <a:lnTo>
                        <a:pt x="18" y="209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11"/>
                <p:cNvSpPr/>
                <p:nvPr/>
              </p:nvSpPr>
              <p:spPr>
                <a:xfrm>
                  <a:off x="6911640" y="4025160"/>
                  <a:ext cx="232560" cy="214560"/>
                </a:xfrm>
                <a:custGeom>
                  <a:avLst/>
                  <a:gdLst>
                    <a:gd name="textAreaLeft" fmla="*/ 0 w 232560"/>
                    <a:gd name="textAreaRight" fmla="*/ 232920 w 23256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233" h="221">
                      <a:moveTo>
                        <a:pt x="24" y="90"/>
                      </a:moveTo>
                      <a:lnTo>
                        <a:pt x="42" y="90"/>
                      </a:lnTo>
                      <a:lnTo>
                        <a:pt x="78" y="84"/>
                      </a:lnTo>
                      <a:lnTo>
                        <a:pt x="84" y="78"/>
                      </a:lnTo>
                      <a:lnTo>
                        <a:pt x="114" y="72"/>
                      </a:lnTo>
                      <a:lnTo>
                        <a:pt x="114" y="66"/>
                      </a:lnTo>
                      <a:lnTo>
                        <a:pt x="114" y="54"/>
                      </a:lnTo>
                      <a:lnTo>
                        <a:pt x="131" y="48"/>
                      </a:lnTo>
                      <a:lnTo>
                        <a:pt x="137" y="24"/>
                      </a:lnTo>
                      <a:lnTo>
                        <a:pt x="143" y="12"/>
                      </a:lnTo>
                      <a:lnTo>
                        <a:pt x="155" y="6"/>
                      </a:lnTo>
                      <a:lnTo>
                        <a:pt x="179" y="0"/>
                      </a:lnTo>
                      <a:lnTo>
                        <a:pt x="185" y="6"/>
                      </a:lnTo>
                      <a:lnTo>
                        <a:pt x="191" y="12"/>
                      </a:lnTo>
                      <a:lnTo>
                        <a:pt x="191" y="30"/>
                      </a:lnTo>
                      <a:lnTo>
                        <a:pt x="191" y="36"/>
                      </a:lnTo>
                      <a:lnTo>
                        <a:pt x="203" y="36"/>
                      </a:lnTo>
                      <a:lnTo>
                        <a:pt x="209" y="30"/>
                      </a:lnTo>
                      <a:lnTo>
                        <a:pt x="221" y="18"/>
                      </a:lnTo>
                      <a:lnTo>
                        <a:pt x="227" y="30"/>
                      </a:lnTo>
                      <a:lnTo>
                        <a:pt x="233" y="42"/>
                      </a:lnTo>
                      <a:lnTo>
                        <a:pt x="233" y="60"/>
                      </a:lnTo>
                      <a:lnTo>
                        <a:pt x="227" y="90"/>
                      </a:lnTo>
                      <a:lnTo>
                        <a:pt x="221" y="108"/>
                      </a:lnTo>
                      <a:lnTo>
                        <a:pt x="209" y="114"/>
                      </a:lnTo>
                      <a:lnTo>
                        <a:pt x="203" y="126"/>
                      </a:lnTo>
                      <a:lnTo>
                        <a:pt x="203" y="138"/>
                      </a:lnTo>
                      <a:lnTo>
                        <a:pt x="203" y="162"/>
                      </a:lnTo>
                      <a:lnTo>
                        <a:pt x="185" y="168"/>
                      </a:lnTo>
                      <a:lnTo>
                        <a:pt x="173" y="168"/>
                      </a:lnTo>
                      <a:lnTo>
                        <a:pt x="167" y="173"/>
                      </a:lnTo>
                      <a:lnTo>
                        <a:pt x="167" y="185"/>
                      </a:lnTo>
                      <a:lnTo>
                        <a:pt x="167" y="197"/>
                      </a:lnTo>
                      <a:lnTo>
                        <a:pt x="137" y="209"/>
                      </a:lnTo>
                      <a:lnTo>
                        <a:pt x="131" y="221"/>
                      </a:lnTo>
                      <a:lnTo>
                        <a:pt x="119" y="215"/>
                      </a:lnTo>
                      <a:lnTo>
                        <a:pt x="96" y="215"/>
                      </a:lnTo>
                      <a:lnTo>
                        <a:pt x="84" y="209"/>
                      </a:lnTo>
                      <a:lnTo>
                        <a:pt x="60" y="209"/>
                      </a:lnTo>
                      <a:lnTo>
                        <a:pt x="48" y="209"/>
                      </a:lnTo>
                      <a:lnTo>
                        <a:pt x="48" y="185"/>
                      </a:lnTo>
                      <a:lnTo>
                        <a:pt x="48" y="168"/>
                      </a:lnTo>
                      <a:lnTo>
                        <a:pt x="48" y="150"/>
                      </a:lnTo>
                      <a:lnTo>
                        <a:pt x="36" y="138"/>
                      </a:lnTo>
                      <a:lnTo>
                        <a:pt x="24" y="132"/>
                      </a:lnTo>
                      <a:lnTo>
                        <a:pt x="12" y="132"/>
                      </a:lnTo>
                      <a:lnTo>
                        <a:pt x="6" y="114"/>
                      </a:lnTo>
                      <a:lnTo>
                        <a:pt x="0" y="96"/>
                      </a:lnTo>
                      <a:lnTo>
                        <a:pt x="12" y="90"/>
                      </a:lnTo>
                      <a:lnTo>
                        <a:pt x="24" y="9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12"/>
                <p:cNvSpPr/>
                <p:nvPr/>
              </p:nvSpPr>
              <p:spPr>
                <a:xfrm>
                  <a:off x="6822720" y="4077360"/>
                  <a:ext cx="100800" cy="18540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01" h="191">
                      <a:moveTo>
                        <a:pt x="30" y="0"/>
                      </a:moveTo>
                      <a:lnTo>
                        <a:pt x="47" y="12"/>
                      </a:lnTo>
                      <a:lnTo>
                        <a:pt x="59" y="30"/>
                      </a:lnTo>
                      <a:lnTo>
                        <a:pt x="83" y="36"/>
                      </a:lnTo>
                      <a:lnTo>
                        <a:pt x="89" y="42"/>
                      </a:lnTo>
                      <a:lnTo>
                        <a:pt x="95" y="60"/>
                      </a:lnTo>
                      <a:lnTo>
                        <a:pt x="101" y="78"/>
                      </a:lnTo>
                      <a:lnTo>
                        <a:pt x="101" y="96"/>
                      </a:lnTo>
                      <a:lnTo>
                        <a:pt x="101" y="125"/>
                      </a:lnTo>
                      <a:lnTo>
                        <a:pt x="101" y="143"/>
                      </a:lnTo>
                      <a:lnTo>
                        <a:pt x="89" y="161"/>
                      </a:lnTo>
                      <a:lnTo>
                        <a:pt x="71" y="179"/>
                      </a:lnTo>
                      <a:lnTo>
                        <a:pt x="65" y="191"/>
                      </a:lnTo>
                      <a:lnTo>
                        <a:pt x="30" y="167"/>
                      </a:lnTo>
                      <a:lnTo>
                        <a:pt x="24" y="167"/>
                      </a:lnTo>
                      <a:lnTo>
                        <a:pt x="18" y="161"/>
                      </a:lnTo>
                      <a:lnTo>
                        <a:pt x="6" y="149"/>
                      </a:lnTo>
                      <a:lnTo>
                        <a:pt x="6" y="137"/>
                      </a:lnTo>
                      <a:lnTo>
                        <a:pt x="0" y="119"/>
                      </a:lnTo>
                      <a:lnTo>
                        <a:pt x="6" y="108"/>
                      </a:lnTo>
                      <a:lnTo>
                        <a:pt x="6" y="102"/>
                      </a:lnTo>
                      <a:lnTo>
                        <a:pt x="12" y="96"/>
                      </a:lnTo>
                      <a:lnTo>
                        <a:pt x="12" y="48"/>
                      </a:lnTo>
                      <a:lnTo>
                        <a:pt x="24" y="18"/>
                      </a:lnTo>
                      <a:lnTo>
                        <a:pt x="24" y="12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13"/>
                <p:cNvSpPr/>
                <p:nvPr/>
              </p:nvSpPr>
              <p:spPr>
                <a:xfrm>
                  <a:off x="6792480" y="4176720"/>
                  <a:ext cx="47880" cy="687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48" h="71">
                      <a:moveTo>
                        <a:pt x="36" y="0"/>
                      </a:moveTo>
                      <a:lnTo>
                        <a:pt x="36" y="6"/>
                      </a:lnTo>
                      <a:lnTo>
                        <a:pt x="30" y="17"/>
                      </a:lnTo>
                      <a:lnTo>
                        <a:pt x="36" y="35"/>
                      </a:lnTo>
                      <a:lnTo>
                        <a:pt x="36" y="47"/>
                      </a:lnTo>
                      <a:lnTo>
                        <a:pt x="48" y="59"/>
                      </a:lnTo>
                      <a:lnTo>
                        <a:pt x="42" y="59"/>
                      </a:lnTo>
                      <a:lnTo>
                        <a:pt x="36" y="71"/>
                      </a:lnTo>
                      <a:lnTo>
                        <a:pt x="12" y="71"/>
                      </a:lnTo>
                      <a:lnTo>
                        <a:pt x="12" y="65"/>
                      </a:lnTo>
                      <a:lnTo>
                        <a:pt x="18" y="59"/>
                      </a:lnTo>
                      <a:lnTo>
                        <a:pt x="18" y="47"/>
                      </a:lnTo>
                      <a:lnTo>
                        <a:pt x="12" y="23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4"/>
                <p:cNvSpPr/>
                <p:nvPr/>
              </p:nvSpPr>
              <p:spPr>
                <a:xfrm>
                  <a:off x="6834240" y="4564440"/>
                  <a:ext cx="118800" cy="19692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19" h="203">
                      <a:moveTo>
                        <a:pt x="12" y="12"/>
                      </a:moveTo>
                      <a:lnTo>
                        <a:pt x="53" y="6"/>
                      </a:lnTo>
                      <a:lnTo>
                        <a:pt x="71" y="0"/>
                      </a:lnTo>
                      <a:lnTo>
                        <a:pt x="83" y="6"/>
                      </a:lnTo>
                      <a:lnTo>
                        <a:pt x="77" y="18"/>
                      </a:lnTo>
                      <a:lnTo>
                        <a:pt x="83" y="24"/>
                      </a:lnTo>
                      <a:lnTo>
                        <a:pt x="89" y="30"/>
                      </a:lnTo>
                      <a:lnTo>
                        <a:pt x="95" y="48"/>
                      </a:lnTo>
                      <a:lnTo>
                        <a:pt x="113" y="60"/>
                      </a:lnTo>
                      <a:lnTo>
                        <a:pt x="113" y="72"/>
                      </a:lnTo>
                      <a:lnTo>
                        <a:pt x="119" y="90"/>
                      </a:lnTo>
                      <a:lnTo>
                        <a:pt x="107" y="108"/>
                      </a:lnTo>
                      <a:lnTo>
                        <a:pt x="95" y="114"/>
                      </a:lnTo>
                      <a:lnTo>
                        <a:pt x="83" y="114"/>
                      </a:lnTo>
                      <a:lnTo>
                        <a:pt x="89" y="126"/>
                      </a:lnTo>
                      <a:lnTo>
                        <a:pt x="83" y="132"/>
                      </a:lnTo>
                      <a:lnTo>
                        <a:pt x="77" y="132"/>
                      </a:lnTo>
                      <a:lnTo>
                        <a:pt x="77" y="138"/>
                      </a:lnTo>
                      <a:lnTo>
                        <a:pt x="83" y="156"/>
                      </a:lnTo>
                      <a:lnTo>
                        <a:pt x="71" y="167"/>
                      </a:lnTo>
                      <a:lnTo>
                        <a:pt x="77" y="185"/>
                      </a:lnTo>
                      <a:lnTo>
                        <a:pt x="65" y="191"/>
                      </a:lnTo>
                      <a:lnTo>
                        <a:pt x="59" y="191"/>
                      </a:lnTo>
                      <a:lnTo>
                        <a:pt x="47" y="203"/>
                      </a:lnTo>
                      <a:lnTo>
                        <a:pt x="41" y="191"/>
                      </a:lnTo>
                      <a:lnTo>
                        <a:pt x="29" y="161"/>
                      </a:lnTo>
                      <a:lnTo>
                        <a:pt x="18" y="144"/>
                      </a:lnTo>
                      <a:lnTo>
                        <a:pt x="18" y="138"/>
                      </a:lnTo>
                      <a:lnTo>
                        <a:pt x="12" y="126"/>
                      </a:lnTo>
                      <a:lnTo>
                        <a:pt x="12" y="108"/>
                      </a:lnTo>
                      <a:lnTo>
                        <a:pt x="12" y="102"/>
                      </a:lnTo>
                      <a:lnTo>
                        <a:pt x="12" y="96"/>
                      </a:lnTo>
                      <a:lnTo>
                        <a:pt x="12" y="90"/>
                      </a:lnTo>
                      <a:lnTo>
                        <a:pt x="12" y="84"/>
                      </a:lnTo>
                      <a:lnTo>
                        <a:pt x="0" y="72"/>
                      </a:lnTo>
                      <a:lnTo>
                        <a:pt x="0" y="66"/>
                      </a:lnTo>
                      <a:lnTo>
                        <a:pt x="6" y="48"/>
                      </a:lnTo>
                      <a:lnTo>
                        <a:pt x="6" y="36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15"/>
                <p:cNvSpPr/>
                <p:nvPr/>
              </p:nvSpPr>
              <p:spPr>
                <a:xfrm>
                  <a:off x="6118560" y="5080320"/>
                  <a:ext cx="208800" cy="19116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191160"/>
                    <a:gd name="textAreaBottom" fmla="*/ 191520 h 1911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31" y="120"/>
                      </a:moveTo>
                      <a:lnTo>
                        <a:pt x="113" y="120"/>
                      </a:lnTo>
                      <a:lnTo>
                        <a:pt x="113" y="144"/>
                      </a:lnTo>
                      <a:lnTo>
                        <a:pt x="107" y="156"/>
                      </a:lnTo>
                      <a:lnTo>
                        <a:pt x="107" y="168"/>
                      </a:lnTo>
                      <a:lnTo>
                        <a:pt x="83" y="197"/>
                      </a:lnTo>
                      <a:lnTo>
                        <a:pt x="71" y="173"/>
                      </a:lnTo>
                      <a:lnTo>
                        <a:pt x="65" y="162"/>
                      </a:lnTo>
                      <a:lnTo>
                        <a:pt x="53" y="150"/>
                      </a:lnTo>
                      <a:lnTo>
                        <a:pt x="36" y="150"/>
                      </a:lnTo>
                      <a:lnTo>
                        <a:pt x="12" y="150"/>
                      </a:lnTo>
                      <a:lnTo>
                        <a:pt x="6" y="144"/>
                      </a:lnTo>
                      <a:lnTo>
                        <a:pt x="0" y="120"/>
                      </a:lnTo>
                      <a:lnTo>
                        <a:pt x="12" y="108"/>
                      </a:lnTo>
                      <a:lnTo>
                        <a:pt x="18" y="96"/>
                      </a:lnTo>
                      <a:lnTo>
                        <a:pt x="18" y="84"/>
                      </a:lnTo>
                      <a:lnTo>
                        <a:pt x="12" y="60"/>
                      </a:lnTo>
                      <a:lnTo>
                        <a:pt x="12" y="54"/>
                      </a:lnTo>
                      <a:lnTo>
                        <a:pt x="24" y="48"/>
                      </a:lnTo>
                      <a:lnTo>
                        <a:pt x="30" y="30"/>
                      </a:lnTo>
                      <a:lnTo>
                        <a:pt x="36" y="24"/>
                      </a:lnTo>
                      <a:lnTo>
                        <a:pt x="30" y="6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53" y="12"/>
                      </a:lnTo>
                      <a:lnTo>
                        <a:pt x="53" y="18"/>
                      </a:lnTo>
                      <a:lnTo>
                        <a:pt x="65" y="24"/>
                      </a:lnTo>
                      <a:lnTo>
                        <a:pt x="95" y="18"/>
                      </a:lnTo>
                      <a:lnTo>
                        <a:pt x="95" y="12"/>
                      </a:lnTo>
                      <a:lnTo>
                        <a:pt x="137" y="18"/>
                      </a:lnTo>
                      <a:lnTo>
                        <a:pt x="143" y="36"/>
                      </a:lnTo>
                      <a:lnTo>
                        <a:pt x="161" y="36"/>
                      </a:lnTo>
                      <a:lnTo>
                        <a:pt x="191" y="48"/>
                      </a:lnTo>
                      <a:lnTo>
                        <a:pt x="203" y="60"/>
                      </a:lnTo>
                      <a:lnTo>
                        <a:pt x="209" y="78"/>
                      </a:lnTo>
                      <a:lnTo>
                        <a:pt x="173" y="72"/>
                      </a:lnTo>
                      <a:lnTo>
                        <a:pt x="131" y="72"/>
                      </a:lnTo>
                      <a:lnTo>
                        <a:pt x="119" y="78"/>
                      </a:lnTo>
                      <a:lnTo>
                        <a:pt x="119" y="84"/>
                      </a:lnTo>
                      <a:lnTo>
                        <a:pt x="113" y="108"/>
                      </a:lnTo>
                      <a:lnTo>
                        <a:pt x="119" y="114"/>
                      </a:lnTo>
                      <a:lnTo>
                        <a:pt x="131" y="12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16"/>
                <p:cNvSpPr/>
                <p:nvPr/>
              </p:nvSpPr>
              <p:spPr>
                <a:xfrm>
                  <a:off x="6195600" y="5196960"/>
                  <a:ext cx="113760" cy="17388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173880"/>
                    <a:gd name="textAreaBottom" fmla="*/ 174240 h 173880"/>
                  </a:gdLst>
                  <a:ahLst/>
                  <a:rect l="textAreaLeft" t="textAreaTop" r="textAreaRight" b="textAreaBottom"/>
                  <a:pathLst>
                    <a:path w="114" h="179">
                      <a:moveTo>
                        <a:pt x="6" y="77"/>
                      </a:moveTo>
                      <a:lnTo>
                        <a:pt x="30" y="48"/>
                      </a:lnTo>
                      <a:lnTo>
                        <a:pt x="30" y="36"/>
                      </a:lnTo>
                      <a:lnTo>
                        <a:pt x="36" y="24"/>
                      </a:lnTo>
                      <a:lnTo>
                        <a:pt x="36" y="0"/>
                      </a:lnTo>
                      <a:lnTo>
                        <a:pt x="54" y="0"/>
                      </a:lnTo>
                      <a:lnTo>
                        <a:pt x="66" y="12"/>
                      </a:lnTo>
                      <a:lnTo>
                        <a:pt x="72" y="24"/>
                      </a:lnTo>
                      <a:lnTo>
                        <a:pt x="78" y="53"/>
                      </a:lnTo>
                      <a:lnTo>
                        <a:pt x="90" y="77"/>
                      </a:lnTo>
                      <a:lnTo>
                        <a:pt x="96" y="101"/>
                      </a:lnTo>
                      <a:lnTo>
                        <a:pt x="102" y="119"/>
                      </a:lnTo>
                      <a:lnTo>
                        <a:pt x="108" y="137"/>
                      </a:lnTo>
                      <a:lnTo>
                        <a:pt x="108" y="155"/>
                      </a:lnTo>
                      <a:lnTo>
                        <a:pt x="114" y="179"/>
                      </a:lnTo>
                      <a:lnTo>
                        <a:pt x="96" y="179"/>
                      </a:lnTo>
                      <a:lnTo>
                        <a:pt x="84" y="167"/>
                      </a:lnTo>
                      <a:lnTo>
                        <a:pt x="60" y="155"/>
                      </a:lnTo>
                      <a:lnTo>
                        <a:pt x="48" y="167"/>
                      </a:lnTo>
                      <a:lnTo>
                        <a:pt x="30" y="173"/>
                      </a:lnTo>
                      <a:lnTo>
                        <a:pt x="24" y="173"/>
                      </a:lnTo>
                      <a:lnTo>
                        <a:pt x="18" y="161"/>
                      </a:lnTo>
                      <a:lnTo>
                        <a:pt x="18" y="131"/>
                      </a:lnTo>
                      <a:lnTo>
                        <a:pt x="6" y="125"/>
                      </a:lnTo>
                      <a:lnTo>
                        <a:pt x="6" y="113"/>
                      </a:lnTo>
                      <a:lnTo>
                        <a:pt x="6" y="107"/>
                      </a:lnTo>
                      <a:lnTo>
                        <a:pt x="0" y="77"/>
                      </a:lnTo>
                      <a:lnTo>
                        <a:pt x="6" y="77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17"/>
                <p:cNvSpPr/>
                <p:nvPr/>
              </p:nvSpPr>
              <p:spPr>
                <a:xfrm>
                  <a:off x="6082560" y="5220360"/>
                  <a:ext cx="118800" cy="1623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119" h="167">
                      <a:moveTo>
                        <a:pt x="42" y="0"/>
                      </a:moveTo>
                      <a:lnTo>
                        <a:pt x="48" y="6"/>
                      </a:lnTo>
                      <a:lnTo>
                        <a:pt x="72" y="6"/>
                      </a:lnTo>
                      <a:lnTo>
                        <a:pt x="89" y="6"/>
                      </a:lnTo>
                      <a:lnTo>
                        <a:pt x="101" y="18"/>
                      </a:lnTo>
                      <a:lnTo>
                        <a:pt x="107" y="29"/>
                      </a:lnTo>
                      <a:lnTo>
                        <a:pt x="119" y="53"/>
                      </a:lnTo>
                      <a:lnTo>
                        <a:pt x="113" y="53"/>
                      </a:lnTo>
                      <a:lnTo>
                        <a:pt x="119" y="83"/>
                      </a:lnTo>
                      <a:lnTo>
                        <a:pt x="119" y="89"/>
                      </a:lnTo>
                      <a:lnTo>
                        <a:pt x="119" y="101"/>
                      </a:lnTo>
                      <a:lnTo>
                        <a:pt x="107" y="107"/>
                      </a:lnTo>
                      <a:lnTo>
                        <a:pt x="101" y="113"/>
                      </a:lnTo>
                      <a:lnTo>
                        <a:pt x="101" y="101"/>
                      </a:lnTo>
                      <a:lnTo>
                        <a:pt x="89" y="101"/>
                      </a:lnTo>
                      <a:lnTo>
                        <a:pt x="84" y="101"/>
                      </a:lnTo>
                      <a:lnTo>
                        <a:pt x="54" y="143"/>
                      </a:lnTo>
                      <a:lnTo>
                        <a:pt x="30" y="167"/>
                      </a:lnTo>
                      <a:lnTo>
                        <a:pt x="18" y="149"/>
                      </a:lnTo>
                      <a:lnTo>
                        <a:pt x="24" y="131"/>
                      </a:lnTo>
                      <a:lnTo>
                        <a:pt x="24" y="107"/>
                      </a:lnTo>
                      <a:lnTo>
                        <a:pt x="30" y="95"/>
                      </a:lnTo>
                      <a:lnTo>
                        <a:pt x="24" y="89"/>
                      </a:lnTo>
                      <a:lnTo>
                        <a:pt x="24" y="83"/>
                      </a:lnTo>
                      <a:lnTo>
                        <a:pt x="18" y="77"/>
                      </a:lnTo>
                      <a:lnTo>
                        <a:pt x="6" y="65"/>
                      </a:lnTo>
                      <a:lnTo>
                        <a:pt x="0" y="53"/>
                      </a:lnTo>
                      <a:lnTo>
                        <a:pt x="6" y="47"/>
                      </a:lnTo>
                      <a:lnTo>
                        <a:pt x="18" y="2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8"/>
                <p:cNvSpPr/>
                <p:nvPr/>
              </p:nvSpPr>
              <p:spPr>
                <a:xfrm>
                  <a:off x="5623560" y="5538960"/>
                  <a:ext cx="172800" cy="13284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173" h="137">
                      <a:moveTo>
                        <a:pt x="18" y="95"/>
                      </a:moveTo>
                      <a:lnTo>
                        <a:pt x="12" y="89"/>
                      </a:lnTo>
                      <a:lnTo>
                        <a:pt x="6" y="83"/>
                      </a:lnTo>
                      <a:lnTo>
                        <a:pt x="0" y="77"/>
                      </a:lnTo>
                      <a:lnTo>
                        <a:pt x="6" y="54"/>
                      </a:lnTo>
                      <a:lnTo>
                        <a:pt x="0" y="42"/>
                      </a:lnTo>
                      <a:lnTo>
                        <a:pt x="12" y="36"/>
                      </a:lnTo>
                      <a:lnTo>
                        <a:pt x="18" y="30"/>
                      </a:lnTo>
                      <a:lnTo>
                        <a:pt x="24" y="24"/>
                      </a:lnTo>
                      <a:lnTo>
                        <a:pt x="29" y="24"/>
                      </a:lnTo>
                      <a:lnTo>
                        <a:pt x="41" y="18"/>
                      </a:lnTo>
                      <a:lnTo>
                        <a:pt x="71" y="6"/>
                      </a:lnTo>
                      <a:lnTo>
                        <a:pt x="83" y="0"/>
                      </a:lnTo>
                      <a:lnTo>
                        <a:pt x="95" y="0"/>
                      </a:lnTo>
                      <a:lnTo>
                        <a:pt x="119" y="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3" y="6"/>
                      </a:lnTo>
                      <a:lnTo>
                        <a:pt x="167" y="24"/>
                      </a:lnTo>
                      <a:lnTo>
                        <a:pt x="167" y="36"/>
                      </a:lnTo>
                      <a:lnTo>
                        <a:pt x="161" y="54"/>
                      </a:lnTo>
                      <a:lnTo>
                        <a:pt x="161" y="77"/>
                      </a:lnTo>
                      <a:lnTo>
                        <a:pt x="149" y="83"/>
                      </a:lnTo>
                      <a:lnTo>
                        <a:pt x="137" y="119"/>
                      </a:lnTo>
                      <a:lnTo>
                        <a:pt x="119" y="137"/>
                      </a:lnTo>
                      <a:lnTo>
                        <a:pt x="107" y="131"/>
                      </a:lnTo>
                      <a:lnTo>
                        <a:pt x="89" y="119"/>
                      </a:lnTo>
                      <a:lnTo>
                        <a:pt x="65" y="107"/>
                      </a:lnTo>
                      <a:lnTo>
                        <a:pt x="24" y="95"/>
                      </a:lnTo>
                      <a:lnTo>
                        <a:pt x="18" y="95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9"/>
                <p:cNvSpPr/>
                <p:nvPr/>
              </p:nvSpPr>
              <p:spPr>
                <a:xfrm>
                  <a:off x="5515560" y="5580000"/>
                  <a:ext cx="136800" cy="14472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137" h="149">
                      <a:moveTo>
                        <a:pt x="108" y="0"/>
                      </a:moveTo>
                      <a:lnTo>
                        <a:pt x="114" y="12"/>
                      </a:lnTo>
                      <a:lnTo>
                        <a:pt x="108" y="35"/>
                      </a:lnTo>
                      <a:lnTo>
                        <a:pt x="114" y="41"/>
                      </a:lnTo>
                      <a:lnTo>
                        <a:pt x="120" y="47"/>
                      </a:lnTo>
                      <a:lnTo>
                        <a:pt x="126" y="53"/>
                      </a:lnTo>
                      <a:lnTo>
                        <a:pt x="108" y="65"/>
                      </a:lnTo>
                      <a:lnTo>
                        <a:pt x="108" y="71"/>
                      </a:lnTo>
                      <a:lnTo>
                        <a:pt x="108" y="77"/>
                      </a:lnTo>
                      <a:lnTo>
                        <a:pt x="114" y="83"/>
                      </a:lnTo>
                      <a:lnTo>
                        <a:pt x="126" y="101"/>
                      </a:lnTo>
                      <a:lnTo>
                        <a:pt x="132" y="107"/>
                      </a:lnTo>
                      <a:lnTo>
                        <a:pt x="132" y="125"/>
                      </a:lnTo>
                      <a:lnTo>
                        <a:pt x="137" y="131"/>
                      </a:lnTo>
                      <a:lnTo>
                        <a:pt x="132" y="137"/>
                      </a:lnTo>
                      <a:lnTo>
                        <a:pt x="132" y="143"/>
                      </a:lnTo>
                      <a:lnTo>
                        <a:pt x="137" y="149"/>
                      </a:lnTo>
                      <a:lnTo>
                        <a:pt x="126" y="143"/>
                      </a:lnTo>
                      <a:lnTo>
                        <a:pt x="120" y="143"/>
                      </a:lnTo>
                      <a:lnTo>
                        <a:pt x="114" y="131"/>
                      </a:lnTo>
                      <a:lnTo>
                        <a:pt x="108" y="113"/>
                      </a:lnTo>
                      <a:lnTo>
                        <a:pt x="102" y="101"/>
                      </a:lnTo>
                      <a:lnTo>
                        <a:pt x="42" y="83"/>
                      </a:lnTo>
                      <a:lnTo>
                        <a:pt x="30" y="77"/>
                      </a:lnTo>
                      <a:lnTo>
                        <a:pt x="12" y="53"/>
                      </a:lnTo>
                      <a:lnTo>
                        <a:pt x="6" y="47"/>
                      </a:lnTo>
                      <a:lnTo>
                        <a:pt x="0" y="29"/>
                      </a:lnTo>
                      <a:lnTo>
                        <a:pt x="6" y="23"/>
                      </a:lnTo>
                      <a:lnTo>
                        <a:pt x="24" y="12"/>
                      </a:lnTo>
                      <a:lnTo>
                        <a:pt x="48" y="0"/>
                      </a:lnTo>
                      <a:lnTo>
                        <a:pt x="72" y="0"/>
                      </a:lnTo>
                      <a:lnTo>
                        <a:pt x="96" y="6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20"/>
                <p:cNvSpPr/>
                <p:nvPr/>
              </p:nvSpPr>
              <p:spPr>
                <a:xfrm>
                  <a:off x="5742360" y="5608080"/>
                  <a:ext cx="250920" cy="17928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251" h="185">
                      <a:moveTo>
                        <a:pt x="0" y="66"/>
                      </a:moveTo>
                      <a:lnTo>
                        <a:pt x="18" y="48"/>
                      </a:lnTo>
                      <a:lnTo>
                        <a:pt x="30" y="12"/>
                      </a:lnTo>
                      <a:lnTo>
                        <a:pt x="42" y="6"/>
                      </a:lnTo>
                      <a:lnTo>
                        <a:pt x="54" y="0"/>
                      </a:lnTo>
                      <a:lnTo>
                        <a:pt x="78" y="12"/>
                      </a:lnTo>
                      <a:lnTo>
                        <a:pt x="89" y="12"/>
                      </a:lnTo>
                      <a:lnTo>
                        <a:pt x="101" y="12"/>
                      </a:lnTo>
                      <a:lnTo>
                        <a:pt x="119" y="18"/>
                      </a:lnTo>
                      <a:lnTo>
                        <a:pt x="149" y="6"/>
                      </a:lnTo>
                      <a:lnTo>
                        <a:pt x="173" y="6"/>
                      </a:lnTo>
                      <a:lnTo>
                        <a:pt x="179" y="0"/>
                      </a:lnTo>
                      <a:lnTo>
                        <a:pt x="185" y="0"/>
                      </a:lnTo>
                      <a:lnTo>
                        <a:pt x="203" y="6"/>
                      </a:lnTo>
                      <a:lnTo>
                        <a:pt x="209" y="18"/>
                      </a:lnTo>
                      <a:lnTo>
                        <a:pt x="215" y="30"/>
                      </a:lnTo>
                      <a:lnTo>
                        <a:pt x="221" y="30"/>
                      </a:lnTo>
                      <a:lnTo>
                        <a:pt x="227" y="42"/>
                      </a:lnTo>
                      <a:lnTo>
                        <a:pt x="233" y="48"/>
                      </a:lnTo>
                      <a:lnTo>
                        <a:pt x="233" y="60"/>
                      </a:lnTo>
                      <a:lnTo>
                        <a:pt x="245" y="66"/>
                      </a:lnTo>
                      <a:lnTo>
                        <a:pt x="251" y="72"/>
                      </a:lnTo>
                      <a:lnTo>
                        <a:pt x="245" y="108"/>
                      </a:lnTo>
                      <a:lnTo>
                        <a:pt x="245" y="114"/>
                      </a:lnTo>
                      <a:lnTo>
                        <a:pt x="233" y="138"/>
                      </a:lnTo>
                      <a:lnTo>
                        <a:pt x="221" y="168"/>
                      </a:lnTo>
                      <a:lnTo>
                        <a:pt x="203" y="185"/>
                      </a:lnTo>
                      <a:lnTo>
                        <a:pt x="197" y="185"/>
                      </a:lnTo>
                      <a:lnTo>
                        <a:pt x="179" y="173"/>
                      </a:lnTo>
                      <a:lnTo>
                        <a:pt x="173" y="173"/>
                      </a:lnTo>
                      <a:lnTo>
                        <a:pt x="173" y="185"/>
                      </a:lnTo>
                      <a:lnTo>
                        <a:pt x="155" y="173"/>
                      </a:lnTo>
                      <a:lnTo>
                        <a:pt x="143" y="168"/>
                      </a:lnTo>
                      <a:lnTo>
                        <a:pt x="137" y="156"/>
                      </a:lnTo>
                      <a:lnTo>
                        <a:pt x="131" y="138"/>
                      </a:lnTo>
                      <a:lnTo>
                        <a:pt x="131" y="120"/>
                      </a:lnTo>
                      <a:lnTo>
                        <a:pt x="119" y="114"/>
                      </a:lnTo>
                      <a:lnTo>
                        <a:pt x="101" y="108"/>
                      </a:lnTo>
                      <a:lnTo>
                        <a:pt x="72" y="114"/>
                      </a:lnTo>
                      <a:lnTo>
                        <a:pt x="66" y="108"/>
                      </a:lnTo>
                      <a:lnTo>
                        <a:pt x="60" y="102"/>
                      </a:lnTo>
                      <a:lnTo>
                        <a:pt x="48" y="108"/>
                      </a:lnTo>
                      <a:lnTo>
                        <a:pt x="42" y="96"/>
                      </a:lnTo>
                      <a:lnTo>
                        <a:pt x="30" y="96"/>
                      </a:lnTo>
                      <a:lnTo>
                        <a:pt x="12" y="96"/>
                      </a:lnTo>
                      <a:lnTo>
                        <a:pt x="6" y="90"/>
                      </a:lnTo>
                      <a:lnTo>
                        <a:pt x="6" y="84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21"/>
                <p:cNvSpPr/>
                <p:nvPr/>
              </p:nvSpPr>
              <p:spPr>
                <a:xfrm>
                  <a:off x="5462280" y="5625360"/>
                  <a:ext cx="213840" cy="139680"/>
                </a:xfrm>
                <a:custGeom>
                  <a:avLst/>
                  <a:gdLst>
                    <a:gd name="textAreaLeft" fmla="*/ 0 w 213840"/>
                    <a:gd name="textAreaRight" fmla="*/ 214200 w 2138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214" h="144">
                      <a:moveTo>
                        <a:pt x="59" y="0"/>
                      </a:moveTo>
                      <a:lnTo>
                        <a:pt x="65" y="6"/>
                      </a:lnTo>
                      <a:lnTo>
                        <a:pt x="83" y="30"/>
                      </a:lnTo>
                      <a:lnTo>
                        <a:pt x="95" y="36"/>
                      </a:lnTo>
                      <a:lnTo>
                        <a:pt x="155" y="54"/>
                      </a:lnTo>
                      <a:lnTo>
                        <a:pt x="161" y="66"/>
                      </a:lnTo>
                      <a:lnTo>
                        <a:pt x="167" y="84"/>
                      </a:lnTo>
                      <a:lnTo>
                        <a:pt x="173" y="96"/>
                      </a:lnTo>
                      <a:lnTo>
                        <a:pt x="179" y="96"/>
                      </a:lnTo>
                      <a:lnTo>
                        <a:pt x="190" y="102"/>
                      </a:lnTo>
                      <a:lnTo>
                        <a:pt x="196" y="126"/>
                      </a:lnTo>
                      <a:lnTo>
                        <a:pt x="208" y="132"/>
                      </a:lnTo>
                      <a:lnTo>
                        <a:pt x="214" y="144"/>
                      </a:lnTo>
                      <a:lnTo>
                        <a:pt x="196" y="144"/>
                      </a:lnTo>
                      <a:lnTo>
                        <a:pt x="167" y="138"/>
                      </a:lnTo>
                      <a:lnTo>
                        <a:pt x="161" y="138"/>
                      </a:lnTo>
                      <a:lnTo>
                        <a:pt x="107" y="132"/>
                      </a:lnTo>
                      <a:lnTo>
                        <a:pt x="95" y="120"/>
                      </a:lnTo>
                      <a:lnTo>
                        <a:pt x="77" y="108"/>
                      </a:lnTo>
                      <a:lnTo>
                        <a:pt x="35" y="96"/>
                      </a:lnTo>
                      <a:lnTo>
                        <a:pt x="23" y="84"/>
                      </a:lnTo>
                      <a:lnTo>
                        <a:pt x="0" y="54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35" y="12"/>
                      </a:lnTo>
                      <a:lnTo>
                        <a:pt x="47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22"/>
                <p:cNvSpPr/>
                <p:nvPr/>
              </p:nvSpPr>
              <p:spPr>
                <a:xfrm>
                  <a:off x="5623560" y="5631120"/>
                  <a:ext cx="167040" cy="15048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167" h="155">
                      <a:moveTo>
                        <a:pt x="18" y="0"/>
                      </a:moveTo>
                      <a:lnTo>
                        <a:pt x="24" y="0"/>
                      </a:lnTo>
                      <a:lnTo>
                        <a:pt x="65" y="12"/>
                      </a:lnTo>
                      <a:lnTo>
                        <a:pt x="89" y="24"/>
                      </a:lnTo>
                      <a:lnTo>
                        <a:pt x="107" y="36"/>
                      </a:lnTo>
                      <a:lnTo>
                        <a:pt x="119" y="42"/>
                      </a:lnTo>
                      <a:lnTo>
                        <a:pt x="125" y="60"/>
                      </a:lnTo>
                      <a:lnTo>
                        <a:pt x="125" y="66"/>
                      </a:lnTo>
                      <a:lnTo>
                        <a:pt x="131" y="72"/>
                      </a:lnTo>
                      <a:lnTo>
                        <a:pt x="149" y="72"/>
                      </a:lnTo>
                      <a:lnTo>
                        <a:pt x="161" y="72"/>
                      </a:lnTo>
                      <a:lnTo>
                        <a:pt x="167" y="84"/>
                      </a:lnTo>
                      <a:lnTo>
                        <a:pt x="167" y="90"/>
                      </a:lnTo>
                      <a:lnTo>
                        <a:pt x="167" y="96"/>
                      </a:lnTo>
                      <a:lnTo>
                        <a:pt x="155" y="108"/>
                      </a:lnTo>
                      <a:lnTo>
                        <a:pt x="143" y="120"/>
                      </a:lnTo>
                      <a:lnTo>
                        <a:pt x="137" y="144"/>
                      </a:lnTo>
                      <a:lnTo>
                        <a:pt x="125" y="132"/>
                      </a:lnTo>
                      <a:lnTo>
                        <a:pt x="119" y="132"/>
                      </a:lnTo>
                      <a:lnTo>
                        <a:pt x="107" y="149"/>
                      </a:lnTo>
                      <a:lnTo>
                        <a:pt x="95" y="144"/>
                      </a:lnTo>
                      <a:lnTo>
                        <a:pt x="89" y="149"/>
                      </a:lnTo>
                      <a:lnTo>
                        <a:pt x="83" y="155"/>
                      </a:lnTo>
                      <a:lnTo>
                        <a:pt x="65" y="149"/>
                      </a:lnTo>
                      <a:lnTo>
                        <a:pt x="59" y="144"/>
                      </a:lnTo>
                      <a:lnTo>
                        <a:pt x="53" y="138"/>
                      </a:lnTo>
                      <a:lnTo>
                        <a:pt x="47" y="126"/>
                      </a:lnTo>
                      <a:lnTo>
                        <a:pt x="35" y="120"/>
                      </a:lnTo>
                      <a:lnTo>
                        <a:pt x="29" y="96"/>
                      </a:lnTo>
                      <a:lnTo>
                        <a:pt x="24" y="90"/>
                      </a:lnTo>
                      <a:lnTo>
                        <a:pt x="24" y="84"/>
                      </a:lnTo>
                      <a:lnTo>
                        <a:pt x="29" y="78"/>
                      </a:lnTo>
                      <a:lnTo>
                        <a:pt x="24" y="72"/>
                      </a:lnTo>
                      <a:lnTo>
                        <a:pt x="24" y="54"/>
                      </a:lnTo>
                      <a:lnTo>
                        <a:pt x="18" y="48"/>
                      </a:lnTo>
                      <a:lnTo>
                        <a:pt x="6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23"/>
                <p:cNvSpPr/>
                <p:nvPr/>
              </p:nvSpPr>
              <p:spPr>
                <a:xfrm>
                  <a:off x="5760360" y="5707080"/>
                  <a:ext cx="154800" cy="14472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155" h="149">
                      <a:moveTo>
                        <a:pt x="0" y="66"/>
                      </a:moveTo>
                      <a:lnTo>
                        <a:pt x="6" y="42"/>
                      </a:lnTo>
                      <a:lnTo>
                        <a:pt x="18" y="30"/>
                      </a:lnTo>
                      <a:lnTo>
                        <a:pt x="30" y="18"/>
                      </a:lnTo>
                      <a:lnTo>
                        <a:pt x="30" y="12"/>
                      </a:lnTo>
                      <a:lnTo>
                        <a:pt x="30" y="6"/>
                      </a:lnTo>
                      <a:lnTo>
                        <a:pt x="42" y="0"/>
                      </a:lnTo>
                      <a:lnTo>
                        <a:pt x="48" y="6"/>
                      </a:lnTo>
                      <a:lnTo>
                        <a:pt x="54" y="12"/>
                      </a:lnTo>
                      <a:lnTo>
                        <a:pt x="83" y="6"/>
                      </a:lnTo>
                      <a:lnTo>
                        <a:pt x="101" y="12"/>
                      </a:lnTo>
                      <a:lnTo>
                        <a:pt x="113" y="18"/>
                      </a:lnTo>
                      <a:lnTo>
                        <a:pt x="113" y="36"/>
                      </a:lnTo>
                      <a:lnTo>
                        <a:pt x="119" y="54"/>
                      </a:lnTo>
                      <a:lnTo>
                        <a:pt x="125" y="66"/>
                      </a:lnTo>
                      <a:lnTo>
                        <a:pt x="137" y="71"/>
                      </a:lnTo>
                      <a:lnTo>
                        <a:pt x="155" y="83"/>
                      </a:lnTo>
                      <a:lnTo>
                        <a:pt x="155" y="131"/>
                      </a:lnTo>
                      <a:lnTo>
                        <a:pt x="149" y="137"/>
                      </a:lnTo>
                      <a:lnTo>
                        <a:pt x="143" y="143"/>
                      </a:lnTo>
                      <a:lnTo>
                        <a:pt x="131" y="137"/>
                      </a:lnTo>
                      <a:lnTo>
                        <a:pt x="113" y="149"/>
                      </a:lnTo>
                      <a:lnTo>
                        <a:pt x="95" y="143"/>
                      </a:lnTo>
                      <a:lnTo>
                        <a:pt x="89" y="143"/>
                      </a:lnTo>
                      <a:lnTo>
                        <a:pt x="89" y="119"/>
                      </a:lnTo>
                      <a:lnTo>
                        <a:pt x="83" y="113"/>
                      </a:lnTo>
                      <a:lnTo>
                        <a:pt x="65" y="113"/>
                      </a:lnTo>
                      <a:lnTo>
                        <a:pt x="65" y="107"/>
                      </a:lnTo>
                      <a:lnTo>
                        <a:pt x="42" y="113"/>
                      </a:lnTo>
                      <a:lnTo>
                        <a:pt x="30" y="107"/>
                      </a:lnTo>
                      <a:lnTo>
                        <a:pt x="30" y="95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24"/>
                <p:cNvSpPr/>
                <p:nvPr/>
              </p:nvSpPr>
              <p:spPr>
                <a:xfrm>
                  <a:off x="5557320" y="4210560"/>
                  <a:ext cx="250920" cy="17964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251" h="185">
                      <a:moveTo>
                        <a:pt x="12" y="161"/>
                      </a:moveTo>
                      <a:lnTo>
                        <a:pt x="24" y="150"/>
                      </a:lnTo>
                      <a:lnTo>
                        <a:pt x="30" y="144"/>
                      </a:lnTo>
                      <a:lnTo>
                        <a:pt x="48" y="138"/>
                      </a:lnTo>
                      <a:lnTo>
                        <a:pt x="78" y="102"/>
                      </a:lnTo>
                      <a:lnTo>
                        <a:pt x="84" y="90"/>
                      </a:lnTo>
                      <a:lnTo>
                        <a:pt x="119" y="78"/>
                      </a:lnTo>
                      <a:lnTo>
                        <a:pt x="137" y="60"/>
                      </a:lnTo>
                      <a:lnTo>
                        <a:pt x="161" y="42"/>
                      </a:lnTo>
                      <a:lnTo>
                        <a:pt x="173" y="36"/>
                      </a:lnTo>
                      <a:lnTo>
                        <a:pt x="179" y="30"/>
                      </a:lnTo>
                      <a:lnTo>
                        <a:pt x="179" y="18"/>
                      </a:lnTo>
                      <a:lnTo>
                        <a:pt x="191" y="12"/>
                      </a:lnTo>
                      <a:lnTo>
                        <a:pt x="203" y="0"/>
                      </a:lnTo>
                      <a:lnTo>
                        <a:pt x="203" y="6"/>
                      </a:lnTo>
                      <a:lnTo>
                        <a:pt x="209" y="18"/>
                      </a:lnTo>
                      <a:lnTo>
                        <a:pt x="221" y="24"/>
                      </a:lnTo>
                      <a:lnTo>
                        <a:pt x="233" y="30"/>
                      </a:lnTo>
                      <a:lnTo>
                        <a:pt x="251" y="30"/>
                      </a:lnTo>
                      <a:lnTo>
                        <a:pt x="251" y="42"/>
                      </a:lnTo>
                      <a:lnTo>
                        <a:pt x="245" y="54"/>
                      </a:lnTo>
                      <a:lnTo>
                        <a:pt x="221" y="60"/>
                      </a:lnTo>
                      <a:lnTo>
                        <a:pt x="215" y="66"/>
                      </a:lnTo>
                      <a:lnTo>
                        <a:pt x="185" y="90"/>
                      </a:lnTo>
                      <a:lnTo>
                        <a:pt x="167" y="96"/>
                      </a:lnTo>
                      <a:lnTo>
                        <a:pt x="155" y="102"/>
                      </a:lnTo>
                      <a:lnTo>
                        <a:pt x="155" y="114"/>
                      </a:lnTo>
                      <a:lnTo>
                        <a:pt x="143" y="126"/>
                      </a:lnTo>
                      <a:lnTo>
                        <a:pt x="125" y="150"/>
                      </a:lnTo>
                      <a:lnTo>
                        <a:pt x="107" y="156"/>
                      </a:lnTo>
                      <a:lnTo>
                        <a:pt x="72" y="167"/>
                      </a:lnTo>
                      <a:lnTo>
                        <a:pt x="12" y="185"/>
                      </a:lnTo>
                      <a:lnTo>
                        <a:pt x="0" y="179"/>
                      </a:lnTo>
                      <a:lnTo>
                        <a:pt x="0" y="173"/>
                      </a:lnTo>
                      <a:lnTo>
                        <a:pt x="12" y="173"/>
                      </a:lnTo>
                      <a:lnTo>
                        <a:pt x="12" y="161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25"/>
                <p:cNvSpPr/>
                <p:nvPr/>
              </p:nvSpPr>
              <p:spPr>
                <a:xfrm>
                  <a:off x="5378400" y="4216680"/>
                  <a:ext cx="357840" cy="243720"/>
                </a:xfrm>
                <a:custGeom>
                  <a:avLst/>
                  <a:gdLst>
                    <a:gd name="textAreaLeft" fmla="*/ 0 w 357840"/>
                    <a:gd name="textAreaRight" fmla="*/ 357840 w 35784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358" h="251">
                      <a:moveTo>
                        <a:pt x="358" y="12"/>
                      </a:moveTo>
                      <a:lnTo>
                        <a:pt x="358" y="24"/>
                      </a:lnTo>
                      <a:lnTo>
                        <a:pt x="352" y="30"/>
                      </a:lnTo>
                      <a:lnTo>
                        <a:pt x="340" y="36"/>
                      </a:lnTo>
                      <a:lnTo>
                        <a:pt x="316" y="54"/>
                      </a:lnTo>
                      <a:lnTo>
                        <a:pt x="298" y="72"/>
                      </a:lnTo>
                      <a:lnTo>
                        <a:pt x="263" y="84"/>
                      </a:lnTo>
                      <a:lnTo>
                        <a:pt x="257" y="96"/>
                      </a:lnTo>
                      <a:lnTo>
                        <a:pt x="227" y="132"/>
                      </a:lnTo>
                      <a:lnTo>
                        <a:pt x="209" y="138"/>
                      </a:lnTo>
                      <a:lnTo>
                        <a:pt x="203" y="144"/>
                      </a:lnTo>
                      <a:lnTo>
                        <a:pt x="191" y="155"/>
                      </a:lnTo>
                      <a:lnTo>
                        <a:pt x="167" y="161"/>
                      </a:lnTo>
                      <a:lnTo>
                        <a:pt x="137" y="167"/>
                      </a:lnTo>
                      <a:lnTo>
                        <a:pt x="137" y="179"/>
                      </a:lnTo>
                      <a:lnTo>
                        <a:pt x="119" y="185"/>
                      </a:lnTo>
                      <a:lnTo>
                        <a:pt x="113" y="197"/>
                      </a:lnTo>
                      <a:lnTo>
                        <a:pt x="113" y="215"/>
                      </a:lnTo>
                      <a:lnTo>
                        <a:pt x="107" y="245"/>
                      </a:lnTo>
                      <a:lnTo>
                        <a:pt x="101" y="251"/>
                      </a:lnTo>
                      <a:lnTo>
                        <a:pt x="90" y="239"/>
                      </a:lnTo>
                      <a:lnTo>
                        <a:pt x="84" y="239"/>
                      </a:lnTo>
                      <a:lnTo>
                        <a:pt x="66" y="245"/>
                      </a:lnTo>
                      <a:lnTo>
                        <a:pt x="54" y="251"/>
                      </a:lnTo>
                      <a:lnTo>
                        <a:pt x="54" y="239"/>
                      </a:lnTo>
                      <a:lnTo>
                        <a:pt x="60" y="227"/>
                      </a:lnTo>
                      <a:lnTo>
                        <a:pt x="60" y="221"/>
                      </a:lnTo>
                      <a:lnTo>
                        <a:pt x="48" y="221"/>
                      </a:lnTo>
                      <a:lnTo>
                        <a:pt x="18" y="227"/>
                      </a:lnTo>
                      <a:lnTo>
                        <a:pt x="12" y="227"/>
                      </a:lnTo>
                      <a:lnTo>
                        <a:pt x="0" y="215"/>
                      </a:lnTo>
                      <a:lnTo>
                        <a:pt x="30" y="191"/>
                      </a:lnTo>
                      <a:lnTo>
                        <a:pt x="42" y="179"/>
                      </a:lnTo>
                      <a:lnTo>
                        <a:pt x="42" y="173"/>
                      </a:lnTo>
                      <a:lnTo>
                        <a:pt x="42" y="161"/>
                      </a:lnTo>
                      <a:lnTo>
                        <a:pt x="54" y="161"/>
                      </a:lnTo>
                      <a:lnTo>
                        <a:pt x="54" y="155"/>
                      </a:lnTo>
                      <a:lnTo>
                        <a:pt x="60" y="144"/>
                      </a:lnTo>
                      <a:lnTo>
                        <a:pt x="54" y="114"/>
                      </a:lnTo>
                      <a:lnTo>
                        <a:pt x="54" y="96"/>
                      </a:lnTo>
                      <a:lnTo>
                        <a:pt x="54" y="90"/>
                      </a:lnTo>
                      <a:lnTo>
                        <a:pt x="60" y="84"/>
                      </a:lnTo>
                      <a:lnTo>
                        <a:pt x="60" y="78"/>
                      </a:lnTo>
                      <a:lnTo>
                        <a:pt x="72" y="60"/>
                      </a:lnTo>
                      <a:lnTo>
                        <a:pt x="78" y="60"/>
                      </a:lnTo>
                      <a:lnTo>
                        <a:pt x="96" y="72"/>
                      </a:lnTo>
                      <a:lnTo>
                        <a:pt x="101" y="78"/>
                      </a:lnTo>
                      <a:lnTo>
                        <a:pt x="113" y="78"/>
                      </a:lnTo>
                      <a:lnTo>
                        <a:pt x="119" y="66"/>
                      </a:lnTo>
                      <a:lnTo>
                        <a:pt x="125" y="60"/>
                      </a:lnTo>
                      <a:lnTo>
                        <a:pt x="131" y="60"/>
                      </a:lnTo>
                      <a:lnTo>
                        <a:pt x="137" y="42"/>
                      </a:lnTo>
                      <a:lnTo>
                        <a:pt x="149" y="42"/>
                      </a:lnTo>
                      <a:lnTo>
                        <a:pt x="155" y="42"/>
                      </a:lnTo>
                      <a:lnTo>
                        <a:pt x="173" y="54"/>
                      </a:lnTo>
                      <a:lnTo>
                        <a:pt x="197" y="48"/>
                      </a:lnTo>
                      <a:lnTo>
                        <a:pt x="209" y="60"/>
                      </a:lnTo>
                      <a:lnTo>
                        <a:pt x="215" y="48"/>
                      </a:lnTo>
                      <a:lnTo>
                        <a:pt x="215" y="24"/>
                      </a:lnTo>
                      <a:lnTo>
                        <a:pt x="245" y="18"/>
                      </a:lnTo>
                      <a:lnTo>
                        <a:pt x="257" y="18"/>
                      </a:lnTo>
                      <a:lnTo>
                        <a:pt x="269" y="12"/>
                      </a:lnTo>
                      <a:lnTo>
                        <a:pt x="310" y="0"/>
                      </a:lnTo>
                      <a:lnTo>
                        <a:pt x="328" y="6"/>
                      </a:lnTo>
                      <a:lnTo>
                        <a:pt x="346" y="18"/>
                      </a:lnTo>
                      <a:lnTo>
                        <a:pt x="358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6"/>
                <p:cNvSpPr/>
                <p:nvPr/>
              </p:nvSpPr>
              <p:spPr>
                <a:xfrm>
                  <a:off x="5468400" y="4367160"/>
                  <a:ext cx="189720" cy="116640"/>
                </a:xfrm>
                <a:custGeom>
                  <a:avLst/>
                  <a:gdLst>
                    <a:gd name="textAreaLeft" fmla="*/ 0 w 189720"/>
                    <a:gd name="textAreaRight" fmla="*/ 190080 w 18972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190" h="120">
                      <a:moveTo>
                        <a:pt x="101" y="0"/>
                      </a:moveTo>
                      <a:lnTo>
                        <a:pt x="101" y="12"/>
                      </a:lnTo>
                      <a:lnTo>
                        <a:pt x="89" y="12"/>
                      </a:lnTo>
                      <a:lnTo>
                        <a:pt x="89" y="18"/>
                      </a:lnTo>
                      <a:lnTo>
                        <a:pt x="95" y="36"/>
                      </a:lnTo>
                      <a:lnTo>
                        <a:pt x="155" y="48"/>
                      </a:lnTo>
                      <a:lnTo>
                        <a:pt x="184" y="60"/>
                      </a:lnTo>
                      <a:lnTo>
                        <a:pt x="190" y="66"/>
                      </a:lnTo>
                      <a:lnTo>
                        <a:pt x="190" y="84"/>
                      </a:lnTo>
                      <a:lnTo>
                        <a:pt x="143" y="90"/>
                      </a:lnTo>
                      <a:lnTo>
                        <a:pt x="107" y="90"/>
                      </a:lnTo>
                      <a:lnTo>
                        <a:pt x="59" y="102"/>
                      </a:lnTo>
                      <a:lnTo>
                        <a:pt x="23" y="108"/>
                      </a:lnTo>
                      <a:lnTo>
                        <a:pt x="0" y="120"/>
                      </a:lnTo>
                      <a:lnTo>
                        <a:pt x="0" y="108"/>
                      </a:lnTo>
                      <a:lnTo>
                        <a:pt x="11" y="96"/>
                      </a:lnTo>
                      <a:lnTo>
                        <a:pt x="17" y="90"/>
                      </a:lnTo>
                      <a:lnTo>
                        <a:pt x="23" y="60"/>
                      </a:lnTo>
                      <a:lnTo>
                        <a:pt x="23" y="42"/>
                      </a:lnTo>
                      <a:lnTo>
                        <a:pt x="29" y="30"/>
                      </a:lnTo>
                      <a:lnTo>
                        <a:pt x="47" y="24"/>
                      </a:lnTo>
                      <a:lnTo>
                        <a:pt x="47" y="12"/>
                      </a:lnTo>
                      <a:lnTo>
                        <a:pt x="77" y="6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7"/>
                <p:cNvSpPr/>
                <p:nvPr/>
              </p:nvSpPr>
              <p:spPr>
                <a:xfrm>
                  <a:off x="5468400" y="4448880"/>
                  <a:ext cx="237600" cy="8712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238" h="90">
                      <a:moveTo>
                        <a:pt x="0" y="36"/>
                      </a:moveTo>
                      <a:lnTo>
                        <a:pt x="23" y="24"/>
                      </a:lnTo>
                      <a:lnTo>
                        <a:pt x="59" y="18"/>
                      </a:lnTo>
                      <a:lnTo>
                        <a:pt x="107" y="6"/>
                      </a:lnTo>
                      <a:lnTo>
                        <a:pt x="143" y="6"/>
                      </a:lnTo>
                      <a:lnTo>
                        <a:pt x="190" y="0"/>
                      </a:lnTo>
                      <a:lnTo>
                        <a:pt x="208" y="6"/>
                      </a:lnTo>
                      <a:lnTo>
                        <a:pt x="226" y="6"/>
                      </a:lnTo>
                      <a:lnTo>
                        <a:pt x="238" y="12"/>
                      </a:lnTo>
                      <a:lnTo>
                        <a:pt x="238" y="18"/>
                      </a:lnTo>
                      <a:lnTo>
                        <a:pt x="238" y="36"/>
                      </a:lnTo>
                      <a:lnTo>
                        <a:pt x="232" y="36"/>
                      </a:lnTo>
                      <a:lnTo>
                        <a:pt x="214" y="42"/>
                      </a:lnTo>
                      <a:lnTo>
                        <a:pt x="202" y="54"/>
                      </a:lnTo>
                      <a:lnTo>
                        <a:pt x="179" y="54"/>
                      </a:lnTo>
                      <a:lnTo>
                        <a:pt x="173" y="54"/>
                      </a:lnTo>
                      <a:lnTo>
                        <a:pt x="167" y="54"/>
                      </a:lnTo>
                      <a:lnTo>
                        <a:pt x="137" y="66"/>
                      </a:lnTo>
                      <a:lnTo>
                        <a:pt x="137" y="72"/>
                      </a:lnTo>
                      <a:lnTo>
                        <a:pt x="119" y="72"/>
                      </a:lnTo>
                      <a:lnTo>
                        <a:pt x="95" y="78"/>
                      </a:lnTo>
                      <a:lnTo>
                        <a:pt x="77" y="84"/>
                      </a:lnTo>
                      <a:lnTo>
                        <a:pt x="71" y="90"/>
                      </a:lnTo>
                      <a:lnTo>
                        <a:pt x="59" y="78"/>
                      </a:lnTo>
                      <a:lnTo>
                        <a:pt x="23" y="84"/>
                      </a:lnTo>
                      <a:lnTo>
                        <a:pt x="23" y="78"/>
                      </a:lnTo>
                      <a:lnTo>
                        <a:pt x="17" y="60"/>
                      </a:lnTo>
                      <a:lnTo>
                        <a:pt x="0" y="4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Freeform 28"/>
                <p:cNvSpPr/>
                <p:nvPr/>
              </p:nvSpPr>
              <p:spPr>
                <a:xfrm>
                  <a:off x="5378400" y="4518720"/>
                  <a:ext cx="226800" cy="14472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227" h="149">
                      <a:moveTo>
                        <a:pt x="113" y="12"/>
                      </a:moveTo>
                      <a:lnTo>
                        <a:pt x="149" y="6"/>
                      </a:lnTo>
                      <a:lnTo>
                        <a:pt x="161" y="18"/>
                      </a:lnTo>
                      <a:lnTo>
                        <a:pt x="167" y="12"/>
                      </a:lnTo>
                      <a:lnTo>
                        <a:pt x="185" y="6"/>
                      </a:lnTo>
                      <a:lnTo>
                        <a:pt x="209" y="0"/>
                      </a:lnTo>
                      <a:lnTo>
                        <a:pt x="227" y="0"/>
                      </a:lnTo>
                      <a:lnTo>
                        <a:pt x="227" y="6"/>
                      </a:lnTo>
                      <a:lnTo>
                        <a:pt x="221" y="12"/>
                      </a:lnTo>
                      <a:lnTo>
                        <a:pt x="221" y="18"/>
                      </a:lnTo>
                      <a:lnTo>
                        <a:pt x="221" y="23"/>
                      </a:lnTo>
                      <a:lnTo>
                        <a:pt x="227" y="29"/>
                      </a:lnTo>
                      <a:lnTo>
                        <a:pt x="227" y="35"/>
                      </a:lnTo>
                      <a:lnTo>
                        <a:pt x="227" y="41"/>
                      </a:lnTo>
                      <a:lnTo>
                        <a:pt x="209" y="41"/>
                      </a:lnTo>
                      <a:lnTo>
                        <a:pt x="197" y="77"/>
                      </a:lnTo>
                      <a:lnTo>
                        <a:pt x="191" y="77"/>
                      </a:lnTo>
                      <a:lnTo>
                        <a:pt x="179" y="77"/>
                      </a:lnTo>
                      <a:lnTo>
                        <a:pt x="173" y="77"/>
                      </a:lnTo>
                      <a:lnTo>
                        <a:pt x="167" y="83"/>
                      </a:lnTo>
                      <a:lnTo>
                        <a:pt x="161" y="83"/>
                      </a:lnTo>
                      <a:lnTo>
                        <a:pt x="143" y="83"/>
                      </a:lnTo>
                      <a:lnTo>
                        <a:pt x="107" y="107"/>
                      </a:lnTo>
                      <a:lnTo>
                        <a:pt x="96" y="125"/>
                      </a:lnTo>
                      <a:lnTo>
                        <a:pt x="90" y="119"/>
                      </a:lnTo>
                      <a:lnTo>
                        <a:pt x="78" y="119"/>
                      </a:lnTo>
                      <a:lnTo>
                        <a:pt x="66" y="119"/>
                      </a:lnTo>
                      <a:lnTo>
                        <a:pt x="42" y="131"/>
                      </a:lnTo>
                      <a:lnTo>
                        <a:pt x="0" y="149"/>
                      </a:lnTo>
                      <a:lnTo>
                        <a:pt x="0" y="131"/>
                      </a:lnTo>
                      <a:lnTo>
                        <a:pt x="0" y="107"/>
                      </a:lnTo>
                      <a:lnTo>
                        <a:pt x="18" y="83"/>
                      </a:lnTo>
                      <a:lnTo>
                        <a:pt x="30" y="77"/>
                      </a:lnTo>
                      <a:lnTo>
                        <a:pt x="54" y="65"/>
                      </a:lnTo>
                      <a:lnTo>
                        <a:pt x="66" y="65"/>
                      </a:lnTo>
                      <a:lnTo>
                        <a:pt x="72" y="59"/>
                      </a:lnTo>
                      <a:lnTo>
                        <a:pt x="78" y="59"/>
                      </a:lnTo>
                      <a:lnTo>
                        <a:pt x="84" y="47"/>
                      </a:lnTo>
                      <a:lnTo>
                        <a:pt x="96" y="35"/>
                      </a:lnTo>
                      <a:lnTo>
                        <a:pt x="101" y="35"/>
                      </a:lnTo>
                      <a:lnTo>
                        <a:pt x="107" y="18"/>
                      </a:lnTo>
                      <a:lnTo>
                        <a:pt x="113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29"/>
                <p:cNvSpPr/>
                <p:nvPr/>
              </p:nvSpPr>
              <p:spPr>
                <a:xfrm>
                  <a:off x="6070320" y="4292280"/>
                  <a:ext cx="345960" cy="336240"/>
                </a:xfrm>
                <a:custGeom>
                  <a:avLst/>
                  <a:gdLst>
                    <a:gd name="textAreaLeft" fmla="*/ 0 w 345960"/>
                    <a:gd name="textAreaRight" fmla="*/ 346320 w 345960"/>
                    <a:gd name="textAreaTop" fmla="*/ 0 h 336240"/>
                    <a:gd name="textAreaBottom" fmla="*/ 336600 h 336240"/>
                  </a:gdLst>
                  <a:ahLst/>
                  <a:rect l="textAreaLeft" t="textAreaTop" r="textAreaRight" b="textAreaBottom"/>
                  <a:pathLst>
                    <a:path w="346" h="346">
                      <a:moveTo>
                        <a:pt x="263" y="12"/>
                      </a:moveTo>
                      <a:lnTo>
                        <a:pt x="251" y="48"/>
                      </a:lnTo>
                      <a:lnTo>
                        <a:pt x="251" y="54"/>
                      </a:lnTo>
                      <a:lnTo>
                        <a:pt x="245" y="60"/>
                      </a:lnTo>
                      <a:lnTo>
                        <a:pt x="257" y="95"/>
                      </a:lnTo>
                      <a:lnTo>
                        <a:pt x="268" y="113"/>
                      </a:lnTo>
                      <a:lnTo>
                        <a:pt x="268" y="131"/>
                      </a:lnTo>
                      <a:lnTo>
                        <a:pt x="268" y="137"/>
                      </a:lnTo>
                      <a:lnTo>
                        <a:pt x="274" y="155"/>
                      </a:lnTo>
                      <a:lnTo>
                        <a:pt x="268" y="167"/>
                      </a:lnTo>
                      <a:lnTo>
                        <a:pt x="274" y="173"/>
                      </a:lnTo>
                      <a:lnTo>
                        <a:pt x="274" y="191"/>
                      </a:lnTo>
                      <a:lnTo>
                        <a:pt x="268" y="203"/>
                      </a:lnTo>
                      <a:lnTo>
                        <a:pt x="280" y="227"/>
                      </a:lnTo>
                      <a:lnTo>
                        <a:pt x="298" y="239"/>
                      </a:lnTo>
                      <a:lnTo>
                        <a:pt x="310" y="245"/>
                      </a:lnTo>
                      <a:lnTo>
                        <a:pt x="334" y="245"/>
                      </a:lnTo>
                      <a:lnTo>
                        <a:pt x="346" y="256"/>
                      </a:lnTo>
                      <a:lnTo>
                        <a:pt x="334" y="268"/>
                      </a:lnTo>
                      <a:lnTo>
                        <a:pt x="286" y="280"/>
                      </a:lnTo>
                      <a:lnTo>
                        <a:pt x="274" y="286"/>
                      </a:lnTo>
                      <a:lnTo>
                        <a:pt x="274" y="298"/>
                      </a:lnTo>
                      <a:lnTo>
                        <a:pt x="274" y="310"/>
                      </a:lnTo>
                      <a:lnTo>
                        <a:pt x="280" y="322"/>
                      </a:lnTo>
                      <a:lnTo>
                        <a:pt x="263" y="322"/>
                      </a:lnTo>
                      <a:lnTo>
                        <a:pt x="233" y="346"/>
                      </a:lnTo>
                      <a:lnTo>
                        <a:pt x="209" y="340"/>
                      </a:lnTo>
                      <a:lnTo>
                        <a:pt x="209" y="334"/>
                      </a:lnTo>
                      <a:lnTo>
                        <a:pt x="185" y="292"/>
                      </a:lnTo>
                      <a:lnTo>
                        <a:pt x="173" y="274"/>
                      </a:lnTo>
                      <a:lnTo>
                        <a:pt x="137" y="245"/>
                      </a:lnTo>
                      <a:lnTo>
                        <a:pt x="119" y="239"/>
                      </a:lnTo>
                      <a:lnTo>
                        <a:pt x="101" y="245"/>
                      </a:lnTo>
                      <a:lnTo>
                        <a:pt x="90" y="209"/>
                      </a:lnTo>
                      <a:lnTo>
                        <a:pt x="84" y="179"/>
                      </a:lnTo>
                      <a:lnTo>
                        <a:pt x="78" y="137"/>
                      </a:lnTo>
                      <a:lnTo>
                        <a:pt x="60" y="137"/>
                      </a:lnTo>
                      <a:lnTo>
                        <a:pt x="54" y="137"/>
                      </a:lnTo>
                      <a:lnTo>
                        <a:pt x="54" y="131"/>
                      </a:lnTo>
                      <a:lnTo>
                        <a:pt x="54" y="119"/>
                      </a:lnTo>
                      <a:lnTo>
                        <a:pt x="54" y="107"/>
                      </a:lnTo>
                      <a:lnTo>
                        <a:pt x="54" y="95"/>
                      </a:lnTo>
                      <a:lnTo>
                        <a:pt x="48" y="89"/>
                      </a:lnTo>
                      <a:lnTo>
                        <a:pt x="36" y="101"/>
                      </a:lnTo>
                      <a:lnTo>
                        <a:pt x="18" y="101"/>
                      </a:lnTo>
                      <a:lnTo>
                        <a:pt x="12" y="95"/>
                      </a:lnTo>
                      <a:lnTo>
                        <a:pt x="0" y="83"/>
                      </a:lnTo>
                      <a:lnTo>
                        <a:pt x="0" y="77"/>
                      </a:lnTo>
                      <a:lnTo>
                        <a:pt x="6" y="77"/>
                      </a:lnTo>
                      <a:lnTo>
                        <a:pt x="12" y="72"/>
                      </a:lnTo>
                      <a:lnTo>
                        <a:pt x="12" y="66"/>
                      </a:lnTo>
                      <a:lnTo>
                        <a:pt x="12" y="60"/>
                      </a:lnTo>
                      <a:lnTo>
                        <a:pt x="24" y="54"/>
                      </a:lnTo>
                      <a:lnTo>
                        <a:pt x="36" y="48"/>
                      </a:lnTo>
                      <a:lnTo>
                        <a:pt x="54" y="54"/>
                      </a:lnTo>
                      <a:lnTo>
                        <a:pt x="72" y="60"/>
                      </a:lnTo>
                      <a:lnTo>
                        <a:pt x="84" y="60"/>
                      </a:lnTo>
                      <a:lnTo>
                        <a:pt x="90" y="60"/>
                      </a:lnTo>
                      <a:lnTo>
                        <a:pt x="131" y="66"/>
                      </a:lnTo>
                      <a:lnTo>
                        <a:pt x="137" y="66"/>
                      </a:lnTo>
                      <a:lnTo>
                        <a:pt x="191" y="18"/>
                      </a:lnTo>
                      <a:lnTo>
                        <a:pt x="203" y="6"/>
                      </a:lnTo>
                      <a:lnTo>
                        <a:pt x="221" y="0"/>
                      </a:lnTo>
                      <a:lnTo>
                        <a:pt x="233" y="0"/>
                      </a:lnTo>
                      <a:lnTo>
                        <a:pt x="257" y="12"/>
                      </a:lnTo>
                      <a:lnTo>
                        <a:pt x="263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30"/>
                <p:cNvSpPr/>
                <p:nvPr/>
              </p:nvSpPr>
              <p:spPr>
                <a:xfrm>
                  <a:off x="6160320" y="4564440"/>
                  <a:ext cx="167040" cy="19692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67" h="203">
                      <a:moveTo>
                        <a:pt x="17" y="0"/>
                      </a:moveTo>
                      <a:lnTo>
                        <a:pt x="23" y="0"/>
                      </a:lnTo>
                      <a:lnTo>
                        <a:pt x="47" y="12"/>
                      </a:lnTo>
                      <a:lnTo>
                        <a:pt x="71" y="30"/>
                      </a:lnTo>
                      <a:lnTo>
                        <a:pt x="83" y="60"/>
                      </a:lnTo>
                      <a:lnTo>
                        <a:pt x="107" y="84"/>
                      </a:lnTo>
                      <a:lnTo>
                        <a:pt x="125" y="120"/>
                      </a:lnTo>
                      <a:lnTo>
                        <a:pt x="149" y="126"/>
                      </a:lnTo>
                      <a:lnTo>
                        <a:pt x="161" y="132"/>
                      </a:lnTo>
                      <a:lnTo>
                        <a:pt x="167" y="138"/>
                      </a:lnTo>
                      <a:lnTo>
                        <a:pt x="167" y="144"/>
                      </a:lnTo>
                      <a:lnTo>
                        <a:pt x="167" y="150"/>
                      </a:lnTo>
                      <a:lnTo>
                        <a:pt x="149" y="150"/>
                      </a:lnTo>
                      <a:lnTo>
                        <a:pt x="137" y="156"/>
                      </a:lnTo>
                      <a:lnTo>
                        <a:pt x="137" y="161"/>
                      </a:lnTo>
                      <a:lnTo>
                        <a:pt x="119" y="173"/>
                      </a:lnTo>
                      <a:lnTo>
                        <a:pt x="101" y="185"/>
                      </a:lnTo>
                      <a:lnTo>
                        <a:pt x="95" y="179"/>
                      </a:lnTo>
                      <a:lnTo>
                        <a:pt x="83" y="185"/>
                      </a:lnTo>
                      <a:lnTo>
                        <a:pt x="71" y="191"/>
                      </a:lnTo>
                      <a:lnTo>
                        <a:pt x="23" y="203"/>
                      </a:lnTo>
                      <a:lnTo>
                        <a:pt x="17" y="197"/>
                      </a:lnTo>
                      <a:lnTo>
                        <a:pt x="17" y="185"/>
                      </a:lnTo>
                      <a:lnTo>
                        <a:pt x="17" y="179"/>
                      </a:lnTo>
                      <a:lnTo>
                        <a:pt x="23" y="167"/>
                      </a:lnTo>
                      <a:lnTo>
                        <a:pt x="17" y="132"/>
                      </a:lnTo>
                      <a:lnTo>
                        <a:pt x="6" y="114"/>
                      </a:lnTo>
                      <a:lnTo>
                        <a:pt x="0" y="96"/>
                      </a:lnTo>
                      <a:lnTo>
                        <a:pt x="0" y="72"/>
                      </a:lnTo>
                      <a:lnTo>
                        <a:pt x="6" y="66"/>
                      </a:lnTo>
                      <a:lnTo>
                        <a:pt x="0" y="54"/>
                      </a:lnTo>
                      <a:lnTo>
                        <a:pt x="17" y="36"/>
                      </a:lnTo>
                      <a:lnTo>
                        <a:pt x="17" y="1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31"/>
                <p:cNvSpPr/>
                <p:nvPr/>
              </p:nvSpPr>
              <p:spPr>
                <a:xfrm>
                  <a:off x="6893640" y="3706560"/>
                  <a:ext cx="387720" cy="232200"/>
                </a:xfrm>
                <a:custGeom>
                  <a:avLst/>
                  <a:gdLst>
                    <a:gd name="textAreaLeft" fmla="*/ 0 w 387720"/>
                    <a:gd name="textAreaRight" fmla="*/ 388080 w 387720"/>
                    <a:gd name="textAreaTop" fmla="*/ 0 h 232200"/>
                    <a:gd name="textAreaBottom" fmla="*/ 232560 h 232200"/>
                  </a:gdLst>
                  <a:ahLst/>
                  <a:rect l="textAreaLeft" t="textAreaTop" r="textAreaRight" b="textAreaBottom"/>
                  <a:pathLst>
                    <a:path w="388" h="239">
                      <a:moveTo>
                        <a:pt x="161" y="54"/>
                      </a:moveTo>
                      <a:lnTo>
                        <a:pt x="173" y="54"/>
                      </a:lnTo>
                      <a:lnTo>
                        <a:pt x="185" y="42"/>
                      </a:lnTo>
                      <a:lnTo>
                        <a:pt x="203" y="12"/>
                      </a:lnTo>
                      <a:lnTo>
                        <a:pt x="209" y="6"/>
                      </a:lnTo>
                      <a:lnTo>
                        <a:pt x="215" y="6"/>
                      </a:lnTo>
                      <a:lnTo>
                        <a:pt x="221" y="0"/>
                      </a:lnTo>
                      <a:lnTo>
                        <a:pt x="239" y="6"/>
                      </a:lnTo>
                      <a:lnTo>
                        <a:pt x="245" y="6"/>
                      </a:lnTo>
                      <a:lnTo>
                        <a:pt x="251" y="18"/>
                      </a:lnTo>
                      <a:lnTo>
                        <a:pt x="257" y="24"/>
                      </a:lnTo>
                      <a:lnTo>
                        <a:pt x="275" y="36"/>
                      </a:lnTo>
                      <a:lnTo>
                        <a:pt x="287" y="60"/>
                      </a:lnTo>
                      <a:lnTo>
                        <a:pt x="316" y="78"/>
                      </a:lnTo>
                      <a:lnTo>
                        <a:pt x="328" y="90"/>
                      </a:lnTo>
                      <a:lnTo>
                        <a:pt x="352" y="102"/>
                      </a:lnTo>
                      <a:lnTo>
                        <a:pt x="352" y="108"/>
                      </a:lnTo>
                      <a:lnTo>
                        <a:pt x="364" y="126"/>
                      </a:lnTo>
                      <a:lnTo>
                        <a:pt x="382" y="137"/>
                      </a:lnTo>
                      <a:lnTo>
                        <a:pt x="388" y="137"/>
                      </a:lnTo>
                      <a:lnTo>
                        <a:pt x="382" y="161"/>
                      </a:lnTo>
                      <a:lnTo>
                        <a:pt x="382" y="179"/>
                      </a:lnTo>
                      <a:lnTo>
                        <a:pt x="376" y="179"/>
                      </a:lnTo>
                      <a:lnTo>
                        <a:pt x="352" y="185"/>
                      </a:lnTo>
                      <a:lnTo>
                        <a:pt x="334" y="197"/>
                      </a:lnTo>
                      <a:lnTo>
                        <a:pt x="322" y="203"/>
                      </a:lnTo>
                      <a:lnTo>
                        <a:pt x="310" y="209"/>
                      </a:lnTo>
                      <a:lnTo>
                        <a:pt x="299" y="209"/>
                      </a:lnTo>
                      <a:lnTo>
                        <a:pt x="293" y="221"/>
                      </a:lnTo>
                      <a:lnTo>
                        <a:pt x="275" y="227"/>
                      </a:lnTo>
                      <a:lnTo>
                        <a:pt x="269" y="233"/>
                      </a:lnTo>
                      <a:lnTo>
                        <a:pt x="263" y="215"/>
                      </a:lnTo>
                      <a:lnTo>
                        <a:pt x="245" y="215"/>
                      </a:lnTo>
                      <a:lnTo>
                        <a:pt x="215" y="209"/>
                      </a:lnTo>
                      <a:lnTo>
                        <a:pt x="203" y="221"/>
                      </a:lnTo>
                      <a:lnTo>
                        <a:pt x="197" y="221"/>
                      </a:lnTo>
                      <a:lnTo>
                        <a:pt x="197" y="239"/>
                      </a:lnTo>
                      <a:lnTo>
                        <a:pt x="185" y="221"/>
                      </a:lnTo>
                      <a:lnTo>
                        <a:pt x="167" y="215"/>
                      </a:lnTo>
                      <a:lnTo>
                        <a:pt x="155" y="209"/>
                      </a:lnTo>
                      <a:lnTo>
                        <a:pt x="126" y="209"/>
                      </a:lnTo>
                      <a:lnTo>
                        <a:pt x="108" y="209"/>
                      </a:lnTo>
                      <a:lnTo>
                        <a:pt x="90" y="209"/>
                      </a:lnTo>
                      <a:lnTo>
                        <a:pt x="84" y="209"/>
                      </a:lnTo>
                      <a:lnTo>
                        <a:pt x="72" y="227"/>
                      </a:lnTo>
                      <a:lnTo>
                        <a:pt x="48" y="233"/>
                      </a:lnTo>
                      <a:lnTo>
                        <a:pt x="24" y="233"/>
                      </a:lnTo>
                      <a:lnTo>
                        <a:pt x="18" y="227"/>
                      </a:lnTo>
                      <a:lnTo>
                        <a:pt x="12" y="215"/>
                      </a:lnTo>
                      <a:lnTo>
                        <a:pt x="12" y="197"/>
                      </a:lnTo>
                      <a:lnTo>
                        <a:pt x="0" y="179"/>
                      </a:lnTo>
                      <a:lnTo>
                        <a:pt x="0" y="173"/>
                      </a:lnTo>
                      <a:lnTo>
                        <a:pt x="0" y="167"/>
                      </a:lnTo>
                      <a:lnTo>
                        <a:pt x="30" y="137"/>
                      </a:lnTo>
                      <a:lnTo>
                        <a:pt x="30" y="143"/>
                      </a:lnTo>
                      <a:lnTo>
                        <a:pt x="48" y="137"/>
                      </a:lnTo>
                      <a:lnTo>
                        <a:pt x="60" y="149"/>
                      </a:lnTo>
                      <a:lnTo>
                        <a:pt x="60" y="155"/>
                      </a:lnTo>
                      <a:lnTo>
                        <a:pt x="60" y="161"/>
                      </a:lnTo>
                      <a:lnTo>
                        <a:pt x="66" y="173"/>
                      </a:lnTo>
                      <a:lnTo>
                        <a:pt x="78" y="179"/>
                      </a:lnTo>
                      <a:lnTo>
                        <a:pt x="96" y="185"/>
                      </a:lnTo>
                      <a:lnTo>
                        <a:pt x="114" y="197"/>
                      </a:lnTo>
                      <a:lnTo>
                        <a:pt x="120" y="197"/>
                      </a:lnTo>
                      <a:lnTo>
                        <a:pt x="132" y="179"/>
                      </a:lnTo>
                      <a:lnTo>
                        <a:pt x="137" y="167"/>
                      </a:lnTo>
                      <a:lnTo>
                        <a:pt x="137" y="161"/>
                      </a:lnTo>
                      <a:lnTo>
                        <a:pt x="132" y="149"/>
                      </a:lnTo>
                      <a:lnTo>
                        <a:pt x="126" y="143"/>
                      </a:lnTo>
                      <a:lnTo>
                        <a:pt x="126" y="126"/>
                      </a:lnTo>
                      <a:lnTo>
                        <a:pt x="126" y="120"/>
                      </a:lnTo>
                      <a:lnTo>
                        <a:pt x="143" y="108"/>
                      </a:lnTo>
                      <a:lnTo>
                        <a:pt x="161" y="108"/>
                      </a:lnTo>
                      <a:lnTo>
                        <a:pt x="167" y="102"/>
                      </a:lnTo>
                      <a:lnTo>
                        <a:pt x="161" y="54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32"/>
                <p:cNvSpPr/>
                <p:nvPr/>
              </p:nvSpPr>
              <p:spPr>
                <a:xfrm>
                  <a:off x="6905520" y="3729960"/>
                  <a:ext cx="154800" cy="16812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155" h="173">
                      <a:moveTo>
                        <a:pt x="0" y="84"/>
                      </a:moveTo>
                      <a:lnTo>
                        <a:pt x="6" y="72"/>
                      </a:lnTo>
                      <a:lnTo>
                        <a:pt x="12" y="66"/>
                      </a:lnTo>
                      <a:lnTo>
                        <a:pt x="18" y="54"/>
                      </a:lnTo>
                      <a:lnTo>
                        <a:pt x="18" y="48"/>
                      </a:lnTo>
                      <a:lnTo>
                        <a:pt x="36" y="36"/>
                      </a:lnTo>
                      <a:lnTo>
                        <a:pt x="42" y="30"/>
                      </a:lnTo>
                      <a:lnTo>
                        <a:pt x="54" y="36"/>
                      </a:lnTo>
                      <a:lnTo>
                        <a:pt x="60" y="30"/>
                      </a:lnTo>
                      <a:lnTo>
                        <a:pt x="60" y="18"/>
                      </a:lnTo>
                      <a:lnTo>
                        <a:pt x="60" y="12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14" y="6"/>
                      </a:lnTo>
                      <a:lnTo>
                        <a:pt x="137" y="24"/>
                      </a:lnTo>
                      <a:lnTo>
                        <a:pt x="143" y="30"/>
                      </a:lnTo>
                      <a:lnTo>
                        <a:pt x="149" y="30"/>
                      </a:lnTo>
                      <a:lnTo>
                        <a:pt x="155" y="78"/>
                      </a:lnTo>
                      <a:lnTo>
                        <a:pt x="149" y="84"/>
                      </a:lnTo>
                      <a:lnTo>
                        <a:pt x="131" y="84"/>
                      </a:lnTo>
                      <a:lnTo>
                        <a:pt x="114" y="96"/>
                      </a:lnTo>
                      <a:lnTo>
                        <a:pt x="114" y="102"/>
                      </a:lnTo>
                      <a:lnTo>
                        <a:pt x="114" y="119"/>
                      </a:lnTo>
                      <a:lnTo>
                        <a:pt x="120" y="125"/>
                      </a:lnTo>
                      <a:lnTo>
                        <a:pt x="125" y="137"/>
                      </a:lnTo>
                      <a:lnTo>
                        <a:pt x="125" y="143"/>
                      </a:lnTo>
                      <a:lnTo>
                        <a:pt x="120" y="155"/>
                      </a:lnTo>
                      <a:lnTo>
                        <a:pt x="108" y="173"/>
                      </a:lnTo>
                      <a:lnTo>
                        <a:pt x="102" y="173"/>
                      </a:lnTo>
                      <a:lnTo>
                        <a:pt x="84" y="161"/>
                      </a:lnTo>
                      <a:lnTo>
                        <a:pt x="66" y="155"/>
                      </a:lnTo>
                      <a:lnTo>
                        <a:pt x="54" y="149"/>
                      </a:lnTo>
                      <a:lnTo>
                        <a:pt x="48" y="137"/>
                      </a:lnTo>
                      <a:lnTo>
                        <a:pt x="48" y="131"/>
                      </a:lnTo>
                      <a:lnTo>
                        <a:pt x="48" y="125"/>
                      </a:lnTo>
                      <a:lnTo>
                        <a:pt x="36" y="113"/>
                      </a:lnTo>
                      <a:lnTo>
                        <a:pt x="18" y="119"/>
                      </a:lnTo>
                      <a:lnTo>
                        <a:pt x="18" y="113"/>
                      </a:lnTo>
                      <a:lnTo>
                        <a:pt x="18" y="108"/>
                      </a:lnTo>
                      <a:lnTo>
                        <a:pt x="6" y="96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33"/>
                <p:cNvSpPr/>
                <p:nvPr/>
              </p:nvSpPr>
              <p:spPr>
                <a:xfrm>
                  <a:off x="6774480" y="3811320"/>
                  <a:ext cx="148680" cy="23688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49" h="244">
                      <a:moveTo>
                        <a:pt x="0" y="185"/>
                      </a:moveTo>
                      <a:lnTo>
                        <a:pt x="6" y="179"/>
                      </a:lnTo>
                      <a:lnTo>
                        <a:pt x="6" y="137"/>
                      </a:lnTo>
                      <a:lnTo>
                        <a:pt x="6" y="119"/>
                      </a:lnTo>
                      <a:lnTo>
                        <a:pt x="18" y="107"/>
                      </a:lnTo>
                      <a:lnTo>
                        <a:pt x="48" y="83"/>
                      </a:lnTo>
                      <a:lnTo>
                        <a:pt x="54" y="77"/>
                      </a:lnTo>
                      <a:lnTo>
                        <a:pt x="54" y="65"/>
                      </a:lnTo>
                      <a:lnTo>
                        <a:pt x="60" y="59"/>
                      </a:lnTo>
                      <a:lnTo>
                        <a:pt x="66" y="47"/>
                      </a:lnTo>
                      <a:lnTo>
                        <a:pt x="78" y="41"/>
                      </a:lnTo>
                      <a:lnTo>
                        <a:pt x="78" y="29"/>
                      </a:lnTo>
                      <a:lnTo>
                        <a:pt x="89" y="24"/>
                      </a:lnTo>
                      <a:lnTo>
                        <a:pt x="95" y="12"/>
                      </a:lnTo>
                      <a:lnTo>
                        <a:pt x="125" y="0"/>
                      </a:lnTo>
                      <a:lnTo>
                        <a:pt x="131" y="0"/>
                      </a:lnTo>
                      <a:lnTo>
                        <a:pt x="137" y="12"/>
                      </a:lnTo>
                      <a:lnTo>
                        <a:pt x="149" y="24"/>
                      </a:lnTo>
                      <a:lnTo>
                        <a:pt x="149" y="29"/>
                      </a:lnTo>
                      <a:lnTo>
                        <a:pt x="119" y="59"/>
                      </a:lnTo>
                      <a:lnTo>
                        <a:pt x="119" y="65"/>
                      </a:lnTo>
                      <a:lnTo>
                        <a:pt x="119" y="71"/>
                      </a:lnTo>
                      <a:lnTo>
                        <a:pt x="131" y="89"/>
                      </a:lnTo>
                      <a:lnTo>
                        <a:pt x="131" y="107"/>
                      </a:lnTo>
                      <a:lnTo>
                        <a:pt x="119" y="107"/>
                      </a:lnTo>
                      <a:lnTo>
                        <a:pt x="101" y="113"/>
                      </a:lnTo>
                      <a:lnTo>
                        <a:pt x="89" y="113"/>
                      </a:lnTo>
                      <a:lnTo>
                        <a:pt x="83" y="113"/>
                      </a:lnTo>
                      <a:lnTo>
                        <a:pt x="83" y="119"/>
                      </a:lnTo>
                      <a:lnTo>
                        <a:pt x="95" y="125"/>
                      </a:lnTo>
                      <a:lnTo>
                        <a:pt x="101" y="143"/>
                      </a:lnTo>
                      <a:lnTo>
                        <a:pt x="101" y="155"/>
                      </a:lnTo>
                      <a:lnTo>
                        <a:pt x="107" y="161"/>
                      </a:lnTo>
                      <a:lnTo>
                        <a:pt x="119" y="167"/>
                      </a:lnTo>
                      <a:lnTo>
                        <a:pt x="137" y="179"/>
                      </a:lnTo>
                      <a:lnTo>
                        <a:pt x="137" y="185"/>
                      </a:lnTo>
                      <a:lnTo>
                        <a:pt x="131" y="214"/>
                      </a:lnTo>
                      <a:lnTo>
                        <a:pt x="125" y="220"/>
                      </a:lnTo>
                      <a:lnTo>
                        <a:pt x="113" y="238"/>
                      </a:lnTo>
                      <a:lnTo>
                        <a:pt x="83" y="244"/>
                      </a:lnTo>
                      <a:lnTo>
                        <a:pt x="72" y="244"/>
                      </a:lnTo>
                      <a:lnTo>
                        <a:pt x="54" y="226"/>
                      </a:lnTo>
                      <a:lnTo>
                        <a:pt x="36" y="214"/>
                      </a:lnTo>
                      <a:lnTo>
                        <a:pt x="12" y="220"/>
                      </a:lnTo>
                      <a:lnTo>
                        <a:pt x="6" y="208"/>
                      </a:lnTo>
                      <a:lnTo>
                        <a:pt x="6" y="197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34"/>
                <p:cNvSpPr/>
                <p:nvPr/>
              </p:nvSpPr>
              <p:spPr>
                <a:xfrm>
                  <a:off x="6702480" y="3967920"/>
                  <a:ext cx="150120" cy="208800"/>
                </a:xfrm>
                <a:custGeom>
                  <a:avLst/>
                  <a:gdLst>
                    <a:gd name="textAreaLeft" fmla="*/ 0 w 150120"/>
                    <a:gd name="textAreaRight" fmla="*/ 150480 w 150120"/>
                    <a:gd name="textAreaTop" fmla="*/ 0 h 208800"/>
                    <a:gd name="textAreaBottom" fmla="*/ 209160 h 208800"/>
                  </a:gdLst>
                  <a:ahLst/>
                  <a:rect l="textAreaLeft" t="textAreaTop" r="textAreaRight" b="textAreaBottom"/>
                  <a:pathLst>
                    <a:path w="150" h="215">
                      <a:moveTo>
                        <a:pt x="0" y="65"/>
                      </a:moveTo>
                      <a:lnTo>
                        <a:pt x="6" y="59"/>
                      </a:lnTo>
                      <a:lnTo>
                        <a:pt x="6" y="53"/>
                      </a:lnTo>
                      <a:lnTo>
                        <a:pt x="12" y="36"/>
                      </a:lnTo>
                      <a:lnTo>
                        <a:pt x="18" y="24"/>
                      </a:lnTo>
                      <a:lnTo>
                        <a:pt x="30" y="12"/>
                      </a:lnTo>
                      <a:lnTo>
                        <a:pt x="36" y="12"/>
                      </a:lnTo>
                      <a:lnTo>
                        <a:pt x="36" y="6"/>
                      </a:lnTo>
                      <a:lnTo>
                        <a:pt x="36" y="0"/>
                      </a:lnTo>
                      <a:lnTo>
                        <a:pt x="48" y="0"/>
                      </a:ln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78" y="36"/>
                      </a:lnTo>
                      <a:lnTo>
                        <a:pt x="78" y="47"/>
                      </a:lnTo>
                      <a:lnTo>
                        <a:pt x="84" y="59"/>
                      </a:lnTo>
                      <a:lnTo>
                        <a:pt x="90" y="71"/>
                      </a:lnTo>
                      <a:lnTo>
                        <a:pt x="108" y="83"/>
                      </a:lnTo>
                      <a:lnTo>
                        <a:pt x="138" y="107"/>
                      </a:lnTo>
                      <a:lnTo>
                        <a:pt x="150" y="113"/>
                      </a:lnTo>
                      <a:lnTo>
                        <a:pt x="144" y="125"/>
                      </a:lnTo>
                      <a:lnTo>
                        <a:pt x="144" y="131"/>
                      </a:lnTo>
                      <a:lnTo>
                        <a:pt x="132" y="161"/>
                      </a:lnTo>
                      <a:lnTo>
                        <a:pt x="132" y="209"/>
                      </a:lnTo>
                      <a:lnTo>
                        <a:pt x="126" y="215"/>
                      </a:lnTo>
                      <a:lnTo>
                        <a:pt x="96" y="215"/>
                      </a:lnTo>
                      <a:lnTo>
                        <a:pt x="90" y="203"/>
                      </a:lnTo>
                      <a:lnTo>
                        <a:pt x="60" y="173"/>
                      </a:lnTo>
                      <a:lnTo>
                        <a:pt x="54" y="167"/>
                      </a:lnTo>
                      <a:lnTo>
                        <a:pt x="36" y="155"/>
                      </a:lnTo>
                      <a:lnTo>
                        <a:pt x="30" y="137"/>
                      </a:lnTo>
                      <a:lnTo>
                        <a:pt x="18" y="107"/>
                      </a:lnTo>
                      <a:lnTo>
                        <a:pt x="12" y="83"/>
                      </a:lnTo>
                      <a:lnTo>
                        <a:pt x="12" y="77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35"/>
                <p:cNvSpPr/>
                <p:nvPr/>
              </p:nvSpPr>
              <p:spPr>
                <a:xfrm>
                  <a:off x="6613560" y="4030920"/>
                  <a:ext cx="185040" cy="2145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185" h="221">
                      <a:moveTo>
                        <a:pt x="12" y="167"/>
                      </a:moveTo>
                      <a:lnTo>
                        <a:pt x="12" y="156"/>
                      </a:lnTo>
                      <a:lnTo>
                        <a:pt x="12" y="144"/>
                      </a:lnTo>
                      <a:lnTo>
                        <a:pt x="6" y="138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6" y="102"/>
                      </a:lnTo>
                      <a:lnTo>
                        <a:pt x="6" y="90"/>
                      </a:lnTo>
                      <a:lnTo>
                        <a:pt x="12" y="66"/>
                      </a:lnTo>
                      <a:lnTo>
                        <a:pt x="18" y="60"/>
                      </a:lnTo>
                      <a:lnTo>
                        <a:pt x="24" y="60"/>
                      </a:lnTo>
                      <a:lnTo>
                        <a:pt x="30" y="72"/>
                      </a:lnTo>
                      <a:lnTo>
                        <a:pt x="42" y="78"/>
                      </a:lnTo>
                      <a:lnTo>
                        <a:pt x="66" y="78"/>
                      </a:lnTo>
                      <a:lnTo>
                        <a:pt x="77" y="72"/>
                      </a:lnTo>
                      <a:lnTo>
                        <a:pt x="83" y="54"/>
                      </a:lnTo>
                      <a:lnTo>
                        <a:pt x="83" y="42"/>
                      </a:lnTo>
                      <a:lnTo>
                        <a:pt x="77" y="30"/>
                      </a:lnTo>
                      <a:lnTo>
                        <a:pt x="77" y="24"/>
                      </a:lnTo>
                      <a:lnTo>
                        <a:pt x="83" y="12"/>
                      </a:lnTo>
                      <a:lnTo>
                        <a:pt x="89" y="0"/>
                      </a:lnTo>
                      <a:lnTo>
                        <a:pt x="101" y="12"/>
                      </a:lnTo>
                      <a:lnTo>
                        <a:pt x="101" y="18"/>
                      </a:lnTo>
                      <a:lnTo>
                        <a:pt x="107" y="42"/>
                      </a:lnTo>
                      <a:lnTo>
                        <a:pt x="119" y="72"/>
                      </a:lnTo>
                      <a:lnTo>
                        <a:pt x="125" y="90"/>
                      </a:lnTo>
                      <a:lnTo>
                        <a:pt x="143" y="102"/>
                      </a:lnTo>
                      <a:lnTo>
                        <a:pt x="149" y="108"/>
                      </a:lnTo>
                      <a:lnTo>
                        <a:pt x="179" y="138"/>
                      </a:lnTo>
                      <a:lnTo>
                        <a:pt x="185" y="150"/>
                      </a:lnTo>
                      <a:lnTo>
                        <a:pt x="179" y="156"/>
                      </a:lnTo>
                      <a:lnTo>
                        <a:pt x="161" y="162"/>
                      </a:lnTo>
                      <a:lnTo>
                        <a:pt x="155" y="156"/>
                      </a:lnTo>
                      <a:lnTo>
                        <a:pt x="149" y="150"/>
                      </a:lnTo>
                      <a:lnTo>
                        <a:pt x="143" y="162"/>
                      </a:lnTo>
                      <a:lnTo>
                        <a:pt x="137" y="162"/>
                      </a:lnTo>
                      <a:lnTo>
                        <a:pt x="143" y="173"/>
                      </a:lnTo>
                      <a:lnTo>
                        <a:pt x="149" y="185"/>
                      </a:lnTo>
                      <a:lnTo>
                        <a:pt x="137" y="179"/>
                      </a:lnTo>
                      <a:lnTo>
                        <a:pt x="131" y="179"/>
                      </a:lnTo>
                      <a:lnTo>
                        <a:pt x="131" y="185"/>
                      </a:lnTo>
                      <a:lnTo>
                        <a:pt x="125" y="191"/>
                      </a:lnTo>
                      <a:lnTo>
                        <a:pt x="107" y="167"/>
                      </a:lnTo>
                      <a:lnTo>
                        <a:pt x="89" y="156"/>
                      </a:lnTo>
                      <a:lnTo>
                        <a:pt x="77" y="162"/>
                      </a:lnTo>
                      <a:lnTo>
                        <a:pt x="77" y="179"/>
                      </a:lnTo>
                      <a:lnTo>
                        <a:pt x="89" y="197"/>
                      </a:lnTo>
                      <a:lnTo>
                        <a:pt x="89" y="203"/>
                      </a:lnTo>
                      <a:lnTo>
                        <a:pt x="83" y="221"/>
                      </a:lnTo>
                      <a:lnTo>
                        <a:pt x="71" y="215"/>
                      </a:lnTo>
                      <a:lnTo>
                        <a:pt x="60" y="209"/>
                      </a:lnTo>
                      <a:lnTo>
                        <a:pt x="24" y="191"/>
                      </a:lnTo>
                      <a:lnTo>
                        <a:pt x="18" y="179"/>
                      </a:lnTo>
                      <a:lnTo>
                        <a:pt x="12" y="167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36"/>
                <p:cNvSpPr/>
                <p:nvPr/>
              </p:nvSpPr>
              <p:spPr>
                <a:xfrm>
                  <a:off x="6881400" y="4153320"/>
                  <a:ext cx="95760" cy="15624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96" h="161">
                      <a:moveTo>
                        <a:pt x="42" y="0"/>
                      </a:moveTo>
                      <a:lnTo>
                        <a:pt x="54" y="0"/>
                      </a:lnTo>
                      <a:lnTo>
                        <a:pt x="66" y="6"/>
                      </a:lnTo>
                      <a:lnTo>
                        <a:pt x="78" y="18"/>
                      </a:lnTo>
                      <a:lnTo>
                        <a:pt x="78" y="36"/>
                      </a:lnTo>
                      <a:lnTo>
                        <a:pt x="78" y="53"/>
                      </a:lnTo>
                      <a:lnTo>
                        <a:pt x="78" y="77"/>
                      </a:lnTo>
                      <a:lnTo>
                        <a:pt x="78" y="89"/>
                      </a:lnTo>
                      <a:lnTo>
                        <a:pt x="90" y="125"/>
                      </a:lnTo>
                      <a:lnTo>
                        <a:pt x="96" y="137"/>
                      </a:lnTo>
                      <a:lnTo>
                        <a:pt x="84" y="131"/>
                      </a:lnTo>
                      <a:lnTo>
                        <a:pt x="48" y="149"/>
                      </a:lnTo>
                      <a:lnTo>
                        <a:pt x="30" y="149"/>
                      </a:lnTo>
                      <a:lnTo>
                        <a:pt x="18" y="161"/>
                      </a:lnTo>
                      <a:lnTo>
                        <a:pt x="0" y="113"/>
                      </a:lnTo>
                      <a:lnTo>
                        <a:pt x="6" y="113"/>
                      </a:lnTo>
                      <a:lnTo>
                        <a:pt x="12" y="101"/>
                      </a:lnTo>
                      <a:lnTo>
                        <a:pt x="30" y="83"/>
                      </a:lnTo>
                      <a:lnTo>
                        <a:pt x="42" y="65"/>
                      </a:lnTo>
                      <a:lnTo>
                        <a:pt x="42" y="47"/>
                      </a:lnTo>
                      <a:lnTo>
                        <a:pt x="42" y="18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37"/>
                <p:cNvSpPr/>
                <p:nvPr/>
              </p:nvSpPr>
              <p:spPr>
                <a:xfrm>
                  <a:off x="6464520" y="4164840"/>
                  <a:ext cx="249840" cy="29520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250" h="304">
                      <a:moveTo>
                        <a:pt x="0" y="24"/>
                      </a:moveTo>
                      <a:lnTo>
                        <a:pt x="12" y="18"/>
                      </a:lnTo>
                      <a:lnTo>
                        <a:pt x="36" y="24"/>
                      </a:lnTo>
                      <a:lnTo>
                        <a:pt x="42" y="18"/>
                      </a:lnTo>
                      <a:lnTo>
                        <a:pt x="42" y="12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77" y="6"/>
                      </a:lnTo>
                      <a:lnTo>
                        <a:pt x="83" y="6"/>
                      </a:lnTo>
                      <a:lnTo>
                        <a:pt x="95" y="24"/>
                      </a:lnTo>
                      <a:lnTo>
                        <a:pt x="107" y="29"/>
                      </a:lnTo>
                      <a:lnTo>
                        <a:pt x="125" y="29"/>
                      </a:lnTo>
                      <a:lnTo>
                        <a:pt x="143" y="35"/>
                      </a:lnTo>
                      <a:lnTo>
                        <a:pt x="161" y="29"/>
                      </a:lnTo>
                      <a:lnTo>
                        <a:pt x="167" y="41"/>
                      </a:lnTo>
                      <a:lnTo>
                        <a:pt x="173" y="53"/>
                      </a:lnTo>
                      <a:lnTo>
                        <a:pt x="209" y="71"/>
                      </a:lnTo>
                      <a:lnTo>
                        <a:pt x="220" y="77"/>
                      </a:lnTo>
                      <a:lnTo>
                        <a:pt x="232" y="83"/>
                      </a:lnTo>
                      <a:lnTo>
                        <a:pt x="238" y="83"/>
                      </a:lnTo>
                      <a:lnTo>
                        <a:pt x="238" y="95"/>
                      </a:lnTo>
                      <a:lnTo>
                        <a:pt x="232" y="107"/>
                      </a:lnTo>
                      <a:lnTo>
                        <a:pt x="238" y="131"/>
                      </a:lnTo>
                      <a:lnTo>
                        <a:pt x="226" y="137"/>
                      </a:lnTo>
                      <a:lnTo>
                        <a:pt x="226" y="149"/>
                      </a:lnTo>
                      <a:lnTo>
                        <a:pt x="226" y="155"/>
                      </a:lnTo>
                      <a:lnTo>
                        <a:pt x="244" y="191"/>
                      </a:lnTo>
                      <a:lnTo>
                        <a:pt x="250" y="203"/>
                      </a:lnTo>
                      <a:lnTo>
                        <a:pt x="244" y="208"/>
                      </a:lnTo>
                      <a:lnTo>
                        <a:pt x="238" y="226"/>
                      </a:lnTo>
                      <a:lnTo>
                        <a:pt x="238" y="250"/>
                      </a:lnTo>
                      <a:lnTo>
                        <a:pt x="232" y="250"/>
                      </a:lnTo>
                      <a:lnTo>
                        <a:pt x="232" y="268"/>
                      </a:lnTo>
                      <a:lnTo>
                        <a:pt x="226" y="298"/>
                      </a:lnTo>
                      <a:lnTo>
                        <a:pt x="215" y="304"/>
                      </a:lnTo>
                      <a:lnTo>
                        <a:pt x="203" y="298"/>
                      </a:lnTo>
                      <a:lnTo>
                        <a:pt x="191" y="298"/>
                      </a:lnTo>
                      <a:lnTo>
                        <a:pt x="191" y="286"/>
                      </a:lnTo>
                      <a:lnTo>
                        <a:pt x="191" y="274"/>
                      </a:lnTo>
                      <a:lnTo>
                        <a:pt x="185" y="274"/>
                      </a:lnTo>
                      <a:lnTo>
                        <a:pt x="179" y="268"/>
                      </a:lnTo>
                      <a:lnTo>
                        <a:pt x="173" y="262"/>
                      </a:lnTo>
                      <a:lnTo>
                        <a:pt x="155" y="256"/>
                      </a:lnTo>
                      <a:lnTo>
                        <a:pt x="137" y="250"/>
                      </a:lnTo>
                      <a:lnTo>
                        <a:pt x="89" y="256"/>
                      </a:lnTo>
                      <a:lnTo>
                        <a:pt x="77" y="268"/>
                      </a:lnTo>
                      <a:lnTo>
                        <a:pt x="65" y="256"/>
                      </a:lnTo>
                      <a:lnTo>
                        <a:pt x="59" y="250"/>
                      </a:lnTo>
                      <a:lnTo>
                        <a:pt x="59" y="232"/>
                      </a:lnTo>
                      <a:lnTo>
                        <a:pt x="65" y="208"/>
                      </a:lnTo>
                      <a:lnTo>
                        <a:pt x="65" y="149"/>
                      </a:lnTo>
                      <a:lnTo>
                        <a:pt x="65" y="137"/>
                      </a:lnTo>
                      <a:lnTo>
                        <a:pt x="42" y="107"/>
                      </a:lnTo>
                      <a:lnTo>
                        <a:pt x="24" y="95"/>
                      </a:lnTo>
                      <a:lnTo>
                        <a:pt x="18" y="77"/>
                      </a:lnTo>
                      <a:lnTo>
                        <a:pt x="18" y="71"/>
                      </a:lnTo>
                      <a:lnTo>
                        <a:pt x="24" y="65"/>
                      </a:lnTo>
                      <a:lnTo>
                        <a:pt x="18" y="53"/>
                      </a:lnTo>
                      <a:lnTo>
                        <a:pt x="12" y="3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38"/>
                <p:cNvSpPr/>
                <p:nvPr/>
              </p:nvSpPr>
              <p:spPr>
                <a:xfrm>
                  <a:off x="6690240" y="4176720"/>
                  <a:ext cx="208800" cy="2311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209" h="238">
                      <a:moveTo>
                        <a:pt x="6" y="71"/>
                      </a:moveTo>
                      <a:lnTo>
                        <a:pt x="12" y="53"/>
                      </a:lnTo>
                      <a:lnTo>
                        <a:pt x="12" y="47"/>
                      </a:lnTo>
                      <a:lnTo>
                        <a:pt x="0" y="29"/>
                      </a:lnTo>
                      <a:lnTo>
                        <a:pt x="0" y="12"/>
                      </a:lnTo>
                      <a:lnTo>
                        <a:pt x="12" y="6"/>
                      </a:lnTo>
                      <a:lnTo>
                        <a:pt x="30" y="17"/>
                      </a:lnTo>
                      <a:lnTo>
                        <a:pt x="48" y="41"/>
                      </a:lnTo>
                      <a:lnTo>
                        <a:pt x="54" y="35"/>
                      </a:lnTo>
                      <a:lnTo>
                        <a:pt x="54" y="29"/>
                      </a:lnTo>
                      <a:lnTo>
                        <a:pt x="60" y="29"/>
                      </a:lnTo>
                      <a:lnTo>
                        <a:pt x="72" y="35"/>
                      </a:lnTo>
                      <a:lnTo>
                        <a:pt x="66" y="23"/>
                      </a:lnTo>
                      <a:lnTo>
                        <a:pt x="60" y="12"/>
                      </a:lnTo>
                      <a:lnTo>
                        <a:pt x="66" y="12"/>
                      </a:lnTo>
                      <a:lnTo>
                        <a:pt x="72" y="0"/>
                      </a:lnTo>
                      <a:lnTo>
                        <a:pt x="78" y="6"/>
                      </a:lnTo>
                      <a:lnTo>
                        <a:pt x="84" y="12"/>
                      </a:lnTo>
                      <a:lnTo>
                        <a:pt x="102" y="6"/>
                      </a:lnTo>
                      <a:lnTo>
                        <a:pt x="102" y="12"/>
                      </a:lnTo>
                      <a:lnTo>
                        <a:pt x="114" y="23"/>
                      </a:lnTo>
                      <a:lnTo>
                        <a:pt x="120" y="47"/>
                      </a:lnTo>
                      <a:lnTo>
                        <a:pt x="120" y="59"/>
                      </a:lnTo>
                      <a:lnTo>
                        <a:pt x="114" y="65"/>
                      </a:lnTo>
                      <a:lnTo>
                        <a:pt x="114" y="71"/>
                      </a:lnTo>
                      <a:lnTo>
                        <a:pt x="138" y="71"/>
                      </a:lnTo>
                      <a:lnTo>
                        <a:pt x="144" y="59"/>
                      </a:lnTo>
                      <a:lnTo>
                        <a:pt x="150" y="59"/>
                      </a:lnTo>
                      <a:lnTo>
                        <a:pt x="156" y="65"/>
                      </a:lnTo>
                      <a:lnTo>
                        <a:pt x="162" y="65"/>
                      </a:lnTo>
                      <a:lnTo>
                        <a:pt x="197" y="89"/>
                      </a:lnTo>
                      <a:lnTo>
                        <a:pt x="191" y="89"/>
                      </a:lnTo>
                      <a:lnTo>
                        <a:pt x="209" y="137"/>
                      </a:lnTo>
                      <a:lnTo>
                        <a:pt x="203" y="185"/>
                      </a:lnTo>
                      <a:lnTo>
                        <a:pt x="197" y="214"/>
                      </a:lnTo>
                      <a:lnTo>
                        <a:pt x="185" y="226"/>
                      </a:lnTo>
                      <a:lnTo>
                        <a:pt x="179" y="226"/>
                      </a:lnTo>
                      <a:lnTo>
                        <a:pt x="173" y="232"/>
                      </a:lnTo>
                      <a:lnTo>
                        <a:pt x="167" y="238"/>
                      </a:lnTo>
                      <a:lnTo>
                        <a:pt x="156" y="232"/>
                      </a:lnTo>
                      <a:lnTo>
                        <a:pt x="150" y="202"/>
                      </a:lnTo>
                      <a:lnTo>
                        <a:pt x="144" y="196"/>
                      </a:lnTo>
                      <a:lnTo>
                        <a:pt x="126" y="196"/>
                      </a:lnTo>
                      <a:lnTo>
                        <a:pt x="108" y="196"/>
                      </a:lnTo>
                      <a:lnTo>
                        <a:pt x="102" y="191"/>
                      </a:lnTo>
                      <a:lnTo>
                        <a:pt x="90" y="191"/>
                      </a:lnTo>
                      <a:lnTo>
                        <a:pt x="66" y="196"/>
                      </a:lnTo>
                      <a:lnTo>
                        <a:pt x="36" y="185"/>
                      </a:lnTo>
                      <a:lnTo>
                        <a:pt x="24" y="191"/>
                      </a:lnTo>
                      <a:lnTo>
                        <a:pt x="18" y="179"/>
                      </a:lnTo>
                      <a:lnTo>
                        <a:pt x="0" y="143"/>
                      </a:lnTo>
                      <a:lnTo>
                        <a:pt x="0" y="137"/>
                      </a:lnTo>
                      <a:lnTo>
                        <a:pt x="0" y="125"/>
                      </a:lnTo>
                      <a:lnTo>
                        <a:pt x="12" y="119"/>
                      </a:lnTo>
                      <a:lnTo>
                        <a:pt x="6" y="95"/>
                      </a:lnTo>
                      <a:lnTo>
                        <a:pt x="12" y="83"/>
                      </a:lnTo>
                      <a:lnTo>
                        <a:pt x="12" y="71"/>
                      </a:lnTo>
                      <a:lnTo>
                        <a:pt x="6" y="71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39"/>
                <p:cNvSpPr/>
                <p:nvPr/>
              </p:nvSpPr>
              <p:spPr>
                <a:xfrm>
                  <a:off x="7019280" y="4182480"/>
                  <a:ext cx="183960" cy="21924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84" h="226">
                      <a:moveTo>
                        <a:pt x="23" y="59"/>
                      </a:moveTo>
                      <a:lnTo>
                        <a:pt x="29" y="47"/>
                      </a:lnTo>
                      <a:lnTo>
                        <a:pt x="59" y="35"/>
                      </a:lnTo>
                      <a:lnTo>
                        <a:pt x="59" y="23"/>
                      </a:lnTo>
                      <a:lnTo>
                        <a:pt x="59" y="11"/>
                      </a:lnTo>
                      <a:lnTo>
                        <a:pt x="65" y="6"/>
                      </a:lnTo>
                      <a:lnTo>
                        <a:pt x="77" y="6"/>
                      </a:lnTo>
                      <a:lnTo>
                        <a:pt x="95" y="0"/>
                      </a:lnTo>
                      <a:lnTo>
                        <a:pt x="113" y="17"/>
                      </a:lnTo>
                      <a:lnTo>
                        <a:pt x="137" y="41"/>
                      </a:lnTo>
                      <a:lnTo>
                        <a:pt x="167" y="65"/>
                      </a:lnTo>
                      <a:lnTo>
                        <a:pt x="167" y="71"/>
                      </a:lnTo>
                      <a:lnTo>
                        <a:pt x="179" y="71"/>
                      </a:lnTo>
                      <a:lnTo>
                        <a:pt x="184" y="83"/>
                      </a:lnTo>
                      <a:lnTo>
                        <a:pt x="179" y="95"/>
                      </a:lnTo>
                      <a:lnTo>
                        <a:pt x="173" y="131"/>
                      </a:lnTo>
                      <a:lnTo>
                        <a:pt x="167" y="173"/>
                      </a:lnTo>
                      <a:lnTo>
                        <a:pt x="143" y="208"/>
                      </a:lnTo>
                      <a:lnTo>
                        <a:pt x="143" y="220"/>
                      </a:lnTo>
                      <a:lnTo>
                        <a:pt x="125" y="226"/>
                      </a:lnTo>
                      <a:lnTo>
                        <a:pt x="119" y="214"/>
                      </a:lnTo>
                      <a:lnTo>
                        <a:pt x="119" y="208"/>
                      </a:lnTo>
                      <a:lnTo>
                        <a:pt x="113" y="208"/>
                      </a:lnTo>
                      <a:lnTo>
                        <a:pt x="101" y="202"/>
                      </a:lnTo>
                      <a:lnTo>
                        <a:pt x="95" y="196"/>
                      </a:lnTo>
                      <a:lnTo>
                        <a:pt x="83" y="196"/>
                      </a:lnTo>
                      <a:lnTo>
                        <a:pt x="71" y="190"/>
                      </a:lnTo>
                      <a:lnTo>
                        <a:pt x="77" y="167"/>
                      </a:lnTo>
                      <a:lnTo>
                        <a:pt x="77" y="161"/>
                      </a:lnTo>
                      <a:lnTo>
                        <a:pt x="77" y="149"/>
                      </a:lnTo>
                      <a:lnTo>
                        <a:pt x="71" y="143"/>
                      </a:lnTo>
                      <a:lnTo>
                        <a:pt x="41" y="137"/>
                      </a:lnTo>
                      <a:lnTo>
                        <a:pt x="11" y="113"/>
                      </a:lnTo>
                      <a:lnTo>
                        <a:pt x="0" y="101"/>
                      </a:lnTo>
                      <a:lnTo>
                        <a:pt x="0" y="89"/>
                      </a:lnTo>
                      <a:lnTo>
                        <a:pt x="6" y="83"/>
                      </a:lnTo>
                      <a:lnTo>
                        <a:pt x="23" y="71"/>
                      </a:lnTo>
                      <a:lnTo>
                        <a:pt x="23" y="59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40"/>
                <p:cNvSpPr/>
                <p:nvPr/>
              </p:nvSpPr>
              <p:spPr>
                <a:xfrm>
                  <a:off x="6315480" y="4188240"/>
                  <a:ext cx="213840" cy="236880"/>
                </a:xfrm>
                <a:custGeom>
                  <a:avLst/>
                  <a:gdLst>
                    <a:gd name="textAreaLeft" fmla="*/ 0 w 213840"/>
                    <a:gd name="textAreaRight" fmla="*/ 214200 w 2138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214" h="244">
                      <a:moveTo>
                        <a:pt x="131" y="29"/>
                      </a:moveTo>
                      <a:lnTo>
                        <a:pt x="137" y="29"/>
                      </a:lnTo>
                      <a:lnTo>
                        <a:pt x="143" y="23"/>
                      </a:lnTo>
                      <a:lnTo>
                        <a:pt x="149" y="0"/>
                      </a:lnTo>
                      <a:lnTo>
                        <a:pt x="161" y="11"/>
                      </a:lnTo>
                      <a:lnTo>
                        <a:pt x="167" y="29"/>
                      </a:lnTo>
                      <a:lnTo>
                        <a:pt x="173" y="41"/>
                      </a:lnTo>
                      <a:lnTo>
                        <a:pt x="167" y="47"/>
                      </a:lnTo>
                      <a:lnTo>
                        <a:pt x="167" y="53"/>
                      </a:lnTo>
                      <a:lnTo>
                        <a:pt x="173" y="71"/>
                      </a:lnTo>
                      <a:lnTo>
                        <a:pt x="191" y="83"/>
                      </a:lnTo>
                      <a:lnTo>
                        <a:pt x="214" y="113"/>
                      </a:lnTo>
                      <a:lnTo>
                        <a:pt x="214" y="125"/>
                      </a:lnTo>
                      <a:lnTo>
                        <a:pt x="214" y="184"/>
                      </a:lnTo>
                      <a:lnTo>
                        <a:pt x="208" y="208"/>
                      </a:lnTo>
                      <a:lnTo>
                        <a:pt x="208" y="226"/>
                      </a:lnTo>
                      <a:lnTo>
                        <a:pt x="185" y="232"/>
                      </a:lnTo>
                      <a:lnTo>
                        <a:pt x="185" y="238"/>
                      </a:lnTo>
                      <a:lnTo>
                        <a:pt x="167" y="238"/>
                      </a:lnTo>
                      <a:lnTo>
                        <a:pt x="155" y="232"/>
                      </a:lnTo>
                      <a:lnTo>
                        <a:pt x="149" y="220"/>
                      </a:lnTo>
                      <a:lnTo>
                        <a:pt x="143" y="220"/>
                      </a:lnTo>
                      <a:lnTo>
                        <a:pt x="119" y="220"/>
                      </a:lnTo>
                      <a:lnTo>
                        <a:pt x="113" y="226"/>
                      </a:lnTo>
                      <a:lnTo>
                        <a:pt x="113" y="232"/>
                      </a:lnTo>
                      <a:lnTo>
                        <a:pt x="113" y="244"/>
                      </a:lnTo>
                      <a:lnTo>
                        <a:pt x="95" y="244"/>
                      </a:lnTo>
                      <a:lnTo>
                        <a:pt x="71" y="238"/>
                      </a:lnTo>
                      <a:lnTo>
                        <a:pt x="47" y="238"/>
                      </a:lnTo>
                      <a:lnTo>
                        <a:pt x="23" y="238"/>
                      </a:lnTo>
                      <a:lnTo>
                        <a:pt x="23" y="220"/>
                      </a:lnTo>
                      <a:lnTo>
                        <a:pt x="12" y="202"/>
                      </a:lnTo>
                      <a:lnTo>
                        <a:pt x="0" y="167"/>
                      </a:lnTo>
                      <a:lnTo>
                        <a:pt x="6" y="161"/>
                      </a:lnTo>
                      <a:lnTo>
                        <a:pt x="6" y="155"/>
                      </a:lnTo>
                      <a:lnTo>
                        <a:pt x="53" y="161"/>
                      </a:lnTo>
                      <a:lnTo>
                        <a:pt x="71" y="167"/>
                      </a:lnTo>
                      <a:lnTo>
                        <a:pt x="83" y="167"/>
                      </a:lnTo>
                      <a:lnTo>
                        <a:pt x="95" y="161"/>
                      </a:lnTo>
                      <a:lnTo>
                        <a:pt x="107" y="161"/>
                      </a:lnTo>
                      <a:lnTo>
                        <a:pt x="113" y="167"/>
                      </a:lnTo>
                      <a:lnTo>
                        <a:pt x="119" y="173"/>
                      </a:lnTo>
                      <a:lnTo>
                        <a:pt x="131" y="202"/>
                      </a:lnTo>
                      <a:lnTo>
                        <a:pt x="143" y="208"/>
                      </a:lnTo>
                      <a:lnTo>
                        <a:pt x="149" y="208"/>
                      </a:lnTo>
                      <a:lnTo>
                        <a:pt x="149" y="190"/>
                      </a:lnTo>
                      <a:lnTo>
                        <a:pt x="143" y="179"/>
                      </a:lnTo>
                      <a:lnTo>
                        <a:pt x="137" y="167"/>
                      </a:lnTo>
                      <a:lnTo>
                        <a:pt x="143" y="149"/>
                      </a:lnTo>
                      <a:lnTo>
                        <a:pt x="143" y="143"/>
                      </a:lnTo>
                      <a:lnTo>
                        <a:pt x="149" y="119"/>
                      </a:lnTo>
                      <a:lnTo>
                        <a:pt x="143" y="89"/>
                      </a:lnTo>
                      <a:lnTo>
                        <a:pt x="137" y="59"/>
                      </a:lnTo>
                      <a:lnTo>
                        <a:pt x="137" y="53"/>
                      </a:lnTo>
                      <a:lnTo>
                        <a:pt x="131" y="29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41"/>
                <p:cNvSpPr/>
                <p:nvPr/>
              </p:nvSpPr>
              <p:spPr>
                <a:xfrm>
                  <a:off x="6309360" y="4216680"/>
                  <a:ext cx="154800" cy="17352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155" h="179">
                      <a:moveTo>
                        <a:pt x="24" y="90"/>
                      </a:moveTo>
                      <a:lnTo>
                        <a:pt x="35" y="78"/>
                      </a:lnTo>
                      <a:lnTo>
                        <a:pt x="29" y="72"/>
                      </a:lnTo>
                      <a:lnTo>
                        <a:pt x="6" y="54"/>
                      </a:lnTo>
                      <a:lnTo>
                        <a:pt x="0" y="48"/>
                      </a:lnTo>
                      <a:lnTo>
                        <a:pt x="6" y="42"/>
                      </a:lnTo>
                      <a:lnTo>
                        <a:pt x="24" y="24"/>
                      </a:lnTo>
                      <a:lnTo>
                        <a:pt x="41" y="24"/>
                      </a:lnTo>
                      <a:lnTo>
                        <a:pt x="47" y="18"/>
                      </a:lnTo>
                      <a:lnTo>
                        <a:pt x="53" y="18"/>
                      </a:lnTo>
                      <a:lnTo>
                        <a:pt x="77" y="30"/>
                      </a:lnTo>
                      <a:lnTo>
                        <a:pt x="83" y="30"/>
                      </a:lnTo>
                      <a:lnTo>
                        <a:pt x="89" y="24"/>
                      </a:lnTo>
                      <a:lnTo>
                        <a:pt x="83" y="12"/>
                      </a:lnTo>
                      <a:lnTo>
                        <a:pt x="89" y="6"/>
                      </a:lnTo>
                      <a:lnTo>
                        <a:pt x="95" y="0"/>
                      </a:lnTo>
                      <a:lnTo>
                        <a:pt x="113" y="0"/>
                      </a:lnTo>
                      <a:lnTo>
                        <a:pt x="119" y="0"/>
                      </a:lnTo>
                      <a:lnTo>
                        <a:pt x="131" y="0"/>
                      </a:lnTo>
                      <a:lnTo>
                        <a:pt x="137" y="0"/>
                      </a:lnTo>
                      <a:lnTo>
                        <a:pt x="143" y="24"/>
                      </a:lnTo>
                      <a:lnTo>
                        <a:pt x="143" y="30"/>
                      </a:lnTo>
                      <a:lnTo>
                        <a:pt x="149" y="60"/>
                      </a:lnTo>
                      <a:lnTo>
                        <a:pt x="155" y="90"/>
                      </a:lnTo>
                      <a:lnTo>
                        <a:pt x="149" y="114"/>
                      </a:lnTo>
                      <a:lnTo>
                        <a:pt x="149" y="120"/>
                      </a:lnTo>
                      <a:lnTo>
                        <a:pt x="143" y="138"/>
                      </a:lnTo>
                      <a:lnTo>
                        <a:pt x="149" y="150"/>
                      </a:lnTo>
                      <a:lnTo>
                        <a:pt x="155" y="161"/>
                      </a:lnTo>
                      <a:lnTo>
                        <a:pt x="155" y="179"/>
                      </a:lnTo>
                      <a:lnTo>
                        <a:pt x="149" y="179"/>
                      </a:lnTo>
                      <a:lnTo>
                        <a:pt x="137" y="173"/>
                      </a:lnTo>
                      <a:lnTo>
                        <a:pt x="125" y="144"/>
                      </a:lnTo>
                      <a:lnTo>
                        <a:pt x="119" y="138"/>
                      </a:lnTo>
                      <a:lnTo>
                        <a:pt x="113" y="132"/>
                      </a:lnTo>
                      <a:lnTo>
                        <a:pt x="101" y="132"/>
                      </a:lnTo>
                      <a:lnTo>
                        <a:pt x="89" y="138"/>
                      </a:lnTo>
                      <a:lnTo>
                        <a:pt x="77" y="138"/>
                      </a:lnTo>
                      <a:lnTo>
                        <a:pt x="59" y="132"/>
                      </a:lnTo>
                      <a:lnTo>
                        <a:pt x="12" y="126"/>
                      </a:lnTo>
                      <a:lnTo>
                        <a:pt x="24" y="9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42"/>
                <p:cNvSpPr/>
                <p:nvPr/>
              </p:nvSpPr>
              <p:spPr>
                <a:xfrm>
                  <a:off x="6959520" y="4228200"/>
                  <a:ext cx="136800" cy="14472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137" h="14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36" y="0"/>
                      </a:lnTo>
                      <a:lnTo>
                        <a:pt x="48" y="6"/>
                      </a:lnTo>
                      <a:lnTo>
                        <a:pt x="71" y="6"/>
                      </a:lnTo>
                      <a:lnTo>
                        <a:pt x="83" y="12"/>
                      </a:lnTo>
                      <a:lnTo>
                        <a:pt x="83" y="24"/>
                      </a:lnTo>
                      <a:lnTo>
                        <a:pt x="66" y="36"/>
                      </a:lnTo>
                      <a:lnTo>
                        <a:pt x="60" y="42"/>
                      </a:lnTo>
                      <a:lnTo>
                        <a:pt x="60" y="54"/>
                      </a:lnTo>
                      <a:lnTo>
                        <a:pt x="71" y="66"/>
                      </a:lnTo>
                      <a:lnTo>
                        <a:pt x="101" y="90"/>
                      </a:lnTo>
                      <a:lnTo>
                        <a:pt x="131" y="96"/>
                      </a:lnTo>
                      <a:lnTo>
                        <a:pt x="137" y="102"/>
                      </a:lnTo>
                      <a:lnTo>
                        <a:pt x="137" y="114"/>
                      </a:lnTo>
                      <a:lnTo>
                        <a:pt x="137" y="120"/>
                      </a:lnTo>
                      <a:lnTo>
                        <a:pt x="131" y="143"/>
                      </a:lnTo>
                      <a:lnTo>
                        <a:pt x="95" y="138"/>
                      </a:lnTo>
                      <a:lnTo>
                        <a:pt x="89" y="138"/>
                      </a:lnTo>
                      <a:lnTo>
                        <a:pt x="77" y="149"/>
                      </a:lnTo>
                      <a:lnTo>
                        <a:pt x="71" y="143"/>
                      </a:lnTo>
                      <a:lnTo>
                        <a:pt x="77" y="138"/>
                      </a:lnTo>
                      <a:lnTo>
                        <a:pt x="77" y="132"/>
                      </a:lnTo>
                      <a:lnTo>
                        <a:pt x="77" y="120"/>
                      </a:lnTo>
                      <a:lnTo>
                        <a:pt x="60" y="108"/>
                      </a:lnTo>
                      <a:lnTo>
                        <a:pt x="48" y="90"/>
                      </a:lnTo>
                      <a:lnTo>
                        <a:pt x="42" y="84"/>
                      </a:lnTo>
                      <a:lnTo>
                        <a:pt x="30" y="72"/>
                      </a:lnTo>
                      <a:lnTo>
                        <a:pt x="18" y="60"/>
                      </a:lnTo>
                      <a:lnTo>
                        <a:pt x="12" y="48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43"/>
                <p:cNvSpPr/>
                <p:nvPr/>
              </p:nvSpPr>
              <p:spPr>
                <a:xfrm>
                  <a:off x="5557320" y="4263120"/>
                  <a:ext cx="411840" cy="214560"/>
                </a:xfrm>
                <a:custGeom>
                  <a:avLst/>
                  <a:gdLst>
                    <a:gd name="textAreaLeft" fmla="*/ 0 w 411840"/>
                    <a:gd name="textAreaRight" fmla="*/ 412200 w 41184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412" h="221">
                      <a:moveTo>
                        <a:pt x="245" y="0"/>
                      </a:moveTo>
                      <a:lnTo>
                        <a:pt x="245" y="12"/>
                      </a:lnTo>
                      <a:lnTo>
                        <a:pt x="245" y="24"/>
                      </a:lnTo>
                      <a:lnTo>
                        <a:pt x="251" y="36"/>
                      </a:lnTo>
                      <a:lnTo>
                        <a:pt x="257" y="54"/>
                      </a:lnTo>
                      <a:lnTo>
                        <a:pt x="257" y="60"/>
                      </a:lnTo>
                      <a:lnTo>
                        <a:pt x="268" y="66"/>
                      </a:lnTo>
                      <a:lnTo>
                        <a:pt x="274" y="72"/>
                      </a:lnTo>
                      <a:lnTo>
                        <a:pt x="274" y="90"/>
                      </a:lnTo>
                      <a:lnTo>
                        <a:pt x="280" y="107"/>
                      </a:lnTo>
                      <a:lnTo>
                        <a:pt x="286" y="113"/>
                      </a:lnTo>
                      <a:lnTo>
                        <a:pt x="298" y="119"/>
                      </a:lnTo>
                      <a:lnTo>
                        <a:pt x="316" y="119"/>
                      </a:lnTo>
                      <a:lnTo>
                        <a:pt x="340" y="125"/>
                      </a:lnTo>
                      <a:lnTo>
                        <a:pt x="388" y="143"/>
                      </a:lnTo>
                      <a:lnTo>
                        <a:pt x="400" y="143"/>
                      </a:lnTo>
                      <a:lnTo>
                        <a:pt x="406" y="149"/>
                      </a:lnTo>
                      <a:lnTo>
                        <a:pt x="400" y="161"/>
                      </a:lnTo>
                      <a:lnTo>
                        <a:pt x="406" y="167"/>
                      </a:lnTo>
                      <a:lnTo>
                        <a:pt x="412" y="179"/>
                      </a:lnTo>
                      <a:lnTo>
                        <a:pt x="400" y="197"/>
                      </a:lnTo>
                      <a:lnTo>
                        <a:pt x="388" y="215"/>
                      </a:lnTo>
                      <a:lnTo>
                        <a:pt x="370" y="221"/>
                      </a:lnTo>
                      <a:lnTo>
                        <a:pt x="352" y="215"/>
                      </a:lnTo>
                      <a:lnTo>
                        <a:pt x="346" y="215"/>
                      </a:lnTo>
                      <a:lnTo>
                        <a:pt x="340" y="215"/>
                      </a:lnTo>
                      <a:lnTo>
                        <a:pt x="334" y="203"/>
                      </a:lnTo>
                      <a:lnTo>
                        <a:pt x="328" y="191"/>
                      </a:lnTo>
                      <a:lnTo>
                        <a:pt x="280" y="167"/>
                      </a:lnTo>
                      <a:lnTo>
                        <a:pt x="257" y="161"/>
                      </a:lnTo>
                      <a:lnTo>
                        <a:pt x="239" y="143"/>
                      </a:lnTo>
                      <a:lnTo>
                        <a:pt x="221" y="137"/>
                      </a:lnTo>
                      <a:lnTo>
                        <a:pt x="203" y="119"/>
                      </a:lnTo>
                      <a:lnTo>
                        <a:pt x="197" y="107"/>
                      </a:lnTo>
                      <a:lnTo>
                        <a:pt x="191" y="102"/>
                      </a:lnTo>
                      <a:lnTo>
                        <a:pt x="173" y="96"/>
                      </a:lnTo>
                      <a:lnTo>
                        <a:pt x="143" y="102"/>
                      </a:lnTo>
                      <a:lnTo>
                        <a:pt x="137" y="107"/>
                      </a:lnTo>
                      <a:lnTo>
                        <a:pt x="143" y="119"/>
                      </a:lnTo>
                      <a:lnTo>
                        <a:pt x="149" y="125"/>
                      </a:lnTo>
                      <a:lnTo>
                        <a:pt x="149" y="131"/>
                      </a:lnTo>
                      <a:lnTo>
                        <a:pt x="119" y="131"/>
                      </a:lnTo>
                      <a:lnTo>
                        <a:pt x="101" y="131"/>
                      </a:lnTo>
                      <a:lnTo>
                        <a:pt x="78" y="131"/>
                      </a:lnTo>
                      <a:lnTo>
                        <a:pt x="84" y="143"/>
                      </a:lnTo>
                      <a:lnTo>
                        <a:pt x="107" y="155"/>
                      </a:lnTo>
                      <a:lnTo>
                        <a:pt x="125" y="161"/>
                      </a:lnTo>
                      <a:lnTo>
                        <a:pt x="137" y="161"/>
                      </a:lnTo>
                      <a:lnTo>
                        <a:pt x="149" y="185"/>
                      </a:lnTo>
                      <a:lnTo>
                        <a:pt x="149" y="191"/>
                      </a:lnTo>
                      <a:lnTo>
                        <a:pt x="137" y="197"/>
                      </a:lnTo>
                      <a:lnTo>
                        <a:pt x="119" y="197"/>
                      </a:lnTo>
                      <a:lnTo>
                        <a:pt x="101" y="191"/>
                      </a:lnTo>
                      <a:lnTo>
                        <a:pt x="101" y="173"/>
                      </a:lnTo>
                      <a:lnTo>
                        <a:pt x="95" y="167"/>
                      </a:lnTo>
                      <a:lnTo>
                        <a:pt x="66" y="155"/>
                      </a:lnTo>
                      <a:lnTo>
                        <a:pt x="6" y="143"/>
                      </a:lnTo>
                      <a:lnTo>
                        <a:pt x="0" y="125"/>
                      </a:lnTo>
                      <a:lnTo>
                        <a:pt x="12" y="131"/>
                      </a:lnTo>
                      <a:lnTo>
                        <a:pt x="72" y="113"/>
                      </a:lnTo>
                      <a:lnTo>
                        <a:pt x="107" y="102"/>
                      </a:lnTo>
                      <a:lnTo>
                        <a:pt x="125" y="96"/>
                      </a:lnTo>
                      <a:lnTo>
                        <a:pt x="143" y="72"/>
                      </a:lnTo>
                      <a:lnTo>
                        <a:pt x="155" y="60"/>
                      </a:lnTo>
                      <a:lnTo>
                        <a:pt x="155" y="48"/>
                      </a:lnTo>
                      <a:lnTo>
                        <a:pt x="167" y="42"/>
                      </a:lnTo>
                      <a:lnTo>
                        <a:pt x="185" y="36"/>
                      </a:lnTo>
                      <a:lnTo>
                        <a:pt x="215" y="12"/>
                      </a:lnTo>
                      <a:lnTo>
                        <a:pt x="221" y="6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44"/>
                <p:cNvSpPr/>
                <p:nvPr/>
              </p:nvSpPr>
              <p:spPr>
                <a:xfrm>
                  <a:off x="6840360" y="4280760"/>
                  <a:ext cx="166680" cy="25560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w="167" h="263">
                      <a:moveTo>
                        <a:pt x="59" y="30"/>
                      </a:moveTo>
                      <a:lnTo>
                        <a:pt x="71" y="18"/>
                      </a:lnTo>
                      <a:lnTo>
                        <a:pt x="89" y="18"/>
                      </a:lnTo>
                      <a:lnTo>
                        <a:pt x="125" y="0"/>
                      </a:lnTo>
                      <a:lnTo>
                        <a:pt x="137" y="6"/>
                      </a:lnTo>
                      <a:lnTo>
                        <a:pt x="149" y="18"/>
                      </a:lnTo>
                      <a:lnTo>
                        <a:pt x="161" y="30"/>
                      </a:lnTo>
                      <a:lnTo>
                        <a:pt x="167" y="36"/>
                      </a:lnTo>
                      <a:lnTo>
                        <a:pt x="155" y="48"/>
                      </a:lnTo>
                      <a:lnTo>
                        <a:pt x="149" y="48"/>
                      </a:lnTo>
                      <a:lnTo>
                        <a:pt x="119" y="42"/>
                      </a:lnTo>
                      <a:lnTo>
                        <a:pt x="95" y="48"/>
                      </a:lnTo>
                      <a:lnTo>
                        <a:pt x="107" y="78"/>
                      </a:lnTo>
                      <a:lnTo>
                        <a:pt x="113" y="125"/>
                      </a:lnTo>
                      <a:lnTo>
                        <a:pt x="119" y="125"/>
                      </a:lnTo>
                      <a:lnTo>
                        <a:pt x="149" y="149"/>
                      </a:lnTo>
                      <a:lnTo>
                        <a:pt x="167" y="173"/>
                      </a:lnTo>
                      <a:lnTo>
                        <a:pt x="155" y="179"/>
                      </a:lnTo>
                      <a:lnTo>
                        <a:pt x="155" y="185"/>
                      </a:lnTo>
                      <a:lnTo>
                        <a:pt x="143" y="191"/>
                      </a:lnTo>
                      <a:lnTo>
                        <a:pt x="125" y="209"/>
                      </a:lnTo>
                      <a:lnTo>
                        <a:pt x="119" y="215"/>
                      </a:lnTo>
                      <a:lnTo>
                        <a:pt x="113" y="221"/>
                      </a:lnTo>
                      <a:lnTo>
                        <a:pt x="107" y="221"/>
                      </a:lnTo>
                      <a:lnTo>
                        <a:pt x="83" y="239"/>
                      </a:lnTo>
                      <a:lnTo>
                        <a:pt x="59" y="257"/>
                      </a:lnTo>
                      <a:lnTo>
                        <a:pt x="35" y="263"/>
                      </a:lnTo>
                      <a:lnTo>
                        <a:pt x="17" y="257"/>
                      </a:lnTo>
                      <a:lnTo>
                        <a:pt x="17" y="245"/>
                      </a:lnTo>
                      <a:lnTo>
                        <a:pt x="12" y="245"/>
                      </a:lnTo>
                      <a:lnTo>
                        <a:pt x="12" y="233"/>
                      </a:lnTo>
                      <a:lnTo>
                        <a:pt x="12" y="215"/>
                      </a:lnTo>
                      <a:lnTo>
                        <a:pt x="6" y="185"/>
                      </a:lnTo>
                      <a:lnTo>
                        <a:pt x="0" y="179"/>
                      </a:lnTo>
                      <a:lnTo>
                        <a:pt x="0" y="173"/>
                      </a:lnTo>
                      <a:lnTo>
                        <a:pt x="6" y="167"/>
                      </a:lnTo>
                      <a:lnTo>
                        <a:pt x="6" y="143"/>
                      </a:lnTo>
                      <a:lnTo>
                        <a:pt x="6" y="125"/>
                      </a:lnTo>
                      <a:lnTo>
                        <a:pt x="17" y="131"/>
                      </a:lnTo>
                      <a:lnTo>
                        <a:pt x="23" y="125"/>
                      </a:lnTo>
                      <a:lnTo>
                        <a:pt x="29" y="119"/>
                      </a:lnTo>
                      <a:lnTo>
                        <a:pt x="35" y="119"/>
                      </a:lnTo>
                      <a:lnTo>
                        <a:pt x="47" y="107"/>
                      </a:lnTo>
                      <a:lnTo>
                        <a:pt x="53" y="78"/>
                      </a:lnTo>
                      <a:lnTo>
                        <a:pt x="59" y="3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45"/>
                <p:cNvSpPr/>
                <p:nvPr/>
              </p:nvSpPr>
              <p:spPr>
                <a:xfrm>
                  <a:off x="6935400" y="4315680"/>
                  <a:ext cx="226800" cy="28944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227" h="298">
                      <a:moveTo>
                        <a:pt x="72" y="0"/>
                      </a:moveTo>
                      <a:lnTo>
                        <a:pt x="84" y="18"/>
                      </a:lnTo>
                      <a:lnTo>
                        <a:pt x="101" y="30"/>
                      </a:lnTo>
                      <a:lnTo>
                        <a:pt x="101" y="42"/>
                      </a:lnTo>
                      <a:lnTo>
                        <a:pt x="101" y="48"/>
                      </a:lnTo>
                      <a:lnTo>
                        <a:pt x="95" y="53"/>
                      </a:lnTo>
                      <a:lnTo>
                        <a:pt x="101" y="59"/>
                      </a:lnTo>
                      <a:lnTo>
                        <a:pt x="113" y="48"/>
                      </a:lnTo>
                      <a:lnTo>
                        <a:pt x="119" y="48"/>
                      </a:lnTo>
                      <a:lnTo>
                        <a:pt x="155" y="53"/>
                      </a:lnTo>
                      <a:lnTo>
                        <a:pt x="167" y="59"/>
                      </a:lnTo>
                      <a:lnTo>
                        <a:pt x="179" y="59"/>
                      </a:lnTo>
                      <a:lnTo>
                        <a:pt x="185" y="65"/>
                      </a:lnTo>
                      <a:lnTo>
                        <a:pt x="197" y="71"/>
                      </a:lnTo>
                      <a:lnTo>
                        <a:pt x="203" y="71"/>
                      </a:lnTo>
                      <a:lnTo>
                        <a:pt x="203" y="77"/>
                      </a:lnTo>
                      <a:lnTo>
                        <a:pt x="209" y="89"/>
                      </a:lnTo>
                      <a:lnTo>
                        <a:pt x="227" y="83"/>
                      </a:lnTo>
                      <a:lnTo>
                        <a:pt x="227" y="89"/>
                      </a:lnTo>
                      <a:lnTo>
                        <a:pt x="227" y="131"/>
                      </a:lnTo>
                      <a:lnTo>
                        <a:pt x="227" y="143"/>
                      </a:lnTo>
                      <a:lnTo>
                        <a:pt x="227" y="155"/>
                      </a:lnTo>
                      <a:lnTo>
                        <a:pt x="191" y="179"/>
                      </a:lnTo>
                      <a:lnTo>
                        <a:pt x="173" y="209"/>
                      </a:lnTo>
                      <a:lnTo>
                        <a:pt x="173" y="221"/>
                      </a:lnTo>
                      <a:lnTo>
                        <a:pt x="173" y="232"/>
                      </a:lnTo>
                      <a:lnTo>
                        <a:pt x="161" y="256"/>
                      </a:lnTo>
                      <a:lnTo>
                        <a:pt x="137" y="298"/>
                      </a:lnTo>
                      <a:lnTo>
                        <a:pt x="131" y="292"/>
                      </a:lnTo>
                      <a:lnTo>
                        <a:pt x="119" y="280"/>
                      </a:lnTo>
                      <a:lnTo>
                        <a:pt x="113" y="262"/>
                      </a:lnTo>
                      <a:lnTo>
                        <a:pt x="113" y="238"/>
                      </a:lnTo>
                      <a:lnTo>
                        <a:pt x="107" y="221"/>
                      </a:lnTo>
                      <a:lnTo>
                        <a:pt x="113" y="179"/>
                      </a:lnTo>
                      <a:lnTo>
                        <a:pt x="107" y="167"/>
                      </a:lnTo>
                      <a:lnTo>
                        <a:pt x="101" y="155"/>
                      </a:lnTo>
                      <a:lnTo>
                        <a:pt x="90" y="155"/>
                      </a:lnTo>
                      <a:lnTo>
                        <a:pt x="78" y="137"/>
                      </a:lnTo>
                      <a:lnTo>
                        <a:pt x="72" y="137"/>
                      </a:lnTo>
                      <a:lnTo>
                        <a:pt x="54" y="113"/>
                      </a:lnTo>
                      <a:lnTo>
                        <a:pt x="24" y="89"/>
                      </a:lnTo>
                      <a:lnTo>
                        <a:pt x="18" y="89"/>
                      </a:lnTo>
                      <a:lnTo>
                        <a:pt x="12" y="42"/>
                      </a:lnTo>
                      <a:lnTo>
                        <a:pt x="0" y="12"/>
                      </a:lnTo>
                      <a:lnTo>
                        <a:pt x="24" y="6"/>
                      </a:lnTo>
                      <a:lnTo>
                        <a:pt x="54" y="12"/>
                      </a:lnTo>
                      <a:lnTo>
                        <a:pt x="60" y="1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46"/>
                <p:cNvSpPr/>
                <p:nvPr/>
              </p:nvSpPr>
              <p:spPr>
                <a:xfrm>
                  <a:off x="5694480" y="4356360"/>
                  <a:ext cx="203040" cy="12708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203" h="131">
                      <a:moveTo>
                        <a:pt x="12" y="35"/>
                      </a:moveTo>
                      <a:lnTo>
                        <a:pt x="12" y="29"/>
                      </a:lnTo>
                      <a:lnTo>
                        <a:pt x="6" y="23"/>
                      </a:lnTo>
                      <a:lnTo>
                        <a:pt x="0" y="11"/>
                      </a:lnTo>
                      <a:lnTo>
                        <a:pt x="6" y="6"/>
                      </a:lnTo>
                      <a:lnTo>
                        <a:pt x="36" y="0"/>
                      </a:lnTo>
                      <a:lnTo>
                        <a:pt x="54" y="6"/>
                      </a:lnTo>
                      <a:lnTo>
                        <a:pt x="60" y="11"/>
                      </a:lnTo>
                      <a:lnTo>
                        <a:pt x="66" y="23"/>
                      </a:lnTo>
                      <a:lnTo>
                        <a:pt x="84" y="41"/>
                      </a:lnTo>
                      <a:lnTo>
                        <a:pt x="102" y="47"/>
                      </a:lnTo>
                      <a:lnTo>
                        <a:pt x="120" y="65"/>
                      </a:lnTo>
                      <a:lnTo>
                        <a:pt x="143" y="71"/>
                      </a:lnTo>
                      <a:lnTo>
                        <a:pt x="191" y="95"/>
                      </a:lnTo>
                      <a:lnTo>
                        <a:pt x="197" y="107"/>
                      </a:lnTo>
                      <a:lnTo>
                        <a:pt x="203" y="119"/>
                      </a:lnTo>
                      <a:lnTo>
                        <a:pt x="191" y="125"/>
                      </a:lnTo>
                      <a:lnTo>
                        <a:pt x="161" y="131"/>
                      </a:lnTo>
                      <a:lnTo>
                        <a:pt x="131" y="119"/>
                      </a:lnTo>
                      <a:lnTo>
                        <a:pt x="126" y="113"/>
                      </a:lnTo>
                      <a:lnTo>
                        <a:pt x="114" y="113"/>
                      </a:lnTo>
                      <a:lnTo>
                        <a:pt x="96" y="101"/>
                      </a:lnTo>
                      <a:lnTo>
                        <a:pt x="96" y="95"/>
                      </a:lnTo>
                      <a:lnTo>
                        <a:pt x="90" y="95"/>
                      </a:lnTo>
                      <a:lnTo>
                        <a:pt x="84" y="89"/>
                      </a:lnTo>
                      <a:lnTo>
                        <a:pt x="54" y="59"/>
                      </a:lnTo>
                      <a:lnTo>
                        <a:pt x="54" y="53"/>
                      </a:lnTo>
                      <a:lnTo>
                        <a:pt x="42" y="53"/>
                      </a:lnTo>
                      <a:lnTo>
                        <a:pt x="30" y="41"/>
                      </a:lnTo>
                      <a:lnTo>
                        <a:pt x="12" y="35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47"/>
                <p:cNvSpPr/>
                <p:nvPr/>
              </p:nvSpPr>
              <p:spPr>
                <a:xfrm>
                  <a:off x="6673320" y="4356360"/>
                  <a:ext cx="183960" cy="1843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184" h="190">
                      <a:moveTo>
                        <a:pt x="41" y="6"/>
                      </a:moveTo>
                      <a:lnTo>
                        <a:pt x="53" y="0"/>
                      </a:lnTo>
                      <a:lnTo>
                        <a:pt x="83" y="11"/>
                      </a:lnTo>
                      <a:lnTo>
                        <a:pt x="107" y="6"/>
                      </a:lnTo>
                      <a:lnTo>
                        <a:pt x="119" y="6"/>
                      </a:lnTo>
                      <a:lnTo>
                        <a:pt x="125" y="11"/>
                      </a:lnTo>
                      <a:lnTo>
                        <a:pt x="143" y="11"/>
                      </a:lnTo>
                      <a:lnTo>
                        <a:pt x="161" y="11"/>
                      </a:lnTo>
                      <a:lnTo>
                        <a:pt x="167" y="17"/>
                      </a:lnTo>
                      <a:lnTo>
                        <a:pt x="173" y="47"/>
                      </a:lnTo>
                      <a:lnTo>
                        <a:pt x="173" y="65"/>
                      </a:lnTo>
                      <a:lnTo>
                        <a:pt x="173" y="89"/>
                      </a:lnTo>
                      <a:lnTo>
                        <a:pt x="167" y="95"/>
                      </a:lnTo>
                      <a:lnTo>
                        <a:pt x="167" y="101"/>
                      </a:lnTo>
                      <a:lnTo>
                        <a:pt x="173" y="107"/>
                      </a:lnTo>
                      <a:lnTo>
                        <a:pt x="179" y="137"/>
                      </a:lnTo>
                      <a:lnTo>
                        <a:pt x="179" y="155"/>
                      </a:lnTo>
                      <a:lnTo>
                        <a:pt x="179" y="167"/>
                      </a:lnTo>
                      <a:lnTo>
                        <a:pt x="184" y="167"/>
                      </a:lnTo>
                      <a:lnTo>
                        <a:pt x="184" y="179"/>
                      </a:lnTo>
                      <a:lnTo>
                        <a:pt x="173" y="190"/>
                      </a:lnTo>
                      <a:lnTo>
                        <a:pt x="167" y="185"/>
                      </a:lnTo>
                      <a:lnTo>
                        <a:pt x="143" y="185"/>
                      </a:lnTo>
                      <a:lnTo>
                        <a:pt x="119" y="185"/>
                      </a:lnTo>
                      <a:lnTo>
                        <a:pt x="101" y="167"/>
                      </a:lnTo>
                      <a:lnTo>
                        <a:pt x="83" y="149"/>
                      </a:lnTo>
                      <a:lnTo>
                        <a:pt x="71" y="149"/>
                      </a:lnTo>
                      <a:lnTo>
                        <a:pt x="59" y="149"/>
                      </a:lnTo>
                      <a:lnTo>
                        <a:pt x="23" y="149"/>
                      </a:lnTo>
                      <a:lnTo>
                        <a:pt x="17" y="149"/>
                      </a:lnTo>
                      <a:lnTo>
                        <a:pt x="0" y="131"/>
                      </a:lnTo>
                      <a:lnTo>
                        <a:pt x="0" y="125"/>
                      </a:lnTo>
                      <a:lnTo>
                        <a:pt x="6" y="125"/>
                      </a:lnTo>
                      <a:lnTo>
                        <a:pt x="6" y="107"/>
                      </a:lnTo>
                      <a:lnTo>
                        <a:pt x="17" y="101"/>
                      </a:lnTo>
                      <a:lnTo>
                        <a:pt x="23" y="71"/>
                      </a:lnTo>
                      <a:lnTo>
                        <a:pt x="23" y="53"/>
                      </a:lnTo>
                      <a:lnTo>
                        <a:pt x="29" y="53"/>
                      </a:lnTo>
                      <a:lnTo>
                        <a:pt x="29" y="29"/>
                      </a:lnTo>
                      <a:lnTo>
                        <a:pt x="35" y="11"/>
                      </a:lnTo>
                      <a:lnTo>
                        <a:pt x="41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48"/>
                <p:cNvSpPr/>
                <p:nvPr/>
              </p:nvSpPr>
              <p:spPr>
                <a:xfrm>
                  <a:off x="5885640" y="4367160"/>
                  <a:ext cx="291600" cy="237960"/>
                </a:xfrm>
                <a:custGeom>
                  <a:avLst/>
                  <a:gdLst>
                    <a:gd name="textAreaLeft" fmla="*/ 0 w 291600"/>
                    <a:gd name="textAreaRight" fmla="*/ 291960 w 2916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292" h="245">
                      <a:moveTo>
                        <a:pt x="84" y="72"/>
                      </a:moveTo>
                      <a:lnTo>
                        <a:pt x="108" y="78"/>
                      </a:lnTo>
                      <a:lnTo>
                        <a:pt x="113" y="72"/>
                      </a:lnTo>
                      <a:lnTo>
                        <a:pt x="125" y="54"/>
                      </a:lnTo>
                      <a:lnTo>
                        <a:pt x="137" y="48"/>
                      </a:lnTo>
                      <a:lnTo>
                        <a:pt x="143" y="48"/>
                      </a:lnTo>
                      <a:lnTo>
                        <a:pt x="167" y="42"/>
                      </a:lnTo>
                      <a:lnTo>
                        <a:pt x="173" y="30"/>
                      </a:lnTo>
                      <a:lnTo>
                        <a:pt x="173" y="12"/>
                      </a:lnTo>
                      <a:lnTo>
                        <a:pt x="185" y="0"/>
                      </a:lnTo>
                      <a:lnTo>
                        <a:pt x="185" y="6"/>
                      </a:lnTo>
                      <a:lnTo>
                        <a:pt x="197" y="18"/>
                      </a:lnTo>
                      <a:lnTo>
                        <a:pt x="203" y="24"/>
                      </a:lnTo>
                      <a:lnTo>
                        <a:pt x="221" y="24"/>
                      </a:lnTo>
                      <a:lnTo>
                        <a:pt x="233" y="12"/>
                      </a:lnTo>
                      <a:lnTo>
                        <a:pt x="239" y="18"/>
                      </a:lnTo>
                      <a:lnTo>
                        <a:pt x="239" y="30"/>
                      </a:lnTo>
                      <a:lnTo>
                        <a:pt x="239" y="42"/>
                      </a:lnTo>
                      <a:lnTo>
                        <a:pt x="239" y="54"/>
                      </a:lnTo>
                      <a:lnTo>
                        <a:pt x="239" y="60"/>
                      </a:lnTo>
                      <a:lnTo>
                        <a:pt x="245" y="60"/>
                      </a:lnTo>
                      <a:lnTo>
                        <a:pt x="263" y="60"/>
                      </a:lnTo>
                      <a:lnTo>
                        <a:pt x="269" y="102"/>
                      </a:lnTo>
                      <a:lnTo>
                        <a:pt x="275" y="132"/>
                      </a:lnTo>
                      <a:lnTo>
                        <a:pt x="286" y="168"/>
                      </a:lnTo>
                      <a:lnTo>
                        <a:pt x="292" y="179"/>
                      </a:lnTo>
                      <a:lnTo>
                        <a:pt x="292" y="191"/>
                      </a:lnTo>
                      <a:lnTo>
                        <a:pt x="275" y="197"/>
                      </a:lnTo>
                      <a:lnTo>
                        <a:pt x="239" y="221"/>
                      </a:lnTo>
                      <a:lnTo>
                        <a:pt x="233" y="221"/>
                      </a:lnTo>
                      <a:lnTo>
                        <a:pt x="221" y="221"/>
                      </a:lnTo>
                      <a:lnTo>
                        <a:pt x="203" y="233"/>
                      </a:lnTo>
                      <a:lnTo>
                        <a:pt x="197" y="239"/>
                      </a:lnTo>
                      <a:lnTo>
                        <a:pt x="179" y="245"/>
                      </a:lnTo>
                      <a:lnTo>
                        <a:pt x="167" y="245"/>
                      </a:lnTo>
                      <a:lnTo>
                        <a:pt x="149" y="233"/>
                      </a:lnTo>
                      <a:lnTo>
                        <a:pt x="131" y="221"/>
                      </a:lnTo>
                      <a:lnTo>
                        <a:pt x="113" y="221"/>
                      </a:lnTo>
                      <a:lnTo>
                        <a:pt x="108" y="221"/>
                      </a:lnTo>
                      <a:lnTo>
                        <a:pt x="72" y="197"/>
                      </a:lnTo>
                      <a:lnTo>
                        <a:pt x="66" y="197"/>
                      </a:lnTo>
                      <a:lnTo>
                        <a:pt x="60" y="191"/>
                      </a:lnTo>
                      <a:lnTo>
                        <a:pt x="48" y="215"/>
                      </a:lnTo>
                      <a:lnTo>
                        <a:pt x="42" y="203"/>
                      </a:lnTo>
                      <a:lnTo>
                        <a:pt x="36" y="185"/>
                      </a:lnTo>
                      <a:lnTo>
                        <a:pt x="30" y="185"/>
                      </a:lnTo>
                      <a:lnTo>
                        <a:pt x="24" y="185"/>
                      </a:lnTo>
                      <a:lnTo>
                        <a:pt x="18" y="185"/>
                      </a:lnTo>
                      <a:lnTo>
                        <a:pt x="12" y="179"/>
                      </a:lnTo>
                      <a:lnTo>
                        <a:pt x="0" y="174"/>
                      </a:lnTo>
                      <a:lnTo>
                        <a:pt x="6" y="168"/>
                      </a:lnTo>
                      <a:lnTo>
                        <a:pt x="6" y="162"/>
                      </a:lnTo>
                      <a:lnTo>
                        <a:pt x="24" y="150"/>
                      </a:lnTo>
                      <a:lnTo>
                        <a:pt x="36" y="144"/>
                      </a:lnTo>
                      <a:lnTo>
                        <a:pt x="36" y="114"/>
                      </a:lnTo>
                      <a:lnTo>
                        <a:pt x="42" y="114"/>
                      </a:lnTo>
                      <a:lnTo>
                        <a:pt x="60" y="108"/>
                      </a:lnTo>
                      <a:lnTo>
                        <a:pt x="72" y="90"/>
                      </a:lnTo>
                      <a:lnTo>
                        <a:pt x="84" y="7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49"/>
                <p:cNvSpPr/>
                <p:nvPr/>
              </p:nvSpPr>
              <p:spPr>
                <a:xfrm>
                  <a:off x="5635440" y="4390560"/>
                  <a:ext cx="291960" cy="133920"/>
                </a:xfrm>
                <a:custGeom>
                  <a:avLst/>
                  <a:gdLst>
                    <a:gd name="textAreaLeft" fmla="*/ 0 w 291960"/>
                    <a:gd name="textAreaRight" fmla="*/ 292320 w 29196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292" h="138">
                      <a:moveTo>
                        <a:pt x="59" y="66"/>
                      </a:moveTo>
                      <a:lnTo>
                        <a:pt x="71" y="60"/>
                      </a:lnTo>
                      <a:lnTo>
                        <a:pt x="71" y="54"/>
                      </a:lnTo>
                      <a:lnTo>
                        <a:pt x="59" y="30"/>
                      </a:lnTo>
                      <a:lnTo>
                        <a:pt x="47" y="30"/>
                      </a:lnTo>
                      <a:lnTo>
                        <a:pt x="29" y="24"/>
                      </a:lnTo>
                      <a:lnTo>
                        <a:pt x="6" y="12"/>
                      </a:ln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41" y="0"/>
                      </a:lnTo>
                      <a:lnTo>
                        <a:pt x="71" y="0"/>
                      </a:lnTo>
                      <a:lnTo>
                        <a:pt x="89" y="6"/>
                      </a:lnTo>
                      <a:lnTo>
                        <a:pt x="101" y="18"/>
                      </a:lnTo>
                      <a:lnTo>
                        <a:pt x="113" y="18"/>
                      </a:lnTo>
                      <a:lnTo>
                        <a:pt x="113" y="24"/>
                      </a:lnTo>
                      <a:lnTo>
                        <a:pt x="143" y="54"/>
                      </a:lnTo>
                      <a:lnTo>
                        <a:pt x="149" y="60"/>
                      </a:lnTo>
                      <a:lnTo>
                        <a:pt x="155" y="60"/>
                      </a:lnTo>
                      <a:lnTo>
                        <a:pt x="155" y="66"/>
                      </a:lnTo>
                      <a:lnTo>
                        <a:pt x="173" y="78"/>
                      </a:lnTo>
                      <a:lnTo>
                        <a:pt x="185" y="78"/>
                      </a:lnTo>
                      <a:lnTo>
                        <a:pt x="190" y="84"/>
                      </a:lnTo>
                      <a:lnTo>
                        <a:pt x="220" y="96"/>
                      </a:lnTo>
                      <a:lnTo>
                        <a:pt x="250" y="90"/>
                      </a:lnTo>
                      <a:lnTo>
                        <a:pt x="262" y="84"/>
                      </a:lnTo>
                      <a:lnTo>
                        <a:pt x="268" y="84"/>
                      </a:lnTo>
                      <a:lnTo>
                        <a:pt x="274" y="84"/>
                      </a:lnTo>
                      <a:lnTo>
                        <a:pt x="292" y="90"/>
                      </a:lnTo>
                      <a:lnTo>
                        <a:pt x="286" y="90"/>
                      </a:lnTo>
                      <a:lnTo>
                        <a:pt x="286" y="120"/>
                      </a:lnTo>
                      <a:lnTo>
                        <a:pt x="274" y="126"/>
                      </a:lnTo>
                      <a:lnTo>
                        <a:pt x="256" y="138"/>
                      </a:lnTo>
                      <a:lnTo>
                        <a:pt x="256" y="132"/>
                      </a:lnTo>
                      <a:lnTo>
                        <a:pt x="256" y="126"/>
                      </a:lnTo>
                      <a:lnTo>
                        <a:pt x="256" y="114"/>
                      </a:lnTo>
                      <a:lnTo>
                        <a:pt x="202" y="126"/>
                      </a:lnTo>
                      <a:lnTo>
                        <a:pt x="179" y="126"/>
                      </a:lnTo>
                      <a:lnTo>
                        <a:pt x="161" y="114"/>
                      </a:lnTo>
                      <a:lnTo>
                        <a:pt x="149" y="102"/>
                      </a:lnTo>
                      <a:lnTo>
                        <a:pt x="143" y="102"/>
                      </a:lnTo>
                      <a:lnTo>
                        <a:pt x="125" y="96"/>
                      </a:lnTo>
                      <a:lnTo>
                        <a:pt x="107" y="96"/>
                      </a:lnTo>
                      <a:lnTo>
                        <a:pt x="89" y="84"/>
                      </a:lnTo>
                      <a:lnTo>
                        <a:pt x="71" y="96"/>
                      </a:lnTo>
                      <a:lnTo>
                        <a:pt x="71" y="78"/>
                      </a:lnTo>
                      <a:lnTo>
                        <a:pt x="71" y="72"/>
                      </a:lnTo>
                      <a:lnTo>
                        <a:pt x="59" y="6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50"/>
                <p:cNvSpPr/>
                <p:nvPr/>
              </p:nvSpPr>
              <p:spPr>
                <a:xfrm>
                  <a:off x="6428520" y="4402080"/>
                  <a:ext cx="221040" cy="237960"/>
                </a:xfrm>
                <a:custGeom>
                  <a:avLst/>
                  <a:gdLst>
                    <a:gd name="textAreaLeft" fmla="*/ 0 w 221040"/>
                    <a:gd name="textAreaRight" fmla="*/ 221400 w 22104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221" h="245">
                      <a:moveTo>
                        <a:pt x="95" y="6"/>
                      </a:moveTo>
                      <a:lnTo>
                        <a:pt x="101" y="12"/>
                      </a:lnTo>
                      <a:lnTo>
                        <a:pt x="113" y="24"/>
                      </a:lnTo>
                      <a:lnTo>
                        <a:pt x="107" y="36"/>
                      </a:lnTo>
                      <a:lnTo>
                        <a:pt x="101" y="48"/>
                      </a:lnTo>
                      <a:lnTo>
                        <a:pt x="107" y="48"/>
                      </a:lnTo>
                      <a:lnTo>
                        <a:pt x="119" y="72"/>
                      </a:lnTo>
                      <a:lnTo>
                        <a:pt x="125" y="90"/>
                      </a:lnTo>
                      <a:lnTo>
                        <a:pt x="137" y="108"/>
                      </a:lnTo>
                      <a:lnTo>
                        <a:pt x="149" y="132"/>
                      </a:lnTo>
                      <a:lnTo>
                        <a:pt x="161" y="132"/>
                      </a:lnTo>
                      <a:lnTo>
                        <a:pt x="167" y="138"/>
                      </a:lnTo>
                      <a:lnTo>
                        <a:pt x="185" y="155"/>
                      </a:lnTo>
                      <a:lnTo>
                        <a:pt x="209" y="185"/>
                      </a:lnTo>
                      <a:lnTo>
                        <a:pt x="215" y="215"/>
                      </a:lnTo>
                      <a:lnTo>
                        <a:pt x="221" y="227"/>
                      </a:lnTo>
                      <a:lnTo>
                        <a:pt x="215" y="227"/>
                      </a:lnTo>
                      <a:lnTo>
                        <a:pt x="215" y="233"/>
                      </a:lnTo>
                      <a:lnTo>
                        <a:pt x="203" y="233"/>
                      </a:lnTo>
                      <a:lnTo>
                        <a:pt x="203" y="239"/>
                      </a:lnTo>
                      <a:lnTo>
                        <a:pt x="161" y="245"/>
                      </a:lnTo>
                      <a:lnTo>
                        <a:pt x="149" y="245"/>
                      </a:lnTo>
                      <a:lnTo>
                        <a:pt x="137" y="239"/>
                      </a:lnTo>
                      <a:lnTo>
                        <a:pt x="101" y="203"/>
                      </a:lnTo>
                      <a:lnTo>
                        <a:pt x="89" y="185"/>
                      </a:lnTo>
                      <a:lnTo>
                        <a:pt x="83" y="185"/>
                      </a:lnTo>
                      <a:lnTo>
                        <a:pt x="72" y="185"/>
                      </a:lnTo>
                      <a:lnTo>
                        <a:pt x="48" y="197"/>
                      </a:lnTo>
                      <a:lnTo>
                        <a:pt x="42" y="191"/>
                      </a:lnTo>
                      <a:lnTo>
                        <a:pt x="42" y="185"/>
                      </a:lnTo>
                      <a:lnTo>
                        <a:pt x="48" y="167"/>
                      </a:lnTo>
                      <a:lnTo>
                        <a:pt x="42" y="161"/>
                      </a:lnTo>
                      <a:lnTo>
                        <a:pt x="36" y="149"/>
                      </a:lnTo>
                      <a:lnTo>
                        <a:pt x="0" y="143"/>
                      </a:lnTo>
                      <a:lnTo>
                        <a:pt x="0" y="120"/>
                      </a:lnTo>
                      <a:lnTo>
                        <a:pt x="6" y="114"/>
                      </a:lnTo>
                      <a:lnTo>
                        <a:pt x="24" y="108"/>
                      </a:lnTo>
                      <a:lnTo>
                        <a:pt x="42" y="102"/>
                      </a:lnTo>
                      <a:lnTo>
                        <a:pt x="66" y="108"/>
                      </a:lnTo>
                      <a:lnTo>
                        <a:pt x="72" y="108"/>
                      </a:lnTo>
                      <a:lnTo>
                        <a:pt x="78" y="90"/>
                      </a:lnTo>
                      <a:lnTo>
                        <a:pt x="72" y="72"/>
                      </a:lnTo>
                      <a:lnTo>
                        <a:pt x="66" y="66"/>
                      </a:lnTo>
                      <a:lnTo>
                        <a:pt x="42" y="66"/>
                      </a:lnTo>
                      <a:lnTo>
                        <a:pt x="36" y="60"/>
                      </a:lnTo>
                      <a:lnTo>
                        <a:pt x="30" y="48"/>
                      </a:lnTo>
                      <a:lnTo>
                        <a:pt x="18" y="36"/>
                      </a:lnTo>
                      <a:lnTo>
                        <a:pt x="0" y="24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12"/>
                      </a:lnTo>
                      <a:lnTo>
                        <a:pt x="54" y="18"/>
                      </a:lnTo>
                      <a:lnTo>
                        <a:pt x="72" y="18"/>
                      </a:lnTo>
                      <a:lnTo>
                        <a:pt x="72" y="12"/>
                      </a:lnTo>
                      <a:lnTo>
                        <a:pt x="95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51"/>
                <p:cNvSpPr/>
                <p:nvPr/>
              </p:nvSpPr>
              <p:spPr>
                <a:xfrm>
                  <a:off x="6529320" y="4408200"/>
                  <a:ext cx="160920" cy="12816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1" h="132">
                      <a:moveTo>
                        <a:pt x="12" y="18"/>
                      </a:moveTo>
                      <a:lnTo>
                        <a:pt x="24" y="6"/>
                      </a:lnTo>
                      <a:lnTo>
                        <a:pt x="72" y="0"/>
                      </a:lnTo>
                      <a:lnTo>
                        <a:pt x="90" y="6"/>
                      </a:lnTo>
                      <a:lnTo>
                        <a:pt x="108" y="12"/>
                      </a:lnTo>
                      <a:lnTo>
                        <a:pt x="114" y="18"/>
                      </a:lnTo>
                      <a:lnTo>
                        <a:pt x="120" y="24"/>
                      </a:lnTo>
                      <a:lnTo>
                        <a:pt x="126" y="24"/>
                      </a:lnTo>
                      <a:lnTo>
                        <a:pt x="126" y="36"/>
                      </a:lnTo>
                      <a:lnTo>
                        <a:pt x="126" y="48"/>
                      </a:lnTo>
                      <a:lnTo>
                        <a:pt x="138" y="48"/>
                      </a:lnTo>
                      <a:lnTo>
                        <a:pt x="150" y="54"/>
                      </a:lnTo>
                      <a:lnTo>
                        <a:pt x="150" y="72"/>
                      </a:lnTo>
                      <a:lnTo>
                        <a:pt x="144" y="72"/>
                      </a:lnTo>
                      <a:lnTo>
                        <a:pt x="144" y="78"/>
                      </a:lnTo>
                      <a:lnTo>
                        <a:pt x="161" y="96"/>
                      </a:lnTo>
                      <a:lnTo>
                        <a:pt x="150" y="102"/>
                      </a:lnTo>
                      <a:lnTo>
                        <a:pt x="144" y="120"/>
                      </a:lnTo>
                      <a:lnTo>
                        <a:pt x="138" y="120"/>
                      </a:lnTo>
                      <a:lnTo>
                        <a:pt x="126" y="114"/>
                      </a:lnTo>
                      <a:lnTo>
                        <a:pt x="120" y="120"/>
                      </a:lnTo>
                      <a:lnTo>
                        <a:pt x="114" y="132"/>
                      </a:lnTo>
                      <a:lnTo>
                        <a:pt x="108" y="126"/>
                      </a:lnTo>
                      <a:lnTo>
                        <a:pt x="66" y="102"/>
                      </a:lnTo>
                      <a:lnTo>
                        <a:pt x="60" y="108"/>
                      </a:lnTo>
                      <a:lnTo>
                        <a:pt x="60" y="114"/>
                      </a:lnTo>
                      <a:lnTo>
                        <a:pt x="60" y="120"/>
                      </a:lnTo>
                      <a:lnTo>
                        <a:pt x="60" y="126"/>
                      </a:lnTo>
                      <a:lnTo>
                        <a:pt x="48" y="126"/>
                      </a:lnTo>
                      <a:lnTo>
                        <a:pt x="36" y="102"/>
                      </a:lnTo>
                      <a:lnTo>
                        <a:pt x="24" y="84"/>
                      </a:lnTo>
                      <a:lnTo>
                        <a:pt x="18" y="66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6" y="30"/>
                      </a:lnTo>
                      <a:lnTo>
                        <a:pt x="12" y="1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52"/>
                <p:cNvSpPr/>
                <p:nvPr/>
              </p:nvSpPr>
              <p:spPr>
                <a:xfrm>
                  <a:off x="6338520" y="4419720"/>
                  <a:ext cx="167760" cy="12132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121320"/>
                    <a:gd name="textAreaBottom" fmla="*/ 121680 h 121320"/>
                  </a:gdLst>
                  <a:ahLst/>
                  <a:rect l="textAreaLeft" t="textAreaTop" r="textAreaRight" b="textAreaBottom"/>
                  <a:pathLst>
                    <a:path w="168" h="125">
                      <a:moveTo>
                        <a:pt x="0" y="0"/>
                      </a:move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72" y="6"/>
                      </a:lnTo>
                      <a:lnTo>
                        <a:pt x="90" y="6"/>
                      </a:lnTo>
                      <a:lnTo>
                        <a:pt x="108" y="18"/>
                      </a:lnTo>
                      <a:lnTo>
                        <a:pt x="120" y="30"/>
                      </a:lnTo>
                      <a:lnTo>
                        <a:pt x="126" y="42"/>
                      </a:lnTo>
                      <a:lnTo>
                        <a:pt x="132" y="48"/>
                      </a:lnTo>
                      <a:lnTo>
                        <a:pt x="156" y="48"/>
                      </a:lnTo>
                      <a:lnTo>
                        <a:pt x="162" y="54"/>
                      </a:lnTo>
                      <a:lnTo>
                        <a:pt x="168" y="72"/>
                      </a:lnTo>
                      <a:lnTo>
                        <a:pt x="162" y="90"/>
                      </a:lnTo>
                      <a:lnTo>
                        <a:pt x="156" y="90"/>
                      </a:lnTo>
                      <a:lnTo>
                        <a:pt x="132" y="84"/>
                      </a:lnTo>
                      <a:lnTo>
                        <a:pt x="114" y="90"/>
                      </a:lnTo>
                      <a:lnTo>
                        <a:pt x="96" y="96"/>
                      </a:lnTo>
                      <a:lnTo>
                        <a:pt x="90" y="102"/>
                      </a:lnTo>
                      <a:lnTo>
                        <a:pt x="90" y="125"/>
                      </a:lnTo>
                      <a:lnTo>
                        <a:pt x="78" y="120"/>
                      </a:lnTo>
                      <a:lnTo>
                        <a:pt x="78" y="125"/>
                      </a:lnTo>
                      <a:lnTo>
                        <a:pt x="66" y="114"/>
                      </a:lnTo>
                      <a:lnTo>
                        <a:pt x="42" y="114"/>
                      </a:lnTo>
                      <a:lnTo>
                        <a:pt x="30" y="108"/>
                      </a:lnTo>
                      <a:lnTo>
                        <a:pt x="12" y="96"/>
                      </a:lnTo>
                      <a:lnTo>
                        <a:pt x="0" y="72"/>
                      </a:lnTo>
                      <a:lnTo>
                        <a:pt x="6" y="60"/>
                      </a:lnTo>
                      <a:lnTo>
                        <a:pt x="6" y="42"/>
                      </a:lnTo>
                      <a:lnTo>
                        <a:pt x="0" y="36"/>
                      </a:lnTo>
                      <a:lnTo>
                        <a:pt x="6" y="24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53"/>
                <p:cNvSpPr/>
                <p:nvPr/>
              </p:nvSpPr>
              <p:spPr>
                <a:xfrm>
                  <a:off x="5223600" y="4425480"/>
                  <a:ext cx="321840" cy="30096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300960"/>
                    <a:gd name="textAreaBottom" fmla="*/ 301320 h 300960"/>
                  </a:gdLst>
                  <a:ahLst/>
                  <a:rect l="textAreaLeft" t="textAreaTop" r="textAreaRight" b="textAreaBottom"/>
                  <a:pathLst>
                    <a:path w="322" h="310">
                      <a:moveTo>
                        <a:pt x="155" y="0"/>
                      </a:moveTo>
                      <a:lnTo>
                        <a:pt x="167" y="12"/>
                      </a:lnTo>
                      <a:lnTo>
                        <a:pt x="173" y="12"/>
                      </a:lnTo>
                      <a:lnTo>
                        <a:pt x="203" y="6"/>
                      </a:lnTo>
                      <a:lnTo>
                        <a:pt x="215" y="6"/>
                      </a:lnTo>
                      <a:lnTo>
                        <a:pt x="215" y="12"/>
                      </a:lnTo>
                      <a:lnTo>
                        <a:pt x="209" y="24"/>
                      </a:lnTo>
                      <a:lnTo>
                        <a:pt x="209" y="36"/>
                      </a:lnTo>
                      <a:lnTo>
                        <a:pt x="221" y="30"/>
                      </a:lnTo>
                      <a:lnTo>
                        <a:pt x="239" y="24"/>
                      </a:lnTo>
                      <a:lnTo>
                        <a:pt x="245" y="24"/>
                      </a:lnTo>
                      <a:lnTo>
                        <a:pt x="256" y="36"/>
                      </a:lnTo>
                      <a:lnTo>
                        <a:pt x="245" y="48"/>
                      </a:lnTo>
                      <a:lnTo>
                        <a:pt x="245" y="60"/>
                      </a:lnTo>
                      <a:lnTo>
                        <a:pt x="245" y="66"/>
                      </a:lnTo>
                      <a:lnTo>
                        <a:pt x="262" y="84"/>
                      </a:lnTo>
                      <a:lnTo>
                        <a:pt x="268" y="102"/>
                      </a:lnTo>
                      <a:lnTo>
                        <a:pt x="268" y="108"/>
                      </a:lnTo>
                      <a:lnTo>
                        <a:pt x="262" y="114"/>
                      </a:lnTo>
                      <a:lnTo>
                        <a:pt x="256" y="131"/>
                      </a:lnTo>
                      <a:lnTo>
                        <a:pt x="251" y="131"/>
                      </a:lnTo>
                      <a:lnTo>
                        <a:pt x="239" y="143"/>
                      </a:lnTo>
                      <a:lnTo>
                        <a:pt x="233" y="155"/>
                      </a:lnTo>
                      <a:lnTo>
                        <a:pt x="227" y="155"/>
                      </a:lnTo>
                      <a:lnTo>
                        <a:pt x="221" y="161"/>
                      </a:lnTo>
                      <a:lnTo>
                        <a:pt x="209" y="161"/>
                      </a:lnTo>
                      <a:lnTo>
                        <a:pt x="185" y="173"/>
                      </a:lnTo>
                      <a:lnTo>
                        <a:pt x="173" y="179"/>
                      </a:lnTo>
                      <a:lnTo>
                        <a:pt x="155" y="203"/>
                      </a:lnTo>
                      <a:lnTo>
                        <a:pt x="155" y="227"/>
                      </a:lnTo>
                      <a:lnTo>
                        <a:pt x="155" y="245"/>
                      </a:lnTo>
                      <a:lnTo>
                        <a:pt x="197" y="227"/>
                      </a:lnTo>
                      <a:lnTo>
                        <a:pt x="221" y="215"/>
                      </a:lnTo>
                      <a:lnTo>
                        <a:pt x="233" y="215"/>
                      </a:lnTo>
                      <a:lnTo>
                        <a:pt x="245" y="215"/>
                      </a:lnTo>
                      <a:lnTo>
                        <a:pt x="251" y="221"/>
                      </a:lnTo>
                      <a:lnTo>
                        <a:pt x="262" y="203"/>
                      </a:lnTo>
                      <a:lnTo>
                        <a:pt x="298" y="179"/>
                      </a:lnTo>
                      <a:lnTo>
                        <a:pt x="316" y="179"/>
                      </a:lnTo>
                      <a:lnTo>
                        <a:pt x="322" y="179"/>
                      </a:lnTo>
                      <a:lnTo>
                        <a:pt x="316" y="185"/>
                      </a:lnTo>
                      <a:lnTo>
                        <a:pt x="292" y="221"/>
                      </a:lnTo>
                      <a:lnTo>
                        <a:pt x="274" y="239"/>
                      </a:lnTo>
                      <a:lnTo>
                        <a:pt x="239" y="257"/>
                      </a:lnTo>
                      <a:lnTo>
                        <a:pt x="239" y="269"/>
                      </a:lnTo>
                      <a:lnTo>
                        <a:pt x="227" y="281"/>
                      </a:lnTo>
                      <a:lnTo>
                        <a:pt x="233" y="299"/>
                      </a:lnTo>
                      <a:lnTo>
                        <a:pt x="209" y="304"/>
                      </a:lnTo>
                      <a:lnTo>
                        <a:pt x="185" y="310"/>
                      </a:lnTo>
                      <a:lnTo>
                        <a:pt x="179" y="310"/>
                      </a:lnTo>
                      <a:lnTo>
                        <a:pt x="167" y="304"/>
                      </a:lnTo>
                      <a:lnTo>
                        <a:pt x="161" y="299"/>
                      </a:lnTo>
                      <a:lnTo>
                        <a:pt x="155" y="304"/>
                      </a:lnTo>
                      <a:lnTo>
                        <a:pt x="149" y="310"/>
                      </a:lnTo>
                      <a:lnTo>
                        <a:pt x="143" y="293"/>
                      </a:lnTo>
                      <a:lnTo>
                        <a:pt x="131" y="263"/>
                      </a:lnTo>
                      <a:lnTo>
                        <a:pt x="125" y="257"/>
                      </a:lnTo>
                      <a:lnTo>
                        <a:pt x="119" y="257"/>
                      </a:lnTo>
                      <a:lnTo>
                        <a:pt x="89" y="239"/>
                      </a:lnTo>
                      <a:lnTo>
                        <a:pt x="78" y="233"/>
                      </a:lnTo>
                      <a:lnTo>
                        <a:pt x="54" y="245"/>
                      </a:lnTo>
                      <a:lnTo>
                        <a:pt x="42" y="233"/>
                      </a:lnTo>
                      <a:lnTo>
                        <a:pt x="30" y="233"/>
                      </a:lnTo>
                      <a:lnTo>
                        <a:pt x="6" y="227"/>
                      </a:lnTo>
                      <a:lnTo>
                        <a:pt x="0" y="227"/>
                      </a:lnTo>
                      <a:lnTo>
                        <a:pt x="0" y="221"/>
                      </a:lnTo>
                      <a:lnTo>
                        <a:pt x="18" y="215"/>
                      </a:lnTo>
                      <a:lnTo>
                        <a:pt x="54" y="215"/>
                      </a:lnTo>
                      <a:lnTo>
                        <a:pt x="78" y="215"/>
                      </a:lnTo>
                      <a:lnTo>
                        <a:pt x="101" y="197"/>
                      </a:lnTo>
                      <a:lnTo>
                        <a:pt x="113" y="209"/>
                      </a:lnTo>
                      <a:lnTo>
                        <a:pt x="119" y="209"/>
                      </a:lnTo>
                      <a:lnTo>
                        <a:pt x="131" y="215"/>
                      </a:lnTo>
                      <a:lnTo>
                        <a:pt x="131" y="209"/>
                      </a:lnTo>
                      <a:lnTo>
                        <a:pt x="113" y="161"/>
                      </a:lnTo>
                      <a:lnTo>
                        <a:pt x="107" y="161"/>
                      </a:lnTo>
                      <a:lnTo>
                        <a:pt x="107" y="149"/>
                      </a:lnTo>
                      <a:lnTo>
                        <a:pt x="113" y="149"/>
                      </a:lnTo>
                      <a:lnTo>
                        <a:pt x="119" y="137"/>
                      </a:lnTo>
                      <a:lnTo>
                        <a:pt x="119" y="131"/>
                      </a:lnTo>
                      <a:lnTo>
                        <a:pt x="113" y="125"/>
                      </a:lnTo>
                      <a:lnTo>
                        <a:pt x="113" y="102"/>
                      </a:lnTo>
                      <a:lnTo>
                        <a:pt x="125" y="114"/>
                      </a:lnTo>
                      <a:lnTo>
                        <a:pt x="131" y="114"/>
                      </a:lnTo>
                      <a:lnTo>
                        <a:pt x="131" y="108"/>
                      </a:lnTo>
                      <a:lnTo>
                        <a:pt x="131" y="78"/>
                      </a:lnTo>
                      <a:lnTo>
                        <a:pt x="131" y="60"/>
                      </a:lnTo>
                      <a:lnTo>
                        <a:pt x="137" y="48"/>
                      </a:lnTo>
                      <a:lnTo>
                        <a:pt x="125" y="36"/>
                      </a:lnTo>
                      <a:lnTo>
                        <a:pt x="143" y="18"/>
                      </a:lnTo>
                      <a:lnTo>
                        <a:pt x="143" y="12"/>
                      </a:lnTo>
                      <a:lnTo>
                        <a:pt x="131" y="0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54"/>
                <p:cNvSpPr/>
                <p:nvPr/>
              </p:nvSpPr>
              <p:spPr>
                <a:xfrm>
                  <a:off x="6953400" y="4448880"/>
                  <a:ext cx="167040" cy="40608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406080"/>
                    <a:gd name="textAreaBottom" fmla="*/ 406440 h 406080"/>
                  </a:gdLst>
                  <a:ahLst/>
                  <a:rect l="textAreaLeft" t="textAreaTop" r="textAreaRight" b="textAreaBottom"/>
                  <a:pathLst>
                    <a:path w="167" h="418">
                      <a:moveTo>
                        <a:pt x="54" y="0"/>
                      </a:moveTo>
                      <a:lnTo>
                        <a:pt x="60" y="0"/>
                      </a:lnTo>
                      <a:lnTo>
                        <a:pt x="72" y="18"/>
                      </a:lnTo>
                      <a:lnTo>
                        <a:pt x="83" y="18"/>
                      </a:lnTo>
                      <a:lnTo>
                        <a:pt x="89" y="30"/>
                      </a:lnTo>
                      <a:lnTo>
                        <a:pt x="95" y="42"/>
                      </a:lnTo>
                      <a:lnTo>
                        <a:pt x="89" y="84"/>
                      </a:lnTo>
                      <a:lnTo>
                        <a:pt x="95" y="101"/>
                      </a:lnTo>
                      <a:lnTo>
                        <a:pt x="95" y="125"/>
                      </a:lnTo>
                      <a:lnTo>
                        <a:pt x="101" y="143"/>
                      </a:lnTo>
                      <a:lnTo>
                        <a:pt x="113" y="155"/>
                      </a:lnTo>
                      <a:lnTo>
                        <a:pt x="119" y="161"/>
                      </a:lnTo>
                      <a:lnTo>
                        <a:pt x="113" y="167"/>
                      </a:lnTo>
                      <a:lnTo>
                        <a:pt x="107" y="167"/>
                      </a:lnTo>
                      <a:lnTo>
                        <a:pt x="113" y="173"/>
                      </a:lnTo>
                      <a:lnTo>
                        <a:pt x="119" y="179"/>
                      </a:lnTo>
                      <a:lnTo>
                        <a:pt x="155" y="167"/>
                      </a:lnTo>
                      <a:lnTo>
                        <a:pt x="161" y="167"/>
                      </a:lnTo>
                      <a:lnTo>
                        <a:pt x="149" y="185"/>
                      </a:lnTo>
                      <a:lnTo>
                        <a:pt x="155" y="197"/>
                      </a:lnTo>
                      <a:lnTo>
                        <a:pt x="161" y="203"/>
                      </a:lnTo>
                      <a:lnTo>
                        <a:pt x="167" y="209"/>
                      </a:lnTo>
                      <a:lnTo>
                        <a:pt x="155" y="239"/>
                      </a:lnTo>
                      <a:lnTo>
                        <a:pt x="155" y="245"/>
                      </a:lnTo>
                      <a:lnTo>
                        <a:pt x="137" y="251"/>
                      </a:lnTo>
                      <a:lnTo>
                        <a:pt x="137" y="257"/>
                      </a:lnTo>
                      <a:lnTo>
                        <a:pt x="125" y="263"/>
                      </a:lnTo>
                      <a:lnTo>
                        <a:pt x="125" y="269"/>
                      </a:lnTo>
                      <a:lnTo>
                        <a:pt x="131" y="286"/>
                      </a:lnTo>
                      <a:lnTo>
                        <a:pt x="125" y="304"/>
                      </a:lnTo>
                      <a:lnTo>
                        <a:pt x="119" y="322"/>
                      </a:lnTo>
                      <a:lnTo>
                        <a:pt x="95" y="328"/>
                      </a:lnTo>
                      <a:lnTo>
                        <a:pt x="89" y="322"/>
                      </a:lnTo>
                      <a:lnTo>
                        <a:pt x="77" y="316"/>
                      </a:lnTo>
                      <a:lnTo>
                        <a:pt x="72" y="328"/>
                      </a:lnTo>
                      <a:lnTo>
                        <a:pt x="66" y="346"/>
                      </a:lnTo>
                      <a:lnTo>
                        <a:pt x="66" y="382"/>
                      </a:lnTo>
                      <a:lnTo>
                        <a:pt x="54" y="418"/>
                      </a:lnTo>
                      <a:lnTo>
                        <a:pt x="48" y="418"/>
                      </a:lnTo>
                      <a:lnTo>
                        <a:pt x="42" y="406"/>
                      </a:lnTo>
                      <a:lnTo>
                        <a:pt x="48" y="334"/>
                      </a:lnTo>
                      <a:lnTo>
                        <a:pt x="54" y="316"/>
                      </a:lnTo>
                      <a:lnTo>
                        <a:pt x="66" y="286"/>
                      </a:lnTo>
                      <a:lnTo>
                        <a:pt x="66" y="275"/>
                      </a:lnTo>
                      <a:lnTo>
                        <a:pt x="66" y="269"/>
                      </a:lnTo>
                      <a:lnTo>
                        <a:pt x="60" y="257"/>
                      </a:lnTo>
                      <a:lnTo>
                        <a:pt x="60" y="245"/>
                      </a:lnTo>
                      <a:lnTo>
                        <a:pt x="60" y="233"/>
                      </a:lnTo>
                      <a:lnTo>
                        <a:pt x="54" y="221"/>
                      </a:lnTo>
                      <a:lnTo>
                        <a:pt x="48" y="203"/>
                      </a:lnTo>
                      <a:lnTo>
                        <a:pt x="54" y="191"/>
                      </a:lnTo>
                      <a:lnTo>
                        <a:pt x="42" y="173"/>
                      </a:lnTo>
                      <a:lnTo>
                        <a:pt x="42" y="167"/>
                      </a:lnTo>
                      <a:lnTo>
                        <a:pt x="48" y="155"/>
                      </a:lnTo>
                      <a:lnTo>
                        <a:pt x="42" y="143"/>
                      </a:lnTo>
                      <a:lnTo>
                        <a:pt x="42" y="113"/>
                      </a:lnTo>
                      <a:lnTo>
                        <a:pt x="48" y="90"/>
                      </a:lnTo>
                      <a:lnTo>
                        <a:pt x="18" y="72"/>
                      </a:lnTo>
                      <a:lnTo>
                        <a:pt x="0" y="60"/>
                      </a:lnTo>
                      <a:lnTo>
                        <a:pt x="6" y="48"/>
                      </a:lnTo>
                      <a:lnTo>
                        <a:pt x="0" y="48"/>
                      </a:lnTo>
                      <a:lnTo>
                        <a:pt x="6" y="42"/>
                      </a:lnTo>
                      <a:lnTo>
                        <a:pt x="12" y="36"/>
                      </a:lnTo>
                      <a:lnTo>
                        <a:pt x="30" y="18"/>
                      </a:lnTo>
                      <a:lnTo>
                        <a:pt x="42" y="12"/>
                      </a:lnTo>
                      <a:lnTo>
                        <a:pt x="42" y="6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55"/>
                <p:cNvSpPr/>
                <p:nvPr/>
              </p:nvSpPr>
              <p:spPr>
                <a:xfrm>
                  <a:off x="5151600" y="4448880"/>
                  <a:ext cx="208800" cy="19116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191160"/>
                    <a:gd name="textAreaBottom" fmla="*/ 191520 h 1911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30" y="161"/>
                      </a:moveTo>
                      <a:lnTo>
                        <a:pt x="24" y="155"/>
                      </a:lnTo>
                      <a:lnTo>
                        <a:pt x="18" y="143"/>
                      </a:lnTo>
                      <a:lnTo>
                        <a:pt x="24" y="131"/>
                      </a:lnTo>
                      <a:lnTo>
                        <a:pt x="42" y="101"/>
                      </a:lnTo>
                      <a:lnTo>
                        <a:pt x="42" y="90"/>
                      </a:lnTo>
                      <a:lnTo>
                        <a:pt x="36" y="78"/>
                      </a:lnTo>
                      <a:lnTo>
                        <a:pt x="12" y="54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36" y="18"/>
                      </a:lnTo>
                      <a:lnTo>
                        <a:pt x="30" y="18"/>
                      </a:lnTo>
                      <a:lnTo>
                        <a:pt x="42" y="36"/>
                      </a:lnTo>
                      <a:lnTo>
                        <a:pt x="60" y="48"/>
                      </a:lnTo>
                      <a:lnTo>
                        <a:pt x="60" y="54"/>
                      </a:lnTo>
                      <a:lnTo>
                        <a:pt x="66" y="48"/>
                      </a:lnTo>
                      <a:lnTo>
                        <a:pt x="90" y="60"/>
                      </a:lnTo>
                      <a:lnTo>
                        <a:pt x="102" y="66"/>
                      </a:lnTo>
                      <a:lnTo>
                        <a:pt x="120" y="66"/>
                      </a:lnTo>
                      <a:lnTo>
                        <a:pt x="132" y="66"/>
                      </a:lnTo>
                      <a:lnTo>
                        <a:pt x="150" y="42"/>
                      </a:lnTo>
                      <a:lnTo>
                        <a:pt x="167" y="30"/>
                      </a:lnTo>
                      <a:lnTo>
                        <a:pt x="173" y="30"/>
                      </a:lnTo>
                      <a:lnTo>
                        <a:pt x="197" y="12"/>
                      </a:lnTo>
                      <a:lnTo>
                        <a:pt x="209" y="24"/>
                      </a:lnTo>
                      <a:lnTo>
                        <a:pt x="203" y="36"/>
                      </a:lnTo>
                      <a:lnTo>
                        <a:pt x="203" y="54"/>
                      </a:lnTo>
                      <a:lnTo>
                        <a:pt x="203" y="84"/>
                      </a:lnTo>
                      <a:lnTo>
                        <a:pt x="203" y="90"/>
                      </a:lnTo>
                      <a:lnTo>
                        <a:pt x="197" y="90"/>
                      </a:lnTo>
                      <a:lnTo>
                        <a:pt x="185" y="78"/>
                      </a:lnTo>
                      <a:lnTo>
                        <a:pt x="185" y="101"/>
                      </a:lnTo>
                      <a:lnTo>
                        <a:pt x="191" y="107"/>
                      </a:lnTo>
                      <a:lnTo>
                        <a:pt x="191" y="113"/>
                      </a:lnTo>
                      <a:lnTo>
                        <a:pt x="185" y="125"/>
                      </a:lnTo>
                      <a:lnTo>
                        <a:pt x="179" y="125"/>
                      </a:lnTo>
                      <a:lnTo>
                        <a:pt x="179" y="137"/>
                      </a:lnTo>
                      <a:lnTo>
                        <a:pt x="185" y="137"/>
                      </a:lnTo>
                      <a:lnTo>
                        <a:pt x="203" y="185"/>
                      </a:lnTo>
                      <a:lnTo>
                        <a:pt x="203" y="191"/>
                      </a:lnTo>
                      <a:lnTo>
                        <a:pt x="191" y="185"/>
                      </a:lnTo>
                      <a:lnTo>
                        <a:pt x="185" y="185"/>
                      </a:lnTo>
                      <a:lnTo>
                        <a:pt x="173" y="173"/>
                      </a:lnTo>
                      <a:lnTo>
                        <a:pt x="150" y="191"/>
                      </a:lnTo>
                      <a:lnTo>
                        <a:pt x="126" y="191"/>
                      </a:lnTo>
                      <a:lnTo>
                        <a:pt x="90" y="191"/>
                      </a:lnTo>
                      <a:lnTo>
                        <a:pt x="72" y="197"/>
                      </a:lnTo>
                      <a:lnTo>
                        <a:pt x="60" y="185"/>
                      </a:lnTo>
                      <a:lnTo>
                        <a:pt x="48" y="167"/>
                      </a:lnTo>
                      <a:lnTo>
                        <a:pt x="42" y="167"/>
                      </a:lnTo>
                      <a:lnTo>
                        <a:pt x="30" y="161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56"/>
                <p:cNvSpPr/>
                <p:nvPr/>
              </p:nvSpPr>
              <p:spPr>
                <a:xfrm>
                  <a:off x="5533560" y="4472280"/>
                  <a:ext cx="357840" cy="318600"/>
                </a:xfrm>
                <a:custGeom>
                  <a:avLst/>
                  <a:gdLst>
                    <a:gd name="textAreaLeft" fmla="*/ 0 w 357840"/>
                    <a:gd name="textAreaRight" fmla="*/ 357840 w 357840"/>
                    <a:gd name="textAreaTop" fmla="*/ 0 h 318600"/>
                    <a:gd name="textAreaBottom" fmla="*/ 318960 h 318600"/>
                  </a:gdLst>
                  <a:ahLst/>
                  <a:rect l="textAreaLeft" t="textAreaTop" r="textAreaRight" b="textAreaBottom"/>
                  <a:pathLst>
                    <a:path w="358" h="328">
                      <a:moveTo>
                        <a:pt x="72" y="48"/>
                      </a:moveTo>
                      <a:lnTo>
                        <a:pt x="72" y="42"/>
                      </a:lnTo>
                      <a:lnTo>
                        <a:pt x="102" y="30"/>
                      </a:lnTo>
                      <a:lnTo>
                        <a:pt x="108" y="30"/>
                      </a:lnTo>
                      <a:lnTo>
                        <a:pt x="114" y="30"/>
                      </a:lnTo>
                      <a:lnTo>
                        <a:pt x="137" y="30"/>
                      </a:lnTo>
                      <a:lnTo>
                        <a:pt x="149" y="18"/>
                      </a:lnTo>
                      <a:lnTo>
                        <a:pt x="167" y="12"/>
                      </a:lnTo>
                      <a:lnTo>
                        <a:pt x="173" y="12"/>
                      </a:lnTo>
                      <a:lnTo>
                        <a:pt x="191" y="0"/>
                      </a:lnTo>
                      <a:lnTo>
                        <a:pt x="209" y="12"/>
                      </a:lnTo>
                      <a:lnTo>
                        <a:pt x="227" y="12"/>
                      </a:lnTo>
                      <a:lnTo>
                        <a:pt x="245" y="18"/>
                      </a:lnTo>
                      <a:lnTo>
                        <a:pt x="251" y="18"/>
                      </a:lnTo>
                      <a:lnTo>
                        <a:pt x="263" y="30"/>
                      </a:lnTo>
                      <a:lnTo>
                        <a:pt x="281" y="42"/>
                      </a:lnTo>
                      <a:lnTo>
                        <a:pt x="304" y="42"/>
                      </a:lnTo>
                      <a:lnTo>
                        <a:pt x="358" y="30"/>
                      </a:lnTo>
                      <a:lnTo>
                        <a:pt x="358" y="42"/>
                      </a:lnTo>
                      <a:lnTo>
                        <a:pt x="358" y="48"/>
                      </a:lnTo>
                      <a:lnTo>
                        <a:pt x="358" y="54"/>
                      </a:lnTo>
                      <a:lnTo>
                        <a:pt x="358" y="60"/>
                      </a:lnTo>
                      <a:lnTo>
                        <a:pt x="352" y="66"/>
                      </a:lnTo>
                      <a:lnTo>
                        <a:pt x="334" y="66"/>
                      </a:lnTo>
                      <a:lnTo>
                        <a:pt x="322" y="71"/>
                      </a:lnTo>
                      <a:lnTo>
                        <a:pt x="316" y="77"/>
                      </a:lnTo>
                      <a:lnTo>
                        <a:pt x="304" y="77"/>
                      </a:lnTo>
                      <a:lnTo>
                        <a:pt x="304" y="89"/>
                      </a:lnTo>
                      <a:lnTo>
                        <a:pt x="292" y="95"/>
                      </a:lnTo>
                      <a:lnTo>
                        <a:pt x="281" y="89"/>
                      </a:lnTo>
                      <a:lnTo>
                        <a:pt x="275" y="83"/>
                      </a:lnTo>
                      <a:lnTo>
                        <a:pt x="263" y="89"/>
                      </a:lnTo>
                      <a:lnTo>
                        <a:pt x="251" y="107"/>
                      </a:lnTo>
                      <a:lnTo>
                        <a:pt x="239" y="113"/>
                      </a:lnTo>
                      <a:lnTo>
                        <a:pt x="215" y="119"/>
                      </a:lnTo>
                      <a:lnTo>
                        <a:pt x="191" y="125"/>
                      </a:lnTo>
                      <a:lnTo>
                        <a:pt x="167" y="143"/>
                      </a:lnTo>
                      <a:lnTo>
                        <a:pt x="155" y="143"/>
                      </a:lnTo>
                      <a:lnTo>
                        <a:pt x="149" y="155"/>
                      </a:lnTo>
                      <a:lnTo>
                        <a:pt x="143" y="167"/>
                      </a:lnTo>
                      <a:lnTo>
                        <a:pt x="137" y="185"/>
                      </a:lnTo>
                      <a:lnTo>
                        <a:pt x="131" y="197"/>
                      </a:lnTo>
                      <a:lnTo>
                        <a:pt x="131" y="227"/>
                      </a:lnTo>
                      <a:lnTo>
                        <a:pt x="119" y="245"/>
                      </a:lnTo>
                      <a:lnTo>
                        <a:pt x="119" y="262"/>
                      </a:lnTo>
                      <a:lnTo>
                        <a:pt x="119" y="280"/>
                      </a:lnTo>
                      <a:lnTo>
                        <a:pt x="119" y="316"/>
                      </a:lnTo>
                      <a:lnTo>
                        <a:pt x="114" y="310"/>
                      </a:lnTo>
                      <a:lnTo>
                        <a:pt x="114" y="316"/>
                      </a:lnTo>
                      <a:lnTo>
                        <a:pt x="102" y="316"/>
                      </a:lnTo>
                      <a:lnTo>
                        <a:pt x="96" y="322"/>
                      </a:lnTo>
                      <a:lnTo>
                        <a:pt x="90" y="322"/>
                      </a:lnTo>
                      <a:lnTo>
                        <a:pt x="78" y="316"/>
                      </a:lnTo>
                      <a:lnTo>
                        <a:pt x="60" y="328"/>
                      </a:lnTo>
                      <a:lnTo>
                        <a:pt x="42" y="328"/>
                      </a:lnTo>
                      <a:lnTo>
                        <a:pt x="12" y="328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36" y="268"/>
                      </a:lnTo>
                      <a:lnTo>
                        <a:pt x="24" y="262"/>
                      </a:lnTo>
                      <a:lnTo>
                        <a:pt x="24" y="256"/>
                      </a:lnTo>
                      <a:lnTo>
                        <a:pt x="30" y="251"/>
                      </a:lnTo>
                      <a:lnTo>
                        <a:pt x="30" y="245"/>
                      </a:lnTo>
                      <a:lnTo>
                        <a:pt x="24" y="239"/>
                      </a:lnTo>
                      <a:lnTo>
                        <a:pt x="24" y="215"/>
                      </a:lnTo>
                      <a:lnTo>
                        <a:pt x="6" y="197"/>
                      </a:lnTo>
                      <a:lnTo>
                        <a:pt x="6" y="191"/>
                      </a:lnTo>
                      <a:lnTo>
                        <a:pt x="12" y="179"/>
                      </a:lnTo>
                      <a:lnTo>
                        <a:pt x="36" y="149"/>
                      </a:lnTo>
                      <a:lnTo>
                        <a:pt x="42" y="143"/>
                      </a:lnTo>
                      <a:lnTo>
                        <a:pt x="36" y="125"/>
                      </a:lnTo>
                      <a:lnTo>
                        <a:pt x="42" y="125"/>
                      </a:lnTo>
                      <a:lnTo>
                        <a:pt x="54" y="89"/>
                      </a:lnTo>
                      <a:lnTo>
                        <a:pt x="72" y="89"/>
                      </a:lnTo>
                      <a:lnTo>
                        <a:pt x="72" y="83"/>
                      </a:lnTo>
                      <a:lnTo>
                        <a:pt x="72" y="77"/>
                      </a:lnTo>
                      <a:lnTo>
                        <a:pt x="66" y="71"/>
                      </a:lnTo>
                      <a:lnTo>
                        <a:pt x="66" y="66"/>
                      </a:lnTo>
                      <a:lnTo>
                        <a:pt x="66" y="60"/>
                      </a:lnTo>
                      <a:lnTo>
                        <a:pt x="72" y="54"/>
                      </a:lnTo>
                      <a:lnTo>
                        <a:pt x="72" y="4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57"/>
                <p:cNvSpPr/>
                <p:nvPr/>
              </p:nvSpPr>
              <p:spPr>
                <a:xfrm>
                  <a:off x="6840360" y="4495320"/>
                  <a:ext cx="160920" cy="8640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86400"/>
                    <a:gd name="textAreaBottom" fmla="*/ 86760 h 86400"/>
                  </a:gdLst>
                  <a:ahLst/>
                  <a:rect l="textAreaLeft" t="textAreaTop" r="textAreaRight" b="textAreaBottom"/>
                  <a:pathLst>
                    <a:path w="161" h="89">
                      <a:moveTo>
                        <a:pt x="17" y="36"/>
                      </a:moveTo>
                      <a:lnTo>
                        <a:pt x="35" y="42"/>
                      </a:lnTo>
                      <a:lnTo>
                        <a:pt x="59" y="36"/>
                      </a:lnTo>
                      <a:lnTo>
                        <a:pt x="83" y="18"/>
                      </a:lnTo>
                      <a:lnTo>
                        <a:pt x="107" y="0"/>
                      </a:lnTo>
                      <a:lnTo>
                        <a:pt x="113" y="0"/>
                      </a:lnTo>
                      <a:lnTo>
                        <a:pt x="119" y="0"/>
                      </a:lnTo>
                      <a:lnTo>
                        <a:pt x="113" y="12"/>
                      </a:lnTo>
                      <a:lnTo>
                        <a:pt x="131" y="24"/>
                      </a:lnTo>
                      <a:lnTo>
                        <a:pt x="161" y="42"/>
                      </a:lnTo>
                      <a:lnTo>
                        <a:pt x="155" y="65"/>
                      </a:lnTo>
                      <a:lnTo>
                        <a:pt x="143" y="53"/>
                      </a:lnTo>
                      <a:lnTo>
                        <a:pt x="137" y="53"/>
                      </a:lnTo>
                      <a:lnTo>
                        <a:pt x="125" y="47"/>
                      </a:lnTo>
                      <a:lnTo>
                        <a:pt x="125" y="53"/>
                      </a:lnTo>
                      <a:lnTo>
                        <a:pt x="119" y="71"/>
                      </a:lnTo>
                      <a:lnTo>
                        <a:pt x="113" y="89"/>
                      </a:lnTo>
                      <a:lnTo>
                        <a:pt x="107" y="89"/>
                      </a:lnTo>
                      <a:lnTo>
                        <a:pt x="95" y="83"/>
                      </a:lnTo>
                      <a:lnTo>
                        <a:pt x="77" y="77"/>
                      </a:lnTo>
                      <a:lnTo>
                        <a:pt x="65" y="71"/>
                      </a:lnTo>
                      <a:lnTo>
                        <a:pt x="47" y="77"/>
                      </a:lnTo>
                      <a:lnTo>
                        <a:pt x="6" y="83"/>
                      </a:lnTo>
                      <a:lnTo>
                        <a:pt x="12" y="77"/>
                      </a:lnTo>
                      <a:lnTo>
                        <a:pt x="6" y="71"/>
                      </a:lnTo>
                      <a:lnTo>
                        <a:pt x="0" y="59"/>
                      </a:lnTo>
                      <a:lnTo>
                        <a:pt x="6" y="47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58"/>
                <p:cNvSpPr/>
                <p:nvPr/>
              </p:nvSpPr>
              <p:spPr>
                <a:xfrm>
                  <a:off x="6589440" y="4501080"/>
                  <a:ext cx="262800" cy="16812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3" h="173">
                      <a:moveTo>
                        <a:pt x="101" y="0"/>
                      </a:moveTo>
                      <a:lnTo>
                        <a:pt x="107" y="0"/>
                      </a:lnTo>
                      <a:lnTo>
                        <a:pt x="143" y="0"/>
                      </a:lnTo>
                      <a:lnTo>
                        <a:pt x="155" y="0"/>
                      </a:lnTo>
                      <a:lnTo>
                        <a:pt x="167" y="0"/>
                      </a:lnTo>
                      <a:lnTo>
                        <a:pt x="185" y="18"/>
                      </a:lnTo>
                      <a:lnTo>
                        <a:pt x="203" y="36"/>
                      </a:lnTo>
                      <a:lnTo>
                        <a:pt x="227" y="36"/>
                      </a:lnTo>
                      <a:lnTo>
                        <a:pt x="251" y="36"/>
                      </a:lnTo>
                      <a:lnTo>
                        <a:pt x="257" y="41"/>
                      </a:lnTo>
                      <a:lnTo>
                        <a:pt x="251" y="53"/>
                      </a:lnTo>
                      <a:lnTo>
                        <a:pt x="257" y="65"/>
                      </a:lnTo>
                      <a:lnTo>
                        <a:pt x="263" y="71"/>
                      </a:lnTo>
                      <a:lnTo>
                        <a:pt x="257" y="77"/>
                      </a:lnTo>
                      <a:lnTo>
                        <a:pt x="257" y="83"/>
                      </a:lnTo>
                      <a:lnTo>
                        <a:pt x="251" y="89"/>
                      </a:lnTo>
                      <a:lnTo>
                        <a:pt x="257" y="89"/>
                      </a:lnTo>
                      <a:lnTo>
                        <a:pt x="251" y="101"/>
                      </a:lnTo>
                      <a:lnTo>
                        <a:pt x="251" y="113"/>
                      </a:lnTo>
                      <a:lnTo>
                        <a:pt x="245" y="131"/>
                      </a:lnTo>
                      <a:lnTo>
                        <a:pt x="245" y="137"/>
                      </a:lnTo>
                      <a:lnTo>
                        <a:pt x="257" y="149"/>
                      </a:lnTo>
                      <a:lnTo>
                        <a:pt x="257" y="155"/>
                      </a:lnTo>
                      <a:lnTo>
                        <a:pt x="257" y="161"/>
                      </a:lnTo>
                      <a:lnTo>
                        <a:pt x="257" y="167"/>
                      </a:lnTo>
                      <a:lnTo>
                        <a:pt x="257" y="173"/>
                      </a:lnTo>
                      <a:lnTo>
                        <a:pt x="239" y="167"/>
                      </a:lnTo>
                      <a:lnTo>
                        <a:pt x="233" y="173"/>
                      </a:lnTo>
                      <a:lnTo>
                        <a:pt x="227" y="167"/>
                      </a:lnTo>
                      <a:lnTo>
                        <a:pt x="221" y="161"/>
                      </a:lnTo>
                      <a:lnTo>
                        <a:pt x="185" y="143"/>
                      </a:lnTo>
                      <a:lnTo>
                        <a:pt x="185" y="137"/>
                      </a:lnTo>
                      <a:lnTo>
                        <a:pt x="179" y="125"/>
                      </a:lnTo>
                      <a:lnTo>
                        <a:pt x="173" y="119"/>
                      </a:lnTo>
                      <a:lnTo>
                        <a:pt x="161" y="131"/>
                      </a:lnTo>
                      <a:lnTo>
                        <a:pt x="149" y="137"/>
                      </a:lnTo>
                      <a:lnTo>
                        <a:pt x="143" y="143"/>
                      </a:lnTo>
                      <a:lnTo>
                        <a:pt x="119" y="149"/>
                      </a:lnTo>
                      <a:lnTo>
                        <a:pt x="107" y="155"/>
                      </a:lnTo>
                      <a:lnTo>
                        <a:pt x="84" y="161"/>
                      </a:lnTo>
                      <a:lnTo>
                        <a:pt x="78" y="161"/>
                      </a:lnTo>
                      <a:lnTo>
                        <a:pt x="66" y="161"/>
                      </a:lnTo>
                      <a:lnTo>
                        <a:pt x="66" y="149"/>
                      </a:lnTo>
                      <a:lnTo>
                        <a:pt x="60" y="137"/>
                      </a:lnTo>
                      <a:lnTo>
                        <a:pt x="60" y="131"/>
                      </a:lnTo>
                      <a:lnTo>
                        <a:pt x="54" y="125"/>
                      </a:lnTo>
                      <a:lnTo>
                        <a:pt x="60" y="125"/>
                      </a:lnTo>
                      <a:lnTo>
                        <a:pt x="54" y="113"/>
                      </a:lnTo>
                      <a:lnTo>
                        <a:pt x="48" y="83"/>
                      </a:lnTo>
                      <a:lnTo>
                        <a:pt x="24" y="53"/>
                      </a:lnTo>
                      <a:lnTo>
                        <a:pt x="6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48" y="30"/>
                      </a:lnTo>
                      <a:lnTo>
                        <a:pt x="54" y="36"/>
                      </a:lnTo>
                      <a:lnTo>
                        <a:pt x="60" y="24"/>
                      </a:lnTo>
                      <a:lnTo>
                        <a:pt x="66" y="18"/>
                      </a:lnTo>
                      <a:lnTo>
                        <a:pt x="78" y="24"/>
                      </a:lnTo>
                      <a:lnTo>
                        <a:pt x="84" y="24"/>
                      </a:lnTo>
                      <a:lnTo>
                        <a:pt x="90" y="6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59"/>
                <p:cNvSpPr/>
                <p:nvPr/>
              </p:nvSpPr>
              <p:spPr>
                <a:xfrm>
                  <a:off x="6171480" y="4524480"/>
                  <a:ext cx="262800" cy="35352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353520"/>
                    <a:gd name="textAreaBottom" fmla="*/ 353880 h 353520"/>
                  </a:gdLst>
                  <a:ahLst/>
                  <a:rect l="textAreaLeft" t="textAreaTop" r="textAreaRight" b="textAreaBottom"/>
                  <a:pathLst>
                    <a:path w="263" h="364">
                      <a:moveTo>
                        <a:pt x="6" y="29"/>
                      </a:moveTo>
                      <a:lnTo>
                        <a:pt x="6" y="17"/>
                      </a:lnTo>
                      <a:lnTo>
                        <a:pt x="0" y="6"/>
                      </a:lnTo>
                      <a:lnTo>
                        <a:pt x="18" y="0"/>
                      </a:lnTo>
                      <a:lnTo>
                        <a:pt x="36" y="6"/>
                      </a:lnTo>
                      <a:lnTo>
                        <a:pt x="72" y="35"/>
                      </a:lnTo>
                      <a:lnTo>
                        <a:pt x="84" y="53"/>
                      </a:lnTo>
                      <a:lnTo>
                        <a:pt x="108" y="95"/>
                      </a:lnTo>
                      <a:lnTo>
                        <a:pt x="108" y="101"/>
                      </a:lnTo>
                      <a:lnTo>
                        <a:pt x="132" y="107"/>
                      </a:lnTo>
                      <a:lnTo>
                        <a:pt x="162" y="83"/>
                      </a:lnTo>
                      <a:lnTo>
                        <a:pt x="179" y="83"/>
                      </a:lnTo>
                      <a:lnTo>
                        <a:pt x="197" y="101"/>
                      </a:lnTo>
                      <a:lnTo>
                        <a:pt x="227" y="101"/>
                      </a:lnTo>
                      <a:lnTo>
                        <a:pt x="245" y="119"/>
                      </a:lnTo>
                      <a:lnTo>
                        <a:pt x="263" y="125"/>
                      </a:lnTo>
                      <a:lnTo>
                        <a:pt x="251" y="131"/>
                      </a:lnTo>
                      <a:lnTo>
                        <a:pt x="251" y="137"/>
                      </a:lnTo>
                      <a:lnTo>
                        <a:pt x="245" y="185"/>
                      </a:lnTo>
                      <a:lnTo>
                        <a:pt x="239" y="185"/>
                      </a:lnTo>
                      <a:lnTo>
                        <a:pt x="239" y="191"/>
                      </a:lnTo>
                      <a:lnTo>
                        <a:pt x="257" y="226"/>
                      </a:lnTo>
                      <a:lnTo>
                        <a:pt x="263" y="244"/>
                      </a:lnTo>
                      <a:lnTo>
                        <a:pt x="257" y="256"/>
                      </a:lnTo>
                      <a:lnTo>
                        <a:pt x="251" y="268"/>
                      </a:lnTo>
                      <a:lnTo>
                        <a:pt x="239" y="268"/>
                      </a:lnTo>
                      <a:lnTo>
                        <a:pt x="215" y="250"/>
                      </a:lnTo>
                      <a:lnTo>
                        <a:pt x="203" y="238"/>
                      </a:lnTo>
                      <a:lnTo>
                        <a:pt x="197" y="238"/>
                      </a:lnTo>
                      <a:lnTo>
                        <a:pt x="191" y="250"/>
                      </a:lnTo>
                      <a:lnTo>
                        <a:pt x="185" y="268"/>
                      </a:lnTo>
                      <a:lnTo>
                        <a:pt x="179" y="280"/>
                      </a:lnTo>
                      <a:lnTo>
                        <a:pt x="179" y="298"/>
                      </a:lnTo>
                      <a:lnTo>
                        <a:pt x="179" y="328"/>
                      </a:lnTo>
                      <a:lnTo>
                        <a:pt x="173" y="334"/>
                      </a:lnTo>
                      <a:lnTo>
                        <a:pt x="150" y="346"/>
                      </a:lnTo>
                      <a:lnTo>
                        <a:pt x="138" y="346"/>
                      </a:lnTo>
                      <a:lnTo>
                        <a:pt x="120" y="358"/>
                      </a:lnTo>
                      <a:lnTo>
                        <a:pt x="108" y="364"/>
                      </a:lnTo>
                      <a:lnTo>
                        <a:pt x="78" y="358"/>
                      </a:lnTo>
                      <a:lnTo>
                        <a:pt x="78" y="352"/>
                      </a:lnTo>
                      <a:lnTo>
                        <a:pt x="84" y="334"/>
                      </a:lnTo>
                      <a:lnTo>
                        <a:pt x="96" y="316"/>
                      </a:lnTo>
                      <a:lnTo>
                        <a:pt x="90" y="310"/>
                      </a:lnTo>
                      <a:lnTo>
                        <a:pt x="72" y="304"/>
                      </a:lnTo>
                      <a:lnTo>
                        <a:pt x="72" y="298"/>
                      </a:lnTo>
                      <a:lnTo>
                        <a:pt x="84" y="268"/>
                      </a:lnTo>
                      <a:lnTo>
                        <a:pt x="72" y="250"/>
                      </a:lnTo>
                      <a:lnTo>
                        <a:pt x="90" y="232"/>
                      </a:lnTo>
                      <a:lnTo>
                        <a:pt x="90" y="226"/>
                      </a:lnTo>
                      <a:lnTo>
                        <a:pt x="108" y="214"/>
                      </a:lnTo>
                      <a:lnTo>
                        <a:pt x="126" y="202"/>
                      </a:lnTo>
                      <a:lnTo>
                        <a:pt x="126" y="197"/>
                      </a:lnTo>
                      <a:lnTo>
                        <a:pt x="138" y="191"/>
                      </a:lnTo>
                      <a:lnTo>
                        <a:pt x="156" y="191"/>
                      </a:lnTo>
                      <a:lnTo>
                        <a:pt x="156" y="185"/>
                      </a:lnTo>
                      <a:lnTo>
                        <a:pt x="156" y="179"/>
                      </a:lnTo>
                      <a:lnTo>
                        <a:pt x="150" y="173"/>
                      </a:lnTo>
                      <a:lnTo>
                        <a:pt x="138" y="167"/>
                      </a:lnTo>
                      <a:lnTo>
                        <a:pt x="114" y="161"/>
                      </a:lnTo>
                      <a:lnTo>
                        <a:pt x="96" y="125"/>
                      </a:lnTo>
                      <a:lnTo>
                        <a:pt x="72" y="101"/>
                      </a:lnTo>
                      <a:lnTo>
                        <a:pt x="60" y="71"/>
                      </a:lnTo>
                      <a:lnTo>
                        <a:pt x="36" y="53"/>
                      </a:lnTo>
                      <a:lnTo>
                        <a:pt x="12" y="41"/>
                      </a:lnTo>
                      <a:lnTo>
                        <a:pt x="6" y="41"/>
                      </a:lnTo>
                      <a:lnTo>
                        <a:pt x="6" y="29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60"/>
                <p:cNvSpPr/>
                <p:nvPr/>
              </p:nvSpPr>
              <p:spPr>
                <a:xfrm>
                  <a:off x="5814720" y="4536360"/>
                  <a:ext cx="148680" cy="24876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149" h="256">
                      <a:moveTo>
                        <a:pt x="71" y="0"/>
                      </a:moveTo>
                      <a:lnTo>
                        <a:pt x="83" y="5"/>
                      </a:lnTo>
                      <a:lnTo>
                        <a:pt x="89" y="11"/>
                      </a:lnTo>
                      <a:lnTo>
                        <a:pt x="95" y="11"/>
                      </a:lnTo>
                      <a:lnTo>
                        <a:pt x="101" y="11"/>
                      </a:lnTo>
                      <a:lnTo>
                        <a:pt x="107" y="11"/>
                      </a:lnTo>
                      <a:lnTo>
                        <a:pt x="113" y="29"/>
                      </a:lnTo>
                      <a:lnTo>
                        <a:pt x="119" y="41"/>
                      </a:lnTo>
                      <a:lnTo>
                        <a:pt x="119" y="47"/>
                      </a:lnTo>
                      <a:lnTo>
                        <a:pt x="119" y="65"/>
                      </a:lnTo>
                      <a:lnTo>
                        <a:pt x="119" y="83"/>
                      </a:lnTo>
                      <a:lnTo>
                        <a:pt x="113" y="95"/>
                      </a:lnTo>
                      <a:lnTo>
                        <a:pt x="107" y="101"/>
                      </a:lnTo>
                      <a:lnTo>
                        <a:pt x="101" y="113"/>
                      </a:lnTo>
                      <a:lnTo>
                        <a:pt x="95" y="125"/>
                      </a:lnTo>
                      <a:lnTo>
                        <a:pt x="95" y="155"/>
                      </a:lnTo>
                      <a:lnTo>
                        <a:pt x="95" y="161"/>
                      </a:lnTo>
                      <a:lnTo>
                        <a:pt x="107" y="173"/>
                      </a:lnTo>
                      <a:lnTo>
                        <a:pt x="119" y="185"/>
                      </a:lnTo>
                      <a:lnTo>
                        <a:pt x="119" y="190"/>
                      </a:lnTo>
                      <a:lnTo>
                        <a:pt x="137" y="196"/>
                      </a:lnTo>
                      <a:lnTo>
                        <a:pt x="143" y="202"/>
                      </a:lnTo>
                      <a:lnTo>
                        <a:pt x="149" y="208"/>
                      </a:lnTo>
                      <a:lnTo>
                        <a:pt x="143" y="214"/>
                      </a:lnTo>
                      <a:lnTo>
                        <a:pt x="143" y="238"/>
                      </a:lnTo>
                      <a:lnTo>
                        <a:pt x="131" y="256"/>
                      </a:lnTo>
                      <a:lnTo>
                        <a:pt x="125" y="256"/>
                      </a:lnTo>
                      <a:lnTo>
                        <a:pt x="113" y="256"/>
                      </a:lnTo>
                      <a:lnTo>
                        <a:pt x="113" y="250"/>
                      </a:lnTo>
                      <a:lnTo>
                        <a:pt x="101" y="244"/>
                      </a:lnTo>
                      <a:lnTo>
                        <a:pt x="83" y="232"/>
                      </a:lnTo>
                      <a:lnTo>
                        <a:pt x="71" y="232"/>
                      </a:lnTo>
                      <a:lnTo>
                        <a:pt x="65" y="244"/>
                      </a:lnTo>
                      <a:lnTo>
                        <a:pt x="53" y="244"/>
                      </a:lnTo>
                      <a:lnTo>
                        <a:pt x="29" y="226"/>
                      </a:lnTo>
                      <a:lnTo>
                        <a:pt x="0" y="232"/>
                      </a:lnTo>
                      <a:lnTo>
                        <a:pt x="0" y="220"/>
                      </a:lnTo>
                      <a:lnTo>
                        <a:pt x="0" y="208"/>
                      </a:lnTo>
                      <a:lnTo>
                        <a:pt x="6" y="202"/>
                      </a:lnTo>
                      <a:lnTo>
                        <a:pt x="6" y="196"/>
                      </a:lnTo>
                      <a:lnTo>
                        <a:pt x="6" y="173"/>
                      </a:lnTo>
                      <a:lnTo>
                        <a:pt x="6" y="161"/>
                      </a:lnTo>
                      <a:lnTo>
                        <a:pt x="11" y="155"/>
                      </a:lnTo>
                      <a:lnTo>
                        <a:pt x="11" y="131"/>
                      </a:lnTo>
                      <a:lnTo>
                        <a:pt x="11" y="113"/>
                      </a:lnTo>
                      <a:lnTo>
                        <a:pt x="11" y="101"/>
                      </a:lnTo>
                      <a:lnTo>
                        <a:pt x="0" y="83"/>
                      </a:lnTo>
                      <a:lnTo>
                        <a:pt x="6" y="59"/>
                      </a:lnTo>
                      <a:lnTo>
                        <a:pt x="11" y="41"/>
                      </a:lnTo>
                      <a:lnTo>
                        <a:pt x="11" y="29"/>
                      </a:lnTo>
                      <a:lnTo>
                        <a:pt x="23" y="23"/>
                      </a:lnTo>
                      <a:lnTo>
                        <a:pt x="23" y="11"/>
                      </a:lnTo>
                      <a:lnTo>
                        <a:pt x="35" y="11"/>
                      </a:lnTo>
                      <a:lnTo>
                        <a:pt x="41" y="5"/>
                      </a:lnTo>
                      <a:lnTo>
                        <a:pt x="53" y="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61"/>
                <p:cNvSpPr/>
                <p:nvPr/>
              </p:nvSpPr>
              <p:spPr>
                <a:xfrm>
                  <a:off x="6344640" y="4536360"/>
                  <a:ext cx="250920" cy="16812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51" h="173">
                      <a:moveTo>
                        <a:pt x="72" y="5"/>
                      </a:moveTo>
                      <a:lnTo>
                        <a:pt x="72" y="0"/>
                      </a:lnTo>
                      <a:lnTo>
                        <a:pt x="84" y="5"/>
                      </a:lnTo>
                      <a:lnTo>
                        <a:pt x="120" y="11"/>
                      </a:lnTo>
                      <a:lnTo>
                        <a:pt x="126" y="23"/>
                      </a:lnTo>
                      <a:lnTo>
                        <a:pt x="132" y="29"/>
                      </a:lnTo>
                      <a:lnTo>
                        <a:pt x="126" y="47"/>
                      </a:lnTo>
                      <a:lnTo>
                        <a:pt x="126" y="53"/>
                      </a:lnTo>
                      <a:lnTo>
                        <a:pt x="132" y="59"/>
                      </a:lnTo>
                      <a:lnTo>
                        <a:pt x="156" y="47"/>
                      </a:lnTo>
                      <a:lnTo>
                        <a:pt x="167" y="47"/>
                      </a:lnTo>
                      <a:lnTo>
                        <a:pt x="173" y="47"/>
                      </a:lnTo>
                      <a:lnTo>
                        <a:pt x="185" y="65"/>
                      </a:lnTo>
                      <a:lnTo>
                        <a:pt x="221" y="101"/>
                      </a:lnTo>
                      <a:lnTo>
                        <a:pt x="233" y="107"/>
                      </a:lnTo>
                      <a:lnTo>
                        <a:pt x="233" y="119"/>
                      </a:lnTo>
                      <a:lnTo>
                        <a:pt x="233" y="125"/>
                      </a:lnTo>
                      <a:lnTo>
                        <a:pt x="245" y="131"/>
                      </a:lnTo>
                      <a:lnTo>
                        <a:pt x="251" y="143"/>
                      </a:lnTo>
                      <a:lnTo>
                        <a:pt x="251" y="149"/>
                      </a:lnTo>
                      <a:lnTo>
                        <a:pt x="245" y="161"/>
                      </a:lnTo>
                      <a:lnTo>
                        <a:pt x="227" y="167"/>
                      </a:lnTo>
                      <a:lnTo>
                        <a:pt x="203" y="155"/>
                      </a:lnTo>
                      <a:lnTo>
                        <a:pt x="185" y="149"/>
                      </a:lnTo>
                      <a:lnTo>
                        <a:pt x="167" y="149"/>
                      </a:lnTo>
                      <a:lnTo>
                        <a:pt x="167" y="155"/>
                      </a:lnTo>
                      <a:lnTo>
                        <a:pt x="162" y="173"/>
                      </a:lnTo>
                      <a:lnTo>
                        <a:pt x="138" y="173"/>
                      </a:lnTo>
                      <a:lnTo>
                        <a:pt x="144" y="155"/>
                      </a:lnTo>
                      <a:lnTo>
                        <a:pt x="144" y="143"/>
                      </a:lnTo>
                      <a:lnTo>
                        <a:pt x="132" y="119"/>
                      </a:lnTo>
                      <a:lnTo>
                        <a:pt x="126" y="113"/>
                      </a:lnTo>
                      <a:lnTo>
                        <a:pt x="108" y="113"/>
                      </a:lnTo>
                      <a:lnTo>
                        <a:pt x="90" y="113"/>
                      </a:lnTo>
                      <a:lnTo>
                        <a:pt x="72" y="107"/>
                      </a:lnTo>
                      <a:lnTo>
                        <a:pt x="54" y="89"/>
                      </a:lnTo>
                      <a:lnTo>
                        <a:pt x="24" y="89"/>
                      </a:lnTo>
                      <a:lnTo>
                        <a:pt x="6" y="71"/>
                      </a:lnTo>
                      <a:lnTo>
                        <a:pt x="0" y="59"/>
                      </a:lnTo>
                      <a:lnTo>
                        <a:pt x="0" y="47"/>
                      </a:lnTo>
                      <a:lnTo>
                        <a:pt x="0" y="35"/>
                      </a:lnTo>
                      <a:lnTo>
                        <a:pt x="12" y="29"/>
                      </a:lnTo>
                      <a:lnTo>
                        <a:pt x="60" y="17"/>
                      </a:lnTo>
                      <a:lnTo>
                        <a:pt x="72" y="5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62"/>
                <p:cNvSpPr/>
                <p:nvPr/>
              </p:nvSpPr>
              <p:spPr>
                <a:xfrm>
                  <a:off x="6905520" y="4541040"/>
                  <a:ext cx="113760" cy="30204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114" h="311">
                      <a:moveTo>
                        <a:pt x="12" y="30"/>
                      </a:moveTo>
                      <a:lnTo>
                        <a:pt x="30" y="36"/>
                      </a:lnTo>
                      <a:lnTo>
                        <a:pt x="42" y="42"/>
                      </a:lnTo>
                      <a:lnTo>
                        <a:pt x="48" y="42"/>
                      </a:lnTo>
                      <a:lnTo>
                        <a:pt x="54" y="24"/>
                      </a:lnTo>
                      <a:lnTo>
                        <a:pt x="60" y="6"/>
                      </a:lnTo>
                      <a:lnTo>
                        <a:pt x="60" y="0"/>
                      </a:lnTo>
                      <a:lnTo>
                        <a:pt x="72" y="6"/>
                      </a:lnTo>
                      <a:lnTo>
                        <a:pt x="78" y="6"/>
                      </a:lnTo>
                      <a:lnTo>
                        <a:pt x="90" y="18"/>
                      </a:lnTo>
                      <a:lnTo>
                        <a:pt x="90" y="48"/>
                      </a:lnTo>
                      <a:lnTo>
                        <a:pt x="96" y="60"/>
                      </a:lnTo>
                      <a:lnTo>
                        <a:pt x="90" y="72"/>
                      </a:lnTo>
                      <a:lnTo>
                        <a:pt x="90" y="78"/>
                      </a:lnTo>
                      <a:lnTo>
                        <a:pt x="102" y="96"/>
                      </a:lnTo>
                      <a:lnTo>
                        <a:pt x="96" y="108"/>
                      </a:lnTo>
                      <a:lnTo>
                        <a:pt x="102" y="126"/>
                      </a:lnTo>
                      <a:lnTo>
                        <a:pt x="108" y="138"/>
                      </a:lnTo>
                      <a:lnTo>
                        <a:pt x="108" y="150"/>
                      </a:lnTo>
                      <a:lnTo>
                        <a:pt x="108" y="162"/>
                      </a:lnTo>
                      <a:lnTo>
                        <a:pt x="114" y="174"/>
                      </a:lnTo>
                      <a:lnTo>
                        <a:pt x="114" y="180"/>
                      </a:lnTo>
                      <a:lnTo>
                        <a:pt x="114" y="191"/>
                      </a:lnTo>
                      <a:lnTo>
                        <a:pt x="102" y="221"/>
                      </a:lnTo>
                      <a:lnTo>
                        <a:pt x="96" y="239"/>
                      </a:lnTo>
                      <a:lnTo>
                        <a:pt x="90" y="311"/>
                      </a:lnTo>
                      <a:lnTo>
                        <a:pt x="72" y="293"/>
                      </a:lnTo>
                      <a:lnTo>
                        <a:pt x="66" y="287"/>
                      </a:lnTo>
                      <a:lnTo>
                        <a:pt x="60" y="269"/>
                      </a:lnTo>
                      <a:lnTo>
                        <a:pt x="60" y="263"/>
                      </a:lnTo>
                      <a:lnTo>
                        <a:pt x="48" y="263"/>
                      </a:lnTo>
                      <a:lnTo>
                        <a:pt x="42" y="263"/>
                      </a:lnTo>
                      <a:lnTo>
                        <a:pt x="30" y="251"/>
                      </a:lnTo>
                      <a:lnTo>
                        <a:pt x="18" y="233"/>
                      </a:lnTo>
                      <a:lnTo>
                        <a:pt x="18" y="221"/>
                      </a:lnTo>
                      <a:lnTo>
                        <a:pt x="12" y="215"/>
                      </a:lnTo>
                      <a:lnTo>
                        <a:pt x="6" y="209"/>
                      </a:lnTo>
                      <a:lnTo>
                        <a:pt x="0" y="191"/>
                      </a:lnTo>
                      <a:lnTo>
                        <a:pt x="12" y="180"/>
                      </a:lnTo>
                      <a:lnTo>
                        <a:pt x="6" y="162"/>
                      </a:lnTo>
                      <a:lnTo>
                        <a:pt x="6" y="156"/>
                      </a:lnTo>
                      <a:lnTo>
                        <a:pt x="12" y="156"/>
                      </a:lnTo>
                      <a:lnTo>
                        <a:pt x="18" y="150"/>
                      </a:lnTo>
                      <a:lnTo>
                        <a:pt x="12" y="138"/>
                      </a:lnTo>
                      <a:lnTo>
                        <a:pt x="24" y="138"/>
                      </a:lnTo>
                      <a:lnTo>
                        <a:pt x="36" y="132"/>
                      </a:lnTo>
                      <a:lnTo>
                        <a:pt x="48" y="114"/>
                      </a:lnTo>
                      <a:lnTo>
                        <a:pt x="42" y="96"/>
                      </a:lnTo>
                      <a:lnTo>
                        <a:pt x="42" y="84"/>
                      </a:lnTo>
                      <a:lnTo>
                        <a:pt x="24" y="72"/>
                      </a:lnTo>
                      <a:lnTo>
                        <a:pt x="18" y="54"/>
                      </a:lnTo>
                      <a:lnTo>
                        <a:pt x="12" y="48"/>
                      </a:lnTo>
                      <a:lnTo>
                        <a:pt x="6" y="42"/>
                      </a:lnTo>
                      <a:lnTo>
                        <a:pt x="12" y="3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63"/>
                <p:cNvSpPr/>
                <p:nvPr/>
              </p:nvSpPr>
              <p:spPr>
                <a:xfrm>
                  <a:off x="6022440" y="4552920"/>
                  <a:ext cx="160920" cy="29016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1" h="299">
                      <a:moveTo>
                        <a:pt x="155" y="0"/>
                      </a:moveTo>
                      <a:lnTo>
                        <a:pt x="155" y="12"/>
                      </a:lnTo>
                      <a:lnTo>
                        <a:pt x="155" y="24"/>
                      </a:lnTo>
                      <a:lnTo>
                        <a:pt x="155" y="48"/>
                      </a:lnTo>
                      <a:lnTo>
                        <a:pt x="138" y="66"/>
                      </a:lnTo>
                      <a:lnTo>
                        <a:pt x="144" y="78"/>
                      </a:lnTo>
                      <a:lnTo>
                        <a:pt x="138" y="84"/>
                      </a:lnTo>
                      <a:lnTo>
                        <a:pt x="138" y="108"/>
                      </a:lnTo>
                      <a:lnTo>
                        <a:pt x="144" y="126"/>
                      </a:lnTo>
                      <a:lnTo>
                        <a:pt x="155" y="144"/>
                      </a:lnTo>
                      <a:lnTo>
                        <a:pt x="161" y="179"/>
                      </a:lnTo>
                      <a:lnTo>
                        <a:pt x="155" y="191"/>
                      </a:lnTo>
                      <a:lnTo>
                        <a:pt x="155" y="197"/>
                      </a:lnTo>
                      <a:lnTo>
                        <a:pt x="155" y="209"/>
                      </a:lnTo>
                      <a:lnTo>
                        <a:pt x="138" y="209"/>
                      </a:lnTo>
                      <a:lnTo>
                        <a:pt x="132" y="215"/>
                      </a:lnTo>
                      <a:lnTo>
                        <a:pt x="126" y="221"/>
                      </a:lnTo>
                      <a:lnTo>
                        <a:pt x="108" y="281"/>
                      </a:lnTo>
                      <a:lnTo>
                        <a:pt x="102" y="293"/>
                      </a:lnTo>
                      <a:lnTo>
                        <a:pt x="96" y="299"/>
                      </a:lnTo>
                      <a:lnTo>
                        <a:pt x="90" y="293"/>
                      </a:lnTo>
                      <a:lnTo>
                        <a:pt x="60" y="275"/>
                      </a:lnTo>
                      <a:lnTo>
                        <a:pt x="36" y="257"/>
                      </a:lnTo>
                      <a:lnTo>
                        <a:pt x="24" y="257"/>
                      </a:lnTo>
                      <a:lnTo>
                        <a:pt x="0" y="257"/>
                      </a:lnTo>
                      <a:lnTo>
                        <a:pt x="0" y="251"/>
                      </a:lnTo>
                      <a:lnTo>
                        <a:pt x="0" y="239"/>
                      </a:lnTo>
                      <a:lnTo>
                        <a:pt x="12" y="203"/>
                      </a:lnTo>
                      <a:lnTo>
                        <a:pt x="6" y="185"/>
                      </a:lnTo>
                      <a:lnTo>
                        <a:pt x="0" y="173"/>
                      </a:lnTo>
                      <a:lnTo>
                        <a:pt x="12" y="168"/>
                      </a:lnTo>
                      <a:lnTo>
                        <a:pt x="6" y="156"/>
                      </a:lnTo>
                      <a:lnTo>
                        <a:pt x="12" y="144"/>
                      </a:lnTo>
                      <a:lnTo>
                        <a:pt x="24" y="138"/>
                      </a:lnTo>
                      <a:lnTo>
                        <a:pt x="42" y="132"/>
                      </a:lnTo>
                      <a:lnTo>
                        <a:pt x="42" y="126"/>
                      </a:lnTo>
                      <a:lnTo>
                        <a:pt x="42" y="96"/>
                      </a:lnTo>
                      <a:lnTo>
                        <a:pt x="42" y="66"/>
                      </a:lnTo>
                      <a:lnTo>
                        <a:pt x="42" y="54"/>
                      </a:lnTo>
                      <a:lnTo>
                        <a:pt x="60" y="48"/>
                      </a:lnTo>
                      <a:lnTo>
                        <a:pt x="66" y="42"/>
                      </a:lnTo>
                      <a:lnTo>
                        <a:pt x="84" y="30"/>
                      </a:lnTo>
                      <a:lnTo>
                        <a:pt x="96" y="30"/>
                      </a:lnTo>
                      <a:lnTo>
                        <a:pt x="102" y="30"/>
                      </a:lnTo>
                      <a:lnTo>
                        <a:pt x="138" y="6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64"/>
                <p:cNvSpPr/>
                <p:nvPr/>
              </p:nvSpPr>
              <p:spPr>
                <a:xfrm>
                  <a:off x="5652360" y="4552920"/>
                  <a:ext cx="172800" cy="26100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173" h="269">
                      <a:moveTo>
                        <a:pt x="173" y="12"/>
                      </a:moveTo>
                      <a:lnTo>
                        <a:pt x="173" y="24"/>
                      </a:lnTo>
                      <a:lnTo>
                        <a:pt x="162" y="24"/>
                      </a:lnTo>
                      <a:lnTo>
                        <a:pt x="162" y="30"/>
                      </a:lnTo>
                      <a:lnTo>
                        <a:pt x="150" y="48"/>
                      </a:lnTo>
                      <a:lnTo>
                        <a:pt x="144" y="96"/>
                      </a:lnTo>
                      <a:lnTo>
                        <a:pt x="138" y="120"/>
                      </a:lnTo>
                      <a:lnTo>
                        <a:pt x="114" y="126"/>
                      </a:lnTo>
                      <a:lnTo>
                        <a:pt x="108" y="150"/>
                      </a:lnTo>
                      <a:lnTo>
                        <a:pt x="96" y="156"/>
                      </a:lnTo>
                      <a:lnTo>
                        <a:pt x="78" y="179"/>
                      </a:lnTo>
                      <a:lnTo>
                        <a:pt x="48" y="209"/>
                      </a:lnTo>
                      <a:lnTo>
                        <a:pt x="48" y="215"/>
                      </a:lnTo>
                      <a:lnTo>
                        <a:pt x="48" y="233"/>
                      </a:lnTo>
                      <a:lnTo>
                        <a:pt x="48" y="245"/>
                      </a:lnTo>
                      <a:lnTo>
                        <a:pt x="36" y="257"/>
                      </a:lnTo>
                      <a:lnTo>
                        <a:pt x="30" y="263"/>
                      </a:lnTo>
                      <a:lnTo>
                        <a:pt x="18" y="269"/>
                      </a:lnTo>
                      <a:lnTo>
                        <a:pt x="6" y="257"/>
                      </a:lnTo>
                      <a:lnTo>
                        <a:pt x="12" y="245"/>
                      </a:lnTo>
                      <a:lnTo>
                        <a:pt x="0" y="239"/>
                      </a:lnTo>
                      <a:lnTo>
                        <a:pt x="0" y="233"/>
                      </a:lnTo>
                      <a:lnTo>
                        <a:pt x="0" y="197"/>
                      </a:lnTo>
                      <a:lnTo>
                        <a:pt x="0" y="179"/>
                      </a:lnTo>
                      <a:lnTo>
                        <a:pt x="0" y="162"/>
                      </a:lnTo>
                      <a:lnTo>
                        <a:pt x="12" y="144"/>
                      </a:lnTo>
                      <a:lnTo>
                        <a:pt x="12" y="114"/>
                      </a:lnTo>
                      <a:lnTo>
                        <a:pt x="18" y="102"/>
                      </a:lnTo>
                      <a:lnTo>
                        <a:pt x="24" y="84"/>
                      </a:lnTo>
                      <a:lnTo>
                        <a:pt x="30" y="72"/>
                      </a:lnTo>
                      <a:lnTo>
                        <a:pt x="36" y="60"/>
                      </a:lnTo>
                      <a:lnTo>
                        <a:pt x="48" y="60"/>
                      </a:lnTo>
                      <a:lnTo>
                        <a:pt x="72" y="42"/>
                      </a:lnTo>
                      <a:lnTo>
                        <a:pt x="96" y="36"/>
                      </a:lnTo>
                      <a:lnTo>
                        <a:pt x="120" y="30"/>
                      </a:lnTo>
                      <a:lnTo>
                        <a:pt x="132" y="24"/>
                      </a:lnTo>
                      <a:lnTo>
                        <a:pt x="144" y="6"/>
                      </a:lnTo>
                      <a:lnTo>
                        <a:pt x="156" y="0"/>
                      </a:lnTo>
                      <a:lnTo>
                        <a:pt x="162" y="6"/>
                      </a:lnTo>
                      <a:lnTo>
                        <a:pt x="173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65"/>
                <p:cNvSpPr/>
                <p:nvPr/>
              </p:nvSpPr>
              <p:spPr>
                <a:xfrm>
                  <a:off x="5909400" y="4552920"/>
                  <a:ext cx="154800" cy="24948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155" h="257">
                      <a:moveTo>
                        <a:pt x="24" y="24"/>
                      </a:moveTo>
                      <a:lnTo>
                        <a:pt x="36" y="0"/>
                      </a:lnTo>
                      <a:lnTo>
                        <a:pt x="42" y="6"/>
                      </a:lnTo>
                      <a:lnTo>
                        <a:pt x="48" y="6"/>
                      </a:lnTo>
                      <a:lnTo>
                        <a:pt x="84" y="30"/>
                      </a:lnTo>
                      <a:lnTo>
                        <a:pt x="89" y="30"/>
                      </a:lnTo>
                      <a:lnTo>
                        <a:pt x="107" y="30"/>
                      </a:lnTo>
                      <a:lnTo>
                        <a:pt x="125" y="42"/>
                      </a:lnTo>
                      <a:lnTo>
                        <a:pt x="143" y="54"/>
                      </a:lnTo>
                      <a:lnTo>
                        <a:pt x="155" y="54"/>
                      </a:lnTo>
                      <a:lnTo>
                        <a:pt x="155" y="66"/>
                      </a:lnTo>
                      <a:lnTo>
                        <a:pt x="155" y="96"/>
                      </a:lnTo>
                      <a:lnTo>
                        <a:pt x="155" y="126"/>
                      </a:lnTo>
                      <a:lnTo>
                        <a:pt x="155" y="132"/>
                      </a:lnTo>
                      <a:lnTo>
                        <a:pt x="137" y="138"/>
                      </a:lnTo>
                      <a:lnTo>
                        <a:pt x="125" y="144"/>
                      </a:lnTo>
                      <a:lnTo>
                        <a:pt x="119" y="156"/>
                      </a:lnTo>
                      <a:lnTo>
                        <a:pt x="125" y="168"/>
                      </a:lnTo>
                      <a:lnTo>
                        <a:pt x="113" y="173"/>
                      </a:lnTo>
                      <a:lnTo>
                        <a:pt x="107" y="173"/>
                      </a:lnTo>
                      <a:lnTo>
                        <a:pt x="101" y="168"/>
                      </a:lnTo>
                      <a:lnTo>
                        <a:pt x="95" y="168"/>
                      </a:lnTo>
                      <a:lnTo>
                        <a:pt x="84" y="191"/>
                      </a:lnTo>
                      <a:lnTo>
                        <a:pt x="72" y="203"/>
                      </a:lnTo>
                      <a:lnTo>
                        <a:pt x="72" y="221"/>
                      </a:lnTo>
                      <a:lnTo>
                        <a:pt x="60" y="233"/>
                      </a:lnTo>
                      <a:lnTo>
                        <a:pt x="48" y="245"/>
                      </a:lnTo>
                      <a:lnTo>
                        <a:pt x="42" y="245"/>
                      </a:lnTo>
                      <a:lnTo>
                        <a:pt x="42" y="251"/>
                      </a:lnTo>
                      <a:lnTo>
                        <a:pt x="42" y="245"/>
                      </a:lnTo>
                      <a:lnTo>
                        <a:pt x="42" y="251"/>
                      </a:lnTo>
                      <a:lnTo>
                        <a:pt x="30" y="257"/>
                      </a:lnTo>
                      <a:lnTo>
                        <a:pt x="18" y="239"/>
                      </a:lnTo>
                      <a:lnTo>
                        <a:pt x="30" y="239"/>
                      </a:lnTo>
                      <a:lnTo>
                        <a:pt x="36" y="239"/>
                      </a:lnTo>
                      <a:lnTo>
                        <a:pt x="48" y="221"/>
                      </a:lnTo>
                      <a:lnTo>
                        <a:pt x="48" y="197"/>
                      </a:lnTo>
                      <a:lnTo>
                        <a:pt x="54" y="191"/>
                      </a:lnTo>
                      <a:lnTo>
                        <a:pt x="48" y="185"/>
                      </a:lnTo>
                      <a:lnTo>
                        <a:pt x="42" y="179"/>
                      </a:lnTo>
                      <a:lnTo>
                        <a:pt x="24" y="173"/>
                      </a:lnTo>
                      <a:lnTo>
                        <a:pt x="24" y="168"/>
                      </a:lnTo>
                      <a:lnTo>
                        <a:pt x="12" y="156"/>
                      </a:lnTo>
                      <a:lnTo>
                        <a:pt x="0" y="144"/>
                      </a:lnTo>
                      <a:lnTo>
                        <a:pt x="0" y="138"/>
                      </a:lnTo>
                      <a:lnTo>
                        <a:pt x="0" y="108"/>
                      </a:lnTo>
                      <a:lnTo>
                        <a:pt x="6" y="96"/>
                      </a:lnTo>
                      <a:lnTo>
                        <a:pt x="12" y="84"/>
                      </a:lnTo>
                      <a:lnTo>
                        <a:pt x="18" y="78"/>
                      </a:lnTo>
                      <a:lnTo>
                        <a:pt x="24" y="66"/>
                      </a:lnTo>
                      <a:lnTo>
                        <a:pt x="24" y="48"/>
                      </a:lnTo>
                      <a:lnTo>
                        <a:pt x="24" y="30"/>
                      </a:lnTo>
                      <a:lnTo>
                        <a:pt x="24" y="24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66"/>
                <p:cNvSpPr/>
                <p:nvPr/>
              </p:nvSpPr>
              <p:spPr>
                <a:xfrm>
                  <a:off x="5688360" y="4576320"/>
                  <a:ext cx="136800" cy="22608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137" h="233">
                      <a:moveTo>
                        <a:pt x="137" y="0"/>
                      </a:moveTo>
                      <a:lnTo>
                        <a:pt x="132" y="18"/>
                      </a:lnTo>
                      <a:lnTo>
                        <a:pt x="126" y="42"/>
                      </a:lnTo>
                      <a:lnTo>
                        <a:pt x="137" y="60"/>
                      </a:lnTo>
                      <a:lnTo>
                        <a:pt x="137" y="72"/>
                      </a:lnTo>
                      <a:lnTo>
                        <a:pt x="137" y="90"/>
                      </a:lnTo>
                      <a:lnTo>
                        <a:pt x="137" y="114"/>
                      </a:lnTo>
                      <a:lnTo>
                        <a:pt x="132" y="120"/>
                      </a:lnTo>
                      <a:lnTo>
                        <a:pt x="132" y="132"/>
                      </a:lnTo>
                      <a:lnTo>
                        <a:pt x="120" y="138"/>
                      </a:lnTo>
                      <a:lnTo>
                        <a:pt x="120" y="144"/>
                      </a:lnTo>
                      <a:lnTo>
                        <a:pt x="84" y="173"/>
                      </a:lnTo>
                      <a:lnTo>
                        <a:pt x="60" y="185"/>
                      </a:lnTo>
                      <a:lnTo>
                        <a:pt x="54" y="197"/>
                      </a:lnTo>
                      <a:lnTo>
                        <a:pt x="18" y="233"/>
                      </a:lnTo>
                      <a:lnTo>
                        <a:pt x="0" y="233"/>
                      </a:lnTo>
                      <a:lnTo>
                        <a:pt x="12" y="221"/>
                      </a:lnTo>
                      <a:lnTo>
                        <a:pt x="12" y="209"/>
                      </a:lnTo>
                      <a:lnTo>
                        <a:pt x="12" y="191"/>
                      </a:lnTo>
                      <a:lnTo>
                        <a:pt x="12" y="185"/>
                      </a:lnTo>
                      <a:lnTo>
                        <a:pt x="42" y="155"/>
                      </a:lnTo>
                      <a:lnTo>
                        <a:pt x="60" y="132"/>
                      </a:lnTo>
                      <a:lnTo>
                        <a:pt x="72" y="126"/>
                      </a:lnTo>
                      <a:lnTo>
                        <a:pt x="78" y="102"/>
                      </a:lnTo>
                      <a:lnTo>
                        <a:pt x="102" y="96"/>
                      </a:lnTo>
                      <a:lnTo>
                        <a:pt x="108" y="72"/>
                      </a:lnTo>
                      <a:lnTo>
                        <a:pt x="114" y="24"/>
                      </a:lnTo>
                      <a:lnTo>
                        <a:pt x="126" y="6"/>
                      </a:lnTo>
                      <a:lnTo>
                        <a:pt x="126" y="0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67"/>
                <p:cNvSpPr/>
                <p:nvPr/>
              </p:nvSpPr>
              <p:spPr>
                <a:xfrm>
                  <a:off x="5402520" y="4593600"/>
                  <a:ext cx="172800" cy="26100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173" h="269">
                      <a:moveTo>
                        <a:pt x="143" y="6"/>
                      </a:move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7" y="0"/>
                      </a:lnTo>
                      <a:lnTo>
                        <a:pt x="173" y="18"/>
                      </a:lnTo>
                      <a:lnTo>
                        <a:pt x="167" y="24"/>
                      </a:lnTo>
                      <a:lnTo>
                        <a:pt x="143" y="54"/>
                      </a:lnTo>
                      <a:lnTo>
                        <a:pt x="137" y="66"/>
                      </a:lnTo>
                      <a:lnTo>
                        <a:pt x="137" y="72"/>
                      </a:lnTo>
                      <a:lnTo>
                        <a:pt x="155" y="90"/>
                      </a:lnTo>
                      <a:lnTo>
                        <a:pt x="155" y="114"/>
                      </a:lnTo>
                      <a:lnTo>
                        <a:pt x="161" y="120"/>
                      </a:lnTo>
                      <a:lnTo>
                        <a:pt x="161" y="126"/>
                      </a:lnTo>
                      <a:lnTo>
                        <a:pt x="155" y="131"/>
                      </a:lnTo>
                      <a:lnTo>
                        <a:pt x="155" y="137"/>
                      </a:lnTo>
                      <a:lnTo>
                        <a:pt x="167" y="143"/>
                      </a:lnTo>
                      <a:lnTo>
                        <a:pt x="131" y="179"/>
                      </a:lnTo>
                      <a:lnTo>
                        <a:pt x="113" y="179"/>
                      </a:lnTo>
                      <a:lnTo>
                        <a:pt x="83" y="203"/>
                      </a:lnTo>
                      <a:lnTo>
                        <a:pt x="77" y="215"/>
                      </a:lnTo>
                      <a:lnTo>
                        <a:pt x="77" y="257"/>
                      </a:lnTo>
                      <a:lnTo>
                        <a:pt x="77" y="263"/>
                      </a:lnTo>
                      <a:lnTo>
                        <a:pt x="54" y="263"/>
                      </a:lnTo>
                      <a:lnTo>
                        <a:pt x="30" y="269"/>
                      </a:lnTo>
                      <a:lnTo>
                        <a:pt x="24" y="251"/>
                      </a:lnTo>
                      <a:lnTo>
                        <a:pt x="12" y="227"/>
                      </a:lnTo>
                      <a:lnTo>
                        <a:pt x="0" y="215"/>
                      </a:lnTo>
                      <a:lnTo>
                        <a:pt x="0" y="209"/>
                      </a:lnTo>
                      <a:lnTo>
                        <a:pt x="18" y="179"/>
                      </a:lnTo>
                      <a:lnTo>
                        <a:pt x="30" y="161"/>
                      </a:lnTo>
                      <a:lnTo>
                        <a:pt x="48" y="131"/>
                      </a:lnTo>
                      <a:lnTo>
                        <a:pt x="54" y="126"/>
                      </a:lnTo>
                      <a:lnTo>
                        <a:pt x="48" y="108"/>
                      </a:lnTo>
                      <a:lnTo>
                        <a:pt x="60" y="96"/>
                      </a:lnTo>
                      <a:lnTo>
                        <a:pt x="60" y="84"/>
                      </a:lnTo>
                      <a:lnTo>
                        <a:pt x="95" y="66"/>
                      </a:lnTo>
                      <a:lnTo>
                        <a:pt x="113" y="48"/>
                      </a:lnTo>
                      <a:lnTo>
                        <a:pt x="137" y="12"/>
                      </a:lnTo>
                      <a:lnTo>
                        <a:pt x="143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68"/>
                <p:cNvSpPr/>
                <p:nvPr/>
              </p:nvSpPr>
              <p:spPr>
                <a:xfrm>
                  <a:off x="5157360" y="4605120"/>
                  <a:ext cx="208800" cy="38844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209" h="400">
                      <a:moveTo>
                        <a:pt x="24" y="0"/>
                      </a:moveTo>
                      <a:lnTo>
                        <a:pt x="36" y="6"/>
                      </a:lnTo>
                      <a:lnTo>
                        <a:pt x="42" y="6"/>
                      </a:lnTo>
                      <a:lnTo>
                        <a:pt x="54" y="24"/>
                      </a:lnTo>
                      <a:lnTo>
                        <a:pt x="66" y="36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96" y="48"/>
                      </a:lnTo>
                      <a:lnTo>
                        <a:pt x="108" y="48"/>
                      </a:lnTo>
                      <a:lnTo>
                        <a:pt x="120" y="60"/>
                      </a:lnTo>
                      <a:lnTo>
                        <a:pt x="120" y="66"/>
                      </a:lnTo>
                      <a:lnTo>
                        <a:pt x="126" y="72"/>
                      </a:lnTo>
                      <a:lnTo>
                        <a:pt x="126" y="96"/>
                      </a:lnTo>
                      <a:lnTo>
                        <a:pt x="120" y="114"/>
                      </a:lnTo>
                      <a:lnTo>
                        <a:pt x="126" y="119"/>
                      </a:lnTo>
                      <a:lnTo>
                        <a:pt x="144" y="131"/>
                      </a:lnTo>
                      <a:lnTo>
                        <a:pt x="144" y="137"/>
                      </a:lnTo>
                      <a:lnTo>
                        <a:pt x="144" y="143"/>
                      </a:lnTo>
                      <a:lnTo>
                        <a:pt x="126" y="149"/>
                      </a:lnTo>
                      <a:lnTo>
                        <a:pt x="126" y="167"/>
                      </a:lnTo>
                      <a:lnTo>
                        <a:pt x="149" y="221"/>
                      </a:lnTo>
                      <a:lnTo>
                        <a:pt x="155" y="281"/>
                      </a:lnTo>
                      <a:lnTo>
                        <a:pt x="161" y="293"/>
                      </a:lnTo>
                      <a:lnTo>
                        <a:pt x="161" y="304"/>
                      </a:lnTo>
                      <a:lnTo>
                        <a:pt x="173" y="304"/>
                      </a:lnTo>
                      <a:lnTo>
                        <a:pt x="197" y="334"/>
                      </a:lnTo>
                      <a:lnTo>
                        <a:pt x="203" y="346"/>
                      </a:lnTo>
                      <a:lnTo>
                        <a:pt x="209" y="358"/>
                      </a:lnTo>
                      <a:lnTo>
                        <a:pt x="203" y="382"/>
                      </a:lnTo>
                      <a:lnTo>
                        <a:pt x="203" y="400"/>
                      </a:lnTo>
                      <a:lnTo>
                        <a:pt x="197" y="400"/>
                      </a:lnTo>
                      <a:lnTo>
                        <a:pt x="173" y="400"/>
                      </a:lnTo>
                      <a:lnTo>
                        <a:pt x="161" y="388"/>
                      </a:lnTo>
                      <a:lnTo>
                        <a:pt x="132" y="394"/>
                      </a:lnTo>
                      <a:lnTo>
                        <a:pt x="126" y="388"/>
                      </a:lnTo>
                      <a:lnTo>
                        <a:pt x="114" y="370"/>
                      </a:lnTo>
                      <a:lnTo>
                        <a:pt x="90" y="328"/>
                      </a:lnTo>
                      <a:lnTo>
                        <a:pt x="78" y="322"/>
                      </a:lnTo>
                      <a:lnTo>
                        <a:pt x="72" y="322"/>
                      </a:lnTo>
                      <a:lnTo>
                        <a:pt x="66" y="328"/>
                      </a:lnTo>
                      <a:lnTo>
                        <a:pt x="60" y="328"/>
                      </a:lnTo>
                      <a:lnTo>
                        <a:pt x="54" y="310"/>
                      </a:lnTo>
                      <a:lnTo>
                        <a:pt x="36" y="293"/>
                      </a:lnTo>
                      <a:lnTo>
                        <a:pt x="30" y="275"/>
                      </a:lnTo>
                      <a:lnTo>
                        <a:pt x="12" y="251"/>
                      </a:lnTo>
                      <a:lnTo>
                        <a:pt x="6" y="239"/>
                      </a:lnTo>
                      <a:lnTo>
                        <a:pt x="6" y="233"/>
                      </a:lnTo>
                      <a:lnTo>
                        <a:pt x="6" y="203"/>
                      </a:lnTo>
                      <a:lnTo>
                        <a:pt x="12" y="203"/>
                      </a:lnTo>
                      <a:lnTo>
                        <a:pt x="12" y="197"/>
                      </a:lnTo>
                      <a:lnTo>
                        <a:pt x="0" y="167"/>
                      </a:lnTo>
                      <a:lnTo>
                        <a:pt x="54" y="143"/>
                      </a:lnTo>
                      <a:lnTo>
                        <a:pt x="60" y="137"/>
                      </a:lnTo>
                      <a:lnTo>
                        <a:pt x="60" y="131"/>
                      </a:lnTo>
                      <a:lnTo>
                        <a:pt x="36" y="119"/>
                      </a:lnTo>
                      <a:lnTo>
                        <a:pt x="30" y="102"/>
                      </a:lnTo>
                      <a:lnTo>
                        <a:pt x="24" y="84"/>
                      </a:lnTo>
                      <a:lnTo>
                        <a:pt x="24" y="72"/>
                      </a:lnTo>
                      <a:lnTo>
                        <a:pt x="24" y="36"/>
                      </a:lnTo>
                      <a:lnTo>
                        <a:pt x="24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69"/>
                <p:cNvSpPr/>
                <p:nvPr/>
              </p:nvSpPr>
              <p:spPr>
                <a:xfrm>
                  <a:off x="6619320" y="4617000"/>
                  <a:ext cx="316080" cy="21456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16" h="221">
                      <a:moveTo>
                        <a:pt x="36" y="42"/>
                      </a:moveTo>
                      <a:lnTo>
                        <a:pt x="48" y="42"/>
                      </a:lnTo>
                      <a:lnTo>
                        <a:pt x="54" y="42"/>
                      </a:lnTo>
                      <a:lnTo>
                        <a:pt x="77" y="36"/>
                      </a:lnTo>
                      <a:lnTo>
                        <a:pt x="89" y="30"/>
                      </a:lnTo>
                      <a:lnTo>
                        <a:pt x="113" y="24"/>
                      </a:lnTo>
                      <a:lnTo>
                        <a:pt x="119" y="18"/>
                      </a:lnTo>
                      <a:lnTo>
                        <a:pt x="131" y="12"/>
                      </a:lnTo>
                      <a:lnTo>
                        <a:pt x="143" y="0"/>
                      </a:lnTo>
                      <a:lnTo>
                        <a:pt x="149" y="6"/>
                      </a:lnTo>
                      <a:lnTo>
                        <a:pt x="155" y="18"/>
                      </a:lnTo>
                      <a:lnTo>
                        <a:pt x="155" y="24"/>
                      </a:lnTo>
                      <a:lnTo>
                        <a:pt x="191" y="42"/>
                      </a:lnTo>
                      <a:lnTo>
                        <a:pt x="197" y="48"/>
                      </a:lnTo>
                      <a:lnTo>
                        <a:pt x="203" y="54"/>
                      </a:lnTo>
                      <a:lnTo>
                        <a:pt x="209" y="48"/>
                      </a:lnTo>
                      <a:lnTo>
                        <a:pt x="227" y="54"/>
                      </a:lnTo>
                      <a:lnTo>
                        <a:pt x="227" y="72"/>
                      </a:lnTo>
                      <a:lnTo>
                        <a:pt x="233" y="84"/>
                      </a:lnTo>
                      <a:lnTo>
                        <a:pt x="233" y="90"/>
                      </a:lnTo>
                      <a:lnTo>
                        <a:pt x="244" y="107"/>
                      </a:lnTo>
                      <a:lnTo>
                        <a:pt x="256" y="137"/>
                      </a:lnTo>
                      <a:lnTo>
                        <a:pt x="262" y="149"/>
                      </a:lnTo>
                      <a:lnTo>
                        <a:pt x="274" y="137"/>
                      </a:lnTo>
                      <a:lnTo>
                        <a:pt x="280" y="137"/>
                      </a:lnTo>
                      <a:lnTo>
                        <a:pt x="292" y="131"/>
                      </a:lnTo>
                      <a:lnTo>
                        <a:pt x="298" y="137"/>
                      </a:lnTo>
                      <a:lnTo>
                        <a:pt x="304" y="143"/>
                      </a:lnTo>
                      <a:lnTo>
                        <a:pt x="304" y="155"/>
                      </a:lnTo>
                      <a:lnTo>
                        <a:pt x="316" y="173"/>
                      </a:lnTo>
                      <a:lnTo>
                        <a:pt x="274" y="173"/>
                      </a:lnTo>
                      <a:lnTo>
                        <a:pt x="256" y="173"/>
                      </a:lnTo>
                      <a:lnTo>
                        <a:pt x="215" y="179"/>
                      </a:lnTo>
                      <a:lnTo>
                        <a:pt x="167" y="203"/>
                      </a:lnTo>
                      <a:lnTo>
                        <a:pt x="143" y="215"/>
                      </a:lnTo>
                      <a:lnTo>
                        <a:pt x="113" y="221"/>
                      </a:lnTo>
                      <a:lnTo>
                        <a:pt x="107" y="215"/>
                      </a:lnTo>
                      <a:lnTo>
                        <a:pt x="101" y="209"/>
                      </a:lnTo>
                      <a:lnTo>
                        <a:pt x="77" y="203"/>
                      </a:lnTo>
                      <a:lnTo>
                        <a:pt x="65" y="203"/>
                      </a:lnTo>
                      <a:lnTo>
                        <a:pt x="60" y="209"/>
                      </a:lnTo>
                      <a:lnTo>
                        <a:pt x="48" y="203"/>
                      </a:lnTo>
                      <a:lnTo>
                        <a:pt x="48" y="173"/>
                      </a:lnTo>
                      <a:lnTo>
                        <a:pt x="36" y="149"/>
                      </a:lnTo>
                      <a:lnTo>
                        <a:pt x="30" y="143"/>
                      </a:lnTo>
                      <a:lnTo>
                        <a:pt x="30" y="125"/>
                      </a:lnTo>
                      <a:lnTo>
                        <a:pt x="12" y="90"/>
                      </a:lnTo>
                      <a:lnTo>
                        <a:pt x="0" y="66"/>
                      </a:lnTo>
                      <a:lnTo>
                        <a:pt x="12" y="60"/>
                      </a:lnTo>
                      <a:lnTo>
                        <a:pt x="24" y="54"/>
                      </a:lnTo>
                      <a:lnTo>
                        <a:pt x="36" y="4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70"/>
                <p:cNvSpPr/>
                <p:nvPr/>
              </p:nvSpPr>
              <p:spPr>
                <a:xfrm>
                  <a:off x="6476400" y="4622760"/>
                  <a:ext cx="202680" cy="220320"/>
                </a:xfrm>
                <a:custGeom>
                  <a:avLst/>
                  <a:gdLst>
                    <a:gd name="textAreaLeft" fmla="*/ 0 w 202680"/>
                    <a:gd name="textAreaRight" fmla="*/ 203040 w 20268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203" h="227">
                      <a:moveTo>
                        <a:pt x="101" y="18"/>
                      </a:moveTo>
                      <a:lnTo>
                        <a:pt x="113" y="18"/>
                      </a:lnTo>
                      <a:lnTo>
                        <a:pt x="155" y="12"/>
                      </a:lnTo>
                      <a:lnTo>
                        <a:pt x="155" y="6"/>
                      </a:lnTo>
                      <a:lnTo>
                        <a:pt x="167" y="6"/>
                      </a:lnTo>
                      <a:lnTo>
                        <a:pt x="167" y="0"/>
                      </a:lnTo>
                      <a:lnTo>
                        <a:pt x="173" y="6"/>
                      </a:lnTo>
                      <a:lnTo>
                        <a:pt x="173" y="12"/>
                      </a:lnTo>
                      <a:lnTo>
                        <a:pt x="179" y="24"/>
                      </a:lnTo>
                      <a:lnTo>
                        <a:pt x="179" y="36"/>
                      </a:lnTo>
                      <a:lnTo>
                        <a:pt x="167" y="48"/>
                      </a:lnTo>
                      <a:lnTo>
                        <a:pt x="155" y="54"/>
                      </a:lnTo>
                      <a:lnTo>
                        <a:pt x="143" y="60"/>
                      </a:lnTo>
                      <a:lnTo>
                        <a:pt x="155" y="84"/>
                      </a:lnTo>
                      <a:lnTo>
                        <a:pt x="173" y="119"/>
                      </a:lnTo>
                      <a:lnTo>
                        <a:pt x="173" y="137"/>
                      </a:lnTo>
                      <a:lnTo>
                        <a:pt x="179" y="143"/>
                      </a:lnTo>
                      <a:lnTo>
                        <a:pt x="191" y="167"/>
                      </a:lnTo>
                      <a:lnTo>
                        <a:pt x="191" y="197"/>
                      </a:lnTo>
                      <a:lnTo>
                        <a:pt x="203" y="203"/>
                      </a:lnTo>
                      <a:lnTo>
                        <a:pt x="191" y="215"/>
                      </a:lnTo>
                      <a:lnTo>
                        <a:pt x="161" y="227"/>
                      </a:lnTo>
                      <a:lnTo>
                        <a:pt x="125" y="203"/>
                      </a:lnTo>
                      <a:lnTo>
                        <a:pt x="65" y="179"/>
                      </a:lnTo>
                      <a:lnTo>
                        <a:pt x="53" y="179"/>
                      </a:lnTo>
                      <a:lnTo>
                        <a:pt x="41" y="179"/>
                      </a:lnTo>
                      <a:lnTo>
                        <a:pt x="35" y="179"/>
                      </a:lnTo>
                      <a:lnTo>
                        <a:pt x="24" y="167"/>
                      </a:lnTo>
                      <a:lnTo>
                        <a:pt x="12" y="143"/>
                      </a:lnTo>
                      <a:lnTo>
                        <a:pt x="0" y="107"/>
                      </a:lnTo>
                      <a:lnTo>
                        <a:pt x="6" y="90"/>
                      </a:lnTo>
                      <a:lnTo>
                        <a:pt x="6" y="84"/>
                      </a:lnTo>
                      <a:lnTo>
                        <a:pt x="30" y="84"/>
                      </a:lnTo>
                      <a:lnTo>
                        <a:pt x="35" y="66"/>
                      </a:lnTo>
                      <a:lnTo>
                        <a:pt x="35" y="60"/>
                      </a:lnTo>
                      <a:lnTo>
                        <a:pt x="53" y="60"/>
                      </a:lnTo>
                      <a:lnTo>
                        <a:pt x="71" y="66"/>
                      </a:lnTo>
                      <a:lnTo>
                        <a:pt x="95" y="78"/>
                      </a:lnTo>
                      <a:lnTo>
                        <a:pt x="113" y="72"/>
                      </a:lnTo>
                      <a:lnTo>
                        <a:pt x="119" y="60"/>
                      </a:lnTo>
                      <a:lnTo>
                        <a:pt x="119" y="54"/>
                      </a:lnTo>
                      <a:lnTo>
                        <a:pt x="113" y="42"/>
                      </a:lnTo>
                      <a:lnTo>
                        <a:pt x="101" y="36"/>
                      </a:lnTo>
                      <a:lnTo>
                        <a:pt x="101" y="30"/>
                      </a:lnTo>
                      <a:lnTo>
                        <a:pt x="101" y="1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71"/>
                <p:cNvSpPr/>
                <p:nvPr/>
              </p:nvSpPr>
              <p:spPr>
                <a:xfrm>
                  <a:off x="6410520" y="4646160"/>
                  <a:ext cx="142560" cy="29520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143" h="304">
                      <a:moveTo>
                        <a:pt x="24" y="0"/>
                      </a:moveTo>
                      <a:lnTo>
                        <a:pt x="42" y="0"/>
                      </a:lnTo>
                      <a:lnTo>
                        <a:pt x="60" y="0"/>
                      </a:lnTo>
                      <a:lnTo>
                        <a:pt x="66" y="6"/>
                      </a:lnTo>
                      <a:lnTo>
                        <a:pt x="78" y="30"/>
                      </a:lnTo>
                      <a:lnTo>
                        <a:pt x="78" y="42"/>
                      </a:lnTo>
                      <a:lnTo>
                        <a:pt x="72" y="60"/>
                      </a:lnTo>
                      <a:lnTo>
                        <a:pt x="72" y="66"/>
                      </a:lnTo>
                      <a:lnTo>
                        <a:pt x="66" y="83"/>
                      </a:lnTo>
                      <a:lnTo>
                        <a:pt x="78" y="119"/>
                      </a:lnTo>
                      <a:lnTo>
                        <a:pt x="90" y="143"/>
                      </a:lnTo>
                      <a:lnTo>
                        <a:pt x="101" y="155"/>
                      </a:lnTo>
                      <a:lnTo>
                        <a:pt x="107" y="155"/>
                      </a:lnTo>
                      <a:lnTo>
                        <a:pt x="119" y="155"/>
                      </a:lnTo>
                      <a:lnTo>
                        <a:pt x="119" y="173"/>
                      </a:lnTo>
                      <a:lnTo>
                        <a:pt x="125" y="185"/>
                      </a:lnTo>
                      <a:lnTo>
                        <a:pt x="137" y="203"/>
                      </a:lnTo>
                      <a:lnTo>
                        <a:pt x="131" y="215"/>
                      </a:lnTo>
                      <a:lnTo>
                        <a:pt x="137" y="221"/>
                      </a:lnTo>
                      <a:lnTo>
                        <a:pt x="143" y="221"/>
                      </a:lnTo>
                      <a:lnTo>
                        <a:pt x="143" y="233"/>
                      </a:lnTo>
                      <a:lnTo>
                        <a:pt x="137" y="251"/>
                      </a:lnTo>
                      <a:lnTo>
                        <a:pt x="107" y="256"/>
                      </a:lnTo>
                      <a:lnTo>
                        <a:pt x="101" y="268"/>
                      </a:lnTo>
                      <a:lnTo>
                        <a:pt x="90" y="274"/>
                      </a:lnTo>
                      <a:lnTo>
                        <a:pt x="72" y="286"/>
                      </a:lnTo>
                      <a:lnTo>
                        <a:pt x="90" y="298"/>
                      </a:lnTo>
                      <a:lnTo>
                        <a:pt x="72" y="304"/>
                      </a:lnTo>
                      <a:lnTo>
                        <a:pt x="60" y="298"/>
                      </a:lnTo>
                      <a:lnTo>
                        <a:pt x="36" y="298"/>
                      </a:lnTo>
                      <a:lnTo>
                        <a:pt x="36" y="292"/>
                      </a:lnTo>
                      <a:lnTo>
                        <a:pt x="42" y="286"/>
                      </a:lnTo>
                      <a:lnTo>
                        <a:pt x="36" y="274"/>
                      </a:lnTo>
                      <a:lnTo>
                        <a:pt x="30" y="268"/>
                      </a:lnTo>
                      <a:lnTo>
                        <a:pt x="30" y="251"/>
                      </a:lnTo>
                      <a:lnTo>
                        <a:pt x="18" y="239"/>
                      </a:lnTo>
                      <a:lnTo>
                        <a:pt x="18" y="233"/>
                      </a:lnTo>
                      <a:lnTo>
                        <a:pt x="18" y="203"/>
                      </a:lnTo>
                      <a:lnTo>
                        <a:pt x="18" y="179"/>
                      </a:lnTo>
                      <a:lnTo>
                        <a:pt x="6" y="167"/>
                      </a:lnTo>
                      <a:lnTo>
                        <a:pt x="6" y="155"/>
                      </a:lnTo>
                      <a:lnTo>
                        <a:pt x="0" y="143"/>
                      </a:lnTo>
                      <a:lnTo>
                        <a:pt x="12" y="143"/>
                      </a:lnTo>
                      <a:lnTo>
                        <a:pt x="18" y="131"/>
                      </a:lnTo>
                      <a:lnTo>
                        <a:pt x="24" y="119"/>
                      </a:lnTo>
                      <a:lnTo>
                        <a:pt x="18" y="101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60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72"/>
                <p:cNvSpPr/>
                <p:nvPr/>
              </p:nvSpPr>
              <p:spPr>
                <a:xfrm>
                  <a:off x="5277600" y="4651920"/>
                  <a:ext cx="178920" cy="347760"/>
                </a:xfrm>
                <a:custGeom>
                  <a:avLst/>
                  <a:gdLst>
                    <a:gd name="textAreaLeft" fmla="*/ 0 w 178920"/>
                    <a:gd name="textAreaRight" fmla="*/ 179280 w 17892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179" h="358">
                      <a:moveTo>
                        <a:pt x="0" y="12"/>
                      </a:moveTo>
                      <a:lnTo>
                        <a:pt x="24" y="0"/>
                      </a:lnTo>
                      <a:lnTo>
                        <a:pt x="35" y="6"/>
                      </a:lnTo>
                      <a:lnTo>
                        <a:pt x="65" y="24"/>
                      </a:lnTo>
                      <a:lnTo>
                        <a:pt x="71" y="24"/>
                      </a:lnTo>
                      <a:lnTo>
                        <a:pt x="77" y="30"/>
                      </a:lnTo>
                      <a:lnTo>
                        <a:pt x="89" y="60"/>
                      </a:lnTo>
                      <a:lnTo>
                        <a:pt x="95" y="77"/>
                      </a:lnTo>
                      <a:lnTo>
                        <a:pt x="101" y="71"/>
                      </a:lnTo>
                      <a:lnTo>
                        <a:pt x="107" y="66"/>
                      </a:lnTo>
                      <a:lnTo>
                        <a:pt x="113" y="71"/>
                      </a:lnTo>
                      <a:lnTo>
                        <a:pt x="125" y="77"/>
                      </a:lnTo>
                      <a:lnTo>
                        <a:pt x="131" y="77"/>
                      </a:lnTo>
                      <a:lnTo>
                        <a:pt x="155" y="71"/>
                      </a:lnTo>
                      <a:lnTo>
                        <a:pt x="179" y="66"/>
                      </a:lnTo>
                      <a:lnTo>
                        <a:pt x="173" y="71"/>
                      </a:lnTo>
                      <a:lnTo>
                        <a:pt x="155" y="101"/>
                      </a:lnTo>
                      <a:lnTo>
                        <a:pt x="143" y="119"/>
                      </a:lnTo>
                      <a:lnTo>
                        <a:pt x="125" y="149"/>
                      </a:lnTo>
                      <a:lnTo>
                        <a:pt x="125" y="155"/>
                      </a:lnTo>
                      <a:lnTo>
                        <a:pt x="137" y="167"/>
                      </a:lnTo>
                      <a:lnTo>
                        <a:pt x="149" y="191"/>
                      </a:lnTo>
                      <a:lnTo>
                        <a:pt x="155" y="209"/>
                      </a:lnTo>
                      <a:lnTo>
                        <a:pt x="149" y="215"/>
                      </a:lnTo>
                      <a:lnTo>
                        <a:pt x="143" y="221"/>
                      </a:lnTo>
                      <a:lnTo>
                        <a:pt x="137" y="233"/>
                      </a:lnTo>
                      <a:lnTo>
                        <a:pt x="143" y="268"/>
                      </a:lnTo>
                      <a:lnTo>
                        <a:pt x="137" y="292"/>
                      </a:lnTo>
                      <a:lnTo>
                        <a:pt x="137" y="304"/>
                      </a:lnTo>
                      <a:lnTo>
                        <a:pt x="119" y="316"/>
                      </a:lnTo>
                      <a:lnTo>
                        <a:pt x="113" y="328"/>
                      </a:lnTo>
                      <a:lnTo>
                        <a:pt x="113" y="340"/>
                      </a:lnTo>
                      <a:lnTo>
                        <a:pt x="101" y="346"/>
                      </a:lnTo>
                      <a:lnTo>
                        <a:pt x="95" y="358"/>
                      </a:lnTo>
                      <a:lnTo>
                        <a:pt x="83" y="352"/>
                      </a:lnTo>
                      <a:lnTo>
                        <a:pt x="83" y="334"/>
                      </a:lnTo>
                      <a:lnTo>
                        <a:pt x="89" y="310"/>
                      </a:lnTo>
                      <a:lnTo>
                        <a:pt x="83" y="298"/>
                      </a:lnTo>
                      <a:lnTo>
                        <a:pt x="77" y="286"/>
                      </a:lnTo>
                      <a:lnTo>
                        <a:pt x="53" y="256"/>
                      </a:lnTo>
                      <a:lnTo>
                        <a:pt x="41" y="256"/>
                      </a:lnTo>
                      <a:lnTo>
                        <a:pt x="41" y="245"/>
                      </a:lnTo>
                      <a:lnTo>
                        <a:pt x="35" y="233"/>
                      </a:lnTo>
                      <a:lnTo>
                        <a:pt x="29" y="173"/>
                      </a:lnTo>
                      <a:lnTo>
                        <a:pt x="6" y="119"/>
                      </a:lnTo>
                      <a:lnTo>
                        <a:pt x="6" y="101"/>
                      </a:lnTo>
                      <a:lnTo>
                        <a:pt x="24" y="95"/>
                      </a:lnTo>
                      <a:lnTo>
                        <a:pt x="24" y="89"/>
                      </a:lnTo>
                      <a:lnTo>
                        <a:pt x="24" y="83"/>
                      </a:lnTo>
                      <a:lnTo>
                        <a:pt x="6" y="71"/>
                      </a:lnTo>
                      <a:lnTo>
                        <a:pt x="0" y="66"/>
                      </a:lnTo>
                      <a:lnTo>
                        <a:pt x="6" y="48"/>
                      </a:lnTo>
                      <a:lnTo>
                        <a:pt x="6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73"/>
                <p:cNvSpPr/>
                <p:nvPr/>
              </p:nvSpPr>
              <p:spPr>
                <a:xfrm>
                  <a:off x="5652360" y="4704480"/>
                  <a:ext cx="167760" cy="21924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68" h="226">
                      <a:moveTo>
                        <a:pt x="168" y="0"/>
                      </a:moveTo>
                      <a:lnTo>
                        <a:pt x="168" y="23"/>
                      </a:lnTo>
                      <a:lnTo>
                        <a:pt x="168" y="29"/>
                      </a:lnTo>
                      <a:lnTo>
                        <a:pt x="162" y="35"/>
                      </a:lnTo>
                      <a:lnTo>
                        <a:pt x="162" y="47"/>
                      </a:lnTo>
                      <a:lnTo>
                        <a:pt x="162" y="59"/>
                      </a:lnTo>
                      <a:lnTo>
                        <a:pt x="156" y="77"/>
                      </a:lnTo>
                      <a:lnTo>
                        <a:pt x="150" y="89"/>
                      </a:lnTo>
                      <a:lnTo>
                        <a:pt x="144" y="113"/>
                      </a:lnTo>
                      <a:lnTo>
                        <a:pt x="132" y="125"/>
                      </a:lnTo>
                      <a:lnTo>
                        <a:pt x="120" y="137"/>
                      </a:lnTo>
                      <a:lnTo>
                        <a:pt x="84" y="149"/>
                      </a:lnTo>
                      <a:lnTo>
                        <a:pt x="72" y="167"/>
                      </a:lnTo>
                      <a:lnTo>
                        <a:pt x="48" y="191"/>
                      </a:lnTo>
                      <a:lnTo>
                        <a:pt x="30" y="214"/>
                      </a:lnTo>
                      <a:lnTo>
                        <a:pt x="12" y="226"/>
                      </a:lnTo>
                      <a:lnTo>
                        <a:pt x="6" y="214"/>
                      </a:lnTo>
                      <a:lnTo>
                        <a:pt x="0" y="208"/>
                      </a:lnTo>
                      <a:lnTo>
                        <a:pt x="24" y="167"/>
                      </a:lnTo>
                      <a:lnTo>
                        <a:pt x="12" y="161"/>
                      </a:lnTo>
                      <a:lnTo>
                        <a:pt x="12" y="155"/>
                      </a:lnTo>
                      <a:lnTo>
                        <a:pt x="24" y="131"/>
                      </a:lnTo>
                      <a:lnTo>
                        <a:pt x="18" y="119"/>
                      </a:lnTo>
                      <a:lnTo>
                        <a:pt x="18" y="113"/>
                      </a:lnTo>
                      <a:lnTo>
                        <a:pt x="30" y="107"/>
                      </a:lnTo>
                      <a:lnTo>
                        <a:pt x="36" y="101"/>
                      </a:lnTo>
                      <a:lnTo>
                        <a:pt x="54" y="101"/>
                      </a:lnTo>
                      <a:lnTo>
                        <a:pt x="90" y="65"/>
                      </a:lnTo>
                      <a:lnTo>
                        <a:pt x="96" y="53"/>
                      </a:lnTo>
                      <a:lnTo>
                        <a:pt x="120" y="41"/>
                      </a:lnTo>
                      <a:lnTo>
                        <a:pt x="156" y="12"/>
                      </a:lnTo>
                      <a:lnTo>
                        <a:pt x="156" y="6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74"/>
                <p:cNvSpPr/>
                <p:nvPr/>
              </p:nvSpPr>
              <p:spPr>
                <a:xfrm>
                  <a:off x="5814720" y="4716000"/>
                  <a:ext cx="219960" cy="213480"/>
                </a:xfrm>
                <a:custGeom>
                  <a:avLst/>
                  <a:gdLst>
                    <a:gd name="textAreaLeft" fmla="*/ 0 w 219960"/>
                    <a:gd name="textAreaRight" fmla="*/ 220320 w 21996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220" h="220">
                      <a:moveTo>
                        <a:pt x="0" y="47"/>
                      </a:moveTo>
                      <a:lnTo>
                        <a:pt x="29" y="41"/>
                      </a:lnTo>
                      <a:lnTo>
                        <a:pt x="53" y="59"/>
                      </a:lnTo>
                      <a:lnTo>
                        <a:pt x="65" y="59"/>
                      </a:lnTo>
                      <a:lnTo>
                        <a:pt x="71" y="47"/>
                      </a:lnTo>
                      <a:lnTo>
                        <a:pt x="83" y="47"/>
                      </a:lnTo>
                      <a:lnTo>
                        <a:pt x="101" y="59"/>
                      </a:lnTo>
                      <a:lnTo>
                        <a:pt x="113" y="65"/>
                      </a:lnTo>
                      <a:lnTo>
                        <a:pt x="113" y="71"/>
                      </a:lnTo>
                      <a:lnTo>
                        <a:pt x="125" y="89"/>
                      </a:lnTo>
                      <a:lnTo>
                        <a:pt x="137" y="83"/>
                      </a:lnTo>
                      <a:lnTo>
                        <a:pt x="137" y="77"/>
                      </a:lnTo>
                      <a:lnTo>
                        <a:pt x="143" y="77"/>
                      </a:lnTo>
                      <a:lnTo>
                        <a:pt x="155" y="65"/>
                      </a:lnTo>
                      <a:lnTo>
                        <a:pt x="167" y="53"/>
                      </a:lnTo>
                      <a:lnTo>
                        <a:pt x="167" y="35"/>
                      </a:lnTo>
                      <a:lnTo>
                        <a:pt x="179" y="23"/>
                      </a:lnTo>
                      <a:lnTo>
                        <a:pt x="190" y="0"/>
                      </a:lnTo>
                      <a:lnTo>
                        <a:pt x="196" y="0"/>
                      </a:lnTo>
                      <a:lnTo>
                        <a:pt x="202" y="5"/>
                      </a:lnTo>
                      <a:lnTo>
                        <a:pt x="208" y="5"/>
                      </a:lnTo>
                      <a:lnTo>
                        <a:pt x="214" y="17"/>
                      </a:lnTo>
                      <a:lnTo>
                        <a:pt x="220" y="35"/>
                      </a:lnTo>
                      <a:lnTo>
                        <a:pt x="208" y="71"/>
                      </a:lnTo>
                      <a:lnTo>
                        <a:pt x="208" y="83"/>
                      </a:lnTo>
                      <a:lnTo>
                        <a:pt x="208" y="89"/>
                      </a:lnTo>
                      <a:lnTo>
                        <a:pt x="202" y="101"/>
                      </a:lnTo>
                      <a:lnTo>
                        <a:pt x="190" y="95"/>
                      </a:lnTo>
                      <a:lnTo>
                        <a:pt x="184" y="119"/>
                      </a:lnTo>
                      <a:lnTo>
                        <a:pt x="190" y="161"/>
                      </a:lnTo>
                      <a:lnTo>
                        <a:pt x="190" y="173"/>
                      </a:lnTo>
                      <a:lnTo>
                        <a:pt x="184" y="167"/>
                      </a:lnTo>
                      <a:lnTo>
                        <a:pt x="155" y="184"/>
                      </a:lnTo>
                      <a:lnTo>
                        <a:pt x="149" y="184"/>
                      </a:lnTo>
                      <a:lnTo>
                        <a:pt x="137" y="196"/>
                      </a:lnTo>
                      <a:lnTo>
                        <a:pt x="107" y="208"/>
                      </a:lnTo>
                      <a:lnTo>
                        <a:pt x="95" y="214"/>
                      </a:lnTo>
                      <a:lnTo>
                        <a:pt x="71" y="220"/>
                      </a:lnTo>
                      <a:lnTo>
                        <a:pt x="65" y="214"/>
                      </a:lnTo>
                      <a:lnTo>
                        <a:pt x="59" y="208"/>
                      </a:lnTo>
                      <a:lnTo>
                        <a:pt x="59" y="190"/>
                      </a:lnTo>
                      <a:lnTo>
                        <a:pt x="59" y="173"/>
                      </a:lnTo>
                      <a:lnTo>
                        <a:pt x="41" y="143"/>
                      </a:lnTo>
                      <a:lnTo>
                        <a:pt x="35" y="125"/>
                      </a:lnTo>
                      <a:lnTo>
                        <a:pt x="29" y="113"/>
                      </a:lnTo>
                      <a:lnTo>
                        <a:pt x="17" y="89"/>
                      </a:lnTo>
                      <a:lnTo>
                        <a:pt x="11" y="71"/>
                      </a:lnTo>
                      <a:lnTo>
                        <a:pt x="6" y="65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75"/>
                <p:cNvSpPr/>
                <p:nvPr/>
              </p:nvSpPr>
              <p:spPr>
                <a:xfrm>
                  <a:off x="6016320" y="4738320"/>
                  <a:ext cx="321840" cy="23796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22" h="245">
                      <a:moveTo>
                        <a:pt x="161" y="18"/>
                      </a:moveTo>
                      <a:lnTo>
                        <a:pt x="167" y="24"/>
                      </a:lnTo>
                      <a:lnTo>
                        <a:pt x="215" y="12"/>
                      </a:lnTo>
                      <a:lnTo>
                        <a:pt x="227" y="6"/>
                      </a:lnTo>
                      <a:lnTo>
                        <a:pt x="239" y="0"/>
                      </a:lnTo>
                      <a:lnTo>
                        <a:pt x="245" y="6"/>
                      </a:lnTo>
                      <a:lnTo>
                        <a:pt x="245" y="12"/>
                      </a:lnTo>
                      <a:lnTo>
                        <a:pt x="227" y="30"/>
                      </a:lnTo>
                      <a:lnTo>
                        <a:pt x="239" y="48"/>
                      </a:lnTo>
                      <a:lnTo>
                        <a:pt x="227" y="78"/>
                      </a:lnTo>
                      <a:lnTo>
                        <a:pt x="227" y="84"/>
                      </a:lnTo>
                      <a:lnTo>
                        <a:pt x="245" y="90"/>
                      </a:lnTo>
                      <a:lnTo>
                        <a:pt x="251" y="96"/>
                      </a:lnTo>
                      <a:lnTo>
                        <a:pt x="239" y="114"/>
                      </a:lnTo>
                      <a:lnTo>
                        <a:pt x="233" y="132"/>
                      </a:lnTo>
                      <a:lnTo>
                        <a:pt x="233" y="138"/>
                      </a:lnTo>
                      <a:lnTo>
                        <a:pt x="263" y="144"/>
                      </a:lnTo>
                      <a:lnTo>
                        <a:pt x="275" y="138"/>
                      </a:lnTo>
                      <a:lnTo>
                        <a:pt x="293" y="126"/>
                      </a:lnTo>
                      <a:lnTo>
                        <a:pt x="305" y="126"/>
                      </a:lnTo>
                      <a:lnTo>
                        <a:pt x="311" y="138"/>
                      </a:lnTo>
                      <a:lnTo>
                        <a:pt x="322" y="150"/>
                      </a:lnTo>
                      <a:lnTo>
                        <a:pt x="305" y="173"/>
                      </a:lnTo>
                      <a:lnTo>
                        <a:pt x="299" y="197"/>
                      </a:lnTo>
                      <a:lnTo>
                        <a:pt x="293" y="209"/>
                      </a:lnTo>
                      <a:lnTo>
                        <a:pt x="281" y="239"/>
                      </a:lnTo>
                      <a:lnTo>
                        <a:pt x="269" y="245"/>
                      </a:lnTo>
                      <a:lnTo>
                        <a:pt x="257" y="233"/>
                      </a:lnTo>
                      <a:lnTo>
                        <a:pt x="245" y="239"/>
                      </a:lnTo>
                      <a:lnTo>
                        <a:pt x="239" y="233"/>
                      </a:lnTo>
                      <a:lnTo>
                        <a:pt x="233" y="227"/>
                      </a:lnTo>
                      <a:lnTo>
                        <a:pt x="227" y="221"/>
                      </a:lnTo>
                      <a:lnTo>
                        <a:pt x="227" y="215"/>
                      </a:lnTo>
                      <a:lnTo>
                        <a:pt x="227" y="203"/>
                      </a:lnTo>
                      <a:lnTo>
                        <a:pt x="227" y="197"/>
                      </a:lnTo>
                      <a:lnTo>
                        <a:pt x="209" y="197"/>
                      </a:lnTo>
                      <a:lnTo>
                        <a:pt x="191" y="185"/>
                      </a:lnTo>
                      <a:lnTo>
                        <a:pt x="161" y="185"/>
                      </a:lnTo>
                      <a:lnTo>
                        <a:pt x="138" y="179"/>
                      </a:lnTo>
                      <a:lnTo>
                        <a:pt x="132" y="167"/>
                      </a:lnTo>
                      <a:lnTo>
                        <a:pt x="120" y="161"/>
                      </a:lnTo>
                      <a:lnTo>
                        <a:pt x="72" y="173"/>
                      </a:lnTo>
                      <a:lnTo>
                        <a:pt x="54" y="150"/>
                      </a:lnTo>
                      <a:lnTo>
                        <a:pt x="36" y="138"/>
                      </a:lnTo>
                      <a:lnTo>
                        <a:pt x="18" y="90"/>
                      </a:lnTo>
                      <a:lnTo>
                        <a:pt x="0" y="78"/>
                      </a:lnTo>
                      <a:lnTo>
                        <a:pt x="6" y="66"/>
                      </a:lnTo>
                      <a:lnTo>
                        <a:pt x="30" y="66"/>
                      </a:lnTo>
                      <a:lnTo>
                        <a:pt x="42" y="66"/>
                      </a:lnTo>
                      <a:lnTo>
                        <a:pt x="66" y="84"/>
                      </a:lnTo>
                      <a:lnTo>
                        <a:pt x="96" y="102"/>
                      </a:lnTo>
                      <a:lnTo>
                        <a:pt x="102" y="108"/>
                      </a:lnTo>
                      <a:lnTo>
                        <a:pt x="108" y="102"/>
                      </a:lnTo>
                      <a:lnTo>
                        <a:pt x="114" y="90"/>
                      </a:lnTo>
                      <a:lnTo>
                        <a:pt x="132" y="30"/>
                      </a:lnTo>
                      <a:lnTo>
                        <a:pt x="138" y="24"/>
                      </a:lnTo>
                      <a:lnTo>
                        <a:pt x="144" y="18"/>
                      </a:lnTo>
                      <a:lnTo>
                        <a:pt x="161" y="1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76"/>
                <p:cNvSpPr/>
                <p:nvPr/>
              </p:nvSpPr>
              <p:spPr>
                <a:xfrm>
                  <a:off x="6846480" y="4755600"/>
                  <a:ext cx="226080" cy="342000"/>
                </a:xfrm>
                <a:custGeom>
                  <a:avLst/>
                  <a:gdLst>
                    <a:gd name="textAreaLeft" fmla="*/ 0 w 226080"/>
                    <a:gd name="textAreaRight" fmla="*/ 226440 w 226080"/>
                    <a:gd name="textAreaTop" fmla="*/ 0 h 342000"/>
                    <a:gd name="textAreaBottom" fmla="*/ 342360 h 342000"/>
                  </a:gdLst>
                  <a:ahLst/>
                  <a:rect l="textAreaLeft" t="textAreaTop" r="textAreaRight" b="textAreaBottom"/>
                  <a:pathLst>
                    <a:path w="226" h="352">
                      <a:moveTo>
                        <a:pt x="226" y="6"/>
                      </a:moveTo>
                      <a:lnTo>
                        <a:pt x="220" y="30"/>
                      </a:lnTo>
                      <a:lnTo>
                        <a:pt x="220" y="36"/>
                      </a:lnTo>
                      <a:lnTo>
                        <a:pt x="220" y="54"/>
                      </a:lnTo>
                      <a:lnTo>
                        <a:pt x="214" y="60"/>
                      </a:lnTo>
                      <a:lnTo>
                        <a:pt x="214" y="66"/>
                      </a:lnTo>
                      <a:lnTo>
                        <a:pt x="214" y="72"/>
                      </a:lnTo>
                      <a:lnTo>
                        <a:pt x="214" y="78"/>
                      </a:lnTo>
                      <a:lnTo>
                        <a:pt x="220" y="90"/>
                      </a:lnTo>
                      <a:lnTo>
                        <a:pt x="214" y="102"/>
                      </a:lnTo>
                      <a:lnTo>
                        <a:pt x="202" y="108"/>
                      </a:lnTo>
                      <a:lnTo>
                        <a:pt x="202" y="132"/>
                      </a:lnTo>
                      <a:lnTo>
                        <a:pt x="184" y="149"/>
                      </a:lnTo>
                      <a:lnTo>
                        <a:pt x="179" y="155"/>
                      </a:lnTo>
                      <a:lnTo>
                        <a:pt x="179" y="161"/>
                      </a:lnTo>
                      <a:lnTo>
                        <a:pt x="184" y="179"/>
                      </a:lnTo>
                      <a:lnTo>
                        <a:pt x="173" y="209"/>
                      </a:lnTo>
                      <a:lnTo>
                        <a:pt x="143" y="257"/>
                      </a:lnTo>
                      <a:lnTo>
                        <a:pt x="131" y="287"/>
                      </a:lnTo>
                      <a:lnTo>
                        <a:pt x="125" y="305"/>
                      </a:lnTo>
                      <a:lnTo>
                        <a:pt x="119" y="311"/>
                      </a:lnTo>
                      <a:lnTo>
                        <a:pt x="119" y="317"/>
                      </a:lnTo>
                      <a:lnTo>
                        <a:pt x="125" y="334"/>
                      </a:lnTo>
                      <a:lnTo>
                        <a:pt x="107" y="346"/>
                      </a:lnTo>
                      <a:lnTo>
                        <a:pt x="101" y="334"/>
                      </a:lnTo>
                      <a:lnTo>
                        <a:pt x="95" y="328"/>
                      </a:lnTo>
                      <a:lnTo>
                        <a:pt x="89" y="328"/>
                      </a:lnTo>
                      <a:lnTo>
                        <a:pt x="59" y="334"/>
                      </a:lnTo>
                      <a:lnTo>
                        <a:pt x="47" y="340"/>
                      </a:lnTo>
                      <a:lnTo>
                        <a:pt x="35" y="346"/>
                      </a:lnTo>
                      <a:lnTo>
                        <a:pt x="11" y="352"/>
                      </a:lnTo>
                      <a:lnTo>
                        <a:pt x="6" y="346"/>
                      </a:lnTo>
                      <a:lnTo>
                        <a:pt x="0" y="334"/>
                      </a:lnTo>
                      <a:lnTo>
                        <a:pt x="6" y="323"/>
                      </a:lnTo>
                      <a:lnTo>
                        <a:pt x="35" y="299"/>
                      </a:lnTo>
                      <a:lnTo>
                        <a:pt x="35" y="281"/>
                      </a:lnTo>
                      <a:lnTo>
                        <a:pt x="35" y="263"/>
                      </a:lnTo>
                      <a:lnTo>
                        <a:pt x="47" y="251"/>
                      </a:lnTo>
                      <a:lnTo>
                        <a:pt x="107" y="179"/>
                      </a:lnTo>
                      <a:lnTo>
                        <a:pt x="113" y="167"/>
                      </a:lnTo>
                      <a:lnTo>
                        <a:pt x="125" y="161"/>
                      </a:lnTo>
                      <a:lnTo>
                        <a:pt x="131" y="143"/>
                      </a:lnTo>
                      <a:lnTo>
                        <a:pt x="137" y="138"/>
                      </a:lnTo>
                      <a:lnTo>
                        <a:pt x="143" y="132"/>
                      </a:lnTo>
                      <a:lnTo>
                        <a:pt x="155" y="114"/>
                      </a:lnTo>
                      <a:lnTo>
                        <a:pt x="161" y="102"/>
                      </a:lnTo>
                      <a:lnTo>
                        <a:pt x="173" y="66"/>
                      </a:lnTo>
                      <a:lnTo>
                        <a:pt x="173" y="30"/>
                      </a:lnTo>
                      <a:lnTo>
                        <a:pt x="179" y="12"/>
                      </a:lnTo>
                      <a:lnTo>
                        <a:pt x="184" y="0"/>
                      </a:lnTo>
                      <a:lnTo>
                        <a:pt x="196" y="6"/>
                      </a:lnTo>
                      <a:lnTo>
                        <a:pt x="202" y="12"/>
                      </a:lnTo>
                      <a:lnTo>
                        <a:pt x="226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77"/>
                <p:cNvSpPr/>
                <p:nvPr/>
              </p:nvSpPr>
              <p:spPr>
                <a:xfrm>
                  <a:off x="6285600" y="4755600"/>
                  <a:ext cx="166680" cy="25560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w="167" h="263">
                      <a:moveTo>
                        <a:pt x="36" y="108"/>
                      </a:moveTo>
                      <a:lnTo>
                        <a:pt x="59" y="96"/>
                      </a:lnTo>
                      <a:lnTo>
                        <a:pt x="65" y="90"/>
                      </a:lnTo>
                      <a:lnTo>
                        <a:pt x="65" y="60"/>
                      </a:lnTo>
                      <a:lnTo>
                        <a:pt x="65" y="42"/>
                      </a:lnTo>
                      <a:lnTo>
                        <a:pt x="71" y="30"/>
                      </a:lnTo>
                      <a:lnTo>
                        <a:pt x="77" y="12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101" y="12"/>
                      </a:lnTo>
                      <a:lnTo>
                        <a:pt x="125" y="30"/>
                      </a:lnTo>
                      <a:lnTo>
                        <a:pt x="131" y="42"/>
                      </a:lnTo>
                      <a:lnTo>
                        <a:pt x="131" y="54"/>
                      </a:lnTo>
                      <a:lnTo>
                        <a:pt x="143" y="66"/>
                      </a:lnTo>
                      <a:lnTo>
                        <a:pt x="143" y="90"/>
                      </a:lnTo>
                      <a:lnTo>
                        <a:pt x="143" y="120"/>
                      </a:lnTo>
                      <a:lnTo>
                        <a:pt x="143" y="126"/>
                      </a:lnTo>
                      <a:lnTo>
                        <a:pt x="155" y="138"/>
                      </a:lnTo>
                      <a:lnTo>
                        <a:pt x="155" y="155"/>
                      </a:lnTo>
                      <a:lnTo>
                        <a:pt x="161" y="161"/>
                      </a:lnTo>
                      <a:lnTo>
                        <a:pt x="167" y="173"/>
                      </a:lnTo>
                      <a:lnTo>
                        <a:pt x="161" y="179"/>
                      </a:lnTo>
                      <a:lnTo>
                        <a:pt x="161" y="185"/>
                      </a:lnTo>
                      <a:lnTo>
                        <a:pt x="155" y="185"/>
                      </a:lnTo>
                      <a:lnTo>
                        <a:pt x="155" y="191"/>
                      </a:lnTo>
                      <a:lnTo>
                        <a:pt x="143" y="185"/>
                      </a:lnTo>
                      <a:lnTo>
                        <a:pt x="131" y="179"/>
                      </a:lnTo>
                      <a:lnTo>
                        <a:pt x="125" y="173"/>
                      </a:lnTo>
                      <a:lnTo>
                        <a:pt x="125" y="167"/>
                      </a:lnTo>
                      <a:lnTo>
                        <a:pt x="89" y="149"/>
                      </a:lnTo>
                      <a:lnTo>
                        <a:pt x="83" y="149"/>
                      </a:lnTo>
                      <a:lnTo>
                        <a:pt x="77" y="167"/>
                      </a:lnTo>
                      <a:lnTo>
                        <a:pt x="77" y="173"/>
                      </a:lnTo>
                      <a:lnTo>
                        <a:pt x="65" y="185"/>
                      </a:lnTo>
                      <a:lnTo>
                        <a:pt x="71" y="191"/>
                      </a:lnTo>
                      <a:lnTo>
                        <a:pt x="65" y="197"/>
                      </a:lnTo>
                      <a:lnTo>
                        <a:pt x="42" y="227"/>
                      </a:lnTo>
                      <a:lnTo>
                        <a:pt x="36" y="233"/>
                      </a:lnTo>
                      <a:lnTo>
                        <a:pt x="30" y="251"/>
                      </a:lnTo>
                      <a:lnTo>
                        <a:pt x="18" y="263"/>
                      </a:lnTo>
                      <a:lnTo>
                        <a:pt x="12" y="251"/>
                      </a:lnTo>
                      <a:lnTo>
                        <a:pt x="6" y="251"/>
                      </a:lnTo>
                      <a:lnTo>
                        <a:pt x="0" y="227"/>
                      </a:lnTo>
                      <a:lnTo>
                        <a:pt x="12" y="221"/>
                      </a:lnTo>
                      <a:lnTo>
                        <a:pt x="24" y="191"/>
                      </a:lnTo>
                      <a:lnTo>
                        <a:pt x="30" y="179"/>
                      </a:lnTo>
                      <a:lnTo>
                        <a:pt x="36" y="155"/>
                      </a:lnTo>
                      <a:lnTo>
                        <a:pt x="53" y="132"/>
                      </a:lnTo>
                      <a:lnTo>
                        <a:pt x="42" y="120"/>
                      </a:lnTo>
                      <a:lnTo>
                        <a:pt x="36" y="10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78"/>
                <p:cNvSpPr/>
                <p:nvPr/>
              </p:nvSpPr>
              <p:spPr>
                <a:xfrm>
                  <a:off x="5664600" y="4761720"/>
                  <a:ext cx="185040" cy="2145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185" h="221">
                      <a:moveTo>
                        <a:pt x="150" y="0"/>
                      </a:moveTo>
                      <a:lnTo>
                        <a:pt x="156" y="18"/>
                      </a:lnTo>
                      <a:lnTo>
                        <a:pt x="161" y="24"/>
                      </a:lnTo>
                      <a:lnTo>
                        <a:pt x="167" y="42"/>
                      </a:lnTo>
                      <a:lnTo>
                        <a:pt x="179" y="66"/>
                      </a:lnTo>
                      <a:lnTo>
                        <a:pt x="185" y="78"/>
                      </a:lnTo>
                      <a:lnTo>
                        <a:pt x="179" y="90"/>
                      </a:lnTo>
                      <a:lnTo>
                        <a:pt x="173" y="108"/>
                      </a:lnTo>
                      <a:lnTo>
                        <a:pt x="167" y="132"/>
                      </a:lnTo>
                      <a:lnTo>
                        <a:pt x="167" y="143"/>
                      </a:lnTo>
                      <a:lnTo>
                        <a:pt x="156" y="155"/>
                      </a:lnTo>
                      <a:lnTo>
                        <a:pt x="156" y="161"/>
                      </a:lnTo>
                      <a:lnTo>
                        <a:pt x="150" y="167"/>
                      </a:lnTo>
                      <a:lnTo>
                        <a:pt x="150" y="185"/>
                      </a:lnTo>
                      <a:lnTo>
                        <a:pt x="126" y="191"/>
                      </a:lnTo>
                      <a:lnTo>
                        <a:pt x="120" y="209"/>
                      </a:lnTo>
                      <a:lnTo>
                        <a:pt x="108" y="221"/>
                      </a:lnTo>
                      <a:lnTo>
                        <a:pt x="102" y="209"/>
                      </a:lnTo>
                      <a:lnTo>
                        <a:pt x="96" y="209"/>
                      </a:lnTo>
                      <a:lnTo>
                        <a:pt x="84" y="221"/>
                      </a:lnTo>
                      <a:lnTo>
                        <a:pt x="72" y="221"/>
                      </a:lnTo>
                      <a:lnTo>
                        <a:pt x="66" y="221"/>
                      </a:lnTo>
                      <a:lnTo>
                        <a:pt x="66" y="215"/>
                      </a:lnTo>
                      <a:lnTo>
                        <a:pt x="66" y="209"/>
                      </a:lnTo>
                      <a:lnTo>
                        <a:pt x="66" y="197"/>
                      </a:lnTo>
                      <a:lnTo>
                        <a:pt x="60" y="197"/>
                      </a:lnTo>
                      <a:lnTo>
                        <a:pt x="48" y="203"/>
                      </a:lnTo>
                      <a:lnTo>
                        <a:pt x="30" y="197"/>
                      </a:lnTo>
                      <a:lnTo>
                        <a:pt x="6" y="209"/>
                      </a:lnTo>
                      <a:lnTo>
                        <a:pt x="12" y="197"/>
                      </a:lnTo>
                      <a:lnTo>
                        <a:pt x="12" y="179"/>
                      </a:lnTo>
                      <a:lnTo>
                        <a:pt x="0" y="173"/>
                      </a:lnTo>
                      <a:lnTo>
                        <a:pt x="0" y="167"/>
                      </a:lnTo>
                      <a:lnTo>
                        <a:pt x="18" y="155"/>
                      </a:lnTo>
                      <a:lnTo>
                        <a:pt x="36" y="132"/>
                      </a:lnTo>
                      <a:lnTo>
                        <a:pt x="60" y="108"/>
                      </a:lnTo>
                      <a:lnTo>
                        <a:pt x="72" y="90"/>
                      </a:lnTo>
                      <a:lnTo>
                        <a:pt x="108" y="78"/>
                      </a:lnTo>
                      <a:lnTo>
                        <a:pt x="120" y="66"/>
                      </a:lnTo>
                      <a:lnTo>
                        <a:pt x="132" y="54"/>
                      </a:lnTo>
                      <a:lnTo>
                        <a:pt x="138" y="30"/>
                      </a:lnTo>
                      <a:lnTo>
                        <a:pt x="144" y="18"/>
                      </a:lnTo>
                      <a:lnTo>
                        <a:pt x="150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79"/>
                <p:cNvSpPr/>
                <p:nvPr/>
              </p:nvSpPr>
              <p:spPr>
                <a:xfrm>
                  <a:off x="5330520" y="4767480"/>
                  <a:ext cx="316800" cy="28440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317" h="293">
                      <a:moveTo>
                        <a:pt x="203" y="0"/>
                      </a:moveTo>
                      <a:lnTo>
                        <a:pt x="203" y="6"/>
                      </a:lnTo>
                      <a:lnTo>
                        <a:pt x="215" y="24"/>
                      </a:lnTo>
                      <a:lnTo>
                        <a:pt x="245" y="24"/>
                      </a:lnTo>
                      <a:lnTo>
                        <a:pt x="263" y="24"/>
                      </a:lnTo>
                      <a:lnTo>
                        <a:pt x="281" y="12"/>
                      </a:lnTo>
                      <a:lnTo>
                        <a:pt x="293" y="18"/>
                      </a:lnTo>
                      <a:lnTo>
                        <a:pt x="299" y="18"/>
                      </a:lnTo>
                      <a:lnTo>
                        <a:pt x="305" y="12"/>
                      </a:lnTo>
                      <a:lnTo>
                        <a:pt x="317" y="12"/>
                      </a:lnTo>
                      <a:lnTo>
                        <a:pt x="317" y="18"/>
                      </a:lnTo>
                      <a:lnTo>
                        <a:pt x="317" y="30"/>
                      </a:lnTo>
                      <a:lnTo>
                        <a:pt x="311" y="30"/>
                      </a:lnTo>
                      <a:lnTo>
                        <a:pt x="275" y="42"/>
                      </a:lnTo>
                      <a:lnTo>
                        <a:pt x="251" y="60"/>
                      </a:lnTo>
                      <a:lnTo>
                        <a:pt x="245" y="66"/>
                      </a:lnTo>
                      <a:lnTo>
                        <a:pt x="221" y="84"/>
                      </a:lnTo>
                      <a:lnTo>
                        <a:pt x="209" y="96"/>
                      </a:lnTo>
                      <a:lnTo>
                        <a:pt x="209" y="114"/>
                      </a:lnTo>
                      <a:lnTo>
                        <a:pt x="197" y="137"/>
                      </a:lnTo>
                      <a:lnTo>
                        <a:pt x="167" y="167"/>
                      </a:lnTo>
                      <a:lnTo>
                        <a:pt x="167" y="179"/>
                      </a:lnTo>
                      <a:lnTo>
                        <a:pt x="161" y="197"/>
                      </a:lnTo>
                      <a:lnTo>
                        <a:pt x="173" y="215"/>
                      </a:lnTo>
                      <a:lnTo>
                        <a:pt x="167" y="215"/>
                      </a:lnTo>
                      <a:lnTo>
                        <a:pt x="120" y="239"/>
                      </a:lnTo>
                      <a:lnTo>
                        <a:pt x="108" y="251"/>
                      </a:lnTo>
                      <a:lnTo>
                        <a:pt x="114" y="269"/>
                      </a:lnTo>
                      <a:lnTo>
                        <a:pt x="108" y="269"/>
                      </a:lnTo>
                      <a:lnTo>
                        <a:pt x="72" y="281"/>
                      </a:lnTo>
                      <a:lnTo>
                        <a:pt x="30" y="293"/>
                      </a:lnTo>
                      <a:lnTo>
                        <a:pt x="0" y="293"/>
                      </a:lnTo>
                      <a:lnTo>
                        <a:pt x="6" y="287"/>
                      </a:lnTo>
                      <a:lnTo>
                        <a:pt x="18" y="275"/>
                      </a:lnTo>
                      <a:lnTo>
                        <a:pt x="36" y="263"/>
                      </a:lnTo>
                      <a:lnTo>
                        <a:pt x="42" y="245"/>
                      </a:lnTo>
                      <a:lnTo>
                        <a:pt x="42" y="239"/>
                      </a:lnTo>
                      <a:lnTo>
                        <a:pt x="48" y="227"/>
                      </a:lnTo>
                      <a:lnTo>
                        <a:pt x="60" y="221"/>
                      </a:lnTo>
                      <a:lnTo>
                        <a:pt x="60" y="209"/>
                      </a:lnTo>
                      <a:lnTo>
                        <a:pt x="66" y="197"/>
                      </a:lnTo>
                      <a:lnTo>
                        <a:pt x="84" y="185"/>
                      </a:lnTo>
                      <a:lnTo>
                        <a:pt x="84" y="173"/>
                      </a:lnTo>
                      <a:lnTo>
                        <a:pt x="90" y="149"/>
                      </a:lnTo>
                      <a:lnTo>
                        <a:pt x="84" y="114"/>
                      </a:lnTo>
                      <a:lnTo>
                        <a:pt x="90" y="102"/>
                      </a:lnTo>
                      <a:lnTo>
                        <a:pt x="96" y="96"/>
                      </a:lnTo>
                      <a:lnTo>
                        <a:pt x="102" y="90"/>
                      </a:lnTo>
                      <a:lnTo>
                        <a:pt x="126" y="84"/>
                      </a:lnTo>
                      <a:lnTo>
                        <a:pt x="149" y="84"/>
                      </a:lnTo>
                      <a:lnTo>
                        <a:pt x="149" y="78"/>
                      </a:lnTo>
                      <a:lnTo>
                        <a:pt x="149" y="36"/>
                      </a:lnTo>
                      <a:lnTo>
                        <a:pt x="155" y="24"/>
                      </a:lnTo>
                      <a:lnTo>
                        <a:pt x="185" y="0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80"/>
                <p:cNvSpPr/>
                <p:nvPr/>
              </p:nvSpPr>
              <p:spPr>
                <a:xfrm>
                  <a:off x="5086440" y="4767480"/>
                  <a:ext cx="185040" cy="43524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435240"/>
                    <a:gd name="textAreaBottom" fmla="*/ 435600 h 435240"/>
                  </a:gdLst>
                  <a:ahLst/>
                  <a:rect l="textAreaLeft" t="textAreaTop" r="textAreaRight" b="textAreaBottom"/>
                  <a:pathLst>
                    <a:path w="185" h="448">
                      <a:moveTo>
                        <a:pt x="6" y="203"/>
                      </a:moveTo>
                      <a:lnTo>
                        <a:pt x="6" y="191"/>
                      </a:lnTo>
                      <a:lnTo>
                        <a:pt x="0" y="179"/>
                      </a:lnTo>
                      <a:lnTo>
                        <a:pt x="6" y="149"/>
                      </a:lnTo>
                      <a:lnTo>
                        <a:pt x="0" y="137"/>
                      </a:lnTo>
                      <a:lnTo>
                        <a:pt x="6" y="131"/>
                      </a:lnTo>
                      <a:lnTo>
                        <a:pt x="24" y="126"/>
                      </a:lnTo>
                      <a:lnTo>
                        <a:pt x="24" y="120"/>
                      </a:lnTo>
                      <a:lnTo>
                        <a:pt x="24" y="108"/>
                      </a:lnTo>
                      <a:lnTo>
                        <a:pt x="42" y="78"/>
                      </a:lnTo>
                      <a:lnTo>
                        <a:pt x="42" y="72"/>
                      </a:lnTo>
                      <a:lnTo>
                        <a:pt x="36" y="60"/>
                      </a:lnTo>
                      <a:lnTo>
                        <a:pt x="36" y="48"/>
                      </a:lnTo>
                      <a:lnTo>
                        <a:pt x="36" y="24"/>
                      </a:lnTo>
                      <a:lnTo>
                        <a:pt x="47" y="24"/>
                      </a:lnTo>
                      <a:lnTo>
                        <a:pt x="71" y="0"/>
                      </a:lnTo>
                      <a:lnTo>
                        <a:pt x="83" y="30"/>
                      </a:lnTo>
                      <a:lnTo>
                        <a:pt x="83" y="36"/>
                      </a:lnTo>
                      <a:lnTo>
                        <a:pt x="77" y="36"/>
                      </a:lnTo>
                      <a:lnTo>
                        <a:pt x="77" y="66"/>
                      </a:lnTo>
                      <a:lnTo>
                        <a:pt x="77" y="72"/>
                      </a:lnTo>
                      <a:lnTo>
                        <a:pt x="83" y="84"/>
                      </a:lnTo>
                      <a:lnTo>
                        <a:pt x="101" y="108"/>
                      </a:lnTo>
                      <a:lnTo>
                        <a:pt x="107" y="126"/>
                      </a:lnTo>
                      <a:lnTo>
                        <a:pt x="125" y="143"/>
                      </a:lnTo>
                      <a:lnTo>
                        <a:pt x="131" y="161"/>
                      </a:lnTo>
                      <a:lnTo>
                        <a:pt x="137" y="161"/>
                      </a:lnTo>
                      <a:lnTo>
                        <a:pt x="143" y="155"/>
                      </a:lnTo>
                      <a:lnTo>
                        <a:pt x="149" y="155"/>
                      </a:lnTo>
                      <a:lnTo>
                        <a:pt x="161" y="161"/>
                      </a:lnTo>
                      <a:lnTo>
                        <a:pt x="185" y="203"/>
                      </a:lnTo>
                      <a:lnTo>
                        <a:pt x="185" y="215"/>
                      </a:lnTo>
                      <a:lnTo>
                        <a:pt x="185" y="233"/>
                      </a:lnTo>
                      <a:lnTo>
                        <a:pt x="179" y="257"/>
                      </a:lnTo>
                      <a:lnTo>
                        <a:pt x="179" y="269"/>
                      </a:lnTo>
                      <a:lnTo>
                        <a:pt x="185" y="293"/>
                      </a:lnTo>
                      <a:lnTo>
                        <a:pt x="179" y="316"/>
                      </a:lnTo>
                      <a:lnTo>
                        <a:pt x="185" y="352"/>
                      </a:lnTo>
                      <a:lnTo>
                        <a:pt x="185" y="358"/>
                      </a:lnTo>
                      <a:lnTo>
                        <a:pt x="185" y="370"/>
                      </a:lnTo>
                      <a:lnTo>
                        <a:pt x="185" y="388"/>
                      </a:lnTo>
                      <a:lnTo>
                        <a:pt x="185" y="394"/>
                      </a:lnTo>
                      <a:lnTo>
                        <a:pt x="179" y="412"/>
                      </a:lnTo>
                      <a:lnTo>
                        <a:pt x="185" y="430"/>
                      </a:lnTo>
                      <a:lnTo>
                        <a:pt x="185" y="436"/>
                      </a:lnTo>
                      <a:lnTo>
                        <a:pt x="179" y="442"/>
                      </a:lnTo>
                      <a:lnTo>
                        <a:pt x="179" y="448"/>
                      </a:lnTo>
                      <a:lnTo>
                        <a:pt x="167" y="448"/>
                      </a:lnTo>
                      <a:lnTo>
                        <a:pt x="167" y="436"/>
                      </a:lnTo>
                      <a:lnTo>
                        <a:pt x="161" y="430"/>
                      </a:lnTo>
                      <a:lnTo>
                        <a:pt x="137" y="424"/>
                      </a:lnTo>
                      <a:lnTo>
                        <a:pt x="131" y="418"/>
                      </a:lnTo>
                      <a:lnTo>
                        <a:pt x="131" y="412"/>
                      </a:lnTo>
                      <a:lnTo>
                        <a:pt x="149" y="400"/>
                      </a:lnTo>
                      <a:lnTo>
                        <a:pt x="161" y="382"/>
                      </a:lnTo>
                      <a:lnTo>
                        <a:pt x="119" y="346"/>
                      </a:lnTo>
                      <a:lnTo>
                        <a:pt x="113" y="334"/>
                      </a:lnTo>
                      <a:lnTo>
                        <a:pt x="107" y="328"/>
                      </a:lnTo>
                      <a:lnTo>
                        <a:pt x="107" y="322"/>
                      </a:lnTo>
                      <a:lnTo>
                        <a:pt x="101" y="316"/>
                      </a:lnTo>
                      <a:lnTo>
                        <a:pt x="89" y="293"/>
                      </a:lnTo>
                      <a:lnTo>
                        <a:pt x="83" y="281"/>
                      </a:lnTo>
                      <a:lnTo>
                        <a:pt x="71" y="281"/>
                      </a:lnTo>
                      <a:lnTo>
                        <a:pt x="65" y="269"/>
                      </a:lnTo>
                      <a:lnTo>
                        <a:pt x="53" y="245"/>
                      </a:lnTo>
                      <a:lnTo>
                        <a:pt x="47" y="227"/>
                      </a:lnTo>
                      <a:lnTo>
                        <a:pt x="36" y="215"/>
                      </a:lnTo>
                      <a:lnTo>
                        <a:pt x="30" y="209"/>
                      </a:lnTo>
                      <a:lnTo>
                        <a:pt x="18" y="209"/>
                      </a:lnTo>
                      <a:lnTo>
                        <a:pt x="6" y="203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81"/>
                <p:cNvSpPr/>
                <p:nvPr/>
              </p:nvSpPr>
              <p:spPr>
                <a:xfrm>
                  <a:off x="5438520" y="4773240"/>
                  <a:ext cx="237960" cy="27288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272880"/>
                    <a:gd name="textAreaBottom" fmla="*/ 273240 h 272880"/>
                  </a:gdLst>
                  <a:ahLst/>
                  <a:rect l="textAreaLeft" t="textAreaTop" r="textAreaRight" b="textAreaBottom"/>
                  <a:pathLst>
                    <a:path w="238" h="281">
                      <a:moveTo>
                        <a:pt x="209" y="6"/>
                      </a:moveTo>
                      <a:lnTo>
                        <a:pt x="209" y="0"/>
                      </a:lnTo>
                      <a:lnTo>
                        <a:pt x="214" y="6"/>
                      </a:lnTo>
                      <a:lnTo>
                        <a:pt x="214" y="12"/>
                      </a:lnTo>
                      <a:lnTo>
                        <a:pt x="226" y="18"/>
                      </a:lnTo>
                      <a:lnTo>
                        <a:pt x="220" y="30"/>
                      </a:lnTo>
                      <a:lnTo>
                        <a:pt x="232" y="42"/>
                      </a:lnTo>
                      <a:lnTo>
                        <a:pt x="232" y="48"/>
                      </a:lnTo>
                      <a:lnTo>
                        <a:pt x="238" y="60"/>
                      </a:lnTo>
                      <a:lnTo>
                        <a:pt x="226" y="84"/>
                      </a:lnTo>
                      <a:lnTo>
                        <a:pt x="226" y="90"/>
                      </a:lnTo>
                      <a:lnTo>
                        <a:pt x="238" y="96"/>
                      </a:lnTo>
                      <a:lnTo>
                        <a:pt x="214" y="137"/>
                      </a:lnTo>
                      <a:lnTo>
                        <a:pt x="220" y="143"/>
                      </a:lnTo>
                      <a:lnTo>
                        <a:pt x="226" y="155"/>
                      </a:lnTo>
                      <a:lnTo>
                        <a:pt x="226" y="161"/>
                      </a:lnTo>
                      <a:lnTo>
                        <a:pt x="238" y="167"/>
                      </a:lnTo>
                      <a:lnTo>
                        <a:pt x="238" y="185"/>
                      </a:lnTo>
                      <a:lnTo>
                        <a:pt x="232" y="197"/>
                      </a:lnTo>
                      <a:lnTo>
                        <a:pt x="220" y="197"/>
                      </a:lnTo>
                      <a:lnTo>
                        <a:pt x="220" y="203"/>
                      </a:lnTo>
                      <a:lnTo>
                        <a:pt x="220" y="215"/>
                      </a:lnTo>
                      <a:lnTo>
                        <a:pt x="209" y="227"/>
                      </a:lnTo>
                      <a:lnTo>
                        <a:pt x="203" y="239"/>
                      </a:lnTo>
                      <a:lnTo>
                        <a:pt x="167" y="239"/>
                      </a:lnTo>
                      <a:lnTo>
                        <a:pt x="161" y="245"/>
                      </a:lnTo>
                      <a:lnTo>
                        <a:pt x="155" y="245"/>
                      </a:lnTo>
                      <a:lnTo>
                        <a:pt x="125" y="233"/>
                      </a:lnTo>
                      <a:lnTo>
                        <a:pt x="119" y="233"/>
                      </a:lnTo>
                      <a:lnTo>
                        <a:pt x="107" y="245"/>
                      </a:lnTo>
                      <a:lnTo>
                        <a:pt x="71" y="269"/>
                      </a:lnTo>
                      <a:lnTo>
                        <a:pt x="65" y="275"/>
                      </a:lnTo>
                      <a:lnTo>
                        <a:pt x="59" y="281"/>
                      </a:lnTo>
                      <a:lnTo>
                        <a:pt x="47" y="275"/>
                      </a:lnTo>
                      <a:lnTo>
                        <a:pt x="24" y="257"/>
                      </a:lnTo>
                      <a:lnTo>
                        <a:pt x="6" y="263"/>
                      </a:lnTo>
                      <a:lnTo>
                        <a:pt x="0" y="245"/>
                      </a:lnTo>
                      <a:lnTo>
                        <a:pt x="12" y="233"/>
                      </a:lnTo>
                      <a:lnTo>
                        <a:pt x="59" y="209"/>
                      </a:lnTo>
                      <a:lnTo>
                        <a:pt x="65" y="209"/>
                      </a:lnTo>
                      <a:lnTo>
                        <a:pt x="53" y="191"/>
                      </a:lnTo>
                      <a:lnTo>
                        <a:pt x="59" y="173"/>
                      </a:lnTo>
                      <a:lnTo>
                        <a:pt x="59" y="161"/>
                      </a:lnTo>
                      <a:lnTo>
                        <a:pt x="89" y="131"/>
                      </a:lnTo>
                      <a:lnTo>
                        <a:pt x="101" y="108"/>
                      </a:lnTo>
                      <a:lnTo>
                        <a:pt x="101" y="90"/>
                      </a:lnTo>
                      <a:lnTo>
                        <a:pt x="113" y="78"/>
                      </a:lnTo>
                      <a:lnTo>
                        <a:pt x="137" y="60"/>
                      </a:lnTo>
                      <a:lnTo>
                        <a:pt x="143" y="54"/>
                      </a:lnTo>
                      <a:lnTo>
                        <a:pt x="167" y="36"/>
                      </a:lnTo>
                      <a:lnTo>
                        <a:pt x="203" y="24"/>
                      </a:lnTo>
                      <a:lnTo>
                        <a:pt x="209" y="24"/>
                      </a:lnTo>
                      <a:lnTo>
                        <a:pt x="209" y="12"/>
                      </a:lnTo>
                      <a:lnTo>
                        <a:pt x="209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82"/>
                <p:cNvSpPr/>
                <p:nvPr/>
              </p:nvSpPr>
              <p:spPr>
                <a:xfrm>
                  <a:off x="6649560" y="4785120"/>
                  <a:ext cx="357840" cy="132840"/>
                </a:xfrm>
                <a:custGeom>
                  <a:avLst/>
                  <a:gdLst>
                    <a:gd name="textAreaLeft" fmla="*/ 0 w 357840"/>
                    <a:gd name="textAreaRight" fmla="*/ 357840 w 35784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358" h="137">
                      <a:moveTo>
                        <a:pt x="77" y="42"/>
                      </a:moveTo>
                      <a:lnTo>
                        <a:pt x="83" y="48"/>
                      </a:lnTo>
                      <a:lnTo>
                        <a:pt x="113" y="42"/>
                      </a:lnTo>
                      <a:lnTo>
                        <a:pt x="137" y="30"/>
                      </a:lnTo>
                      <a:lnTo>
                        <a:pt x="185" y="6"/>
                      </a:lnTo>
                      <a:lnTo>
                        <a:pt x="226" y="0"/>
                      </a:lnTo>
                      <a:lnTo>
                        <a:pt x="244" y="0"/>
                      </a:lnTo>
                      <a:lnTo>
                        <a:pt x="286" y="0"/>
                      </a:lnTo>
                      <a:lnTo>
                        <a:pt x="298" y="12"/>
                      </a:lnTo>
                      <a:lnTo>
                        <a:pt x="304" y="12"/>
                      </a:lnTo>
                      <a:lnTo>
                        <a:pt x="316" y="12"/>
                      </a:lnTo>
                      <a:lnTo>
                        <a:pt x="316" y="18"/>
                      </a:lnTo>
                      <a:lnTo>
                        <a:pt x="322" y="36"/>
                      </a:lnTo>
                      <a:lnTo>
                        <a:pt x="328" y="42"/>
                      </a:lnTo>
                      <a:lnTo>
                        <a:pt x="346" y="60"/>
                      </a:lnTo>
                      <a:lnTo>
                        <a:pt x="352" y="72"/>
                      </a:lnTo>
                      <a:lnTo>
                        <a:pt x="358" y="72"/>
                      </a:lnTo>
                      <a:lnTo>
                        <a:pt x="352" y="84"/>
                      </a:lnTo>
                      <a:lnTo>
                        <a:pt x="340" y="102"/>
                      </a:lnTo>
                      <a:lnTo>
                        <a:pt x="334" y="108"/>
                      </a:lnTo>
                      <a:lnTo>
                        <a:pt x="328" y="90"/>
                      </a:lnTo>
                      <a:lnTo>
                        <a:pt x="322" y="90"/>
                      </a:lnTo>
                      <a:lnTo>
                        <a:pt x="322" y="72"/>
                      </a:lnTo>
                      <a:lnTo>
                        <a:pt x="316" y="60"/>
                      </a:lnTo>
                      <a:lnTo>
                        <a:pt x="298" y="60"/>
                      </a:lnTo>
                      <a:lnTo>
                        <a:pt x="268" y="72"/>
                      </a:lnTo>
                      <a:lnTo>
                        <a:pt x="250" y="72"/>
                      </a:lnTo>
                      <a:lnTo>
                        <a:pt x="226" y="90"/>
                      </a:lnTo>
                      <a:lnTo>
                        <a:pt x="220" y="90"/>
                      </a:lnTo>
                      <a:lnTo>
                        <a:pt x="214" y="84"/>
                      </a:lnTo>
                      <a:lnTo>
                        <a:pt x="179" y="96"/>
                      </a:lnTo>
                      <a:lnTo>
                        <a:pt x="113" y="131"/>
                      </a:lnTo>
                      <a:lnTo>
                        <a:pt x="89" y="131"/>
                      </a:lnTo>
                      <a:lnTo>
                        <a:pt x="83" y="137"/>
                      </a:lnTo>
                      <a:lnTo>
                        <a:pt x="71" y="137"/>
                      </a:lnTo>
                      <a:lnTo>
                        <a:pt x="65" y="125"/>
                      </a:lnTo>
                      <a:lnTo>
                        <a:pt x="59" y="131"/>
                      </a:lnTo>
                      <a:lnTo>
                        <a:pt x="53" y="125"/>
                      </a:lnTo>
                      <a:lnTo>
                        <a:pt x="41" y="119"/>
                      </a:lnTo>
                      <a:lnTo>
                        <a:pt x="35" y="119"/>
                      </a:lnTo>
                      <a:lnTo>
                        <a:pt x="0" y="137"/>
                      </a:lnTo>
                      <a:lnTo>
                        <a:pt x="6" y="125"/>
                      </a:lnTo>
                      <a:lnTo>
                        <a:pt x="30" y="84"/>
                      </a:lnTo>
                      <a:lnTo>
                        <a:pt x="35" y="66"/>
                      </a:lnTo>
                      <a:lnTo>
                        <a:pt x="65" y="48"/>
                      </a:lnTo>
                      <a:lnTo>
                        <a:pt x="77" y="4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83"/>
                <p:cNvSpPr/>
                <p:nvPr/>
              </p:nvSpPr>
              <p:spPr>
                <a:xfrm>
                  <a:off x="6529320" y="4796640"/>
                  <a:ext cx="196920" cy="1558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155880"/>
                    <a:gd name="textAreaBottom" fmla="*/ 156240 h 155880"/>
                  </a:gdLst>
                  <a:ahLst/>
                  <a:rect l="textAreaLeft" t="textAreaTop" r="textAreaRight" b="textAreaBottom"/>
                  <a:pathLst>
                    <a:path w="197" h="161">
                      <a:moveTo>
                        <a:pt x="150" y="24"/>
                      </a:moveTo>
                      <a:lnTo>
                        <a:pt x="155" y="18"/>
                      </a:lnTo>
                      <a:lnTo>
                        <a:pt x="167" y="18"/>
                      </a:lnTo>
                      <a:lnTo>
                        <a:pt x="191" y="24"/>
                      </a:lnTo>
                      <a:lnTo>
                        <a:pt x="197" y="30"/>
                      </a:lnTo>
                      <a:lnTo>
                        <a:pt x="185" y="36"/>
                      </a:lnTo>
                      <a:lnTo>
                        <a:pt x="155" y="54"/>
                      </a:lnTo>
                      <a:lnTo>
                        <a:pt x="150" y="72"/>
                      </a:lnTo>
                      <a:lnTo>
                        <a:pt x="126" y="113"/>
                      </a:lnTo>
                      <a:lnTo>
                        <a:pt x="120" y="125"/>
                      </a:lnTo>
                      <a:lnTo>
                        <a:pt x="120" y="131"/>
                      </a:lnTo>
                      <a:lnTo>
                        <a:pt x="126" y="143"/>
                      </a:lnTo>
                      <a:lnTo>
                        <a:pt x="126" y="149"/>
                      </a:lnTo>
                      <a:lnTo>
                        <a:pt x="132" y="155"/>
                      </a:lnTo>
                      <a:lnTo>
                        <a:pt x="126" y="161"/>
                      </a:lnTo>
                      <a:lnTo>
                        <a:pt x="120" y="155"/>
                      </a:lnTo>
                      <a:lnTo>
                        <a:pt x="102" y="137"/>
                      </a:lnTo>
                      <a:lnTo>
                        <a:pt x="78" y="125"/>
                      </a:lnTo>
                      <a:lnTo>
                        <a:pt x="66" y="119"/>
                      </a:lnTo>
                      <a:lnTo>
                        <a:pt x="48" y="131"/>
                      </a:lnTo>
                      <a:lnTo>
                        <a:pt x="42" y="131"/>
                      </a:lnTo>
                      <a:lnTo>
                        <a:pt x="36" y="125"/>
                      </a:lnTo>
                      <a:lnTo>
                        <a:pt x="24" y="107"/>
                      </a:lnTo>
                      <a:lnTo>
                        <a:pt x="18" y="96"/>
                      </a:lnTo>
                      <a:lnTo>
                        <a:pt x="24" y="78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0"/>
                      </a:lnTo>
                      <a:lnTo>
                        <a:pt x="18" y="48"/>
                      </a:lnTo>
                      <a:lnTo>
                        <a:pt x="6" y="30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72" y="24"/>
                      </a:lnTo>
                      <a:lnTo>
                        <a:pt x="108" y="48"/>
                      </a:lnTo>
                      <a:lnTo>
                        <a:pt x="138" y="36"/>
                      </a:lnTo>
                      <a:lnTo>
                        <a:pt x="150" y="24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84"/>
                <p:cNvSpPr/>
                <p:nvPr/>
              </p:nvSpPr>
              <p:spPr>
                <a:xfrm>
                  <a:off x="5998680" y="4808160"/>
                  <a:ext cx="411840" cy="388440"/>
                </a:xfrm>
                <a:custGeom>
                  <a:avLst/>
                  <a:gdLst>
                    <a:gd name="textAreaLeft" fmla="*/ 0 w 411840"/>
                    <a:gd name="textAreaRight" fmla="*/ 412200 w 41184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412" h="400">
                      <a:moveTo>
                        <a:pt x="6" y="78"/>
                      </a:moveTo>
                      <a:lnTo>
                        <a:pt x="6" y="66"/>
                      </a:lnTo>
                      <a:lnTo>
                        <a:pt x="0" y="24"/>
                      </a:lnTo>
                      <a:lnTo>
                        <a:pt x="6" y="0"/>
                      </a:lnTo>
                      <a:lnTo>
                        <a:pt x="18" y="6"/>
                      </a:lnTo>
                      <a:lnTo>
                        <a:pt x="36" y="18"/>
                      </a:lnTo>
                      <a:lnTo>
                        <a:pt x="54" y="66"/>
                      </a:lnTo>
                      <a:lnTo>
                        <a:pt x="72" y="78"/>
                      </a:lnTo>
                      <a:lnTo>
                        <a:pt x="90" y="101"/>
                      </a:lnTo>
                      <a:lnTo>
                        <a:pt x="138" y="89"/>
                      </a:lnTo>
                      <a:lnTo>
                        <a:pt x="150" y="95"/>
                      </a:lnTo>
                      <a:lnTo>
                        <a:pt x="156" y="107"/>
                      </a:lnTo>
                      <a:lnTo>
                        <a:pt x="179" y="113"/>
                      </a:lnTo>
                      <a:lnTo>
                        <a:pt x="209" y="113"/>
                      </a:lnTo>
                      <a:lnTo>
                        <a:pt x="227" y="125"/>
                      </a:lnTo>
                      <a:lnTo>
                        <a:pt x="245" y="125"/>
                      </a:lnTo>
                      <a:lnTo>
                        <a:pt x="245" y="131"/>
                      </a:lnTo>
                      <a:lnTo>
                        <a:pt x="245" y="143"/>
                      </a:lnTo>
                      <a:lnTo>
                        <a:pt x="245" y="149"/>
                      </a:lnTo>
                      <a:lnTo>
                        <a:pt x="251" y="155"/>
                      </a:lnTo>
                      <a:lnTo>
                        <a:pt x="257" y="161"/>
                      </a:lnTo>
                      <a:lnTo>
                        <a:pt x="263" y="167"/>
                      </a:lnTo>
                      <a:lnTo>
                        <a:pt x="275" y="161"/>
                      </a:lnTo>
                      <a:lnTo>
                        <a:pt x="287" y="173"/>
                      </a:lnTo>
                      <a:lnTo>
                        <a:pt x="293" y="197"/>
                      </a:lnTo>
                      <a:lnTo>
                        <a:pt x="299" y="197"/>
                      </a:lnTo>
                      <a:lnTo>
                        <a:pt x="305" y="209"/>
                      </a:lnTo>
                      <a:lnTo>
                        <a:pt x="305" y="215"/>
                      </a:lnTo>
                      <a:lnTo>
                        <a:pt x="305" y="221"/>
                      </a:lnTo>
                      <a:lnTo>
                        <a:pt x="323" y="251"/>
                      </a:lnTo>
                      <a:lnTo>
                        <a:pt x="335" y="257"/>
                      </a:lnTo>
                      <a:lnTo>
                        <a:pt x="358" y="257"/>
                      </a:lnTo>
                      <a:lnTo>
                        <a:pt x="358" y="263"/>
                      </a:lnTo>
                      <a:lnTo>
                        <a:pt x="358" y="269"/>
                      </a:lnTo>
                      <a:lnTo>
                        <a:pt x="370" y="298"/>
                      </a:lnTo>
                      <a:lnTo>
                        <a:pt x="388" y="328"/>
                      </a:lnTo>
                      <a:lnTo>
                        <a:pt x="394" y="340"/>
                      </a:lnTo>
                      <a:lnTo>
                        <a:pt x="400" y="352"/>
                      </a:lnTo>
                      <a:lnTo>
                        <a:pt x="412" y="376"/>
                      </a:lnTo>
                      <a:lnTo>
                        <a:pt x="412" y="388"/>
                      </a:lnTo>
                      <a:lnTo>
                        <a:pt x="406" y="400"/>
                      </a:lnTo>
                      <a:lnTo>
                        <a:pt x="394" y="388"/>
                      </a:lnTo>
                      <a:lnTo>
                        <a:pt x="388" y="382"/>
                      </a:lnTo>
                      <a:lnTo>
                        <a:pt x="382" y="376"/>
                      </a:lnTo>
                      <a:lnTo>
                        <a:pt x="364" y="364"/>
                      </a:lnTo>
                      <a:lnTo>
                        <a:pt x="352" y="364"/>
                      </a:lnTo>
                      <a:lnTo>
                        <a:pt x="329" y="358"/>
                      </a:lnTo>
                      <a:lnTo>
                        <a:pt x="323" y="340"/>
                      </a:lnTo>
                      <a:lnTo>
                        <a:pt x="311" y="328"/>
                      </a:lnTo>
                      <a:lnTo>
                        <a:pt x="281" y="316"/>
                      </a:lnTo>
                      <a:lnTo>
                        <a:pt x="263" y="316"/>
                      </a:lnTo>
                      <a:lnTo>
                        <a:pt x="257" y="298"/>
                      </a:lnTo>
                      <a:lnTo>
                        <a:pt x="215" y="292"/>
                      </a:lnTo>
                      <a:lnTo>
                        <a:pt x="215" y="298"/>
                      </a:lnTo>
                      <a:lnTo>
                        <a:pt x="185" y="304"/>
                      </a:lnTo>
                      <a:lnTo>
                        <a:pt x="173" y="298"/>
                      </a:lnTo>
                      <a:lnTo>
                        <a:pt x="173" y="292"/>
                      </a:lnTo>
                      <a:lnTo>
                        <a:pt x="173" y="263"/>
                      </a:lnTo>
                      <a:lnTo>
                        <a:pt x="168" y="233"/>
                      </a:lnTo>
                      <a:lnTo>
                        <a:pt x="150" y="197"/>
                      </a:lnTo>
                      <a:lnTo>
                        <a:pt x="144" y="191"/>
                      </a:lnTo>
                      <a:lnTo>
                        <a:pt x="126" y="185"/>
                      </a:lnTo>
                      <a:lnTo>
                        <a:pt x="114" y="185"/>
                      </a:lnTo>
                      <a:lnTo>
                        <a:pt x="96" y="167"/>
                      </a:lnTo>
                      <a:lnTo>
                        <a:pt x="72" y="149"/>
                      </a:lnTo>
                      <a:lnTo>
                        <a:pt x="60" y="125"/>
                      </a:lnTo>
                      <a:lnTo>
                        <a:pt x="60" y="107"/>
                      </a:lnTo>
                      <a:lnTo>
                        <a:pt x="54" y="107"/>
                      </a:lnTo>
                      <a:lnTo>
                        <a:pt x="42" y="113"/>
                      </a:lnTo>
                      <a:lnTo>
                        <a:pt x="12" y="137"/>
                      </a:lnTo>
                      <a:lnTo>
                        <a:pt x="12" y="125"/>
                      </a:lnTo>
                      <a:lnTo>
                        <a:pt x="6" y="119"/>
                      </a:lnTo>
                      <a:lnTo>
                        <a:pt x="6" y="84"/>
                      </a:lnTo>
                      <a:lnTo>
                        <a:pt x="6" y="7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85"/>
                <p:cNvSpPr/>
                <p:nvPr/>
              </p:nvSpPr>
              <p:spPr>
                <a:xfrm>
                  <a:off x="5706360" y="4837680"/>
                  <a:ext cx="191160" cy="295200"/>
                </a:xfrm>
                <a:custGeom>
                  <a:avLst/>
                  <a:gdLst>
                    <a:gd name="textAreaLeft" fmla="*/ 0 w 191160"/>
                    <a:gd name="textAreaRight" fmla="*/ 191520 w 19116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191" h="304">
                      <a:moveTo>
                        <a:pt x="30" y="143"/>
                      </a:moveTo>
                      <a:lnTo>
                        <a:pt x="42" y="143"/>
                      </a:lnTo>
                      <a:lnTo>
                        <a:pt x="54" y="131"/>
                      </a:lnTo>
                      <a:lnTo>
                        <a:pt x="60" y="131"/>
                      </a:lnTo>
                      <a:lnTo>
                        <a:pt x="66" y="143"/>
                      </a:lnTo>
                      <a:lnTo>
                        <a:pt x="78" y="131"/>
                      </a:lnTo>
                      <a:lnTo>
                        <a:pt x="84" y="113"/>
                      </a:lnTo>
                      <a:lnTo>
                        <a:pt x="108" y="107"/>
                      </a:lnTo>
                      <a:lnTo>
                        <a:pt x="108" y="89"/>
                      </a:lnTo>
                      <a:lnTo>
                        <a:pt x="114" y="83"/>
                      </a:lnTo>
                      <a:lnTo>
                        <a:pt x="114" y="77"/>
                      </a:lnTo>
                      <a:lnTo>
                        <a:pt x="125" y="65"/>
                      </a:lnTo>
                      <a:lnTo>
                        <a:pt x="125" y="54"/>
                      </a:lnTo>
                      <a:lnTo>
                        <a:pt x="131" y="30"/>
                      </a:lnTo>
                      <a:lnTo>
                        <a:pt x="137" y="12"/>
                      </a:lnTo>
                      <a:lnTo>
                        <a:pt x="143" y="0"/>
                      </a:lnTo>
                      <a:lnTo>
                        <a:pt x="149" y="18"/>
                      </a:lnTo>
                      <a:lnTo>
                        <a:pt x="167" y="48"/>
                      </a:lnTo>
                      <a:lnTo>
                        <a:pt x="167" y="65"/>
                      </a:lnTo>
                      <a:lnTo>
                        <a:pt x="167" y="83"/>
                      </a:lnTo>
                      <a:lnTo>
                        <a:pt x="173" y="89"/>
                      </a:lnTo>
                      <a:lnTo>
                        <a:pt x="167" y="95"/>
                      </a:lnTo>
                      <a:lnTo>
                        <a:pt x="173" y="137"/>
                      </a:lnTo>
                      <a:lnTo>
                        <a:pt x="179" y="155"/>
                      </a:lnTo>
                      <a:lnTo>
                        <a:pt x="173" y="161"/>
                      </a:lnTo>
                      <a:lnTo>
                        <a:pt x="179" y="173"/>
                      </a:lnTo>
                      <a:lnTo>
                        <a:pt x="191" y="179"/>
                      </a:lnTo>
                      <a:lnTo>
                        <a:pt x="173" y="185"/>
                      </a:lnTo>
                      <a:lnTo>
                        <a:pt x="167" y="179"/>
                      </a:lnTo>
                      <a:lnTo>
                        <a:pt x="137" y="173"/>
                      </a:lnTo>
                      <a:lnTo>
                        <a:pt x="131" y="173"/>
                      </a:lnTo>
                      <a:lnTo>
                        <a:pt x="125" y="191"/>
                      </a:lnTo>
                      <a:lnTo>
                        <a:pt x="119" y="197"/>
                      </a:lnTo>
                      <a:lnTo>
                        <a:pt x="119" y="209"/>
                      </a:lnTo>
                      <a:lnTo>
                        <a:pt x="108" y="215"/>
                      </a:lnTo>
                      <a:lnTo>
                        <a:pt x="102" y="227"/>
                      </a:lnTo>
                      <a:lnTo>
                        <a:pt x="102" y="233"/>
                      </a:lnTo>
                      <a:lnTo>
                        <a:pt x="72" y="233"/>
                      </a:lnTo>
                      <a:lnTo>
                        <a:pt x="60" y="244"/>
                      </a:lnTo>
                      <a:lnTo>
                        <a:pt x="48" y="256"/>
                      </a:lnTo>
                      <a:lnTo>
                        <a:pt x="42" y="280"/>
                      </a:lnTo>
                      <a:lnTo>
                        <a:pt x="42" y="298"/>
                      </a:lnTo>
                      <a:lnTo>
                        <a:pt x="36" y="298"/>
                      </a:lnTo>
                      <a:lnTo>
                        <a:pt x="24" y="304"/>
                      </a:lnTo>
                      <a:lnTo>
                        <a:pt x="24" y="298"/>
                      </a:lnTo>
                      <a:lnTo>
                        <a:pt x="18" y="292"/>
                      </a:lnTo>
                      <a:lnTo>
                        <a:pt x="24" y="244"/>
                      </a:lnTo>
                      <a:lnTo>
                        <a:pt x="24" y="221"/>
                      </a:lnTo>
                      <a:lnTo>
                        <a:pt x="42" y="197"/>
                      </a:lnTo>
                      <a:lnTo>
                        <a:pt x="42" y="191"/>
                      </a:lnTo>
                      <a:lnTo>
                        <a:pt x="36" y="191"/>
                      </a:lnTo>
                      <a:lnTo>
                        <a:pt x="12" y="185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30" y="161"/>
                      </a:lnTo>
                      <a:lnTo>
                        <a:pt x="36" y="155"/>
                      </a:lnTo>
                      <a:lnTo>
                        <a:pt x="30" y="143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86"/>
                <p:cNvSpPr/>
                <p:nvPr/>
              </p:nvSpPr>
              <p:spPr>
                <a:xfrm>
                  <a:off x="6732720" y="4843080"/>
                  <a:ext cx="250920" cy="20304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51" h="209">
                      <a:moveTo>
                        <a:pt x="0" y="77"/>
                      </a:moveTo>
                      <a:lnTo>
                        <a:pt x="6" y="71"/>
                      </a:lnTo>
                      <a:lnTo>
                        <a:pt x="30" y="71"/>
                      </a:lnTo>
                      <a:lnTo>
                        <a:pt x="96" y="36"/>
                      </a:lnTo>
                      <a:lnTo>
                        <a:pt x="131" y="24"/>
                      </a:lnTo>
                      <a:lnTo>
                        <a:pt x="137" y="30"/>
                      </a:lnTo>
                      <a:lnTo>
                        <a:pt x="143" y="30"/>
                      </a:lnTo>
                      <a:lnTo>
                        <a:pt x="167" y="12"/>
                      </a:lnTo>
                      <a:lnTo>
                        <a:pt x="185" y="12"/>
                      </a:lnTo>
                      <a:lnTo>
                        <a:pt x="215" y="0"/>
                      </a:lnTo>
                      <a:lnTo>
                        <a:pt x="233" y="0"/>
                      </a:lnTo>
                      <a:lnTo>
                        <a:pt x="239" y="12"/>
                      </a:lnTo>
                      <a:lnTo>
                        <a:pt x="239" y="30"/>
                      </a:lnTo>
                      <a:lnTo>
                        <a:pt x="245" y="30"/>
                      </a:lnTo>
                      <a:lnTo>
                        <a:pt x="251" y="48"/>
                      </a:lnTo>
                      <a:lnTo>
                        <a:pt x="245" y="53"/>
                      </a:lnTo>
                      <a:lnTo>
                        <a:pt x="239" y="71"/>
                      </a:lnTo>
                      <a:lnTo>
                        <a:pt x="227" y="77"/>
                      </a:lnTo>
                      <a:lnTo>
                        <a:pt x="221" y="89"/>
                      </a:lnTo>
                      <a:lnTo>
                        <a:pt x="161" y="161"/>
                      </a:lnTo>
                      <a:lnTo>
                        <a:pt x="149" y="173"/>
                      </a:lnTo>
                      <a:lnTo>
                        <a:pt x="149" y="191"/>
                      </a:lnTo>
                      <a:lnTo>
                        <a:pt x="149" y="209"/>
                      </a:lnTo>
                      <a:lnTo>
                        <a:pt x="131" y="191"/>
                      </a:lnTo>
                      <a:lnTo>
                        <a:pt x="120" y="185"/>
                      </a:lnTo>
                      <a:lnTo>
                        <a:pt x="108" y="167"/>
                      </a:lnTo>
                      <a:lnTo>
                        <a:pt x="108" y="155"/>
                      </a:lnTo>
                      <a:lnTo>
                        <a:pt x="102" y="149"/>
                      </a:lnTo>
                      <a:lnTo>
                        <a:pt x="72" y="137"/>
                      </a:lnTo>
                      <a:lnTo>
                        <a:pt x="66" y="131"/>
                      </a:lnTo>
                      <a:lnTo>
                        <a:pt x="60" y="125"/>
                      </a:lnTo>
                      <a:lnTo>
                        <a:pt x="48" y="113"/>
                      </a:lnTo>
                      <a:lnTo>
                        <a:pt x="30" y="113"/>
                      </a:lnTo>
                      <a:lnTo>
                        <a:pt x="18" y="113"/>
                      </a:lnTo>
                      <a:lnTo>
                        <a:pt x="12" y="95"/>
                      </a:lnTo>
                      <a:lnTo>
                        <a:pt x="0" y="89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87"/>
                <p:cNvSpPr/>
                <p:nvPr/>
              </p:nvSpPr>
              <p:spPr>
                <a:xfrm>
                  <a:off x="5873400" y="4878360"/>
                  <a:ext cx="280800" cy="393480"/>
                </a:xfrm>
                <a:custGeom>
                  <a:avLst/>
                  <a:gdLst>
                    <a:gd name="textAreaLeft" fmla="*/ 0 w 280800"/>
                    <a:gd name="textAreaRight" fmla="*/ 281160 w 280800"/>
                    <a:gd name="textAreaTop" fmla="*/ 0 h 393480"/>
                    <a:gd name="textAreaBottom" fmla="*/ 393840 h 393480"/>
                  </a:gdLst>
                  <a:ahLst/>
                  <a:rect l="textAreaLeft" t="textAreaTop" r="textAreaRight" b="textAreaBottom"/>
                  <a:pathLst>
                    <a:path w="281" h="405">
                      <a:moveTo>
                        <a:pt x="6" y="47"/>
                      </a:moveTo>
                      <a:lnTo>
                        <a:pt x="12" y="53"/>
                      </a:lnTo>
                      <a:lnTo>
                        <a:pt x="36" y="47"/>
                      </a:lnTo>
                      <a:lnTo>
                        <a:pt x="48" y="41"/>
                      </a:lnTo>
                      <a:lnTo>
                        <a:pt x="78" y="29"/>
                      </a:lnTo>
                      <a:lnTo>
                        <a:pt x="90" y="17"/>
                      </a:lnTo>
                      <a:lnTo>
                        <a:pt x="96" y="17"/>
                      </a:lnTo>
                      <a:lnTo>
                        <a:pt x="125" y="0"/>
                      </a:lnTo>
                      <a:lnTo>
                        <a:pt x="131" y="6"/>
                      </a:lnTo>
                      <a:lnTo>
                        <a:pt x="131" y="12"/>
                      </a:lnTo>
                      <a:lnTo>
                        <a:pt x="131" y="47"/>
                      </a:lnTo>
                      <a:lnTo>
                        <a:pt x="137" y="53"/>
                      </a:lnTo>
                      <a:lnTo>
                        <a:pt x="137" y="65"/>
                      </a:lnTo>
                      <a:lnTo>
                        <a:pt x="137" y="71"/>
                      </a:lnTo>
                      <a:lnTo>
                        <a:pt x="155" y="107"/>
                      </a:lnTo>
                      <a:lnTo>
                        <a:pt x="167" y="113"/>
                      </a:lnTo>
                      <a:lnTo>
                        <a:pt x="167" y="125"/>
                      </a:lnTo>
                      <a:lnTo>
                        <a:pt x="185" y="161"/>
                      </a:lnTo>
                      <a:lnTo>
                        <a:pt x="191" y="167"/>
                      </a:lnTo>
                      <a:lnTo>
                        <a:pt x="197" y="185"/>
                      </a:lnTo>
                      <a:lnTo>
                        <a:pt x="203" y="191"/>
                      </a:lnTo>
                      <a:lnTo>
                        <a:pt x="209" y="197"/>
                      </a:lnTo>
                      <a:lnTo>
                        <a:pt x="215" y="214"/>
                      </a:lnTo>
                      <a:lnTo>
                        <a:pt x="221" y="220"/>
                      </a:lnTo>
                      <a:lnTo>
                        <a:pt x="263" y="226"/>
                      </a:lnTo>
                      <a:lnTo>
                        <a:pt x="269" y="226"/>
                      </a:lnTo>
                      <a:lnTo>
                        <a:pt x="275" y="214"/>
                      </a:lnTo>
                      <a:lnTo>
                        <a:pt x="281" y="232"/>
                      </a:lnTo>
                      <a:lnTo>
                        <a:pt x="275" y="238"/>
                      </a:lnTo>
                      <a:lnTo>
                        <a:pt x="269" y="256"/>
                      </a:lnTo>
                      <a:lnTo>
                        <a:pt x="257" y="262"/>
                      </a:lnTo>
                      <a:lnTo>
                        <a:pt x="257" y="268"/>
                      </a:lnTo>
                      <a:lnTo>
                        <a:pt x="263" y="292"/>
                      </a:lnTo>
                      <a:lnTo>
                        <a:pt x="263" y="304"/>
                      </a:lnTo>
                      <a:lnTo>
                        <a:pt x="257" y="316"/>
                      </a:lnTo>
                      <a:lnTo>
                        <a:pt x="245" y="328"/>
                      </a:lnTo>
                      <a:lnTo>
                        <a:pt x="251" y="352"/>
                      </a:lnTo>
                      <a:lnTo>
                        <a:pt x="227" y="352"/>
                      </a:lnTo>
                      <a:lnTo>
                        <a:pt x="221" y="352"/>
                      </a:lnTo>
                      <a:lnTo>
                        <a:pt x="227" y="376"/>
                      </a:lnTo>
                      <a:lnTo>
                        <a:pt x="215" y="399"/>
                      </a:lnTo>
                      <a:lnTo>
                        <a:pt x="209" y="405"/>
                      </a:lnTo>
                      <a:lnTo>
                        <a:pt x="197" y="405"/>
                      </a:lnTo>
                      <a:lnTo>
                        <a:pt x="179" y="381"/>
                      </a:lnTo>
                      <a:lnTo>
                        <a:pt x="167" y="381"/>
                      </a:lnTo>
                      <a:lnTo>
                        <a:pt x="155" y="387"/>
                      </a:lnTo>
                      <a:lnTo>
                        <a:pt x="149" y="376"/>
                      </a:lnTo>
                      <a:lnTo>
                        <a:pt x="143" y="376"/>
                      </a:lnTo>
                      <a:lnTo>
                        <a:pt x="114" y="381"/>
                      </a:lnTo>
                      <a:lnTo>
                        <a:pt x="102" y="370"/>
                      </a:lnTo>
                      <a:lnTo>
                        <a:pt x="108" y="364"/>
                      </a:lnTo>
                      <a:lnTo>
                        <a:pt x="108" y="352"/>
                      </a:lnTo>
                      <a:lnTo>
                        <a:pt x="114" y="328"/>
                      </a:lnTo>
                      <a:lnTo>
                        <a:pt x="114" y="310"/>
                      </a:lnTo>
                      <a:lnTo>
                        <a:pt x="120" y="298"/>
                      </a:lnTo>
                      <a:lnTo>
                        <a:pt x="114" y="286"/>
                      </a:lnTo>
                      <a:lnTo>
                        <a:pt x="96" y="244"/>
                      </a:lnTo>
                      <a:lnTo>
                        <a:pt x="90" y="220"/>
                      </a:lnTo>
                      <a:lnTo>
                        <a:pt x="84" y="214"/>
                      </a:lnTo>
                      <a:lnTo>
                        <a:pt x="66" y="220"/>
                      </a:lnTo>
                      <a:lnTo>
                        <a:pt x="54" y="220"/>
                      </a:lnTo>
                      <a:lnTo>
                        <a:pt x="54" y="214"/>
                      </a:lnTo>
                      <a:lnTo>
                        <a:pt x="48" y="197"/>
                      </a:lnTo>
                      <a:lnTo>
                        <a:pt x="36" y="149"/>
                      </a:lnTo>
                      <a:lnTo>
                        <a:pt x="24" y="137"/>
                      </a:lnTo>
                      <a:lnTo>
                        <a:pt x="12" y="131"/>
                      </a:lnTo>
                      <a:lnTo>
                        <a:pt x="6" y="119"/>
                      </a:lnTo>
                      <a:lnTo>
                        <a:pt x="12" y="113"/>
                      </a:lnTo>
                      <a:lnTo>
                        <a:pt x="6" y="95"/>
                      </a:lnTo>
                      <a:lnTo>
                        <a:pt x="0" y="53"/>
                      </a:lnTo>
                      <a:lnTo>
                        <a:pt x="6" y="47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88"/>
                <p:cNvSpPr/>
                <p:nvPr/>
              </p:nvSpPr>
              <p:spPr>
                <a:xfrm>
                  <a:off x="6482520" y="4889880"/>
                  <a:ext cx="131040" cy="173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131" h="179">
                      <a:moveTo>
                        <a:pt x="65" y="0"/>
                      </a:moveTo>
                      <a:lnTo>
                        <a:pt x="71" y="11"/>
                      </a:lnTo>
                      <a:lnTo>
                        <a:pt x="83" y="29"/>
                      </a:lnTo>
                      <a:lnTo>
                        <a:pt x="89" y="35"/>
                      </a:lnTo>
                      <a:lnTo>
                        <a:pt x="95" y="35"/>
                      </a:lnTo>
                      <a:lnTo>
                        <a:pt x="119" y="53"/>
                      </a:lnTo>
                      <a:lnTo>
                        <a:pt x="119" y="59"/>
                      </a:lnTo>
                      <a:lnTo>
                        <a:pt x="125" y="101"/>
                      </a:lnTo>
                      <a:lnTo>
                        <a:pt x="125" y="119"/>
                      </a:lnTo>
                      <a:lnTo>
                        <a:pt x="125" y="143"/>
                      </a:lnTo>
                      <a:lnTo>
                        <a:pt x="131" y="161"/>
                      </a:lnTo>
                      <a:lnTo>
                        <a:pt x="125" y="173"/>
                      </a:lnTo>
                      <a:lnTo>
                        <a:pt x="113" y="179"/>
                      </a:lnTo>
                      <a:lnTo>
                        <a:pt x="107" y="179"/>
                      </a:lnTo>
                      <a:lnTo>
                        <a:pt x="83" y="179"/>
                      </a:lnTo>
                      <a:lnTo>
                        <a:pt x="83" y="173"/>
                      </a:lnTo>
                      <a:lnTo>
                        <a:pt x="53" y="131"/>
                      </a:lnTo>
                      <a:lnTo>
                        <a:pt x="41" y="119"/>
                      </a:lnTo>
                      <a:lnTo>
                        <a:pt x="41" y="107"/>
                      </a:lnTo>
                      <a:lnTo>
                        <a:pt x="35" y="65"/>
                      </a:lnTo>
                      <a:lnTo>
                        <a:pt x="29" y="53"/>
                      </a:lnTo>
                      <a:lnTo>
                        <a:pt x="18" y="47"/>
                      </a:lnTo>
                      <a:lnTo>
                        <a:pt x="0" y="35"/>
                      </a:lnTo>
                      <a:lnTo>
                        <a:pt x="18" y="23"/>
                      </a:lnTo>
                      <a:lnTo>
                        <a:pt x="29" y="17"/>
                      </a:lnTo>
                      <a:lnTo>
                        <a:pt x="35" y="5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89"/>
                <p:cNvSpPr/>
                <p:nvPr/>
              </p:nvSpPr>
              <p:spPr>
                <a:xfrm>
                  <a:off x="6649560" y="4900680"/>
                  <a:ext cx="118800" cy="1515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51560"/>
                    <a:gd name="textAreaBottom" fmla="*/ 151920 h 151560"/>
                  </a:gdLst>
                  <a:ahLst/>
                  <a:rect l="textAreaLeft" t="textAreaTop" r="textAreaRight" b="textAreaBottom"/>
                  <a:pathLst>
                    <a:path w="119" h="156">
                      <a:moveTo>
                        <a:pt x="0" y="18"/>
                      </a:move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53" y="6"/>
                      </a:lnTo>
                      <a:lnTo>
                        <a:pt x="59" y="12"/>
                      </a:lnTo>
                      <a:lnTo>
                        <a:pt x="65" y="6"/>
                      </a:lnTo>
                      <a:lnTo>
                        <a:pt x="71" y="18"/>
                      </a:lnTo>
                      <a:lnTo>
                        <a:pt x="83" y="18"/>
                      </a:lnTo>
                      <a:lnTo>
                        <a:pt x="83" y="30"/>
                      </a:lnTo>
                      <a:lnTo>
                        <a:pt x="95" y="36"/>
                      </a:lnTo>
                      <a:lnTo>
                        <a:pt x="101" y="54"/>
                      </a:lnTo>
                      <a:lnTo>
                        <a:pt x="113" y="54"/>
                      </a:lnTo>
                      <a:lnTo>
                        <a:pt x="107" y="66"/>
                      </a:lnTo>
                      <a:lnTo>
                        <a:pt x="113" y="90"/>
                      </a:lnTo>
                      <a:lnTo>
                        <a:pt x="119" y="102"/>
                      </a:lnTo>
                      <a:lnTo>
                        <a:pt x="119" y="114"/>
                      </a:lnTo>
                      <a:lnTo>
                        <a:pt x="119" y="150"/>
                      </a:lnTo>
                      <a:lnTo>
                        <a:pt x="113" y="156"/>
                      </a:lnTo>
                      <a:lnTo>
                        <a:pt x="107" y="144"/>
                      </a:lnTo>
                      <a:lnTo>
                        <a:pt x="101" y="144"/>
                      </a:lnTo>
                      <a:lnTo>
                        <a:pt x="95" y="126"/>
                      </a:lnTo>
                      <a:lnTo>
                        <a:pt x="89" y="120"/>
                      </a:lnTo>
                      <a:lnTo>
                        <a:pt x="77" y="114"/>
                      </a:lnTo>
                      <a:lnTo>
                        <a:pt x="59" y="114"/>
                      </a:lnTo>
                      <a:lnTo>
                        <a:pt x="47" y="96"/>
                      </a:lnTo>
                      <a:lnTo>
                        <a:pt x="35" y="90"/>
                      </a:lnTo>
                      <a:lnTo>
                        <a:pt x="35" y="78"/>
                      </a:lnTo>
                      <a:lnTo>
                        <a:pt x="18" y="66"/>
                      </a:lnTo>
                      <a:lnTo>
                        <a:pt x="6" y="66"/>
                      </a:lnTo>
                      <a:lnTo>
                        <a:pt x="6" y="54"/>
                      </a:lnTo>
                      <a:lnTo>
                        <a:pt x="12" y="48"/>
                      </a:ln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0" y="24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90"/>
                <p:cNvSpPr/>
                <p:nvPr/>
              </p:nvSpPr>
              <p:spPr>
                <a:xfrm>
                  <a:off x="6303600" y="4900680"/>
                  <a:ext cx="136800" cy="16308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137" h="168">
                      <a:moveTo>
                        <a:pt x="0" y="114"/>
                      </a:moveTo>
                      <a:lnTo>
                        <a:pt x="12" y="102"/>
                      </a:lnTo>
                      <a:lnTo>
                        <a:pt x="18" y="84"/>
                      </a:lnTo>
                      <a:lnTo>
                        <a:pt x="24" y="78"/>
                      </a:lnTo>
                      <a:lnTo>
                        <a:pt x="47" y="48"/>
                      </a:lnTo>
                      <a:lnTo>
                        <a:pt x="53" y="42"/>
                      </a:lnTo>
                      <a:lnTo>
                        <a:pt x="47" y="36"/>
                      </a:lnTo>
                      <a:lnTo>
                        <a:pt x="59" y="24"/>
                      </a:lnTo>
                      <a:lnTo>
                        <a:pt x="59" y="18"/>
                      </a:lnTo>
                      <a:lnTo>
                        <a:pt x="65" y="0"/>
                      </a:lnTo>
                      <a:lnTo>
                        <a:pt x="71" y="0"/>
                      </a:lnTo>
                      <a:lnTo>
                        <a:pt x="107" y="18"/>
                      </a:lnTo>
                      <a:lnTo>
                        <a:pt x="107" y="24"/>
                      </a:lnTo>
                      <a:lnTo>
                        <a:pt x="113" y="30"/>
                      </a:lnTo>
                      <a:lnTo>
                        <a:pt x="125" y="36"/>
                      </a:lnTo>
                      <a:lnTo>
                        <a:pt x="137" y="42"/>
                      </a:lnTo>
                      <a:lnTo>
                        <a:pt x="131" y="54"/>
                      </a:lnTo>
                      <a:lnTo>
                        <a:pt x="125" y="84"/>
                      </a:lnTo>
                      <a:lnTo>
                        <a:pt x="113" y="96"/>
                      </a:lnTo>
                      <a:lnTo>
                        <a:pt x="101" y="102"/>
                      </a:lnTo>
                      <a:lnTo>
                        <a:pt x="95" y="120"/>
                      </a:lnTo>
                      <a:lnTo>
                        <a:pt x="71" y="144"/>
                      </a:lnTo>
                      <a:lnTo>
                        <a:pt x="53" y="168"/>
                      </a:lnTo>
                      <a:lnTo>
                        <a:pt x="53" y="162"/>
                      </a:lnTo>
                      <a:lnTo>
                        <a:pt x="30" y="162"/>
                      </a:lnTo>
                      <a:lnTo>
                        <a:pt x="18" y="156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91"/>
                <p:cNvSpPr/>
                <p:nvPr/>
              </p:nvSpPr>
              <p:spPr>
                <a:xfrm>
                  <a:off x="6010560" y="4912200"/>
                  <a:ext cx="160920" cy="18540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61" h="191">
                      <a:moveTo>
                        <a:pt x="0" y="30"/>
                      </a:moveTo>
                      <a:lnTo>
                        <a:pt x="30" y="6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48" y="18"/>
                      </a:lnTo>
                      <a:lnTo>
                        <a:pt x="60" y="42"/>
                      </a:lnTo>
                      <a:lnTo>
                        <a:pt x="84" y="60"/>
                      </a:lnTo>
                      <a:lnTo>
                        <a:pt x="102" y="78"/>
                      </a:lnTo>
                      <a:lnTo>
                        <a:pt x="114" y="78"/>
                      </a:lnTo>
                      <a:lnTo>
                        <a:pt x="132" y="84"/>
                      </a:lnTo>
                      <a:lnTo>
                        <a:pt x="138" y="90"/>
                      </a:lnTo>
                      <a:lnTo>
                        <a:pt x="156" y="126"/>
                      </a:lnTo>
                      <a:lnTo>
                        <a:pt x="161" y="156"/>
                      </a:lnTo>
                      <a:lnTo>
                        <a:pt x="161" y="185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8" y="179"/>
                      </a:lnTo>
                      <a:lnTo>
                        <a:pt x="132" y="191"/>
                      </a:lnTo>
                      <a:lnTo>
                        <a:pt x="126" y="191"/>
                      </a:lnTo>
                      <a:lnTo>
                        <a:pt x="84" y="185"/>
                      </a:lnTo>
                      <a:lnTo>
                        <a:pt x="78" y="179"/>
                      </a:lnTo>
                      <a:lnTo>
                        <a:pt x="72" y="162"/>
                      </a:lnTo>
                      <a:lnTo>
                        <a:pt x="66" y="156"/>
                      </a:lnTo>
                      <a:lnTo>
                        <a:pt x="60" y="150"/>
                      </a:lnTo>
                      <a:lnTo>
                        <a:pt x="54" y="132"/>
                      </a:lnTo>
                      <a:lnTo>
                        <a:pt x="48" y="126"/>
                      </a:lnTo>
                      <a:lnTo>
                        <a:pt x="30" y="90"/>
                      </a:lnTo>
                      <a:lnTo>
                        <a:pt x="30" y="78"/>
                      </a:lnTo>
                      <a:lnTo>
                        <a:pt x="18" y="72"/>
                      </a:lnTo>
                      <a:lnTo>
                        <a:pt x="0" y="36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92"/>
                <p:cNvSpPr/>
                <p:nvPr/>
              </p:nvSpPr>
              <p:spPr>
                <a:xfrm>
                  <a:off x="6577560" y="4912200"/>
                  <a:ext cx="185040" cy="1623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185" h="167">
                      <a:moveTo>
                        <a:pt x="0" y="12"/>
                      </a:moveTo>
                      <a:lnTo>
                        <a:pt x="18" y="0"/>
                      </a:lnTo>
                      <a:lnTo>
                        <a:pt x="30" y="6"/>
                      </a:lnTo>
                      <a:lnTo>
                        <a:pt x="54" y="18"/>
                      </a:lnTo>
                      <a:lnTo>
                        <a:pt x="72" y="36"/>
                      </a:lnTo>
                      <a:lnTo>
                        <a:pt x="78" y="42"/>
                      </a:lnTo>
                      <a:lnTo>
                        <a:pt x="78" y="54"/>
                      </a:lnTo>
                      <a:lnTo>
                        <a:pt x="90" y="54"/>
                      </a:lnTo>
                      <a:lnTo>
                        <a:pt x="107" y="66"/>
                      </a:lnTo>
                      <a:lnTo>
                        <a:pt x="107" y="78"/>
                      </a:lnTo>
                      <a:lnTo>
                        <a:pt x="119" y="84"/>
                      </a:lnTo>
                      <a:lnTo>
                        <a:pt x="131" y="102"/>
                      </a:lnTo>
                      <a:lnTo>
                        <a:pt x="149" y="102"/>
                      </a:lnTo>
                      <a:lnTo>
                        <a:pt x="161" y="108"/>
                      </a:lnTo>
                      <a:lnTo>
                        <a:pt x="167" y="114"/>
                      </a:lnTo>
                      <a:lnTo>
                        <a:pt x="173" y="132"/>
                      </a:lnTo>
                      <a:lnTo>
                        <a:pt x="179" y="132"/>
                      </a:lnTo>
                      <a:lnTo>
                        <a:pt x="185" y="144"/>
                      </a:lnTo>
                      <a:lnTo>
                        <a:pt x="185" y="156"/>
                      </a:lnTo>
                      <a:lnTo>
                        <a:pt x="173" y="167"/>
                      </a:lnTo>
                      <a:lnTo>
                        <a:pt x="161" y="167"/>
                      </a:lnTo>
                      <a:lnTo>
                        <a:pt x="125" y="162"/>
                      </a:lnTo>
                      <a:lnTo>
                        <a:pt x="107" y="167"/>
                      </a:lnTo>
                      <a:lnTo>
                        <a:pt x="96" y="156"/>
                      </a:lnTo>
                      <a:lnTo>
                        <a:pt x="84" y="156"/>
                      </a:lnTo>
                      <a:lnTo>
                        <a:pt x="72" y="167"/>
                      </a:lnTo>
                      <a:lnTo>
                        <a:pt x="48" y="156"/>
                      </a:lnTo>
                      <a:lnTo>
                        <a:pt x="36" y="138"/>
                      </a:lnTo>
                      <a:lnTo>
                        <a:pt x="30" y="120"/>
                      </a:lnTo>
                      <a:lnTo>
                        <a:pt x="30" y="96"/>
                      </a:lnTo>
                      <a:lnTo>
                        <a:pt x="30" y="78"/>
                      </a:lnTo>
                      <a:lnTo>
                        <a:pt x="24" y="36"/>
                      </a:lnTo>
                      <a:lnTo>
                        <a:pt x="24" y="3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93"/>
                <p:cNvSpPr/>
                <p:nvPr/>
              </p:nvSpPr>
              <p:spPr>
                <a:xfrm>
                  <a:off x="6356520" y="4935600"/>
                  <a:ext cx="113760" cy="14472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114" h="149">
                      <a:moveTo>
                        <a:pt x="84" y="6"/>
                      </a:move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108" y="36"/>
                      </a:lnTo>
                      <a:lnTo>
                        <a:pt x="108" y="54"/>
                      </a:lnTo>
                      <a:lnTo>
                        <a:pt x="114" y="78"/>
                      </a:lnTo>
                      <a:lnTo>
                        <a:pt x="108" y="72"/>
                      </a:lnTo>
                      <a:lnTo>
                        <a:pt x="102" y="72"/>
                      </a:lnTo>
                      <a:lnTo>
                        <a:pt x="102" y="84"/>
                      </a:lnTo>
                      <a:lnTo>
                        <a:pt x="96" y="90"/>
                      </a:lnTo>
                      <a:lnTo>
                        <a:pt x="84" y="114"/>
                      </a:lnTo>
                      <a:lnTo>
                        <a:pt x="60" y="138"/>
                      </a:lnTo>
                      <a:lnTo>
                        <a:pt x="42" y="149"/>
                      </a:lnTo>
                      <a:lnTo>
                        <a:pt x="36" y="149"/>
                      </a:lnTo>
                      <a:lnTo>
                        <a:pt x="24" y="143"/>
                      </a:lnTo>
                      <a:lnTo>
                        <a:pt x="18" y="138"/>
                      </a:lnTo>
                      <a:lnTo>
                        <a:pt x="12" y="138"/>
                      </a:lnTo>
                      <a:lnTo>
                        <a:pt x="12" y="132"/>
                      </a:lnTo>
                      <a:lnTo>
                        <a:pt x="0" y="132"/>
                      </a:lnTo>
                      <a:lnTo>
                        <a:pt x="18" y="108"/>
                      </a:lnTo>
                      <a:lnTo>
                        <a:pt x="42" y="84"/>
                      </a:lnTo>
                      <a:lnTo>
                        <a:pt x="48" y="66"/>
                      </a:lnTo>
                      <a:lnTo>
                        <a:pt x="60" y="60"/>
                      </a:lnTo>
                      <a:lnTo>
                        <a:pt x="72" y="48"/>
                      </a:lnTo>
                      <a:lnTo>
                        <a:pt x="78" y="18"/>
                      </a:lnTo>
                      <a:lnTo>
                        <a:pt x="84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94"/>
                <p:cNvSpPr/>
                <p:nvPr/>
              </p:nvSpPr>
              <p:spPr>
                <a:xfrm>
                  <a:off x="6446520" y="4935600"/>
                  <a:ext cx="118800" cy="14472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119" h="149">
                      <a:moveTo>
                        <a:pt x="0" y="0"/>
                      </a:moveTo>
                      <a:lnTo>
                        <a:pt x="24" y="0"/>
                      </a:lnTo>
                      <a:lnTo>
                        <a:pt x="36" y="6"/>
                      </a:lnTo>
                      <a:lnTo>
                        <a:pt x="54" y="0"/>
                      </a:lnTo>
                      <a:lnTo>
                        <a:pt x="65" y="6"/>
                      </a:lnTo>
                      <a:lnTo>
                        <a:pt x="71" y="18"/>
                      </a:lnTo>
                      <a:lnTo>
                        <a:pt x="77" y="60"/>
                      </a:lnTo>
                      <a:lnTo>
                        <a:pt x="77" y="72"/>
                      </a:lnTo>
                      <a:lnTo>
                        <a:pt x="89" y="84"/>
                      </a:lnTo>
                      <a:lnTo>
                        <a:pt x="119" y="126"/>
                      </a:lnTo>
                      <a:lnTo>
                        <a:pt x="119" y="132"/>
                      </a:lnTo>
                      <a:lnTo>
                        <a:pt x="119" y="138"/>
                      </a:lnTo>
                      <a:lnTo>
                        <a:pt x="119" y="149"/>
                      </a:lnTo>
                      <a:lnTo>
                        <a:pt x="95" y="138"/>
                      </a:lnTo>
                      <a:lnTo>
                        <a:pt x="89" y="138"/>
                      </a:lnTo>
                      <a:lnTo>
                        <a:pt x="42" y="102"/>
                      </a:lnTo>
                      <a:lnTo>
                        <a:pt x="30" y="84"/>
                      </a:lnTo>
                      <a:lnTo>
                        <a:pt x="24" y="78"/>
                      </a:lnTo>
                      <a:lnTo>
                        <a:pt x="18" y="54"/>
                      </a:lnTo>
                      <a:lnTo>
                        <a:pt x="18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95"/>
                <p:cNvSpPr/>
                <p:nvPr/>
              </p:nvSpPr>
              <p:spPr>
                <a:xfrm>
                  <a:off x="5581440" y="4952880"/>
                  <a:ext cx="172800" cy="25560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w="173" h="263">
                      <a:moveTo>
                        <a:pt x="89" y="12"/>
                      </a:moveTo>
                      <a:lnTo>
                        <a:pt x="113" y="0"/>
                      </a:lnTo>
                      <a:lnTo>
                        <a:pt x="131" y="6"/>
                      </a:lnTo>
                      <a:lnTo>
                        <a:pt x="143" y="0"/>
                      </a:lnTo>
                      <a:lnTo>
                        <a:pt x="149" y="0"/>
                      </a:lnTo>
                      <a:lnTo>
                        <a:pt x="149" y="12"/>
                      </a:lnTo>
                      <a:lnTo>
                        <a:pt x="149" y="18"/>
                      </a:lnTo>
                      <a:lnTo>
                        <a:pt x="149" y="24"/>
                      </a:lnTo>
                      <a:lnTo>
                        <a:pt x="155" y="24"/>
                      </a:lnTo>
                      <a:lnTo>
                        <a:pt x="161" y="36"/>
                      </a:lnTo>
                      <a:lnTo>
                        <a:pt x="155" y="42"/>
                      </a:lnTo>
                      <a:lnTo>
                        <a:pt x="125" y="48"/>
                      </a:lnTo>
                      <a:lnTo>
                        <a:pt x="125" y="60"/>
                      </a:lnTo>
                      <a:lnTo>
                        <a:pt x="137" y="66"/>
                      </a:lnTo>
                      <a:lnTo>
                        <a:pt x="161" y="72"/>
                      </a:lnTo>
                      <a:lnTo>
                        <a:pt x="167" y="72"/>
                      </a:lnTo>
                      <a:lnTo>
                        <a:pt x="167" y="78"/>
                      </a:lnTo>
                      <a:lnTo>
                        <a:pt x="149" y="102"/>
                      </a:lnTo>
                      <a:lnTo>
                        <a:pt x="149" y="125"/>
                      </a:lnTo>
                      <a:lnTo>
                        <a:pt x="143" y="173"/>
                      </a:lnTo>
                      <a:lnTo>
                        <a:pt x="149" y="179"/>
                      </a:lnTo>
                      <a:lnTo>
                        <a:pt x="149" y="185"/>
                      </a:lnTo>
                      <a:lnTo>
                        <a:pt x="143" y="191"/>
                      </a:lnTo>
                      <a:lnTo>
                        <a:pt x="143" y="197"/>
                      </a:lnTo>
                      <a:lnTo>
                        <a:pt x="155" y="227"/>
                      </a:lnTo>
                      <a:lnTo>
                        <a:pt x="173" y="257"/>
                      </a:lnTo>
                      <a:lnTo>
                        <a:pt x="149" y="263"/>
                      </a:lnTo>
                      <a:lnTo>
                        <a:pt x="143" y="251"/>
                      </a:lnTo>
                      <a:lnTo>
                        <a:pt x="125" y="245"/>
                      </a:lnTo>
                      <a:lnTo>
                        <a:pt x="113" y="257"/>
                      </a:lnTo>
                      <a:lnTo>
                        <a:pt x="83" y="263"/>
                      </a:lnTo>
                      <a:lnTo>
                        <a:pt x="66" y="263"/>
                      </a:lnTo>
                      <a:lnTo>
                        <a:pt x="48" y="263"/>
                      </a:lnTo>
                      <a:lnTo>
                        <a:pt x="42" y="239"/>
                      </a:lnTo>
                      <a:lnTo>
                        <a:pt x="36" y="227"/>
                      </a:lnTo>
                      <a:lnTo>
                        <a:pt x="24" y="221"/>
                      </a:lnTo>
                      <a:lnTo>
                        <a:pt x="18" y="215"/>
                      </a:lnTo>
                      <a:lnTo>
                        <a:pt x="18" y="203"/>
                      </a:lnTo>
                      <a:lnTo>
                        <a:pt x="12" y="161"/>
                      </a:lnTo>
                      <a:lnTo>
                        <a:pt x="12" y="143"/>
                      </a:lnTo>
                      <a:lnTo>
                        <a:pt x="0" y="114"/>
                      </a:lnTo>
                      <a:lnTo>
                        <a:pt x="6" y="102"/>
                      </a:lnTo>
                      <a:lnTo>
                        <a:pt x="24" y="90"/>
                      </a:lnTo>
                      <a:lnTo>
                        <a:pt x="36" y="84"/>
                      </a:lnTo>
                      <a:lnTo>
                        <a:pt x="48" y="78"/>
                      </a:lnTo>
                      <a:lnTo>
                        <a:pt x="60" y="60"/>
                      </a:lnTo>
                      <a:lnTo>
                        <a:pt x="60" y="54"/>
                      </a:lnTo>
                      <a:lnTo>
                        <a:pt x="66" y="42"/>
                      </a:lnTo>
                      <a:lnTo>
                        <a:pt x="77" y="30"/>
                      </a:lnTo>
                      <a:lnTo>
                        <a:pt x="77" y="18"/>
                      </a:lnTo>
                      <a:lnTo>
                        <a:pt x="77" y="12"/>
                      </a:lnTo>
                      <a:lnTo>
                        <a:pt x="89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96"/>
                <p:cNvSpPr/>
                <p:nvPr/>
              </p:nvSpPr>
              <p:spPr>
                <a:xfrm>
                  <a:off x="6750360" y="4952880"/>
                  <a:ext cx="131040" cy="15624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131" h="161">
                      <a:moveTo>
                        <a:pt x="12" y="0"/>
                      </a:moveTo>
                      <a:lnTo>
                        <a:pt x="30" y="0"/>
                      </a:lnTo>
                      <a:lnTo>
                        <a:pt x="42" y="12"/>
                      </a:lnTo>
                      <a:lnTo>
                        <a:pt x="48" y="18"/>
                      </a:lnTo>
                      <a:lnTo>
                        <a:pt x="54" y="24"/>
                      </a:lnTo>
                      <a:lnTo>
                        <a:pt x="84" y="36"/>
                      </a:lnTo>
                      <a:lnTo>
                        <a:pt x="90" y="42"/>
                      </a:lnTo>
                      <a:lnTo>
                        <a:pt x="90" y="54"/>
                      </a:lnTo>
                      <a:lnTo>
                        <a:pt x="102" y="72"/>
                      </a:lnTo>
                      <a:lnTo>
                        <a:pt x="113" y="78"/>
                      </a:lnTo>
                      <a:lnTo>
                        <a:pt x="131" y="96"/>
                      </a:lnTo>
                      <a:lnTo>
                        <a:pt x="102" y="120"/>
                      </a:lnTo>
                      <a:lnTo>
                        <a:pt x="96" y="131"/>
                      </a:lnTo>
                      <a:lnTo>
                        <a:pt x="84" y="131"/>
                      </a:lnTo>
                      <a:lnTo>
                        <a:pt x="78" y="131"/>
                      </a:lnTo>
                      <a:lnTo>
                        <a:pt x="66" y="131"/>
                      </a:lnTo>
                      <a:lnTo>
                        <a:pt x="54" y="143"/>
                      </a:lnTo>
                      <a:lnTo>
                        <a:pt x="54" y="155"/>
                      </a:lnTo>
                      <a:lnTo>
                        <a:pt x="48" y="161"/>
                      </a:lnTo>
                      <a:lnTo>
                        <a:pt x="30" y="161"/>
                      </a:lnTo>
                      <a:lnTo>
                        <a:pt x="30" y="155"/>
                      </a:lnTo>
                      <a:lnTo>
                        <a:pt x="18" y="131"/>
                      </a:lnTo>
                      <a:lnTo>
                        <a:pt x="0" y="125"/>
                      </a:lnTo>
                      <a:lnTo>
                        <a:pt x="12" y="114"/>
                      </a:lnTo>
                      <a:lnTo>
                        <a:pt x="12" y="102"/>
                      </a:lnTo>
                      <a:lnTo>
                        <a:pt x="18" y="96"/>
                      </a:lnTo>
                      <a:lnTo>
                        <a:pt x="18" y="60"/>
                      </a:lnTo>
                      <a:lnTo>
                        <a:pt x="18" y="48"/>
                      </a:lnTo>
                      <a:lnTo>
                        <a:pt x="12" y="36"/>
                      </a:lnTo>
                      <a:lnTo>
                        <a:pt x="6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7"/>
                <p:cNvSpPr/>
                <p:nvPr/>
              </p:nvSpPr>
              <p:spPr>
                <a:xfrm>
                  <a:off x="5253480" y="4964760"/>
                  <a:ext cx="130680" cy="26712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267120"/>
                    <a:gd name="textAreaBottom" fmla="*/ 267480 h 267120"/>
                  </a:gdLst>
                  <a:ahLst/>
                  <a:rect l="textAreaLeft" t="textAreaTop" r="textAreaRight" b="textAreaBottom"/>
                  <a:pathLst>
                    <a:path w="131" h="275">
                      <a:moveTo>
                        <a:pt x="18" y="0"/>
                      </a:moveTo>
                      <a:lnTo>
                        <a:pt x="30" y="18"/>
                      </a:lnTo>
                      <a:lnTo>
                        <a:pt x="36" y="24"/>
                      </a:lnTo>
                      <a:lnTo>
                        <a:pt x="65" y="18"/>
                      </a:lnTo>
                      <a:lnTo>
                        <a:pt x="77" y="30"/>
                      </a:lnTo>
                      <a:lnTo>
                        <a:pt x="101" y="30"/>
                      </a:lnTo>
                      <a:lnTo>
                        <a:pt x="107" y="30"/>
                      </a:lnTo>
                      <a:lnTo>
                        <a:pt x="119" y="36"/>
                      </a:lnTo>
                      <a:lnTo>
                        <a:pt x="119" y="42"/>
                      </a:lnTo>
                      <a:lnTo>
                        <a:pt x="113" y="60"/>
                      </a:lnTo>
                      <a:lnTo>
                        <a:pt x="95" y="72"/>
                      </a:lnTo>
                      <a:lnTo>
                        <a:pt x="83" y="84"/>
                      </a:lnTo>
                      <a:lnTo>
                        <a:pt x="77" y="90"/>
                      </a:lnTo>
                      <a:lnTo>
                        <a:pt x="77" y="96"/>
                      </a:lnTo>
                      <a:lnTo>
                        <a:pt x="83" y="102"/>
                      </a:lnTo>
                      <a:lnTo>
                        <a:pt x="95" y="102"/>
                      </a:lnTo>
                      <a:lnTo>
                        <a:pt x="119" y="102"/>
                      </a:lnTo>
                      <a:lnTo>
                        <a:pt x="113" y="119"/>
                      </a:lnTo>
                      <a:lnTo>
                        <a:pt x="119" y="137"/>
                      </a:lnTo>
                      <a:lnTo>
                        <a:pt x="107" y="137"/>
                      </a:lnTo>
                      <a:lnTo>
                        <a:pt x="125" y="155"/>
                      </a:lnTo>
                      <a:lnTo>
                        <a:pt x="131" y="167"/>
                      </a:lnTo>
                      <a:lnTo>
                        <a:pt x="131" y="179"/>
                      </a:lnTo>
                      <a:lnTo>
                        <a:pt x="107" y="191"/>
                      </a:lnTo>
                      <a:lnTo>
                        <a:pt x="95" y="191"/>
                      </a:lnTo>
                      <a:lnTo>
                        <a:pt x="95" y="203"/>
                      </a:lnTo>
                      <a:lnTo>
                        <a:pt x="89" y="221"/>
                      </a:lnTo>
                      <a:lnTo>
                        <a:pt x="77" y="221"/>
                      </a:lnTo>
                      <a:lnTo>
                        <a:pt x="59" y="221"/>
                      </a:lnTo>
                      <a:lnTo>
                        <a:pt x="42" y="233"/>
                      </a:lnTo>
                      <a:lnTo>
                        <a:pt x="42" y="239"/>
                      </a:lnTo>
                      <a:lnTo>
                        <a:pt x="48" y="251"/>
                      </a:lnTo>
                      <a:lnTo>
                        <a:pt x="48" y="257"/>
                      </a:lnTo>
                      <a:lnTo>
                        <a:pt x="36" y="263"/>
                      </a:lnTo>
                      <a:lnTo>
                        <a:pt x="30" y="269"/>
                      </a:lnTo>
                      <a:lnTo>
                        <a:pt x="24" y="269"/>
                      </a:lnTo>
                      <a:lnTo>
                        <a:pt x="12" y="275"/>
                      </a:lnTo>
                      <a:lnTo>
                        <a:pt x="6" y="269"/>
                      </a:lnTo>
                      <a:lnTo>
                        <a:pt x="6" y="263"/>
                      </a:lnTo>
                      <a:lnTo>
                        <a:pt x="0" y="245"/>
                      </a:lnTo>
                      <a:lnTo>
                        <a:pt x="12" y="245"/>
                      </a:lnTo>
                      <a:lnTo>
                        <a:pt x="12" y="239"/>
                      </a:lnTo>
                      <a:lnTo>
                        <a:pt x="18" y="233"/>
                      </a:lnTo>
                      <a:lnTo>
                        <a:pt x="18" y="227"/>
                      </a:lnTo>
                      <a:lnTo>
                        <a:pt x="12" y="209"/>
                      </a:lnTo>
                      <a:lnTo>
                        <a:pt x="18" y="191"/>
                      </a:lnTo>
                      <a:lnTo>
                        <a:pt x="18" y="185"/>
                      </a:lnTo>
                      <a:lnTo>
                        <a:pt x="18" y="167"/>
                      </a:lnTo>
                      <a:lnTo>
                        <a:pt x="18" y="155"/>
                      </a:lnTo>
                      <a:lnTo>
                        <a:pt x="18" y="149"/>
                      </a:lnTo>
                      <a:lnTo>
                        <a:pt x="12" y="113"/>
                      </a:lnTo>
                      <a:lnTo>
                        <a:pt x="18" y="90"/>
                      </a:lnTo>
                      <a:lnTo>
                        <a:pt x="12" y="66"/>
                      </a:lnTo>
                      <a:lnTo>
                        <a:pt x="12" y="54"/>
                      </a:lnTo>
                      <a:lnTo>
                        <a:pt x="18" y="30"/>
                      </a:lnTo>
                      <a:lnTo>
                        <a:pt x="18" y="12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98"/>
                <p:cNvSpPr/>
                <p:nvPr/>
              </p:nvSpPr>
              <p:spPr>
                <a:xfrm>
                  <a:off x="5080680" y="4964760"/>
                  <a:ext cx="166680" cy="20304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167" h="209">
                      <a:moveTo>
                        <a:pt x="65" y="197"/>
                      </a:moveTo>
                      <a:lnTo>
                        <a:pt x="53" y="191"/>
                      </a:lnTo>
                      <a:lnTo>
                        <a:pt x="42" y="191"/>
                      </a:lnTo>
                      <a:lnTo>
                        <a:pt x="36" y="185"/>
                      </a:lnTo>
                      <a:lnTo>
                        <a:pt x="30" y="161"/>
                      </a:lnTo>
                      <a:lnTo>
                        <a:pt x="18" y="143"/>
                      </a:lnTo>
                      <a:lnTo>
                        <a:pt x="12" y="108"/>
                      </a:lnTo>
                      <a:lnTo>
                        <a:pt x="6" y="90"/>
                      </a:lnTo>
                      <a:lnTo>
                        <a:pt x="0" y="30"/>
                      </a:lnTo>
                      <a:lnTo>
                        <a:pt x="6" y="12"/>
                      </a:lnTo>
                      <a:lnTo>
                        <a:pt x="12" y="0"/>
                      </a:lnTo>
                      <a:lnTo>
                        <a:pt x="24" y="6"/>
                      </a:lnTo>
                      <a:lnTo>
                        <a:pt x="36" y="6"/>
                      </a:lnTo>
                      <a:lnTo>
                        <a:pt x="42" y="12"/>
                      </a:lnTo>
                      <a:lnTo>
                        <a:pt x="53" y="24"/>
                      </a:lnTo>
                      <a:lnTo>
                        <a:pt x="59" y="42"/>
                      </a:lnTo>
                      <a:lnTo>
                        <a:pt x="71" y="66"/>
                      </a:lnTo>
                      <a:lnTo>
                        <a:pt x="77" y="78"/>
                      </a:lnTo>
                      <a:lnTo>
                        <a:pt x="89" y="78"/>
                      </a:lnTo>
                      <a:lnTo>
                        <a:pt x="95" y="90"/>
                      </a:lnTo>
                      <a:lnTo>
                        <a:pt x="107" y="113"/>
                      </a:lnTo>
                      <a:lnTo>
                        <a:pt x="113" y="119"/>
                      </a:lnTo>
                      <a:lnTo>
                        <a:pt x="113" y="125"/>
                      </a:lnTo>
                      <a:lnTo>
                        <a:pt x="119" y="131"/>
                      </a:lnTo>
                      <a:lnTo>
                        <a:pt x="125" y="143"/>
                      </a:lnTo>
                      <a:lnTo>
                        <a:pt x="167" y="179"/>
                      </a:lnTo>
                      <a:lnTo>
                        <a:pt x="155" y="197"/>
                      </a:lnTo>
                      <a:lnTo>
                        <a:pt x="137" y="209"/>
                      </a:lnTo>
                      <a:lnTo>
                        <a:pt x="137" y="203"/>
                      </a:lnTo>
                      <a:lnTo>
                        <a:pt x="125" y="197"/>
                      </a:lnTo>
                      <a:lnTo>
                        <a:pt x="107" y="197"/>
                      </a:lnTo>
                      <a:lnTo>
                        <a:pt x="89" y="185"/>
                      </a:lnTo>
                      <a:lnTo>
                        <a:pt x="89" y="191"/>
                      </a:lnTo>
                      <a:lnTo>
                        <a:pt x="65" y="197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99"/>
                <p:cNvSpPr/>
                <p:nvPr/>
              </p:nvSpPr>
              <p:spPr>
                <a:xfrm>
                  <a:off x="5330520" y="4999680"/>
                  <a:ext cx="311040" cy="97920"/>
                </a:xfrm>
                <a:custGeom>
                  <a:avLst/>
                  <a:gdLst>
                    <a:gd name="textAreaLeft" fmla="*/ 0 w 311040"/>
                    <a:gd name="textAreaRight" fmla="*/ 311400 w 3110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311" h="101">
                      <a:moveTo>
                        <a:pt x="114" y="30"/>
                      </a:moveTo>
                      <a:lnTo>
                        <a:pt x="132" y="24"/>
                      </a:lnTo>
                      <a:lnTo>
                        <a:pt x="155" y="42"/>
                      </a:lnTo>
                      <a:lnTo>
                        <a:pt x="167" y="48"/>
                      </a:lnTo>
                      <a:lnTo>
                        <a:pt x="173" y="42"/>
                      </a:lnTo>
                      <a:lnTo>
                        <a:pt x="179" y="36"/>
                      </a:lnTo>
                      <a:lnTo>
                        <a:pt x="215" y="12"/>
                      </a:lnTo>
                      <a:lnTo>
                        <a:pt x="227" y="0"/>
                      </a:lnTo>
                      <a:lnTo>
                        <a:pt x="233" y="0"/>
                      </a:lnTo>
                      <a:lnTo>
                        <a:pt x="263" y="12"/>
                      </a:lnTo>
                      <a:lnTo>
                        <a:pt x="269" y="12"/>
                      </a:lnTo>
                      <a:lnTo>
                        <a:pt x="275" y="6"/>
                      </a:lnTo>
                      <a:lnTo>
                        <a:pt x="311" y="6"/>
                      </a:lnTo>
                      <a:lnTo>
                        <a:pt x="311" y="12"/>
                      </a:lnTo>
                      <a:lnTo>
                        <a:pt x="299" y="30"/>
                      </a:lnTo>
                      <a:lnTo>
                        <a:pt x="287" y="36"/>
                      </a:lnTo>
                      <a:lnTo>
                        <a:pt x="275" y="42"/>
                      </a:lnTo>
                      <a:lnTo>
                        <a:pt x="257" y="54"/>
                      </a:lnTo>
                      <a:lnTo>
                        <a:pt x="251" y="66"/>
                      </a:lnTo>
                      <a:lnTo>
                        <a:pt x="239" y="60"/>
                      </a:lnTo>
                      <a:lnTo>
                        <a:pt x="227" y="60"/>
                      </a:lnTo>
                      <a:lnTo>
                        <a:pt x="209" y="72"/>
                      </a:lnTo>
                      <a:lnTo>
                        <a:pt x="191" y="101"/>
                      </a:lnTo>
                      <a:lnTo>
                        <a:pt x="179" y="95"/>
                      </a:lnTo>
                      <a:lnTo>
                        <a:pt x="155" y="77"/>
                      </a:lnTo>
                      <a:lnTo>
                        <a:pt x="149" y="77"/>
                      </a:lnTo>
                      <a:lnTo>
                        <a:pt x="138" y="89"/>
                      </a:lnTo>
                      <a:lnTo>
                        <a:pt x="126" y="101"/>
                      </a:lnTo>
                      <a:lnTo>
                        <a:pt x="108" y="95"/>
                      </a:lnTo>
                      <a:lnTo>
                        <a:pt x="96" y="89"/>
                      </a:lnTo>
                      <a:lnTo>
                        <a:pt x="72" y="77"/>
                      </a:lnTo>
                      <a:lnTo>
                        <a:pt x="48" y="72"/>
                      </a:lnTo>
                      <a:lnTo>
                        <a:pt x="42" y="66"/>
                      </a:lnTo>
                      <a:lnTo>
                        <a:pt x="18" y="66"/>
                      </a:lnTo>
                      <a:lnTo>
                        <a:pt x="6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30" y="54"/>
                      </a:lnTo>
                      <a:lnTo>
                        <a:pt x="72" y="42"/>
                      </a:lnTo>
                      <a:lnTo>
                        <a:pt x="108" y="30"/>
                      </a:lnTo>
                      <a:lnTo>
                        <a:pt x="114" y="3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0"/>
                <p:cNvSpPr/>
                <p:nvPr/>
              </p:nvSpPr>
              <p:spPr>
                <a:xfrm>
                  <a:off x="5724720" y="5005800"/>
                  <a:ext cx="268920" cy="21456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269" h="221">
                      <a:moveTo>
                        <a:pt x="6" y="131"/>
                      </a:moveTo>
                      <a:lnTo>
                        <a:pt x="18" y="125"/>
                      </a:lnTo>
                      <a:lnTo>
                        <a:pt x="24" y="125"/>
                      </a:lnTo>
                      <a:lnTo>
                        <a:pt x="24" y="107"/>
                      </a:lnTo>
                      <a:lnTo>
                        <a:pt x="30" y="83"/>
                      </a:lnTo>
                      <a:lnTo>
                        <a:pt x="42" y="71"/>
                      </a:lnTo>
                      <a:lnTo>
                        <a:pt x="54" y="60"/>
                      </a:lnTo>
                      <a:lnTo>
                        <a:pt x="84" y="60"/>
                      </a:lnTo>
                      <a:lnTo>
                        <a:pt x="84" y="54"/>
                      </a:lnTo>
                      <a:lnTo>
                        <a:pt x="90" y="42"/>
                      </a:lnTo>
                      <a:lnTo>
                        <a:pt x="101" y="36"/>
                      </a:lnTo>
                      <a:lnTo>
                        <a:pt x="101" y="24"/>
                      </a:lnTo>
                      <a:lnTo>
                        <a:pt x="107" y="18"/>
                      </a:lnTo>
                      <a:lnTo>
                        <a:pt x="113" y="0"/>
                      </a:lnTo>
                      <a:lnTo>
                        <a:pt x="119" y="0"/>
                      </a:lnTo>
                      <a:lnTo>
                        <a:pt x="149" y="6"/>
                      </a:lnTo>
                      <a:lnTo>
                        <a:pt x="155" y="12"/>
                      </a:lnTo>
                      <a:lnTo>
                        <a:pt x="173" y="6"/>
                      </a:lnTo>
                      <a:lnTo>
                        <a:pt x="185" y="18"/>
                      </a:lnTo>
                      <a:lnTo>
                        <a:pt x="197" y="66"/>
                      </a:lnTo>
                      <a:lnTo>
                        <a:pt x="203" y="83"/>
                      </a:lnTo>
                      <a:lnTo>
                        <a:pt x="203" y="89"/>
                      </a:lnTo>
                      <a:lnTo>
                        <a:pt x="215" y="89"/>
                      </a:lnTo>
                      <a:lnTo>
                        <a:pt x="233" y="83"/>
                      </a:lnTo>
                      <a:lnTo>
                        <a:pt x="239" y="89"/>
                      </a:lnTo>
                      <a:lnTo>
                        <a:pt x="245" y="113"/>
                      </a:lnTo>
                      <a:lnTo>
                        <a:pt x="263" y="155"/>
                      </a:lnTo>
                      <a:lnTo>
                        <a:pt x="269" y="167"/>
                      </a:lnTo>
                      <a:lnTo>
                        <a:pt x="263" y="179"/>
                      </a:lnTo>
                      <a:lnTo>
                        <a:pt x="263" y="197"/>
                      </a:lnTo>
                      <a:lnTo>
                        <a:pt x="257" y="221"/>
                      </a:lnTo>
                      <a:lnTo>
                        <a:pt x="245" y="197"/>
                      </a:lnTo>
                      <a:lnTo>
                        <a:pt x="245" y="179"/>
                      </a:lnTo>
                      <a:lnTo>
                        <a:pt x="227" y="125"/>
                      </a:lnTo>
                      <a:lnTo>
                        <a:pt x="221" y="119"/>
                      </a:lnTo>
                      <a:lnTo>
                        <a:pt x="209" y="113"/>
                      </a:lnTo>
                      <a:lnTo>
                        <a:pt x="209" y="119"/>
                      </a:lnTo>
                      <a:lnTo>
                        <a:pt x="173" y="137"/>
                      </a:lnTo>
                      <a:lnTo>
                        <a:pt x="149" y="161"/>
                      </a:lnTo>
                      <a:lnTo>
                        <a:pt x="131" y="167"/>
                      </a:lnTo>
                      <a:lnTo>
                        <a:pt x="101" y="155"/>
                      </a:lnTo>
                      <a:lnTo>
                        <a:pt x="60" y="149"/>
                      </a:lnTo>
                      <a:lnTo>
                        <a:pt x="30" y="155"/>
                      </a:lnTo>
                      <a:lnTo>
                        <a:pt x="24" y="161"/>
                      </a:lnTo>
                      <a:lnTo>
                        <a:pt x="42" y="203"/>
                      </a:lnTo>
                      <a:lnTo>
                        <a:pt x="30" y="203"/>
                      </a:lnTo>
                      <a:lnTo>
                        <a:pt x="12" y="173"/>
                      </a:lnTo>
                      <a:lnTo>
                        <a:pt x="0" y="143"/>
                      </a:lnTo>
                      <a:lnTo>
                        <a:pt x="0" y="137"/>
                      </a:lnTo>
                      <a:lnTo>
                        <a:pt x="6" y="131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1"/>
                <p:cNvSpPr/>
                <p:nvPr/>
              </p:nvSpPr>
              <p:spPr>
                <a:xfrm>
                  <a:off x="6452640" y="5005800"/>
                  <a:ext cx="309960" cy="242640"/>
                </a:xfrm>
                <a:custGeom>
                  <a:avLst/>
                  <a:gdLst>
                    <a:gd name="textAreaLeft" fmla="*/ 0 w 309960"/>
                    <a:gd name="textAreaRight" fmla="*/ 310320 w 30996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310" h="250">
                      <a:moveTo>
                        <a:pt x="6" y="12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24" y="12"/>
                      </a:lnTo>
                      <a:lnTo>
                        <a:pt x="36" y="30"/>
                      </a:lnTo>
                      <a:lnTo>
                        <a:pt x="83" y="66"/>
                      </a:lnTo>
                      <a:lnTo>
                        <a:pt x="89" y="66"/>
                      </a:lnTo>
                      <a:lnTo>
                        <a:pt x="113" y="77"/>
                      </a:lnTo>
                      <a:lnTo>
                        <a:pt x="125" y="107"/>
                      </a:lnTo>
                      <a:lnTo>
                        <a:pt x="149" y="119"/>
                      </a:lnTo>
                      <a:lnTo>
                        <a:pt x="185" y="143"/>
                      </a:lnTo>
                      <a:lnTo>
                        <a:pt x="191" y="149"/>
                      </a:lnTo>
                      <a:lnTo>
                        <a:pt x="215" y="149"/>
                      </a:lnTo>
                      <a:lnTo>
                        <a:pt x="221" y="149"/>
                      </a:lnTo>
                      <a:lnTo>
                        <a:pt x="232" y="143"/>
                      </a:lnTo>
                      <a:lnTo>
                        <a:pt x="262" y="149"/>
                      </a:lnTo>
                      <a:lnTo>
                        <a:pt x="268" y="143"/>
                      </a:lnTo>
                      <a:lnTo>
                        <a:pt x="280" y="155"/>
                      </a:lnTo>
                      <a:lnTo>
                        <a:pt x="286" y="155"/>
                      </a:lnTo>
                      <a:lnTo>
                        <a:pt x="298" y="155"/>
                      </a:lnTo>
                      <a:lnTo>
                        <a:pt x="310" y="155"/>
                      </a:lnTo>
                      <a:lnTo>
                        <a:pt x="304" y="167"/>
                      </a:lnTo>
                      <a:lnTo>
                        <a:pt x="298" y="179"/>
                      </a:lnTo>
                      <a:lnTo>
                        <a:pt x="298" y="185"/>
                      </a:lnTo>
                      <a:lnTo>
                        <a:pt x="292" y="191"/>
                      </a:lnTo>
                      <a:lnTo>
                        <a:pt x="268" y="209"/>
                      </a:lnTo>
                      <a:lnTo>
                        <a:pt x="268" y="221"/>
                      </a:lnTo>
                      <a:lnTo>
                        <a:pt x="268" y="233"/>
                      </a:lnTo>
                      <a:lnTo>
                        <a:pt x="268" y="245"/>
                      </a:lnTo>
                      <a:lnTo>
                        <a:pt x="250" y="250"/>
                      </a:lnTo>
                      <a:lnTo>
                        <a:pt x="244" y="245"/>
                      </a:lnTo>
                      <a:lnTo>
                        <a:pt x="227" y="221"/>
                      </a:lnTo>
                      <a:lnTo>
                        <a:pt x="221" y="221"/>
                      </a:lnTo>
                      <a:lnTo>
                        <a:pt x="215" y="215"/>
                      </a:lnTo>
                      <a:lnTo>
                        <a:pt x="203" y="215"/>
                      </a:lnTo>
                      <a:lnTo>
                        <a:pt x="197" y="215"/>
                      </a:lnTo>
                      <a:lnTo>
                        <a:pt x="197" y="209"/>
                      </a:lnTo>
                      <a:lnTo>
                        <a:pt x="191" y="209"/>
                      </a:lnTo>
                      <a:lnTo>
                        <a:pt x="191" y="203"/>
                      </a:lnTo>
                      <a:lnTo>
                        <a:pt x="161" y="203"/>
                      </a:lnTo>
                      <a:lnTo>
                        <a:pt x="131" y="197"/>
                      </a:lnTo>
                      <a:lnTo>
                        <a:pt x="125" y="191"/>
                      </a:lnTo>
                      <a:lnTo>
                        <a:pt x="113" y="179"/>
                      </a:lnTo>
                      <a:lnTo>
                        <a:pt x="101" y="179"/>
                      </a:lnTo>
                      <a:lnTo>
                        <a:pt x="107" y="173"/>
                      </a:lnTo>
                      <a:lnTo>
                        <a:pt x="89" y="155"/>
                      </a:lnTo>
                      <a:lnTo>
                        <a:pt x="83" y="149"/>
                      </a:lnTo>
                      <a:lnTo>
                        <a:pt x="71" y="149"/>
                      </a:lnTo>
                      <a:lnTo>
                        <a:pt x="59" y="137"/>
                      </a:lnTo>
                      <a:lnTo>
                        <a:pt x="42" y="125"/>
                      </a:lnTo>
                      <a:lnTo>
                        <a:pt x="24" y="131"/>
                      </a:lnTo>
                      <a:lnTo>
                        <a:pt x="6" y="119"/>
                      </a:lnTo>
                      <a:lnTo>
                        <a:pt x="0" y="101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6" y="71"/>
                      </a:lnTo>
                      <a:lnTo>
                        <a:pt x="12" y="54"/>
                      </a:lnTo>
                      <a:lnTo>
                        <a:pt x="12" y="30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2"/>
                <p:cNvSpPr/>
                <p:nvPr/>
              </p:nvSpPr>
              <p:spPr>
                <a:xfrm>
                  <a:off x="6356520" y="5017320"/>
                  <a:ext cx="202680" cy="231120"/>
                </a:xfrm>
                <a:custGeom>
                  <a:avLst/>
                  <a:gdLst>
                    <a:gd name="textAreaLeft" fmla="*/ 0 w 202680"/>
                    <a:gd name="textAreaRight" fmla="*/ 203040 w 20268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203" h="238">
                      <a:moveTo>
                        <a:pt x="0" y="48"/>
                      </a:moveTo>
                      <a:lnTo>
                        <a:pt x="12" y="48"/>
                      </a:lnTo>
                      <a:lnTo>
                        <a:pt x="12" y="54"/>
                      </a:lnTo>
                      <a:lnTo>
                        <a:pt x="18" y="54"/>
                      </a:lnTo>
                      <a:lnTo>
                        <a:pt x="24" y="59"/>
                      </a:lnTo>
                      <a:lnTo>
                        <a:pt x="36" y="65"/>
                      </a:lnTo>
                      <a:lnTo>
                        <a:pt x="42" y="65"/>
                      </a:lnTo>
                      <a:lnTo>
                        <a:pt x="60" y="54"/>
                      </a:lnTo>
                      <a:lnTo>
                        <a:pt x="84" y="30"/>
                      </a:lnTo>
                      <a:lnTo>
                        <a:pt x="96" y="6"/>
                      </a:lnTo>
                      <a:lnTo>
                        <a:pt x="102" y="0"/>
                      </a:lnTo>
                      <a:lnTo>
                        <a:pt x="108" y="18"/>
                      </a:lnTo>
                      <a:lnTo>
                        <a:pt x="108" y="42"/>
                      </a:lnTo>
                      <a:lnTo>
                        <a:pt x="102" y="59"/>
                      </a:lnTo>
                      <a:lnTo>
                        <a:pt x="96" y="71"/>
                      </a:lnTo>
                      <a:lnTo>
                        <a:pt x="96" y="77"/>
                      </a:lnTo>
                      <a:lnTo>
                        <a:pt x="96" y="89"/>
                      </a:lnTo>
                      <a:lnTo>
                        <a:pt x="102" y="107"/>
                      </a:lnTo>
                      <a:lnTo>
                        <a:pt x="120" y="119"/>
                      </a:lnTo>
                      <a:lnTo>
                        <a:pt x="138" y="113"/>
                      </a:lnTo>
                      <a:lnTo>
                        <a:pt x="155" y="125"/>
                      </a:lnTo>
                      <a:lnTo>
                        <a:pt x="167" y="137"/>
                      </a:lnTo>
                      <a:lnTo>
                        <a:pt x="179" y="137"/>
                      </a:lnTo>
                      <a:lnTo>
                        <a:pt x="185" y="143"/>
                      </a:lnTo>
                      <a:lnTo>
                        <a:pt x="203" y="161"/>
                      </a:lnTo>
                      <a:lnTo>
                        <a:pt x="197" y="167"/>
                      </a:lnTo>
                      <a:lnTo>
                        <a:pt x="161" y="173"/>
                      </a:lnTo>
                      <a:lnTo>
                        <a:pt x="150" y="185"/>
                      </a:lnTo>
                      <a:lnTo>
                        <a:pt x="126" y="197"/>
                      </a:lnTo>
                      <a:lnTo>
                        <a:pt x="114" y="203"/>
                      </a:lnTo>
                      <a:lnTo>
                        <a:pt x="120" y="221"/>
                      </a:lnTo>
                      <a:lnTo>
                        <a:pt x="108" y="238"/>
                      </a:lnTo>
                      <a:lnTo>
                        <a:pt x="96" y="233"/>
                      </a:lnTo>
                      <a:lnTo>
                        <a:pt x="84" y="238"/>
                      </a:lnTo>
                      <a:lnTo>
                        <a:pt x="66" y="227"/>
                      </a:lnTo>
                      <a:lnTo>
                        <a:pt x="60" y="221"/>
                      </a:lnTo>
                      <a:lnTo>
                        <a:pt x="54" y="197"/>
                      </a:lnTo>
                      <a:lnTo>
                        <a:pt x="48" y="185"/>
                      </a:lnTo>
                      <a:lnTo>
                        <a:pt x="54" y="173"/>
                      </a:lnTo>
                      <a:lnTo>
                        <a:pt x="54" y="161"/>
                      </a:lnTo>
                      <a:lnTo>
                        <a:pt x="42" y="137"/>
                      </a:lnTo>
                      <a:lnTo>
                        <a:pt x="36" y="125"/>
                      </a:lnTo>
                      <a:lnTo>
                        <a:pt x="30" y="113"/>
                      </a:lnTo>
                      <a:lnTo>
                        <a:pt x="12" y="83"/>
                      </a:lnTo>
                      <a:lnTo>
                        <a:pt x="0" y="5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3"/>
                <p:cNvSpPr/>
                <p:nvPr/>
              </p:nvSpPr>
              <p:spPr>
                <a:xfrm>
                  <a:off x="6565320" y="5046480"/>
                  <a:ext cx="214920" cy="10944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215" h="113">
                      <a:moveTo>
                        <a:pt x="0" y="18"/>
                      </a:moveTo>
                      <a:lnTo>
                        <a:pt x="24" y="18"/>
                      </a:lnTo>
                      <a:lnTo>
                        <a:pt x="30" y="18"/>
                      </a:lnTo>
                      <a:lnTo>
                        <a:pt x="42" y="12"/>
                      </a:lnTo>
                      <a:lnTo>
                        <a:pt x="48" y="0"/>
                      </a:lnTo>
                      <a:lnTo>
                        <a:pt x="60" y="18"/>
                      </a:lnTo>
                      <a:lnTo>
                        <a:pt x="84" y="29"/>
                      </a:lnTo>
                      <a:lnTo>
                        <a:pt x="96" y="18"/>
                      </a:lnTo>
                      <a:lnTo>
                        <a:pt x="108" y="18"/>
                      </a:lnTo>
                      <a:lnTo>
                        <a:pt x="119" y="29"/>
                      </a:lnTo>
                      <a:lnTo>
                        <a:pt x="137" y="24"/>
                      </a:lnTo>
                      <a:lnTo>
                        <a:pt x="173" y="29"/>
                      </a:lnTo>
                      <a:lnTo>
                        <a:pt x="185" y="29"/>
                      </a:lnTo>
                      <a:lnTo>
                        <a:pt x="203" y="35"/>
                      </a:lnTo>
                      <a:lnTo>
                        <a:pt x="215" y="59"/>
                      </a:lnTo>
                      <a:lnTo>
                        <a:pt x="215" y="65"/>
                      </a:lnTo>
                      <a:lnTo>
                        <a:pt x="209" y="77"/>
                      </a:lnTo>
                      <a:lnTo>
                        <a:pt x="209" y="89"/>
                      </a:lnTo>
                      <a:lnTo>
                        <a:pt x="197" y="101"/>
                      </a:lnTo>
                      <a:lnTo>
                        <a:pt x="197" y="113"/>
                      </a:lnTo>
                      <a:lnTo>
                        <a:pt x="185" y="113"/>
                      </a:lnTo>
                      <a:lnTo>
                        <a:pt x="173" y="113"/>
                      </a:lnTo>
                      <a:lnTo>
                        <a:pt x="167" y="113"/>
                      </a:lnTo>
                      <a:lnTo>
                        <a:pt x="155" y="101"/>
                      </a:lnTo>
                      <a:lnTo>
                        <a:pt x="149" y="107"/>
                      </a:lnTo>
                      <a:lnTo>
                        <a:pt x="119" y="101"/>
                      </a:lnTo>
                      <a:lnTo>
                        <a:pt x="108" y="107"/>
                      </a:lnTo>
                      <a:lnTo>
                        <a:pt x="102" y="107"/>
                      </a:lnTo>
                      <a:lnTo>
                        <a:pt x="78" y="107"/>
                      </a:lnTo>
                      <a:lnTo>
                        <a:pt x="72" y="101"/>
                      </a:lnTo>
                      <a:lnTo>
                        <a:pt x="36" y="77"/>
                      </a:lnTo>
                      <a:lnTo>
                        <a:pt x="12" y="65"/>
                      </a:lnTo>
                      <a:lnTo>
                        <a:pt x="0" y="35"/>
                      </a:lnTo>
                      <a:lnTo>
                        <a:pt x="0" y="24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4"/>
                <p:cNvSpPr/>
                <p:nvPr/>
              </p:nvSpPr>
              <p:spPr>
                <a:xfrm>
                  <a:off x="5402520" y="5058000"/>
                  <a:ext cx="226800" cy="16812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27" h="173">
                      <a:moveTo>
                        <a:pt x="54" y="41"/>
                      </a:moveTo>
                      <a:lnTo>
                        <a:pt x="66" y="29"/>
                      </a:lnTo>
                      <a:lnTo>
                        <a:pt x="77" y="17"/>
                      </a:lnTo>
                      <a:lnTo>
                        <a:pt x="83" y="17"/>
                      </a:lnTo>
                      <a:lnTo>
                        <a:pt x="107" y="35"/>
                      </a:lnTo>
                      <a:lnTo>
                        <a:pt x="119" y="41"/>
                      </a:lnTo>
                      <a:lnTo>
                        <a:pt x="137" y="12"/>
                      </a:lnTo>
                      <a:lnTo>
                        <a:pt x="155" y="0"/>
                      </a:lnTo>
                      <a:lnTo>
                        <a:pt x="167" y="0"/>
                      </a:lnTo>
                      <a:lnTo>
                        <a:pt x="179" y="6"/>
                      </a:lnTo>
                      <a:lnTo>
                        <a:pt x="191" y="35"/>
                      </a:lnTo>
                      <a:lnTo>
                        <a:pt x="191" y="53"/>
                      </a:lnTo>
                      <a:lnTo>
                        <a:pt x="197" y="95"/>
                      </a:lnTo>
                      <a:lnTo>
                        <a:pt x="197" y="107"/>
                      </a:lnTo>
                      <a:lnTo>
                        <a:pt x="203" y="113"/>
                      </a:lnTo>
                      <a:lnTo>
                        <a:pt x="215" y="119"/>
                      </a:lnTo>
                      <a:lnTo>
                        <a:pt x="221" y="131"/>
                      </a:lnTo>
                      <a:lnTo>
                        <a:pt x="227" y="155"/>
                      </a:lnTo>
                      <a:lnTo>
                        <a:pt x="197" y="167"/>
                      </a:lnTo>
                      <a:lnTo>
                        <a:pt x="179" y="167"/>
                      </a:lnTo>
                      <a:lnTo>
                        <a:pt x="173" y="167"/>
                      </a:lnTo>
                      <a:lnTo>
                        <a:pt x="161" y="167"/>
                      </a:lnTo>
                      <a:lnTo>
                        <a:pt x="149" y="167"/>
                      </a:lnTo>
                      <a:lnTo>
                        <a:pt x="143" y="167"/>
                      </a:lnTo>
                      <a:lnTo>
                        <a:pt x="95" y="173"/>
                      </a:lnTo>
                      <a:lnTo>
                        <a:pt x="83" y="173"/>
                      </a:lnTo>
                      <a:lnTo>
                        <a:pt x="66" y="155"/>
                      </a:lnTo>
                      <a:lnTo>
                        <a:pt x="18" y="131"/>
                      </a:lnTo>
                      <a:lnTo>
                        <a:pt x="0" y="137"/>
                      </a:lnTo>
                      <a:lnTo>
                        <a:pt x="6" y="119"/>
                      </a:lnTo>
                      <a:lnTo>
                        <a:pt x="18" y="119"/>
                      </a:lnTo>
                      <a:lnTo>
                        <a:pt x="30" y="95"/>
                      </a:lnTo>
                      <a:lnTo>
                        <a:pt x="36" y="65"/>
                      </a:lnTo>
                      <a:lnTo>
                        <a:pt x="48" y="59"/>
                      </a:lnTo>
                      <a:lnTo>
                        <a:pt x="54" y="41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5"/>
                <p:cNvSpPr/>
                <p:nvPr/>
              </p:nvSpPr>
              <p:spPr>
                <a:xfrm>
                  <a:off x="5277600" y="5063760"/>
                  <a:ext cx="178920" cy="225360"/>
                </a:xfrm>
                <a:custGeom>
                  <a:avLst/>
                  <a:gdLst>
                    <a:gd name="textAreaLeft" fmla="*/ 0 w 178920"/>
                    <a:gd name="textAreaRight" fmla="*/ 179280 w 17892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179" h="232">
                      <a:moveTo>
                        <a:pt x="95" y="0"/>
                      </a:moveTo>
                      <a:lnTo>
                        <a:pt x="101" y="6"/>
                      </a:lnTo>
                      <a:lnTo>
                        <a:pt x="125" y="11"/>
                      </a:lnTo>
                      <a:lnTo>
                        <a:pt x="149" y="23"/>
                      </a:lnTo>
                      <a:lnTo>
                        <a:pt x="161" y="29"/>
                      </a:lnTo>
                      <a:lnTo>
                        <a:pt x="179" y="35"/>
                      </a:lnTo>
                      <a:lnTo>
                        <a:pt x="173" y="53"/>
                      </a:lnTo>
                      <a:lnTo>
                        <a:pt x="161" y="59"/>
                      </a:lnTo>
                      <a:lnTo>
                        <a:pt x="155" y="89"/>
                      </a:lnTo>
                      <a:lnTo>
                        <a:pt x="143" y="113"/>
                      </a:lnTo>
                      <a:lnTo>
                        <a:pt x="131" y="113"/>
                      </a:lnTo>
                      <a:lnTo>
                        <a:pt x="125" y="131"/>
                      </a:lnTo>
                      <a:lnTo>
                        <a:pt x="125" y="137"/>
                      </a:lnTo>
                      <a:lnTo>
                        <a:pt x="125" y="155"/>
                      </a:lnTo>
                      <a:lnTo>
                        <a:pt x="131" y="167"/>
                      </a:lnTo>
                      <a:lnTo>
                        <a:pt x="101" y="214"/>
                      </a:lnTo>
                      <a:lnTo>
                        <a:pt x="95" y="220"/>
                      </a:lnTo>
                      <a:lnTo>
                        <a:pt x="95" y="232"/>
                      </a:lnTo>
                      <a:lnTo>
                        <a:pt x="77" y="226"/>
                      </a:lnTo>
                      <a:lnTo>
                        <a:pt x="53" y="220"/>
                      </a:lnTo>
                      <a:lnTo>
                        <a:pt x="35" y="208"/>
                      </a:lnTo>
                      <a:lnTo>
                        <a:pt x="35" y="202"/>
                      </a:lnTo>
                      <a:lnTo>
                        <a:pt x="24" y="196"/>
                      </a:lnTo>
                      <a:lnTo>
                        <a:pt x="6" y="173"/>
                      </a:lnTo>
                      <a:lnTo>
                        <a:pt x="0" y="167"/>
                      </a:lnTo>
                      <a:lnTo>
                        <a:pt x="6" y="167"/>
                      </a:lnTo>
                      <a:lnTo>
                        <a:pt x="12" y="161"/>
                      </a:lnTo>
                      <a:lnTo>
                        <a:pt x="24" y="155"/>
                      </a:lnTo>
                      <a:lnTo>
                        <a:pt x="24" y="149"/>
                      </a:lnTo>
                      <a:lnTo>
                        <a:pt x="18" y="137"/>
                      </a:lnTo>
                      <a:lnTo>
                        <a:pt x="18" y="131"/>
                      </a:lnTo>
                      <a:lnTo>
                        <a:pt x="35" y="119"/>
                      </a:lnTo>
                      <a:lnTo>
                        <a:pt x="53" y="119"/>
                      </a:lnTo>
                      <a:lnTo>
                        <a:pt x="65" y="119"/>
                      </a:lnTo>
                      <a:lnTo>
                        <a:pt x="71" y="101"/>
                      </a:lnTo>
                      <a:lnTo>
                        <a:pt x="71" y="89"/>
                      </a:lnTo>
                      <a:lnTo>
                        <a:pt x="83" y="89"/>
                      </a:lnTo>
                      <a:lnTo>
                        <a:pt x="107" y="77"/>
                      </a:lnTo>
                      <a:lnTo>
                        <a:pt x="107" y="65"/>
                      </a:lnTo>
                      <a:lnTo>
                        <a:pt x="101" y="53"/>
                      </a:lnTo>
                      <a:lnTo>
                        <a:pt x="83" y="35"/>
                      </a:lnTo>
                      <a:lnTo>
                        <a:pt x="95" y="35"/>
                      </a:lnTo>
                      <a:lnTo>
                        <a:pt x="89" y="17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6"/>
                <p:cNvSpPr/>
                <p:nvPr/>
              </p:nvSpPr>
              <p:spPr>
                <a:xfrm>
                  <a:off x="6720480" y="5074560"/>
                  <a:ext cx="262800" cy="19116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191160"/>
                    <a:gd name="textAreaBottom" fmla="*/ 191520 h 191160"/>
                  </a:gdLst>
                  <a:ahLst/>
                  <a:rect l="textAreaLeft" t="textAreaTop" r="textAreaRight" b="textAreaBottom"/>
                  <a:pathLst>
                    <a:path w="263" h="197">
                      <a:moveTo>
                        <a:pt x="126" y="6"/>
                      </a:moveTo>
                      <a:lnTo>
                        <a:pt x="132" y="18"/>
                      </a:lnTo>
                      <a:lnTo>
                        <a:pt x="137" y="24"/>
                      </a:lnTo>
                      <a:lnTo>
                        <a:pt x="161" y="18"/>
                      </a:lnTo>
                      <a:lnTo>
                        <a:pt x="173" y="12"/>
                      </a:lnTo>
                      <a:lnTo>
                        <a:pt x="185" y="6"/>
                      </a:lnTo>
                      <a:lnTo>
                        <a:pt x="215" y="0"/>
                      </a:lnTo>
                      <a:lnTo>
                        <a:pt x="221" y="0"/>
                      </a:lnTo>
                      <a:lnTo>
                        <a:pt x="227" y="6"/>
                      </a:lnTo>
                      <a:lnTo>
                        <a:pt x="233" y="18"/>
                      </a:lnTo>
                      <a:lnTo>
                        <a:pt x="215" y="24"/>
                      </a:lnTo>
                      <a:lnTo>
                        <a:pt x="209" y="30"/>
                      </a:lnTo>
                      <a:lnTo>
                        <a:pt x="221" y="48"/>
                      </a:lnTo>
                      <a:lnTo>
                        <a:pt x="221" y="54"/>
                      </a:lnTo>
                      <a:lnTo>
                        <a:pt x="215" y="78"/>
                      </a:lnTo>
                      <a:lnTo>
                        <a:pt x="227" y="78"/>
                      </a:lnTo>
                      <a:lnTo>
                        <a:pt x="245" y="60"/>
                      </a:lnTo>
                      <a:lnTo>
                        <a:pt x="257" y="54"/>
                      </a:lnTo>
                      <a:lnTo>
                        <a:pt x="263" y="54"/>
                      </a:lnTo>
                      <a:lnTo>
                        <a:pt x="263" y="60"/>
                      </a:lnTo>
                      <a:lnTo>
                        <a:pt x="233" y="90"/>
                      </a:lnTo>
                      <a:lnTo>
                        <a:pt x="227" y="96"/>
                      </a:lnTo>
                      <a:lnTo>
                        <a:pt x="221" y="102"/>
                      </a:lnTo>
                      <a:lnTo>
                        <a:pt x="191" y="120"/>
                      </a:lnTo>
                      <a:lnTo>
                        <a:pt x="173" y="132"/>
                      </a:lnTo>
                      <a:lnTo>
                        <a:pt x="173" y="144"/>
                      </a:lnTo>
                      <a:lnTo>
                        <a:pt x="161" y="150"/>
                      </a:lnTo>
                      <a:lnTo>
                        <a:pt x="143" y="168"/>
                      </a:lnTo>
                      <a:lnTo>
                        <a:pt x="120" y="174"/>
                      </a:lnTo>
                      <a:lnTo>
                        <a:pt x="108" y="185"/>
                      </a:lnTo>
                      <a:lnTo>
                        <a:pt x="96" y="185"/>
                      </a:lnTo>
                      <a:lnTo>
                        <a:pt x="90" y="185"/>
                      </a:lnTo>
                      <a:lnTo>
                        <a:pt x="78" y="185"/>
                      </a:lnTo>
                      <a:lnTo>
                        <a:pt x="72" y="185"/>
                      </a:lnTo>
                      <a:lnTo>
                        <a:pt x="72" y="191"/>
                      </a:lnTo>
                      <a:lnTo>
                        <a:pt x="60" y="197"/>
                      </a:lnTo>
                      <a:lnTo>
                        <a:pt x="60" y="185"/>
                      </a:lnTo>
                      <a:lnTo>
                        <a:pt x="48" y="185"/>
                      </a:lnTo>
                      <a:lnTo>
                        <a:pt x="36" y="185"/>
                      </a:lnTo>
                      <a:lnTo>
                        <a:pt x="36" y="174"/>
                      </a:lnTo>
                      <a:lnTo>
                        <a:pt x="24" y="174"/>
                      </a:lnTo>
                      <a:lnTo>
                        <a:pt x="24" y="162"/>
                      </a:lnTo>
                      <a:lnTo>
                        <a:pt x="24" y="156"/>
                      </a:lnTo>
                      <a:lnTo>
                        <a:pt x="6" y="168"/>
                      </a:lnTo>
                      <a:lnTo>
                        <a:pt x="0" y="162"/>
                      </a:lnTo>
                      <a:lnTo>
                        <a:pt x="0" y="150"/>
                      </a:lnTo>
                      <a:lnTo>
                        <a:pt x="0" y="138"/>
                      </a:lnTo>
                      <a:lnTo>
                        <a:pt x="24" y="120"/>
                      </a:lnTo>
                      <a:lnTo>
                        <a:pt x="30" y="114"/>
                      </a:lnTo>
                      <a:lnTo>
                        <a:pt x="30" y="108"/>
                      </a:lnTo>
                      <a:lnTo>
                        <a:pt x="36" y="96"/>
                      </a:lnTo>
                      <a:lnTo>
                        <a:pt x="42" y="84"/>
                      </a:lnTo>
                      <a:lnTo>
                        <a:pt x="42" y="72"/>
                      </a:lnTo>
                      <a:lnTo>
                        <a:pt x="54" y="60"/>
                      </a:lnTo>
                      <a:lnTo>
                        <a:pt x="54" y="48"/>
                      </a:lnTo>
                      <a:lnTo>
                        <a:pt x="60" y="36"/>
                      </a:lnTo>
                      <a:lnTo>
                        <a:pt x="78" y="36"/>
                      </a:lnTo>
                      <a:lnTo>
                        <a:pt x="84" y="30"/>
                      </a:lnTo>
                      <a:lnTo>
                        <a:pt x="84" y="18"/>
                      </a:lnTo>
                      <a:lnTo>
                        <a:pt x="96" y="6"/>
                      </a:lnTo>
                      <a:lnTo>
                        <a:pt x="108" y="6"/>
                      </a:lnTo>
                      <a:lnTo>
                        <a:pt x="114" y="6"/>
                      </a:lnTo>
                      <a:lnTo>
                        <a:pt x="126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7"/>
                <p:cNvSpPr/>
                <p:nvPr/>
              </p:nvSpPr>
              <p:spPr>
                <a:xfrm>
                  <a:off x="5748480" y="5115240"/>
                  <a:ext cx="238680" cy="156240"/>
                </a:xfrm>
                <a:custGeom>
                  <a:avLst/>
                  <a:gdLst>
                    <a:gd name="textAreaLeft" fmla="*/ 0 w 238680"/>
                    <a:gd name="textAreaRight" fmla="*/ 239040 w 23868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239" h="161">
                      <a:moveTo>
                        <a:pt x="18" y="90"/>
                      </a:moveTo>
                      <a:lnTo>
                        <a:pt x="0" y="48"/>
                      </a:lnTo>
                      <a:lnTo>
                        <a:pt x="6" y="42"/>
                      </a:lnTo>
                      <a:lnTo>
                        <a:pt x="36" y="36"/>
                      </a:lnTo>
                      <a:lnTo>
                        <a:pt x="77" y="42"/>
                      </a:lnTo>
                      <a:lnTo>
                        <a:pt x="107" y="54"/>
                      </a:lnTo>
                      <a:lnTo>
                        <a:pt x="125" y="48"/>
                      </a:lnTo>
                      <a:lnTo>
                        <a:pt x="149" y="24"/>
                      </a:lnTo>
                      <a:lnTo>
                        <a:pt x="185" y="6"/>
                      </a:lnTo>
                      <a:lnTo>
                        <a:pt x="185" y="0"/>
                      </a:lnTo>
                      <a:lnTo>
                        <a:pt x="197" y="6"/>
                      </a:lnTo>
                      <a:lnTo>
                        <a:pt x="203" y="12"/>
                      </a:lnTo>
                      <a:lnTo>
                        <a:pt x="221" y="66"/>
                      </a:lnTo>
                      <a:lnTo>
                        <a:pt x="221" y="84"/>
                      </a:lnTo>
                      <a:lnTo>
                        <a:pt x="233" y="108"/>
                      </a:lnTo>
                      <a:lnTo>
                        <a:pt x="233" y="120"/>
                      </a:lnTo>
                      <a:lnTo>
                        <a:pt x="227" y="126"/>
                      </a:lnTo>
                      <a:lnTo>
                        <a:pt x="239" y="137"/>
                      </a:lnTo>
                      <a:lnTo>
                        <a:pt x="215" y="155"/>
                      </a:lnTo>
                      <a:lnTo>
                        <a:pt x="197" y="155"/>
                      </a:lnTo>
                      <a:lnTo>
                        <a:pt x="173" y="149"/>
                      </a:lnTo>
                      <a:lnTo>
                        <a:pt x="167" y="149"/>
                      </a:lnTo>
                      <a:lnTo>
                        <a:pt x="155" y="161"/>
                      </a:lnTo>
                      <a:lnTo>
                        <a:pt x="149" y="161"/>
                      </a:lnTo>
                      <a:lnTo>
                        <a:pt x="137" y="155"/>
                      </a:lnTo>
                      <a:lnTo>
                        <a:pt x="131" y="149"/>
                      </a:lnTo>
                      <a:lnTo>
                        <a:pt x="107" y="161"/>
                      </a:lnTo>
                      <a:lnTo>
                        <a:pt x="89" y="155"/>
                      </a:lnTo>
                      <a:lnTo>
                        <a:pt x="77" y="161"/>
                      </a:lnTo>
                      <a:lnTo>
                        <a:pt x="66" y="155"/>
                      </a:lnTo>
                      <a:lnTo>
                        <a:pt x="60" y="132"/>
                      </a:lnTo>
                      <a:lnTo>
                        <a:pt x="48" y="120"/>
                      </a:lnTo>
                      <a:lnTo>
                        <a:pt x="30" y="102"/>
                      </a:lnTo>
                      <a:lnTo>
                        <a:pt x="18" y="9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8"/>
                <p:cNvSpPr/>
                <p:nvPr/>
              </p:nvSpPr>
              <p:spPr>
                <a:xfrm>
                  <a:off x="5068440" y="5144400"/>
                  <a:ext cx="190800" cy="17964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191" h="185">
                      <a:moveTo>
                        <a:pt x="77" y="12"/>
                      </a:moveTo>
                      <a:lnTo>
                        <a:pt x="101" y="6"/>
                      </a:lnTo>
                      <a:lnTo>
                        <a:pt x="101" y="0"/>
                      </a:lnTo>
                      <a:lnTo>
                        <a:pt x="119" y="12"/>
                      </a:lnTo>
                      <a:lnTo>
                        <a:pt x="137" y="12"/>
                      </a:lnTo>
                      <a:lnTo>
                        <a:pt x="149" y="18"/>
                      </a:lnTo>
                      <a:lnTo>
                        <a:pt x="149" y="24"/>
                      </a:lnTo>
                      <a:lnTo>
                        <a:pt x="149" y="30"/>
                      </a:lnTo>
                      <a:lnTo>
                        <a:pt x="155" y="36"/>
                      </a:lnTo>
                      <a:lnTo>
                        <a:pt x="179" y="42"/>
                      </a:lnTo>
                      <a:lnTo>
                        <a:pt x="185" y="48"/>
                      </a:lnTo>
                      <a:lnTo>
                        <a:pt x="185" y="60"/>
                      </a:lnTo>
                      <a:lnTo>
                        <a:pt x="191" y="78"/>
                      </a:lnTo>
                      <a:lnTo>
                        <a:pt x="191" y="84"/>
                      </a:lnTo>
                      <a:lnTo>
                        <a:pt x="185" y="96"/>
                      </a:lnTo>
                      <a:lnTo>
                        <a:pt x="179" y="107"/>
                      </a:lnTo>
                      <a:lnTo>
                        <a:pt x="179" y="131"/>
                      </a:lnTo>
                      <a:lnTo>
                        <a:pt x="191" y="143"/>
                      </a:lnTo>
                      <a:lnTo>
                        <a:pt x="191" y="149"/>
                      </a:lnTo>
                      <a:lnTo>
                        <a:pt x="191" y="155"/>
                      </a:lnTo>
                      <a:lnTo>
                        <a:pt x="185" y="161"/>
                      </a:lnTo>
                      <a:lnTo>
                        <a:pt x="167" y="161"/>
                      </a:lnTo>
                      <a:lnTo>
                        <a:pt x="161" y="149"/>
                      </a:lnTo>
                      <a:lnTo>
                        <a:pt x="137" y="149"/>
                      </a:lnTo>
                      <a:lnTo>
                        <a:pt x="125" y="143"/>
                      </a:lnTo>
                      <a:lnTo>
                        <a:pt x="119" y="149"/>
                      </a:lnTo>
                      <a:lnTo>
                        <a:pt x="107" y="155"/>
                      </a:lnTo>
                      <a:lnTo>
                        <a:pt x="95" y="155"/>
                      </a:lnTo>
                      <a:lnTo>
                        <a:pt x="77" y="161"/>
                      </a:lnTo>
                      <a:lnTo>
                        <a:pt x="42" y="185"/>
                      </a:lnTo>
                      <a:lnTo>
                        <a:pt x="42" y="173"/>
                      </a:lnTo>
                      <a:lnTo>
                        <a:pt x="12" y="173"/>
                      </a:lnTo>
                      <a:lnTo>
                        <a:pt x="0" y="173"/>
                      </a:lnTo>
                      <a:lnTo>
                        <a:pt x="12" y="167"/>
                      </a:lnTo>
                      <a:lnTo>
                        <a:pt x="12" y="149"/>
                      </a:lnTo>
                      <a:lnTo>
                        <a:pt x="30" y="131"/>
                      </a:lnTo>
                      <a:lnTo>
                        <a:pt x="48" y="119"/>
                      </a:lnTo>
                      <a:lnTo>
                        <a:pt x="54" y="96"/>
                      </a:lnTo>
                      <a:lnTo>
                        <a:pt x="54" y="66"/>
                      </a:lnTo>
                      <a:lnTo>
                        <a:pt x="60" y="54"/>
                      </a:lnTo>
                      <a:lnTo>
                        <a:pt x="71" y="42"/>
                      </a:lnTo>
                      <a:lnTo>
                        <a:pt x="83" y="30"/>
                      </a:lnTo>
                      <a:lnTo>
                        <a:pt x="83" y="24"/>
                      </a:lnTo>
                      <a:lnTo>
                        <a:pt x="77" y="24"/>
                      </a:lnTo>
                      <a:lnTo>
                        <a:pt x="77" y="1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09"/>
                <p:cNvSpPr/>
                <p:nvPr/>
              </p:nvSpPr>
              <p:spPr>
                <a:xfrm>
                  <a:off x="6231240" y="5150520"/>
                  <a:ext cx="250920" cy="20268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251" h="209">
                      <a:moveTo>
                        <a:pt x="96" y="6"/>
                      </a:moveTo>
                      <a:lnTo>
                        <a:pt x="119" y="12"/>
                      </a:lnTo>
                      <a:lnTo>
                        <a:pt x="131" y="12"/>
                      </a:lnTo>
                      <a:lnTo>
                        <a:pt x="149" y="24"/>
                      </a:lnTo>
                      <a:lnTo>
                        <a:pt x="155" y="30"/>
                      </a:lnTo>
                      <a:lnTo>
                        <a:pt x="161" y="36"/>
                      </a:lnTo>
                      <a:lnTo>
                        <a:pt x="173" y="48"/>
                      </a:lnTo>
                      <a:lnTo>
                        <a:pt x="179" y="60"/>
                      </a:lnTo>
                      <a:lnTo>
                        <a:pt x="185" y="84"/>
                      </a:lnTo>
                      <a:lnTo>
                        <a:pt x="191" y="90"/>
                      </a:lnTo>
                      <a:lnTo>
                        <a:pt x="209" y="101"/>
                      </a:lnTo>
                      <a:lnTo>
                        <a:pt x="221" y="96"/>
                      </a:lnTo>
                      <a:lnTo>
                        <a:pt x="233" y="101"/>
                      </a:lnTo>
                      <a:lnTo>
                        <a:pt x="233" y="107"/>
                      </a:lnTo>
                      <a:lnTo>
                        <a:pt x="239" y="107"/>
                      </a:lnTo>
                      <a:lnTo>
                        <a:pt x="251" y="125"/>
                      </a:lnTo>
                      <a:lnTo>
                        <a:pt x="245" y="131"/>
                      </a:lnTo>
                      <a:lnTo>
                        <a:pt x="239" y="131"/>
                      </a:lnTo>
                      <a:lnTo>
                        <a:pt x="233" y="137"/>
                      </a:lnTo>
                      <a:lnTo>
                        <a:pt x="233" y="143"/>
                      </a:lnTo>
                      <a:lnTo>
                        <a:pt x="215" y="149"/>
                      </a:lnTo>
                      <a:lnTo>
                        <a:pt x="173" y="179"/>
                      </a:lnTo>
                      <a:lnTo>
                        <a:pt x="119" y="209"/>
                      </a:lnTo>
                      <a:lnTo>
                        <a:pt x="143" y="185"/>
                      </a:lnTo>
                      <a:lnTo>
                        <a:pt x="143" y="179"/>
                      </a:lnTo>
                      <a:lnTo>
                        <a:pt x="137" y="173"/>
                      </a:lnTo>
                      <a:lnTo>
                        <a:pt x="131" y="155"/>
                      </a:lnTo>
                      <a:lnTo>
                        <a:pt x="125" y="149"/>
                      </a:lnTo>
                      <a:lnTo>
                        <a:pt x="119" y="137"/>
                      </a:lnTo>
                      <a:lnTo>
                        <a:pt x="96" y="119"/>
                      </a:lnTo>
                      <a:lnTo>
                        <a:pt x="84" y="107"/>
                      </a:lnTo>
                      <a:lnTo>
                        <a:pt x="84" y="101"/>
                      </a:lnTo>
                      <a:lnTo>
                        <a:pt x="72" y="72"/>
                      </a:lnTo>
                      <a:lnTo>
                        <a:pt x="54" y="48"/>
                      </a:lnTo>
                      <a:lnTo>
                        <a:pt x="36" y="36"/>
                      </a:lnTo>
                      <a:lnTo>
                        <a:pt x="24" y="30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18" y="48"/>
                      </a:lnTo>
                      <a:lnTo>
                        <a:pt x="6" y="42"/>
                      </a:lnTo>
                      <a:lnTo>
                        <a:pt x="0" y="3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8" y="0"/>
                      </a:lnTo>
                      <a:lnTo>
                        <a:pt x="60" y="0"/>
                      </a:lnTo>
                      <a:lnTo>
                        <a:pt x="96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10"/>
                <p:cNvSpPr/>
                <p:nvPr/>
              </p:nvSpPr>
              <p:spPr>
                <a:xfrm>
                  <a:off x="6702480" y="5167800"/>
                  <a:ext cx="333720" cy="347760"/>
                </a:xfrm>
                <a:custGeom>
                  <a:avLst/>
                  <a:gdLst>
                    <a:gd name="textAreaLeft" fmla="*/ 0 w 333720"/>
                    <a:gd name="textAreaRight" fmla="*/ 334080 w 33372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334" h="358">
                      <a:moveTo>
                        <a:pt x="245" y="0"/>
                      </a:moveTo>
                      <a:lnTo>
                        <a:pt x="257" y="6"/>
                      </a:lnTo>
                      <a:lnTo>
                        <a:pt x="257" y="12"/>
                      </a:lnTo>
                      <a:lnTo>
                        <a:pt x="263" y="18"/>
                      </a:lnTo>
                      <a:lnTo>
                        <a:pt x="257" y="36"/>
                      </a:lnTo>
                      <a:lnTo>
                        <a:pt x="269" y="42"/>
                      </a:lnTo>
                      <a:lnTo>
                        <a:pt x="269" y="48"/>
                      </a:lnTo>
                      <a:lnTo>
                        <a:pt x="263" y="60"/>
                      </a:lnTo>
                      <a:lnTo>
                        <a:pt x="281" y="60"/>
                      </a:lnTo>
                      <a:lnTo>
                        <a:pt x="299" y="66"/>
                      </a:lnTo>
                      <a:lnTo>
                        <a:pt x="311" y="66"/>
                      </a:lnTo>
                      <a:lnTo>
                        <a:pt x="334" y="48"/>
                      </a:lnTo>
                      <a:lnTo>
                        <a:pt x="334" y="54"/>
                      </a:lnTo>
                      <a:lnTo>
                        <a:pt x="334" y="78"/>
                      </a:lnTo>
                      <a:lnTo>
                        <a:pt x="323" y="89"/>
                      </a:lnTo>
                      <a:lnTo>
                        <a:pt x="311" y="107"/>
                      </a:lnTo>
                      <a:lnTo>
                        <a:pt x="293" y="131"/>
                      </a:lnTo>
                      <a:lnTo>
                        <a:pt x="287" y="143"/>
                      </a:lnTo>
                      <a:lnTo>
                        <a:pt x="275" y="149"/>
                      </a:lnTo>
                      <a:lnTo>
                        <a:pt x="275" y="155"/>
                      </a:lnTo>
                      <a:lnTo>
                        <a:pt x="275" y="167"/>
                      </a:lnTo>
                      <a:lnTo>
                        <a:pt x="257" y="173"/>
                      </a:lnTo>
                      <a:lnTo>
                        <a:pt x="221" y="185"/>
                      </a:lnTo>
                      <a:lnTo>
                        <a:pt x="215" y="197"/>
                      </a:lnTo>
                      <a:lnTo>
                        <a:pt x="203" y="197"/>
                      </a:lnTo>
                      <a:lnTo>
                        <a:pt x="197" y="203"/>
                      </a:lnTo>
                      <a:lnTo>
                        <a:pt x="197" y="209"/>
                      </a:lnTo>
                      <a:lnTo>
                        <a:pt x="191" y="215"/>
                      </a:lnTo>
                      <a:lnTo>
                        <a:pt x="185" y="215"/>
                      </a:lnTo>
                      <a:lnTo>
                        <a:pt x="173" y="251"/>
                      </a:lnTo>
                      <a:lnTo>
                        <a:pt x="179" y="257"/>
                      </a:lnTo>
                      <a:lnTo>
                        <a:pt x="179" y="262"/>
                      </a:lnTo>
                      <a:lnTo>
                        <a:pt x="173" y="262"/>
                      </a:lnTo>
                      <a:lnTo>
                        <a:pt x="167" y="262"/>
                      </a:lnTo>
                      <a:lnTo>
                        <a:pt x="155" y="251"/>
                      </a:lnTo>
                      <a:lnTo>
                        <a:pt x="144" y="257"/>
                      </a:lnTo>
                      <a:lnTo>
                        <a:pt x="126" y="262"/>
                      </a:lnTo>
                      <a:lnTo>
                        <a:pt x="114" y="274"/>
                      </a:lnTo>
                      <a:lnTo>
                        <a:pt x="102" y="286"/>
                      </a:lnTo>
                      <a:lnTo>
                        <a:pt x="96" y="292"/>
                      </a:lnTo>
                      <a:lnTo>
                        <a:pt x="90" y="310"/>
                      </a:lnTo>
                      <a:lnTo>
                        <a:pt x="60" y="334"/>
                      </a:lnTo>
                      <a:lnTo>
                        <a:pt x="60" y="340"/>
                      </a:lnTo>
                      <a:lnTo>
                        <a:pt x="48" y="352"/>
                      </a:lnTo>
                      <a:lnTo>
                        <a:pt x="36" y="358"/>
                      </a:lnTo>
                      <a:lnTo>
                        <a:pt x="30" y="358"/>
                      </a:lnTo>
                      <a:lnTo>
                        <a:pt x="24" y="340"/>
                      </a:lnTo>
                      <a:lnTo>
                        <a:pt x="18" y="310"/>
                      </a:lnTo>
                      <a:lnTo>
                        <a:pt x="12" y="304"/>
                      </a:lnTo>
                      <a:lnTo>
                        <a:pt x="12" y="298"/>
                      </a:lnTo>
                      <a:lnTo>
                        <a:pt x="6" y="298"/>
                      </a:lnTo>
                      <a:lnTo>
                        <a:pt x="6" y="292"/>
                      </a:lnTo>
                      <a:lnTo>
                        <a:pt x="6" y="286"/>
                      </a:lnTo>
                      <a:lnTo>
                        <a:pt x="12" y="262"/>
                      </a:lnTo>
                      <a:lnTo>
                        <a:pt x="0" y="257"/>
                      </a:lnTo>
                      <a:lnTo>
                        <a:pt x="12" y="245"/>
                      </a:lnTo>
                      <a:lnTo>
                        <a:pt x="12" y="239"/>
                      </a:lnTo>
                      <a:lnTo>
                        <a:pt x="12" y="233"/>
                      </a:lnTo>
                      <a:lnTo>
                        <a:pt x="18" y="233"/>
                      </a:lnTo>
                      <a:lnTo>
                        <a:pt x="30" y="215"/>
                      </a:lnTo>
                      <a:lnTo>
                        <a:pt x="36" y="209"/>
                      </a:lnTo>
                      <a:lnTo>
                        <a:pt x="42" y="191"/>
                      </a:lnTo>
                      <a:lnTo>
                        <a:pt x="72" y="179"/>
                      </a:lnTo>
                      <a:lnTo>
                        <a:pt x="72" y="161"/>
                      </a:lnTo>
                      <a:lnTo>
                        <a:pt x="72" y="155"/>
                      </a:lnTo>
                      <a:lnTo>
                        <a:pt x="90" y="143"/>
                      </a:lnTo>
                      <a:lnTo>
                        <a:pt x="72" y="125"/>
                      </a:lnTo>
                      <a:lnTo>
                        <a:pt x="66" y="113"/>
                      </a:lnTo>
                      <a:lnTo>
                        <a:pt x="78" y="101"/>
                      </a:lnTo>
                      <a:lnTo>
                        <a:pt x="90" y="95"/>
                      </a:lnTo>
                      <a:lnTo>
                        <a:pt x="90" y="89"/>
                      </a:lnTo>
                      <a:lnTo>
                        <a:pt x="96" y="89"/>
                      </a:lnTo>
                      <a:lnTo>
                        <a:pt x="108" y="89"/>
                      </a:lnTo>
                      <a:lnTo>
                        <a:pt x="114" y="89"/>
                      </a:lnTo>
                      <a:lnTo>
                        <a:pt x="126" y="89"/>
                      </a:lnTo>
                      <a:lnTo>
                        <a:pt x="138" y="78"/>
                      </a:lnTo>
                      <a:lnTo>
                        <a:pt x="161" y="72"/>
                      </a:lnTo>
                      <a:lnTo>
                        <a:pt x="179" y="54"/>
                      </a:lnTo>
                      <a:lnTo>
                        <a:pt x="191" y="48"/>
                      </a:lnTo>
                      <a:lnTo>
                        <a:pt x="191" y="36"/>
                      </a:lnTo>
                      <a:lnTo>
                        <a:pt x="209" y="24"/>
                      </a:lnTo>
                      <a:lnTo>
                        <a:pt x="239" y="6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111"/>
                <p:cNvSpPr/>
                <p:nvPr/>
              </p:nvSpPr>
              <p:spPr>
                <a:xfrm>
                  <a:off x="6464520" y="5179320"/>
                  <a:ext cx="208800" cy="13896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138960"/>
                    <a:gd name="textAreaBottom" fmla="*/ 139320 h 138960"/>
                  </a:gdLst>
                  <a:ahLst/>
                  <a:rect l="textAreaLeft" t="textAreaTop" r="textAreaRight" b="textAreaBottom"/>
                  <a:pathLst>
                    <a:path w="209" h="143">
                      <a:moveTo>
                        <a:pt x="89" y="0"/>
                      </a:moveTo>
                      <a:lnTo>
                        <a:pt x="101" y="0"/>
                      </a:lnTo>
                      <a:lnTo>
                        <a:pt x="113" y="12"/>
                      </a:lnTo>
                      <a:lnTo>
                        <a:pt x="119" y="18"/>
                      </a:lnTo>
                      <a:lnTo>
                        <a:pt x="149" y="24"/>
                      </a:lnTo>
                      <a:lnTo>
                        <a:pt x="179" y="24"/>
                      </a:lnTo>
                      <a:lnTo>
                        <a:pt x="179" y="30"/>
                      </a:lnTo>
                      <a:lnTo>
                        <a:pt x="185" y="30"/>
                      </a:lnTo>
                      <a:lnTo>
                        <a:pt x="185" y="36"/>
                      </a:lnTo>
                      <a:lnTo>
                        <a:pt x="191" y="36"/>
                      </a:lnTo>
                      <a:lnTo>
                        <a:pt x="203" y="36"/>
                      </a:lnTo>
                      <a:lnTo>
                        <a:pt x="209" y="42"/>
                      </a:lnTo>
                      <a:lnTo>
                        <a:pt x="203" y="54"/>
                      </a:lnTo>
                      <a:lnTo>
                        <a:pt x="191" y="66"/>
                      </a:lnTo>
                      <a:lnTo>
                        <a:pt x="173" y="77"/>
                      </a:lnTo>
                      <a:lnTo>
                        <a:pt x="161" y="83"/>
                      </a:lnTo>
                      <a:lnTo>
                        <a:pt x="155" y="95"/>
                      </a:lnTo>
                      <a:lnTo>
                        <a:pt x="143" y="107"/>
                      </a:lnTo>
                      <a:lnTo>
                        <a:pt x="113" y="119"/>
                      </a:lnTo>
                      <a:lnTo>
                        <a:pt x="101" y="131"/>
                      </a:lnTo>
                      <a:lnTo>
                        <a:pt x="83" y="137"/>
                      </a:lnTo>
                      <a:lnTo>
                        <a:pt x="71" y="137"/>
                      </a:lnTo>
                      <a:lnTo>
                        <a:pt x="59" y="143"/>
                      </a:lnTo>
                      <a:lnTo>
                        <a:pt x="42" y="143"/>
                      </a:lnTo>
                      <a:lnTo>
                        <a:pt x="24" y="131"/>
                      </a:lnTo>
                      <a:lnTo>
                        <a:pt x="24" y="125"/>
                      </a:lnTo>
                      <a:lnTo>
                        <a:pt x="12" y="125"/>
                      </a:lnTo>
                      <a:lnTo>
                        <a:pt x="6" y="131"/>
                      </a:lnTo>
                      <a:lnTo>
                        <a:pt x="0" y="125"/>
                      </a:lnTo>
                      <a:lnTo>
                        <a:pt x="0" y="113"/>
                      </a:lnTo>
                      <a:lnTo>
                        <a:pt x="0" y="107"/>
                      </a:lnTo>
                      <a:lnTo>
                        <a:pt x="0" y="113"/>
                      </a:lnTo>
                      <a:lnTo>
                        <a:pt x="0" y="107"/>
                      </a:lnTo>
                      <a:lnTo>
                        <a:pt x="6" y="101"/>
                      </a:lnTo>
                      <a:lnTo>
                        <a:pt x="12" y="101"/>
                      </a:lnTo>
                      <a:lnTo>
                        <a:pt x="18" y="95"/>
                      </a:lnTo>
                      <a:lnTo>
                        <a:pt x="6" y="77"/>
                      </a:lnTo>
                      <a:lnTo>
                        <a:pt x="0" y="77"/>
                      </a:lnTo>
                      <a:lnTo>
                        <a:pt x="0" y="71"/>
                      </a:lnTo>
                      <a:lnTo>
                        <a:pt x="12" y="54"/>
                      </a:lnTo>
                      <a:lnTo>
                        <a:pt x="6" y="36"/>
                      </a:lnTo>
                      <a:lnTo>
                        <a:pt x="18" y="30"/>
                      </a:lnTo>
                      <a:lnTo>
                        <a:pt x="42" y="18"/>
                      </a:lnTo>
                      <a:lnTo>
                        <a:pt x="53" y="6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112"/>
                <p:cNvSpPr/>
                <p:nvPr/>
              </p:nvSpPr>
              <p:spPr>
                <a:xfrm>
                  <a:off x="6243480" y="5179320"/>
                  <a:ext cx="131040" cy="19116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191160"/>
                    <a:gd name="textAreaBottom" fmla="*/ 191520 h 191160"/>
                  </a:gdLst>
                  <a:ahLst/>
                  <a:rect l="textAreaLeft" t="textAreaTop" r="textAreaRight" b="textAreaBottom"/>
                  <a:pathLst>
                    <a:path w="131" h="197">
                      <a:moveTo>
                        <a:pt x="6" y="18"/>
                      </a:move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2" y="0"/>
                      </a:lnTo>
                      <a:lnTo>
                        <a:pt x="24" y="6"/>
                      </a:lnTo>
                      <a:lnTo>
                        <a:pt x="42" y="18"/>
                      </a:lnTo>
                      <a:lnTo>
                        <a:pt x="60" y="42"/>
                      </a:lnTo>
                      <a:lnTo>
                        <a:pt x="72" y="71"/>
                      </a:lnTo>
                      <a:lnTo>
                        <a:pt x="72" y="77"/>
                      </a:lnTo>
                      <a:lnTo>
                        <a:pt x="84" y="89"/>
                      </a:lnTo>
                      <a:lnTo>
                        <a:pt x="107" y="107"/>
                      </a:lnTo>
                      <a:lnTo>
                        <a:pt x="113" y="119"/>
                      </a:lnTo>
                      <a:lnTo>
                        <a:pt x="119" y="125"/>
                      </a:lnTo>
                      <a:lnTo>
                        <a:pt x="125" y="143"/>
                      </a:lnTo>
                      <a:lnTo>
                        <a:pt x="131" y="149"/>
                      </a:lnTo>
                      <a:lnTo>
                        <a:pt x="131" y="155"/>
                      </a:lnTo>
                      <a:lnTo>
                        <a:pt x="107" y="179"/>
                      </a:lnTo>
                      <a:lnTo>
                        <a:pt x="95" y="191"/>
                      </a:lnTo>
                      <a:lnTo>
                        <a:pt x="90" y="185"/>
                      </a:lnTo>
                      <a:lnTo>
                        <a:pt x="78" y="191"/>
                      </a:lnTo>
                      <a:lnTo>
                        <a:pt x="66" y="197"/>
                      </a:lnTo>
                      <a:lnTo>
                        <a:pt x="60" y="173"/>
                      </a:lnTo>
                      <a:lnTo>
                        <a:pt x="60" y="155"/>
                      </a:lnTo>
                      <a:lnTo>
                        <a:pt x="54" y="137"/>
                      </a:lnTo>
                      <a:lnTo>
                        <a:pt x="48" y="119"/>
                      </a:lnTo>
                      <a:lnTo>
                        <a:pt x="42" y="95"/>
                      </a:lnTo>
                      <a:lnTo>
                        <a:pt x="30" y="71"/>
                      </a:lnTo>
                      <a:lnTo>
                        <a:pt x="24" y="42"/>
                      </a:lnTo>
                      <a:lnTo>
                        <a:pt x="18" y="30"/>
                      </a:lnTo>
                      <a:lnTo>
                        <a:pt x="6" y="1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113"/>
                <p:cNvSpPr/>
                <p:nvPr/>
              </p:nvSpPr>
              <p:spPr>
                <a:xfrm>
                  <a:off x="5372280" y="5185080"/>
                  <a:ext cx="208800" cy="13896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138960"/>
                    <a:gd name="textAreaBottom" fmla="*/ 139320 h 138960"/>
                  </a:gdLst>
                  <a:ahLst/>
                  <a:rect l="textAreaLeft" t="textAreaTop" r="textAreaRight" b="textAreaBottom"/>
                  <a:pathLst>
                    <a:path w="209" h="143">
                      <a:moveTo>
                        <a:pt x="30" y="6"/>
                      </a:moveTo>
                      <a:lnTo>
                        <a:pt x="48" y="0"/>
                      </a:lnTo>
                      <a:lnTo>
                        <a:pt x="96" y="24"/>
                      </a:lnTo>
                      <a:lnTo>
                        <a:pt x="113" y="42"/>
                      </a:lnTo>
                      <a:lnTo>
                        <a:pt x="125" y="42"/>
                      </a:lnTo>
                      <a:lnTo>
                        <a:pt x="173" y="36"/>
                      </a:lnTo>
                      <a:lnTo>
                        <a:pt x="179" y="36"/>
                      </a:lnTo>
                      <a:lnTo>
                        <a:pt x="191" y="36"/>
                      </a:lnTo>
                      <a:lnTo>
                        <a:pt x="203" y="36"/>
                      </a:lnTo>
                      <a:lnTo>
                        <a:pt x="209" y="36"/>
                      </a:lnTo>
                      <a:lnTo>
                        <a:pt x="209" y="54"/>
                      </a:lnTo>
                      <a:lnTo>
                        <a:pt x="185" y="71"/>
                      </a:lnTo>
                      <a:lnTo>
                        <a:pt x="167" y="77"/>
                      </a:lnTo>
                      <a:lnTo>
                        <a:pt x="137" y="83"/>
                      </a:lnTo>
                      <a:lnTo>
                        <a:pt x="125" y="89"/>
                      </a:lnTo>
                      <a:lnTo>
                        <a:pt x="119" y="107"/>
                      </a:lnTo>
                      <a:lnTo>
                        <a:pt x="119" y="119"/>
                      </a:lnTo>
                      <a:lnTo>
                        <a:pt x="113" y="125"/>
                      </a:lnTo>
                      <a:lnTo>
                        <a:pt x="96" y="113"/>
                      </a:lnTo>
                      <a:lnTo>
                        <a:pt x="72" y="107"/>
                      </a:lnTo>
                      <a:lnTo>
                        <a:pt x="54" y="113"/>
                      </a:lnTo>
                      <a:lnTo>
                        <a:pt x="42" y="125"/>
                      </a:lnTo>
                      <a:lnTo>
                        <a:pt x="42" y="143"/>
                      </a:lnTo>
                      <a:lnTo>
                        <a:pt x="6" y="119"/>
                      </a:lnTo>
                      <a:lnTo>
                        <a:pt x="0" y="107"/>
                      </a:lnTo>
                      <a:lnTo>
                        <a:pt x="0" y="95"/>
                      </a:lnTo>
                      <a:lnTo>
                        <a:pt x="6" y="89"/>
                      </a:lnTo>
                      <a:lnTo>
                        <a:pt x="36" y="42"/>
                      </a:lnTo>
                      <a:lnTo>
                        <a:pt x="30" y="30"/>
                      </a:lnTo>
                      <a:lnTo>
                        <a:pt x="30" y="1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14"/>
                <p:cNvSpPr/>
                <p:nvPr/>
              </p:nvSpPr>
              <p:spPr>
                <a:xfrm>
                  <a:off x="5491440" y="5191200"/>
                  <a:ext cx="238680" cy="132840"/>
                </a:xfrm>
                <a:custGeom>
                  <a:avLst/>
                  <a:gdLst>
                    <a:gd name="textAreaLeft" fmla="*/ 0 w 238680"/>
                    <a:gd name="textAreaRight" fmla="*/ 239040 w 23868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239" h="137">
                      <a:moveTo>
                        <a:pt x="138" y="18"/>
                      </a:moveTo>
                      <a:lnTo>
                        <a:pt x="156" y="18"/>
                      </a:lnTo>
                      <a:lnTo>
                        <a:pt x="173" y="18"/>
                      </a:lnTo>
                      <a:lnTo>
                        <a:pt x="203" y="12"/>
                      </a:lnTo>
                      <a:lnTo>
                        <a:pt x="215" y="0"/>
                      </a:lnTo>
                      <a:lnTo>
                        <a:pt x="233" y="6"/>
                      </a:lnTo>
                      <a:lnTo>
                        <a:pt x="239" y="18"/>
                      </a:lnTo>
                      <a:lnTo>
                        <a:pt x="239" y="30"/>
                      </a:lnTo>
                      <a:lnTo>
                        <a:pt x="227" y="48"/>
                      </a:lnTo>
                      <a:lnTo>
                        <a:pt x="227" y="59"/>
                      </a:lnTo>
                      <a:lnTo>
                        <a:pt x="233" y="59"/>
                      </a:lnTo>
                      <a:lnTo>
                        <a:pt x="233" y="65"/>
                      </a:lnTo>
                      <a:lnTo>
                        <a:pt x="221" y="89"/>
                      </a:lnTo>
                      <a:lnTo>
                        <a:pt x="215" y="95"/>
                      </a:lnTo>
                      <a:lnTo>
                        <a:pt x="209" y="89"/>
                      </a:lnTo>
                      <a:lnTo>
                        <a:pt x="197" y="89"/>
                      </a:lnTo>
                      <a:lnTo>
                        <a:pt x="173" y="95"/>
                      </a:lnTo>
                      <a:lnTo>
                        <a:pt x="173" y="113"/>
                      </a:lnTo>
                      <a:lnTo>
                        <a:pt x="167" y="125"/>
                      </a:lnTo>
                      <a:lnTo>
                        <a:pt x="144" y="137"/>
                      </a:lnTo>
                      <a:lnTo>
                        <a:pt x="126" y="131"/>
                      </a:lnTo>
                      <a:lnTo>
                        <a:pt x="108" y="131"/>
                      </a:lnTo>
                      <a:lnTo>
                        <a:pt x="78" y="125"/>
                      </a:lnTo>
                      <a:lnTo>
                        <a:pt x="72" y="125"/>
                      </a:lnTo>
                      <a:lnTo>
                        <a:pt x="66" y="137"/>
                      </a:lnTo>
                      <a:lnTo>
                        <a:pt x="54" y="137"/>
                      </a:lnTo>
                      <a:lnTo>
                        <a:pt x="42" y="131"/>
                      </a:lnTo>
                      <a:lnTo>
                        <a:pt x="30" y="125"/>
                      </a:lnTo>
                      <a:lnTo>
                        <a:pt x="0" y="113"/>
                      </a:lnTo>
                      <a:lnTo>
                        <a:pt x="0" y="101"/>
                      </a:lnTo>
                      <a:lnTo>
                        <a:pt x="6" y="83"/>
                      </a:lnTo>
                      <a:lnTo>
                        <a:pt x="18" y="77"/>
                      </a:lnTo>
                      <a:lnTo>
                        <a:pt x="48" y="71"/>
                      </a:lnTo>
                      <a:lnTo>
                        <a:pt x="66" y="65"/>
                      </a:lnTo>
                      <a:lnTo>
                        <a:pt x="90" y="48"/>
                      </a:lnTo>
                      <a:lnTo>
                        <a:pt x="90" y="30"/>
                      </a:lnTo>
                      <a:lnTo>
                        <a:pt x="108" y="30"/>
                      </a:lnTo>
                      <a:lnTo>
                        <a:pt x="138" y="1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15"/>
                <p:cNvSpPr/>
                <p:nvPr/>
              </p:nvSpPr>
              <p:spPr>
                <a:xfrm>
                  <a:off x="5611320" y="5202720"/>
                  <a:ext cx="416880" cy="225360"/>
                </a:xfrm>
                <a:custGeom>
                  <a:avLst/>
                  <a:gdLst>
                    <a:gd name="textAreaLeft" fmla="*/ 0 w 416880"/>
                    <a:gd name="textAreaRight" fmla="*/ 417240 w 41688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417" h="232">
                      <a:moveTo>
                        <a:pt x="143" y="0"/>
                      </a:moveTo>
                      <a:lnTo>
                        <a:pt x="155" y="0"/>
                      </a:lnTo>
                      <a:lnTo>
                        <a:pt x="167" y="12"/>
                      </a:lnTo>
                      <a:lnTo>
                        <a:pt x="185" y="30"/>
                      </a:lnTo>
                      <a:lnTo>
                        <a:pt x="197" y="42"/>
                      </a:lnTo>
                      <a:lnTo>
                        <a:pt x="203" y="65"/>
                      </a:lnTo>
                      <a:lnTo>
                        <a:pt x="214" y="71"/>
                      </a:lnTo>
                      <a:lnTo>
                        <a:pt x="226" y="65"/>
                      </a:lnTo>
                      <a:lnTo>
                        <a:pt x="244" y="71"/>
                      </a:lnTo>
                      <a:lnTo>
                        <a:pt x="268" y="59"/>
                      </a:lnTo>
                      <a:lnTo>
                        <a:pt x="274" y="65"/>
                      </a:lnTo>
                      <a:lnTo>
                        <a:pt x="286" y="71"/>
                      </a:lnTo>
                      <a:lnTo>
                        <a:pt x="292" y="71"/>
                      </a:lnTo>
                      <a:lnTo>
                        <a:pt x="304" y="59"/>
                      </a:lnTo>
                      <a:lnTo>
                        <a:pt x="310" y="59"/>
                      </a:lnTo>
                      <a:lnTo>
                        <a:pt x="334" y="65"/>
                      </a:lnTo>
                      <a:lnTo>
                        <a:pt x="352" y="65"/>
                      </a:lnTo>
                      <a:lnTo>
                        <a:pt x="376" y="47"/>
                      </a:lnTo>
                      <a:lnTo>
                        <a:pt x="405" y="42"/>
                      </a:lnTo>
                      <a:lnTo>
                        <a:pt x="411" y="42"/>
                      </a:lnTo>
                      <a:lnTo>
                        <a:pt x="417" y="53"/>
                      </a:lnTo>
                      <a:lnTo>
                        <a:pt x="417" y="59"/>
                      </a:lnTo>
                      <a:lnTo>
                        <a:pt x="399" y="95"/>
                      </a:lnTo>
                      <a:lnTo>
                        <a:pt x="387" y="119"/>
                      </a:lnTo>
                      <a:lnTo>
                        <a:pt x="387" y="137"/>
                      </a:lnTo>
                      <a:lnTo>
                        <a:pt x="376" y="149"/>
                      </a:lnTo>
                      <a:lnTo>
                        <a:pt x="370" y="155"/>
                      </a:lnTo>
                      <a:lnTo>
                        <a:pt x="364" y="173"/>
                      </a:lnTo>
                      <a:lnTo>
                        <a:pt x="322" y="191"/>
                      </a:lnTo>
                      <a:lnTo>
                        <a:pt x="304" y="191"/>
                      </a:lnTo>
                      <a:lnTo>
                        <a:pt x="262" y="197"/>
                      </a:lnTo>
                      <a:lnTo>
                        <a:pt x="256" y="203"/>
                      </a:lnTo>
                      <a:lnTo>
                        <a:pt x="268" y="215"/>
                      </a:lnTo>
                      <a:lnTo>
                        <a:pt x="262" y="221"/>
                      </a:lnTo>
                      <a:lnTo>
                        <a:pt x="262" y="226"/>
                      </a:lnTo>
                      <a:lnTo>
                        <a:pt x="220" y="232"/>
                      </a:lnTo>
                      <a:lnTo>
                        <a:pt x="209" y="203"/>
                      </a:lnTo>
                      <a:lnTo>
                        <a:pt x="197" y="191"/>
                      </a:lnTo>
                      <a:lnTo>
                        <a:pt x="179" y="191"/>
                      </a:lnTo>
                      <a:lnTo>
                        <a:pt x="161" y="191"/>
                      </a:lnTo>
                      <a:lnTo>
                        <a:pt x="155" y="185"/>
                      </a:lnTo>
                      <a:lnTo>
                        <a:pt x="149" y="173"/>
                      </a:lnTo>
                      <a:lnTo>
                        <a:pt x="95" y="179"/>
                      </a:lnTo>
                      <a:lnTo>
                        <a:pt x="65" y="197"/>
                      </a:lnTo>
                      <a:lnTo>
                        <a:pt x="53" y="191"/>
                      </a:lnTo>
                      <a:lnTo>
                        <a:pt x="36" y="197"/>
                      </a:lnTo>
                      <a:lnTo>
                        <a:pt x="24" y="185"/>
                      </a:lnTo>
                      <a:lnTo>
                        <a:pt x="18" y="185"/>
                      </a:lnTo>
                      <a:lnTo>
                        <a:pt x="6" y="179"/>
                      </a:lnTo>
                      <a:lnTo>
                        <a:pt x="0" y="179"/>
                      </a:lnTo>
                      <a:lnTo>
                        <a:pt x="6" y="161"/>
                      </a:lnTo>
                      <a:lnTo>
                        <a:pt x="24" y="149"/>
                      </a:lnTo>
                      <a:lnTo>
                        <a:pt x="24" y="125"/>
                      </a:lnTo>
                      <a:lnTo>
                        <a:pt x="47" y="113"/>
                      </a:lnTo>
                      <a:lnTo>
                        <a:pt x="53" y="101"/>
                      </a:lnTo>
                      <a:lnTo>
                        <a:pt x="53" y="83"/>
                      </a:lnTo>
                      <a:lnTo>
                        <a:pt x="77" y="77"/>
                      </a:lnTo>
                      <a:lnTo>
                        <a:pt x="89" y="77"/>
                      </a:lnTo>
                      <a:lnTo>
                        <a:pt x="95" y="83"/>
                      </a:lnTo>
                      <a:lnTo>
                        <a:pt x="101" y="77"/>
                      </a:lnTo>
                      <a:lnTo>
                        <a:pt x="113" y="53"/>
                      </a:lnTo>
                      <a:lnTo>
                        <a:pt x="113" y="47"/>
                      </a:lnTo>
                      <a:lnTo>
                        <a:pt x="107" y="47"/>
                      </a:lnTo>
                      <a:lnTo>
                        <a:pt x="107" y="36"/>
                      </a:lnTo>
                      <a:lnTo>
                        <a:pt x="119" y="18"/>
                      </a:lnTo>
                      <a:lnTo>
                        <a:pt x="119" y="6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16"/>
                <p:cNvSpPr/>
                <p:nvPr/>
              </p:nvSpPr>
              <p:spPr>
                <a:xfrm>
                  <a:off x="5110560" y="5226120"/>
                  <a:ext cx="219960" cy="191160"/>
                </a:xfrm>
                <a:custGeom>
                  <a:avLst/>
                  <a:gdLst>
                    <a:gd name="textAreaLeft" fmla="*/ 0 w 219960"/>
                    <a:gd name="textAreaRight" fmla="*/ 220320 w 219960"/>
                    <a:gd name="textAreaTop" fmla="*/ 0 h 191160"/>
                    <a:gd name="textAreaBottom" fmla="*/ 191520 h 191160"/>
                  </a:gdLst>
                  <a:ahLst/>
                  <a:rect l="textAreaLeft" t="textAreaTop" r="textAreaRight" b="textAreaBottom"/>
                  <a:pathLst>
                    <a:path w="220" h="197">
                      <a:moveTo>
                        <a:pt x="149" y="0"/>
                      </a:moveTo>
                      <a:lnTo>
                        <a:pt x="155" y="6"/>
                      </a:lnTo>
                      <a:lnTo>
                        <a:pt x="167" y="0"/>
                      </a:lnTo>
                      <a:lnTo>
                        <a:pt x="173" y="6"/>
                      </a:lnTo>
                      <a:lnTo>
                        <a:pt x="191" y="29"/>
                      </a:lnTo>
                      <a:lnTo>
                        <a:pt x="202" y="35"/>
                      </a:lnTo>
                      <a:lnTo>
                        <a:pt x="202" y="41"/>
                      </a:lnTo>
                      <a:lnTo>
                        <a:pt x="220" y="53"/>
                      </a:lnTo>
                      <a:lnTo>
                        <a:pt x="214" y="59"/>
                      </a:lnTo>
                      <a:lnTo>
                        <a:pt x="196" y="53"/>
                      </a:lnTo>
                      <a:lnTo>
                        <a:pt x="191" y="47"/>
                      </a:lnTo>
                      <a:lnTo>
                        <a:pt x="185" y="53"/>
                      </a:lnTo>
                      <a:lnTo>
                        <a:pt x="179" y="59"/>
                      </a:lnTo>
                      <a:lnTo>
                        <a:pt x="179" y="65"/>
                      </a:lnTo>
                      <a:lnTo>
                        <a:pt x="179" y="83"/>
                      </a:lnTo>
                      <a:lnTo>
                        <a:pt x="185" y="95"/>
                      </a:lnTo>
                      <a:lnTo>
                        <a:pt x="191" y="113"/>
                      </a:lnTo>
                      <a:lnTo>
                        <a:pt x="185" y="119"/>
                      </a:lnTo>
                      <a:lnTo>
                        <a:pt x="173" y="125"/>
                      </a:lnTo>
                      <a:lnTo>
                        <a:pt x="179" y="143"/>
                      </a:lnTo>
                      <a:lnTo>
                        <a:pt x="167" y="149"/>
                      </a:lnTo>
                      <a:lnTo>
                        <a:pt x="161" y="149"/>
                      </a:lnTo>
                      <a:lnTo>
                        <a:pt x="155" y="149"/>
                      </a:lnTo>
                      <a:lnTo>
                        <a:pt x="137" y="149"/>
                      </a:lnTo>
                      <a:lnTo>
                        <a:pt x="119" y="155"/>
                      </a:lnTo>
                      <a:lnTo>
                        <a:pt x="113" y="161"/>
                      </a:lnTo>
                      <a:lnTo>
                        <a:pt x="113" y="179"/>
                      </a:lnTo>
                      <a:lnTo>
                        <a:pt x="113" y="197"/>
                      </a:lnTo>
                      <a:lnTo>
                        <a:pt x="101" y="197"/>
                      </a:lnTo>
                      <a:lnTo>
                        <a:pt x="95" y="197"/>
                      </a:lnTo>
                      <a:lnTo>
                        <a:pt x="77" y="185"/>
                      </a:lnTo>
                      <a:lnTo>
                        <a:pt x="65" y="173"/>
                      </a:lnTo>
                      <a:lnTo>
                        <a:pt x="59" y="161"/>
                      </a:lnTo>
                      <a:lnTo>
                        <a:pt x="12" y="125"/>
                      </a:lnTo>
                      <a:lnTo>
                        <a:pt x="12" y="113"/>
                      </a:lnTo>
                      <a:lnTo>
                        <a:pt x="0" y="101"/>
                      </a:lnTo>
                      <a:lnTo>
                        <a:pt x="35" y="77"/>
                      </a:lnTo>
                      <a:lnTo>
                        <a:pt x="53" y="71"/>
                      </a:lnTo>
                      <a:lnTo>
                        <a:pt x="65" y="71"/>
                      </a:lnTo>
                      <a:lnTo>
                        <a:pt x="77" y="65"/>
                      </a:lnTo>
                      <a:lnTo>
                        <a:pt x="83" y="59"/>
                      </a:lnTo>
                      <a:lnTo>
                        <a:pt x="95" y="65"/>
                      </a:lnTo>
                      <a:lnTo>
                        <a:pt x="119" y="65"/>
                      </a:lnTo>
                      <a:lnTo>
                        <a:pt x="125" y="77"/>
                      </a:lnTo>
                      <a:lnTo>
                        <a:pt x="143" y="77"/>
                      </a:lnTo>
                      <a:lnTo>
                        <a:pt x="149" y="71"/>
                      </a:lnTo>
                      <a:lnTo>
                        <a:pt x="149" y="65"/>
                      </a:lnTo>
                      <a:lnTo>
                        <a:pt x="149" y="59"/>
                      </a:lnTo>
                      <a:lnTo>
                        <a:pt x="137" y="47"/>
                      </a:lnTo>
                      <a:lnTo>
                        <a:pt x="137" y="23"/>
                      </a:lnTo>
                      <a:lnTo>
                        <a:pt x="143" y="12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17"/>
                <p:cNvSpPr/>
                <p:nvPr/>
              </p:nvSpPr>
              <p:spPr>
                <a:xfrm>
                  <a:off x="5825520" y="5248440"/>
                  <a:ext cx="286920" cy="27288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72880"/>
                    <a:gd name="textAreaBottom" fmla="*/ 273240 h 272880"/>
                  </a:gdLst>
                  <a:ahLst/>
                  <a:rect l="textAreaLeft" t="textAreaTop" r="textAreaRight" b="textAreaBottom"/>
                  <a:pathLst>
                    <a:path w="287" h="281">
                      <a:moveTo>
                        <a:pt x="203" y="6"/>
                      </a:moveTo>
                      <a:lnTo>
                        <a:pt x="215" y="0"/>
                      </a:lnTo>
                      <a:lnTo>
                        <a:pt x="227" y="0"/>
                      </a:lnTo>
                      <a:lnTo>
                        <a:pt x="245" y="24"/>
                      </a:lnTo>
                      <a:lnTo>
                        <a:pt x="257" y="24"/>
                      </a:lnTo>
                      <a:lnTo>
                        <a:pt x="263" y="36"/>
                      </a:lnTo>
                      <a:lnTo>
                        <a:pt x="275" y="48"/>
                      </a:lnTo>
                      <a:lnTo>
                        <a:pt x="281" y="54"/>
                      </a:lnTo>
                      <a:lnTo>
                        <a:pt x="281" y="60"/>
                      </a:lnTo>
                      <a:lnTo>
                        <a:pt x="287" y="66"/>
                      </a:lnTo>
                      <a:lnTo>
                        <a:pt x="281" y="78"/>
                      </a:lnTo>
                      <a:lnTo>
                        <a:pt x="281" y="102"/>
                      </a:lnTo>
                      <a:lnTo>
                        <a:pt x="275" y="120"/>
                      </a:lnTo>
                      <a:lnTo>
                        <a:pt x="287" y="138"/>
                      </a:lnTo>
                      <a:lnTo>
                        <a:pt x="275" y="144"/>
                      </a:lnTo>
                      <a:lnTo>
                        <a:pt x="275" y="150"/>
                      </a:lnTo>
                      <a:lnTo>
                        <a:pt x="269" y="156"/>
                      </a:lnTo>
                      <a:lnTo>
                        <a:pt x="257" y="156"/>
                      </a:lnTo>
                      <a:lnTo>
                        <a:pt x="257" y="150"/>
                      </a:lnTo>
                      <a:lnTo>
                        <a:pt x="251" y="150"/>
                      </a:lnTo>
                      <a:lnTo>
                        <a:pt x="245" y="144"/>
                      </a:lnTo>
                      <a:lnTo>
                        <a:pt x="233" y="132"/>
                      </a:lnTo>
                      <a:lnTo>
                        <a:pt x="227" y="138"/>
                      </a:lnTo>
                      <a:lnTo>
                        <a:pt x="221" y="138"/>
                      </a:lnTo>
                      <a:lnTo>
                        <a:pt x="203" y="179"/>
                      </a:lnTo>
                      <a:lnTo>
                        <a:pt x="209" y="185"/>
                      </a:lnTo>
                      <a:lnTo>
                        <a:pt x="203" y="203"/>
                      </a:lnTo>
                      <a:lnTo>
                        <a:pt x="203" y="209"/>
                      </a:lnTo>
                      <a:lnTo>
                        <a:pt x="185" y="233"/>
                      </a:lnTo>
                      <a:lnTo>
                        <a:pt x="185" y="239"/>
                      </a:lnTo>
                      <a:lnTo>
                        <a:pt x="179" y="239"/>
                      </a:lnTo>
                      <a:lnTo>
                        <a:pt x="173" y="239"/>
                      </a:lnTo>
                      <a:lnTo>
                        <a:pt x="162" y="227"/>
                      </a:lnTo>
                      <a:lnTo>
                        <a:pt x="156" y="221"/>
                      </a:lnTo>
                      <a:lnTo>
                        <a:pt x="150" y="209"/>
                      </a:lnTo>
                      <a:lnTo>
                        <a:pt x="126" y="215"/>
                      </a:lnTo>
                      <a:lnTo>
                        <a:pt x="114" y="209"/>
                      </a:lnTo>
                      <a:lnTo>
                        <a:pt x="102" y="209"/>
                      </a:lnTo>
                      <a:lnTo>
                        <a:pt x="102" y="221"/>
                      </a:lnTo>
                      <a:lnTo>
                        <a:pt x="84" y="233"/>
                      </a:lnTo>
                      <a:lnTo>
                        <a:pt x="78" y="245"/>
                      </a:lnTo>
                      <a:lnTo>
                        <a:pt x="72" y="245"/>
                      </a:lnTo>
                      <a:lnTo>
                        <a:pt x="72" y="251"/>
                      </a:lnTo>
                      <a:lnTo>
                        <a:pt x="66" y="257"/>
                      </a:lnTo>
                      <a:lnTo>
                        <a:pt x="48" y="281"/>
                      </a:lnTo>
                      <a:lnTo>
                        <a:pt x="30" y="269"/>
                      </a:lnTo>
                      <a:lnTo>
                        <a:pt x="18" y="269"/>
                      </a:lnTo>
                      <a:lnTo>
                        <a:pt x="18" y="251"/>
                      </a:lnTo>
                      <a:lnTo>
                        <a:pt x="18" y="239"/>
                      </a:lnTo>
                      <a:lnTo>
                        <a:pt x="18" y="221"/>
                      </a:lnTo>
                      <a:lnTo>
                        <a:pt x="18" y="203"/>
                      </a:lnTo>
                      <a:lnTo>
                        <a:pt x="0" y="191"/>
                      </a:lnTo>
                      <a:lnTo>
                        <a:pt x="6" y="185"/>
                      </a:lnTo>
                      <a:lnTo>
                        <a:pt x="48" y="179"/>
                      </a:lnTo>
                      <a:lnTo>
                        <a:pt x="48" y="174"/>
                      </a:lnTo>
                      <a:lnTo>
                        <a:pt x="54" y="168"/>
                      </a:lnTo>
                      <a:lnTo>
                        <a:pt x="42" y="156"/>
                      </a:lnTo>
                      <a:lnTo>
                        <a:pt x="48" y="150"/>
                      </a:lnTo>
                      <a:lnTo>
                        <a:pt x="90" y="144"/>
                      </a:lnTo>
                      <a:lnTo>
                        <a:pt x="108" y="144"/>
                      </a:lnTo>
                      <a:lnTo>
                        <a:pt x="150" y="126"/>
                      </a:lnTo>
                      <a:lnTo>
                        <a:pt x="156" y="108"/>
                      </a:lnTo>
                      <a:lnTo>
                        <a:pt x="162" y="102"/>
                      </a:lnTo>
                      <a:lnTo>
                        <a:pt x="173" y="90"/>
                      </a:lnTo>
                      <a:lnTo>
                        <a:pt x="173" y="72"/>
                      </a:lnTo>
                      <a:lnTo>
                        <a:pt x="185" y="48"/>
                      </a:lnTo>
                      <a:lnTo>
                        <a:pt x="203" y="12"/>
                      </a:lnTo>
                      <a:lnTo>
                        <a:pt x="203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18"/>
                <p:cNvSpPr/>
                <p:nvPr/>
              </p:nvSpPr>
              <p:spPr>
                <a:xfrm>
                  <a:off x="5277600" y="5271840"/>
                  <a:ext cx="154800" cy="17964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155" h="185">
                      <a:moveTo>
                        <a:pt x="53" y="6"/>
                      </a:moveTo>
                      <a:lnTo>
                        <a:pt x="77" y="12"/>
                      </a:lnTo>
                      <a:lnTo>
                        <a:pt x="95" y="18"/>
                      </a:lnTo>
                      <a:lnTo>
                        <a:pt x="101" y="30"/>
                      </a:lnTo>
                      <a:lnTo>
                        <a:pt x="137" y="54"/>
                      </a:lnTo>
                      <a:lnTo>
                        <a:pt x="137" y="60"/>
                      </a:lnTo>
                      <a:lnTo>
                        <a:pt x="143" y="78"/>
                      </a:lnTo>
                      <a:lnTo>
                        <a:pt x="143" y="90"/>
                      </a:lnTo>
                      <a:lnTo>
                        <a:pt x="137" y="102"/>
                      </a:lnTo>
                      <a:lnTo>
                        <a:pt x="143" y="114"/>
                      </a:lnTo>
                      <a:lnTo>
                        <a:pt x="137" y="132"/>
                      </a:lnTo>
                      <a:lnTo>
                        <a:pt x="143" y="138"/>
                      </a:lnTo>
                      <a:lnTo>
                        <a:pt x="155" y="167"/>
                      </a:lnTo>
                      <a:lnTo>
                        <a:pt x="149" y="185"/>
                      </a:lnTo>
                      <a:lnTo>
                        <a:pt x="113" y="167"/>
                      </a:lnTo>
                      <a:lnTo>
                        <a:pt x="95" y="161"/>
                      </a:lnTo>
                      <a:lnTo>
                        <a:pt x="53" y="144"/>
                      </a:lnTo>
                      <a:lnTo>
                        <a:pt x="41" y="132"/>
                      </a:lnTo>
                      <a:lnTo>
                        <a:pt x="29" y="126"/>
                      </a:lnTo>
                      <a:lnTo>
                        <a:pt x="29" y="114"/>
                      </a:lnTo>
                      <a:lnTo>
                        <a:pt x="24" y="114"/>
                      </a:lnTo>
                      <a:lnTo>
                        <a:pt x="18" y="108"/>
                      </a:lnTo>
                      <a:lnTo>
                        <a:pt x="0" y="102"/>
                      </a:lnTo>
                      <a:lnTo>
                        <a:pt x="12" y="96"/>
                      </a:lnTo>
                      <a:lnTo>
                        <a:pt x="6" y="78"/>
                      </a:lnTo>
                      <a:lnTo>
                        <a:pt x="18" y="72"/>
                      </a:lnTo>
                      <a:lnTo>
                        <a:pt x="24" y="66"/>
                      </a:lnTo>
                      <a:lnTo>
                        <a:pt x="18" y="48"/>
                      </a:lnTo>
                      <a:lnTo>
                        <a:pt x="12" y="36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8" y="6"/>
                      </a:lnTo>
                      <a:lnTo>
                        <a:pt x="24" y="0"/>
                      </a:lnTo>
                      <a:lnTo>
                        <a:pt x="29" y="6"/>
                      </a:lnTo>
                      <a:lnTo>
                        <a:pt x="47" y="12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19"/>
                <p:cNvSpPr/>
                <p:nvPr/>
              </p:nvSpPr>
              <p:spPr>
                <a:xfrm>
                  <a:off x="5414760" y="5289120"/>
                  <a:ext cx="88560" cy="1738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173880"/>
                    <a:gd name="textAreaBottom" fmla="*/ 174240 h 173880"/>
                  </a:gdLst>
                  <a:ahLst/>
                  <a:rect l="textAreaLeft" t="textAreaTop" r="textAreaRight" b="textAreaBottom"/>
                  <a:pathLst>
                    <a:path w="89" h="179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12" y="6"/>
                      </a:lnTo>
                      <a:lnTo>
                        <a:pt x="30" y="0"/>
                      </a:lnTo>
                      <a:lnTo>
                        <a:pt x="54" y="6"/>
                      </a:lnTo>
                      <a:lnTo>
                        <a:pt x="71" y="18"/>
                      </a:lnTo>
                      <a:lnTo>
                        <a:pt x="77" y="24"/>
                      </a:lnTo>
                      <a:lnTo>
                        <a:pt x="77" y="66"/>
                      </a:lnTo>
                      <a:lnTo>
                        <a:pt x="77" y="78"/>
                      </a:lnTo>
                      <a:lnTo>
                        <a:pt x="71" y="84"/>
                      </a:lnTo>
                      <a:lnTo>
                        <a:pt x="65" y="96"/>
                      </a:lnTo>
                      <a:lnTo>
                        <a:pt x="71" y="114"/>
                      </a:lnTo>
                      <a:lnTo>
                        <a:pt x="83" y="126"/>
                      </a:lnTo>
                      <a:lnTo>
                        <a:pt x="89" y="137"/>
                      </a:lnTo>
                      <a:lnTo>
                        <a:pt x="89" y="155"/>
                      </a:lnTo>
                      <a:lnTo>
                        <a:pt x="83" y="155"/>
                      </a:lnTo>
                      <a:lnTo>
                        <a:pt x="89" y="173"/>
                      </a:lnTo>
                      <a:lnTo>
                        <a:pt x="83" y="173"/>
                      </a:lnTo>
                      <a:lnTo>
                        <a:pt x="71" y="179"/>
                      </a:lnTo>
                      <a:lnTo>
                        <a:pt x="60" y="179"/>
                      </a:lnTo>
                      <a:lnTo>
                        <a:pt x="54" y="179"/>
                      </a:lnTo>
                      <a:lnTo>
                        <a:pt x="30" y="167"/>
                      </a:lnTo>
                      <a:lnTo>
                        <a:pt x="24" y="161"/>
                      </a:lnTo>
                      <a:lnTo>
                        <a:pt x="12" y="167"/>
                      </a:lnTo>
                      <a:lnTo>
                        <a:pt x="18" y="149"/>
                      </a:lnTo>
                      <a:lnTo>
                        <a:pt x="6" y="120"/>
                      </a:lnTo>
                      <a:lnTo>
                        <a:pt x="0" y="114"/>
                      </a:lnTo>
                      <a:lnTo>
                        <a:pt x="6" y="96"/>
                      </a:lnTo>
                      <a:lnTo>
                        <a:pt x="0" y="84"/>
                      </a:lnTo>
                      <a:lnTo>
                        <a:pt x="6" y="72"/>
                      </a:lnTo>
                      <a:lnTo>
                        <a:pt x="6" y="60"/>
                      </a:lnTo>
                      <a:lnTo>
                        <a:pt x="0" y="4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20"/>
                <p:cNvSpPr/>
                <p:nvPr/>
              </p:nvSpPr>
              <p:spPr>
                <a:xfrm>
                  <a:off x="6082560" y="5289120"/>
                  <a:ext cx="387720" cy="232200"/>
                </a:xfrm>
                <a:custGeom>
                  <a:avLst/>
                  <a:gdLst>
                    <a:gd name="textAreaLeft" fmla="*/ 0 w 387720"/>
                    <a:gd name="textAreaRight" fmla="*/ 388080 w 387720"/>
                    <a:gd name="textAreaTop" fmla="*/ 0 h 232200"/>
                    <a:gd name="textAreaBottom" fmla="*/ 232560 h 232200"/>
                  </a:gdLst>
                  <a:ahLst/>
                  <a:rect l="textAreaLeft" t="textAreaTop" r="textAreaRight" b="textAreaBottom"/>
                  <a:pathLst>
                    <a:path w="388" h="239">
                      <a:moveTo>
                        <a:pt x="382" y="0"/>
                      </a:moveTo>
                      <a:lnTo>
                        <a:pt x="382" y="12"/>
                      </a:lnTo>
                      <a:lnTo>
                        <a:pt x="388" y="18"/>
                      </a:lnTo>
                      <a:lnTo>
                        <a:pt x="376" y="24"/>
                      </a:lnTo>
                      <a:lnTo>
                        <a:pt x="370" y="24"/>
                      </a:lnTo>
                      <a:lnTo>
                        <a:pt x="358" y="30"/>
                      </a:lnTo>
                      <a:lnTo>
                        <a:pt x="358" y="36"/>
                      </a:lnTo>
                      <a:lnTo>
                        <a:pt x="358" y="42"/>
                      </a:lnTo>
                      <a:lnTo>
                        <a:pt x="358" y="48"/>
                      </a:lnTo>
                      <a:lnTo>
                        <a:pt x="358" y="60"/>
                      </a:lnTo>
                      <a:lnTo>
                        <a:pt x="346" y="66"/>
                      </a:lnTo>
                      <a:lnTo>
                        <a:pt x="316" y="78"/>
                      </a:lnTo>
                      <a:lnTo>
                        <a:pt x="304" y="102"/>
                      </a:lnTo>
                      <a:lnTo>
                        <a:pt x="292" y="114"/>
                      </a:lnTo>
                      <a:lnTo>
                        <a:pt x="286" y="114"/>
                      </a:lnTo>
                      <a:lnTo>
                        <a:pt x="251" y="137"/>
                      </a:lnTo>
                      <a:lnTo>
                        <a:pt x="239" y="143"/>
                      </a:lnTo>
                      <a:lnTo>
                        <a:pt x="221" y="143"/>
                      </a:lnTo>
                      <a:lnTo>
                        <a:pt x="203" y="155"/>
                      </a:lnTo>
                      <a:lnTo>
                        <a:pt x="191" y="161"/>
                      </a:lnTo>
                      <a:lnTo>
                        <a:pt x="191" y="167"/>
                      </a:lnTo>
                      <a:lnTo>
                        <a:pt x="191" y="173"/>
                      </a:lnTo>
                      <a:lnTo>
                        <a:pt x="179" y="185"/>
                      </a:lnTo>
                      <a:lnTo>
                        <a:pt x="161" y="197"/>
                      </a:lnTo>
                      <a:lnTo>
                        <a:pt x="101" y="233"/>
                      </a:lnTo>
                      <a:lnTo>
                        <a:pt x="84" y="239"/>
                      </a:lnTo>
                      <a:lnTo>
                        <a:pt x="72" y="239"/>
                      </a:lnTo>
                      <a:lnTo>
                        <a:pt x="60" y="239"/>
                      </a:lnTo>
                      <a:lnTo>
                        <a:pt x="54" y="227"/>
                      </a:lnTo>
                      <a:lnTo>
                        <a:pt x="54" y="215"/>
                      </a:lnTo>
                      <a:lnTo>
                        <a:pt x="48" y="215"/>
                      </a:lnTo>
                      <a:lnTo>
                        <a:pt x="42" y="215"/>
                      </a:lnTo>
                      <a:lnTo>
                        <a:pt x="30" y="215"/>
                      </a:lnTo>
                      <a:lnTo>
                        <a:pt x="30" y="209"/>
                      </a:lnTo>
                      <a:lnTo>
                        <a:pt x="30" y="203"/>
                      </a:lnTo>
                      <a:lnTo>
                        <a:pt x="30" y="197"/>
                      </a:lnTo>
                      <a:lnTo>
                        <a:pt x="24" y="185"/>
                      </a:lnTo>
                      <a:lnTo>
                        <a:pt x="24" y="179"/>
                      </a:lnTo>
                      <a:lnTo>
                        <a:pt x="12" y="161"/>
                      </a:lnTo>
                      <a:lnTo>
                        <a:pt x="12" y="155"/>
                      </a:lnTo>
                      <a:lnTo>
                        <a:pt x="12" y="149"/>
                      </a:lnTo>
                      <a:lnTo>
                        <a:pt x="12" y="143"/>
                      </a:lnTo>
                      <a:lnTo>
                        <a:pt x="6" y="132"/>
                      </a:lnTo>
                      <a:lnTo>
                        <a:pt x="0" y="114"/>
                      </a:lnTo>
                      <a:lnTo>
                        <a:pt x="12" y="114"/>
                      </a:lnTo>
                      <a:lnTo>
                        <a:pt x="18" y="108"/>
                      </a:lnTo>
                      <a:lnTo>
                        <a:pt x="18" y="102"/>
                      </a:lnTo>
                      <a:lnTo>
                        <a:pt x="30" y="96"/>
                      </a:lnTo>
                      <a:lnTo>
                        <a:pt x="54" y="72"/>
                      </a:lnTo>
                      <a:lnTo>
                        <a:pt x="84" y="30"/>
                      </a:lnTo>
                      <a:lnTo>
                        <a:pt x="89" y="30"/>
                      </a:lnTo>
                      <a:lnTo>
                        <a:pt x="101" y="30"/>
                      </a:lnTo>
                      <a:lnTo>
                        <a:pt x="101" y="42"/>
                      </a:lnTo>
                      <a:lnTo>
                        <a:pt x="107" y="36"/>
                      </a:lnTo>
                      <a:lnTo>
                        <a:pt x="119" y="30"/>
                      </a:lnTo>
                      <a:lnTo>
                        <a:pt x="131" y="36"/>
                      </a:lnTo>
                      <a:lnTo>
                        <a:pt x="131" y="66"/>
                      </a:lnTo>
                      <a:lnTo>
                        <a:pt x="137" y="78"/>
                      </a:lnTo>
                      <a:lnTo>
                        <a:pt x="143" y="78"/>
                      </a:lnTo>
                      <a:lnTo>
                        <a:pt x="161" y="72"/>
                      </a:lnTo>
                      <a:lnTo>
                        <a:pt x="173" y="60"/>
                      </a:lnTo>
                      <a:lnTo>
                        <a:pt x="197" y="72"/>
                      </a:lnTo>
                      <a:lnTo>
                        <a:pt x="209" y="84"/>
                      </a:lnTo>
                      <a:lnTo>
                        <a:pt x="227" y="84"/>
                      </a:lnTo>
                      <a:lnTo>
                        <a:pt x="239" y="78"/>
                      </a:lnTo>
                      <a:lnTo>
                        <a:pt x="251" y="72"/>
                      </a:lnTo>
                      <a:lnTo>
                        <a:pt x="256" y="78"/>
                      </a:lnTo>
                      <a:lnTo>
                        <a:pt x="268" y="66"/>
                      </a:lnTo>
                      <a:lnTo>
                        <a:pt x="322" y="36"/>
                      </a:lnTo>
                      <a:lnTo>
                        <a:pt x="364" y="6"/>
                      </a:lnTo>
                      <a:lnTo>
                        <a:pt x="382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21"/>
                <p:cNvSpPr/>
                <p:nvPr/>
              </p:nvSpPr>
              <p:spPr>
                <a:xfrm>
                  <a:off x="5479560" y="5301000"/>
                  <a:ext cx="155880" cy="16812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156" h="173">
                      <a:moveTo>
                        <a:pt x="6" y="6"/>
                      </a:moveTo>
                      <a:lnTo>
                        <a:pt x="12" y="0"/>
                      </a:lnTo>
                      <a:lnTo>
                        <a:pt x="42" y="12"/>
                      </a:lnTo>
                      <a:lnTo>
                        <a:pt x="54" y="18"/>
                      </a:lnTo>
                      <a:lnTo>
                        <a:pt x="66" y="24"/>
                      </a:lnTo>
                      <a:lnTo>
                        <a:pt x="78" y="24"/>
                      </a:lnTo>
                      <a:lnTo>
                        <a:pt x="84" y="12"/>
                      </a:lnTo>
                      <a:lnTo>
                        <a:pt x="90" y="12"/>
                      </a:lnTo>
                      <a:lnTo>
                        <a:pt x="120" y="18"/>
                      </a:lnTo>
                      <a:lnTo>
                        <a:pt x="138" y="18"/>
                      </a:lnTo>
                      <a:lnTo>
                        <a:pt x="156" y="24"/>
                      </a:lnTo>
                      <a:lnTo>
                        <a:pt x="156" y="48"/>
                      </a:lnTo>
                      <a:lnTo>
                        <a:pt x="138" y="60"/>
                      </a:lnTo>
                      <a:lnTo>
                        <a:pt x="132" y="78"/>
                      </a:lnTo>
                      <a:lnTo>
                        <a:pt x="120" y="72"/>
                      </a:lnTo>
                      <a:lnTo>
                        <a:pt x="114" y="84"/>
                      </a:lnTo>
                      <a:lnTo>
                        <a:pt x="114" y="120"/>
                      </a:lnTo>
                      <a:lnTo>
                        <a:pt x="102" y="125"/>
                      </a:lnTo>
                      <a:lnTo>
                        <a:pt x="96" y="149"/>
                      </a:lnTo>
                      <a:lnTo>
                        <a:pt x="96" y="161"/>
                      </a:lnTo>
                      <a:lnTo>
                        <a:pt x="108" y="173"/>
                      </a:lnTo>
                      <a:lnTo>
                        <a:pt x="72" y="173"/>
                      </a:lnTo>
                      <a:lnTo>
                        <a:pt x="42" y="161"/>
                      </a:lnTo>
                      <a:lnTo>
                        <a:pt x="24" y="161"/>
                      </a:lnTo>
                      <a:lnTo>
                        <a:pt x="18" y="143"/>
                      </a:lnTo>
                      <a:lnTo>
                        <a:pt x="24" y="143"/>
                      </a:lnTo>
                      <a:lnTo>
                        <a:pt x="24" y="125"/>
                      </a:lnTo>
                      <a:lnTo>
                        <a:pt x="18" y="114"/>
                      </a:lnTo>
                      <a:lnTo>
                        <a:pt x="6" y="102"/>
                      </a:lnTo>
                      <a:lnTo>
                        <a:pt x="0" y="84"/>
                      </a:lnTo>
                      <a:lnTo>
                        <a:pt x="6" y="72"/>
                      </a:lnTo>
                      <a:lnTo>
                        <a:pt x="12" y="66"/>
                      </a:lnTo>
                      <a:lnTo>
                        <a:pt x="12" y="54"/>
                      </a:lnTo>
                      <a:lnTo>
                        <a:pt x="12" y="12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22"/>
                <p:cNvSpPr/>
                <p:nvPr/>
              </p:nvSpPr>
              <p:spPr>
                <a:xfrm>
                  <a:off x="5020560" y="5306760"/>
                  <a:ext cx="208800" cy="16200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209" h="167">
                      <a:moveTo>
                        <a:pt x="48" y="6"/>
                      </a:moveTo>
                      <a:lnTo>
                        <a:pt x="60" y="6"/>
                      </a:lnTo>
                      <a:lnTo>
                        <a:pt x="90" y="6"/>
                      </a:lnTo>
                      <a:lnTo>
                        <a:pt x="90" y="18"/>
                      </a:lnTo>
                      <a:lnTo>
                        <a:pt x="102" y="30"/>
                      </a:lnTo>
                      <a:lnTo>
                        <a:pt x="102" y="42"/>
                      </a:lnTo>
                      <a:lnTo>
                        <a:pt x="149" y="78"/>
                      </a:lnTo>
                      <a:lnTo>
                        <a:pt x="155" y="90"/>
                      </a:lnTo>
                      <a:lnTo>
                        <a:pt x="167" y="102"/>
                      </a:lnTo>
                      <a:lnTo>
                        <a:pt x="185" y="114"/>
                      </a:lnTo>
                      <a:lnTo>
                        <a:pt x="191" y="114"/>
                      </a:lnTo>
                      <a:lnTo>
                        <a:pt x="203" y="114"/>
                      </a:lnTo>
                      <a:lnTo>
                        <a:pt x="209" y="131"/>
                      </a:lnTo>
                      <a:lnTo>
                        <a:pt x="185" y="131"/>
                      </a:lnTo>
                      <a:lnTo>
                        <a:pt x="167" y="137"/>
                      </a:lnTo>
                      <a:lnTo>
                        <a:pt x="155" y="143"/>
                      </a:lnTo>
                      <a:lnTo>
                        <a:pt x="143" y="161"/>
                      </a:lnTo>
                      <a:lnTo>
                        <a:pt x="137" y="167"/>
                      </a:lnTo>
                      <a:lnTo>
                        <a:pt x="119" y="155"/>
                      </a:lnTo>
                      <a:lnTo>
                        <a:pt x="108" y="155"/>
                      </a:lnTo>
                      <a:lnTo>
                        <a:pt x="84" y="161"/>
                      </a:lnTo>
                      <a:lnTo>
                        <a:pt x="60" y="143"/>
                      </a:lnTo>
                      <a:lnTo>
                        <a:pt x="54" y="137"/>
                      </a:lnTo>
                      <a:lnTo>
                        <a:pt x="48" y="137"/>
                      </a:lnTo>
                      <a:lnTo>
                        <a:pt x="42" y="143"/>
                      </a:lnTo>
                      <a:lnTo>
                        <a:pt x="42" y="161"/>
                      </a:lnTo>
                      <a:lnTo>
                        <a:pt x="36" y="161"/>
                      </a:lnTo>
                      <a:lnTo>
                        <a:pt x="30" y="161"/>
                      </a:lnTo>
                      <a:lnTo>
                        <a:pt x="30" y="167"/>
                      </a:lnTo>
                      <a:lnTo>
                        <a:pt x="24" y="149"/>
                      </a:lnTo>
                      <a:lnTo>
                        <a:pt x="12" y="131"/>
                      </a:lnTo>
                      <a:lnTo>
                        <a:pt x="12" y="125"/>
                      </a:lnTo>
                      <a:lnTo>
                        <a:pt x="42" y="96"/>
                      </a:lnTo>
                      <a:lnTo>
                        <a:pt x="54" y="96"/>
                      </a:lnTo>
                      <a:lnTo>
                        <a:pt x="72" y="84"/>
                      </a:lnTo>
                      <a:lnTo>
                        <a:pt x="72" y="72"/>
                      </a:lnTo>
                      <a:lnTo>
                        <a:pt x="72" y="66"/>
                      </a:lnTo>
                      <a:lnTo>
                        <a:pt x="60" y="54"/>
                      </a:lnTo>
                      <a:lnTo>
                        <a:pt x="54" y="36"/>
                      </a:ln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6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23"/>
                <p:cNvSpPr/>
                <p:nvPr/>
              </p:nvSpPr>
              <p:spPr>
                <a:xfrm>
                  <a:off x="5223600" y="5370840"/>
                  <a:ext cx="316080" cy="30672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306720"/>
                    <a:gd name="textAreaBottom" fmla="*/ 307080 h 306720"/>
                  </a:gdLst>
                  <a:ahLst/>
                  <a:rect l="textAreaLeft" t="textAreaTop" r="textAreaRight" b="textAreaBottom"/>
                  <a:pathLst>
                    <a:path w="316" h="316">
                      <a:moveTo>
                        <a:pt x="0" y="48"/>
                      </a:moveTo>
                      <a:lnTo>
                        <a:pt x="0" y="30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24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72" y="6"/>
                      </a:lnTo>
                      <a:lnTo>
                        <a:pt x="78" y="12"/>
                      </a:lnTo>
                      <a:lnTo>
                        <a:pt x="83" y="12"/>
                      </a:lnTo>
                      <a:lnTo>
                        <a:pt x="83" y="24"/>
                      </a:lnTo>
                      <a:lnTo>
                        <a:pt x="95" y="30"/>
                      </a:lnTo>
                      <a:lnTo>
                        <a:pt x="107" y="42"/>
                      </a:lnTo>
                      <a:lnTo>
                        <a:pt x="149" y="59"/>
                      </a:lnTo>
                      <a:lnTo>
                        <a:pt x="167" y="65"/>
                      </a:lnTo>
                      <a:lnTo>
                        <a:pt x="203" y="83"/>
                      </a:lnTo>
                      <a:lnTo>
                        <a:pt x="215" y="77"/>
                      </a:lnTo>
                      <a:lnTo>
                        <a:pt x="221" y="83"/>
                      </a:lnTo>
                      <a:lnTo>
                        <a:pt x="245" y="95"/>
                      </a:lnTo>
                      <a:lnTo>
                        <a:pt x="251" y="95"/>
                      </a:lnTo>
                      <a:lnTo>
                        <a:pt x="245" y="107"/>
                      </a:lnTo>
                      <a:lnTo>
                        <a:pt x="233" y="113"/>
                      </a:lnTo>
                      <a:lnTo>
                        <a:pt x="227" y="125"/>
                      </a:lnTo>
                      <a:lnTo>
                        <a:pt x="161" y="161"/>
                      </a:lnTo>
                      <a:lnTo>
                        <a:pt x="161" y="167"/>
                      </a:lnTo>
                      <a:lnTo>
                        <a:pt x="155" y="179"/>
                      </a:lnTo>
                      <a:lnTo>
                        <a:pt x="155" y="185"/>
                      </a:lnTo>
                      <a:lnTo>
                        <a:pt x="173" y="197"/>
                      </a:lnTo>
                      <a:lnTo>
                        <a:pt x="179" y="203"/>
                      </a:lnTo>
                      <a:lnTo>
                        <a:pt x="239" y="191"/>
                      </a:lnTo>
                      <a:lnTo>
                        <a:pt x="251" y="197"/>
                      </a:lnTo>
                      <a:lnTo>
                        <a:pt x="280" y="203"/>
                      </a:lnTo>
                      <a:lnTo>
                        <a:pt x="298" y="215"/>
                      </a:lnTo>
                      <a:lnTo>
                        <a:pt x="304" y="215"/>
                      </a:lnTo>
                      <a:lnTo>
                        <a:pt x="316" y="227"/>
                      </a:lnTo>
                      <a:lnTo>
                        <a:pt x="298" y="238"/>
                      </a:lnTo>
                      <a:lnTo>
                        <a:pt x="292" y="244"/>
                      </a:lnTo>
                      <a:lnTo>
                        <a:pt x="298" y="262"/>
                      </a:lnTo>
                      <a:lnTo>
                        <a:pt x="286" y="262"/>
                      </a:lnTo>
                      <a:lnTo>
                        <a:pt x="274" y="274"/>
                      </a:lnTo>
                      <a:lnTo>
                        <a:pt x="245" y="292"/>
                      </a:lnTo>
                      <a:lnTo>
                        <a:pt x="245" y="298"/>
                      </a:lnTo>
                      <a:lnTo>
                        <a:pt x="239" y="316"/>
                      </a:lnTo>
                      <a:lnTo>
                        <a:pt x="221" y="316"/>
                      </a:lnTo>
                      <a:lnTo>
                        <a:pt x="215" y="316"/>
                      </a:lnTo>
                      <a:lnTo>
                        <a:pt x="209" y="298"/>
                      </a:lnTo>
                      <a:lnTo>
                        <a:pt x="197" y="286"/>
                      </a:lnTo>
                      <a:lnTo>
                        <a:pt x="179" y="274"/>
                      </a:lnTo>
                      <a:lnTo>
                        <a:pt x="173" y="274"/>
                      </a:lnTo>
                      <a:lnTo>
                        <a:pt x="161" y="250"/>
                      </a:lnTo>
                      <a:lnTo>
                        <a:pt x="143" y="238"/>
                      </a:lnTo>
                      <a:lnTo>
                        <a:pt x="119" y="227"/>
                      </a:lnTo>
                      <a:lnTo>
                        <a:pt x="113" y="215"/>
                      </a:lnTo>
                      <a:lnTo>
                        <a:pt x="89" y="161"/>
                      </a:lnTo>
                      <a:lnTo>
                        <a:pt x="78" y="131"/>
                      </a:lnTo>
                      <a:lnTo>
                        <a:pt x="66" y="107"/>
                      </a:lnTo>
                      <a:lnTo>
                        <a:pt x="48" y="83"/>
                      </a:lnTo>
                      <a:lnTo>
                        <a:pt x="24" y="65"/>
                      </a:lnTo>
                      <a:lnTo>
                        <a:pt x="24" y="71"/>
                      </a:lnTo>
                      <a:lnTo>
                        <a:pt x="12" y="65"/>
                      </a:lnTo>
                      <a:lnTo>
                        <a:pt x="6" y="6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24"/>
                <p:cNvSpPr/>
                <p:nvPr/>
              </p:nvSpPr>
              <p:spPr>
                <a:xfrm>
                  <a:off x="5575680" y="5370840"/>
                  <a:ext cx="267480" cy="185400"/>
                </a:xfrm>
                <a:custGeom>
                  <a:avLst/>
                  <a:gdLst>
                    <a:gd name="textAreaLeft" fmla="*/ 0 w 267480"/>
                    <a:gd name="textAreaRight" fmla="*/ 267840 w 26748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268" h="191">
                      <a:moveTo>
                        <a:pt x="36" y="6"/>
                      </a:moveTo>
                      <a:lnTo>
                        <a:pt x="42" y="6"/>
                      </a:lnTo>
                      <a:lnTo>
                        <a:pt x="54" y="12"/>
                      </a:lnTo>
                      <a:lnTo>
                        <a:pt x="60" y="12"/>
                      </a:lnTo>
                      <a:lnTo>
                        <a:pt x="72" y="24"/>
                      </a:lnTo>
                      <a:lnTo>
                        <a:pt x="89" y="18"/>
                      </a:lnTo>
                      <a:lnTo>
                        <a:pt x="101" y="24"/>
                      </a:lnTo>
                      <a:lnTo>
                        <a:pt x="131" y="6"/>
                      </a:lnTo>
                      <a:lnTo>
                        <a:pt x="185" y="0"/>
                      </a:lnTo>
                      <a:lnTo>
                        <a:pt x="191" y="12"/>
                      </a:lnTo>
                      <a:lnTo>
                        <a:pt x="197" y="18"/>
                      </a:lnTo>
                      <a:lnTo>
                        <a:pt x="215" y="18"/>
                      </a:lnTo>
                      <a:lnTo>
                        <a:pt x="233" y="18"/>
                      </a:lnTo>
                      <a:lnTo>
                        <a:pt x="245" y="30"/>
                      </a:lnTo>
                      <a:lnTo>
                        <a:pt x="256" y="59"/>
                      </a:lnTo>
                      <a:lnTo>
                        <a:pt x="250" y="65"/>
                      </a:lnTo>
                      <a:lnTo>
                        <a:pt x="268" y="77"/>
                      </a:lnTo>
                      <a:lnTo>
                        <a:pt x="268" y="95"/>
                      </a:lnTo>
                      <a:lnTo>
                        <a:pt x="268" y="113"/>
                      </a:lnTo>
                      <a:lnTo>
                        <a:pt x="268" y="125"/>
                      </a:lnTo>
                      <a:lnTo>
                        <a:pt x="268" y="143"/>
                      </a:lnTo>
                      <a:lnTo>
                        <a:pt x="262" y="155"/>
                      </a:lnTo>
                      <a:lnTo>
                        <a:pt x="256" y="161"/>
                      </a:lnTo>
                      <a:lnTo>
                        <a:pt x="227" y="173"/>
                      </a:lnTo>
                      <a:lnTo>
                        <a:pt x="221" y="179"/>
                      </a:lnTo>
                      <a:lnTo>
                        <a:pt x="203" y="173"/>
                      </a:lnTo>
                      <a:lnTo>
                        <a:pt x="179" y="173"/>
                      </a:lnTo>
                      <a:lnTo>
                        <a:pt x="167" y="179"/>
                      </a:lnTo>
                      <a:lnTo>
                        <a:pt x="143" y="173"/>
                      </a:lnTo>
                      <a:lnTo>
                        <a:pt x="131" y="173"/>
                      </a:lnTo>
                      <a:lnTo>
                        <a:pt x="119" y="179"/>
                      </a:lnTo>
                      <a:lnTo>
                        <a:pt x="89" y="191"/>
                      </a:lnTo>
                      <a:lnTo>
                        <a:pt x="77" y="173"/>
                      </a:lnTo>
                      <a:lnTo>
                        <a:pt x="60" y="143"/>
                      </a:lnTo>
                      <a:lnTo>
                        <a:pt x="48" y="137"/>
                      </a:lnTo>
                      <a:lnTo>
                        <a:pt x="36" y="113"/>
                      </a:lnTo>
                      <a:lnTo>
                        <a:pt x="18" y="101"/>
                      </a:lnTo>
                      <a:lnTo>
                        <a:pt x="12" y="101"/>
                      </a:lnTo>
                      <a:lnTo>
                        <a:pt x="0" y="89"/>
                      </a:lnTo>
                      <a:lnTo>
                        <a:pt x="0" y="77"/>
                      </a:lnTo>
                      <a:lnTo>
                        <a:pt x="6" y="53"/>
                      </a:lnTo>
                      <a:lnTo>
                        <a:pt x="18" y="48"/>
                      </a:lnTo>
                      <a:lnTo>
                        <a:pt x="18" y="12"/>
                      </a:lnTo>
                      <a:lnTo>
                        <a:pt x="24" y="0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125"/>
                <p:cNvSpPr/>
                <p:nvPr/>
              </p:nvSpPr>
              <p:spPr>
                <a:xfrm>
                  <a:off x="5993640" y="5376600"/>
                  <a:ext cx="177840" cy="231120"/>
                </a:xfrm>
                <a:custGeom>
                  <a:avLst/>
                  <a:gdLst>
                    <a:gd name="textAreaLeft" fmla="*/ 0 w 177840"/>
                    <a:gd name="textAreaRight" fmla="*/ 178200 w 17784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78" h="238">
                      <a:moveTo>
                        <a:pt x="89" y="24"/>
                      </a:moveTo>
                      <a:lnTo>
                        <a:pt x="95" y="42"/>
                      </a:lnTo>
                      <a:lnTo>
                        <a:pt x="101" y="53"/>
                      </a:lnTo>
                      <a:lnTo>
                        <a:pt x="101" y="59"/>
                      </a:lnTo>
                      <a:lnTo>
                        <a:pt x="101" y="65"/>
                      </a:lnTo>
                      <a:lnTo>
                        <a:pt x="101" y="71"/>
                      </a:lnTo>
                      <a:lnTo>
                        <a:pt x="113" y="89"/>
                      </a:lnTo>
                      <a:lnTo>
                        <a:pt x="113" y="95"/>
                      </a:lnTo>
                      <a:lnTo>
                        <a:pt x="119" y="107"/>
                      </a:lnTo>
                      <a:lnTo>
                        <a:pt x="119" y="113"/>
                      </a:lnTo>
                      <a:lnTo>
                        <a:pt x="119" y="119"/>
                      </a:lnTo>
                      <a:lnTo>
                        <a:pt x="119" y="125"/>
                      </a:lnTo>
                      <a:lnTo>
                        <a:pt x="131" y="125"/>
                      </a:lnTo>
                      <a:lnTo>
                        <a:pt x="137" y="125"/>
                      </a:lnTo>
                      <a:lnTo>
                        <a:pt x="143" y="125"/>
                      </a:lnTo>
                      <a:lnTo>
                        <a:pt x="143" y="137"/>
                      </a:lnTo>
                      <a:lnTo>
                        <a:pt x="149" y="149"/>
                      </a:lnTo>
                      <a:lnTo>
                        <a:pt x="155" y="155"/>
                      </a:lnTo>
                      <a:lnTo>
                        <a:pt x="167" y="167"/>
                      </a:lnTo>
                      <a:lnTo>
                        <a:pt x="173" y="191"/>
                      </a:lnTo>
                      <a:lnTo>
                        <a:pt x="178" y="203"/>
                      </a:lnTo>
                      <a:lnTo>
                        <a:pt x="173" y="227"/>
                      </a:lnTo>
                      <a:lnTo>
                        <a:pt x="161" y="232"/>
                      </a:lnTo>
                      <a:lnTo>
                        <a:pt x="143" y="238"/>
                      </a:lnTo>
                      <a:lnTo>
                        <a:pt x="125" y="232"/>
                      </a:lnTo>
                      <a:lnTo>
                        <a:pt x="125" y="221"/>
                      </a:lnTo>
                      <a:lnTo>
                        <a:pt x="95" y="209"/>
                      </a:lnTo>
                      <a:lnTo>
                        <a:pt x="77" y="209"/>
                      </a:lnTo>
                      <a:lnTo>
                        <a:pt x="65" y="209"/>
                      </a:lnTo>
                      <a:lnTo>
                        <a:pt x="47" y="209"/>
                      </a:lnTo>
                      <a:lnTo>
                        <a:pt x="35" y="209"/>
                      </a:lnTo>
                      <a:lnTo>
                        <a:pt x="29" y="215"/>
                      </a:lnTo>
                      <a:lnTo>
                        <a:pt x="29" y="221"/>
                      </a:lnTo>
                      <a:lnTo>
                        <a:pt x="29" y="227"/>
                      </a:lnTo>
                      <a:lnTo>
                        <a:pt x="17" y="232"/>
                      </a:lnTo>
                      <a:lnTo>
                        <a:pt x="0" y="238"/>
                      </a:lnTo>
                      <a:lnTo>
                        <a:pt x="0" y="215"/>
                      </a:lnTo>
                      <a:lnTo>
                        <a:pt x="5" y="197"/>
                      </a:lnTo>
                      <a:lnTo>
                        <a:pt x="11" y="161"/>
                      </a:lnTo>
                      <a:lnTo>
                        <a:pt x="23" y="149"/>
                      </a:lnTo>
                      <a:lnTo>
                        <a:pt x="29" y="137"/>
                      </a:lnTo>
                      <a:lnTo>
                        <a:pt x="17" y="107"/>
                      </a:lnTo>
                      <a:lnTo>
                        <a:pt x="17" y="101"/>
                      </a:lnTo>
                      <a:lnTo>
                        <a:pt x="35" y="77"/>
                      </a:lnTo>
                      <a:lnTo>
                        <a:pt x="35" y="71"/>
                      </a:lnTo>
                      <a:lnTo>
                        <a:pt x="41" y="53"/>
                      </a:lnTo>
                      <a:lnTo>
                        <a:pt x="35" y="47"/>
                      </a:lnTo>
                      <a:lnTo>
                        <a:pt x="53" y="6"/>
                      </a:lnTo>
                      <a:lnTo>
                        <a:pt x="59" y="6"/>
                      </a:lnTo>
                      <a:lnTo>
                        <a:pt x="65" y="0"/>
                      </a:lnTo>
                      <a:lnTo>
                        <a:pt x="77" y="12"/>
                      </a:lnTo>
                      <a:lnTo>
                        <a:pt x="83" y="18"/>
                      </a:lnTo>
                      <a:lnTo>
                        <a:pt x="89" y="18"/>
                      </a:lnTo>
                      <a:lnTo>
                        <a:pt x="89" y="24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26"/>
                <p:cNvSpPr/>
                <p:nvPr/>
              </p:nvSpPr>
              <p:spPr>
                <a:xfrm>
                  <a:off x="5873400" y="5451480"/>
                  <a:ext cx="148680" cy="18540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49" h="191">
                      <a:moveTo>
                        <a:pt x="0" y="72"/>
                      </a:moveTo>
                      <a:lnTo>
                        <a:pt x="18" y="48"/>
                      </a:lnTo>
                      <a:lnTo>
                        <a:pt x="24" y="42"/>
                      </a:lnTo>
                      <a:lnTo>
                        <a:pt x="24" y="36"/>
                      </a:lnTo>
                      <a:lnTo>
                        <a:pt x="30" y="36"/>
                      </a:lnTo>
                      <a:lnTo>
                        <a:pt x="36" y="24"/>
                      </a:lnTo>
                      <a:lnTo>
                        <a:pt x="54" y="12"/>
                      </a:lnTo>
                      <a:lnTo>
                        <a:pt x="54" y="0"/>
                      </a:lnTo>
                      <a:lnTo>
                        <a:pt x="66" y="0"/>
                      </a:lnTo>
                      <a:lnTo>
                        <a:pt x="78" y="6"/>
                      </a:lnTo>
                      <a:lnTo>
                        <a:pt x="102" y="0"/>
                      </a:lnTo>
                      <a:lnTo>
                        <a:pt x="108" y="12"/>
                      </a:lnTo>
                      <a:lnTo>
                        <a:pt x="114" y="18"/>
                      </a:lnTo>
                      <a:lnTo>
                        <a:pt x="125" y="30"/>
                      </a:lnTo>
                      <a:lnTo>
                        <a:pt x="131" y="30"/>
                      </a:lnTo>
                      <a:lnTo>
                        <a:pt x="137" y="30"/>
                      </a:lnTo>
                      <a:lnTo>
                        <a:pt x="149" y="60"/>
                      </a:lnTo>
                      <a:lnTo>
                        <a:pt x="143" y="72"/>
                      </a:lnTo>
                      <a:lnTo>
                        <a:pt x="131" y="84"/>
                      </a:lnTo>
                      <a:lnTo>
                        <a:pt x="125" y="120"/>
                      </a:lnTo>
                      <a:lnTo>
                        <a:pt x="120" y="138"/>
                      </a:lnTo>
                      <a:lnTo>
                        <a:pt x="120" y="161"/>
                      </a:lnTo>
                      <a:lnTo>
                        <a:pt x="108" y="167"/>
                      </a:lnTo>
                      <a:lnTo>
                        <a:pt x="96" y="179"/>
                      </a:lnTo>
                      <a:lnTo>
                        <a:pt x="90" y="191"/>
                      </a:lnTo>
                      <a:lnTo>
                        <a:pt x="84" y="191"/>
                      </a:lnTo>
                      <a:lnTo>
                        <a:pt x="78" y="179"/>
                      </a:lnTo>
                      <a:lnTo>
                        <a:pt x="72" y="167"/>
                      </a:lnTo>
                      <a:lnTo>
                        <a:pt x="54" y="161"/>
                      </a:lnTo>
                      <a:lnTo>
                        <a:pt x="48" y="161"/>
                      </a:lnTo>
                      <a:lnTo>
                        <a:pt x="54" y="144"/>
                      </a:lnTo>
                      <a:lnTo>
                        <a:pt x="60" y="132"/>
                      </a:lnTo>
                      <a:lnTo>
                        <a:pt x="66" y="120"/>
                      </a:lnTo>
                      <a:lnTo>
                        <a:pt x="66" y="108"/>
                      </a:lnTo>
                      <a:lnTo>
                        <a:pt x="60" y="96"/>
                      </a:lnTo>
                      <a:lnTo>
                        <a:pt x="48" y="96"/>
                      </a:lnTo>
                      <a:lnTo>
                        <a:pt x="42" y="90"/>
                      </a:lnTo>
                      <a:lnTo>
                        <a:pt x="24" y="84"/>
                      </a:lnTo>
                      <a:lnTo>
                        <a:pt x="6" y="7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27"/>
                <p:cNvSpPr/>
                <p:nvPr/>
              </p:nvSpPr>
              <p:spPr>
                <a:xfrm>
                  <a:off x="5378400" y="5457240"/>
                  <a:ext cx="285840" cy="13392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286" h="138">
                      <a:moveTo>
                        <a:pt x="96" y="6"/>
                      </a:moveTo>
                      <a:lnTo>
                        <a:pt x="107" y="6"/>
                      </a:lnTo>
                      <a:lnTo>
                        <a:pt x="119" y="0"/>
                      </a:lnTo>
                      <a:lnTo>
                        <a:pt x="125" y="0"/>
                      </a:lnTo>
                      <a:lnTo>
                        <a:pt x="143" y="0"/>
                      </a:lnTo>
                      <a:lnTo>
                        <a:pt x="173" y="12"/>
                      </a:lnTo>
                      <a:lnTo>
                        <a:pt x="209" y="12"/>
                      </a:lnTo>
                      <a:lnTo>
                        <a:pt x="215" y="12"/>
                      </a:lnTo>
                      <a:lnTo>
                        <a:pt x="233" y="24"/>
                      </a:lnTo>
                      <a:lnTo>
                        <a:pt x="245" y="48"/>
                      </a:lnTo>
                      <a:lnTo>
                        <a:pt x="257" y="54"/>
                      </a:lnTo>
                      <a:lnTo>
                        <a:pt x="274" y="84"/>
                      </a:lnTo>
                      <a:lnTo>
                        <a:pt x="286" y="102"/>
                      </a:lnTo>
                      <a:lnTo>
                        <a:pt x="274" y="108"/>
                      </a:lnTo>
                      <a:lnTo>
                        <a:pt x="269" y="108"/>
                      </a:lnTo>
                      <a:lnTo>
                        <a:pt x="263" y="114"/>
                      </a:lnTo>
                      <a:lnTo>
                        <a:pt x="257" y="120"/>
                      </a:lnTo>
                      <a:lnTo>
                        <a:pt x="245" y="126"/>
                      </a:lnTo>
                      <a:lnTo>
                        <a:pt x="233" y="132"/>
                      </a:lnTo>
                      <a:lnTo>
                        <a:pt x="209" y="126"/>
                      </a:lnTo>
                      <a:lnTo>
                        <a:pt x="185" y="126"/>
                      </a:lnTo>
                      <a:lnTo>
                        <a:pt x="161" y="138"/>
                      </a:lnTo>
                      <a:lnTo>
                        <a:pt x="149" y="126"/>
                      </a:lnTo>
                      <a:lnTo>
                        <a:pt x="143" y="126"/>
                      </a:lnTo>
                      <a:lnTo>
                        <a:pt x="125" y="114"/>
                      </a:lnTo>
                      <a:lnTo>
                        <a:pt x="96" y="108"/>
                      </a:lnTo>
                      <a:lnTo>
                        <a:pt x="84" y="102"/>
                      </a:lnTo>
                      <a:lnTo>
                        <a:pt x="24" y="114"/>
                      </a:lnTo>
                      <a:lnTo>
                        <a:pt x="18" y="108"/>
                      </a:lnTo>
                      <a:lnTo>
                        <a:pt x="0" y="96"/>
                      </a:lnTo>
                      <a:lnTo>
                        <a:pt x="0" y="90"/>
                      </a:lnTo>
                      <a:lnTo>
                        <a:pt x="6" y="78"/>
                      </a:lnTo>
                      <a:lnTo>
                        <a:pt x="6" y="72"/>
                      </a:lnTo>
                      <a:lnTo>
                        <a:pt x="72" y="36"/>
                      </a:lnTo>
                      <a:lnTo>
                        <a:pt x="78" y="24"/>
                      </a:lnTo>
                      <a:lnTo>
                        <a:pt x="90" y="18"/>
                      </a:lnTo>
                      <a:lnTo>
                        <a:pt x="96" y="6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128"/>
                <p:cNvSpPr/>
                <p:nvPr/>
              </p:nvSpPr>
              <p:spPr>
                <a:xfrm>
                  <a:off x="5784480" y="5509800"/>
                  <a:ext cx="154800" cy="11556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155" h="119">
                      <a:moveTo>
                        <a:pt x="59" y="0"/>
                      </a:moveTo>
                      <a:lnTo>
                        <a:pt x="71" y="0"/>
                      </a:lnTo>
                      <a:lnTo>
                        <a:pt x="89" y="12"/>
                      </a:lnTo>
                      <a:lnTo>
                        <a:pt x="95" y="18"/>
                      </a:lnTo>
                      <a:lnTo>
                        <a:pt x="113" y="24"/>
                      </a:lnTo>
                      <a:lnTo>
                        <a:pt x="131" y="30"/>
                      </a:lnTo>
                      <a:lnTo>
                        <a:pt x="137" y="36"/>
                      </a:lnTo>
                      <a:lnTo>
                        <a:pt x="149" y="36"/>
                      </a:lnTo>
                      <a:lnTo>
                        <a:pt x="155" y="48"/>
                      </a:lnTo>
                      <a:lnTo>
                        <a:pt x="155" y="60"/>
                      </a:lnTo>
                      <a:lnTo>
                        <a:pt x="149" y="72"/>
                      </a:lnTo>
                      <a:lnTo>
                        <a:pt x="143" y="84"/>
                      </a:lnTo>
                      <a:lnTo>
                        <a:pt x="137" y="101"/>
                      </a:lnTo>
                      <a:lnTo>
                        <a:pt x="131" y="107"/>
                      </a:lnTo>
                      <a:lnTo>
                        <a:pt x="107" y="107"/>
                      </a:lnTo>
                      <a:lnTo>
                        <a:pt x="77" y="119"/>
                      </a:lnTo>
                      <a:lnTo>
                        <a:pt x="59" y="113"/>
                      </a:lnTo>
                      <a:lnTo>
                        <a:pt x="47" y="113"/>
                      </a:lnTo>
                      <a:lnTo>
                        <a:pt x="36" y="113"/>
                      </a:lnTo>
                      <a:lnTo>
                        <a:pt x="12" y="101"/>
                      </a:lnTo>
                      <a:lnTo>
                        <a:pt x="0" y="107"/>
                      </a:lnTo>
                      <a:lnTo>
                        <a:pt x="0" y="84"/>
                      </a:lnTo>
                      <a:lnTo>
                        <a:pt x="6" y="66"/>
                      </a:lnTo>
                      <a:lnTo>
                        <a:pt x="6" y="54"/>
                      </a:lnTo>
                      <a:lnTo>
                        <a:pt x="12" y="36"/>
                      </a:lnTo>
                      <a:lnTo>
                        <a:pt x="18" y="30"/>
                      </a:lnTo>
                      <a:lnTo>
                        <a:pt x="47" y="18"/>
                      </a:lnTo>
                      <a:lnTo>
                        <a:pt x="53" y="12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1700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129"/>
                <p:cNvSpPr/>
                <p:nvPr/>
              </p:nvSpPr>
              <p:spPr>
                <a:xfrm>
                  <a:off x="6863400" y="2819520"/>
                  <a:ext cx="1330920" cy="1165680"/>
                </a:xfrm>
                <a:custGeom>
                  <a:avLst/>
                  <a:gdLst>
                    <a:gd name="textAreaLeft" fmla="*/ 0 w 1330920"/>
                    <a:gd name="textAreaRight" fmla="*/ 1331280 w 1330920"/>
                    <a:gd name="textAreaTop" fmla="*/ 0 h 1165680"/>
                    <a:gd name="textAreaBottom" fmla="*/ 1166040 h 1165680"/>
                  </a:gdLst>
                  <a:ahLst/>
                  <a:rect l="textAreaLeft" t="textAreaTop" r="textAreaRight" b="textAreaBottom"/>
                  <a:pathLst>
                    <a:path w="1331" h="1200">
                      <a:moveTo>
                        <a:pt x="854" y="60"/>
                      </a:moveTo>
                      <a:lnTo>
                        <a:pt x="925" y="48"/>
                      </a:lnTo>
                      <a:lnTo>
                        <a:pt x="979" y="36"/>
                      </a:lnTo>
                      <a:lnTo>
                        <a:pt x="1110" y="0"/>
                      </a:lnTo>
                      <a:lnTo>
                        <a:pt x="1110" y="6"/>
                      </a:lnTo>
                      <a:lnTo>
                        <a:pt x="1116" y="12"/>
                      </a:lnTo>
                      <a:lnTo>
                        <a:pt x="1116" y="18"/>
                      </a:lnTo>
                      <a:lnTo>
                        <a:pt x="1116" y="24"/>
                      </a:lnTo>
                      <a:lnTo>
                        <a:pt x="1116" y="30"/>
                      </a:lnTo>
                      <a:lnTo>
                        <a:pt x="1116" y="36"/>
                      </a:lnTo>
                      <a:lnTo>
                        <a:pt x="1110" y="36"/>
                      </a:lnTo>
                      <a:lnTo>
                        <a:pt x="1110" y="42"/>
                      </a:lnTo>
                      <a:lnTo>
                        <a:pt x="1116" y="42"/>
                      </a:lnTo>
                      <a:lnTo>
                        <a:pt x="1116" y="48"/>
                      </a:lnTo>
                      <a:lnTo>
                        <a:pt x="1122" y="48"/>
                      </a:lnTo>
                      <a:lnTo>
                        <a:pt x="1122" y="54"/>
                      </a:lnTo>
                      <a:lnTo>
                        <a:pt x="1128" y="54"/>
                      </a:lnTo>
                      <a:lnTo>
                        <a:pt x="1128" y="60"/>
                      </a:lnTo>
                      <a:lnTo>
                        <a:pt x="1122" y="66"/>
                      </a:lnTo>
                      <a:lnTo>
                        <a:pt x="1122" y="72"/>
                      </a:lnTo>
                      <a:lnTo>
                        <a:pt x="1122" y="78"/>
                      </a:lnTo>
                      <a:lnTo>
                        <a:pt x="1128" y="78"/>
                      </a:lnTo>
                      <a:lnTo>
                        <a:pt x="1128" y="84"/>
                      </a:lnTo>
                      <a:lnTo>
                        <a:pt x="1128" y="90"/>
                      </a:lnTo>
                      <a:lnTo>
                        <a:pt x="1128" y="96"/>
                      </a:lnTo>
                      <a:lnTo>
                        <a:pt x="1128" y="102"/>
                      </a:lnTo>
                      <a:lnTo>
                        <a:pt x="1128" y="108"/>
                      </a:lnTo>
                      <a:lnTo>
                        <a:pt x="1134" y="114"/>
                      </a:lnTo>
                      <a:lnTo>
                        <a:pt x="1134" y="120"/>
                      </a:lnTo>
                      <a:lnTo>
                        <a:pt x="1140" y="120"/>
                      </a:lnTo>
                      <a:lnTo>
                        <a:pt x="1140" y="126"/>
                      </a:lnTo>
                      <a:lnTo>
                        <a:pt x="1140" y="120"/>
                      </a:lnTo>
                      <a:lnTo>
                        <a:pt x="1140" y="126"/>
                      </a:lnTo>
                      <a:lnTo>
                        <a:pt x="1146" y="126"/>
                      </a:lnTo>
                      <a:lnTo>
                        <a:pt x="1146" y="132"/>
                      </a:lnTo>
                      <a:lnTo>
                        <a:pt x="1146" y="138"/>
                      </a:lnTo>
                      <a:lnTo>
                        <a:pt x="1152" y="138"/>
                      </a:lnTo>
                      <a:lnTo>
                        <a:pt x="1152" y="143"/>
                      </a:lnTo>
                      <a:lnTo>
                        <a:pt x="1158" y="149"/>
                      </a:lnTo>
                      <a:lnTo>
                        <a:pt x="1158" y="155"/>
                      </a:lnTo>
                      <a:lnTo>
                        <a:pt x="1158" y="161"/>
                      </a:lnTo>
                      <a:lnTo>
                        <a:pt x="1152" y="167"/>
                      </a:lnTo>
                      <a:lnTo>
                        <a:pt x="1152" y="173"/>
                      </a:lnTo>
                      <a:lnTo>
                        <a:pt x="1158" y="173"/>
                      </a:lnTo>
                      <a:lnTo>
                        <a:pt x="1158" y="179"/>
                      </a:lnTo>
                      <a:lnTo>
                        <a:pt x="1158" y="185"/>
                      </a:lnTo>
                      <a:lnTo>
                        <a:pt x="1164" y="185"/>
                      </a:lnTo>
                      <a:lnTo>
                        <a:pt x="1164" y="191"/>
                      </a:lnTo>
                      <a:lnTo>
                        <a:pt x="1164" y="197"/>
                      </a:lnTo>
                      <a:lnTo>
                        <a:pt x="1164" y="203"/>
                      </a:lnTo>
                      <a:lnTo>
                        <a:pt x="1164" y="209"/>
                      </a:lnTo>
                      <a:lnTo>
                        <a:pt x="1158" y="209"/>
                      </a:lnTo>
                      <a:lnTo>
                        <a:pt x="1158" y="215"/>
                      </a:lnTo>
                      <a:lnTo>
                        <a:pt x="1158" y="221"/>
                      </a:lnTo>
                      <a:lnTo>
                        <a:pt x="1158" y="227"/>
                      </a:lnTo>
                      <a:lnTo>
                        <a:pt x="1158" y="233"/>
                      </a:lnTo>
                      <a:lnTo>
                        <a:pt x="1152" y="239"/>
                      </a:lnTo>
                      <a:lnTo>
                        <a:pt x="1158" y="245"/>
                      </a:lnTo>
                      <a:lnTo>
                        <a:pt x="1158" y="251"/>
                      </a:lnTo>
                      <a:lnTo>
                        <a:pt x="1152" y="251"/>
                      </a:lnTo>
                      <a:lnTo>
                        <a:pt x="1152" y="257"/>
                      </a:lnTo>
                      <a:lnTo>
                        <a:pt x="1152" y="263"/>
                      </a:lnTo>
                      <a:lnTo>
                        <a:pt x="1158" y="263"/>
                      </a:lnTo>
                      <a:lnTo>
                        <a:pt x="1158" y="269"/>
                      </a:lnTo>
                      <a:lnTo>
                        <a:pt x="1164" y="269"/>
                      </a:lnTo>
                      <a:lnTo>
                        <a:pt x="1164" y="275"/>
                      </a:lnTo>
                      <a:lnTo>
                        <a:pt x="1164" y="281"/>
                      </a:lnTo>
                      <a:lnTo>
                        <a:pt x="1164" y="287"/>
                      </a:lnTo>
                      <a:lnTo>
                        <a:pt x="1170" y="287"/>
                      </a:lnTo>
                      <a:lnTo>
                        <a:pt x="1170" y="293"/>
                      </a:lnTo>
                      <a:lnTo>
                        <a:pt x="1170" y="299"/>
                      </a:lnTo>
                      <a:lnTo>
                        <a:pt x="1176" y="299"/>
                      </a:lnTo>
                      <a:lnTo>
                        <a:pt x="1176" y="305"/>
                      </a:lnTo>
                      <a:lnTo>
                        <a:pt x="1176" y="311"/>
                      </a:lnTo>
                      <a:lnTo>
                        <a:pt x="1182" y="317"/>
                      </a:lnTo>
                      <a:lnTo>
                        <a:pt x="1182" y="322"/>
                      </a:lnTo>
                      <a:lnTo>
                        <a:pt x="1182" y="328"/>
                      </a:lnTo>
                      <a:lnTo>
                        <a:pt x="1188" y="328"/>
                      </a:lnTo>
                      <a:lnTo>
                        <a:pt x="1188" y="334"/>
                      </a:lnTo>
                      <a:lnTo>
                        <a:pt x="1188" y="340"/>
                      </a:lnTo>
                      <a:lnTo>
                        <a:pt x="1188" y="346"/>
                      </a:lnTo>
                      <a:lnTo>
                        <a:pt x="1188" y="352"/>
                      </a:lnTo>
                      <a:lnTo>
                        <a:pt x="1188" y="358"/>
                      </a:lnTo>
                      <a:lnTo>
                        <a:pt x="1188" y="364"/>
                      </a:lnTo>
                      <a:lnTo>
                        <a:pt x="1188" y="370"/>
                      </a:lnTo>
                      <a:lnTo>
                        <a:pt x="1188" y="376"/>
                      </a:lnTo>
                      <a:lnTo>
                        <a:pt x="1188" y="382"/>
                      </a:lnTo>
                      <a:lnTo>
                        <a:pt x="1188" y="388"/>
                      </a:lnTo>
                      <a:lnTo>
                        <a:pt x="1194" y="388"/>
                      </a:lnTo>
                      <a:lnTo>
                        <a:pt x="1200" y="388"/>
                      </a:lnTo>
                      <a:lnTo>
                        <a:pt x="1200" y="382"/>
                      </a:lnTo>
                      <a:lnTo>
                        <a:pt x="1200" y="376"/>
                      </a:lnTo>
                      <a:lnTo>
                        <a:pt x="1205" y="370"/>
                      </a:lnTo>
                      <a:lnTo>
                        <a:pt x="1211" y="370"/>
                      </a:lnTo>
                      <a:lnTo>
                        <a:pt x="1211" y="376"/>
                      </a:lnTo>
                      <a:lnTo>
                        <a:pt x="1217" y="376"/>
                      </a:lnTo>
                      <a:lnTo>
                        <a:pt x="1217" y="382"/>
                      </a:lnTo>
                      <a:lnTo>
                        <a:pt x="1211" y="382"/>
                      </a:lnTo>
                      <a:lnTo>
                        <a:pt x="1217" y="382"/>
                      </a:lnTo>
                      <a:lnTo>
                        <a:pt x="1217" y="388"/>
                      </a:lnTo>
                      <a:lnTo>
                        <a:pt x="1223" y="388"/>
                      </a:lnTo>
                      <a:lnTo>
                        <a:pt x="1223" y="394"/>
                      </a:lnTo>
                      <a:lnTo>
                        <a:pt x="1229" y="394"/>
                      </a:lnTo>
                      <a:lnTo>
                        <a:pt x="1229" y="400"/>
                      </a:lnTo>
                      <a:lnTo>
                        <a:pt x="1241" y="454"/>
                      </a:lnTo>
                      <a:lnTo>
                        <a:pt x="1259" y="555"/>
                      </a:lnTo>
                      <a:lnTo>
                        <a:pt x="1265" y="585"/>
                      </a:lnTo>
                      <a:lnTo>
                        <a:pt x="1265" y="591"/>
                      </a:lnTo>
                      <a:lnTo>
                        <a:pt x="1265" y="597"/>
                      </a:lnTo>
                      <a:lnTo>
                        <a:pt x="1271" y="609"/>
                      </a:lnTo>
                      <a:lnTo>
                        <a:pt x="1277" y="609"/>
                      </a:lnTo>
                      <a:lnTo>
                        <a:pt x="1271" y="681"/>
                      </a:lnTo>
                      <a:lnTo>
                        <a:pt x="1271" y="800"/>
                      </a:lnTo>
                      <a:lnTo>
                        <a:pt x="1277" y="812"/>
                      </a:lnTo>
                      <a:lnTo>
                        <a:pt x="1295" y="913"/>
                      </a:lnTo>
                      <a:lnTo>
                        <a:pt x="1301" y="955"/>
                      </a:lnTo>
                      <a:lnTo>
                        <a:pt x="1307" y="997"/>
                      </a:lnTo>
                      <a:lnTo>
                        <a:pt x="1313" y="1021"/>
                      </a:lnTo>
                      <a:lnTo>
                        <a:pt x="1331" y="1039"/>
                      </a:lnTo>
                      <a:lnTo>
                        <a:pt x="1289" y="1080"/>
                      </a:lnTo>
                      <a:lnTo>
                        <a:pt x="1313" y="1098"/>
                      </a:lnTo>
                      <a:lnTo>
                        <a:pt x="1313" y="1104"/>
                      </a:lnTo>
                      <a:lnTo>
                        <a:pt x="1313" y="1110"/>
                      </a:lnTo>
                      <a:lnTo>
                        <a:pt x="1313" y="1116"/>
                      </a:lnTo>
                      <a:lnTo>
                        <a:pt x="1307" y="1122"/>
                      </a:lnTo>
                      <a:lnTo>
                        <a:pt x="1307" y="1116"/>
                      </a:lnTo>
                      <a:lnTo>
                        <a:pt x="1307" y="1122"/>
                      </a:lnTo>
                      <a:lnTo>
                        <a:pt x="1301" y="1122"/>
                      </a:lnTo>
                      <a:lnTo>
                        <a:pt x="1301" y="1116"/>
                      </a:lnTo>
                      <a:lnTo>
                        <a:pt x="1301" y="1122"/>
                      </a:lnTo>
                      <a:lnTo>
                        <a:pt x="1301" y="1128"/>
                      </a:lnTo>
                      <a:lnTo>
                        <a:pt x="1301" y="1134"/>
                      </a:lnTo>
                      <a:lnTo>
                        <a:pt x="1295" y="1134"/>
                      </a:lnTo>
                      <a:lnTo>
                        <a:pt x="1295" y="1140"/>
                      </a:lnTo>
                      <a:lnTo>
                        <a:pt x="1295" y="1146"/>
                      </a:lnTo>
                      <a:lnTo>
                        <a:pt x="1289" y="1146"/>
                      </a:lnTo>
                      <a:lnTo>
                        <a:pt x="1289" y="1152"/>
                      </a:lnTo>
                      <a:lnTo>
                        <a:pt x="1295" y="1158"/>
                      </a:lnTo>
                      <a:lnTo>
                        <a:pt x="1289" y="1158"/>
                      </a:lnTo>
                      <a:lnTo>
                        <a:pt x="1289" y="1164"/>
                      </a:lnTo>
                      <a:lnTo>
                        <a:pt x="1289" y="1158"/>
                      </a:lnTo>
                      <a:lnTo>
                        <a:pt x="1283" y="1158"/>
                      </a:lnTo>
                      <a:lnTo>
                        <a:pt x="1283" y="1164"/>
                      </a:lnTo>
                      <a:lnTo>
                        <a:pt x="1277" y="1164"/>
                      </a:lnTo>
                      <a:lnTo>
                        <a:pt x="1283" y="1164"/>
                      </a:lnTo>
                      <a:lnTo>
                        <a:pt x="1277" y="1164"/>
                      </a:lnTo>
                      <a:lnTo>
                        <a:pt x="1271" y="1164"/>
                      </a:lnTo>
                      <a:lnTo>
                        <a:pt x="1271" y="1170"/>
                      </a:lnTo>
                      <a:lnTo>
                        <a:pt x="1271" y="1176"/>
                      </a:lnTo>
                      <a:lnTo>
                        <a:pt x="1265" y="1176"/>
                      </a:lnTo>
                      <a:lnTo>
                        <a:pt x="1265" y="1182"/>
                      </a:lnTo>
                      <a:lnTo>
                        <a:pt x="1265" y="1188"/>
                      </a:lnTo>
                      <a:lnTo>
                        <a:pt x="1265" y="1194"/>
                      </a:lnTo>
                      <a:lnTo>
                        <a:pt x="1265" y="1200"/>
                      </a:lnTo>
                      <a:lnTo>
                        <a:pt x="1259" y="1200"/>
                      </a:lnTo>
                      <a:lnTo>
                        <a:pt x="1259" y="1194"/>
                      </a:lnTo>
                      <a:lnTo>
                        <a:pt x="1259" y="1188"/>
                      </a:lnTo>
                      <a:lnTo>
                        <a:pt x="1259" y="1182"/>
                      </a:lnTo>
                      <a:lnTo>
                        <a:pt x="1259" y="1176"/>
                      </a:lnTo>
                      <a:lnTo>
                        <a:pt x="1259" y="1170"/>
                      </a:lnTo>
                      <a:lnTo>
                        <a:pt x="1259" y="1164"/>
                      </a:lnTo>
                      <a:lnTo>
                        <a:pt x="1259" y="1158"/>
                      </a:lnTo>
                      <a:lnTo>
                        <a:pt x="1265" y="1158"/>
                      </a:lnTo>
                      <a:lnTo>
                        <a:pt x="1265" y="1152"/>
                      </a:lnTo>
                      <a:lnTo>
                        <a:pt x="1265" y="1146"/>
                      </a:lnTo>
                      <a:lnTo>
                        <a:pt x="1265" y="1140"/>
                      </a:lnTo>
                      <a:lnTo>
                        <a:pt x="1265" y="1134"/>
                      </a:lnTo>
                      <a:lnTo>
                        <a:pt x="1265" y="1128"/>
                      </a:lnTo>
                      <a:lnTo>
                        <a:pt x="1265" y="1122"/>
                      </a:lnTo>
                      <a:lnTo>
                        <a:pt x="1265" y="1116"/>
                      </a:lnTo>
                      <a:lnTo>
                        <a:pt x="1259" y="1116"/>
                      </a:lnTo>
                      <a:lnTo>
                        <a:pt x="1188" y="1098"/>
                      </a:lnTo>
                      <a:lnTo>
                        <a:pt x="1182" y="1092"/>
                      </a:lnTo>
                      <a:lnTo>
                        <a:pt x="1152" y="1086"/>
                      </a:lnTo>
                      <a:lnTo>
                        <a:pt x="1074" y="1056"/>
                      </a:lnTo>
                      <a:lnTo>
                        <a:pt x="1074" y="1050"/>
                      </a:lnTo>
                      <a:lnTo>
                        <a:pt x="1068" y="1050"/>
                      </a:lnTo>
                      <a:lnTo>
                        <a:pt x="1068" y="1045"/>
                      </a:lnTo>
                      <a:lnTo>
                        <a:pt x="1062" y="1045"/>
                      </a:lnTo>
                      <a:lnTo>
                        <a:pt x="1062" y="1039"/>
                      </a:lnTo>
                      <a:lnTo>
                        <a:pt x="1056" y="1039"/>
                      </a:lnTo>
                      <a:lnTo>
                        <a:pt x="1050" y="1039"/>
                      </a:lnTo>
                      <a:lnTo>
                        <a:pt x="1044" y="1039"/>
                      </a:lnTo>
                      <a:lnTo>
                        <a:pt x="1038" y="1039"/>
                      </a:lnTo>
                      <a:lnTo>
                        <a:pt x="1032" y="1039"/>
                      </a:lnTo>
                      <a:lnTo>
                        <a:pt x="1027" y="1039"/>
                      </a:lnTo>
                      <a:lnTo>
                        <a:pt x="1027" y="1033"/>
                      </a:lnTo>
                      <a:lnTo>
                        <a:pt x="1021" y="1033"/>
                      </a:lnTo>
                      <a:lnTo>
                        <a:pt x="1015" y="1033"/>
                      </a:lnTo>
                      <a:lnTo>
                        <a:pt x="1009" y="1033"/>
                      </a:lnTo>
                      <a:lnTo>
                        <a:pt x="1009" y="1027"/>
                      </a:lnTo>
                      <a:lnTo>
                        <a:pt x="1003" y="1027"/>
                      </a:lnTo>
                      <a:lnTo>
                        <a:pt x="1003" y="1021"/>
                      </a:lnTo>
                      <a:lnTo>
                        <a:pt x="997" y="1015"/>
                      </a:lnTo>
                      <a:lnTo>
                        <a:pt x="991" y="1009"/>
                      </a:lnTo>
                      <a:lnTo>
                        <a:pt x="985" y="1003"/>
                      </a:lnTo>
                      <a:lnTo>
                        <a:pt x="985" y="997"/>
                      </a:lnTo>
                      <a:lnTo>
                        <a:pt x="985" y="991"/>
                      </a:lnTo>
                      <a:lnTo>
                        <a:pt x="985" y="985"/>
                      </a:lnTo>
                      <a:lnTo>
                        <a:pt x="985" y="979"/>
                      </a:lnTo>
                      <a:lnTo>
                        <a:pt x="979" y="979"/>
                      </a:lnTo>
                      <a:lnTo>
                        <a:pt x="979" y="973"/>
                      </a:lnTo>
                      <a:lnTo>
                        <a:pt x="979" y="967"/>
                      </a:lnTo>
                      <a:lnTo>
                        <a:pt x="979" y="961"/>
                      </a:lnTo>
                      <a:lnTo>
                        <a:pt x="973" y="961"/>
                      </a:lnTo>
                      <a:lnTo>
                        <a:pt x="967" y="955"/>
                      </a:lnTo>
                      <a:lnTo>
                        <a:pt x="967" y="949"/>
                      </a:lnTo>
                      <a:lnTo>
                        <a:pt x="973" y="949"/>
                      </a:lnTo>
                      <a:lnTo>
                        <a:pt x="967" y="949"/>
                      </a:lnTo>
                      <a:lnTo>
                        <a:pt x="967" y="943"/>
                      </a:lnTo>
                      <a:lnTo>
                        <a:pt x="961" y="943"/>
                      </a:lnTo>
                      <a:lnTo>
                        <a:pt x="961" y="937"/>
                      </a:lnTo>
                      <a:lnTo>
                        <a:pt x="955" y="937"/>
                      </a:lnTo>
                      <a:lnTo>
                        <a:pt x="949" y="937"/>
                      </a:lnTo>
                      <a:lnTo>
                        <a:pt x="943" y="937"/>
                      </a:lnTo>
                      <a:lnTo>
                        <a:pt x="937" y="937"/>
                      </a:lnTo>
                      <a:lnTo>
                        <a:pt x="937" y="943"/>
                      </a:lnTo>
                      <a:lnTo>
                        <a:pt x="931" y="943"/>
                      </a:lnTo>
                      <a:lnTo>
                        <a:pt x="931" y="937"/>
                      </a:lnTo>
                      <a:lnTo>
                        <a:pt x="931" y="931"/>
                      </a:lnTo>
                      <a:lnTo>
                        <a:pt x="925" y="931"/>
                      </a:lnTo>
                      <a:lnTo>
                        <a:pt x="925" y="925"/>
                      </a:lnTo>
                      <a:lnTo>
                        <a:pt x="925" y="919"/>
                      </a:lnTo>
                      <a:lnTo>
                        <a:pt x="919" y="919"/>
                      </a:lnTo>
                      <a:lnTo>
                        <a:pt x="913" y="919"/>
                      </a:lnTo>
                      <a:lnTo>
                        <a:pt x="907" y="913"/>
                      </a:lnTo>
                      <a:lnTo>
                        <a:pt x="907" y="907"/>
                      </a:lnTo>
                      <a:lnTo>
                        <a:pt x="901" y="913"/>
                      </a:lnTo>
                      <a:lnTo>
                        <a:pt x="877" y="913"/>
                      </a:lnTo>
                      <a:lnTo>
                        <a:pt x="752" y="943"/>
                      </a:lnTo>
                      <a:lnTo>
                        <a:pt x="746" y="943"/>
                      </a:lnTo>
                      <a:lnTo>
                        <a:pt x="663" y="961"/>
                      </a:lnTo>
                      <a:lnTo>
                        <a:pt x="585" y="973"/>
                      </a:lnTo>
                      <a:lnTo>
                        <a:pt x="579" y="979"/>
                      </a:lnTo>
                      <a:lnTo>
                        <a:pt x="448" y="1003"/>
                      </a:lnTo>
                      <a:lnTo>
                        <a:pt x="424" y="1009"/>
                      </a:lnTo>
                      <a:lnTo>
                        <a:pt x="329" y="1027"/>
                      </a:lnTo>
                      <a:lnTo>
                        <a:pt x="311" y="1033"/>
                      </a:lnTo>
                      <a:lnTo>
                        <a:pt x="185" y="1056"/>
                      </a:lnTo>
                      <a:lnTo>
                        <a:pt x="156" y="1056"/>
                      </a:lnTo>
                      <a:lnTo>
                        <a:pt x="42" y="1080"/>
                      </a:lnTo>
                      <a:lnTo>
                        <a:pt x="12" y="1086"/>
                      </a:lnTo>
                      <a:lnTo>
                        <a:pt x="0" y="1009"/>
                      </a:lnTo>
                      <a:lnTo>
                        <a:pt x="6" y="1009"/>
                      </a:lnTo>
                      <a:lnTo>
                        <a:pt x="6" y="1003"/>
                      </a:lnTo>
                      <a:lnTo>
                        <a:pt x="12" y="1003"/>
                      </a:lnTo>
                      <a:lnTo>
                        <a:pt x="18" y="997"/>
                      </a:lnTo>
                      <a:lnTo>
                        <a:pt x="24" y="991"/>
                      </a:lnTo>
                      <a:lnTo>
                        <a:pt x="30" y="985"/>
                      </a:lnTo>
                      <a:lnTo>
                        <a:pt x="36" y="979"/>
                      </a:lnTo>
                      <a:lnTo>
                        <a:pt x="42" y="973"/>
                      </a:lnTo>
                      <a:lnTo>
                        <a:pt x="48" y="967"/>
                      </a:lnTo>
                      <a:lnTo>
                        <a:pt x="54" y="961"/>
                      </a:lnTo>
                      <a:lnTo>
                        <a:pt x="54" y="955"/>
                      </a:lnTo>
                      <a:lnTo>
                        <a:pt x="60" y="955"/>
                      </a:lnTo>
                      <a:lnTo>
                        <a:pt x="60" y="949"/>
                      </a:lnTo>
                      <a:lnTo>
                        <a:pt x="66" y="943"/>
                      </a:lnTo>
                      <a:lnTo>
                        <a:pt x="72" y="937"/>
                      </a:lnTo>
                      <a:lnTo>
                        <a:pt x="72" y="931"/>
                      </a:lnTo>
                      <a:lnTo>
                        <a:pt x="78" y="931"/>
                      </a:lnTo>
                      <a:lnTo>
                        <a:pt x="84" y="925"/>
                      </a:lnTo>
                      <a:lnTo>
                        <a:pt x="90" y="919"/>
                      </a:lnTo>
                      <a:lnTo>
                        <a:pt x="96" y="913"/>
                      </a:lnTo>
                      <a:lnTo>
                        <a:pt x="102" y="913"/>
                      </a:lnTo>
                      <a:lnTo>
                        <a:pt x="102" y="907"/>
                      </a:lnTo>
                      <a:lnTo>
                        <a:pt x="108" y="907"/>
                      </a:lnTo>
                      <a:lnTo>
                        <a:pt x="108" y="901"/>
                      </a:lnTo>
                      <a:lnTo>
                        <a:pt x="114" y="901"/>
                      </a:lnTo>
                      <a:lnTo>
                        <a:pt x="114" y="895"/>
                      </a:lnTo>
                      <a:lnTo>
                        <a:pt x="114" y="889"/>
                      </a:lnTo>
                      <a:lnTo>
                        <a:pt x="114" y="883"/>
                      </a:lnTo>
                      <a:lnTo>
                        <a:pt x="120" y="883"/>
                      </a:lnTo>
                      <a:lnTo>
                        <a:pt x="120" y="877"/>
                      </a:lnTo>
                      <a:lnTo>
                        <a:pt x="126" y="877"/>
                      </a:lnTo>
                      <a:lnTo>
                        <a:pt x="120" y="871"/>
                      </a:lnTo>
                      <a:lnTo>
                        <a:pt x="126" y="865"/>
                      </a:lnTo>
                      <a:lnTo>
                        <a:pt x="126" y="860"/>
                      </a:lnTo>
                      <a:lnTo>
                        <a:pt x="132" y="860"/>
                      </a:lnTo>
                      <a:lnTo>
                        <a:pt x="138" y="860"/>
                      </a:lnTo>
                      <a:lnTo>
                        <a:pt x="138" y="854"/>
                      </a:lnTo>
                      <a:lnTo>
                        <a:pt x="144" y="848"/>
                      </a:lnTo>
                      <a:lnTo>
                        <a:pt x="150" y="848"/>
                      </a:lnTo>
                      <a:lnTo>
                        <a:pt x="150" y="842"/>
                      </a:lnTo>
                      <a:lnTo>
                        <a:pt x="156" y="836"/>
                      </a:lnTo>
                      <a:lnTo>
                        <a:pt x="156" y="830"/>
                      </a:lnTo>
                      <a:lnTo>
                        <a:pt x="156" y="824"/>
                      </a:lnTo>
                      <a:lnTo>
                        <a:pt x="150" y="818"/>
                      </a:lnTo>
                      <a:lnTo>
                        <a:pt x="150" y="812"/>
                      </a:lnTo>
                      <a:lnTo>
                        <a:pt x="144" y="812"/>
                      </a:lnTo>
                      <a:lnTo>
                        <a:pt x="144" y="806"/>
                      </a:lnTo>
                      <a:lnTo>
                        <a:pt x="138" y="800"/>
                      </a:lnTo>
                      <a:lnTo>
                        <a:pt x="138" y="794"/>
                      </a:lnTo>
                      <a:lnTo>
                        <a:pt x="138" y="788"/>
                      </a:lnTo>
                      <a:lnTo>
                        <a:pt x="132" y="788"/>
                      </a:lnTo>
                      <a:lnTo>
                        <a:pt x="132" y="782"/>
                      </a:lnTo>
                      <a:lnTo>
                        <a:pt x="132" y="776"/>
                      </a:lnTo>
                      <a:lnTo>
                        <a:pt x="138" y="776"/>
                      </a:lnTo>
                      <a:lnTo>
                        <a:pt x="138" y="770"/>
                      </a:lnTo>
                      <a:lnTo>
                        <a:pt x="138" y="764"/>
                      </a:lnTo>
                      <a:lnTo>
                        <a:pt x="132" y="764"/>
                      </a:lnTo>
                      <a:lnTo>
                        <a:pt x="132" y="758"/>
                      </a:lnTo>
                      <a:lnTo>
                        <a:pt x="126" y="758"/>
                      </a:lnTo>
                      <a:lnTo>
                        <a:pt x="114" y="758"/>
                      </a:lnTo>
                      <a:lnTo>
                        <a:pt x="108" y="758"/>
                      </a:lnTo>
                      <a:lnTo>
                        <a:pt x="102" y="758"/>
                      </a:lnTo>
                      <a:lnTo>
                        <a:pt x="102" y="752"/>
                      </a:lnTo>
                      <a:lnTo>
                        <a:pt x="96" y="752"/>
                      </a:lnTo>
                      <a:lnTo>
                        <a:pt x="96" y="746"/>
                      </a:lnTo>
                      <a:lnTo>
                        <a:pt x="102" y="746"/>
                      </a:lnTo>
                      <a:lnTo>
                        <a:pt x="102" y="740"/>
                      </a:lnTo>
                      <a:lnTo>
                        <a:pt x="102" y="734"/>
                      </a:lnTo>
                      <a:lnTo>
                        <a:pt x="96" y="734"/>
                      </a:lnTo>
                      <a:lnTo>
                        <a:pt x="96" y="728"/>
                      </a:lnTo>
                      <a:lnTo>
                        <a:pt x="96" y="722"/>
                      </a:lnTo>
                      <a:lnTo>
                        <a:pt x="96" y="716"/>
                      </a:lnTo>
                      <a:lnTo>
                        <a:pt x="96" y="710"/>
                      </a:lnTo>
                      <a:lnTo>
                        <a:pt x="90" y="710"/>
                      </a:lnTo>
                      <a:lnTo>
                        <a:pt x="96" y="710"/>
                      </a:lnTo>
                      <a:lnTo>
                        <a:pt x="102" y="704"/>
                      </a:lnTo>
                      <a:lnTo>
                        <a:pt x="108" y="704"/>
                      </a:lnTo>
                      <a:lnTo>
                        <a:pt x="114" y="698"/>
                      </a:lnTo>
                      <a:lnTo>
                        <a:pt x="120" y="698"/>
                      </a:lnTo>
                      <a:lnTo>
                        <a:pt x="126" y="692"/>
                      </a:lnTo>
                      <a:lnTo>
                        <a:pt x="132" y="692"/>
                      </a:lnTo>
                      <a:lnTo>
                        <a:pt x="132" y="686"/>
                      </a:lnTo>
                      <a:lnTo>
                        <a:pt x="138" y="686"/>
                      </a:lnTo>
                      <a:lnTo>
                        <a:pt x="144" y="686"/>
                      </a:lnTo>
                      <a:lnTo>
                        <a:pt x="144" y="681"/>
                      </a:lnTo>
                      <a:lnTo>
                        <a:pt x="150" y="681"/>
                      </a:lnTo>
                      <a:lnTo>
                        <a:pt x="156" y="681"/>
                      </a:lnTo>
                      <a:lnTo>
                        <a:pt x="156" y="675"/>
                      </a:lnTo>
                      <a:lnTo>
                        <a:pt x="162" y="675"/>
                      </a:lnTo>
                      <a:lnTo>
                        <a:pt x="167" y="675"/>
                      </a:lnTo>
                      <a:lnTo>
                        <a:pt x="167" y="669"/>
                      </a:lnTo>
                      <a:lnTo>
                        <a:pt x="173" y="669"/>
                      </a:lnTo>
                      <a:lnTo>
                        <a:pt x="179" y="669"/>
                      </a:lnTo>
                      <a:lnTo>
                        <a:pt x="185" y="663"/>
                      </a:lnTo>
                      <a:lnTo>
                        <a:pt x="191" y="663"/>
                      </a:lnTo>
                      <a:lnTo>
                        <a:pt x="197" y="663"/>
                      </a:lnTo>
                      <a:lnTo>
                        <a:pt x="197" y="657"/>
                      </a:lnTo>
                      <a:lnTo>
                        <a:pt x="203" y="657"/>
                      </a:lnTo>
                      <a:lnTo>
                        <a:pt x="209" y="657"/>
                      </a:lnTo>
                      <a:lnTo>
                        <a:pt x="215" y="657"/>
                      </a:lnTo>
                      <a:lnTo>
                        <a:pt x="221" y="657"/>
                      </a:lnTo>
                      <a:lnTo>
                        <a:pt x="227" y="657"/>
                      </a:lnTo>
                      <a:lnTo>
                        <a:pt x="233" y="657"/>
                      </a:lnTo>
                      <a:lnTo>
                        <a:pt x="239" y="651"/>
                      </a:lnTo>
                      <a:lnTo>
                        <a:pt x="245" y="651"/>
                      </a:lnTo>
                      <a:lnTo>
                        <a:pt x="251" y="651"/>
                      </a:lnTo>
                      <a:lnTo>
                        <a:pt x="257" y="651"/>
                      </a:lnTo>
                      <a:lnTo>
                        <a:pt x="263" y="651"/>
                      </a:lnTo>
                      <a:lnTo>
                        <a:pt x="269" y="645"/>
                      </a:lnTo>
                      <a:lnTo>
                        <a:pt x="275" y="645"/>
                      </a:lnTo>
                      <a:lnTo>
                        <a:pt x="281" y="645"/>
                      </a:lnTo>
                      <a:lnTo>
                        <a:pt x="287" y="645"/>
                      </a:lnTo>
                      <a:lnTo>
                        <a:pt x="293" y="645"/>
                      </a:lnTo>
                      <a:lnTo>
                        <a:pt x="299" y="645"/>
                      </a:lnTo>
                      <a:lnTo>
                        <a:pt x="305" y="639"/>
                      </a:lnTo>
                      <a:lnTo>
                        <a:pt x="305" y="645"/>
                      </a:lnTo>
                      <a:lnTo>
                        <a:pt x="317" y="645"/>
                      </a:lnTo>
                      <a:lnTo>
                        <a:pt x="323" y="645"/>
                      </a:lnTo>
                      <a:lnTo>
                        <a:pt x="329" y="645"/>
                      </a:lnTo>
                      <a:lnTo>
                        <a:pt x="329" y="639"/>
                      </a:lnTo>
                      <a:lnTo>
                        <a:pt x="335" y="645"/>
                      </a:lnTo>
                      <a:lnTo>
                        <a:pt x="340" y="645"/>
                      </a:lnTo>
                      <a:lnTo>
                        <a:pt x="346" y="639"/>
                      </a:lnTo>
                      <a:lnTo>
                        <a:pt x="352" y="645"/>
                      </a:lnTo>
                      <a:lnTo>
                        <a:pt x="358" y="645"/>
                      </a:lnTo>
                      <a:lnTo>
                        <a:pt x="352" y="645"/>
                      </a:lnTo>
                      <a:lnTo>
                        <a:pt x="358" y="651"/>
                      </a:lnTo>
                      <a:lnTo>
                        <a:pt x="364" y="645"/>
                      </a:lnTo>
                      <a:lnTo>
                        <a:pt x="364" y="651"/>
                      </a:lnTo>
                      <a:lnTo>
                        <a:pt x="370" y="651"/>
                      </a:lnTo>
                      <a:lnTo>
                        <a:pt x="376" y="657"/>
                      </a:lnTo>
                      <a:lnTo>
                        <a:pt x="382" y="657"/>
                      </a:lnTo>
                      <a:lnTo>
                        <a:pt x="388" y="663"/>
                      </a:lnTo>
                      <a:lnTo>
                        <a:pt x="394" y="663"/>
                      </a:lnTo>
                      <a:lnTo>
                        <a:pt x="400" y="657"/>
                      </a:lnTo>
                      <a:lnTo>
                        <a:pt x="406" y="657"/>
                      </a:lnTo>
                      <a:lnTo>
                        <a:pt x="412" y="651"/>
                      </a:lnTo>
                      <a:lnTo>
                        <a:pt x="418" y="651"/>
                      </a:lnTo>
                      <a:lnTo>
                        <a:pt x="418" y="645"/>
                      </a:lnTo>
                      <a:lnTo>
                        <a:pt x="424" y="645"/>
                      </a:lnTo>
                      <a:lnTo>
                        <a:pt x="430" y="645"/>
                      </a:lnTo>
                      <a:lnTo>
                        <a:pt x="436" y="639"/>
                      </a:lnTo>
                      <a:lnTo>
                        <a:pt x="442" y="639"/>
                      </a:lnTo>
                      <a:lnTo>
                        <a:pt x="448" y="639"/>
                      </a:lnTo>
                      <a:lnTo>
                        <a:pt x="454" y="639"/>
                      </a:lnTo>
                      <a:lnTo>
                        <a:pt x="460" y="633"/>
                      </a:lnTo>
                      <a:lnTo>
                        <a:pt x="466" y="633"/>
                      </a:lnTo>
                      <a:lnTo>
                        <a:pt x="472" y="633"/>
                      </a:lnTo>
                      <a:lnTo>
                        <a:pt x="478" y="633"/>
                      </a:lnTo>
                      <a:lnTo>
                        <a:pt x="484" y="627"/>
                      </a:lnTo>
                      <a:lnTo>
                        <a:pt x="490" y="633"/>
                      </a:lnTo>
                      <a:lnTo>
                        <a:pt x="490" y="627"/>
                      </a:lnTo>
                      <a:lnTo>
                        <a:pt x="490" y="633"/>
                      </a:lnTo>
                      <a:lnTo>
                        <a:pt x="496" y="633"/>
                      </a:lnTo>
                      <a:lnTo>
                        <a:pt x="502" y="627"/>
                      </a:lnTo>
                      <a:lnTo>
                        <a:pt x="508" y="627"/>
                      </a:lnTo>
                      <a:lnTo>
                        <a:pt x="508" y="633"/>
                      </a:lnTo>
                      <a:lnTo>
                        <a:pt x="508" y="639"/>
                      </a:lnTo>
                      <a:lnTo>
                        <a:pt x="513" y="639"/>
                      </a:lnTo>
                      <a:lnTo>
                        <a:pt x="519" y="639"/>
                      </a:lnTo>
                      <a:lnTo>
                        <a:pt x="519" y="645"/>
                      </a:lnTo>
                      <a:lnTo>
                        <a:pt x="519" y="639"/>
                      </a:lnTo>
                      <a:lnTo>
                        <a:pt x="513" y="633"/>
                      </a:lnTo>
                      <a:lnTo>
                        <a:pt x="513" y="627"/>
                      </a:lnTo>
                      <a:lnTo>
                        <a:pt x="519" y="621"/>
                      </a:lnTo>
                      <a:lnTo>
                        <a:pt x="525" y="621"/>
                      </a:lnTo>
                      <a:lnTo>
                        <a:pt x="525" y="615"/>
                      </a:lnTo>
                      <a:lnTo>
                        <a:pt x="531" y="615"/>
                      </a:lnTo>
                      <a:lnTo>
                        <a:pt x="531" y="621"/>
                      </a:lnTo>
                      <a:lnTo>
                        <a:pt x="537" y="621"/>
                      </a:lnTo>
                      <a:lnTo>
                        <a:pt x="531" y="615"/>
                      </a:lnTo>
                      <a:lnTo>
                        <a:pt x="537" y="615"/>
                      </a:lnTo>
                      <a:lnTo>
                        <a:pt x="537" y="609"/>
                      </a:lnTo>
                      <a:lnTo>
                        <a:pt x="543" y="609"/>
                      </a:lnTo>
                      <a:lnTo>
                        <a:pt x="549" y="603"/>
                      </a:lnTo>
                      <a:lnTo>
                        <a:pt x="549" y="597"/>
                      </a:lnTo>
                      <a:lnTo>
                        <a:pt x="549" y="603"/>
                      </a:lnTo>
                      <a:lnTo>
                        <a:pt x="549" y="597"/>
                      </a:lnTo>
                      <a:lnTo>
                        <a:pt x="555" y="597"/>
                      </a:lnTo>
                      <a:lnTo>
                        <a:pt x="555" y="603"/>
                      </a:lnTo>
                      <a:lnTo>
                        <a:pt x="555" y="597"/>
                      </a:lnTo>
                      <a:lnTo>
                        <a:pt x="561" y="597"/>
                      </a:lnTo>
                      <a:lnTo>
                        <a:pt x="561" y="591"/>
                      </a:lnTo>
                      <a:lnTo>
                        <a:pt x="561" y="585"/>
                      </a:lnTo>
                      <a:lnTo>
                        <a:pt x="567" y="579"/>
                      </a:lnTo>
                      <a:lnTo>
                        <a:pt x="567" y="573"/>
                      </a:lnTo>
                      <a:lnTo>
                        <a:pt x="573" y="573"/>
                      </a:lnTo>
                      <a:lnTo>
                        <a:pt x="573" y="567"/>
                      </a:lnTo>
                      <a:lnTo>
                        <a:pt x="579" y="567"/>
                      </a:lnTo>
                      <a:lnTo>
                        <a:pt x="579" y="561"/>
                      </a:lnTo>
                      <a:lnTo>
                        <a:pt x="585" y="561"/>
                      </a:lnTo>
                      <a:lnTo>
                        <a:pt x="591" y="555"/>
                      </a:lnTo>
                      <a:lnTo>
                        <a:pt x="591" y="549"/>
                      </a:lnTo>
                      <a:lnTo>
                        <a:pt x="597" y="549"/>
                      </a:lnTo>
                      <a:lnTo>
                        <a:pt x="597" y="543"/>
                      </a:lnTo>
                      <a:lnTo>
                        <a:pt x="603" y="537"/>
                      </a:lnTo>
                      <a:lnTo>
                        <a:pt x="609" y="537"/>
                      </a:lnTo>
                      <a:lnTo>
                        <a:pt x="615" y="537"/>
                      </a:lnTo>
                      <a:lnTo>
                        <a:pt x="621" y="537"/>
                      </a:lnTo>
                      <a:lnTo>
                        <a:pt x="627" y="537"/>
                      </a:lnTo>
                      <a:lnTo>
                        <a:pt x="627" y="531"/>
                      </a:lnTo>
                      <a:lnTo>
                        <a:pt x="633" y="531"/>
                      </a:lnTo>
                      <a:lnTo>
                        <a:pt x="639" y="531"/>
                      </a:lnTo>
                      <a:lnTo>
                        <a:pt x="639" y="525"/>
                      </a:lnTo>
                      <a:lnTo>
                        <a:pt x="639" y="519"/>
                      </a:lnTo>
                      <a:lnTo>
                        <a:pt x="645" y="519"/>
                      </a:lnTo>
                      <a:lnTo>
                        <a:pt x="645" y="513"/>
                      </a:lnTo>
                      <a:lnTo>
                        <a:pt x="639" y="513"/>
                      </a:lnTo>
                      <a:lnTo>
                        <a:pt x="639" y="507"/>
                      </a:lnTo>
                      <a:lnTo>
                        <a:pt x="639" y="502"/>
                      </a:lnTo>
                      <a:lnTo>
                        <a:pt x="645" y="502"/>
                      </a:lnTo>
                      <a:lnTo>
                        <a:pt x="639" y="502"/>
                      </a:lnTo>
                      <a:lnTo>
                        <a:pt x="639" y="496"/>
                      </a:lnTo>
                      <a:lnTo>
                        <a:pt x="645" y="496"/>
                      </a:lnTo>
                      <a:lnTo>
                        <a:pt x="645" y="490"/>
                      </a:lnTo>
                      <a:lnTo>
                        <a:pt x="639" y="490"/>
                      </a:lnTo>
                      <a:lnTo>
                        <a:pt x="639" y="484"/>
                      </a:lnTo>
                      <a:lnTo>
                        <a:pt x="639" y="490"/>
                      </a:lnTo>
                      <a:lnTo>
                        <a:pt x="639" y="496"/>
                      </a:lnTo>
                      <a:lnTo>
                        <a:pt x="639" y="490"/>
                      </a:lnTo>
                      <a:lnTo>
                        <a:pt x="633" y="484"/>
                      </a:lnTo>
                      <a:lnTo>
                        <a:pt x="633" y="478"/>
                      </a:lnTo>
                      <a:lnTo>
                        <a:pt x="633" y="472"/>
                      </a:lnTo>
                      <a:lnTo>
                        <a:pt x="627" y="466"/>
                      </a:lnTo>
                      <a:lnTo>
                        <a:pt x="627" y="460"/>
                      </a:lnTo>
                      <a:lnTo>
                        <a:pt x="621" y="454"/>
                      </a:lnTo>
                      <a:lnTo>
                        <a:pt x="621" y="448"/>
                      </a:lnTo>
                      <a:lnTo>
                        <a:pt x="615" y="448"/>
                      </a:lnTo>
                      <a:lnTo>
                        <a:pt x="609" y="448"/>
                      </a:lnTo>
                      <a:lnTo>
                        <a:pt x="609" y="442"/>
                      </a:lnTo>
                      <a:lnTo>
                        <a:pt x="609" y="436"/>
                      </a:lnTo>
                      <a:lnTo>
                        <a:pt x="615" y="430"/>
                      </a:lnTo>
                      <a:lnTo>
                        <a:pt x="621" y="430"/>
                      </a:lnTo>
                      <a:lnTo>
                        <a:pt x="621" y="436"/>
                      </a:lnTo>
                      <a:lnTo>
                        <a:pt x="627" y="436"/>
                      </a:lnTo>
                      <a:lnTo>
                        <a:pt x="627" y="430"/>
                      </a:lnTo>
                      <a:lnTo>
                        <a:pt x="633" y="430"/>
                      </a:lnTo>
                      <a:lnTo>
                        <a:pt x="633" y="424"/>
                      </a:lnTo>
                      <a:lnTo>
                        <a:pt x="639" y="424"/>
                      </a:lnTo>
                      <a:lnTo>
                        <a:pt x="639" y="418"/>
                      </a:lnTo>
                      <a:lnTo>
                        <a:pt x="633" y="418"/>
                      </a:lnTo>
                      <a:lnTo>
                        <a:pt x="633" y="412"/>
                      </a:lnTo>
                      <a:lnTo>
                        <a:pt x="639" y="406"/>
                      </a:lnTo>
                      <a:lnTo>
                        <a:pt x="639" y="400"/>
                      </a:lnTo>
                      <a:lnTo>
                        <a:pt x="645" y="400"/>
                      </a:lnTo>
                      <a:lnTo>
                        <a:pt x="645" y="406"/>
                      </a:lnTo>
                      <a:lnTo>
                        <a:pt x="645" y="400"/>
                      </a:lnTo>
                      <a:lnTo>
                        <a:pt x="651" y="400"/>
                      </a:lnTo>
                      <a:lnTo>
                        <a:pt x="645" y="400"/>
                      </a:lnTo>
                      <a:lnTo>
                        <a:pt x="645" y="394"/>
                      </a:lnTo>
                      <a:lnTo>
                        <a:pt x="651" y="388"/>
                      </a:lnTo>
                      <a:lnTo>
                        <a:pt x="645" y="388"/>
                      </a:lnTo>
                      <a:lnTo>
                        <a:pt x="645" y="394"/>
                      </a:lnTo>
                      <a:lnTo>
                        <a:pt x="639" y="394"/>
                      </a:lnTo>
                      <a:lnTo>
                        <a:pt x="645" y="394"/>
                      </a:lnTo>
                      <a:lnTo>
                        <a:pt x="645" y="388"/>
                      </a:lnTo>
                      <a:lnTo>
                        <a:pt x="639" y="388"/>
                      </a:lnTo>
                      <a:lnTo>
                        <a:pt x="639" y="394"/>
                      </a:lnTo>
                      <a:lnTo>
                        <a:pt x="633" y="400"/>
                      </a:lnTo>
                      <a:lnTo>
                        <a:pt x="627" y="406"/>
                      </a:lnTo>
                      <a:lnTo>
                        <a:pt x="621" y="406"/>
                      </a:lnTo>
                      <a:lnTo>
                        <a:pt x="615" y="406"/>
                      </a:lnTo>
                      <a:lnTo>
                        <a:pt x="621" y="400"/>
                      </a:lnTo>
                      <a:lnTo>
                        <a:pt x="621" y="394"/>
                      </a:lnTo>
                      <a:lnTo>
                        <a:pt x="627" y="394"/>
                      </a:lnTo>
                      <a:lnTo>
                        <a:pt x="633" y="388"/>
                      </a:lnTo>
                      <a:lnTo>
                        <a:pt x="633" y="382"/>
                      </a:lnTo>
                      <a:lnTo>
                        <a:pt x="627" y="382"/>
                      </a:lnTo>
                      <a:lnTo>
                        <a:pt x="627" y="388"/>
                      </a:lnTo>
                      <a:lnTo>
                        <a:pt x="621" y="388"/>
                      </a:lnTo>
                      <a:lnTo>
                        <a:pt x="627" y="382"/>
                      </a:lnTo>
                      <a:lnTo>
                        <a:pt x="627" y="376"/>
                      </a:lnTo>
                      <a:lnTo>
                        <a:pt x="621" y="376"/>
                      </a:lnTo>
                      <a:lnTo>
                        <a:pt x="615" y="382"/>
                      </a:lnTo>
                      <a:lnTo>
                        <a:pt x="615" y="376"/>
                      </a:lnTo>
                      <a:lnTo>
                        <a:pt x="609" y="376"/>
                      </a:lnTo>
                      <a:lnTo>
                        <a:pt x="609" y="382"/>
                      </a:lnTo>
                      <a:lnTo>
                        <a:pt x="603" y="382"/>
                      </a:lnTo>
                      <a:lnTo>
                        <a:pt x="603" y="388"/>
                      </a:lnTo>
                      <a:lnTo>
                        <a:pt x="597" y="388"/>
                      </a:lnTo>
                      <a:lnTo>
                        <a:pt x="597" y="394"/>
                      </a:lnTo>
                      <a:lnTo>
                        <a:pt x="603" y="394"/>
                      </a:lnTo>
                      <a:lnTo>
                        <a:pt x="597" y="394"/>
                      </a:lnTo>
                      <a:lnTo>
                        <a:pt x="603" y="394"/>
                      </a:lnTo>
                      <a:lnTo>
                        <a:pt x="597" y="400"/>
                      </a:lnTo>
                      <a:lnTo>
                        <a:pt x="597" y="394"/>
                      </a:lnTo>
                      <a:lnTo>
                        <a:pt x="597" y="388"/>
                      </a:lnTo>
                      <a:lnTo>
                        <a:pt x="591" y="382"/>
                      </a:lnTo>
                      <a:lnTo>
                        <a:pt x="591" y="388"/>
                      </a:lnTo>
                      <a:lnTo>
                        <a:pt x="591" y="382"/>
                      </a:lnTo>
                      <a:lnTo>
                        <a:pt x="585" y="382"/>
                      </a:lnTo>
                      <a:lnTo>
                        <a:pt x="579" y="376"/>
                      </a:lnTo>
                      <a:lnTo>
                        <a:pt x="579" y="370"/>
                      </a:lnTo>
                      <a:lnTo>
                        <a:pt x="585" y="364"/>
                      </a:lnTo>
                      <a:lnTo>
                        <a:pt x="591" y="364"/>
                      </a:lnTo>
                      <a:lnTo>
                        <a:pt x="591" y="358"/>
                      </a:lnTo>
                      <a:lnTo>
                        <a:pt x="597" y="358"/>
                      </a:lnTo>
                      <a:lnTo>
                        <a:pt x="597" y="352"/>
                      </a:lnTo>
                      <a:lnTo>
                        <a:pt x="597" y="346"/>
                      </a:lnTo>
                      <a:lnTo>
                        <a:pt x="603" y="346"/>
                      </a:lnTo>
                      <a:lnTo>
                        <a:pt x="603" y="340"/>
                      </a:lnTo>
                      <a:lnTo>
                        <a:pt x="609" y="340"/>
                      </a:lnTo>
                      <a:lnTo>
                        <a:pt x="609" y="334"/>
                      </a:lnTo>
                      <a:lnTo>
                        <a:pt x="615" y="334"/>
                      </a:lnTo>
                      <a:lnTo>
                        <a:pt x="621" y="334"/>
                      </a:lnTo>
                      <a:lnTo>
                        <a:pt x="621" y="328"/>
                      </a:lnTo>
                      <a:lnTo>
                        <a:pt x="627" y="328"/>
                      </a:lnTo>
                      <a:lnTo>
                        <a:pt x="627" y="322"/>
                      </a:lnTo>
                      <a:lnTo>
                        <a:pt x="633" y="322"/>
                      </a:lnTo>
                      <a:lnTo>
                        <a:pt x="633" y="317"/>
                      </a:lnTo>
                      <a:lnTo>
                        <a:pt x="639" y="317"/>
                      </a:lnTo>
                      <a:lnTo>
                        <a:pt x="639" y="311"/>
                      </a:lnTo>
                      <a:lnTo>
                        <a:pt x="645" y="305"/>
                      </a:lnTo>
                      <a:lnTo>
                        <a:pt x="645" y="299"/>
                      </a:lnTo>
                      <a:lnTo>
                        <a:pt x="651" y="299"/>
                      </a:lnTo>
                      <a:lnTo>
                        <a:pt x="651" y="293"/>
                      </a:lnTo>
                      <a:lnTo>
                        <a:pt x="657" y="293"/>
                      </a:lnTo>
                      <a:lnTo>
                        <a:pt x="657" y="287"/>
                      </a:lnTo>
                      <a:lnTo>
                        <a:pt x="663" y="281"/>
                      </a:lnTo>
                      <a:lnTo>
                        <a:pt x="663" y="287"/>
                      </a:lnTo>
                      <a:lnTo>
                        <a:pt x="663" y="281"/>
                      </a:lnTo>
                      <a:lnTo>
                        <a:pt x="669" y="281"/>
                      </a:lnTo>
                      <a:lnTo>
                        <a:pt x="663" y="281"/>
                      </a:lnTo>
                      <a:lnTo>
                        <a:pt x="663" y="275"/>
                      </a:lnTo>
                      <a:lnTo>
                        <a:pt x="669" y="275"/>
                      </a:lnTo>
                      <a:lnTo>
                        <a:pt x="669" y="269"/>
                      </a:lnTo>
                      <a:lnTo>
                        <a:pt x="669" y="275"/>
                      </a:lnTo>
                      <a:lnTo>
                        <a:pt x="669" y="269"/>
                      </a:lnTo>
                      <a:lnTo>
                        <a:pt x="675" y="269"/>
                      </a:lnTo>
                      <a:lnTo>
                        <a:pt x="675" y="263"/>
                      </a:lnTo>
                      <a:lnTo>
                        <a:pt x="675" y="257"/>
                      </a:lnTo>
                      <a:lnTo>
                        <a:pt x="681" y="257"/>
                      </a:lnTo>
                      <a:lnTo>
                        <a:pt x="675" y="257"/>
                      </a:lnTo>
                      <a:lnTo>
                        <a:pt x="669" y="257"/>
                      </a:lnTo>
                      <a:lnTo>
                        <a:pt x="669" y="251"/>
                      </a:lnTo>
                      <a:lnTo>
                        <a:pt x="675" y="251"/>
                      </a:lnTo>
                      <a:lnTo>
                        <a:pt x="675" y="245"/>
                      </a:lnTo>
                      <a:lnTo>
                        <a:pt x="675" y="239"/>
                      </a:lnTo>
                      <a:lnTo>
                        <a:pt x="675" y="233"/>
                      </a:lnTo>
                      <a:lnTo>
                        <a:pt x="681" y="233"/>
                      </a:lnTo>
                      <a:lnTo>
                        <a:pt x="681" y="227"/>
                      </a:lnTo>
                      <a:lnTo>
                        <a:pt x="681" y="221"/>
                      </a:lnTo>
                      <a:lnTo>
                        <a:pt x="686" y="221"/>
                      </a:lnTo>
                      <a:lnTo>
                        <a:pt x="686" y="215"/>
                      </a:lnTo>
                      <a:lnTo>
                        <a:pt x="692" y="209"/>
                      </a:lnTo>
                      <a:lnTo>
                        <a:pt x="698" y="203"/>
                      </a:lnTo>
                      <a:lnTo>
                        <a:pt x="698" y="197"/>
                      </a:lnTo>
                      <a:lnTo>
                        <a:pt x="704" y="191"/>
                      </a:lnTo>
                      <a:lnTo>
                        <a:pt x="710" y="185"/>
                      </a:lnTo>
                      <a:lnTo>
                        <a:pt x="710" y="179"/>
                      </a:lnTo>
                      <a:lnTo>
                        <a:pt x="716" y="173"/>
                      </a:lnTo>
                      <a:lnTo>
                        <a:pt x="722" y="167"/>
                      </a:lnTo>
                      <a:lnTo>
                        <a:pt x="728" y="161"/>
                      </a:lnTo>
                      <a:lnTo>
                        <a:pt x="734" y="155"/>
                      </a:lnTo>
                      <a:lnTo>
                        <a:pt x="734" y="149"/>
                      </a:lnTo>
                      <a:lnTo>
                        <a:pt x="734" y="143"/>
                      </a:lnTo>
                      <a:lnTo>
                        <a:pt x="740" y="143"/>
                      </a:lnTo>
                      <a:lnTo>
                        <a:pt x="746" y="138"/>
                      </a:lnTo>
                      <a:lnTo>
                        <a:pt x="746" y="132"/>
                      </a:lnTo>
                      <a:lnTo>
                        <a:pt x="746" y="126"/>
                      </a:lnTo>
                      <a:lnTo>
                        <a:pt x="752" y="126"/>
                      </a:lnTo>
                      <a:lnTo>
                        <a:pt x="758" y="126"/>
                      </a:lnTo>
                      <a:lnTo>
                        <a:pt x="758" y="120"/>
                      </a:lnTo>
                      <a:lnTo>
                        <a:pt x="764" y="120"/>
                      </a:lnTo>
                      <a:lnTo>
                        <a:pt x="764" y="114"/>
                      </a:lnTo>
                      <a:lnTo>
                        <a:pt x="770" y="114"/>
                      </a:lnTo>
                      <a:lnTo>
                        <a:pt x="770" y="108"/>
                      </a:lnTo>
                      <a:lnTo>
                        <a:pt x="776" y="108"/>
                      </a:lnTo>
                      <a:lnTo>
                        <a:pt x="776" y="102"/>
                      </a:lnTo>
                      <a:lnTo>
                        <a:pt x="782" y="102"/>
                      </a:lnTo>
                      <a:lnTo>
                        <a:pt x="788" y="102"/>
                      </a:lnTo>
                      <a:lnTo>
                        <a:pt x="788" y="96"/>
                      </a:lnTo>
                      <a:lnTo>
                        <a:pt x="794" y="96"/>
                      </a:lnTo>
                      <a:lnTo>
                        <a:pt x="794" y="90"/>
                      </a:lnTo>
                      <a:lnTo>
                        <a:pt x="800" y="90"/>
                      </a:lnTo>
                      <a:lnTo>
                        <a:pt x="800" y="84"/>
                      </a:lnTo>
                      <a:lnTo>
                        <a:pt x="806" y="84"/>
                      </a:lnTo>
                      <a:lnTo>
                        <a:pt x="800" y="84"/>
                      </a:lnTo>
                      <a:lnTo>
                        <a:pt x="806" y="84"/>
                      </a:lnTo>
                      <a:lnTo>
                        <a:pt x="812" y="84"/>
                      </a:lnTo>
                      <a:lnTo>
                        <a:pt x="812" y="78"/>
                      </a:lnTo>
                      <a:lnTo>
                        <a:pt x="818" y="78"/>
                      </a:lnTo>
                      <a:lnTo>
                        <a:pt x="824" y="72"/>
                      </a:lnTo>
                      <a:lnTo>
                        <a:pt x="818" y="72"/>
                      </a:lnTo>
                      <a:lnTo>
                        <a:pt x="824" y="72"/>
                      </a:lnTo>
                      <a:lnTo>
                        <a:pt x="830" y="72"/>
                      </a:lnTo>
                      <a:lnTo>
                        <a:pt x="830" y="66"/>
                      </a:lnTo>
                      <a:lnTo>
                        <a:pt x="836" y="66"/>
                      </a:lnTo>
                      <a:lnTo>
                        <a:pt x="842" y="66"/>
                      </a:lnTo>
                      <a:lnTo>
                        <a:pt x="848" y="66"/>
                      </a:lnTo>
                      <a:lnTo>
                        <a:pt x="854" y="66"/>
                      </a:lnTo>
                      <a:lnTo>
                        <a:pt x="854" y="6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30"/>
                <p:cNvSpPr/>
                <p:nvPr/>
              </p:nvSpPr>
              <p:spPr>
                <a:xfrm>
                  <a:off x="7699680" y="287172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12" y="6"/>
                      </a:move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31"/>
                <p:cNvSpPr/>
                <p:nvPr/>
              </p:nvSpPr>
              <p:spPr>
                <a:xfrm>
                  <a:off x="7681320" y="2883600"/>
                  <a:ext cx="11880" cy="7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132"/>
                <p:cNvSpPr/>
                <p:nvPr/>
              </p:nvSpPr>
              <p:spPr>
                <a:xfrm>
                  <a:off x="7669440" y="288936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33"/>
                <p:cNvSpPr/>
                <p:nvPr/>
              </p:nvSpPr>
              <p:spPr>
                <a:xfrm>
                  <a:off x="7657560" y="289512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34"/>
                <p:cNvSpPr/>
                <p:nvPr/>
              </p:nvSpPr>
              <p:spPr>
                <a:xfrm>
                  <a:off x="7645680" y="290664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35"/>
                <p:cNvSpPr/>
                <p:nvPr/>
              </p:nvSpPr>
              <p:spPr>
                <a:xfrm>
                  <a:off x="7514640" y="307476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6" y="12"/>
                      </a:move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36"/>
                <p:cNvSpPr/>
                <p:nvPr/>
              </p:nvSpPr>
              <p:spPr>
                <a:xfrm>
                  <a:off x="7490520" y="309816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18" y="6"/>
                      </a:move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37"/>
                <p:cNvSpPr/>
                <p:nvPr/>
              </p:nvSpPr>
              <p:spPr>
                <a:xfrm>
                  <a:off x="7472520" y="3121560"/>
                  <a:ext cx="17640" cy="16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0" y="11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1"/>
                      </a:lnTo>
                      <a:lnTo>
                        <a:pt x="6" y="17"/>
                      </a:lnTo>
                      <a:lnTo>
                        <a:pt x="6" y="11"/>
                      </a:lnTo>
                      <a:lnTo>
                        <a:pt x="6" y="17"/>
                      </a:lnTo>
                      <a:lnTo>
                        <a:pt x="0" y="17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38"/>
                <p:cNvSpPr/>
                <p:nvPr/>
              </p:nvSpPr>
              <p:spPr>
                <a:xfrm>
                  <a:off x="7436520" y="3127320"/>
                  <a:ext cx="29880" cy="162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30" h="17">
                      <a:moveTo>
                        <a:pt x="18" y="5"/>
                      </a:move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24" y="5"/>
                      </a:lnTo>
                      <a:lnTo>
                        <a:pt x="18" y="11"/>
                      </a:lnTo>
                      <a:lnTo>
                        <a:pt x="12" y="11"/>
                      </a:lnTo>
                      <a:lnTo>
                        <a:pt x="12" y="17"/>
                      </a:lnTo>
                      <a:lnTo>
                        <a:pt x="6" y="17"/>
                      </a:lnTo>
                      <a:lnTo>
                        <a:pt x="0" y="17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12" y="5"/>
                      </a:lnTo>
                      <a:lnTo>
                        <a:pt x="18" y="5"/>
                      </a:lnTo>
                      <a:lnTo>
                        <a:pt x="12" y="5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39"/>
                <p:cNvSpPr/>
                <p:nvPr/>
              </p:nvSpPr>
              <p:spPr>
                <a:xfrm>
                  <a:off x="7412400" y="3138120"/>
                  <a:ext cx="59760" cy="5220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60" h="54">
                      <a:moveTo>
                        <a:pt x="18" y="12"/>
                      </a:move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6" y="12"/>
                      </a:lnTo>
                      <a:lnTo>
                        <a:pt x="36" y="6"/>
                      </a:lnTo>
                      <a:lnTo>
                        <a:pt x="36" y="12"/>
                      </a:lnTo>
                      <a:lnTo>
                        <a:pt x="42" y="12"/>
                      </a:lnTo>
                      <a:lnTo>
                        <a:pt x="42" y="6"/>
                      </a:lnTo>
                      <a:lnTo>
                        <a:pt x="48" y="6"/>
                      </a:lnTo>
                      <a:lnTo>
                        <a:pt x="54" y="6"/>
                      </a:lnTo>
                      <a:lnTo>
                        <a:pt x="60" y="0"/>
                      </a:lnTo>
                      <a:lnTo>
                        <a:pt x="60" y="6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2"/>
                      </a:lnTo>
                      <a:lnTo>
                        <a:pt x="42" y="18"/>
                      </a:lnTo>
                      <a:lnTo>
                        <a:pt x="36" y="18"/>
                      </a:lnTo>
                      <a:lnTo>
                        <a:pt x="30" y="18"/>
                      </a:lnTo>
                      <a:lnTo>
                        <a:pt x="24" y="18"/>
                      </a:lnTo>
                      <a:lnTo>
                        <a:pt x="24" y="24"/>
                      </a:lnTo>
                      <a:lnTo>
                        <a:pt x="18" y="24"/>
                      </a:lnTo>
                      <a:lnTo>
                        <a:pt x="24" y="24"/>
                      </a:lnTo>
                      <a:lnTo>
                        <a:pt x="30" y="24"/>
                      </a:lnTo>
                      <a:lnTo>
                        <a:pt x="30" y="30"/>
                      </a:lnTo>
                      <a:lnTo>
                        <a:pt x="30" y="36"/>
                      </a:lnTo>
                      <a:lnTo>
                        <a:pt x="24" y="36"/>
                      </a:lnTo>
                      <a:lnTo>
                        <a:pt x="30" y="36"/>
                      </a:lnTo>
                      <a:lnTo>
                        <a:pt x="30" y="42"/>
                      </a:lnTo>
                      <a:lnTo>
                        <a:pt x="24" y="42"/>
                      </a:lnTo>
                      <a:lnTo>
                        <a:pt x="24" y="48"/>
                      </a:lnTo>
                      <a:lnTo>
                        <a:pt x="18" y="48"/>
                      </a:lnTo>
                      <a:lnTo>
                        <a:pt x="18" y="54"/>
                      </a:lnTo>
                      <a:lnTo>
                        <a:pt x="12" y="54"/>
                      </a:lnTo>
                      <a:lnTo>
                        <a:pt x="12" y="48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12" y="42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140"/>
                <p:cNvSpPr/>
                <p:nvPr/>
              </p:nvSpPr>
              <p:spPr>
                <a:xfrm>
                  <a:off x="7448400" y="316116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141"/>
                <p:cNvSpPr/>
                <p:nvPr/>
              </p:nvSpPr>
              <p:spPr>
                <a:xfrm>
                  <a:off x="7442640" y="319644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42"/>
                <p:cNvSpPr/>
                <p:nvPr/>
              </p:nvSpPr>
              <p:spPr>
                <a:xfrm>
                  <a:off x="7466400" y="319644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43"/>
                <p:cNvSpPr/>
                <p:nvPr/>
              </p:nvSpPr>
              <p:spPr>
                <a:xfrm>
                  <a:off x="7454520" y="323100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6" y="12"/>
                      </a:move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44"/>
                <p:cNvSpPr/>
                <p:nvPr/>
              </p:nvSpPr>
              <p:spPr>
                <a:xfrm>
                  <a:off x="7436520" y="323712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6" y="0"/>
                      </a:move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45"/>
                <p:cNvSpPr/>
                <p:nvPr/>
              </p:nvSpPr>
              <p:spPr>
                <a:xfrm>
                  <a:off x="6959520" y="35323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146"/>
                <p:cNvSpPr/>
                <p:nvPr/>
              </p:nvSpPr>
              <p:spPr>
                <a:xfrm>
                  <a:off x="6977520" y="356184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147"/>
                <p:cNvSpPr/>
                <p:nvPr/>
              </p:nvSpPr>
              <p:spPr>
                <a:xfrm>
                  <a:off x="7001640" y="3590640"/>
                  <a:ext cx="720" cy="115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148"/>
                <p:cNvSpPr/>
                <p:nvPr/>
              </p:nvSpPr>
              <p:spPr>
                <a:xfrm>
                  <a:off x="6720480" y="3700440"/>
                  <a:ext cx="1288800" cy="812160"/>
                </a:xfrm>
                <a:custGeom>
                  <a:avLst/>
                  <a:gdLst>
                    <a:gd name="textAreaLeft" fmla="*/ 0 w 1288800"/>
                    <a:gd name="textAreaRight" fmla="*/ 1289160 w 1288800"/>
                    <a:gd name="textAreaTop" fmla="*/ 0 h 812160"/>
                    <a:gd name="textAreaBottom" fmla="*/ 812520 h 812160"/>
                  </a:gdLst>
                  <a:ahLst/>
                  <a:rect l="textAreaLeft" t="textAreaTop" r="textAreaRight" b="textAreaBottom"/>
                  <a:pathLst>
                    <a:path w="1289" h="836">
                      <a:moveTo>
                        <a:pt x="143" y="102"/>
                      </a:moveTo>
                      <a:lnTo>
                        <a:pt x="155" y="179"/>
                      </a:lnTo>
                      <a:lnTo>
                        <a:pt x="185" y="173"/>
                      </a:lnTo>
                      <a:lnTo>
                        <a:pt x="299" y="149"/>
                      </a:lnTo>
                      <a:lnTo>
                        <a:pt x="328" y="149"/>
                      </a:lnTo>
                      <a:lnTo>
                        <a:pt x="454" y="126"/>
                      </a:lnTo>
                      <a:lnTo>
                        <a:pt x="472" y="120"/>
                      </a:lnTo>
                      <a:lnTo>
                        <a:pt x="567" y="102"/>
                      </a:lnTo>
                      <a:lnTo>
                        <a:pt x="591" y="96"/>
                      </a:lnTo>
                      <a:lnTo>
                        <a:pt x="722" y="72"/>
                      </a:lnTo>
                      <a:lnTo>
                        <a:pt x="728" y="66"/>
                      </a:lnTo>
                      <a:lnTo>
                        <a:pt x="806" y="54"/>
                      </a:lnTo>
                      <a:lnTo>
                        <a:pt x="889" y="36"/>
                      </a:lnTo>
                      <a:lnTo>
                        <a:pt x="895" y="36"/>
                      </a:lnTo>
                      <a:lnTo>
                        <a:pt x="1020" y="6"/>
                      </a:lnTo>
                      <a:lnTo>
                        <a:pt x="1044" y="6"/>
                      </a:lnTo>
                      <a:lnTo>
                        <a:pt x="1050" y="0"/>
                      </a:lnTo>
                      <a:lnTo>
                        <a:pt x="1050" y="6"/>
                      </a:lnTo>
                      <a:lnTo>
                        <a:pt x="1056" y="12"/>
                      </a:lnTo>
                      <a:lnTo>
                        <a:pt x="1062" y="12"/>
                      </a:lnTo>
                      <a:lnTo>
                        <a:pt x="1068" y="12"/>
                      </a:lnTo>
                      <a:lnTo>
                        <a:pt x="1068" y="18"/>
                      </a:lnTo>
                      <a:lnTo>
                        <a:pt x="1068" y="24"/>
                      </a:lnTo>
                      <a:lnTo>
                        <a:pt x="1074" y="24"/>
                      </a:lnTo>
                      <a:lnTo>
                        <a:pt x="1074" y="30"/>
                      </a:lnTo>
                      <a:lnTo>
                        <a:pt x="1074" y="36"/>
                      </a:lnTo>
                      <a:lnTo>
                        <a:pt x="1080" y="36"/>
                      </a:lnTo>
                      <a:lnTo>
                        <a:pt x="1080" y="30"/>
                      </a:lnTo>
                      <a:lnTo>
                        <a:pt x="1086" y="30"/>
                      </a:lnTo>
                      <a:lnTo>
                        <a:pt x="1092" y="30"/>
                      </a:lnTo>
                      <a:lnTo>
                        <a:pt x="1098" y="30"/>
                      </a:lnTo>
                      <a:lnTo>
                        <a:pt x="1104" y="30"/>
                      </a:lnTo>
                      <a:lnTo>
                        <a:pt x="1104" y="36"/>
                      </a:lnTo>
                      <a:lnTo>
                        <a:pt x="1110" y="36"/>
                      </a:lnTo>
                      <a:lnTo>
                        <a:pt x="1110" y="42"/>
                      </a:lnTo>
                      <a:lnTo>
                        <a:pt x="1116" y="42"/>
                      </a:lnTo>
                      <a:lnTo>
                        <a:pt x="1110" y="42"/>
                      </a:lnTo>
                      <a:lnTo>
                        <a:pt x="1110" y="48"/>
                      </a:lnTo>
                      <a:lnTo>
                        <a:pt x="1116" y="54"/>
                      </a:lnTo>
                      <a:lnTo>
                        <a:pt x="1122" y="54"/>
                      </a:lnTo>
                      <a:lnTo>
                        <a:pt x="1122" y="60"/>
                      </a:lnTo>
                      <a:lnTo>
                        <a:pt x="1122" y="66"/>
                      </a:lnTo>
                      <a:lnTo>
                        <a:pt x="1122" y="72"/>
                      </a:lnTo>
                      <a:lnTo>
                        <a:pt x="1128" y="72"/>
                      </a:lnTo>
                      <a:lnTo>
                        <a:pt x="1128" y="78"/>
                      </a:lnTo>
                      <a:lnTo>
                        <a:pt x="1128" y="84"/>
                      </a:lnTo>
                      <a:lnTo>
                        <a:pt x="1128" y="90"/>
                      </a:lnTo>
                      <a:lnTo>
                        <a:pt x="1128" y="96"/>
                      </a:lnTo>
                      <a:lnTo>
                        <a:pt x="1134" y="102"/>
                      </a:lnTo>
                      <a:lnTo>
                        <a:pt x="1140" y="108"/>
                      </a:lnTo>
                      <a:lnTo>
                        <a:pt x="1146" y="114"/>
                      </a:lnTo>
                      <a:lnTo>
                        <a:pt x="1146" y="120"/>
                      </a:lnTo>
                      <a:lnTo>
                        <a:pt x="1152" y="120"/>
                      </a:lnTo>
                      <a:lnTo>
                        <a:pt x="1152" y="126"/>
                      </a:lnTo>
                      <a:lnTo>
                        <a:pt x="1158" y="126"/>
                      </a:lnTo>
                      <a:lnTo>
                        <a:pt x="1164" y="126"/>
                      </a:lnTo>
                      <a:lnTo>
                        <a:pt x="1170" y="126"/>
                      </a:lnTo>
                      <a:lnTo>
                        <a:pt x="1170" y="132"/>
                      </a:lnTo>
                      <a:lnTo>
                        <a:pt x="1175" y="132"/>
                      </a:lnTo>
                      <a:lnTo>
                        <a:pt x="1181" y="132"/>
                      </a:lnTo>
                      <a:lnTo>
                        <a:pt x="1187" y="132"/>
                      </a:lnTo>
                      <a:lnTo>
                        <a:pt x="1193" y="132"/>
                      </a:lnTo>
                      <a:lnTo>
                        <a:pt x="1199" y="132"/>
                      </a:lnTo>
                      <a:lnTo>
                        <a:pt x="1205" y="132"/>
                      </a:lnTo>
                      <a:lnTo>
                        <a:pt x="1205" y="138"/>
                      </a:lnTo>
                      <a:lnTo>
                        <a:pt x="1211" y="138"/>
                      </a:lnTo>
                      <a:lnTo>
                        <a:pt x="1211" y="143"/>
                      </a:lnTo>
                      <a:lnTo>
                        <a:pt x="1217" y="143"/>
                      </a:lnTo>
                      <a:lnTo>
                        <a:pt x="1217" y="149"/>
                      </a:lnTo>
                      <a:lnTo>
                        <a:pt x="1217" y="155"/>
                      </a:lnTo>
                      <a:lnTo>
                        <a:pt x="1211" y="155"/>
                      </a:lnTo>
                      <a:lnTo>
                        <a:pt x="1211" y="161"/>
                      </a:lnTo>
                      <a:lnTo>
                        <a:pt x="1205" y="161"/>
                      </a:lnTo>
                      <a:lnTo>
                        <a:pt x="1205" y="167"/>
                      </a:lnTo>
                      <a:lnTo>
                        <a:pt x="1199" y="173"/>
                      </a:lnTo>
                      <a:lnTo>
                        <a:pt x="1199" y="179"/>
                      </a:lnTo>
                      <a:lnTo>
                        <a:pt x="1193" y="179"/>
                      </a:lnTo>
                      <a:lnTo>
                        <a:pt x="1193" y="185"/>
                      </a:lnTo>
                      <a:lnTo>
                        <a:pt x="1193" y="191"/>
                      </a:lnTo>
                      <a:lnTo>
                        <a:pt x="1193" y="197"/>
                      </a:lnTo>
                      <a:lnTo>
                        <a:pt x="1193" y="203"/>
                      </a:lnTo>
                      <a:lnTo>
                        <a:pt x="1193" y="209"/>
                      </a:lnTo>
                      <a:lnTo>
                        <a:pt x="1187" y="215"/>
                      </a:lnTo>
                      <a:lnTo>
                        <a:pt x="1187" y="221"/>
                      </a:lnTo>
                      <a:lnTo>
                        <a:pt x="1187" y="227"/>
                      </a:lnTo>
                      <a:lnTo>
                        <a:pt x="1181" y="227"/>
                      </a:lnTo>
                      <a:lnTo>
                        <a:pt x="1181" y="233"/>
                      </a:lnTo>
                      <a:lnTo>
                        <a:pt x="1175" y="233"/>
                      </a:lnTo>
                      <a:lnTo>
                        <a:pt x="1175" y="239"/>
                      </a:lnTo>
                      <a:lnTo>
                        <a:pt x="1181" y="239"/>
                      </a:lnTo>
                      <a:lnTo>
                        <a:pt x="1181" y="233"/>
                      </a:lnTo>
                      <a:lnTo>
                        <a:pt x="1181" y="239"/>
                      </a:lnTo>
                      <a:lnTo>
                        <a:pt x="1175" y="239"/>
                      </a:lnTo>
                      <a:lnTo>
                        <a:pt x="1175" y="245"/>
                      </a:lnTo>
                      <a:lnTo>
                        <a:pt x="1175" y="251"/>
                      </a:lnTo>
                      <a:lnTo>
                        <a:pt x="1170" y="251"/>
                      </a:lnTo>
                      <a:lnTo>
                        <a:pt x="1170" y="257"/>
                      </a:lnTo>
                      <a:lnTo>
                        <a:pt x="1164" y="263"/>
                      </a:lnTo>
                      <a:lnTo>
                        <a:pt x="1158" y="263"/>
                      </a:lnTo>
                      <a:lnTo>
                        <a:pt x="1158" y="269"/>
                      </a:lnTo>
                      <a:lnTo>
                        <a:pt x="1152" y="269"/>
                      </a:lnTo>
                      <a:lnTo>
                        <a:pt x="1152" y="275"/>
                      </a:lnTo>
                      <a:lnTo>
                        <a:pt x="1158" y="275"/>
                      </a:lnTo>
                      <a:lnTo>
                        <a:pt x="1158" y="281"/>
                      </a:lnTo>
                      <a:lnTo>
                        <a:pt x="1164" y="281"/>
                      </a:lnTo>
                      <a:lnTo>
                        <a:pt x="1164" y="287"/>
                      </a:lnTo>
                      <a:lnTo>
                        <a:pt x="1170" y="287"/>
                      </a:lnTo>
                      <a:lnTo>
                        <a:pt x="1170" y="293"/>
                      </a:lnTo>
                      <a:lnTo>
                        <a:pt x="1175" y="293"/>
                      </a:lnTo>
                      <a:lnTo>
                        <a:pt x="1175" y="299"/>
                      </a:lnTo>
                      <a:lnTo>
                        <a:pt x="1175" y="305"/>
                      </a:lnTo>
                      <a:lnTo>
                        <a:pt x="1170" y="305"/>
                      </a:lnTo>
                      <a:lnTo>
                        <a:pt x="1170" y="311"/>
                      </a:lnTo>
                      <a:lnTo>
                        <a:pt x="1175" y="311"/>
                      </a:lnTo>
                      <a:lnTo>
                        <a:pt x="1175" y="317"/>
                      </a:lnTo>
                      <a:lnTo>
                        <a:pt x="1170" y="317"/>
                      </a:lnTo>
                      <a:lnTo>
                        <a:pt x="1170" y="322"/>
                      </a:lnTo>
                      <a:lnTo>
                        <a:pt x="1170" y="328"/>
                      </a:lnTo>
                      <a:lnTo>
                        <a:pt x="1164" y="328"/>
                      </a:lnTo>
                      <a:lnTo>
                        <a:pt x="1158" y="328"/>
                      </a:lnTo>
                      <a:lnTo>
                        <a:pt x="1158" y="334"/>
                      </a:lnTo>
                      <a:lnTo>
                        <a:pt x="1158" y="340"/>
                      </a:lnTo>
                      <a:lnTo>
                        <a:pt x="1158" y="346"/>
                      </a:lnTo>
                      <a:lnTo>
                        <a:pt x="1158" y="352"/>
                      </a:lnTo>
                      <a:lnTo>
                        <a:pt x="1158" y="358"/>
                      </a:lnTo>
                      <a:lnTo>
                        <a:pt x="1164" y="358"/>
                      </a:lnTo>
                      <a:lnTo>
                        <a:pt x="1164" y="364"/>
                      </a:lnTo>
                      <a:lnTo>
                        <a:pt x="1158" y="364"/>
                      </a:lnTo>
                      <a:lnTo>
                        <a:pt x="1164" y="370"/>
                      </a:lnTo>
                      <a:lnTo>
                        <a:pt x="1164" y="376"/>
                      </a:lnTo>
                      <a:lnTo>
                        <a:pt x="1164" y="382"/>
                      </a:lnTo>
                      <a:lnTo>
                        <a:pt x="1164" y="388"/>
                      </a:lnTo>
                      <a:lnTo>
                        <a:pt x="1170" y="388"/>
                      </a:lnTo>
                      <a:lnTo>
                        <a:pt x="1175" y="388"/>
                      </a:lnTo>
                      <a:lnTo>
                        <a:pt x="1181" y="388"/>
                      </a:lnTo>
                      <a:lnTo>
                        <a:pt x="1181" y="382"/>
                      </a:lnTo>
                      <a:lnTo>
                        <a:pt x="1187" y="382"/>
                      </a:lnTo>
                      <a:lnTo>
                        <a:pt x="1187" y="388"/>
                      </a:lnTo>
                      <a:lnTo>
                        <a:pt x="1193" y="388"/>
                      </a:lnTo>
                      <a:lnTo>
                        <a:pt x="1193" y="394"/>
                      </a:lnTo>
                      <a:lnTo>
                        <a:pt x="1199" y="394"/>
                      </a:lnTo>
                      <a:lnTo>
                        <a:pt x="1199" y="400"/>
                      </a:lnTo>
                      <a:lnTo>
                        <a:pt x="1199" y="406"/>
                      </a:lnTo>
                      <a:lnTo>
                        <a:pt x="1199" y="412"/>
                      </a:lnTo>
                      <a:lnTo>
                        <a:pt x="1199" y="418"/>
                      </a:lnTo>
                      <a:lnTo>
                        <a:pt x="1205" y="418"/>
                      </a:lnTo>
                      <a:lnTo>
                        <a:pt x="1205" y="424"/>
                      </a:lnTo>
                      <a:lnTo>
                        <a:pt x="1211" y="424"/>
                      </a:lnTo>
                      <a:lnTo>
                        <a:pt x="1217" y="424"/>
                      </a:lnTo>
                      <a:lnTo>
                        <a:pt x="1223" y="424"/>
                      </a:lnTo>
                      <a:lnTo>
                        <a:pt x="1229" y="430"/>
                      </a:lnTo>
                      <a:lnTo>
                        <a:pt x="1229" y="436"/>
                      </a:lnTo>
                      <a:lnTo>
                        <a:pt x="1235" y="436"/>
                      </a:lnTo>
                      <a:lnTo>
                        <a:pt x="1235" y="442"/>
                      </a:lnTo>
                      <a:lnTo>
                        <a:pt x="1241" y="442"/>
                      </a:lnTo>
                      <a:lnTo>
                        <a:pt x="1247" y="442"/>
                      </a:lnTo>
                      <a:lnTo>
                        <a:pt x="1247" y="448"/>
                      </a:lnTo>
                      <a:lnTo>
                        <a:pt x="1253" y="448"/>
                      </a:lnTo>
                      <a:lnTo>
                        <a:pt x="1253" y="454"/>
                      </a:lnTo>
                      <a:lnTo>
                        <a:pt x="1259" y="454"/>
                      </a:lnTo>
                      <a:lnTo>
                        <a:pt x="1259" y="460"/>
                      </a:lnTo>
                      <a:lnTo>
                        <a:pt x="1265" y="460"/>
                      </a:lnTo>
                      <a:lnTo>
                        <a:pt x="1265" y="466"/>
                      </a:lnTo>
                      <a:lnTo>
                        <a:pt x="1271" y="466"/>
                      </a:lnTo>
                      <a:lnTo>
                        <a:pt x="1277" y="466"/>
                      </a:lnTo>
                      <a:lnTo>
                        <a:pt x="1277" y="472"/>
                      </a:lnTo>
                      <a:lnTo>
                        <a:pt x="1283" y="472"/>
                      </a:lnTo>
                      <a:lnTo>
                        <a:pt x="1289" y="478"/>
                      </a:lnTo>
                      <a:lnTo>
                        <a:pt x="1289" y="484"/>
                      </a:lnTo>
                      <a:lnTo>
                        <a:pt x="1289" y="490"/>
                      </a:lnTo>
                      <a:lnTo>
                        <a:pt x="1283" y="490"/>
                      </a:lnTo>
                      <a:lnTo>
                        <a:pt x="1277" y="490"/>
                      </a:lnTo>
                      <a:lnTo>
                        <a:pt x="1271" y="496"/>
                      </a:lnTo>
                      <a:lnTo>
                        <a:pt x="1265" y="502"/>
                      </a:lnTo>
                      <a:lnTo>
                        <a:pt x="1265" y="507"/>
                      </a:lnTo>
                      <a:lnTo>
                        <a:pt x="1259" y="507"/>
                      </a:lnTo>
                      <a:lnTo>
                        <a:pt x="1259" y="513"/>
                      </a:lnTo>
                      <a:lnTo>
                        <a:pt x="1253" y="513"/>
                      </a:lnTo>
                      <a:lnTo>
                        <a:pt x="1247" y="513"/>
                      </a:lnTo>
                      <a:lnTo>
                        <a:pt x="1247" y="519"/>
                      </a:lnTo>
                      <a:lnTo>
                        <a:pt x="1241" y="519"/>
                      </a:lnTo>
                      <a:lnTo>
                        <a:pt x="1241" y="525"/>
                      </a:lnTo>
                      <a:lnTo>
                        <a:pt x="1241" y="531"/>
                      </a:lnTo>
                      <a:lnTo>
                        <a:pt x="1235" y="531"/>
                      </a:lnTo>
                      <a:lnTo>
                        <a:pt x="1229" y="531"/>
                      </a:lnTo>
                      <a:lnTo>
                        <a:pt x="1229" y="537"/>
                      </a:lnTo>
                      <a:lnTo>
                        <a:pt x="1229" y="543"/>
                      </a:lnTo>
                      <a:lnTo>
                        <a:pt x="1223" y="543"/>
                      </a:lnTo>
                      <a:lnTo>
                        <a:pt x="1217" y="543"/>
                      </a:lnTo>
                      <a:lnTo>
                        <a:pt x="1217" y="549"/>
                      </a:lnTo>
                      <a:lnTo>
                        <a:pt x="1217" y="555"/>
                      </a:lnTo>
                      <a:lnTo>
                        <a:pt x="1217" y="561"/>
                      </a:lnTo>
                      <a:lnTo>
                        <a:pt x="1217" y="567"/>
                      </a:lnTo>
                      <a:lnTo>
                        <a:pt x="1217" y="573"/>
                      </a:lnTo>
                      <a:lnTo>
                        <a:pt x="1211" y="573"/>
                      </a:lnTo>
                      <a:lnTo>
                        <a:pt x="1211" y="579"/>
                      </a:lnTo>
                      <a:lnTo>
                        <a:pt x="1205" y="579"/>
                      </a:lnTo>
                      <a:lnTo>
                        <a:pt x="1205" y="585"/>
                      </a:lnTo>
                      <a:lnTo>
                        <a:pt x="1199" y="585"/>
                      </a:lnTo>
                      <a:lnTo>
                        <a:pt x="1193" y="591"/>
                      </a:lnTo>
                      <a:lnTo>
                        <a:pt x="1187" y="591"/>
                      </a:lnTo>
                      <a:lnTo>
                        <a:pt x="1181" y="591"/>
                      </a:lnTo>
                      <a:lnTo>
                        <a:pt x="1175" y="591"/>
                      </a:lnTo>
                      <a:lnTo>
                        <a:pt x="1175" y="597"/>
                      </a:lnTo>
                      <a:lnTo>
                        <a:pt x="1170" y="597"/>
                      </a:lnTo>
                      <a:lnTo>
                        <a:pt x="1170" y="603"/>
                      </a:lnTo>
                      <a:lnTo>
                        <a:pt x="1170" y="609"/>
                      </a:lnTo>
                      <a:lnTo>
                        <a:pt x="1164" y="609"/>
                      </a:lnTo>
                      <a:lnTo>
                        <a:pt x="1164" y="603"/>
                      </a:lnTo>
                      <a:lnTo>
                        <a:pt x="1158" y="603"/>
                      </a:lnTo>
                      <a:lnTo>
                        <a:pt x="1152" y="603"/>
                      </a:lnTo>
                      <a:lnTo>
                        <a:pt x="1146" y="603"/>
                      </a:lnTo>
                      <a:lnTo>
                        <a:pt x="1140" y="603"/>
                      </a:lnTo>
                      <a:lnTo>
                        <a:pt x="1134" y="603"/>
                      </a:lnTo>
                      <a:lnTo>
                        <a:pt x="1128" y="603"/>
                      </a:lnTo>
                      <a:lnTo>
                        <a:pt x="1122" y="603"/>
                      </a:lnTo>
                      <a:lnTo>
                        <a:pt x="1122" y="609"/>
                      </a:lnTo>
                      <a:lnTo>
                        <a:pt x="1116" y="609"/>
                      </a:lnTo>
                      <a:lnTo>
                        <a:pt x="1110" y="615"/>
                      </a:lnTo>
                      <a:lnTo>
                        <a:pt x="1104" y="615"/>
                      </a:lnTo>
                      <a:lnTo>
                        <a:pt x="1104" y="621"/>
                      </a:lnTo>
                      <a:lnTo>
                        <a:pt x="1104" y="627"/>
                      </a:lnTo>
                      <a:lnTo>
                        <a:pt x="1098" y="627"/>
                      </a:lnTo>
                      <a:lnTo>
                        <a:pt x="1098" y="633"/>
                      </a:lnTo>
                      <a:lnTo>
                        <a:pt x="1098" y="639"/>
                      </a:lnTo>
                      <a:lnTo>
                        <a:pt x="1098" y="645"/>
                      </a:lnTo>
                      <a:lnTo>
                        <a:pt x="1092" y="645"/>
                      </a:lnTo>
                      <a:lnTo>
                        <a:pt x="1020" y="663"/>
                      </a:lnTo>
                      <a:lnTo>
                        <a:pt x="1002" y="669"/>
                      </a:lnTo>
                      <a:lnTo>
                        <a:pt x="931" y="681"/>
                      </a:lnTo>
                      <a:lnTo>
                        <a:pt x="883" y="692"/>
                      </a:lnTo>
                      <a:lnTo>
                        <a:pt x="841" y="698"/>
                      </a:lnTo>
                      <a:lnTo>
                        <a:pt x="794" y="710"/>
                      </a:lnTo>
                      <a:lnTo>
                        <a:pt x="746" y="716"/>
                      </a:lnTo>
                      <a:lnTo>
                        <a:pt x="746" y="722"/>
                      </a:lnTo>
                      <a:lnTo>
                        <a:pt x="615" y="740"/>
                      </a:lnTo>
                      <a:lnTo>
                        <a:pt x="561" y="752"/>
                      </a:lnTo>
                      <a:lnTo>
                        <a:pt x="555" y="752"/>
                      </a:lnTo>
                      <a:lnTo>
                        <a:pt x="460" y="770"/>
                      </a:lnTo>
                      <a:lnTo>
                        <a:pt x="442" y="776"/>
                      </a:lnTo>
                      <a:lnTo>
                        <a:pt x="340" y="794"/>
                      </a:lnTo>
                      <a:lnTo>
                        <a:pt x="322" y="800"/>
                      </a:lnTo>
                      <a:lnTo>
                        <a:pt x="263" y="806"/>
                      </a:lnTo>
                      <a:lnTo>
                        <a:pt x="233" y="812"/>
                      </a:lnTo>
                      <a:lnTo>
                        <a:pt x="126" y="830"/>
                      </a:lnTo>
                      <a:lnTo>
                        <a:pt x="102" y="836"/>
                      </a:lnTo>
                      <a:lnTo>
                        <a:pt x="96" y="770"/>
                      </a:lnTo>
                      <a:lnTo>
                        <a:pt x="90" y="752"/>
                      </a:lnTo>
                      <a:lnTo>
                        <a:pt x="84" y="710"/>
                      </a:lnTo>
                      <a:lnTo>
                        <a:pt x="72" y="645"/>
                      </a:lnTo>
                      <a:lnTo>
                        <a:pt x="72" y="627"/>
                      </a:lnTo>
                      <a:lnTo>
                        <a:pt x="66" y="579"/>
                      </a:lnTo>
                      <a:lnTo>
                        <a:pt x="54" y="519"/>
                      </a:lnTo>
                      <a:lnTo>
                        <a:pt x="54" y="507"/>
                      </a:lnTo>
                      <a:lnTo>
                        <a:pt x="42" y="442"/>
                      </a:lnTo>
                      <a:lnTo>
                        <a:pt x="24" y="346"/>
                      </a:lnTo>
                      <a:lnTo>
                        <a:pt x="24" y="340"/>
                      </a:lnTo>
                      <a:lnTo>
                        <a:pt x="6" y="245"/>
                      </a:lnTo>
                      <a:lnTo>
                        <a:pt x="6" y="215"/>
                      </a:lnTo>
                      <a:lnTo>
                        <a:pt x="0" y="209"/>
                      </a:lnTo>
                      <a:lnTo>
                        <a:pt x="0" y="203"/>
                      </a:lnTo>
                      <a:lnTo>
                        <a:pt x="6" y="203"/>
                      </a:lnTo>
                      <a:lnTo>
                        <a:pt x="12" y="203"/>
                      </a:lnTo>
                      <a:lnTo>
                        <a:pt x="12" y="197"/>
                      </a:lnTo>
                      <a:lnTo>
                        <a:pt x="18" y="197"/>
                      </a:lnTo>
                      <a:lnTo>
                        <a:pt x="24" y="191"/>
                      </a:lnTo>
                      <a:lnTo>
                        <a:pt x="30" y="191"/>
                      </a:lnTo>
                      <a:lnTo>
                        <a:pt x="36" y="191"/>
                      </a:lnTo>
                      <a:lnTo>
                        <a:pt x="36" y="185"/>
                      </a:lnTo>
                      <a:lnTo>
                        <a:pt x="42" y="185"/>
                      </a:lnTo>
                      <a:lnTo>
                        <a:pt x="48" y="179"/>
                      </a:lnTo>
                      <a:lnTo>
                        <a:pt x="48" y="173"/>
                      </a:lnTo>
                      <a:lnTo>
                        <a:pt x="54" y="173"/>
                      </a:lnTo>
                      <a:lnTo>
                        <a:pt x="60" y="167"/>
                      </a:lnTo>
                      <a:lnTo>
                        <a:pt x="66" y="161"/>
                      </a:lnTo>
                      <a:lnTo>
                        <a:pt x="66" y="155"/>
                      </a:lnTo>
                      <a:lnTo>
                        <a:pt x="72" y="155"/>
                      </a:lnTo>
                      <a:lnTo>
                        <a:pt x="72" y="149"/>
                      </a:lnTo>
                      <a:lnTo>
                        <a:pt x="78" y="143"/>
                      </a:lnTo>
                      <a:lnTo>
                        <a:pt x="84" y="143"/>
                      </a:lnTo>
                      <a:lnTo>
                        <a:pt x="84" y="149"/>
                      </a:lnTo>
                      <a:lnTo>
                        <a:pt x="78" y="143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72" y="155"/>
                      </a:lnTo>
                      <a:lnTo>
                        <a:pt x="72" y="161"/>
                      </a:lnTo>
                      <a:lnTo>
                        <a:pt x="72" y="155"/>
                      </a:lnTo>
                      <a:lnTo>
                        <a:pt x="78" y="155"/>
                      </a:lnTo>
                      <a:lnTo>
                        <a:pt x="84" y="149"/>
                      </a:lnTo>
                      <a:lnTo>
                        <a:pt x="90" y="149"/>
                      </a:lnTo>
                      <a:lnTo>
                        <a:pt x="90" y="143"/>
                      </a:lnTo>
                      <a:lnTo>
                        <a:pt x="96" y="143"/>
                      </a:lnTo>
                      <a:lnTo>
                        <a:pt x="96" y="138"/>
                      </a:lnTo>
                      <a:lnTo>
                        <a:pt x="102" y="138"/>
                      </a:lnTo>
                      <a:lnTo>
                        <a:pt x="102" y="132"/>
                      </a:lnTo>
                      <a:lnTo>
                        <a:pt x="108" y="132"/>
                      </a:lnTo>
                      <a:lnTo>
                        <a:pt x="108" y="126"/>
                      </a:lnTo>
                      <a:lnTo>
                        <a:pt x="114" y="126"/>
                      </a:lnTo>
                      <a:lnTo>
                        <a:pt x="120" y="126"/>
                      </a:lnTo>
                      <a:lnTo>
                        <a:pt x="120" y="120"/>
                      </a:lnTo>
                      <a:lnTo>
                        <a:pt x="126" y="120"/>
                      </a:lnTo>
                      <a:lnTo>
                        <a:pt x="126" y="114"/>
                      </a:lnTo>
                      <a:lnTo>
                        <a:pt x="132" y="114"/>
                      </a:lnTo>
                      <a:lnTo>
                        <a:pt x="137" y="108"/>
                      </a:lnTo>
                      <a:lnTo>
                        <a:pt x="143" y="108"/>
                      </a:lnTo>
                      <a:lnTo>
                        <a:pt x="143" y="10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49"/>
                <p:cNvSpPr/>
                <p:nvPr/>
              </p:nvSpPr>
              <p:spPr>
                <a:xfrm>
                  <a:off x="8456400" y="377064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150"/>
                <p:cNvSpPr/>
                <p:nvPr/>
              </p:nvSpPr>
              <p:spPr>
                <a:xfrm>
                  <a:off x="8122320" y="3782160"/>
                  <a:ext cx="411840" cy="236880"/>
                </a:xfrm>
                <a:custGeom>
                  <a:avLst/>
                  <a:gdLst>
                    <a:gd name="textAreaLeft" fmla="*/ 0 w 411840"/>
                    <a:gd name="textAreaRight" fmla="*/ 412200 w 4118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412" h="244">
                      <a:moveTo>
                        <a:pt x="167" y="95"/>
                      </a:moveTo>
                      <a:lnTo>
                        <a:pt x="173" y="95"/>
                      </a:lnTo>
                      <a:lnTo>
                        <a:pt x="173" y="89"/>
                      </a:lnTo>
                      <a:lnTo>
                        <a:pt x="179" y="89"/>
                      </a:lnTo>
                      <a:lnTo>
                        <a:pt x="179" y="95"/>
                      </a:lnTo>
                      <a:lnTo>
                        <a:pt x="185" y="95"/>
                      </a:lnTo>
                      <a:lnTo>
                        <a:pt x="185" y="89"/>
                      </a:lnTo>
                      <a:lnTo>
                        <a:pt x="179" y="89"/>
                      </a:lnTo>
                      <a:lnTo>
                        <a:pt x="185" y="89"/>
                      </a:lnTo>
                      <a:lnTo>
                        <a:pt x="191" y="89"/>
                      </a:lnTo>
                      <a:lnTo>
                        <a:pt x="197" y="89"/>
                      </a:lnTo>
                      <a:lnTo>
                        <a:pt x="203" y="89"/>
                      </a:lnTo>
                      <a:lnTo>
                        <a:pt x="203" y="83"/>
                      </a:lnTo>
                      <a:lnTo>
                        <a:pt x="209" y="83"/>
                      </a:lnTo>
                      <a:lnTo>
                        <a:pt x="215" y="83"/>
                      </a:lnTo>
                      <a:lnTo>
                        <a:pt x="221" y="77"/>
                      </a:lnTo>
                      <a:lnTo>
                        <a:pt x="227" y="77"/>
                      </a:lnTo>
                      <a:lnTo>
                        <a:pt x="233" y="77"/>
                      </a:lnTo>
                      <a:lnTo>
                        <a:pt x="239" y="77"/>
                      </a:lnTo>
                      <a:lnTo>
                        <a:pt x="245" y="77"/>
                      </a:lnTo>
                      <a:lnTo>
                        <a:pt x="245" y="71"/>
                      </a:lnTo>
                      <a:lnTo>
                        <a:pt x="251" y="71"/>
                      </a:lnTo>
                      <a:lnTo>
                        <a:pt x="257" y="65"/>
                      </a:lnTo>
                      <a:lnTo>
                        <a:pt x="263" y="65"/>
                      </a:lnTo>
                      <a:lnTo>
                        <a:pt x="269" y="59"/>
                      </a:lnTo>
                      <a:lnTo>
                        <a:pt x="275" y="54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2"/>
                      </a:lnTo>
                      <a:lnTo>
                        <a:pt x="287" y="36"/>
                      </a:lnTo>
                      <a:lnTo>
                        <a:pt x="292" y="30"/>
                      </a:lnTo>
                      <a:lnTo>
                        <a:pt x="298" y="24"/>
                      </a:lnTo>
                      <a:lnTo>
                        <a:pt x="298" y="18"/>
                      </a:lnTo>
                      <a:lnTo>
                        <a:pt x="304" y="18"/>
                      </a:lnTo>
                      <a:lnTo>
                        <a:pt x="304" y="12"/>
                      </a:lnTo>
                      <a:lnTo>
                        <a:pt x="310" y="6"/>
                      </a:lnTo>
                      <a:lnTo>
                        <a:pt x="316" y="6"/>
                      </a:lnTo>
                      <a:lnTo>
                        <a:pt x="322" y="0"/>
                      </a:lnTo>
                      <a:lnTo>
                        <a:pt x="328" y="0"/>
                      </a:lnTo>
                      <a:lnTo>
                        <a:pt x="328" y="6"/>
                      </a:lnTo>
                      <a:lnTo>
                        <a:pt x="322" y="12"/>
                      </a:lnTo>
                      <a:lnTo>
                        <a:pt x="322" y="6"/>
                      </a:lnTo>
                      <a:lnTo>
                        <a:pt x="316" y="6"/>
                      </a:lnTo>
                      <a:lnTo>
                        <a:pt x="310" y="12"/>
                      </a:lnTo>
                      <a:lnTo>
                        <a:pt x="310" y="18"/>
                      </a:lnTo>
                      <a:lnTo>
                        <a:pt x="310" y="24"/>
                      </a:lnTo>
                      <a:lnTo>
                        <a:pt x="304" y="24"/>
                      </a:lnTo>
                      <a:lnTo>
                        <a:pt x="304" y="30"/>
                      </a:lnTo>
                      <a:lnTo>
                        <a:pt x="298" y="30"/>
                      </a:lnTo>
                      <a:lnTo>
                        <a:pt x="298" y="36"/>
                      </a:lnTo>
                      <a:lnTo>
                        <a:pt x="304" y="36"/>
                      </a:lnTo>
                      <a:lnTo>
                        <a:pt x="304" y="42"/>
                      </a:lnTo>
                      <a:lnTo>
                        <a:pt x="298" y="42"/>
                      </a:lnTo>
                      <a:lnTo>
                        <a:pt x="292" y="48"/>
                      </a:lnTo>
                      <a:lnTo>
                        <a:pt x="298" y="48"/>
                      </a:lnTo>
                      <a:lnTo>
                        <a:pt x="298" y="54"/>
                      </a:lnTo>
                      <a:lnTo>
                        <a:pt x="292" y="54"/>
                      </a:lnTo>
                      <a:lnTo>
                        <a:pt x="292" y="48"/>
                      </a:lnTo>
                      <a:lnTo>
                        <a:pt x="292" y="54"/>
                      </a:lnTo>
                      <a:lnTo>
                        <a:pt x="287" y="54"/>
                      </a:lnTo>
                      <a:lnTo>
                        <a:pt x="287" y="59"/>
                      </a:lnTo>
                      <a:lnTo>
                        <a:pt x="281" y="59"/>
                      </a:lnTo>
                      <a:lnTo>
                        <a:pt x="281" y="65"/>
                      </a:lnTo>
                      <a:lnTo>
                        <a:pt x="281" y="71"/>
                      </a:lnTo>
                      <a:lnTo>
                        <a:pt x="275" y="77"/>
                      </a:lnTo>
                      <a:lnTo>
                        <a:pt x="269" y="77"/>
                      </a:lnTo>
                      <a:lnTo>
                        <a:pt x="269" y="83"/>
                      </a:lnTo>
                      <a:lnTo>
                        <a:pt x="275" y="83"/>
                      </a:lnTo>
                      <a:lnTo>
                        <a:pt x="281" y="83"/>
                      </a:lnTo>
                      <a:lnTo>
                        <a:pt x="281" y="77"/>
                      </a:lnTo>
                      <a:lnTo>
                        <a:pt x="287" y="77"/>
                      </a:lnTo>
                      <a:lnTo>
                        <a:pt x="287" y="83"/>
                      </a:lnTo>
                      <a:lnTo>
                        <a:pt x="292" y="77"/>
                      </a:lnTo>
                      <a:lnTo>
                        <a:pt x="298" y="77"/>
                      </a:lnTo>
                      <a:lnTo>
                        <a:pt x="298" y="71"/>
                      </a:lnTo>
                      <a:lnTo>
                        <a:pt x="304" y="71"/>
                      </a:lnTo>
                      <a:lnTo>
                        <a:pt x="298" y="65"/>
                      </a:lnTo>
                      <a:lnTo>
                        <a:pt x="304" y="65"/>
                      </a:lnTo>
                      <a:lnTo>
                        <a:pt x="310" y="59"/>
                      </a:lnTo>
                      <a:lnTo>
                        <a:pt x="310" y="54"/>
                      </a:lnTo>
                      <a:lnTo>
                        <a:pt x="310" y="48"/>
                      </a:lnTo>
                      <a:lnTo>
                        <a:pt x="310" y="42"/>
                      </a:lnTo>
                      <a:lnTo>
                        <a:pt x="316" y="48"/>
                      </a:lnTo>
                      <a:lnTo>
                        <a:pt x="322" y="48"/>
                      </a:lnTo>
                      <a:lnTo>
                        <a:pt x="322" y="42"/>
                      </a:lnTo>
                      <a:lnTo>
                        <a:pt x="316" y="36"/>
                      </a:lnTo>
                      <a:lnTo>
                        <a:pt x="322" y="36"/>
                      </a:lnTo>
                      <a:lnTo>
                        <a:pt x="328" y="42"/>
                      </a:lnTo>
                      <a:lnTo>
                        <a:pt x="322" y="42"/>
                      </a:lnTo>
                      <a:lnTo>
                        <a:pt x="328" y="42"/>
                      </a:lnTo>
                      <a:lnTo>
                        <a:pt x="334" y="42"/>
                      </a:lnTo>
                      <a:lnTo>
                        <a:pt x="334" y="36"/>
                      </a:lnTo>
                      <a:lnTo>
                        <a:pt x="334" y="30"/>
                      </a:lnTo>
                      <a:lnTo>
                        <a:pt x="340" y="30"/>
                      </a:lnTo>
                      <a:lnTo>
                        <a:pt x="346" y="30"/>
                      </a:lnTo>
                      <a:lnTo>
                        <a:pt x="346" y="36"/>
                      </a:lnTo>
                      <a:lnTo>
                        <a:pt x="352" y="36"/>
                      </a:lnTo>
                      <a:lnTo>
                        <a:pt x="346" y="30"/>
                      </a:lnTo>
                      <a:lnTo>
                        <a:pt x="352" y="24"/>
                      </a:lnTo>
                      <a:lnTo>
                        <a:pt x="358" y="30"/>
                      </a:lnTo>
                      <a:lnTo>
                        <a:pt x="364" y="30"/>
                      </a:lnTo>
                      <a:lnTo>
                        <a:pt x="364" y="36"/>
                      </a:lnTo>
                      <a:lnTo>
                        <a:pt x="370" y="36"/>
                      </a:lnTo>
                      <a:lnTo>
                        <a:pt x="370" y="30"/>
                      </a:lnTo>
                      <a:lnTo>
                        <a:pt x="376" y="30"/>
                      </a:lnTo>
                      <a:lnTo>
                        <a:pt x="376" y="24"/>
                      </a:lnTo>
                      <a:lnTo>
                        <a:pt x="382" y="24"/>
                      </a:lnTo>
                      <a:lnTo>
                        <a:pt x="382" y="18"/>
                      </a:lnTo>
                      <a:lnTo>
                        <a:pt x="388" y="12"/>
                      </a:lnTo>
                      <a:lnTo>
                        <a:pt x="394" y="12"/>
                      </a:lnTo>
                      <a:lnTo>
                        <a:pt x="388" y="6"/>
                      </a:lnTo>
                      <a:lnTo>
                        <a:pt x="394" y="6"/>
                      </a:lnTo>
                      <a:lnTo>
                        <a:pt x="400" y="12"/>
                      </a:lnTo>
                      <a:lnTo>
                        <a:pt x="400" y="6"/>
                      </a:lnTo>
                      <a:lnTo>
                        <a:pt x="400" y="0"/>
                      </a:lnTo>
                      <a:lnTo>
                        <a:pt x="406" y="0"/>
                      </a:lnTo>
                      <a:lnTo>
                        <a:pt x="412" y="0"/>
                      </a:lnTo>
                      <a:lnTo>
                        <a:pt x="412" y="6"/>
                      </a:lnTo>
                      <a:lnTo>
                        <a:pt x="406" y="12"/>
                      </a:lnTo>
                      <a:lnTo>
                        <a:pt x="400" y="12"/>
                      </a:lnTo>
                      <a:lnTo>
                        <a:pt x="400" y="18"/>
                      </a:lnTo>
                      <a:lnTo>
                        <a:pt x="394" y="18"/>
                      </a:lnTo>
                      <a:lnTo>
                        <a:pt x="388" y="24"/>
                      </a:lnTo>
                      <a:lnTo>
                        <a:pt x="388" y="30"/>
                      </a:lnTo>
                      <a:lnTo>
                        <a:pt x="382" y="30"/>
                      </a:lnTo>
                      <a:lnTo>
                        <a:pt x="382" y="36"/>
                      </a:lnTo>
                      <a:lnTo>
                        <a:pt x="376" y="36"/>
                      </a:lnTo>
                      <a:lnTo>
                        <a:pt x="376" y="42"/>
                      </a:lnTo>
                      <a:lnTo>
                        <a:pt x="370" y="42"/>
                      </a:lnTo>
                      <a:lnTo>
                        <a:pt x="364" y="42"/>
                      </a:lnTo>
                      <a:lnTo>
                        <a:pt x="364" y="48"/>
                      </a:lnTo>
                      <a:lnTo>
                        <a:pt x="358" y="54"/>
                      </a:lnTo>
                      <a:lnTo>
                        <a:pt x="352" y="54"/>
                      </a:lnTo>
                      <a:lnTo>
                        <a:pt x="346" y="59"/>
                      </a:lnTo>
                      <a:lnTo>
                        <a:pt x="340" y="65"/>
                      </a:lnTo>
                      <a:lnTo>
                        <a:pt x="334" y="71"/>
                      </a:lnTo>
                      <a:lnTo>
                        <a:pt x="328" y="71"/>
                      </a:lnTo>
                      <a:lnTo>
                        <a:pt x="328" y="77"/>
                      </a:lnTo>
                      <a:lnTo>
                        <a:pt x="322" y="83"/>
                      </a:lnTo>
                      <a:lnTo>
                        <a:pt x="316" y="83"/>
                      </a:lnTo>
                      <a:lnTo>
                        <a:pt x="316" y="89"/>
                      </a:lnTo>
                      <a:lnTo>
                        <a:pt x="310" y="89"/>
                      </a:lnTo>
                      <a:lnTo>
                        <a:pt x="304" y="95"/>
                      </a:lnTo>
                      <a:lnTo>
                        <a:pt x="304" y="89"/>
                      </a:lnTo>
                      <a:lnTo>
                        <a:pt x="310" y="89"/>
                      </a:lnTo>
                      <a:lnTo>
                        <a:pt x="316" y="83"/>
                      </a:lnTo>
                      <a:lnTo>
                        <a:pt x="310" y="83"/>
                      </a:lnTo>
                      <a:lnTo>
                        <a:pt x="310" y="89"/>
                      </a:lnTo>
                      <a:lnTo>
                        <a:pt x="310" y="83"/>
                      </a:lnTo>
                      <a:lnTo>
                        <a:pt x="304" y="83"/>
                      </a:lnTo>
                      <a:lnTo>
                        <a:pt x="298" y="89"/>
                      </a:lnTo>
                      <a:lnTo>
                        <a:pt x="298" y="95"/>
                      </a:lnTo>
                      <a:lnTo>
                        <a:pt x="304" y="95"/>
                      </a:lnTo>
                      <a:lnTo>
                        <a:pt x="298" y="101"/>
                      </a:lnTo>
                      <a:lnTo>
                        <a:pt x="292" y="107"/>
                      </a:lnTo>
                      <a:lnTo>
                        <a:pt x="287" y="107"/>
                      </a:lnTo>
                      <a:lnTo>
                        <a:pt x="281" y="113"/>
                      </a:lnTo>
                      <a:lnTo>
                        <a:pt x="275" y="113"/>
                      </a:lnTo>
                      <a:lnTo>
                        <a:pt x="275" y="119"/>
                      </a:lnTo>
                      <a:lnTo>
                        <a:pt x="269" y="119"/>
                      </a:lnTo>
                      <a:lnTo>
                        <a:pt x="269" y="125"/>
                      </a:lnTo>
                      <a:lnTo>
                        <a:pt x="263" y="125"/>
                      </a:lnTo>
                      <a:lnTo>
                        <a:pt x="257" y="131"/>
                      </a:lnTo>
                      <a:lnTo>
                        <a:pt x="251" y="131"/>
                      </a:lnTo>
                      <a:lnTo>
                        <a:pt x="257" y="131"/>
                      </a:lnTo>
                      <a:lnTo>
                        <a:pt x="257" y="125"/>
                      </a:lnTo>
                      <a:lnTo>
                        <a:pt x="263" y="125"/>
                      </a:lnTo>
                      <a:lnTo>
                        <a:pt x="263" y="119"/>
                      </a:lnTo>
                      <a:lnTo>
                        <a:pt x="269" y="119"/>
                      </a:lnTo>
                      <a:lnTo>
                        <a:pt x="275" y="113"/>
                      </a:lnTo>
                      <a:lnTo>
                        <a:pt x="269" y="113"/>
                      </a:lnTo>
                      <a:lnTo>
                        <a:pt x="263" y="113"/>
                      </a:lnTo>
                      <a:lnTo>
                        <a:pt x="263" y="119"/>
                      </a:lnTo>
                      <a:lnTo>
                        <a:pt x="257" y="119"/>
                      </a:lnTo>
                      <a:lnTo>
                        <a:pt x="257" y="113"/>
                      </a:lnTo>
                      <a:lnTo>
                        <a:pt x="257" y="119"/>
                      </a:lnTo>
                      <a:lnTo>
                        <a:pt x="251" y="119"/>
                      </a:lnTo>
                      <a:lnTo>
                        <a:pt x="251" y="125"/>
                      </a:lnTo>
                      <a:lnTo>
                        <a:pt x="245" y="125"/>
                      </a:lnTo>
                      <a:lnTo>
                        <a:pt x="239" y="125"/>
                      </a:lnTo>
                      <a:lnTo>
                        <a:pt x="233" y="125"/>
                      </a:lnTo>
                      <a:lnTo>
                        <a:pt x="239" y="125"/>
                      </a:lnTo>
                      <a:lnTo>
                        <a:pt x="239" y="131"/>
                      </a:lnTo>
                      <a:lnTo>
                        <a:pt x="239" y="137"/>
                      </a:lnTo>
                      <a:lnTo>
                        <a:pt x="233" y="137"/>
                      </a:lnTo>
                      <a:lnTo>
                        <a:pt x="233" y="143"/>
                      </a:lnTo>
                      <a:lnTo>
                        <a:pt x="227" y="143"/>
                      </a:lnTo>
                      <a:lnTo>
                        <a:pt x="227" y="137"/>
                      </a:lnTo>
                      <a:lnTo>
                        <a:pt x="221" y="137"/>
                      </a:lnTo>
                      <a:lnTo>
                        <a:pt x="215" y="143"/>
                      </a:lnTo>
                      <a:lnTo>
                        <a:pt x="215" y="149"/>
                      </a:lnTo>
                      <a:lnTo>
                        <a:pt x="215" y="143"/>
                      </a:lnTo>
                      <a:lnTo>
                        <a:pt x="209" y="149"/>
                      </a:lnTo>
                      <a:lnTo>
                        <a:pt x="209" y="143"/>
                      </a:lnTo>
                      <a:lnTo>
                        <a:pt x="203" y="149"/>
                      </a:lnTo>
                      <a:lnTo>
                        <a:pt x="197" y="149"/>
                      </a:lnTo>
                      <a:lnTo>
                        <a:pt x="197" y="155"/>
                      </a:lnTo>
                      <a:lnTo>
                        <a:pt x="191" y="155"/>
                      </a:lnTo>
                      <a:lnTo>
                        <a:pt x="191" y="161"/>
                      </a:lnTo>
                      <a:lnTo>
                        <a:pt x="185" y="161"/>
                      </a:lnTo>
                      <a:lnTo>
                        <a:pt x="179" y="161"/>
                      </a:lnTo>
                      <a:lnTo>
                        <a:pt x="173" y="161"/>
                      </a:lnTo>
                      <a:lnTo>
                        <a:pt x="173" y="155"/>
                      </a:lnTo>
                      <a:lnTo>
                        <a:pt x="173" y="161"/>
                      </a:lnTo>
                      <a:lnTo>
                        <a:pt x="179" y="161"/>
                      </a:lnTo>
                      <a:lnTo>
                        <a:pt x="179" y="167"/>
                      </a:lnTo>
                      <a:lnTo>
                        <a:pt x="173" y="167"/>
                      </a:lnTo>
                      <a:lnTo>
                        <a:pt x="167" y="167"/>
                      </a:lnTo>
                      <a:lnTo>
                        <a:pt x="161" y="167"/>
                      </a:lnTo>
                      <a:lnTo>
                        <a:pt x="155" y="167"/>
                      </a:lnTo>
                      <a:lnTo>
                        <a:pt x="155" y="173"/>
                      </a:lnTo>
                      <a:lnTo>
                        <a:pt x="149" y="179"/>
                      </a:lnTo>
                      <a:lnTo>
                        <a:pt x="143" y="179"/>
                      </a:lnTo>
                      <a:lnTo>
                        <a:pt x="143" y="185"/>
                      </a:lnTo>
                      <a:lnTo>
                        <a:pt x="137" y="185"/>
                      </a:lnTo>
                      <a:lnTo>
                        <a:pt x="137" y="191"/>
                      </a:lnTo>
                      <a:lnTo>
                        <a:pt x="131" y="191"/>
                      </a:lnTo>
                      <a:lnTo>
                        <a:pt x="125" y="191"/>
                      </a:lnTo>
                      <a:lnTo>
                        <a:pt x="119" y="191"/>
                      </a:lnTo>
                      <a:lnTo>
                        <a:pt x="119" y="197"/>
                      </a:lnTo>
                      <a:lnTo>
                        <a:pt x="114" y="197"/>
                      </a:lnTo>
                      <a:lnTo>
                        <a:pt x="108" y="197"/>
                      </a:lnTo>
                      <a:lnTo>
                        <a:pt x="108" y="203"/>
                      </a:lnTo>
                      <a:lnTo>
                        <a:pt x="102" y="203"/>
                      </a:lnTo>
                      <a:lnTo>
                        <a:pt x="96" y="203"/>
                      </a:lnTo>
                      <a:lnTo>
                        <a:pt x="96" y="209"/>
                      </a:lnTo>
                      <a:lnTo>
                        <a:pt x="90" y="209"/>
                      </a:lnTo>
                      <a:lnTo>
                        <a:pt x="84" y="209"/>
                      </a:lnTo>
                      <a:lnTo>
                        <a:pt x="84" y="215"/>
                      </a:lnTo>
                      <a:lnTo>
                        <a:pt x="78" y="221"/>
                      </a:lnTo>
                      <a:lnTo>
                        <a:pt x="78" y="215"/>
                      </a:lnTo>
                      <a:lnTo>
                        <a:pt x="72" y="215"/>
                      </a:lnTo>
                      <a:lnTo>
                        <a:pt x="72" y="221"/>
                      </a:lnTo>
                      <a:lnTo>
                        <a:pt x="72" y="215"/>
                      </a:lnTo>
                      <a:lnTo>
                        <a:pt x="66" y="215"/>
                      </a:lnTo>
                      <a:lnTo>
                        <a:pt x="66" y="221"/>
                      </a:lnTo>
                      <a:lnTo>
                        <a:pt x="72" y="221"/>
                      </a:lnTo>
                      <a:lnTo>
                        <a:pt x="66" y="221"/>
                      </a:lnTo>
                      <a:lnTo>
                        <a:pt x="66" y="227"/>
                      </a:lnTo>
                      <a:lnTo>
                        <a:pt x="72" y="227"/>
                      </a:lnTo>
                      <a:lnTo>
                        <a:pt x="78" y="221"/>
                      </a:lnTo>
                      <a:lnTo>
                        <a:pt x="84" y="221"/>
                      </a:lnTo>
                      <a:lnTo>
                        <a:pt x="90" y="221"/>
                      </a:lnTo>
                      <a:lnTo>
                        <a:pt x="96" y="221"/>
                      </a:lnTo>
                      <a:lnTo>
                        <a:pt x="90" y="221"/>
                      </a:lnTo>
                      <a:lnTo>
                        <a:pt x="84" y="221"/>
                      </a:lnTo>
                      <a:lnTo>
                        <a:pt x="78" y="227"/>
                      </a:lnTo>
                      <a:lnTo>
                        <a:pt x="72" y="227"/>
                      </a:lnTo>
                      <a:lnTo>
                        <a:pt x="66" y="227"/>
                      </a:lnTo>
                      <a:lnTo>
                        <a:pt x="60" y="227"/>
                      </a:lnTo>
                      <a:lnTo>
                        <a:pt x="54" y="227"/>
                      </a:lnTo>
                      <a:lnTo>
                        <a:pt x="48" y="233"/>
                      </a:lnTo>
                      <a:lnTo>
                        <a:pt x="42" y="238"/>
                      </a:lnTo>
                      <a:lnTo>
                        <a:pt x="36" y="238"/>
                      </a:lnTo>
                      <a:lnTo>
                        <a:pt x="36" y="244"/>
                      </a:lnTo>
                      <a:lnTo>
                        <a:pt x="30" y="244"/>
                      </a:lnTo>
                      <a:lnTo>
                        <a:pt x="24" y="244"/>
                      </a:lnTo>
                      <a:lnTo>
                        <a:pt x="30" y="244"/>
                      </a:lnTo>
                      <a:lnTo>
                        <a:pt x="30" y="238"/>
                      </a:lnTo>
                      <a:lnTo>
                        <a:pt x="36" y="238"/>
                      </a:lnTo>
                      <a:lnTo>
                        <a:pt x="42" y="233"/>
                      </a:lnTo>
                      <a:lnTo>
                        <a:pt x="48" y="233"/>
                      </a:lnTo>
                      <a:lnTo>
                        <a:pt x="48" y="227"/>
                      </a:lnTo>
                      <a:lnTo>
                        <a:pt x="54" y="227"/>
                      </a:lnTo>
                      <a:lnTo>
                        <a:pt x="54" y="221"/>
                      </a:lnTo>
                      <a:lnTo>
                        <a:pt x="54" y="215"/>
                      </a:lnTo>
                      <a:lnTo>
                        <a:pt x="48" y="215"/>
                      </a:lnTo>
                      <a:lnTo>
                        <a:pt x="42" y="215"/>
                      </a:lnTo>
                      <a:lnTo>
                        <a:pt x="36" y="215"/>
                      </a:lnTo>
                      <a:lnTo>
                        <a:pt x="36" y="221"/>
                      </a:lnTo>
                      <a:lnTo>
                        <a:pt x="30" y="221"/>
                      </a:lnTo>
                      <a:lnTo>
                        <a:pt x="24" y="227"/>
                      </a:lnTo>
                      <a:lnTo>
                        <a:pt x="30" y="227"/>
                      </a:lnTo>
                      <a:lnTo>
                        <a:pt x="30" y="233"/>
                      </a:lnTo>
                      <a:lnTo>
                        <a:pt x="36" y="233"/>
                      </a:lnTo>
                      <a:lnTo>
                        <a:pt x="30" y="233"/>
                      </a:lnTo>
                      <a:lnTo>
                        <a:pt x="30" y="238"/>
                      </a:lnTo>
                      <a:lnTo>
                        <a:pt x="30" y="233"/>
                      </a:lnTo>
                      <a:lnTo>
                        <a:pt x="24" y="233"/>
                      </a:lnTo>
                      <a:lnTo>
                        <a:pt x="24" y="238"/>
                      </a:lnTo>
                      <a:lnTo>
                        <a:pt x="18" y="238"/>
                      </a:lnTo>
                      <a:lnTo>
                        <a:pt x="24" y="238"/>
                      </a:lnTo>
                      <a:lnTo>
                        <a:pt x="18" y="238"/>
                      </a:lnTo>
                      <a:lnTo>
                        <a:pt x="18" y="244"/>
                      </a:lnTo>
                      <a:lnTo>
                        <a:pt x="12" y="244"/>
                      </a:lnTo>
                      <a:lnTo>
                        <a:pt x="6" y="244"/>
                      </a:lnTo>
                      <a:lnTo>
                        <a:pt x="12" y="238"/>
                      </a:lnTo>
                      <a:lnTo>
                        <a:pt x="6" y="238"/>
                      </a:lnTo>
                      <a:lnTo>
                        <a:pt x="0" y="238"/>
                      </a:lnTo>
                      <a:lnTo>
                        <a:pt x="0" y="233"/>
                      </a:lnTo>
                      <a:lnTo>
                        <a:pt x="0" y="227"/>
                      </a:lnTo>
                      <a:lnTo>
                        <a:pt x="0" y="221"/>
                      </a:lnTo>
                      <a:lnTo>
                        <a:pt x="0" y="215"/>
                      </a:lnTo>
                      <a:lnTo>
                        <a:pt x="6" y="209"/>
                      </a:lnTo>
                      <a:lnTo>
                        <a:pt x="6" y="203"/>
                      </a:lnTo>
                      <a:lnTo>
                        <a:pt x="6" y="197"/>
                      </a:lnTo>
                      <a:lnTo>
                        <a:pt x="6" y="191"/>
                      </a:lnTo>
                      <a:lnTo>
                        <a:pt x="12" y="191"/>
                      </a:lnTo>
                      <a:lnTo>
                        <a:pt x="12" y="185"/>
                      </a:lnTo>
                      <a:lnTo>
                        <a:pt x="12" y="179"/>
                      </a:lnTo>
                      <a:lnTo>
                        <a:pt x="18" y="179"/>
                      </a:lnTo>
                      <a:lnTo>
                        <a:pt x="24" y="179"/>
                      </a:lnTo>
                      <a:lnTo>
                        <a:pt x="24" y="185"/>
                      </a:lnTo>
                      <a:lnTo>
                        <a:pt x="30" y="185"/>
                      </a:lnTo>
                      <a:lnTo>
                        <a:pt x="30" y="179"/>
                      </a:lnTo>
                      <a:lnTo>
                        <a:pt x="24" y="179"/>
                      </a:lnTo>
                      <a:lnTo>
                        <a:pt x="24" y="173"/>
                      </a:lnTo>
                      <a:lnTo>
                        <a:pt x="30" y="173"/>
                      </a:lnTo>
                      <a:lnTo>
                        <a:pt x="36" y="173"/>
                      </a:lnTo>
                      <a:lnTo>
                        <a:pt x="42" y="173"/>
                      </a:lnTo>
                      <a:lnTo>
                        <a:pt x="48" y="173"/>
                      </a:lnTo>
                      <a:lnTo>
                        <a:pt x="48" y="167"/>
                      </a:lnTo>
                      <a:lnTo>
                        <a:pt x="42" y="167"/>
                      </a:lnTo>
                      <a:lnTo>
                        <a:pt x="48" y="167"/>
                      </a:lnTo>
                      <a:lnTo>
                        <a:pt x="42" y="161"/>
                      </a:lnTo>
                      <a:lnTo>
                        <a:pt x="48" y="161"/>
                      </a:lnTo>
                      <a:lnTo>
                        <a:pt x="54" y="167"/>
                      </a:lnTo>
                      <a:lnTo>
                        <a:pt x="54" y="161"/>
                      </a:lnTo>
                      <a:lnTo>
                        <a:pt x="54" y="155"/>
                      </a:lnTo>
                      <a:lnTo>
                        <a:pt x="48" y="161"/>
                      </a:lnTo>
                      <a:lnTo>
                        <a:pt x="48" y="155"/>
                      </a:lnTo>
                      <a:lnTo>
                        <a:pt x="48" y="149"/>
                      </a:lnTo>
                      <a:lnTo>
                        <a:pt x="54" y="149"/>
                      </a:lnTo>
                      <a:lnTo>
                        <a:pt x="60" y="155"/>
                      </a:lnTo>
                      <a:lnTo>
                        <a:pt x="66" y="161"/>
                      </a:lnTo>
                      <a:lnTo>
                        <a:pt x="66" y="155"/>
                      </a:lnTo>
                      <a:lnTo>
                        <a:pt x="66" y="149"/>
                      </a:lnTo>
                      <a:lnTo>
                        <a:pt x="60" y="149"/>
                      </a:lnTo>
                      <a:lnTo>
                        <a:pt x="60" y="143"/>
                      </a:lnTo>
                      <a:lnTo>
                        <a:pt x="66" y="137"/>
                      </a:lnTo>
                      <a:lnTo>
                        <a:pt x="72" y="137"/>
                      </a:lnTo>
                      <a:lnTo>
                        <a:pt x="72" y="131"/>
                      </a:lnTo>
                      <a:lnTo>
                        <a:pt x="78" y="131"/>
                      </a:lnTo>
                      <a:lnTo>
                        <a:pt x="84" y="131"/>
                      </a:lnTo>
                      <a:lnTo>
                        <a:pt x="90" y="131"/>
                      </a:lnTo>
                      <a:lnTo>
                        <a:pt x="90" y="137"/>
                      </a:lnTo>
                      <a:lnTo>
                        <a:pt x="84" y="137"/>
                      </a:lnTo>
                      <a:lnTo>
                        <a:pt x="84" y="131"/>
                      </a:lnTo>
                      <a:lnTo>
                        <a:pt x="78" y="131"/>
                      </a:lnTo>
                      <a:lnTo>
                        <a:pt x="78" y="137"/>
                      </a:lnTo>
                      <a:lnTo>
                        <a:pt x="84" y="137"/>
                      </a:lnTo>
                      <a:lnTo>
                        <a:pt x="90" y="137"/>
                      </a:lnTo>
                      <a:lnTo>
                        <a:pt x="90" y="131"/>
                      </a:lnTo>
                      <a:lnTo>
                        <a:pt x="96" y="131"/>
                      </a:lnTo>
                      <a:lnTo>
                        <a:pt x="96" y="137"/>
                      </a:lnTo>
                      <a:lnTo>
                        <a:pt x="96" y="131"/>
                      </a:lnTo>
                      <a:lnTo>
                        <a:pt x="96" y="125"/>
                      </a:lnTo>
                      <a:lnTo>
                        <a:pt x="90" y="125"/>
                      </a:lnTo>
                      <a:lnTo>
                        <a:pt x="90" y="119"/>
                      </a:lnTo>
                      <a:lnTo>
                        <a:pt x="96" y="119"/>
                      </a:lnTo>
                      <a:lnTo>
                        <a:pt x="102" y="119"/>
                      </a:lnTo>
                      <a:lnTo>
                        <a:pt x="102" y="125"/>
                      </a:lnTo>
                      <a:lnTo>
                        <a:pt x="102" y="131"/>
                      </a:lnTo>
                      <a:lnTo>
                        <a:pt x="108" y="131"/>
                      </a:lnTo>
                      <a:lnTo>
                        <a:pt x="108" y="125"/>
                      </a:lnTo>
                      <a:lnTo>
                        <a:pt x="114" y="125"/>
                      </a:lnTo>
                      <a:lnTo>
                        <a:pt x="114" y="119"/>
                      </a:lnTo>
                      <a:lnTo>
                        <a:pt x="114" y="125"/>
                      </a:lnTo>
                      <a:lnTo>
                        <a:pt x="119" y="125"/>
                      </a:lnTo>
                      <a:lnTo>
                        <a:pt x="119" y="119"/>
                      </a:lnTo>
                      <a:lnTo>
                        <a:pt x="114" y="119"/>
                      </a:lnTo>
                      <a:lnTo>
                        <a:pt x="108" y="119"/>
                      </a:lnTo>
                      <a:lnTo>
                        <a:pt x="108" y="113"/>
                      </a:lnTo>
                      <a:lnTo>
                        <a:pt x="108" y="107"/>
                      </a:lnTo>
                      <a:lnTo>
                        <a:pt x="108" y="113"/>
                      </a:lnTo>
                      <a:lnTo>
                        <a:pt x="114" y="113"/>
                      </a:lnTo>
                      <a:lnTo>
                        <a:pt x="119" y="113"/>
                      </a:lnTo>
                      <a:lnTo>
                        <a:pt x="119" y="119"/>
                      </a:lnTo>
                      <a:lnTo>
                        <a:pt x="119" y="113"/>
                      </a:lnTo>
                      <a:lnTo>
                        <a:pt x="125" y="113"/>
                      </a:lnTo>
                      <a:lnTo>
                        <a:pt x="131" y="113"/>
                      </a:lnTo>
                      <a:lnTo>
                        <a:pt x="137" y="113"/>
                      </a:lnTo>
                      <a:lnTo>
                        <a:pt x="143" y="119"/>
                      </a:lnTo>
                      <a:lnTo>
                        <a:pt x="149" y="119"/>
                      </a:lnTo>
                      <a:lnTo>
                        <a:pt x="155" y="119"/>
                      </a:lnTo>
                      <a:lnTo>
                        <a:pt x="149" y="119"/>
                      </a:lnTo>
                      <a:lnTo>
                        <a:pt x="149" y="113"/>
                      </a:lnTo>
                      <a:lnTo>
                        <a:pt x="143" y="113"/>
                      </a:lnTo>
                      <a:lnTo>
                        <a:pt x="149" y="113"/>
                      </a:lnTo>
                      <a:lnTo>
                        <a:pt x="155" y="113"/>
                      </a:lnTo>
                      <a:lnTo>
                        <a:pt x="155" y="107"/>
                      </a:lnTo>
                      <a:lnTo>
                        <a:pt x="161" y="107"/>
                      </a:lnTo>
                      <a:lnTo>
                        <a:pt x="155" y="113"/>
                      </a:lnTo>
                      <a:lnTo>
                        <a:pt x="161" y="113"/>
                      </a:lnTo>
                      <a:lnTo>
                        <a:pt x="161" y="107"/>
                      </a:lnTo>
                      <a:lnTo>
                        <a:pt x="161" y="101"/>
                      </a:lnTo>
                      <a:lnTo>
                        <a:pt x="155" y="101"/>
                      </a:lnTo>
                      <a:lnTo>
                        <a:pt x="155" y="95"/>
                      </a:lnTo>
                      <a:lnTo>
                        <a:pt x="161" y="95"/>
                      </a:lnTo>
                      <a:lnTo>
                        <a:pt x="167" y="89"/>
                      </a:lnTo>
                      <a:lnTo>
                        <a:pt x="167" y="95"/>
                      </a:lnTo>
                      <a:lnTo>
                        <a:pt x="161" y="95"/>
                      </a:lnTo>
                      <a:lnTo>
                        <a:pt x="167" y="95"/>
                      </a:lnTo>
                      <a:lnTo>
                        <a:pt x="167" y="101"/>
                      </a:lnTo>
                      <a:lnTo>
                        <a:pt x="167" y="95"/>
                      </a:lnTo>
                      <a:lnTo>
                        <a:pt x="173" y="95"/>
                      </a:lnTo>
                      <a:lnTo>
                        <a:pt x="167" y="9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151"/>
                <p:cNvSpPr/>
                <p:nvPr/>
              </p:nvSpPr>
              <p:spPr>
                <a:xfrm>
                  <a:off x="8474400" y="378216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6" y="12"/>
                      </a:move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152"/>
                <p:cNvSpPr/>
                <p:nvPr/>
              </p:nvSpPr>
              <p:spPr>
                <a:xfrm>
                  <a:off x="8426520" y="3799800"/>
                  <a:ext cx="29880" cy="172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0" h="18">
                      <a:moveTo>
                        <a:pt x="6" y="12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24" y="18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153"/>
                <p:cNvSpPr/>
                <p:nvPr/>
              </p:nvSpPr>
              <p:spPr>
                <a:xfrm>
                  <a:off x="5861520" y="3903840"/>
                  <a:ext cx="924840" cy="1026000"/>
                </a:xfrm>
                <a:custGeom>
                  <a:avLst/>
                  <a:gdLst>
                    <a:gd name="textAreaLeft" fmla="*/ 0 w 924840"/>
                    <a:gd name="textAreaRight" fmla="*/ 925200 w 924840"/>
                    <a:gd name="textAreaTop" fmla="*/ 0 h 1026000"/>
                    <a:gd name="textAreaBottom" fmla="*/ 1026360 h 1026000"/>
                  </a:gdLst>
                  <a:ahLst/>
                  <a:rect l="textAreaLeft" t="textAreaTop" r="textAreaRight" b="textAreaBottom"/>
                  <a:pathLst>
                    <a:path w="925" h="1056">
                      <a:moveTo>
                        <a:pt x="269" y="161"/>
                      </a:moveTo>
                      <a:lnTo>
                        <a:pt x="275" y="161"/>
                      </a:lnTo>
                      <a:lnTo>
                        <a:pt x="269" y="161"/>
                      </a:lnTo>
                      <a:lnTo>
                        <a:pt x="275" y="167"/>
                      </a:lnTo>
                      <a:lnTo>
                        <a:pt x="281" y="167"/>
                      </a:lnTo>
                      <a:lnTo>
                        <a:pt x="287" y="167"/>
                      </a:lnTo>
                      <a:lnTo>
                        <a:pt x="293" y="167"/>
                      </a:lnTo>
                      <a:lnTo>
                        <a:pt x="299" y="167"/>
                      </a:lnTo>
                      <a:lnTo>
                        <a:pt x="299" y="161"/>
                      </a:lnTo>
                      <a:lnTo>
                        <a:pt x="293" y="161"/>
                      </a:lnTo>
                      <a:lnTo>
                        <a:pt x="293" y="155"/>
                      </a:lnTo>
                      <a:lnTo>
                        <a:pt x="299" y="155"/>
                      </a:lnTo>
                      <a:lnTo>
                        <a:pt x="299" y="161"/>
                      </a:lnTo>
                      <a:lnTo>
                        <a:pt x="299" y="167"/>
                      </a:lnTo>
                      <a:lnTo>
                        <a:pt x="305" y="167"/>
                      </a:lnTo>
                      <a:lnTo>
                        <a:pt x="310" y="167"/>
                      </a:lnTo>
                      <a:lnTo>
                        <a:pt x="316" y="173"/>
                      </a:lnTo>
                      <a:lnTo>
                        <a:pt x="322" y="173"/>
                      </a:lnTo>
                      <a:lnTo>
                        <a:pt x="322" y="179"/>
                      </a:lnTo>
                      <a:lnTo>
                        <a:pt x="328" y="179"/>
                      </a:lnTo>
                      <a:lnTo>
                        <a:pt x="334" y="179"/>
                      </a:lnTo>
                      <a:lnTo>
                        <a:pt x="340" y="179"/>
                      </a:lnTo>
                      <a:lnTo>
                        <a:pt x="346" y="179"/>
                      </a:lnTo>
                      <a:lnTo>
                        <a:pt x="352" y="179"/>
                      </a:lnTo>
                      <a:lnTo>
                        <a:pt x="352" y="185"/>
                      </a:lnTo>
                      <a:lnTo>
                        <a:pt x="358" y="185"/>
                      </a:lnTo>
                      <a:lnTo>
                        <a:pt x="358" y="191"/>
                      </a:lnTo>
                      <a:lnTo>
                        <a:pt x="364" y="191"/>
                      </a:lnTo>
                      <a:lnTo>
                        <a:pt x="370" y="197"/>
                      </a:lnTo>
                      <a:lnTo>
                        <a:pt x="376" y="197"/>
                      </a:lnTo>
                      <a:lnTo>
                        <a:pt x="376" y="203"/>
                      </a:lnTo>
                      <a:lnTo>
                        <a:pt x="376" y="197"/>
                      </a:lnTo>
                      <a:lnTo>
                        <a:pt x="382" y="197"/>
                      </a:lnTo>
                      <a:lnTo>
                        <a:pt x="382" y="203"/>
                      </a:lnTo>
                      <a:lnTo>
                        <a:pt x="388" y="203"/>
                      </a:lnTo>
                      <a:lnTo>
                        <a:pt x="394" y="203"/>
                      </a:lnTo>
                      <a:lnTo>
                        <a:pt x="394" y="197"/>
                      </a:lnTo>
                      <a:lnTo>
                        <a:pt x="400" y="197"/>
                      </a:lnTo>
                      <a:lnTo>
                        <a:pt x="400" y="191"/>
                      </a:lnTo>
                      <a:lnTo>
                        <a:pt x="406" y="185"/>
                      </a:lnTo>
                      <a:lnTo>
                        <a:pt x="400" y="185"/>
                      </a:lnTo>
                      <a:lnTo>
                        <a:pt x="400" y="179"/>
                      </a:lnTo>
                      <a:lnTo>
                        <a:pt x="406" y="179"/>
                      </a:lnTo>
                      <a:lnTo>
                        <a:pt x="406" y="185"/>
                      </a:lnTo>
                      <a:lnTo>
                        <a:pt x="412" y="185"/>
                      </a:lnTo>
                      <a:lnTo>
                        <a:pt x="406" y="185"/>
                      </a:lnTo>
                      <a:lnTo>
                        <a:pt x="406" y="191"/>
                      </a:lnTo>
                      <a:lnTo>
                        <a:pt x="406" y="197"/>
                      </a:lnTo>
                      <a:lnTo>
                        <a:pt x="400" y="197"/>
                      </a:lnTo>
                      <a:lnTo>
                        <a:pt x="406" y="197"/>
                      </a:lnTo>
                      <a:lnTo>
                        <a:pt x="406" y="191"/>
                      </a:lnTo>
                      <a:lnTo>
                        <a:pt x="412" y="191"/>
                      </a:lnTo>
                      <a:lnTo>
                        <a:pt x="412" y="185"/>
                      </a:lnTo>
                      <a:lnTo>
                        <a:pt x="412" y="191"/>
                      </a:lnTo>
                      <a:lnTo>
                        <a:pt x="406" y="191"/>
                      </a:lnTo>
                      <a:lnTo>
                        <a:pt x="406" y="197"/>
                      </a:lnTo>
                      <a:lnTo>
                        <a:pt x="412" y="197"/>
                      </a:lnTo>
                      <a:lnTo>
                        <a:pt x="412" y="191"/>
                      </a:lnTo>
                      <a:lnTo>
                        <a:pt x="418" y="191"/>
                      </a:lnTo>
                      <a:lnTo>
                        <a:pt x="424" y="191"/>
                      </a:lnTo>
                      <a:lnTo>
                        <a:pt x="430" y="191"/>
                      </a:lnTo>
                      <a:lnTo>
                        <a:pt x="430" y="185"/>
                      </a:lnTo>
                      <a:lnTo>
                        <a:pt x="430" y="191"/>
                      </a:lnTo>
                      <a:lnTo>
                        <a:pt x="436" y="191"/>
                      </a:lnTo>
                      <a:lnTo>
                        <a:pt x="436" y="197"/>
                      </a:lnTo>
                      <a:lnTo>
                        <a:pt x="430" y="197"/>
                      </a:lnTo>
                      <a:lnTo>
                        <a:pt x="436" y="197"/>
                      </a:lnTo>
                      <a:lnTo>
                        <a:pt x="436" y="203"/>
                      </a:lnTo>
                      <a:lnTo>
                        <a:pt x="430" y="203"/>
                      </a:lnTo>
                      <a:lnTo>
                        <a:pt x="430" y="197"/>
                      </a:lnTo>
                      <a:lnTo>
                        <a:pt x="424" y="197"/>
                      </a:lnTo>
                      <a:lnTo>
                        <a:pt x="424" y="203"/>
                      </a:lnTo>
                      <a:lnTo>
                        <a:pt x="418" y="203"/>
                      </a:lnTo>
                      <a:lnTo>
                        <a:pt x="412" y="203"/>
                      </a:lnTo>
                      <a:lnTo>
                        <a:pt x="412" y="209"/>
                      </a:lnTo>
                      <a:lnTo>
                        <a:pt x="406" y="209"/>
                      </a:lnTo>
                      <a:lnTo>
                        <a:pt x="406" y="203"/>
                      </a:lnTo>
                      <a:lnTo>
                        <a:pt x="400" y="209"/>
                      </a:lnTo>
                      <a:lnTo>
                        <a:pt x="394" y="209"/>
                      </a:lnTo>
                      <a:lnTo>
                        <a:pt x="388" y="209"/>
                      </a:lnTo>
                      <a:lnTo>
                        <a:pt x="382" y="209"/>
                      </a:lnTo>
                      <a:lnTo>
                        <a:pt x="382" y="215"/>
                      </a:lnTo>
                      <a:lnTo>
                        <a:pt x="376" y="215"/>
                      </a:lnTo>
                      <a:lnTo>
                        <a:pt x="376" y="221"/>
                      </a:lnTo>
                      <a:lnTo>
                        <a:pt x="370" y="221"/>
                      </a:lnTo>
                      <a:lnTo>
                        <a:pt x="364" y="221"/>
                      </a:lnTo>
                      <a:lnTo>
                        <a:pt x="358" y="221"/>
                      </a:lnTo>
                      <a:lnTo>
                        <a:pt x="364" y="221"/>
                      </a:lnTo>
                      <a:lnTo>
                        <a:pt x="364" y="227"/>
                      </a:lnTo>
                      <a:lnTo>
                        <a:pt x="370" y="227"/>
                      </a:lnTo>
                      <a:lnTo>
                        <a:pt x="376" y="227"/>
                      </a:lnTo>
                      <a:lnTo>
                        <a:pt x="376" y="221"/>
                      </a:lnTo>
                      <a:lnTo>
                        <a:pt x="376" y="227"/>
                      </a:lnTo>
                      <a:lnTo>
                        <a:pt x="376" y="233"/>
                      </a:lnTo>
                      <a:lnTo>
                        <a:pt x="376" y="227"/>
                      </a:lnTo>
                      <a:lnTo>
                        <a:pt x="382" y="227"/>
                      </a:lnTo>
                      <a:lnTo>
                        <a:pt x="382" y="233"/>
                      </a:lnTo>
                      <a:lnTo>
                        <a:pt x="382" y="227"/>
                      </a:lnTo>
                      <a:lnTo>
                        <a:pt x="382" y="221"/>
                      </a:lnTo>
                      <a:lnTo>
                        <a:pt x="382" y="227"/>
                      </a:lnTo>
                      <a:lnTo>
                        <a:pt x="388" y="227"/>
                      </a:lnTo>
                      <a:lnTo>
                        <a:pt x="394" y="227"/>
                      </a:lnTo>
                      <a:lnTo>
                        <a:pt x="400" y="221"/>
                      </a:lnTo>
                      <a:lnTo>
                        <a:pt x="406" y="221"/>
                      </a:lnTo>
                      <a:lnTo>
                        <a:pt x="412" y="215"/>
                      </a:lnTo>
                      <a:lnTo>
                        <a:pt x="412" y="209"/>
                      </a:lnTo>
                      <a:lnTo>
                        <a:pt x="418" y="209"/>
                      </a:lnTo>
                      <a:lnTo>
                        <a:pt x="418" y="215"/>
                      </a:lnTo>
                      <a:lnTo>
                        <a:pt x="424" y="215"/>
                      </a:lnTo>
                      <a:lnTo>
                        <a:pt x="430" y="215"/>
                      </a:lnTo>
                      <a:lnTo>
                        <a:pt x="436" y="209"/>
                      </a:lnTo>
                      <a:lnTo>
                        <a:pt x="442" y="215"/>
                      </a:lnTo>
                      <a:lnTo>
                        <a:pt x="448" y="215"/>
                      </a:lnTo>
                      <a:lnTo>
                        <a:pt x="448" y="221"/>
                      </a:lnTo>
                      <a:lnTo>
                        <a:pt x="454" y="221"/>
                      </a:lnTo>
                      <a:lnTo>
                        <a:pt x="454" y="215"/>
                      </a:lnTo>
                      <a:lnTo>
                        <a:pt x="454" y="221"/>
                      </a:lnTo>
                      <a:lnTo>
                        <a:pt x="460" y="221"/>
                      </a:lnTo>
                      <a:lnTo>
                        <a:pt x="460" y="215"/>
                      </a:lnTo>
                      <a:lnTo>
                        <a:pt x="454" y="215"/>
                      </a:lnTo>
                      <a:lnTo>
                        <a:pt x="448" y="215"/>
                      </a:lnTo>
                      <a:lnTo>
                        <a:pt x="448" y="209"/>
                      </a:lnTo>
                      <a:lnTo>
                        <a:pt x="442" y="209"/>
                      </a:lnTo>
                      <a:lnTo>
                        <a:pt x="436" y="203"/>
                      </a:lnTo>
                      <a:lnTo>
                        <a:pt x="442" y="203"/>
                      </a:lnTo>
                      <a:lnTo>
                        <a:pt x="442" y="209"/>
                      </a:lnTo>
                      <a:lnTo>
                        <a:pt x="448" y="209"/>
                      </a:lnTo>
                      <a:lnTo>
                        <a:pt x="454" y="215"/>
                      </a:lnTo>
                      <a:lnTo>
                        <a:pt x="460" y="215"/>
                      </a:lnTo>
                      <a:lnTo>
                        <a:pt x="460" y="221"/>
                      </a:lnTo>
                      <a:lnTo>
                        <a:pt x="466" y="221"/>
                      </a:lnTo>
                      <a:lnTo>
                        <a:pt x="472" y="227"/>
                      </a:lnTo>
                      <a:lnTo>
                        <a:pt x="477" y="227"/>
                      </a:lnTo>
                      <a:lnTo>
                        <a:pt x="483" y="227"/>
                      </a:lnTo>
                      <a:lnTo>
                        <a:pt x="489" y="227"/>
                      </a:lnTo>
                      <a:lnTo>
                        <a:pt x="489" y="221"/>
                      </a:lnTo>
                      <a:lnTo>
                        <a:pt x="495" y="221"/>
                      </a:lnTo>
                      <a:lnTo>
                        <a:pt x="501" y="215"/>
                      </a:lnTo>
                      <a:lnTo>
                        <a:pt x="507" y="209"/>
                      </a:lnTo>
                      <a:lnTo>
                        <a:pt x="513" y="209"/>
                      </a:lnTo>
                      <a:lnTo>
                        <a:pt x="519" y="209"/>
                      </a:lnTo>
                      <a:lnTo>
                        <a:pt x="525" y="209"/>
                      </a:lnTo>
                      <a:lnTo>
                        <a:pt x="531" y="209"/>
                      </a:lnTo>
                      <a:lnTo>
                        <a:pt x="531" y="203"/>
                      </a:lnTo>
                      <a:lnTo>
                        <a:pt x="537" y="197"/>
                      </a:lnTo>
                      <a:lnTo>
                        <a:pt x="543" y="197"/>
                      </a:lnTo>
                      <a:lnTo>
                        <a:pt x="543" y="191"/>
                      </a:lnTo>
                      <a:lnTo>
                        <a:pt x="549" y="191"/>
                      </a:lnTo>
                      <a:lnTo>
                        <a:pt x="555" y="185"/>
                      </a:lnTo>
                      <a:lnTo>
                        <a:pt x="561" y="185"/>
                      </a:lnTo>
                      <a:lnTo>
                        <a:pt x="567" y="179"/>
                      </a:lnTo>
                      <a:lnTo>
                        <a:pt x="573" y="179"/>
                      </a:lnTo>
                      <a:lnTo>
                        <a:pt x="579" y="173"/>
                      </a:lnTo>
                      <a:lnTo>
                        <a:pt x="579" y="179"/>
                      </a:lnTo>
                      <a:lnTo>
                        <a:pt x="585" y="179"/>
                      </a:lnTo>
                      <a:lnTo>
                        <a:pt x="591" y="179"/>
                      </a:lnTo>
                      <a:lnTo>
                        <a:pt x="597" y="179"/>
                      </a:lnTo>
                      <a:lnTo>
                        <a:pt x="603" y="179"/>
                      </a:lnTo>
                      <a:lnTo>
                        <a:pt x="609" y="179"/>
                      </a:lnTo>
                      <a:lnTo>
                        <a:pt x="615" y="179"/>
                      </a:lnTo>
                      <a:lnTo>
                        <a:pt x="621" y="173"/>
                      </a:lnTo>
                      <a:lnTo>
                        <a:pt x="627" y="173"/>
                      </a:lnTo>
                      <a:lnTo>
                        <a:pt x="633" y="173"/>
                      </a:lnTo>
                      <a:lnTo>
                        <a:pt x="639" y="173"/>
                      </a:lnTo>
                      <a:lnTo>
                        <a:pt x="639" y="167"/>
                      </a:lnTo>
                      <a:lnTo>
                        <a:pt x="645" y="167"/>
                      </a:lnTo>
                      <a:lnTo>
                        <a:pt x="645" y="161"/>
                      </a:lnTo>
                      <a:lnTo>
                        <a:pt x="650" y="161"/>
                      </a:lnTo>
                      <a:lnTo>
                        <a:pt x="650" y="155"/>
                      </a:lnTo>
                      <a:lnTo>
                        <a:pt x="656" y="155"/>
                      </a:lnTo>
                      <a:lnTo>
                        <a:pt x="656" y="149"/>
                      </a:lnTo>
                      <a:lnTo>
                        <a:pt x="662" y="149"/>
                      </a:lnTo>
                      <a:lnTo>
                        <a:pt x="662" y="143"/>
                      </a:lnTo>
                      <a:lnTo>
                        <a:pt x="668" y="143"/>
                      </a:lnTo>
                      <a:lnTo>
                        <a:pt x="668" y="137"/>
                      </a:lnTo>
                      <a:lnTo>
                        <a:pt x="674" y="131"/>
                      </a:lnTo>
                      <a:lnTo>
                        <a:pt x="680" y="131"/>
                      </a:lnTo>
                      <a:lnTo>
                        <a:pt x="680" y="125"/>
                      </a:lnTo>
                      <a:lnTo>
                        <a:pt x="686" y="125"/>
                      </a:lnTo>
                      <a:lnTo>
                        <a:pt x="686" y="119"/>
                      </a:lnTo>
                      <a:lnTo>
                        <a:pt x="686" y="113"/>
                      </a:lnTo>
                      <a:lnTo>
                        <a:pt x="692" y="113"/>
                      </a:lnTo>
                      <a:lnTo>
                        <a:pt x="692" y="108"/>
                      </a:lnTo>
                      <a:lnTo>
                        <a:pt x="698" y="108"/>
                      </a:lnTo>
                      <a:lnTo>
                        <a:pt x="698" y="102"/>
                      </a:lnTo>
                      <a:lnTo>
                        <a:pt x="698" y="96"/>
                      </a:lnTo>
                      <a:lnTo>
                        <a:pt x="704" y="96"/>
                      </a:lnTo>
                      <a:lnTo>
                        <a:pt x="710" y="96"/>
                      </a:lnTo>
                      <a:lnTo>
                        <a:pt x="710" y="90"/>
                      </a:lnTo>
                      <a:lnTo>
                        <a:pt x="716" y="90"/>
                      </a:lnTo>
                      <a:lnTo>
                        <a:pt x="716" y="84"/>
                      </a:lnTo>
                      <a:lnTo>
                        <a:pt x="722" y="84"/>
                      </a:lnTo>
                      <a:lnTo>
                        <a:pt x="728" y="84"/>
                      </a:lnTo>
                      <a:lnTo>
                        <a:pt x="728" y="78"/>
                      </a:lnTo>
                      <a:lnTo>
                        <a:pt x="734" y="78"/>
                      </a:lnTo>
                      <a:lnTo>
                        <a:pt x="734" y="72"/>
                      </a:lnTo>
                      <a:lnTo>
                        <a:pt x="740" y="72"/>
                      </a:lnTo>
                      <a:lnTo>
                        <a:pt x="740" y="66"/>
                      </a:lnTo>
                      <a:lnTo>
                        <a:pt x="746" y="66"/>
                      </a:lnTo>
                      <a:lnTo>
                        <a:pt x="752" y="66"/>
                      </a:lnTo>
                      <a:lnTo>
                        <a:pt x="752" y="60"/>
                      </a:lnTo>
                      <a:lnTo>
                        <a:pt x="758" y="60"/>
                      </a:lnTo>
                      <a:lnTo>
                        <a:pt x="764" y="54"/>
                      </a:lnTo>
                      <a:lnTo>
                        <a:pt x="770" y="54"/>
                      </a:lnTo>
                      <a:lnTo>
                        <a:pt x="770" y="48"/>
                      </a:lnTo>
                      <a:lnTo>
                        <a:pt x="776" y="48"/>
                      </a:lnTo>
                      <a:lnTo>
                        <a:pt x="782" y="48"/>
                      </a:lnTo>
                      <a:lnTo>
                        <a:pt x="788" y="42"/>
                      </a:lnTo>
                      <a:lnTo>
                        <a:pt x="794" y="42"/>
                      </a:lnTo>
                      <a:lnTo>
                        <a:pt x="794" y="36"/>
                      </a:lnTo>
                      <a:lnTo>
                        <a:pt x="800" y="36"/>
                      </a:lnTo>
                      <a:lnTo>
                        <a:pt x="806" y="30"/>
                      </a:lnTo>
                      <a:lnTo>
                        <a:pt x="812" y="24"/>
                      </a:lnTo>
                      <a:lnTo>
                        <a:pt x="812" y="30"/>
                      </a:lnTo>
                      <a:lnTo>
                        <a:pt x="812" y="24"/>
                      </a:lnTo>
                      <a:lnTo>
                        <a:pt x="812" y="30"/>
                      </a:lnTo>
                      <a:lnTo>
                        <a:pt x="812" y="24"/>
                      </a:lnTo>
                      <a:lnTo>
                        <a:pt x="818" y="24"/>
                      </a:lnTo>
                      <a:lnTo>
                        <a:pt x="823" y="24"/>
                      </a:lnTo>
                      <a:lnTo>
                        <a:pt x="829" y="18"/>
                      </a:lnTo>
                      <a:lnTo>
                        <a:pt x="835" y="18"/>
                      </a:lnTo>
                      <a:lnTo>
                        <a:pt x="835" y="12"/>
                      </a:lnTo>
                      <a:lnTo>
                        <a:pt x="841" y="12"/>
                      </a:lnTo>
                      <a:lnTo>
                        <a:pt x="847" y="12"/>
                      </a:lnTo>
                      <a:lnTo>
                        <a:pt x="847" y="6"/>
                      </a:lnTo>
                      <a:lnTo>
                        <a:pt x="853" y="6"/>
                      </a:lnTo>
                      <a:lnTo>
                        <a:pt x="859" y="6"/>
                      </a:lnTo>
                      <a:lnTo>
                        <a:pt x="859" y="0"/>
                      </a:lnTo>
                      <a:lnTo>
                        <a:pt x="865" y="6"/>
                      </a:lnTo>
                      <a:lnTo>
                        <a:pt x="865" y="36"/>
                      </a:lnTo>
                      <a:lnTo>
                        <a:pt x="883" y="131"/>
                      </a:lnTo>
                      <a:lnTo>
                        <a:pt x="883" y="137"/>
                      </a:lnTo>
                      <a:lnTo>
                        <a:pt x="901" y="233"/>
                      </a:lnTo>
                      <a:lnTo>
                        <a:pt x="913" y="298"/>
                      </a:lnTo>
                      <a:lnTo>
                        <a:pt x="913" y="310"/>
                      </a:lnTo>
                      <a:lnTo>
                        <a:pt x="925" y="370"/>
                      </a:lnTo>
                      <a:lnTo>
                        <a:pt x="919" y="370"/>
                      </a:lnTo>
                      <a:lnTo>
                        <a:pt x="919" y="376"/>
                      </a:lnTo>
                      <a:lnTo>
                        <a:pt x="913" y="376"/>
                      </a:lnTo>
                      <a:lnTo>
                        <a:pt x="913" y="382"/>
                      </a:lnTo>
                      <a:lnTo>
                        <a:pt x="907" y="382"/>
                      </a:lnTo>
                      <a:lnTo>
                        <a:pt x="901" y="382"/>
                      </a:lnTo>
                      <a:lnTo>
                        <a:pt x="895" y="382"/>
                      </a:lnTo>
                      <a:lnTo>
                        <a:pt x="895" y="388"/>
                      </a:lnTo>
                      <a:lnTo>
                        <a:pt x="895" y="394"/>
                      </a:lnTo>
                      <a:lnTo>
                        <a:pt x="895" y="400"/>
                      </a:lnTo>
                      <a:lnTo>
                        <a:pt x="901" y="400"/>
                      </a:lnTo>
                      <a:lnTo>
                        <a:pt x="901" y="406"/>
                      </a:lnTo>
                      <a:lnTo>
                        <a:pt x="907" y="406"/>
                      </a:lnTo>
                      <a:lnTo>
                        <a:pt x="907" y="412"/>
                      </a:lnTo>
                      <a:lnTo>
                        <a:pt x="907" y="418"/>
                      </a:lnTo>
                      <a:lnTo>
                        <a:pt x="913" y="418"/>
                      </a:lnTo>
                      <a:lnTo>
                        <a:pt x="913" y="424"/>
                      </a:lnTo>
                      <a:lnTo>
                        <a:pt x="913" y="430"/>
                      </a:lnTo>
                      <a:lnTo>
                        <a:pt x="913" y="436"/>
                      </a:lnTo>
                      <a:lnTo>
                        <a:pt x="913" y="442"/>
                      </a:lnTo>
                      <a:lnTo>
                        <a:pt x="913" y="448"/>
                      </a:lnTo>
                      <a:lnTo>
                        <a:pt x="919" y="448"/>
                      </a:lnTo>
                      <a:lnTo>
                        <a:pt x="919" y="454"/>
                      </a:lnTo>
                      <a:lnTo>
                        <a:pt x="919" y="460"/>
                      </a:lnTo>
                      <a:lnTo>
                        <a:pt x="919" y="466"/>
                      </a:lnTo>
                      <a:lnTo>
                        <a:pt x="919" y="472"/>
                      </a:lnTo>
                      <a:lnTo>
                        <a:pt x="919" y="477"/>
                      </a:lnTo>
                      <a:lnTo>
                        <a:pt x="919" y="483"/>
                      </a:lnTo>
                      <a:lnTo>
                        <a:pt x="913" y="483"/>
                      </a:lnTo>
                      <a:lnTo>
                        <a:pt x="913" y="489"/>
                      </a:lnTo>
                      <a:lnTo>
                        <a:pt x="913" y="495"/>
                      </a:lnTo>
                      <a:lnTo>
                        <a:pt x="907" y="501"/>
                      </a:lnTo>
                      <a:lnTo>
                        <a:pt x="907" y="507"/>
                      </a:lnTo>
                      <a:lnTo>
                        <a:pt x="907" y="513"/>
                      </a:lnTo>
                      <a:lnTo>
                        <a:pt x="907" y="519"/>
                      </a:lnTo>
                      <a:lnTo>
                        <a:pt x="907" y="525"/>
                      </a:lnTo>
                      <a:lnTo>
                        <a:pt x="907" y="531"/>
                      </a:lnTo>
                      <a:lnTo>
                        <a:pt x="907" y="537"/>
                      </a:lnTo>
                      <a:lnTo>
                        <a:pt x="907" y="543"/>
                      </a:lnTo>
                      <a:lnTo>
                        <a:pt x="907" y="549"/>
                      </a:lnTo>
                      <a:lnTo>
                        <a:pt x="907" y="555"/>
                      </a:lnTo>
                      <a:lnTo>
                        <a:pt x="907" y="561"/>
                      </a:lnTo>
                      <a:lnTo>
                        <a:pt x="907" y="567"/>
                      </a:lnTo>
                      <a:lnTo>
                        <a:pt x="901" y="567"/>
                      </a:lnTo>
                      <a:lnTo>
                        <a:pt x="901" y="573"/>
                      </a:lnTo>
                      <a:lnTo>
                        <a:pt x="907" y="573"/>
                      </a:lnTo>
                      <a:lnTo>
                        <a:pt x="907" y="579"/>
                      </a:lnTo>
                      <a:lnTo>
                        <a:pt x="901" y="579"/>
                      </a:lnTo>
                      <a:lnTo>
                        <a:pt x="895" y="579"/>
                      </a:lnTo>
                      <a:lnTo>
                        <a:pt x="895" y="585"/>
                      </a:lnTo>
                      <a:lnTo>
                        <a:pt x="901" y="591"/>
                      </a:lnTo>
                      <a:lnTo>
                        <a:pt x="901" y="597"/>
                      </a:lnTo>
                      <a:lnTo>
                        <a:pt x="895" y="603"/>
                      </a:lnTo>
                      <a:lnTo>
                        <a:pt x="895" y="609"/>
                      </a:lnTo>
                      <a:lnTo>
                        <a:pt x="895" y="615"/>
                      </a:lnTo>
                      <a:lnTo>
                        <a:pt x="895" y="621"/>
                      </a:lnTo>
                      <a:lnTo>
                        <a:pt x="889" y="621"/>
                      </a:lnTo>
                      <a:lnTo>
                        <a:pt x="889" y="627"/>
                      </a:lnTo>
                      <a:lnTo>
                        <a:pt x="889" y="633"/>
                      </a:lnTo>
                      <a:lnTo>
                        <a:pt x="895" y="633"/>
                      </a:lnTo>
                      <a:lnTo>
                        <a:pt x="895" y="639"/>
                      </a:lnTo>
                      <a:lnTo>
                        <a:pt x="901" y="639"/>
                      </a:lnTo>
                      <a:lnTo>
                        <a:pt x="901" y="645"/>
                      </a:lnTo>
                      <a:lnTo>
                        <a:pt x="895" y="645"/>
                      </a:lnTo>
                      <a:lnTo>
                        <a:pt x="895" y="651"/>
                      </a:lnTo>
                      <a:lnTo>
                        <a:pt x="895" y="656"/>
                      </a:lnTo>
                      <a:lnTo>
                        <a:pt x="895" y="662"/>
                      </a:lnTo>
                      <a:lnTo>
                        <a:pt x="889" y="668"/>
                      </a:lnTo>
                      <a:lnTo>
                        <a:pt x="883" y="668"/>
                      </a:lnTo>
                      <a:lnTo>
                        <a:pt x="883" y="674"/>
                      </a:lnTo>
                      <a:lnTo>
                        <a:pt x="877" y="674"/>
                      </a:lnTo>
                      <a:lnTo>
                        <a:pt x="877" y="680"/>
                      </a:lnTo>
                      <a:lnTo>
                        <a:pt x="871" y="680"/>
                      </a:lnTo>
                      <a:lnTo>
                        <a:pt x="871" y="686"/>
                      </a:lnTo>
                      <a:lnTo>
                        <a:pt x="865" y="686"/>
                      </a:lnTo>
                      <a:lnTo>
                        <a:pt x="865" y="692"/>
                      </a:lnTo>
                      <a:lnTo>
                        <a:pt x="865" y="698"/>
                      </a:lnTo>
                      <a:lnTo>
                        <a:pt x="859" y="698"/>
                      </a:lnTo>
                      <a:lnTo>
                        <a:pt x="859" y="704"/>
                      </a:lnTo>
                      <a:lnTo>
                        <a:pt x="853" y="704"/>
                      </a:lnTo>
                      <a:lnTo>
                        <a:pt x="853" y="710"/>
                      </a:lnTo>
                      <a:lnTo>
                        <a:pt x="853" y="716"/>
                      </a:lnTo>
                      <a:lnTo>
                        <a:pt x="847" y="716"/>
                      </a:lnTo>
                      <a:lnTo>
                        <a:pt x="847" y="722"/>
                      </a:lnTo>
                      <a:lnTo>
                        <a:pt x="841" y="722"/>
                      </a:lnTo>
                      <a:lnTo>
                        <a:pt x="841" y="728"/>
                      </a:lnTo>
                      <a:lnTo>
                        <a:pt x="835" y="728"/>
                      </a:lnTo>
                      <a:lnTo>
                        <a:pt x="835" y="734"/>
                      </a:lnTo>
                      <a:lnTo>
                        <a:pt x="829" y="734"/>
                      </a:lnTo>
                      <a:lnTo>
                        <a:pt x="829" y="740"/>
                      </a:lnTo>
                      <a:lnTo>
                        <a:pt x="823" y="740"/>
                      </a:lnTo>
                      <a:lnTo>
                        <a:pt x="818" y="740"/>
                      </a:lnTo>
                      <a:lnTo>
                        <a:pt x="818" y="746"/>
                      </a:lnTo>
                      <a:lnTo>
                        <a:pt x="812" y="746"/>
                      </a:lnTo>
                      <a:lnTo>
                        <a:pt x="812" y="752"/>
                      </a:lnTo>
                      <a:lnTo>
                        <a:pt x="806" y="752"/>
                      </a:lnTo>
                      <a:lnTo>
                        <a:pt x="806" y="758"/>
                      </a:lnTo>
                      <a:lnTo>
                        <a:pt x="800" y="758"/>
                      </a:lnTo>
                      <a:lnTo>
                        <a:pt x="794" y="758"/>
                      </a:lnTo>
                      <a:lnTo>
                        <a:pt x="794" y="752"/>
                      </a:lnTo>
                      <a:lnTo>
                        <a:pt x="788" y="746"/>
                      </a:lnTo>
                      <a:lnTo>
                        <a:pt x="782" y="740"/>
                      </a:lnTo>
                      <a:lnTo>
                        <a:pt x="782" y="746"/>
                      </a:lnTo>
                      <a:lnTo>
                        <a:pt x="776" y="746"/>
                      </a:lnTo>
                      <a:lnTo>
                        <a:pt x="776" y="752"/>
                      </a:lnTo>
                      <a:lnTo>
                        <a:pt x="770" y="752"/>
                      </a:lnTo>
                      <a:lnTo>
                        <a:pt x="770" y="758"/>
                      </a:lnTo>
                      <a:lnTo>
                        <a:pt x="764" y="764"/>
                      </a:lnTo>
                      <a:lnTo>
                        <a:pt x="764" y="770"/>
                      </a:lnTo>
                      <a:lnTo>
                        <a:pt x="764" y="776"/>
                      </a:lnTo>
                      <a:lnTo>
                        <a:pt x="764" y="782"/>
                      </a:lnTo>
                      <a:lnTo>
                        <a:pt x="764" y="788"/>
                      </a:lnTo>
                      <a:lnTo>
                        <a:pt x="758" y="788"/>
                      </a:lnTo>
                      <a:lnTo>
                        <a:pt x="752" y="788"/>
                      </a:lnTo>
                      <a:lnTo>
                        <a:pt x="746" y="788"/>
                      </a:lnTo>
                      <a:lnTo>
                        <a:pt x="740" y="788"/>
                      </a:lnTo>
                      <a:lnTo>
                        <a:pt x="740" y="794"/>
                      </a:lnTo>
                      <a:lnTo>
                        <a:pt x="740" y="800"/>
                      </a:lnTo>
                      <a:lnTo>
                        <a:pt x="740" y="806"/>
                      </a:lnTo>
                      <a:lnTo>
                        <a:pt x="734" y="806"/>
                      </a:lnTo>
                      <a:lnTo>
                        <a:pt x="728" y="812"/>
                      </a:lnTo>
                      <a:lnTo>
                        <a:pt x="728" y="818"/>
                      </a:lnTo>
                      <a:lnTo>
                        <a:pt x="728" y="830"/>
                      </a:lnTo>
                      <a:lnTo>
                        <a:pt x="734" y="830"/>
                      </a:lnTo>
                      <a:lnTo>
                        <a:pt x="734" y="836"/>
                      </a:lnTo>
                      <a:lnTo>
                        <a:pt x="734" y="841"/>
                      </a:lnTo>
                      <a:lnTo>
                        <a:pt x="728" y="841"/>
                      </a:lnTo>
                      <a:lnTo>
                        <a:pt x="728" y="847"/>
                      </a:lnTo>
                      <a:lnTo>
                        <a:pt x="722" y="847"/>
                      </a:lnTo>
                      <a:lnTo>
                        <a:pt x="716" y="847"/>
                      </a:lnTo>
                      <a:lnTo>
                        <a:pt x="716" y="853"/>
                      </a:lnTo>
                      <a:lnTo>
                        <a:pt x="722" y="853"/>
                      </a:lnTo>
                      <a:lnTo>
                        <a:pt x="722" y="859"/>
                      </a:lnTo>
                      <a:lnTo>
                        <a:pt x="728" y="859"/>
                      </a:lnTo>
                      <a:lnTo>
                        <a:pt x="728" y="865"/>
                      </a:lnTo>
                      <a:lnTo>
                        <a:pt x="728" y="871"/>
                      </a:lnTo>
                      <a:lnTo>
                        <a:pt x="728" y="877"/>
                      </a:lnTo>
                      <a:lnTo>
                        <a:pt x="734" y="877"/>
                      </a:lnTo>
                      <a:lnTo>
                        <a:pt x="734" y="883"/>
                      </a:lnTo>
                      <a:lnTo>
                        <a:pt x="734" y="889"/>
                      </a:lnTo>
                      <a:lnTo>
                        <a:pt x="728" y="889"/>
                      </a:lnTo>
                      <a:lnTo>
                        <a:pt x="728" y="883"/>
                      </a:lnTo>
                      <a:lnTo>
                        <a:pt x="722" y="883"/>
                      </a:lnTo>
                      <a:lnTo>
                        <a:pt x="722" y="889"/>
                      </a:lnTo>
                      <a:lnTo>
                        <a:pt x="716" y="895"/>
                      </a:lnTo>
                      <a:lnTo>
                        <a:pt x="716" y="901"/>
                      </a:lnTo>
                      <a:lnTo>
                        <a:pt x="710" y="907"/>
                      </a:lnTo>
                      <a:lnTo>
                        <a:pt x="704" y="907"/>
                      </a:lnTo>
                      <a:lnTo>
                        <a:pt x="704" y="901"/>
                      </a:lnTo>
                      <a:lnTo>
                        <a:pt x="704" y="895"/>
                      </a:lnTo>
                      <a:lnTo>
                        <a:pt x="710" y="889"/>
                      </a:lnTo>
                      <a:lnTo>
                        <a:pt x="704" y="889"/>
                      </a:lnTo>
                      <a:lnTo>
                        <a:pt x="704" y="883"/>
                      </a:lnTo>
                      <a:lnTo>
                        <a:pt x="698" y="883"/>
                      </a:lnTo>
                      <a:lnTo>
                        <a:pt x="698" y="877"/>
                      </a:lnTo>
                      <a:lnTo>
                        <a:pt x="692" y="877"/>
                      </a:lnTo>
                      <a:lnTo>
                        <a:pt x="686" y="877"/>
                      </a:lnTo>
                      <a:lnTo>
                        <a:pt x="686" y="871"/>
                      </a:lnTo>
                      <a:lnTo>
                        <a:pt x="680" y="871"/>
                      </a:lnTo>
                      <a:lnTo>
                        <a:pt x="674" y="871"/>
                      </a:lnTo>
                      <a:lnTo>
                        <a:pt x="674" y="877"/>
                      </a:lnTo>
                      <a:lnTo>
                        <a:pt x="668" y="877"/>
                      </a:lnTo>
                      <a:lnTo>
                        <a:pt x="668" y="883"/>
                      </a:lnTo>
                      <a:lnTo>
                        <a:pt x="662" y="883"/>
                      </a:lnTo>
                      <a:lnTo>
                        <a:pt x="662" y="889"/>
                      </a:lnTo>
                      <a:lnTo>
                        <a:pt x="662" y="895"/>
                      </a:lnTo>
                      <a:lnTo>
                        <a:pt x="662" y="901"/>
                      </a:lnTo>
                      <a:lnTo>
                        <a:pt x="656" y="901"/>
                      </a:lnTo>
                      <a:lnTo>
                        <a:pt x="656" y="907"/>
                      </a:lnTo>
                      <a:lnTo>
                        <a:pt x="656" y="913"/>
                      </a:lnTo>
                      <a:lnTo>
                        <a:pt x="656" y="919"/>
                      </a:lnTo>
                      <a:lnTo>
                        <a:pt x="656" y="925"/>
                      </a:lnTo>
                      <a:lnTo>
                        <a:pt x="656" y="931"/>
                      </a:lnTo>
                      <a:lnTo>
                        <a:pt x="650" y="931"/>
                      </a:lnTo>
                      <a:lnTo>
                        <a:pt x="650" y="937"/>
                      </a:lnTo>
                      <a:lnTo>
                        <a:pt x="645" y="937"/>
                      </a:lnTo>
                      <a:lnTo>
                        <a:pt x="645" y="943"/>
                      </a:lnTo>
                      <a:lnTo>
                        <a:pt x="645" y="949"/>
                      </a:lnTo>
                      <a:lnTo>
                        <a:pt x="650" y="949"/>
                      </a:lnTo>
                      <a:lnTo>
                        <a:pt x="650" y="955"/>
                      </a:lnTo>
                      <a:lnTo>
                        <a:pt x="656" y="961"/>
                      </a:lnTo>
                      <a:lnTo>
                        <a:pt x="656" y="967"/>
                      </a:lnTo>
                      <a:lnTo>
                        <a:pt x="656" y="973"/>
                      </a:lnTo>
                      <a:lnTo>
                        <a:pt x="656" y="979"/>
                      </a:lnTo>
                      <a:lnTo>
                        <a:pt x="662" y="985"/>
                      </a:lnTo>
                      <a:lnTo>
                        <a:pt x="662" y="991"/>
                      </a:lnTo>
                      <a:lnTo>
                        <a:pt x="656" y="997"/>
                      </a:lnTo>
                      <a:lnTo>
                        <a:pt x="650" y="997"/>
                      </a:lnTo>
                      <a:lnTo>
                        <a:pt x="645" y="997"/>
                      </a:lnTo>
                      <a:lnTo>
                        <a:pt x="639" y="997"/>
                      </a:lnTo>
                      <a:lnTo>
                        <a:pt x="639" y="1003"/>
                      </a:lnTo>
                      <a:lnTo>
                        <a:pt x="639" y="1009"/>
                      </a:lnTo>
                      <a:lnTo>
                        <a:pt x="639" y="1015"/>
                      </a:lnTo>
                      <a:lnTo>
                        <a:pt x="639" y="1020"/>
                      </a:lnTo>
                      <a:lnTo>
                        <a:pt x="639" y="1026"/>
                      </a:lnTo>
                      <a:lnTo>
                        <a:pt x="639" y="1032"/>
                      </a:lnTo>
                      <a:lnTo>
                        <a:pt x="639" y="1038"/>
                      </a:lnTo>
                      <a:lnTo>
                        <a:pt x="633" y="1038"/>
                      </a:lnTo>
                      <a:lnTo>
                        <a:pt x="633" y="1044"/>
                      </a:lnTo>
                      <a:lnTo>
                        <a:pt x="627" y="1044"/>
                      </a:lnTo>
                      <a:lnTo>
                        <a:pt x="621" y="1044"/>
                      </a:lnTo>
                      <a:lnTo>
                        <a:pt x="615" y="1044"/>
                      </a:lnTo>
                      <a:lnTo>
                        <a:pt x="609" y="1050"/>
                      </a:lnTo>
                      <a:lnTo>
                        <a:pt x="603" y="1056"/>
                      </a:lnTo>
                      <a:lnTo>
                        <a:pt x="597" y="1056"/>
                      </a:lnTo>
                      <a:lnTo>
                        <a:pt x="591" y="1056"/>
                      </a:lnTo>
                      <a:lnTo>
                        <a:pt x="585" y="1056"/>
                      </a:lnTo>
                      <a:lnTo>
                        <a:pt x="579" y="1056"/>
                      </a:lnTo>
                      <a:lnTo>
                        <a:pt x="579" y="1050"/>
                      </a:lnTo>
                      <a:lnTo>
                        <a:pt x="579" y="1044"/>
                      </a:lnTo>
                      <a:lnTo>
                        <a:pt x="573" y="1044"/>
                      </a:lnTo>
                      <a:lnTo>
                        <a:pt x="573" y="1038"/>
                      </a:lnTo>
                      <a:lnTo>
                        <a:pt x="567" y="1038"/>
                      </a:lnTo>
                      <a:lnTo>
                        <a:pt x="561" y="1038"/>
                      </a:lnTo>
                      <a:lnTo>
                        <a:pt x="561" y="1032"/>
                      </a:lnTo>
                      <a:lnTo>
                        <a:pt x="555" y="1032"/>
                      </a:lnTo>
                      <a:lnTo>
                        <a:pt x="555" y="1026"/>
                      </a:lnTo>
                      <a:lnTo>
                        <a:pt x="549" y="1026"/>
                      </a:lnTo>
                      <a:lnTo>
                        <a:pt x="549" y="1020"/>
                      </a:lnTo>
                      <a:lnTo>
                        <a:pt x="543" y="1020"/>
                      </a:lnTo>
                      <a:lnTo>
                        <a:pt x="537" y="1020"/>
                      </a:lnTo>
                      <a:lnTo>
                        <a:pt x="531" y="1020"/>
                      </a:lnTo>
                      <a:lnTo>
                        <a:pt x="525" y="1020"/>
                      </a:lnTo>
                      <a:lnTo>
                        <a:pt x="519" y="1015"/>
                      </a:lnTo>
                      <a:lnTo>
                        <a:pt x="513" y="1009"/>
                      </a:lnTo>
                      <a:lnTo>
                        <a:pt x="513" y="1003"/>
                      </a:lnTo>
                      <a:lnTo>
                        <a:pt x="513" y="997"/>
                      </a:lnTo>
                      <a:lnTo>
                        <a:pt x="507" y="991"/>
                      </a:lnTo>
                      <a:lnTo>
                        <a:pt x="507" y="985"/>
                      </a:lnTo>
                      <a:lnTo>
                        <a:pt x="507" y="979"/>
                      </a:lnTo>
                      <a:lnTo>
                        <a:pt x="507" y="973"/>
                      </a:lnTo>
                      <a:lnTo>
                        <a:pt x="501" y="973"/>
                      </a:lnTo>
                      <a:lnTo>
                        <a:pt x="495" y="973"/>
                      </a:lnTo>
                      <a:lnTo>
                        <a:pt x="489" y="979"/>
                      </a:lnTo>
                      <a:lnTo>
                        <a:pt x="489" y="985"/>
                      </a:lnTo>
                      <a:lnTo>
                        <a:pt x="483" y="985"/>
                      </a:lnTo>
                      <a:lnTo>
                        <a:pt x="477" y="985"/>
                      </a:lnTo>
                      <a:lnTo>
                        <a:pt x="472" y="985"/>
                      </a:lnTo>
                      <a:lnTo>
                        <a:pt x="472" y="991"/>
                      </a:lnTo>
                      <a:lnTo>
                        <a:pt x="472" y="997"/>
                      </a:lnTo>
                      <a:lnTo>
                        <a:pt x="466" y="997"/>
                      </a:lnTo>
                      <a:lnTo>
                        <a:pt x="460" y="997"/>
                      </a:lnTo>
                      <a:lnTo>
                        <a:pt x="460" y="1003"/>
                      </a:lnTo>
                      <a:lnTo>
                        <a:pt x="460" y="1009"/>
                      </a:lnTo>
                      <a:lnTo>
                        <a:pt x="454" y="1015"/>
                      </a:lnTo>
                      <a:lnTo>
                        <a:pt x="448" y="1020"/>
                      </a:lnTo>
                      <a:lnTo>
                        <a:pt x="442" y="1020"/>
                      </a:lnTo>
                      <a:lnTo>
                        <a:pt x="436" y="1020"/>
                      </a:lnTo>
                      <a:lnTo>
                        <a:pt x="436" y="1015"/>
                      </a:lnTo>
                      <a:lnTo>
                        <a:pt x="430" y="1015"/>
                      </a:lnTo>
                      <a:lnTo>
                        <a:pt x="430" y="1020"/>
                      </a:lnTo>
                      <a:lnTo>
                        <a:pt x="424" y="1020"/>
                      </a:lnTo>
                      <a:lnTo>
                        <a:pt x="424" y="1026"/>
                      </a:lnTo>
                      <a:lnTo>
                        <a:pt x="418" y="1026"/>
                      </a:lnTo>
                      <a:lnTo>
                        <a:pt x="418" y="1020"/>
                      </a:lnTo>
                      <a:lnTo>
                        <a:pt x="412" y="1020"/>
                      </a:lnTo>
                      <a:lnTo>
                        <a:pt x="412" y="1015"/>
                      </a:lnTo>
                      <a:lnTo>
                        <a:pt x="406" y="1015"/>
                      </a:lnTo>
                      <a:lnTo>
                        <a:pt x="400" y="1009"/>
                      </a:lnTo>
                      <a:lnTo>
                        <a:pt x="394" y="1009"/>
                      </a:lnTo>
                      <a:lnTo>
                        <a:pt x="388" y="1009"/>
                      </a:lnTo>
                      <a:lnTo>
                        <a:pt x="388" y="1015"/>
                      </a:lnTo>
                      <a:lnTo>
                        <a:pt x="382" y="1009"/>
                      </a:lnTo>
                      <a:lnTo>
                        <a:pt x="376" y="1009"/>
                      </a:lnTo>
                      <a:lnTo>
                        <a:pt x="370" y="1003"/>
                      </a:lnTo>
                      <a:lnTo>
                        <a:pt x="364" y="1003"/>
                      </a:lnTo>
                      <a:lnTo>
                        <a:pt x="364" y="1009"/>
                      </a:lnTo>
                      <a:lnTo>
                        <a:pt x="358" y="1009"/>
                      </a:lnTo>
                      <a:lnTo>
                        <a:pt x="352" y="1009"/>
                      </a:lnTo>
                      <a:lnTo>
                        <a:pt x="352" y="1015"/>
                      </a:lnTo>
                      <a:lnTo>
                        <a:pt x="346" y="1015"/>
                      </a:lnTo>
                      <a:lnTo>
                        <a:pt x="346" y="1020"/>
                      </a:lnTo>
                      <a:lnTo>
                        <a:pt x="346" y="1026"/>
                      </a:lnTo>
                      <a:lnTo>
                        <a:pt x="340" y="1026"/>
                      </a:lnTo>
                      <a:lnTo>
                        <a:pt x="340" y="1032"/>
                      </a:lnTo>
                      <a:lnTo>
                        <a:pt x="334" y="1026"/>
                      </a:lnTo>
                      <a:lnTo>
                        <a:pt x="328" y="1026"/>
                      </a:lnTo>
                      <a:lnTo>
                        <a:pt x="322" y="1026"/>
                      </a:lnTo>
                      <a:lnTo>
                        <a:pt x="316" y="1026"/>
                      </a:lnTo>
                      <a:lnTo>
                        <a:pt x="316" y="1020"/>
                      </a:lnTo>
                      <a:lnTo>
                        <a:pt x="316" y="1015"/>
                      </a:lnTo>
                      <a:lnTo>
                        <a:pt x="310" y="1015"/>
                      </a:lnTo>
                      <a:lnTo>
                        <a:pt x="310" y="1009"/>
                      </a:lnTo>
                      <a:lnTo>
                        <a:pt x="305" y="1009"/>
                      </a:lnTo>
                      <a:lnTo>
                        <a:pt x="299" y="1009"/>
                      </a:lnTo>
                      <a:lnTo>
                        <a:pt x="299" y="1003"/>
                      </a:lnTo>
                      <a:lnTo>
                        <a:pt x="293" y="997"/>
                      </a:lnTo>
                      <a:lnTo>
                        <a:pt x="287" y="997"/>
                      </a:lnTo>
                      <a:lnTo>
                        <a:pt x="281" y="997"/>
                      </a:lnTo>
                      <a:lnTo>
                        <a:pt x="275" y="997"/>
                      </a:lnTo>
                      <a:lnTo>
                        <a:pt x="269" y="997"/>
                      </a:lnTo>
                      <a:lnTo>
                        <a:pt x="263" y="997"/>
                      </a:lnTo>
                      <a:lnTo>
                        <a:pt x="257" y="1003"/>
                      </a:lnTo>
                      <a:lnTo>
                        <a:pt x="251" y="1003"/>
                      </a:lnTo>
                      <a:lnTo>
                        <a:pt x="245" y="1003"/>
                      </a:lnTo>
                      <a:lnTo>
                        <a:pt x="239" y="1003"/>
                      </a:lnTo>
                      <a:lnTo>
                        <a:pt x="239" y="997"/>
                      </a:lnTo>
                      <a:lnTo>
                        <a:pt x="233" y="997"/>
                      </a:lnTo>
                      <a:lnTo>
                        <a:pt x="227" y="997"/>
                      </a:lnTo>
                      <a:lnTo>
                        <a:pt x="221" y="997"/>
                      </a:lnTo>
                      <a:lnTo>
                        <a:pt x="215" y="997"/>
                      </a:lnTo>
                      <a:lnTo>
                        <a:pt x="215" y="991"/>
                      </a:lnTo>
                      <a:lnTo>
                        <a:pt x="215" y="985"/>
                      </a:lnTo>
                      <a:lnTo>
                        <a:pt x="209" y="979"/>
                      </a:lnTo>
                      <a:lnTo>
                        <a:pt x="209" y="973"/>
                      </a:lnTo>
                      <a:lnTo>
                        <a:pt x="209" y="967"/>
                      </a:lnTo>
                      <a:lnTo>
                        <a:pt x="203" y="961"/>
                      </a:lnTo>
                      <a:lnTo>
                        <a:pt x="197" y="955"/>
                      </a:lnTo>
                      <a:lnTo>
                        <a:pt x="191" y="949"/>
                      </a:lnTo>
                      <a:lnTo>
                        <a:pt x="191" y="943"/>
                      </a:lnTo>
                      <a:lnTo>
                        <a:pt x="191" y="937"/>
                      </a:lnTo>
                      <a:lnTo>
                        <a:pt x="185" y="937"/>
                      </a:lnTo>
                      <a:lnTo>
                        <a:pt x="185" y="931"/>
                      </a:lnTo>
                      <a:lnTo>
                        <a:pt x="179" y="931"/>
                      </a:lnTo>
                      <a:lnTo>
                        <a:pt x="173" y="931"/>
                      </a:lnTo>
                      <a:lnTo>
                        <a:pt x="167" y="931"/>
                      </a:lnTo>
                      <a:lnTo>
                        <a:pt x="161" y="925"/>
                      </a:lnTo>
                      <a:lnTo>
                        <a:pt x="161" y="919"/>
                      </a:lnTo>
                      <a:lnTo>
                        <a:pt x="161" y="913"/>
                      </a:lnTo>
                      <a:lnTo>
                        <a:pt x="155" y="913"/>
                      </a:lnTo>
                      <a:lnTo>
                        <a:pt x="149" y="913"/>
                      </a:lnTo>
                      <a:lnTo>
                        <a:pt x="149" y="919"/>
                      </a:lnTo>
                      <a:lnTo>
                        <a:pt x="143" y="919"/>
                      </a:lnTo>
                      <a:lnTo>
                        <a:pt x="137" y="925"/>
                      </a:lnTo>
                      <a:lnTo>
                        <a:pt x="132" y="925"/>
                      </a:lnTo>
                      <a:lnTo>
                        <a:pt x="132" y="931"/>
                      </a:lnTo>
                      <a:lnTo>
                        <a:pt x="126" y="931"/>
                      </a:lnTo>
                      <a:lnTo>
                        <a:pt x="120" y="931"/>
                      </a:lnTo>
                      <a:lnTo>
                        <a:pt x="120" y="925"/>
                      </a:lnTo>
                      <a:lnTo>
                        <a:pt x="114" y="925"/>
                      </a:lnTo>
                      <a:lnTo>
                        <a:pt x="108" y="925"/>
                      </a:lnTo>
                      <a:lnTo>
                        <a:pt x="102" y="919"/>
                      </a:lnTo>
                      <a:lnTo>
                        <a:pt x="102" y="913"/>
                      </a:lnTo>
                      <a:lnTo>
                        <a:pt x="96" y="913"/>
                      </a:lnTo>
                      <a:lnTo>
                        <a:pt x="90" y="913"/>
                      </a:lnTo>
                      <a:lnTo>
                        <a:pt x="90" y="919"/>
                      </a:lnTo>
                      <a:lnTo>
                        <a:pt x="84" y="919"/>
                      </a:lnTo>
                      <a:lnTo>
                        <a:pt x="84" y="925"/>
                      </a:lnTo>
                      <a:lnTo>
                        <a:pt x="78" y="925"/>
                      </a:lnTo>
                      <a:lnTo>
                        <a:pt x="72" y="871"/>
                      </a:lnTo>
                      <a:lnTo>
                        <a:pt x="72" y="865"/>
                      </a:lnTo>
                      <a:lnTo>
                        <a:pt x="66" y="812"/>
                      </a:lnTo>
                      <a:lnTo>
                        <a:pt x="66" y="800"/>
                      </a:lnTo>
                      <a:lnTo>
                        <a:pt x="60" y="752"/>
                      </a:lnTo>
                      <a:lnTo>
                        <a:pt x="54" y="698"/>
                      </a:lnTo>
                      <a:lnTo>
                        <a:pt x="54" y="668"/>
                      </a:lnTo>
                      <a:lnTo>
                        <a:pt x="42" y="591"/>
                      </a:lnTo>
                      <a:lnTo>
                        <a:pt x="42" y="585"/>
                      </a:lnTo>
                      <a:lnTo>
                        <a:pt x="42" y="579"/>
                      </a:lnTo>
                      <a:lnTo>
                        <a:pt x="36" y="513"/>
                      </a:lnTo>
                      <a:lnTo>
                        <a:pt x="30" y="472"/>
                      </a:lnTo>
                      <a:lnTo>
                        <a:pt x="24" y="412"/>
                      </a:lnTo>
                      <a:lnTo>
                        <a:pt x="24" y="400"/>
                      </a:lnTo>
                      <a:lnTo>
                        <a:pt x="12" y="328"/>
                      </a:lnTo>
                      <a:lnTo>
                        <a:pt x="12" y="316"/>
                      </a:lnTo>
                      <a:lnTo>
                        <a:pt x="6" y="275"/>
                      </a:lnTo>
                      <a:lnTo>
                        <a:pt x="6" y="251"/>
                      </a:lnTo>
                      <a:lnTo>
                        <a:pt x="0" y="203"/>
                      </a:lnTo>
                      <a:lnTo>
                        <a:pt x="84" y="191"/>
                      </a:lnTo>
                      <a:lnTo>
                        <a:pt x="90" y="185"/>
                      </a:lnTo>
                      <a:lnTo>
                        <a:pt x="185" y="173"/>
                      </a:lnTo>
                      <a:lnTo>
                        <a:pt x="209" y="167"/>
                      </a:lnTo>
                      <a:lnTo>
                        <a:pt x="269" y="16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154"/>
                <p:cNvSpPr/>
                <p:nvPr/>
              </p:nvSpPr>
              <p:spPr>
                <a:xfrm>
                  <a:off x="8271360" y="3909240"/>
                  <a:ext cx="101880" cy="6408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102" h="66">
                      <a:moveTo>
                        <a:pt x="60" y="30"/>
                      </a:move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78" y="18"/>
                      </a:lnTo>
                      <a:lnTo>
                        <a:pt x="78" y="12"/>
                      </a:lnTo>
                      <a:lnTo>
                        <a:pt x="84" y="12"/>
                      </a:lnTo>
                      <a:lnTo>
                        <a:pt x="90" y="12"/>
                      </a:lnTo>
                      <a:lnTo>
                        <a:pt x="96" y="6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96" y="6"/>
                      </a:lnTo>
                      <a:lnTo>
                        <a:pt x="90" y="12"/>
                      </a:lnTo>
                      <a:lnTo>
                        <a:pt x="84" y="12"/>
                      </a:lnTo>
                      <a:lnTo>
                        <a:pt x="84" y="18"/>
                      </a:lnTo>
                      <a:lnTo>
                        <a:pt x="78" y="18"/>
                      </a:lnTo>
                      <a:lnTo>
                        <a:pt x="78" y="24"/>
                      </a:lnTo>
                      <a:lnTo>
                        <a:pt x="72" y="24"/>
                      </a:lnTo>
                      <a:lnTo>
                        <a:pt x="66" y="24"/>
                      </a:lnTo>
                      <a:lnTo>
                        <a:pt x="66" y="30"/>
                      </a:lnTo>
                      <a:lnTo>
                        <a:pt x="60" y="30"/>
                      </a:lnTo>
                      <a:lnTo>
                        <a:pt x="60" y="36"/>
                      </a:lnTo>
                      <a:lnTo>
                        <a:pt x="54" y="36"/>
                      </a:lnTo>
                      <a:lnTo>
                        <a:pt x="54" y="42"/>
                      </a:ln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6" y="54"/>
                      </a:lnTo>
                      <a:lnTo>
                        <a:pt x="30" y="54"/>
                      </a:lnTo>
                      <a:lnTo>
                        <a:pt x="24" y="54"/>
                      </a:lnTo>
                      <a:lnTo>
                        <a:pt x="18" y="60"/>
                      </a:lnTo>
                      <a:lnTo>
                        <a:pt x="12" y="60"/>
                      </a:lnTo>
                      <a:lnTo>
                        <a:pt x="12" y="66"/>
                      </a:lnTo>
                      <a:lnTo>
                        <a:pt x="6" y="66"/>
                      </a:lnTo>
                      <a:lnTo>
                        <a:pt x="0" y="66"/>
                      </a:ln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60"/>
                      </a:lnTo>
                      <a:lnTo>
                        <a:pt x="18" y="54"/>
                      </a:lnTo>
                      <a:lnTo>
                        <a:pt x="24" y="54"/>
                      </a:lnTo>
                      <a:lnTo>
                        <a:pt x="30" y="48"/>
                      </a:lnTo>
                      <a:lnTo>
                        <a:pt x="36" y="48"/>
                      </a:lnTo>
                      <a:lnTo>
                        <a:pt x="42" y="42"/>
                      </a:lnTo>
                      <a:lnTo>
                        <a:pt x="48" y="42"/>
                      </a:lnTo>
                      <a:lnTo>
                        <a:pt x="54" y="36"/>
                      </a:lnTo>
                      <a:lnTo>
                        <a:pt x="60" y="3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155"/>
                <p:cNvSpPr/>
                <p:nvPr/>
              </p:nvSpPr>
              <p:spPr>
                <a:xfrm>
                  <a:off x="4495680" y="3944520"/>
                  <a:ext cx="876600" cy="1524240"/>
                </a:xfrm>
                <a:custGeom>
                  <a:avLst/>
                  <a:gdLst>
                    <a:gd name="textAreaLeft" fmla="*/ 0 w 876600"/>
                    <a:gd name="textAreaRight" fmla="*/ 876960 w 876600"/>
                    <a:gd name="textAreaTop" fmla="*/ 0 h 1524240"/>
                    <a:gd name="textAreaBottom" fmla="*/ 1524600 h 1524240"/>
                  </a:gdLst>
                  <a:ahLst/>
                  <a:rect l="textAreaLeft" t="textAreaTop" r="textAreaRight" b="textAreaBottom"/>
                  <a:pathLst>
                    <a:path w="877" h="1569">
                      <a:moveTo>
                        <a:pt x="143" y="36"/>
                      </a:moveTo>
                      <a:lnTo>
                        <a:pt x="191" y="36"/>
                      </a:lnTo>
                      <a:lnTo>
                        <a:pt x="292" y="30"/>
                      </a:lnTo>
                      <a:lnTo>
                        <a:pt x="310" y="30"/>
                      </a:lnTo>
                      <a:lnTo>
                        <a:pt x="400" y="24"/>
                      </a:lnTo>
                      <a:lnTo>
                        <a:pt x="406" y="24"/>
                      </a:lnTo>
                      <a:lnTo>
                        <a:pt x="495" y="18"/>
                      </a:lnTo>
                      <a:lnTo>
                        <a:pt x="531" y="18"/>
                      </a:lnTo>
                      <a:lnTo>
                        <a:pt x="543" y="18"/>
                      </a:lnTo>
                      <a:lnTo>
                        <a:pt x="627" y="12"/>
                      </a:lnTo>
                      <a:lnTo>
                        <a:pt x="644" y="6"/>
                      </a:lnTo>
                      <a:lnTo>
                        <a:pt x="728" y="0"/>
                      </a:lnTo>
                      <a:lnTo>
                        <a:pt x="728" y="6"/>
                      </a:lnTo>
                      <a:lnTo>
                        <a:pt x="728" y="12"/>
                      </a:lnTo>
                      <a:lnTo>
                        <a:pt x="728" y="18"/>
                      </a:lnTo>
                      <a:lnTo>
                        <a:pt x="728" y="24"/>
                      </a:lnTo>
                      <a:lnTo>
                        <a:pt x="728" y="30"/>
                      </a:lnTo>
                      <a:lnTo>
                        <a:pt x="728" y="36"/>
                      </a:lnTo>
                      <a:lnTo>
                        <a:pt x="722" y="36"/>
                      </a:lnTo>
                      <a:lnTo>
                        <a:pt x="722" y="42"/>
                      </a:lnTo>
                      <a:lnTo>
                        <a:pt x="722" y="48"/>
                      </a:lnTo>
                      <a:lnTo>
                        <a:pt x="722" y="54"/>
                      </a:lnTo>
                      <a:lnTo>
                        <a:pt x="722" y="60"/>
                      </a:lnTo>
                      <a:lnTo>
                        <a:pt x="728" y="60"/>
                      </a:lnTo>
                      <a:lnTo>
                        <a:pt x="728" y="66"/>
                      </a:lnTo>
                      <a:lnTo>
                        <a:pt x="728" y="71"/>
                      </a:lnTo>
                      <a:lnTo>
                        <a:pt x="728" y="77"/>
                      </a:lnTo>
                      <a:lnTo>
                        <a:pt x="734" y="77"/>
                      </a:lnTo>
                      <a:lnTo>
                        <a:pt x="734" y="83"/>
                      </a:lnTo>
                      <a:lnTo>
                        <a:pt x="740" y="89"/>
                      </a:lnTo>
                      <a:lnTo>
                        <a:pt x="740" y="95"/>
                      </a:lnTo>
                      <a:lnTo>
                        <a:pt x="746" y="95"/>
                      </a:lnTo>
                      <a:lnTo>
                        <a:pt x="746" y="101"/>
                      </a:lnTo>
                      <a:lnTo>
                        <a:pt x="746" y="107"/>
                      </a:lnTo>
                      <a:lnTo>
                        <a:pt x="752" y="107"/>
                      </a:lnTo>
                      <a:lnTo>
                        <a:pt x="758" y="113"/>
                      </a:lnTo>
                      <a:lnTo>
                        <a:pt x="758" y="119"/>
                      </a:lnTo>
                      <a:lnTo>
                        <a:pt x="764" y="119"/>
                      </a:lnTo>
                      <a:lnTo>
                        <a:pt x="764" y="125"/>
                      </a:lnTo>
                      <a:lnTo>
                        <a:pt x="764" y="131"/>
                      </a:lnTo>
                      <a:lnTo>
                        <a:pt x="764" y="137"/>
                      </a:lnTo>
                      <a:lnTo>
                        <a:pt x="770" y="137"/>
                      </a:lnTo>
                      <a:lnTo>
                        <a:pt x="770" y="143"/>
                      </a:lnTo>
                      <a:lnTo>
                        <a:pt x="770" y="149"/>
                      </a:lnTo>
                      <a:lnTo>
                        <a:pt x="770" y="155"/>
                      </a:lnTo>
                      <a:lnTo>
                        <a:pt x="776" y="155"/>
                      </a:lnTo>
                      <a:lnTo>
                        <a:pt x="776" y="161"/>
                      </a:lnTo>
                      <a:lnTo>
                        <a:pt x="776" y="167"/>
                      </a:lnTo>
                      <a:lnTo>
                        <a:pt x="782" y="167"/>
                      </a:lnTo>
                      <a:lnTo>
                        <a:pt x="776" y="167"/>
                      </a:lnTo>
                      <a:lnTo>
                        <a:pt x="782" y="173"/>
                      </a:lnTo>
                      <a:lnTo>
                        <a:pt x="782" y="179"/>
                      </a:lnTo>
                      <a:lnTo>
                        <a:pt x="782" y="185"/>
                      </a:lnTo>
                      <a:lnTo>
                        <a:pt x="788" y="185"/>
                      </a:lnTo>
                      <a:lnTo>
                        <a:pt x="788" y="191"/>
                      </a:lnTo>
                      <a:lnTo>
                        <a:pt x="788" y="197"/>
                      </a:lnTo>
                      <a:lnTo>
                        <a:pt x="794" y="197"/>
                      </a:lnTo>
                      <a:lnTo>
                        <a:pt x="794" y="203"/>
                      </a:lnTo>
                      <a:lnTo>
                        <a:pt x="800" y="203"/>
                      </a:lnTo>
                      <a:lnTo>
                        <a:pt x="800" y="209"/>
                      </a:lnTo>
                      <a:lnTo>
                        <a:pt x="800" y="233"/>
                      </a:lnTo>
                      <a:lnTo>
                        <a:pt x="806" y="280"/>
                      </a:lnTo>
                      <a:lnTo>
                        <a:pt x="811" y="328"/>
                      </a:lnTo>
                      <a:lnTo>
                        <a:pt x="811" y="364"/>
                      </a:lnTo>
                      <a:lnTo>
                        <a:pt x="817" y="412"/>
                      </a:lnTo>
                      <a:lnTo>
                        <a:pt x="823" y="483"/>
                      </a:lnTo>
                      <a:lnTo>
                        <a:pt x="829" y="555"/>
                      </a:lnTo>
                      <a:lnTo>
                        <a:pt x="829" y="561"/>
                      </a:lnTo>
                      <a:lnTo>
                        <a:pt x="835" y="644"/>
                      </a:lnTo>
                      <a:lnTo>
                        <a:pt x="847" y="722"/>
                      </a:lnTo>
                      <a:lnTo>
                        <a:pt x="853" y="799"/>
                      </a:lnTo>
                      <a:lnTo>
                        <a:pt x="853" y="841"/>
                      </a:lnTo>
                      <a:lnTo>
                        <a:pt x="859" y="877"/>
                      </a:lnTo>
                      <a:lnTo>
                        <a:pt x="853" y="877"/>
                      </a:lnTo>
                      <a:lnTo>
                        <a:pt x="847" y="877"/>
                      </a:lnTo>
                      <a:lnTo>
                        <a:pt x="847" y="883"/>
                      </a:lnTo>
                      <a:lnTo>
                        <a:pt x="841" y="883"/>
                      </a:lnTo>
                      <a:lnTo>
                        <a:pt x="841" y="889"/>
                      </a:lnTo>
                      <a:lnTo>
                        <a:pt x="841" y="895"/>
                      </a:lnTo>
                      <a:lnTo>
                        <a:pt x="841" y="901"/>
                      </a:lnTo>
                      <a:lnTo>
                        <a:pt x="847" y="901"/>
                      </a:lnTo>
                      <a:lnTo>
                        <a:pt x="847" y="907"/>
                      </a:lnTo>
                      <a:lnTo>
                        <a:pt x="853" y="907"/>
                      </a:lnTo>
                      <a:lnTo>
                        <a:pt x="847" y="907"/>
                      </a:lnTo>
                      <a:lnTo>
                        <a:pt x="853" y="907"/>
                      </a:lnTo>
                      <a:lnTo>
                        <a:pt x="853" y="913"/>
                      </a:lnTo>
                      <a:lnTo>
                        <a:pt x="847" y="919"/>
                      </a:lnTo>
                      <a:lnTo>
                        <a:pt x="847" y="925"/>
                      </a:lnTo>
                      <a:lnTo>
                        <a:pt x="841" y="925"/>
                      </a:lnTo>
                      <a:lnTo>
                        <a:pt x="841" y="931"/>
                      </a:lnTo>
                      <a:lnTo>
                        <a:pt x="841" y="925"/>
                      </a:lnTo>
                      <a:lnTo>
                        <a:pt x="835" y="931"/>
                      </a:lnTo>
                      <a:lnTo>
                        <a:pt x="835" y="937"/>
                      </a:lnTo>
                      <a:lnTo>
                        <a:pt x="835" y="943"/>
                      </a:lnTo>
                      <a:lnTo>
                        <a:pt x="841" y="943"/>
                      </a:lnTo>
                      <a:lnTo>
                        <a:pt x="841" y="949"/>
                      </a:lnTo>
                      <a:lnTo>
                        <a:pt x="847" y="949"/>
                      </a:lnTo>
                      <a:lnTo>
                        <a:pt x="847" y="955"/>
                      </a:lnTo>
                      <a:lnTo>
                        <a:pt x="853" y="955"/>
                      </a:lnTo>
                      <a:lnTo>
                        <a:pt x="853" y="961"/>
                      </a:lnTo>
                      <a:lnTo>
                        <a:pt x="853" y="967"/>
                      </a:lnTo>
                      <a:lnTo>
                        <a:pt x="859" y="967"/>
                      </a:lnTo>
                      <a:lnTo>
                        <a:pt x="853" y="967"/>
                      </a:lnTo>
                      <a:lnTo>
                        <a:pt x="859" y="967"/>
                      </a:lnTo>
                      <a:lnTo>
                        <a:pt x="859" y="973"/>
                      </a:lnTo>
                      <a:lnTo>
                        <a:pt x="853" y="973"/>
                      </a:lnTo>
                      <a:lnTo>
                        <a:pt x="853" y="978"/>
                      </a:lnTo>
                      <a:lnTo>
                        <a:pt x="859" y="978"/>
                      </a:lnTo>
                      <a:lnTo>
                        <a:pt x="865" y="978"/>
                      </a:lnTo>
                      <a:lnTo>
                        <a:pt x="865" y="984"/>
                      </a:lnTo>
                      <a:lnTo>
                        <a:pt x="871" y="984"/>
                      </a:lnTo>
                      <a:lnTo>
                        <a:pt x="871" y="990"/>
                      </a:lnTo>
                      <a:lnTo>
                        <a:pt x="871" y="996"/>
                      </a:lnTo>
                      <a:lnTo>
                        <a:pt x="865" y="996"/>
                      </a:lnTo>
                      <a:lnTo>
                        <a:pt x="871" y="996"/>
                      </a:lnTo>
                      <a:lnTo>
                        <a:pt x="871" y="1002"/>
                      </a:lnTo>
                      <a:lnTo>
                        <a:pt x="865" y="1002"/>
                      </a:lnTo>
                      <a:lnTo>
                        <a:pt x="865" y="1008"/>
                      </a:lnTo>
                      <a:lnTo>
                        <a:pt x="865" y="1014"/>
                      </a:lnTo>
                      <a:lnTo>
                        <a:pt x="871" y="1014"/>
                      </a:lnTo>
                      <a:lnTo>
                        <a:pt x="871" y="1020"/>
                      </a:lnTo>
                      <a:lnTo>
                        <a:pt x="871" y="1026"/>
                      </a:lnTo>
                      <a:lnTo>
                        <a:pt x="877" y="1026"/>
                      </a:lnTo>
                      <a:lnTo>
                        <a:pt x="877" y="1032"/>
                      </a:lnTo>
                      <a:lnTo>
                        <a:pt x="877" y="1038"/>
                      </a:lnTo>
                      <a:lnTo>
                        <a:pt x="877" y="1044"/>
                      </a:lnTo>
                      <a:lnTo>
                        <a:pt x="877" y="1050"/>
                      </a:lnTo>
                      <a:lnTo>
                        <a:pt x="877" y="1056"/>
                      </a:lnTo>
                      <a:lnTo>
                        <a:pt x="871" y="1062"/>
                      </a:lnTo>
                      <a:lnTo>
                        <a:pt x="865" y="1062"/>
                      </a:lnTo>
                      <a:lnTo>
                        <a:pt x="865" y="1068"/>
                      </a:lnTo>
                      <a:lnTo>
                        <a:pt x="859" y="1068"/>
                      </a:lnTo>
                      <a:lnTo>
                        <a:pt x="859" y="1074"/>
                      </a:lnTo>
                      <a:lnTo>
                        <a:pt x="859" y="1080"/>
                      </a:lnTo>
                      <a:lnTo>
                        <a:pt x="859" y="1086"/>
                      </a:lnTo>
                      <a:lnTo>
                        <a:pt x="853" y="1086"/>
                      </a:lnTo>
                      <a:lnTo>
                        <a:pt x="853" y="1092"/>
                      </a:lnTo>
                      <a:lnTo>
                        <a:pt x="853" y="1098"/>
                      </a:lnTo>
                      <a:lnTo>
                        <a:pt x="847" y="1098"/>
                      </a:lnTo>
                      <a:lnTo>
                        <a:pt x="847" y="1104"/>
                      </a:lnTo>
                      <a:lnTo>
                        <a:pt x="853" y="1104"/>
                      </a:lnTo>
                      <a:lnTo>
                        <a:pt x="853" y="1110"/>
                      </a:lnTo>
                      <a:lnTo>
                        <a:pt x="853" y="1116"/>
                      </a:lnTo>
                      <a:lnTo>
                        <a:pt x="847" y="1116"/>
                      </a:lnTo>
                      <a:lnTo>
                        <a:pt x="847" y="1122"/>
                      </a:lnTo>
                      <a:lnTo>
                        <a:pt x="841" y="1122"/>
                      </a:lnTo>
                      <a:lnTo>
                        <a:pt x="835" y="1122"/>
                      </a:lnTo>
                      <a:lnTo>
                        <a:pt x="835" y="1128"/>
                      </a:lnTo>
                      <a:lnTo>
                        <a:pt x="829" y="1128"/>
                      </a:lnTo>
                      <a:lnTo>
                        <a:pt x="835" y="1128"/>
                      </a:lnTo>
                      <a:lnTo>
                        <a:pt x="835" y="1134"/>
                      </a:lnTo>
                      <a:lnTo>
                        <a:pt x="835" y="1140"/>
                      </a:lnTo>
                      <a:lnTo>
                        <a:pt x="835" y="1146"/>
                      </a:lnTo>
                      <a:lnTo>
                        <a:pt x="829" y="1146"/>
                      </a:lnTo>
                      <a:lnTo>
                        <a:pt x="829" y="1152"/>
                      </a:lnTo>
                      <a:lnTo>
                        <a:pt x="823" y="1152"/>
                      </a:lnTo>
                      <a:lnTo>
                        <a:pt x="823" y="1158"/>
                      </a:lnTo>
                      <a:lnTo>
                        <a:pt x="817" y="1158"/>
                      </a:lnTo>
                      <a:lnTo>
                        <a:pt x="817" y="1163"/>
                      </a:lnTo>
                      <a:lnTo>
                        <a:pt x="817" y="1169"/>
                      </a:lnTo>
                      <a:lnTo>
                        <a:pt x="817" y="1175"/>
                      </a:lnTo>
                      <a:lnTo>
                        <a:pt x="817" y="1181"/>
                      </a:lnTo>
                      <a:lnTo>
                        <a:pt x="811" y="1181"/>
                      </a:lnTo>
                      <a:lnTo>
                        <a:pt x="811" y="1175"/>
                      </a:lnTo>
                      <a:lnTo>
                        <a:pt x="811" y="1169"/>
                      </a:lnTo>
                      <a:lnTo>
                        <a:pt x="806" y="1175"/>
                      </a:lnTo>
                      <a:lnTo>
                        <a:pt x="806" y="1181"/>
                      </a:lnTo>
                      <a:lnTo>
                        <a:pt x="800" y="1181"/>
                      </a:lnTo>
                      <a:lnTo>
                        <a:pt x="806" y="1175"/>
                      </a:lnTo>
                      <a:lnTo>
                        <a:pt x="800" y="1175"/>
                      </a:lnTo>
                      <a:lnTo>
                        <a:pt x="800" y="1181"/>
                      </a:lnTo>
                      <a:lnTo>
                        <a:pt x="794" y="1181"/>
                      </a:lnTo>
                      <a:lnTo>
                        <a:pt x="794" y="1187"/>
                      </a:lnTo>
                      <a:lnTo>
                        <a:pt x="794" y="1193"/>
                      </a:lnTo>
                      <a:lnTo>
                        <a:pt x="788" y="1193"/>
                      </a:lnTo>
                      <a:lnTo>
                        <a:pt x="788" y="1199"/>
                      </a:lnTo>
                      <a:lnTo>
                        <a:pt x="788" y="1205"/>
                      </a:lnTo>
                      <a:lnTo>
                        <a:pt x="794" y="1205"/>
                      </a:lnTo>
                      <a:lnTo>
                        <a:pt x="794" y="1211"/>
                      </a:lnTo>
                      <a:lnTo>
                        <a:pt x="800" y="1211"/>
                      </a:lnTo>
                      <a:lnTo>
                        <a:pt x="800" y="1217"/>
                      </a:lnTo>
                      <a:lnTo>
                        <a:pt x="800" y="1223"/>
                      </a:lnTo>
                      <a:lnTo>
                        <a:pt x="794" y="1223"/>
                      </a:lnTo>
                      <a:lnTo>
                        <a:pt x="794" y="1229"/>
                      </a:lnTo>
                      <a:lnTo>
                        <a:pt x="788" y="1229"/>
                      </a:lnTo>
                      <a:lnTo>
                        <a:pt x="788" y="1235"/>
                      </a:lnTo>
                      <a:lnTo>
                        <a:pt x="782" y="1235"/>
                      </a:lnTo>
                      <a:lnTo>
                        <a:pt x="788" y="1235"/>
                      </a:lnTo>
                      <a:lnTo>
                        <a:pt x="794" y="1235"/>
                      </a:lnTo>
                      <a:lnTo>
                        <a:pt x="800" y="1235"/>
                      </a:lnTo>
                      <a:lnTo>
                        <a:pt x="794" y="1241"/>
                      </a:lnTo>
                      <a:lnTo>
                        <a:pt x="788" y="1241"/>
                      </a:lnTo>
                      <a:lnTo>
                        <a:pt x="788" y="1247"/>
                      </a:lnTo>
                      <a:lnTo>
                        <a:pt x="782" y="1247"/>
                      </a:lnTo>
                      <a:lnTo>
                        <a:pt x="782" y="1253"/>
                      </a:lnTo>
                      <a:lnTo>
                        <a:pt x="788" y="1253"/>
                      </a:lnTo>
                      <a:lnTo>
                        <a:pt x="788" y="1259"/>
                      </a:lnTo>
                      <a:lnTo>
                        <a:pt x="782" y="1259"/>
                      </a:lnTo>
                      <a:lnTo>
                        <a:pt x="788" y="1259"/>
                      </a:lnTo>
                      <a:lnTo>
                        <a:pt x="788" y="1265"/>
                      </a:lnTo>
                      <a:lnTo>
                        <a:pt x="788" y="1271"/>
                      </a:lnTo>
                      <a:lnTo>
                        <a:pt x="782" y="1271"/>
                      </a:lnTo>
                      <a:lnTo>
                        <a:pt x="782" y="1277"/>
                      </a:lnTo>
                      <a:lnTo>
                        <a:pt x="782" y="1283"/>
                      </a:lnTo>
                      <a:lnTo>
                        <a:pt x="776" y="1283"/>
                      </a:lnTo>
                      <a:lnTo>
                        <a:pt x="776" y="1277"/>
                      </a:lnTo>
                      <a:lnTo>
                        <a:pt x="776" y="1283"/>
                      </a:lnTo>
                      <a:lnTo>
                        <a:pt x="782" y="1283"/>
                      </a:lnTo>
                      <a:lnTo>
                        <a:pt x="788" y="1283"/>
                      </a:lnTo>
                      <a:lnTo>
                        <a:pt x="788" y="1289"/>
                      </a:lnTo>
                      <a:lnTo>
                        <a:pt x="782" y="1289"/>
                      </a:lnTo>
                      <a:lnTo>
                        <a:pt x="776" y="1289"/>
                      </a:lnTo>
                      <a:lnTo>
                        <a:pt x="770" y="1289"/>
                      </a:lnTo>
                      <a:lnTo>
                        <a:pt x="770" y="1295"/>
                      </a:lnTo>
                      <a:lnTo>
                        <a:pt x="776" y="1295"/>
                      </a:lnTo>
                      <a:lnTo>
                        <a:pt x="776" y="1301"/>
                      </a:lnTo>
                      <a:lnTo>
                        <a:pt x="782" y="1301"/>
                      </a:lnTo>
                      <a:lnTo>
                        <a:pt x="788" y="1307"/>
                      </a:lnTo>
                      <a:lnTo>
                        <a:pt x="788" y="1313"/>
                      </a:lnTo>
                      <a:lnTo>
                        <a:pt x="782" y="1313"/>
                      </a:lnTo>
                      <a:lnTo>
                        <a:pt x="782" y="1307"/>
                      </a:lnTo>
                      <a:lnTo>
                        <a:pt x="776" y="1307"/>
                      </a:lnTo>
                      <a:lnTo>
                        <a:pt x="776" y="1313"/>
                      </a:lnTo>
                      <a:lnTo>
                        <a:pt x="782" y="1313"/>
                      </a:lnTo>
                      <a:lnTo>
                        <a:pt x="788" y="1313"/>
                      </a:lnTo>
                      <a:lnTo>
                        <a:pt x="788" y="1319"/>
                      </a:lnTo>
                      <a:lnTo>
                        <a:pt x="788" y="1325"/>
                      </a:lnTo>
                      <a:lnTo>
                        <a:pt x="782" y="1325"/>
                      </a:lnTo>
                      <a:lnTo>
                        <a:pt x="782" y="1331"/>
                      </a:lnTo>
                      <a:lnTo>
                        <a:pt x="782" y="1337"/>
                      </a:lnTo>
                      <a:lnTo>
                        <a:pt x="776" y="1342"/>
                      </a:lnTo>
                      <a:lnTo>
                        <a:pt x="770" y="1342"/>
                      </a:lnTo>
                      <a:lnTo>
                        <a:pt x="770" y="1348"/>
                      </a:lnTo>
                      <a:lnTo>
                        <a:pt x="770" y="1354"/>
                      </a:lnTo>
                      <a:lnTo>
                        <a:pt x="764" y="1354"/>
                      </a:lnTo>
                      <a:lnTo>
                        <a:pt x="764" y="1360"/>
                      </a:lnTo>
                      <a:lnTo>
                        <a:pt x="764" y="1366"/>
                      </a:lnTo>
                      <a:lnTo>
                        <a:pt x="764" y="1372"/>
                      </a:lnTo>
                      <a:lnTo>
                        <a:pt x="770" y="1372"/>
                      </a:lnTo>
                      <a:lnTo>
                        <a:pt x="770" y="1378"/>
                      </a:lnTo>
                      <a:lnTo>
                        <a:pt x="770" y="1384"/>
                      </a:lnTo>
                      <a:lnTo>
                        <a:pt x="776" y="1384"/>
                      </a:lnTo>
                      <a:lnTo>
                        <a:pt x="776" y="1390"/>
                      </a:lnTo>
                      <a:lnTo>
                        <a:pt x="782" y="1390"/>
                      </a:lnTo>
                      <a:lnTo>
                        <a:pt x="782" y="1396"/>
                      </a:lnTo>
                      <a:lnTo>
                        <a:pt x="788" y="1396"/>
                      </a:lnTo>
                      <a:lnTo>
                        <a:pt x="788" y="1402"/>
                      </a:lnTo>
                      <a:lnTo>
                        <a:pt x="788" y="1408"/>
                      </a:lnTo>
                      <a:lnTo>
                        <a:pt x="782" y="1408"/>
                      </a:lnTo>
                      <a:lnTo>
                        <a:pt x="776" y="1408"/>
                      </a:lnTo>
                      <a:lnTo>
                        <a:pt x="776" y="1414"/>
                      </a:lnTo>
                      <a:lnTo>
                        <a:pt x="770" y="1414"/>
                      </a:lnTo>
                      <a:lnTo>
                        <a:pt x="764" y="1414"/>
                      </a:lnTo>
                      <a:lnTo>
                        <a:pt x="758" y="1414"/>
                      </a:lnTo>
                      <a:lnTo>
                        <a:pt x="758" y="1420"/>
                      </a:lnTo>
                      <a:lnTo>
                        <a:pt x="752" y="1420"/>
                      </a:lnTo>
                      <a:lnTo>
                        <a:pt x="746" y="1420"/>
                      </a:lnTo>
                      <a:lnTo>
                        <a:pt x="740" y="1420"/>
                      </a:lnTo>
                      <a:lnTo>
                        <a:pt x="734" y="1426"/>
                      </a:lnTo>
                      <a:lnTo>
                        <a:pt x="728" y="1426"/>
                      </a:lnTo>
                      <a:lnTo>
                        <a:pt x="728" y="1432"/>
                      </a:lnTo>
                      <a:lnTo>
                        <a:pt x="722" y="1432"/>
                      </a:lnTo>
                      <a:lnTo>
                        <a:pt x="716" y="1432"/>
                      </a:lnTo>
                      <a:lnTo>
                        <a:pt x="710" y="1432"/>
                      </a:lnTo>
                      <a:lnTo>
                        <a:pt x="704" y="1432"/>
                      </a:lnTo>
                      <a:lnTo>
                        <a:pt x="704" y="1438"/>
                      </a:lnTo>
                      <a:lnTo>
                        <a:pt x="704" y="1444"/>
                      </a:lnTo>
                      <a:lnTo>
                        <a:pt x="698" y="1444"/>
                      </a:lnTo>
                      <a:lnTo>
                        <a:pt x="698" y="1450"/>
                      </a:lnTo>
                      <a:lnTo>
                        <a:pt x="698" y="1456"/>
                      </a:lnTo>
                      <a:lnTo>
                        <a:pt x="698" y="1462"/>
                      </a:lnTo>
                      <a:lnTo>
                        <a:pt x="698" y="1468"/>
                      </a:lnTo>
                      <a:lnTo>
                        <a:pt x="698" y="1474"/>
                      </a:lnTo>
                      <a:lnTo>
                        <a:pt x="698" y="1480"/>
                      </a:lnTo>
                      <a:lnTo>
                        <a:pt x="704" y="1480"/>
                      </a:lnTo>
                      <a:lnTo>
                        <a:pt x="704" y="1486"/>
                      </a:lnTo>
                      <a:lnTo>
                        <a:pt x="710" y="1486"/>
                      </a:lnTo>
                      <a:lnTo>
                        <a:pt x="710" y="1492"/>
                      </a:lnTo>
                      <a:lnTo>
                        <a:pt x="710" y="1498"/>
                      </a:lnTo>
                      <a:lnTo>
                        <a:pt x="716" y="1498"/>
                      </a:lnTo>
                      <a:lnTo>
                        <a:pt x="716" y="1504"/>
                      </a:lnTo>
                      <a:lnTo>
                        <a:pt x="716" y="1510"/>
                      </a:lnTo>
                      <a:lnTo>
                        <a:pt x="716" y="1516"/>
                      </a:lnTo>
                      <a:lnTo>
                        <a:pt x="716" y="1521"/>
                      </a:lnTo>
                      <a:lnTo>
                        <a:pt x="710" y="1521"/>
                      </a:lnTo>
                      <a:lnTo>
                        <a:pt x="710" y="1527"/>
                      </a:lnTo>
                      <a:lnTo>
                        <a:pt x="704" y="1533"/>
                      </a:lnTo>
                      <a:lnTo>
                        <a:pt x="698" y="1533"/>
                      </a:lnTo>
                      <a:lnTo>
                        <a:pt x="692" y="1533"/>
                      </a:lnTo>
                      <a:lnTo>
                        <a:pt x="686" y="1527"/>
                      </a:lnTo>
                      <a:lnTo>
                        <a:pt x="680" y="1521"/>
                      </a:lnTo>
                      <a:lnTo>
                        <a:pt x="674" y="1521"/>
                      </a:lnTo>
                      <a:lnTo>
                        <a:pt x="668" y="1521"/>
                      </a:lnTo>
                      <a:lnTo>
                        <a:pt x="668" y="1516"/>
                      </a:lnTo>
                      <a:lnTo>
                        <a:pt x="662" y="1516"/>
                      </a:lnTo>
                      <a:lnTo>
                        <a:pt x="656" y="1516"/>
                      </a:lnTo>
                      <a:lnTo>
                        <a:pt x="650" y="1516"/>
                      </a:lnTo>
                      <a:lnTo>
                        <a:pt x="644" y="1510"/>
                      </a:lnTo>
                      <a:lnTo>
                        <a:pt x="638" y="1510"/>
                      </a:lnTo>
                      <a:lnTo>
                        <a:pt x="633" y="1504"/>
                      </a:lnTo>
                      <a:lnTo>
                        <a:pt x="627" y="1504"/>
                      </a:lnTo>
                      <a:lnTo>
                        <a:pt x="621" y="1504"/>
                      </a:lnTo>
                      <a:lnTo>
                        <a:pt x="621" y="1498"/>
                      </a:lnTo>
                      <a:lnTo>
                        <a:pt x="615" y="1498"/>
                      </a:lnTo>
                      <a:lnTo>
                        <a:pt x="609" y="1498"/>
                      </a:lnTo>
                      <a:lnTo>
                        <a:pt x="603" y="1498"/>
                      </a:lnTo>
                      <a:lnTo>
                        <a:pt x="597" y="1498"/>
                      </a:lnTo>
                      <a:lnTo>
                        <a:pt x="591" y="1498"/>
                      </a:lnTo>
                      <a:lnTo>
                        <a:pt x="585" y="1498"/>
                      </a:lnTo>
                      <a:lnTo>
                        <a:pt x="585" y="1504"/>
                      </a:lnTo>
                      <a:lnTo>
                        <a:pt x="579" y="1504"/>
                      </a:lnTo>
                      <a:lnTo>
                        <a:pt x="579" y="1510"/>
                      </a:lnTo>
                      <a:lnTo>
                        <a:pt x="573" y="1510"/>
                      </a:lnTo>
                      <a:lnTo>
                        <a:pt x="573" y="1516"/>
                      </a:lnTo>
                      <a:lnTo>
                        <a:pt x="573" y="1521"/>
                      </a:lnTo>
                      <a:lnTo>
                        <a:pt x="567" y="1521"/>
                      </a:lnTo>
                      <a:lnTo>
                        <a:pt x="567" y="1527"/>
                      </a:lnTo>
                      <a:lnTo>
                        <a:pt x="567" y="1533"/>
                      </a:lnTo>
                      <a:lnTo>
                        <a:pt x="561" y="1533"/>
                      </a:lnTo>
                      <a:lnTo>
                        <a:pt x="561" y="1539"/>
                      </a:lnTo>
                      <a:lnTo>
                        <a:pt x="555" y="1539"/>
                      </a:lnTo>
                      <a:lnTo>
                        <a:pt x="555" y="1545"/>
                      </a:lnTo>
                      <a:lnTo>
                        <a:pt x="555" y="1551"/>
                      </a:lnTo>
                      <a:lnTo>
                        <a:pt x="555" y="1557"/>
                      </a:lnTo>
                      <a:lnTo>
                        <a:pt x="561" y="1557"/>
                      </a:lnTo>
                      <a:lnTo>
                        <a:pt x="561" y="1563"/>
                      </a:lnTo>
                      <a:lnTo>
                        <a:pt x="567" y="1563"/>
                      </a:lnTo>
                      <a:lnTo>
                        <a:pt x="561" y="1563"/>
                      </a:lnTo>
                      <a:lnTo>
                        <a:pt x="555" y="1563"/>
                      </a:lnTo>
                      <a:lnTo>
                        <a:pt x="555" y="1569"/>
                      </a:lnTo>
                      <a:lnTo>
                        <a:pt x="555" y="1563"/>
                      </a:lnTo>
                      <a:lnTo>
                        <a:pt x="549" y="1563"/>
                      </a:lnTo>
                      <a:lnTo>
                        <a:pt x="549" y="1557"/>
                      </a:lnTo>
                      <a:lnTo>
                        <a:pt x="549" y="1551"/>
                      </a:lnTo>
                      <a:lnTo>
                        <a:pt x="543" y="1551"/>
                      </a:lnTo>
                      <a:lnTo>
                        <a:pt x="537" y="1551"/>
                      </a:lnTo>
                      <a:lnTo>
                        <a:pt x="537" y="1545"/>
                      </a:lnTo>
                      <a:lnTo>
                        <a:pt x="537" y="1539"/>
                      </a:lnTo>
                      <a:lnTo>
                        <a:pt x="531" y="1539"/>
                      </a:lnTo>
                      <a:lnTo>
                        <a:pt x="525" y="1539"/>
                      </a:lnTo>
                      <a:lnTo>
                        <a:pt x="525" y="1545"/>
                      </a:lnTo>
                      <a:lnTo>
                        <a:pt x="525" y="1551"/>
                      </a:lnTo>
                      <a:lnTo>
                        <a:pt x="531" y="1551"/>
                      </a:lnTo>
                      <a:lnTo>
                        <a:pt x="537" y="1557"/>
                      </a:lnTo>
                      <a:lnTo>
                        <a:pt x="537" y="1563"/>
                      </a:lnTo>
                      <a:lnTo>
                        <a:pt x="531" y="1563"/>
                      </a:lnTo>
                      <a:lnTo>
                        <a:pt x="525" y="1563"/>
                      </a:lnTo>
                      <a:lnTo>
                        <a:pt x="525" y="1557"/>
                      </a:lnTo>
                      <a:lnTo>
                        <a:pt x="519" y="1557"/>
                      </a:lnTo>
                      <a:lnTo>
                        <a:pt x="513" y="1557"/>
                      </a:lnTo>
                      <a:lnTo>
                        <a:pt x="513" y="1551"/>
                      </a:lnTo>
                      <a:lnTo>
                        <a:pt x="507" y="1551"/>
                      </a:lnTo>
                      <a:lnTo>
                        <a:pt x="507" y="1545"/>
                      </a:lnTo>
                      <a:lnTo>
                        <a:pt x="507" y="1539"/>
                      </a:lnTo>
                      <a:lnTo>
                        <a:pt x="507" y="1533"/>
                      </a:lnTo>
                      <a:lnTo>
                        <a:pt x="501" y="1533"/>
                      </a:lnTo>
                      <a:lnTo>
                        <a:pt x="501" y="1527"/>
                      </a:lnTo>
                      <a:lnTo>
                        <a:pt x="495" y="1527"/>
                      </a:lnTo>
                      <a:lnTo>
                        <a:pt x="495" y="1521"/>
                      </a:lnTo>
                      <a:lnTo>
                        <a:pt x="495" y="1516"/>
                      </a:lnTo>
                      <a:lnTo>
                        <a:pt x="489" y="1516"/>
                      </a:lnTo>
                      <a:lnTo>
                        <a:pt x="489" y="1510"/>
                      </a:lnTo>
                      <a:lnTo>
                        <a:pt x="489" y="1504"/>
                      </a:lnTo>
                      <a:lnTo>
                        <a:pt x="489" y="1498"/>
                      </a:lnTo>
                      <a:lnTo>
                        <a:pt x="483" y="1498"/>
                      </a:lnTo>
                      <a:lnTo>
                        <a:pt x="483" y="1492"/>
                      </a:lnTo>
                      <a:lnTo>
                        <a:pt x="483" y="1498"/>
                      </a:lnTo>
                      <a:lnTo>
                        <a:pt x="483" y="1492"/>
                      </a:lnTo>
                      <a:lnTo>
                        <a:pt x="483" y="1498"/>
                      </a:lnTo>
                      <a:lnTo>
                        <a:pt x="483" y="1492"/>
                      </a:lnTo>
                      <a:lnTo>
                        <a:pt x="477" y="1492"/>
                      </a:lnTo>
                      <a:lnTo>
                        <a:pt x="477" y="1486"/>
                      </a:lnTo>
                      <a:lnTo>
                        <a:pt x="477" y="1480"/>
                      </a:lnTo>
                      <a:lnTo>
                        <a:pt x="477" y="1474"/>
                      </a:lnTo>
                      <a:lnTo>
                        <a:pt x="483" y="1474"/>
                      </a:lnTo>
                      <a:lnTo>
                        <a:pt x="483" y="1468"/>
                      </a:lnTo>
                      <a:lnTo>
                        <a:pt x="489" y="1468"/>
                      </a:lnTo>
                      <a:lnTo>
                        <a:pt x="489" y="1462"/>
                      </a:lnTo>
                      <a:lnTo>
                        <a:pt x="495" y="1462"/>
                      </a:lnTo>
                      <a:lnTo>
                        <a:pt x="495" y="1456"/>
                      </a:lnTo>
                      <a:lnTo>
                        <a:pt x="495" y="1450"/>
                      </a:lnTo>
                      <a:lnTo>
                        <a:pt x="489" y="1450"/>
                      </a:lnTo>
                      <a:lnTo>
                        <a:pt x="489" y="1444"/>
                      </a:lnTo>
                      <a:lnTo>
                        <a:pt x="489" y="1438"/>
                      </a:lnTo>
                      <a:lnTo>
                        <a:pt x="483" y="1438"/>
                      </a:lnTo>
                      <a:lnTo>
                        <a:pt x="477" y="1432"/>
                      </a:lnTo>
                      <a:lnTo>
                        <a:pt x="477" y="1426"/>
                      </a:lnTo>
                      <a:lnTo>
                        <a:pt x="471" y="1426"/>
                      </a:lnTo>
                      <a:lnTo>
                        <a:pt x="471" y="1420"/>
                      </a:lnTo>
                      <a:lnTo>
                        <a:pt x="471" y="1414"/>
                      </a:lnTo>
                      <a:lnTo>
                        <a:pt x="471" y="1408"/>
                      </a:lnTo>
                      <a:lnTo>
                        <a:pt x="465" y="1408"/>
                      </a:lnTo>
                      <a:lnTo>
                        <a:pt x="465" y="1402"/>
                      </a:lnTo>
                      <a:lnTo>
                        <a:pt x="465" y="1396"/>
                      </a:lnTo>
                      <a:lnTo>
                        <a:pt x="471" y="1396"/>
                      </a:lnTo>
                      <a:lnTo>
                        <a:pt x="471" y="1390"/>
                      </a:lnTo>
                      <a:lnTo>
                        <a:pt x="465" y="1390"/>
                      </a:lnTo>
                      <a:lnTo>
                        <a:pt x="465" y="1384"/>
                      </a:lnTo>
                      <a:lnTo>
                        <a:pt x="465" y="1378"/>
                      </a:lnTo>
                      <a:lnTo>
                        <a:pt x="465" y="1372"/>
                      </a:lnTo>
                      <a:lnTo>
                        <a:pt x="460" y="1372"/>
                      </a:lnTo>
                      <a:lnTo>
                        <a:pt x="454" y="1372"/>
                      </a:lnTo>
                      <a:lnTo>
                        <a:pt x="454" y="1366"/>
                      </a:lnTo>
                      <a:lnTo>
                        <a:pt x="448" y="1366"/>
                      </a:lnTo>
                      <a:lnTo>
                        <a:pt x="442" y="1366"/>
                      </a:lnTo>
                      <a:lnTo>
                        <a:pt x="442" y="1360"/>
                      </a:lnTo>
                      <a:lnTo>
                        <a:pt x="436" y="1360"/>
                      </a:lnTo>
                      <a:lnTo>
                        <a:pt x="436" y="1354"/>
                      </a:lnTo>
                      <a:lnTo>
                        <a:pt x="430" y="1354"/>
                      </a:lnTo>
                      <a:lnTo>
                        <a:pt x="430" y="1348"/>
                      </a:lnTo>
                      <a:lnTo>
                        <a:pt x="430" y="1342"/>
                      </a:lnTo>
                      <a:lnTo>
                        <a:pt x="424" y="1342"/>
                      </a:lnTo>
                      <a:lnTo>
                        <a:pt x="424" y="1337"/>
                      </a:lnTo>
                      <a:lnTo>
                        <a:pt x="418" y="1337"/>
                      </a:lnTo>
                      <a:lnTo>
                        <a:pt x="418" y="1331"/>
                      </a:lnTo>
                      <a:lnTo>
                        <a:pt x="412" y="1331"/>
                      </a:lnTo>
                      <a:lnTo>
                        <a:pt x="406" y="1331"/>
                      </a:lnTo>
                      <a:lnTo>
                        <a:pt x="406" y="1325"/>
                      </a:lnTo>
                      <a:lnTo>
                        <a:pt x="400" y="1325"/>
                      </a:lnTo>
                      <a:lnTo>
                        <a:pt x="394" y="1325"/>
                      </a:lnTo>
                      <a:lnTo>
                        <a:pt x="394" y="1319"/>
                      </a:lnTo>
                      <a:lnTo>
                        <a:pt x="388" y="1319"/>
                      </a:lnTo>
                      <a:lnTo>
                        <a:pt x="388" y="1325"/>
                      </a:lnTo>
                      <a:lnTo>
                        <a:pt x="382" y="1325"/>
                      </a:lnTo>
                      <a:lnTo>
                        <a:pt x="376" y="1325"/>
                      </a:lnTo>
                      <a:lnTo>
                        <a:pt x="370" y="1325"/>
                      </a:lnTo>
                      <a:lnTo>
                        <a:pt x="364" y="1325"/>
                      </a:lnTo>
                      <a:lnTo>
                        <a:pt x="364" y="1319"/>
                      </a:lnTo>
                      <a:lnTo>
                        <a:pt x="364" y="1313"/>
                      </a:lnTo>
                      <a:lnTo>
                        <a:pt x="364" y="1307"/>
                      </a:lnTo>
                      <a:lnTo>
                        <a:pt x="364" y="1301"/>
                      </a:lnTo>
                      <a:lnTo>
                        <a:pt x="364" y="1307"/>
                      </a:lnTo>
                      <a:lnTo>
                        <a:pt x="364" y="1301"/>
                      </a:lnTo>
                      <a:lnTo>
                        <a:pt x="364" y="1307"/>
                      </a:lnTo>
                      <a:lnTo>
                        <a:pt x="358" y="1307"/>
                      </a:lnTo>
                      <a:lnTo>
                        <a:pt x="358" y="1301"/>
                      </a:lnTo>
                      <a:lnTo>
                        <a:pt x="352" y="1301"/>
                      </a:lnTo>
                      <a:lnTo>
                        <a:pt x="346" y="1295"/>
                      </a:lnTo>
                      <a:lnTo>
                        <a:pt x="340" y="1295"/>
                      </a:lnTo>
                      <a:lnTo>
                        <a:pt x="340" y="1289"/>
                      </a:lnTo>
                      <a:lnTo>
                        <a:pt x="334" y="1289"/>
                      </a:lnTo>
                      <a:lnTo>
                        <a:pt x="328" y="1289"/>
                      </a:lnTo>
                      <a:lnTo>
                        <a:pt x="328" y="1283"/>
                      </a:lnTo>
                      <a:lnTo>
                        <a:pt x="322" y="1277"/>
                      </a:lnTo>
                      <a:lnTo>
                        <a:pt x="316" y="1277"/>
                      </a:lnTo>
                      <a:lnTo>
                        <a:pt x="316" y="1271"/>
                      </a:lnTo>
                      <a:lnTo>
                        <a:pt x="310" y="1271"/>
                      </a:lnTo>
                      <a:lnTo>
                        <a:pt x="304" y="1271"/>
                      </a:lnTo>
                      <a:lnTo>
                        <a:pt x="304" y="1265"/>
                      </a:lnTo>
                      <a:lnTo>
                        <a:pt x="298" y="1265"/>
                      </a:lnTo>
                      <a:lnTo>
                        <a:pt x="298" y="1259"/>
                      </a:lnTo>
                      <a:lnTo>
                        <a:pt x="292" y="1259"/>
                      </a:lnTo>
                      <a:lnTo>
                        <a:pt x="292" y="1253"/>
                      </a:lnTo>
                      <a:lnTo>
                        <a:pt x="287" y="1253"/>
                      </a:lnTo>
                      <a:lnTo>
                        <a:pt x="287" y="1247"/>
                      </a:lnTo>
                      <a:lnTo>
                        <a:pt x="281" y="1247"/>
                      </a:lnTo>
                      <a:lnTo>
                        <a:pt x="281" y="1241"/>
                      </a:lnTo>
                      <a:lnTo>
                        <a:pt x="275" y="1241"/>
                      </a:lnTo>
                      <a:lnTo>
                        <a:pt x="275" y="1235"/>
                      </a:lnTo>
                      <a:lnTo>
                        <a:pt x="275" y="1229"/>
                      </a:lnTo>
                      <a:lnTo>
                        <a:pt x="275" y="1223"/>
                      </a:lnTo>
                      <a:lnTo>
                        <a:pt x="269" y="1223"/>
                      </a:lnTo>
                      <a:lnTo>
                        <a:pt x="269" y="1217"/>
                      </a:lnTo>
                      <a:lnTo>
                        <a:pt x="269" y="1211"/>
                      </a:lnTo>
                      <a:lnTo>
                        <a:pt x="269" y="1205"/>
                      </a:lnTo>
                      <a:lnTo>
                        <a:pt x="269" y="1199"/>
                      </a:lnTo>
                      <a:lnTo>
                        <a:pt x="275" y="1199"/>
                      </a:lnTo>
                      <a:lnTo>
                        <a:pt x="275" y="1193"/>
                      </a:lnTo>
                      <a:lnTo>
                        <a:pt x="275" y="1187"/>
                      </a:lnTo>
                      <a:lnTo>
                        <a:pt x="281" y="1187"/>
                      </a:lnTo>
                      <a:lnTo>
                        <a:pt x="281" y="1181"/>
                      </a:lnTo>
                      <a:lnTo>
                        <a:pt x="281" y="1175"/>
                      </a:lnTo>
                      <a:lnTo>
                        <a:pt x="287" y="1175"/>
                      </a:lnTo>
                      <a:lnTo>
                        <a:pt x="287" y="1169"/>
                      </a:lnTo>
                      <a:lnTo>
                        <a:pt x="287" y="1163"/>
                      </a:lnTo>
                      <a:lnTo>
                        <a:pt x="287" y="1158"/>
                      </a:lnTo>
                      <a:lnTo>
                        <a:pt x="287" y="1152"/>
                      </a:lnTo>
                      <a:lnTo>
                        <a:pt x="292" y="1152"/>
                      </a:lnTo>
                      <a:lnTo>
                        <a:pt x="292" y="1146"/>
                      </a:lnTo>
                      <a:lnTo>
                        <a:pt x="292" y="1140"/>
                      </a:lnTo>
                      <a:lnTo>
                        <a:pt x="298" y="1134"/>
                      </a:lnTo>
                      <a:lnTo>
                        <a:pt x="298" y="1128"/>
                      </a:lnTo>
                      <a:lnTo>
                        <a:pt x="304" y="1128"/>
                      </a:lnTo>
                      <a:lnTo>
                        <a:pt x="304" y="1122"/>
                      </a:lnTo>
                      <a:lnTo>
                        <a:pt x="304" y="1116"/>
                      </a:lnTo>
                      <a:lnTo>
                        <a:pt x="304" y="1110"/>
                      </a:lnTo>
                      <a:lnTo>
                        <a:pt x="304" y="1104"/>
                      </a:lnTo>
                      <a:lnTo>
                        <a:pt x="298" y="1104"/>
                      </a:lnTo>
                      <a:lnTo>
                        <a:pt x="298" y="1098"/>
                      </a:lnTo>
                      <a:lnTo>
                        <a:pt x="298" y="1092"/>
                      </a:lnTo>
                      <a:lnTo>
                        <a:pt x="304" y="1092"/>
                      </a:lnTo>
                      <a:lnTo>
                        <a:pt x="304" y="1086"/>
                      </a:lnTo>
                      <a:lnTo>
                        <a:pt x="304" y="1080"/>
                      </a:lnTo>
                      <a:lnTo>
                        <a:pt x="310" y="1080"/>
                      </a:lnTo>
                      <a:lnTo>
                        <a:pt x="310" y="1074"/>
                      </a:lnTo>
                      <a:lnTo>
                        <a:pt x="316" y="1074"/>
                      </a:lnTo>
                      <a:lnTo>
                        <a:pt x="316" y="1068"/>
                      </a:lnTo>
                      <a:lnTo>
                        <a:pt x="316" y="1062"/>
                      </a:lnTo>
                      <a:lnTo>
                        <a:pt x="316" y="1056"/>
                      </a:lnTo>
                      <a:lnTo>
                        <a:pt x="310" y="1056"/>
                      </a:lnTo>
                      <a:lnTo>
                        <a:pt x="310" y="1050"/>
                      </a:lnTo>
                      <a:lnTo>
                        <a:pt x="304" y="1050"/>
                      </a:lnTo>
                      <a:lnTo>
                        <a:pt x="298" y="1050"/>
                      </a:lnTo>
                      <a:lnTo>
                        <a:pt x="298" y="1044"/>
                      </a:lnTo>
                      <a:lnTo>
                        <a:pt x="292" y="1044"/>
                      </a:lnTo>
                      <a:lnTo>
                        <a:pt x="287" y="1044"/>
                      </a:lnTo>
                      <a:lnTo>
                        <a:pt x="287" y="1038"/>
                      </a:lnTo>
                      <a:lnTo>
                        <a:pt x="281" y="1038"/>
                      </a:lnTo>
                      <a:lnTo>
                        <a:pt x="275" y="1038"/>
                      </a:lnTo>
                      <a:lnTo>
                        <a:pt x="269" y="1038"/>
                      </a:lnTo>
                      <a:lnTo>
                        <a:pt x="263" y="1038"/>
                      </a:lnTo>
                      <a:lnTo>
                        <a:pt x="263" y="1032"/>
                      </a:lnTo>
                      <a:lnTo>
                        <a:pt x="257" y="1032"/>
                      </a:lnTo>
                      <a:lnTo>
                        <a:pt x="251" y="1032"/>
                      </a:lnTo>
                      <a:lnTo>
                        <a:pt x="251" y="1026"/>
                      </a:lnTo>
                      <a:lnTo>
                        <a:pt x="245" y="1026"/>
                      </a:lnTo>
                      <a:lnTo>
                        <a:pt x="245" y="1032"/>
                      </a:lnTo>
                      <a:lnTo>
                        <a:pt x="239" y="1032"/>
                      </a:lnTo>
                      <a:lnTo>
                        <a:pt x="233" y="1032"/>
                      </a:lnTo>
                      <a:lnTo>
                        <a:pt x="233" y="1038"/>
                      </a:lnTo>
                      <a:lnTo>
                        <a:pt x="233" y="1044"/>
                      </a:lnTo>
                      <a:lnTo>
                        <a:pt x="227" y="1044"/>
                      </a:lnTo>
                      <a:lnTo>
                        <a:pt x="227" y="1050"/>
                      </a:lnTo>
                      <a:lnTo>
                        <a:pt x="221" y="1056"/>
                      </a:lnTo>
                      <a:lnTo>
                        <a:pt x="215" y="1056"/>
                      </a:lnTo>
                      <a:lnTo>
                        <a:pt x="209" y="1056"/>
                      </a:lnTo>
                      <a:lnTo>
                        <a:pt x="203" y="1056"/>
                      </a:lnTo>
                      <a:lnTo>
                        <a:pt x="203" y="1050"/>
                      </a:lnTo>
                      <a:lnTo>
                        <a:pt x="203" y="1044"/>
                      </a:lnTo>
                      <a:lnTo>
                        <a:pt x="197" y="1044"/>
                      </a:lnTo>
                      <a:lnTo>
                        <a:pt x="197" y="1038"/>
                      </a:lnTo>
                      <a:lnTo>
                        <a:pt x="191" y="1038"/>
                      </a:lnTo>
                      <a:lnTo>
                        <a:pt x="191" y="1032"/>
                      </a:lnTo>
                      <a:lnTo>
                        <a:pt x="191" y="1026"/>
                      </a:lnTo>
                      <a:lnTo>
                        <a:pt x="191" y="1020"/>
                      </a:lnTo>
                      <a:lnTo>
                        <a:pt x="191" y="1014"/>
                      </a:lnTo>
                      <a:lnTo>
                        <a:pt x="185" y="1014"/>
                      </a:lnTo>
                      <a:lnTo>
                        <a:pt x="185" y="1008"/>
                      </a:lnTo>
                      <a:lnTo>
                        <a:pt x="185" y="1002"/>
                      </a:lnTo>
                      <a:lnTo>
                        <a:pt x="191" y="996"/>
                      </a:lnTo>
                      <a:lnTo>
                        <a:pt x="191" y="990"/>
                      </a:lnTo>
                      <a:lnTo>
                        <a:pt x="185" y="990"/>
                      </a:lnTo>
                      <a:lnTo>
                        <a:pt x="185" y="984"/>
                      </a:lnTo>
                      <a:lnTo>
                        <a:pt x="185" y="978"/>
                      </a:lnTo>
                      <a:lnTo>
                        <a:pt x="179" y="978"/>
                      </a:lnTo>
                      <a:lnTo>
                        <a:pt x="179" y="973"/>
                      </a:lnTo>
                      <a:lnTo>
                        <a:pt x="179" y="967"/>
                      </a:lnTo>
                      <a:lnTo>
                        <a:pt x="179" y="961"/>
                      </a:lnTo>
                      <a:lnTo>
                        <a:pt x="179" y="955"/>
                      </a:lnTo>
                      <a:lnTo>
                        <a:pt x="173" y="955"/>
                      </a:lnTo>
                      <a:lnTo>
                        <a:pt x="173" y="949"/>
                      </a:lnTo>
                      <a:lnTo>
                        <a:pt x="173" y="943"/>
                      </a:lnTo>
                      <a:lnTo>
                        <a:pt x="167" y="943"/>
                      </a:lnTo>
                      <a:lnTo>
                        <a:pt x="167" y="937"/>
                      </a:lnTo>
                      <a:lnTo>
                        <a:pt x="161" y="937"/>
                      </a:lnTo>
                      <a:lnTo>
                        <a:pt x="155" y="931"/>
                      </a:lnTo>
                      <a:lnTo>
                        <a:pt x="149" y="925"/>
                      </a:lnTo>
                      <a:lnTo>
                        <a:pt x="143" y="925"/>
                      </a:lnTo>
                      <a:lnTo>
                        <a:pt x="143" y="919"/>
                      </a:lnTo>
                      <a:lnTo>
                        <a:pt x="137" y="919"/>
                      </a:lnTo>
                      <a:lnTo>
                        <a:pt x="137" y="913"/>
                      </a:lnTo>
                      <a:lnTo>
                        <a:pt x="131" y="913"/>
                      </a:lnTo>
                      <a:lnTo>
                        <a:pt x="125" y="913"/>
                      </a:lnTo>
                      <a:lnTo>
                        <a:pt x="125" y="907"/>
                      </a:lnTo>
                      <a:lnTo>
                        <a:pt x="119" y="907"/>
                      </a:lnTo>
                      <a:lnTo>
                        <a:pt x="114" y="907"/>
                      </a:lnTo>
                      <a:lnTo>
                        <a:pt x="114" y="901"/>
                      </a:lnTo>
                      <a:lnTo>
                        <a:pt x="108" y="901"/>
                      </a:lnTo>
                      <a:lnTo>
                        <a:pt x="108" y="895"/>
                      </a:lnTo>
                      <a:lnTo>
                        <a:pt x="102" y="895"/>
                      </a:lnTo>
                      <a:lnTo>
                        <a:pt x="102" y="889"/>
                      </a:lnTo>
                      <a:lnTo>
                        <a:pt x="102" y="883"/>
                      </a:lnTo>
                      <a:lnTo>
                        <a:pt x="96" y="883"/>
                      </a:lnTo>
                      <a:lnTo>
                        <a:pt x="96" y="877"/>
                      </a:lnTo>
                      <a:lnTo>
                        <a:pt x="90" y="877"/>
                      </a:lnTo>
                      <a:lnTo>
                        <a:pt x="84" y="877"/>
                      </a:lnTo>
                      <a:lnTo>
                        <a:pt x="84" y="871"/>
                      </a:lnTo>
                      <a:lnTo>
                        <a:pt x="78" y="871"/>
                      </a:lnTo>
                      <a:lnTo>
                        <a:pt x="78" y="865"/>
                      </a:lnTo>
                      <a:lnTo>
                        <a:pt x="78" y="859"/>
                      </a:lnTo>
                      <a:lnTo>
                        <a:pt x="72" y="859"/>
                      </a:lnTo>
                      <a:lnTo>
                        <a:pt x="66" y="853"/>
                      </a:lnTo>
                      <a:lnTo>
                        <a:pt x="60" y="853"/>
                      </a:lnTo>
                      <a:lnTo>
                        <a:pt x="60" y="847"/>
                      </a:lnTo>
                      <a:lnTo>
                        <a:pt x="54" y="847"/>
                      </a:lnTo>
                      <a:lnTo>
                        <a:pt x="54" y="841"/>
                      </a:lnTo>
                      <a:lnTo>
                        <a:pt x="48" y="841"/>
                      </a:lnTo>
                      <a:lnTo>
                        <a:pt x="48" y="835"/>
                      </a:lnTo>
                      <a:lnTo>
                        <a:pt x="42" y="835"/>
                      </a:lnTo>
                      <a:lnTo>
                        <a:pt x="42" y="829"/>
                      </a:lnTo>
                      <a:lnTo>
                        <a:pt x="36" y="829"/>
                      </a:lnTo>
                      <a:lnTo>
                        <a:pt x="36" y="823"/>
                      </a:lnTo>
                      <a:lnTo>
                        <a:pt x="36" y="817"/>
                      </a:lnTo>
                      <a:lnTo>
                        <a:pt x="36" y="811"/>
                      </a:lnTo>
                      <a:lnTo>
                        <a:pt x="30" y="811"/>
                      </a:lnTo>
                      <a:lnTo>
                        <a:pt x="30" y="805"/>
                      </a:lnTo>
                      <a:lnTo>
                        <a:pt x="30" y="799"/>
                      </a:lnTo>
                      <a:lnTo>
                        <a:pt x="24" y="799"/>
                      </a:lnTo>
                      <a:lnTo>
                        <a:pt x="24" y="794"/>
                      </a:lnTo>
                      <a:lnTo>
                        <a:pt x="18" y="794"/>
                      </a:lnTo>
                      <a:lnTo>
                        <a:pt x="18" y="788"/>
                      </a:lnTo>
                      <a:lnTo>
                        <a:pt x="12" y="788"/>
                      </a:lnTo>
                      <a:lnTo>
                        <a:pt x="12" y="782"/>
                      </a:lnTo>
                      <a:lnTo>
                        <a:pt x="18" y="782"/>
                      </a:lnTo>
                      <a:lnTo>
                        <a:pt x="18" y="776"/>
                      </a:lnTo>
                      <a:lnTo>
                        <a:pt x="18" y="770"/>
                      </a:lnTo>
                      <a:lnTo>
                        <a:pt x="18" y="764"/>
                      </a:lnTo>
                      <a:lnTo>
                        <a:pt x="12" y="764"/>
                      </a:lnTo>
                      <a:lnTo>
                        <a:pt x="12" y="758"/>
                      </a:lnTo>
                      <a:lnTo>
                        <a:pt x="6" y="758"/>
                      </a:lnTo>
                      <a:lnTo>
                        <a:pt x="6" y="752"/>
                      </a:lnTo>
                      <a:lnTo>
                        <a:pt x="6" y="746"/>
                      </a:lnTo>
                      <a:lnTo>
                        <a:pt x="6" y="740"/>
                      </a:lnTo>
                      <a:lnTo>
                        <a:pt x="0" y="740"/>
                      </a:lnTo>
                      <a:lnTo>
                        <a:pt x="0" y="734"/>
                      </a:lnTo>
                      <a:lnTo>
                        <a:pt x="0" y="728"/>
                      </a:lnTo>
                      <a:lnTo>
                        <a:pt x="0" y="722"/>
                      </a:lnTo>
                      <a:lnTo>
                        <a:pt x="0" y="716"/>
                      </a:lnTo>
                      <a:lnTo>
                        <a:pt x="0" y="710"/>
                      </a:lnTo>
                      <a:lnTo>
                        <a:pt x="0" y="704"/>
                      </a:lnTo>
                      <a:lnTo>
                        <a:pt x="0" y="698"/>
                      </a:lnTo>
                      <a:lnTo>
                        <a:pt x="0" y="692"/>
                      </a:lnTo>
                      <a:lnTo>
                        <a:pt x="0" y="686"/>
                      </a:lnTo>
                      <a:lnTo>
                        <a:pt x="0" y="680"/>
                      </a:lnTo>
                      <a:lnTo>
                        <a:pt x="0" y="674"/>
                      </a:lnTo>
                      <a:lnTo>
                        <a:pt x="0" y="668"/>
                      </a:lnTo>
                      <a:lnTo>
                        <a:pt x="0" y="662"/>
                      </a:lnTo>
                      <a:lnTo>
                        <a:pt x="6" y="662"/>
                      </a:lnTo>
                      <a:lnTo>
                        <a:pt x="6" y="656"/>
                      </a:lnTo>
                      <a:lnTo>
                        <a:pt x="6" y="650"/>
                      </a:lnTo>
                      <a:lnTo>
                        <a:pt x="6" y="644"/>
                      </a:lnTo>
                      <a:lnTo>
                        <a:pt x="12" y="644"/>
                      </a:lnTo>
                      <a:lnTo>
                        <a:pt x="12" y="638"/>
                      </a:lnTo>
                      <a:lnTo>
                        <a:pt x="18" y="638"/>
                      </a:lnTo>
                      <a:lnTo>
                        <a:pt x="24" y="638"/>
                      </a:lnTo>
                      <a:lnTo>
                        <a:pt x="24" y="632"/>
                      </a:lnTo>
                      <a:lnTo>
                        <a:pt x="24" y="626"/>
                      </a:lnTo>
                      <a:lnTo>
                        <a:pt x="24" y="620"/>
                      </a:lnTo>
                      <a:lnTo>
                        <a:pt x="24" y="614"/>
                      </a:lnTo>
                      <a:lnTo>
                        <a:pt x="24" y="609"/>
                      </a:lnTo>
                      <a:lnTo>
                        <a:pt x="18" y="603"/>
                      </a:lnTo>
                      <a:lnTo>
                        <a:pt x="18" y="597"/>
                      </a:lnTo>
                      <a:lnTo>
                        <a:pt x="12" y="597"/>
                      </a:lnTo>
                      <a:lnTo>
                        <a:pt x="12" y="591"/>
                      </a:lnTo>
                      <a:lnTo>
                        <a:pt x="18" y="585"/>
                      </a:lnTo>
                      <a:lnTo>
                        <a:pt x="24" y="579"/>
                      </a:lnTo>
                      <a:lnTo>
                        <a:pt x="30" y="573"/>
                      </a:lnTo>
                      <a:lnTo>
                        <a:pt x="42" y="573"/>
                      </a:lnTo>
                      <a:lnTo>
                        <a:pt x="42" y="567"/>
                      </a:lnTo>
                      <a:lnTo>
                        <a:pt x="48" y="567"/>
                      </a:lnTo>
                      <a:lnTo>
                        <a:pt x="54" y="567"/>
                      </a:lnTo>
                      <a:lnTo>
                        <a:pt x="60" y="567"/>
                      </a:lnTo>
                      <a:lnTo>
                        <a:pt x="66" y="561"/>
                      </a:lnTo>
                      <a:lnTo>
                        <a:pt x="72" y="561"/>
                      </a:lnTo>
                      <a:lnTo>
                        <a:pt x="72" y="555"/>
                      </a:lnTo>
                      <a:lnTo>
                        <a:pt x="72" y="549"/>
                      </a:lnTo>
                      <a:lnTo>
                        <a:pt x="72" y="543"/>
                      </a:lnTo>
                      <a:lnTo>
                        <a:pt x="78" y="543"/>
                      </a:lnTo>
                      <a:lnTo>
                        <a:pt x="78" y="537"/>
                      </a:lnTo>
                      <a:lnTo>
                        <a:pt x="78" y="531"/>
                      </a:lnTo>
                      <a:lnTo>
                        <a:pt x="78" y="525"/>
                      </a:lnTo>
                      <a:lnTo>
                        <a:pt x="78" y="519"/>
                      </a:lnTo>
                      <a:lnTo>
                        <a:pt x="78" y="513"/>
                      </a:lnTo>
                      <a:lnTo>
                        <a:pt x="78" y="507"/>
                      </a:lnTo>
                      <a:lnTo>
                        <a:pt x="84" y="507"/>
                      </a:lnTo>
                      <a:lnTo>
                        <a:pt x="84" y="501"/>
                      </a:lnTo>
                      <a:lnTo>
                        <a:pt x="90" y="495"/>
                      </a:lnTo>
                      <a:lnTo>
                        <a:pt x="96" y="489"/>
                      </a:lnTo>
                      <a:lnTo>
                        <a:pt x="102" y="483"/>
                      </a:lnTo>
                      <a:lnTo>
                        <a:pt x="102" y="477"/>
                      </a:lnTo>
                      <a:lnTo>
                        <a:pt x="102" y="471"/>
                      </a:lnTo>
                      <a:lnTo>
                        <a:pt x="102" y="465"/>
                      </a:lnTo>
                      <a:lnTo>
                        <a:pt x="102" y="459"/>
                      </a:lnTo>
                      <a:lnTo>
                        <a:pt x="102" y="453"/>
                      </a:lnTo>
                      <a:lnTo>
                        <a:pt x="102" y="447"/>
                      </a:lnTo>
                      <a:lnTo>
                        <a:pt x="102" y="441"/>
                      </a:lnTo>
                      <a:lnTo>
                        <a:pt x="102" y="435"/>
                      </a:lnTo>
                      <a:lnTo>
                        <a:pt x="102" y="430"/>
                      </a:lnTo>
                      <a:lnTo>
                        <a:pt x="96" y="430"/>
                      </a:lnTo>
                      <a:lnTo>
                        <a:pt x="96" y="424"/>
                      </a:lnTo>
                      <a:lnTo>
                        <a:pt x="90" y="424"/>
                      </a:lnTo>
                      <a:lnTo>
                        <a:pt x="90" y="418"/>
                      </a:lnTo>
                      <a:lnTo>
                        <a:pt x="84" y="418"/>
                      </a:lnTo>
                      <a:lnTo>
                        <a:pt x="78" y="418"/>
                      </a:lnTo>
                      <a:lnTo>
                        <a:pt x="78" y="412"/>
                      </a:lnTo>
                      <a:lnTo>
                        <a:pt x="72" y="406"/>
                      </a:lnTo>
                      <a:lnTo>
                        <a:pt x="72" y="400"/>
                      </a:lnTo>
                      <a:lnTo>
                        <a:pt x="72" y="394"/>
                      </a:lnTo>
                      <a:lnTo>
                        <a:pt x="72" y="388"/>
                      </a:lnTo>
                      <a:lnTo>
                        <a:pt x="72" y="382"/>
                      </a:lnTo>
                      <a:lnTo>
                        <a:pt x="72" y="376"/>
                      </a:lnTo>
                      <a:lnTo>
                        <a:pt x="72" y="370"/>
                      </a:lnTo>
                      <a:lnTo>
                        <a:pt x="72" y="364"/>
                      </a:lnTo>
                      <a:lnTo>
                        <a:pt x="78" y="364"/>
                      </a:lnTo>
                      <a:lnTo>
                        <a:pt x="78" y="358"/>
                      </a:lnTo>
                      <a:lnTo>
                        <a:pt x="78" y="352"/>
                      </a:lnTo>
                      <a:lnTo>
                        <a:pt x="78" y="346"/>
                      </a:lnTo>
                      <a:lnTo>
                        <a:pt x="84" y="346"/>
                      </a:lnTo>
                      <a:lnTo>
                        <a:pt x="90" y="346"/>
                      </a:lnTo>
                      <a:lnTo>
                        <a:pt x="96" y="346"/>
                      </a:lnTo>
                      <a:lnTo>
                        <a:pt x="102" y="346"/>
                      </a:lnTo>
                      <a:lnTo>
                        <a:pt x="108" y="346"/>
                      </a:lnTo>
                      <a:lnTo>
                        <a:pt x="108" y="340"/>
                      </a:lnTo>
                      <a:lnTo>
                        <a:pt x="114" y="340"/>
                      </a:lnTo>
                      <a:lnTo>
                        <a:pt x="119" y="340"/>
                      </a:lnTo>
                      <a:lnTo>
                        <a:pt x="125" y="340"/>
                      </a:lnTo>
                      <a:lnTo>
                        <a:pt x="131" y="334"/>
                      </a:lnTo>
                      <a:lnTo>
                        <a:pt x="137" y="334"/>
                      </a:lnTo>
                      <a:lnTo>
                        <a:pt x="143" y="334"/>
                      </a:lnTo>
                      <a:lnTo>
                        <a:pt x="149" y="334"/>
                      </a:lnTo>
                      <a:lnTo>
                        <a:pt x="155" y="334"/>
                      </a:lnTo>
                      <a:lnTo>
                        <a:pt x="161" y="328"/>
                      </a:lnTo>
                      <a:lnTo>
                        <a:pt x="161" y="322"/>
                      </a:lnTo>
                      <a:lnTo>
                        <a:pt x="167" y="322"/>
                      </a:lnTo>
                      <a:lnTo>
                        <a:pt x="167" y="316"/>
                      </a:lnTo>
                      <a:lnTo>
                        <a:pt x="173" y="316"/>
                      </a:lnTo>
                      <a:lnTo>
                        <a:pt x="179" y="316"/>
                      </a:lnTo>
                      <a:lnTo>
                        <a:pt x="179" y="310"/>
                      </a:lnTo>
                      <a:lnTo>
                        <a:pt x="185" y="310"/>
                      </a:lnTo>
                      <a:lnTo>
                        <a:pt x="191" y="310"/>
                      </a:lnTo>
                      <a:lnTo>
                        <a:pt x="197" y="310"/>
                      </a:lnTo>
                      <a:lnTo>
                        <a:pt x="203" y="310"/>
                      </a:lnTo>
                      <a:lnTo>
                        <a:pt x="203" y="304"/>
                      </a:lnTo>
                      <a:lnTo>
                        <a:pt x="203" y="298"/>
                      </a:lnTo>
                      <a:lnTo>
                        <a:pt x="209" y="298"/>
                      </a:lnTo>
                      <a:lnTo>
                        <a:pt x="215" y="298"/>
                      </a:lnTo>
                      <a:lnTo>
                        <a:pt x="215" y="292"/>
                      </a:lnTo>
                      <a:lnTo>
                        <a:pt x="221" y="292"/>
                      </a:lnTo>
                      <a:lnTo>
                        <a:pt x="221" y="286"/>
                      </a:lnTo>
                      <a:lnTo>
                        <a:pt x="221" y="280"/>
                      </a:lnTo>
                      <a:lnTo>
                        <a:pt x="221" y="274"/>
                      </a:lnTo>
                      <a:lnTo>
                        <a:pt x="221" y="268"/>
                      </a:lnTo>
                      <a:lnTo>
                        <a:pt x="221" y="262"/>
                      </a:lnTo>
                      <a:lnTo>
                        <a:pt x="221" y="256"/>
                      </a:lnTo>
                      <a:lnTo>
                        <a:pt x="221" y="251"/>
                      </a:lnTo>
                      <a:lnTo>
                        <a:pt x="227" y="251"/>
                      </a:lnTo>
                      <a:lnTo>
                        <a:pt x="227" y="245"/>
                      </a:lnTo>
                      <a:lnTo>
                        <a:pt x="233" y="239"/>
                      </a:lnTo>
                      <a:lnTo>
                        <a:pt x="239" y="239"/>
                      </a:lnTo>
                      <a:lnTo>
                        <a:pt x="239" y="233"/>
                      </a:lnTo>
                      <a:lnTo>
                        <a:pt x="245" y="233"/>
                      </a:lnTo>
                      <a:lnTo>
                        <a:pt x="251" y="233"/>
                      </a:lnTo>
                      <a:lnTo>
                        <a:pt x="251" y="227"/>
                      </a:lnTo>
                      <a:lnTo>
                        <a:pt x="251" y="221"/>
                      </a:lnTo>
                      <a:lnTo>
                        <a:pt x="251" y="215"/>
                      </a:lnTo>
                      <a:lnTo>
                        <a:pt x="251" y="209"/>
                      </a:lnTo>
                      <a:lnTo>
                        <a:pt x="251" y="203"/>
                      </a:lnTo>
                      <a:lnTo>
                        <a:pt x="257" y="197"/>
                      </a:lnTo>
                      <a:lnTo>
                        <a:pt x="257" y="191"/>
                      </a:lnTo>
                      <a:lnTo>
                        <a:pt x="257" y="185"/>
                      </a:lnTo>
                      <a:lnTo>
                        <a:pt x="257" y="179"/>
                      </a:lnTo>
                      <a:lnTo>
                        <a:pt x="257" y="173"/>
                      </a:lnTo>
                      <a:lnTo>
                        <a:pt x="257" y="167"/>
                      </a:lnTo>
                      <a:lnTo>
                        <a:pt x="251" y="161"/>
                      </a:lnTo>
                      <a:lnTo>
                        <a:pt x="251" y="155"/>
                      </a:lnTo>
                      <a:lnTo>
                        <a:pt x="251" y="149"/>
                      </a:lnTo>
                      <a:lnTo>
                        <a:pt x="251" y="143"/>
                      </a:lnTo>
                      <a:lnTo>
                        <a:pt x="245" y="143"/>
                      </a:lnTo>
                      <a:lnTo>
                        <a:pt x="239" y="137"/>
                      </a:lnTo>
                      <a:lnTo>
                        <a:pt x="239" y="131"/>
                      </a:lnTo>
                      <a:lnTo>
                        <a:pt x="233" y="131"/>
                      </a:lnTo>
                      <a:lnTo>
                        <a:pt x="227" y="131"/>
                      </a:lnTo>
                      <a:lnTo>
                        <a:pt x="227" y="125"/>
                      </a:lnTo>
                      <a:lnTo>
                        <a:pt x="221" y="125"/>
                      </a:lnTo>
                      <a:lnTo>
                        <a:pt x="215" y="125"/>
                      </a:lnTo>
                      <a:lnTo>
                        <a:pt x="215" y="119"/>
                      </a:lnTo>
                      <a:lnTo>
                        <a:pt x="209" y="119"/>
                      </a:lnTo>
                      <a:lnTo>
                        <a:pt x="203" y="119"/>
                      </a:lnTo>
                      <a:lnTo>
                        <a:pt x="203" y="113"/>
                      </a:lnTo>
                      <a:lnTo>
                        <a:pt x="197" y="113"/>
                      </a:lnTo>
                      <a:lnTo>
                        <a:pt x="197" y="107"/>
                      </a:lnTo>
                      <a:lnTo>
                        <a:pt x="197" y="101"/>
                      </a:lnTo>
                      <a:lnTo>
                        <a:pt x="197" y="95"/>
                      </a:lnTo>
                      <a:lnTo>
                        <a:pt x="197" y="89"/>
                      </a:lnTo>
                      <a:lnTo>
                        <a:pt x="191" y="89"/>
                      </a:lnTo>
                      <a:lnTo>
                        <a:pt x="191" y="83"/>
                      </a:lnTo>
                      <a:lnTo>
                        <a:pt x="191" y="77"/>
                      </a:lnTo>
                      <a:lnTo>
                        <a:pt x="185" y="77"/>
                      </a:lnTo>
                      <a:lnTo>
                        <a:pt x="185" y="71"/>
                      </a:lnTo>
                      <a:lnTo>
                        <a:pt x="179" y="71"/>
                      </a:lnTo>
                      <a:lnTo>
                        <a:pt x="179" y="66"/>
                      </a:lnTo>
                      <a:lnTo>
                        <a:pt x="173" y="66"/>
                      </a:lnTo>
                      <a:lnTo>
                        <a:pt x="167" y="66"/>
                      </a:lnTo>
                      <a:lnTo>
                        <a:pt x="167" y="60"/>
                      </a:lnTo>
                      <a:lnTo>
                        <a:pt x="161" y="60"/>
                      </a:lnTo>
                      <a:lnTo>
                        <a:pt x="161" y="54"/>
                      </a:lnTo>
                      <a:lnTo>
                        <a:pt x="155" y="54"/>
                      </a:lnTo>
                      <a:lnTo>
                        <a:pt x="149" y="54"/>
                      </a:lnTo>
                      <a:lnTo>
                        <a:pt x="149" y="48"/>
                      </a:lnTo>
                      <a:lnTo>
                        <a:pt x="143" y="48"/>
                      </a:lnTo>
                      <a:lnTo>
                        <a:pt x="143" y="42"/>
                      </a:lnTo>
                      <a:lnTo>
                        <a:pt x="143" y="3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156"/>
                <p:cNvSpPr/>
                <p:nvPr/>
              </p:nvSpPr>
              <p:spPr>
                <a:xfrm>
                  <a:off x="8224560" y="3962160"/>
                  <a:ext cx="58680" cy="345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59" h="36">
                      <a:moveTo>
                        <a:pt x="23" y="18"/>
                      </a:moveTo>
                      <a:lnTo>
                        <a:pt x="29" y="18"/>
                      </a:lnTo>
                      <a:lnTo>
                        <a:pt x="29" y="12"/>
                      </a:lnTo>
                      <a:lnTo>
                        <a:pt x="35" y="12"/>
                      </a:lnTo>
                      <a:lnTo>
                        <a:pt x="41" y="6"/>
                      </a:lnTo>
                      <a:lnTo>
                        <a:pt x="47" y="6"/>
                      </a:lnTo>
                      <a:lnTo>
                        <a:pt x="53" y="0"/>
                      </a:lnTo>
                      <a:lnTo>
                        <a:pt x="59" y="0"/>
                      </a:lnTo>
                      <a:lnTo>
                        <a:pt x="59" y="6"/>
                      </a:lnTo>
                      <a:lnTo>
                        <a:pt x="53" y="6"/>
                      </a:lnTo>
                      <a:lnTo>
                        <a:pt x="47" y="6"/>
                      </a:lnTo>
                      <a:lnTo>
                        <a:pt x="41" y="12"/>
                      </a:lnTo>
                      <a:lnTo>
                        <a:pt x="35" y="12"/>
                      </a:lnTo>
                      <a:lnTo>
                        <a:pt x="35" y="18"/>
                      </a:lnTo>
                      <a:lnTo>
                        <a:pt x="29" y="18"/>
                      </a:lnTo>
                      <a:lnTo>
                        <a:pt x="23" y="24"/>
                      </a:lnTo>
                      <a:lnTo>
                        <a:pt x="17" y="24"/>
                      </a:lnTo>
                      <a:lnTo>
                        <a:pt x="12" y="30"/>
                      </a:lnTo>
                      <a:lnTo>
                        <a:pt x="6" y="30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7" y="24"/>
                      </a:lnTo>
                      <a:lnTo>
                        <a:pt x="17" y="18"/>
                      </a:lnTo>
                      <a:lnTo>
                        <a:pt x="23" y="18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157"/>
                <p:cNvSpPr/>
                <p:nvPr/>
              </p:nvSpPr>
              <p:spPr>
                <a:xfrm>
                  <a:off x="8158320" y="399672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6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158"/>
                <p:cNvSpPr/>
                <p:nvPr/>
              </p:nvSpPr>
              <p:spPr>
                <a:xfrm>
                  <a:off x="8086320" y="4002840"/>
                  <a:ext cx="29880" cy="453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45360"/>
                    <a:gd name="textAreaBottom" fmla="*/ 45360 h 4536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4" y="0"/>
                      </a:move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11"/>
                      </a:lnTo>
                      <a:lnTo>
                        <a:pt x="30" y="17"/>
                      </a:lnTo>
                      <a:lnTo>
                        <a:pt x="30" y="23"/>
                      </a:lnTo>
                      <a:lnTo>
                        <a:pt x="24" y="23"/>
                      </a:lnTo>
                      <a:lnTo>
                        <a:pt x="24" y="29"/>
                      </a:lnTo>
                      <a:lnTo>
                        <a:pt x="24" y="35"/>
                      </a:lnTo>
                      <a:lnTo>
                        <a:pt x="18" y="35"/>
                      </a:lnTo>
                      <a:lnTo>
                        <a:pt x="18" y="29"/>
                      </a:lnTo>
                      <a:lnTo>
                        <a:pt x="18" y="35"/>
                      </a:lnTo>
                      <a:lnTo>
                        <a:pt x="12" y="35"/>
                      </a:lnTo>
                      <a:lnTo>
                        <a:pt x="12" y="41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6" y="23"/>
                      </a:lnTo>
                      <a:lnTo>
                        <a:pt x="6" y="17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159"/>
                <p:cNvSpPr/>
                <p:nvPr/>
              </p:nvSpPr>
              <p:spPr>
                <a:xfrm>
                  <a:off x="8104680" y="400284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Rectangle 160"/>
                <p:cNvSpPr/>
                <p:nvPr/>
              </p:nvSpPr>
              <p:spPr>
                <a:xfrm>
                  <a:off x="6130440" y="4054320"/>
                  <a:ext cx="576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161"/>
                <p:cNvSpPr/>
                <p:nvPr/>
              </p:nvSpPr>
              <p:spPr>
                <a:xfrm>
                  <a:off x="5265720" y="4083480"/>
                  <a:ext cx="691560" cy="1148400"/>
                </a:xfrm>
                <a:custGeom>
                  <a:avLst/>
                  <a:gdLst>
                    <a:gd name="textAreaLeft" fmla="*/ 0 w 691560"/>
                    <a:gd name="textAreaRight" fmla="*/ 691920 w 691560"/>
                    <a:gd name="textAreaTop" fmla="*/ 0 h 1148400"/>
                    <a:gd name="textAreaBottom" fmla="*/ 1148400 h 1148400"/>
                  </a:gdLst>
                  <a:ahLst/>
                  <a:rect l="textAreaLeft" t="textAreaTop" r="textAreaRight" b="textAreaBottom"/>
                  <a:pathLst>
                    <a:path w="692" h="1182">
                      <a:moveTo>
                        <a:pt x="173" y="42"/>
                      </a:moveTo>
                      <a:lnTo>
                        <a:pt x="238" y="36"/>
                      </a:lnTo>
                      <a:lnTo>
                        <a:pt x="298" y="30"/>
                      </a:lnTo>
                      <a:lnTo>
                        <a:pt x="328" y="30"/>
                      </a:lnTo>
                      <a:lnTo>
                        <a:pt x="387" y="24"/>
                      </a:lnTo>
                      <a:lnTo>
                        <a:pt x="411" y="18"/>
                      </a:lnTo>
                      <a:lnTo>
                        <a:pt x="489" y="12"/>
                      </a:lnTo>
                      <a:lnTo>
                        <a:pt x="513" y="6"/>
                      </a:lnTo>
                      <a:lnTo>
                        <a:pt x="584" y="0"/>
                      </a:lnTo>
                      <a:lnTo>
                        <a:pt x="590" y="0"/>
                      </a:lnTo>
                      <a:lnTo>
                        <a:pt x="596" y="18"/>
                      </a:lnTo>
                      <a:lnTo>
                        <a:pt x="602" y="66"/>
                      </a:lnTo>
                      <a:lnTo>
                        <a:pt x="602" y="90"/>
                      </a:lnTo>
                      <a:lnTo>
                        <a:pt x="608" y="131"/>
                      </a:lnTo>
                      <a:lnTo>
                        <a:pt x="608" y="143"/>
                      </a:lnTo>
                      <a:lnTo>
                        <a:pt x="620" y="215"/>
                      </a:lnTo>
                      <a:lnTo>
                        <a:pt x="620" y="227"/>
                      </a:lnTo>
                      <a:lnTo>
                        <a:pt x="626" y="287"/>
                      </a:lnTo>
                      <a:lnTo>
                        <a:pt x="632" y="328"/>
                      </a:lnTo>
                      <a:lnTo>
                        <a:pt x="638" y="394"/>
                      </a:lnTo>
                      <a:lnTo>
                        <a:pt x="638" y="400"/>
                      </a:lnTo>
                      <a:lnTo>
                        <a:pt x="638" y="406"/>
                      </a:lnTo>
                      <a:lnTo>
                        <a:pt x="650" y="483"/>
                      </a:lnTo>
                      <a:lnTo>
                        <a:pt x="650" y="513"/>
                      </a:lnTo>
                      <a:lnTo>
                        <a:pt x="656" y="567"/>
                      </a:lnTo>
                      <a:lnTo>
                        <a:pt x="662" y="615"/>
                      </a:lnTo>
                      <a:lnTo>
                        <a:pt x="662" y="627"/>
                      </a:lnTo>
                      <a:lnTo>
                        <a:pt x="668" y="680"/>
                      </a:lnTo>
                      <a:lnTo>
                        <a:pt x="668" y="686"/>
                      </a:lnTo>
                      <a:lnTo>
                        <a:pt x="674" y="740"/>
                      </a:lnTo>
                      <a:lnTo>
                        <a:pt x="674" y="746"/>
                      </a:lnTo>
                      <a:lnTo>
                        <a:pt x="668" y="746"/>
                      </a:lnTo>
                      <a:lnTo>
                        <a:pt x="668" y="752"/>
                      </a:lnTo>
                      <a:lnTo>
                        <a:pt x="662" y="752"/>
                      </a:lnTo>
                      <a:lnTo>
                        <a:pt x="662" y="758"/>
                      </a:lnTo>
                      <a:lnTo>
                        <a:pt x="662" y="764"/>
                      </a:lnTo>
                      <a:lnTo>
                        <a:pt x="668" y="764"/>
                      </a:lnTo>
                      <a:lnTo>
                        <a:pt x="674" y="770"/>
                      </a:lnTo>
                      <a:lnTo>
                        <a:pt x="674" y="776"/>
                      </a:lnTo>
                      <a:lnTo>
                        <a:pt x="674" y="782"/>
                      </a:lnTo>
                      <a:lnTo>
                        <a:pt x="674" y="788"/>
                      </a:lnTo>
                      <a:lnTo>
                        <a:pt x="668" y="788"/>
                      </a:lnTo>
                      <a:lnTo>
                        <a:pt x="668" y="794"/>
                      </a:lnTo>
                      <a:lnTo>
                        <a:pt x="668" y="800"/>
                      </a:lnTo>
                      <a:lnTo>
                        <a:pt x="674" y="800"/>
                      </a:lnTo>
                      <a:lnTo>
                        <a:pt x="680" y="800"/>
                      </a:lnTo>
                      <a:lnTo>
                        <a:pt x="686" y="800"/>
                      </a:lnTo>
                      <a:lnTo>
                        <a:pt x="686" y="806"/>
                      </a:lnTo>
                      <a:lnTo>
                        <a:pt x="692" y="806"/>
                      </a:lnTo>
                      <a:lnTo>
                        <a:pt x="686" y="806"/>
                      </a:lnTo>
                      <a:lnTo>
                        <a:pt x="686" y="812"/>
                      </a:lnTo>
                      <a:lnTo>
                        <a:pt x="680" y="812"/>
                      </a:lnTo>
                      <a:lnTo>
                        <a:pt x="680" y="818"/>
                      </a:lnTo>
                      <a:lnTo>
                        <a:pt x="686" y="818"/>
                      </a:lnTo>
                      <a:lnTo>
                        <a:pt x="686" y="824"/>
                      </a:lnTo>
                      <a:lnTo>
                        <a:pt x="686" y="830"/>
                      </a:lnTo>
                      <a:lnTo>
                        <a:pt x="680" y="830"/>
                      </a:lnTo>
                      <a:lnTo>
                        <a:pt x="674" y="830"/>
                      </a:lnTo>
                      <a:lnTo>
                        <a:pt x="668" y="830"/>
                      </a:lnTo>
                      <a:lnTo>
                        <a:pt x="662" y="830"/>
                      </a:lnTo>
                      <a:lnTo>
                        <a:pt x="662" y="835"/>
                      </a:lnTo>
                      <a:lnTo>
                        <a:pt x="656" y="835"/>
                      </a:lnTo>
                      <a:lnTo>
                        <a:pt x="650" y="835"/>
                      </a:lnTo>
                      <a:lnTo>
                        <a:pt x="644" y="835"/>
                      </a:lnTo>
                      <a:lnTo>
                        <a:pt x="644" y="841"/>
                      </a:lnTo>
                      <a:lnTo>
                        <a:pt x="638" y="841"/>
                      </a:lnTo>
                      <a:lnTo>
                        <a:pt x="632" y="841"/>
                      </a:lnTo>
                      <a:lnTo>
                        <a:pt x="632" y="847"/>
                      </a:lnTo>
                      <a:lnTo>
                        <a:pt x="626" y="847"/>
                      </a:lnTo>
                      <a:lnTo>
                        <a:pt x="626" y="853"/>
                      </a:lnTo>
                      <a:lnTo>
                        <a:pt x="620" y="859"/>
                      </a:lnTo>
                      <a:lnTo>
                        <a:pt x="614" y="859"/>
                      </a:lnTo>
                      <a:lnTo>
                        <a:pt x="614" y="865"/>
                      </a:lnTo>
                      <a:lnTo>
                        <a:pt x="608" y="865"/>
                      </a:lnTo>
                      <a:lnTo>
                        <a:pt x="602" y="865"/>
                      </a:lnTo>
                      <a:lnTo>
                        <a:pt x="602" y="859"/>
                      </a:lnTo>
                      <a:lnTo>
                        <a:pt x="596" y="859"/>
                      </a:lnTo>
                      <a:lnTo>
                        <a:pt x="596" y="853"/>
                      </a:lnTo>
                      <a:lnTo>
                        <a:pt x="590" y="853"/>
                      </a:lnTo>
                      <a:lnTo>
                        <a:pt x="584" y="853"/>
                      </a:lnTo>
                      <a:lnTo>
                        <a:pt x="578" y="853"/>
                      </a:lnTo>
                      <a:lnTo>
                        <a:pt x="572" y="853"/>
                      </a:lnTo>
                      <a:lnTo>
                        <a:pt x="572" y="859"/>
                      </a:lnTo>
                      <a:lnTo>
                        <a:pt x="566" y="859"/>
                      </a:lnTo>
                      <a:lnTo>
                        <a:pt x="566" y="853"/>
                      </a:lnTo>
                      <a:lnTo>
                        <a:pt x="560" y="853"/>
                      </a:lnTo>
                      <a:lnTo>
                        <a:pt x="560" y="859"/>
                      </a:lnTo>
                      <a:lnTo>
                        <a:pt x="555" y="859"/>
                      </a:lnTo>
                      <a:lnTo>
                        <a:pt x="555" y="865"/>
                      </a:lnTo>
                      <a:lnTo>
                        <a:pt x="555" y="871"/>
                      </a:lnTo>
                      <a:lnTo>
                        <a:pt x="555" y="877"/>
                      </a:lnTo>
                      <a:lnTo>
                        <a:pt x="555" y="883"/>
                      </a:lnTo>
                      <a:lnTo>
                        <a:pt x="555" y="889"/>
                      </a:lnTo>
                      <a:lnTo>
                        <a:pt x="560" y="889"/>
                      </a:lnTo>
                      <a:lnTo>
                        <a:pt x="560" y="895"/>
                      </a:lnTo>
                      <a:lnTo>
                        <a:pt x="560" y="901"/>
                      </a:lnTo>
                      <a:lnTo>
                        <a:pt x="560" y="907"/>
                      </a:lnTo>
                      <a:lnTo>
                        <a:pt x="566" y="907"/>
                      </a:lnTo>
                      <a:lnTo>
                        <a:pt x="560" y="907"/>
                      </a:lnTo>
                      <a:lnTo>
                        <a:pt x="560" y="913"/>
                      </a:lnTo>
                      <a:lnTo>
                        <a:pt x="560" y="919"/>
                      </a:lnTo>
                      <a:lnTo>
                        <a:pt x="555" y="919"/>
                      </a:lnTo>
                      <a:lnTo>
                        <a:pt x="555" y="925"/>
                      </a:lnTo>
                      <a:lnTo>
                        <a:pt x="549" y="925"/>
                      </a:lnTo>
                      <a:lnTo>
                        <a:pt x="549" y="931"/>
                      </a:lnTo>
                      <a:lnTo>
                        <a:pt x="549" y="937"/>
                      </a:lnTo>
                      <a:lnTo>
                        <a:pt x="543" y="937"/>
                      </a:lnTo>
                      <a:lnTo>
                        <a:pt x="537" y="937"/>
                      </a:lnTo>
                      <a:lnTo>
                        <a:pt x="531" y="937"/>
                      </a:lnTo>
                      <a:lnTo>
                        <a:pt x="531" y="943"/>
                      </a:lnTo>
                      <a:lnTo>
                        <a:pt x="525" y="943"/>
                      </a:lnTo>
                      <a:lnTo>
                        <a:pt x="525" y="949"/>
                      </a:lnTo>
                      <a:lnTo>
                        <a:pt x="525" y="955"/>
                      </a:lnTo>
                      <a:lnTo>
                        <a:pt x="519" y="955"/>
                      </a:lnTo>
                      <a:lnTo>
                        <a:pt x="525" y="955"/>
                      </a:lnTo>
                      <a:lnTo>
                        <a:pt x="519" y="955"/>
                      </a:lnTo>
                      <a:lnTo>
                        <a:pt x="519" y="961"/>
                      </a:lnTo>
                      <a:lnTo>
                        <a:pt x="519" y="967"/>
                      </a:lnTo>
                      <a:lnTo>
                        <a:pt x="519" y="973"/>
                      </a:lnTo>
                      <a:lnTo>
                        <a:pt x="519" y="979"/>
                      </a:lnTo>
                      <a:lnTo>
                        <a:pt x="519" y="985"/>
                      </a:lnTo>
                      <a:lnTo>
                        <a:pt x="513" y="985"/>
                      </a:lnTo>
                      <a:lnTo>
                        <a:pt x="513" y="991"/>
                      </a:lnTo>
                      <a:lnTo>
                        <a:pt x="507" y="991"/>
                      </a:lnTo>
                      <a:lnTo>
                        <a:pt x="507" y="997"/>
                      </a:lnTo>
                      <a:lnTo>
                        <a:pt x="501" y="997"/>
                      </a:lnTo>
                      <a:lnTo>
                        <a:pt x="495" y="997"/>
                      </a:lnTo>
                      <a:lnTo>
                        <a:pt x="495" y="991"/>
                      </a:lnTo>
                      <a:lnTo>
                        <a:pt x="489" y="991"/>
                      </a:lnTo>
                      <a:lnTo>
                        <a:pt x="483" y="997"/>
                      </a:lnTo>
                      <a:lnTo>
                        <a:pt x="483" y="1003"/>
                      </a:lnTo>
                      <a:lnTo>
                        <a:pt x="483" y="1009"/>
                      </a:lnTo>
                      <a:lnTo>
                        <a:pt x="477" y="1009"/>
                      </a:lnTo>
                      <a:lnTo>
                        <a:pt x="477" y="1015"/>
                      </a:lnTo>
                      <a:lnTo>
                        <a:pt x="471" y="1015"/>
                      </a:lnTo>
                      <a:lnTo>
                        <a:pt x="471" y="1020"/>
                      </a:lnTo>
                      <a:lnTo>
                        <a:pt x="471" y="1026"/>
                      </a:lnTo>
                      <a:lnTo>
                        <a:pt x="471" y="1032"/>
                      </a:lnTo>
                      <a:lnTo>
                        <a:pt x="471" y="1038"/>
                      </a:lnTo>
                      <a:lnTo>
                        <a:pt x="471" y="1044"/>
                      </a:lnTo>
                      <a:lnTo>
                        <a:pt x="471" y="1050"/>
                      </a:lnTo>
                      <a:lnTo>
                        <a:pt x="471" y="1056"/>
                      </a:lnTo>
                      <a:lnTo>
                        <a:pt x="471" y="1062"/>
                      </a:lnTo>
                      <a:lnTo>
                        <a:pt x="471" y="1068"/>
                      </a:lnTo>
                      <a:lnTo>
                        <a:pt x="465" y="1068"/>
                      </a:lnTo>
                      <a:lnTo>
                        <a:pt x="465" y="1074"/>
                      </a:lnTo>
                      <a:lnTo>
                        <a:pt x="459" y="1074"/>
                      </a:lnTo>
                      <a:lnTo>
                        <a:pt x="453" y="1074"/>
                      </a:lnTo>
                      <a:lnTo>
                        <a:pt x="453" y="1080"/>
                      </a:lnTo>
                      <a:lnTo>
                        <a:pt x="447" y="1080"/>
                      </a:lnTo>
                      <a:lnTo>
                        <a:pt x="447" y="1086"/>
                      </a:lnTo>
                      <a:lnTo>
                        <a:pt x="441" y="1086"/>
                      </a:lnTo>
                      <a:lnTo>
                        <a:pt x="441" y="1080"/>
                      </a:lnTo>
                      <a:lnTo>
                        <a:pt x="435" y="1080"/>
                      </a:lnTo>
                      <a:lnTo>
                        <a:pt x="429" y="1074"/>
                      </a:lnTo>
                      <a:lnTo>
                        <a:pt x="423" y="1074"/>
                      </a:lnTo>
                      <a:lnTo>
                        <a:pt x="417" y="1074"/>
                      </a:lnTo>
                      <a:lnTo>
                        <a:pt x="411" y="1074"/>
                      </a:lnTo>
                      <a:lnTo>
                        <a:pt x="405" y="1074"/>
                      </a:lnTo>
                      <a:lnTo>
                        <a:pt x="399" y="1074"/>
                      </a:lnTo>
                      <a:lnTo>
                        <a:pt x="399" y="1068"/>
                      </a:lnTo>
                      <a:lnTo>
                        <a:pt x="393" y="1068"/>
                      </a:lnTo>
                      <a:lnTo>
                        <a:pt x="393" y="1062"/>
                      </a:lnTo>
                      <a:lnTo>
                        <a:pt x="387" y="1062"/>
                      </a:lnTo>
                      <a:lnTo>
                        <a:pt x="387" y="1056"/>
                      </a:lnTo>
                      <a:lnTo>
                        <a:pt x="387" y="1050"/>
                      </a:lnTo>
                      <a:lnTo>
                        <a:pt x="387" y="1044"/>
                      </a:lnTo>
                      <a:lnTo>
                        <a:pt x="387" y="1038"/>
                      </a:lnTo>
                      <a:lnTo>
                        <a:pt x="382" y="1038"/>
                      </a:lnTo>
                      <a:lnTo>
                        <a:pt x="376" y="1038"/>
                      </a:lnTo>
                      <a:lnTo>
                        <a:pt x="376" y="1032"/>
                      </a:lnTo>
                      <a:lnTo>
                        <a:pt x="370" y="1032"/>
                      </a:lnTo>
                      <a:lnTo>
                        <a:pt x="364" y="1032"/>
                      </a:lnTo>
                      <a:lnTo>
                        <a:pt x="364" y="1038"/>
                      </a:lnTo>
                      <a:lnTo>
                        <a:pt x="370" y="1038"/>
                      </a:lnTo>
                      <a:lnTo>
                        <a:pt x="376" y="1038"/>
                      </a:lnTo>
                      <a:lnTo>
                        <a:pt x="376" y="1044"/>
                      </a:lnTo>
                      <a:lnTo>
                        <a:pt x="376" y="1050"/>
                      </a:lnTo>
                      <a:lnTo>
                        <a:pt x="370" y="1050"/>
                      </a:lnTo>
                      <a:lnTo>
                        <a:pt x="364" y="1050"/>
                      </a:lnTo>
                      <a:lnTo>
                        <a:pt x="364" y="1056"/>
                      </a:lnTo>
                      <a:lnTo>
                        <a:pt x="358" y="1056"/>
                      </a:lnTo>
                      <a:lnTo>
                        <a:pt x="358" y="1050"/>
                      </a:lnTo>
                      <a:lnTo>
                        <a:pt x="352" y="1050"/>
                      </a:lnTo>
                      <a:lnTo>
                        <a:pt x="352" y="1056"/>
                      </a:lnTo>
                      <a:lnTo>
                        <a:pt x="352" y="1062"/>
                      </a:lnTo>
                      <a:lnTo>
                        <a:pt x="358" y="1062"/>
                      </a:lnTo>
                      <a:lnTo>
                        <a:pt x="358" y="1068"/>
                      </a:lnTo>
                      <a:lnTo>
                        <a:pt x="352" y="1068"/>
                      </a:lnTo>
                      <a:lnTo>
                        <a:pt x="352" y="1074"/>
                      </a:lnTo>
                      <a:lnTo>
                        <a:pt x="346" y="1074"/>
                      </a:lnTo>
                      <a:lnTo>
                        <a:pt x="340" y="1074"/>
                      </a:lnTo>
                      <a:lnTo>
                        <a:pt x="340" y="1080"/>
                      </a:lnTo>
                      <a:lnTo>
                        <a:pt x="340" y="1086"/>
                      </a:lnTo>
                      <a:lnTo>
                        <a:pt x="340" y="1092"/>
                      </a:lnTo>
                      <a:lnTo>
                        <a:pt x="340" y="1098"/>
                      </a:lnTo>
                      <a:lnTo>
                        <a:pt x="346" y="1098"/>
                      </a:lnTo>
                      <a:lnTo>
                        <a:pt x="346" y="1104"/>
                      </a:lnTo>
                      <a:lnTo>
                        <a:pt x="346" y="1110"/>
                      </a:lnTo>
                      <a:lnTo>
                        <a:pt x="340" y="1110"/>
                      </a:lnTo>
                      <a:lnTo>
                        <a:pt x="334" y="1110"/>
                      </a:lnTo>
                      <a:lnTo>
                        <a:pt x="328" y="1110"/>
                      </a:lnTo>
                      <a:lnTo>
                        <a:pt x="328" y="1116"/>
                      </a:lnTo>
                      <a:lnTo>
                        <a:pt x="328" y="1122"/>
                      </a:lnTo>
                      <a:lnTo>
                        <a:pt x="328" y="1128"/>
                      </a:lnTo>
                      <a:lnTo>
                        <a:pt x="328" y="1134"/>
                      </a:lnTo>
                      <a:lnTo>
                        <a:pt x="322" y="1134"/>
                      </a:lnTo>
                      <a:lnTo>
                        <a:pt x="316" y="1134"/>
                      </a:lnTo>
                      <a:lnTo>
                        <a:pt x="316" y="1128"/>
                      </a:lnTo>
                      <a:lnTo>
                        <a:pt x="316" y="1122"/>
                      </a:lnTo>
                      <a:lnTo>
                        <a:pt x="316" y="1116"/>
                      </a:lnTo>
                      <a:lnTo>
                        <a:pt x="310" y="1116"/>
                      </a:lnTo>
                      <a:lnTo>
                        <a:pt x="304" y="1116"/>
                      </a:lnTo>
                      <a:lnTo>
                        <a:pt x="304" y="1122"/>
                      </a:lnTo>
                      <a:lnTo>
                        <a:pt x="298" y="1122"/>
                      </a:lnTo>
                      <a:lnTo>
                        <a:pt x="292" y="1122"/>
                      </a:lnTo>
                      <a:lnTo>
                        <a:pt x="292" y="1116"/>
                      </a:lnTo>
                      <a:lnTo>
                        <a:pt x="286" y="1116"/>
                      </a:lnTo>
                      <a:lnTo>
                        <a:pt x="286" y="1110"/>
                      </a:lnTo>
                      <a:lnTo>
                        <a:pt x="286" y="1104"/>
                      </a:lnTo>
                      <a:lnTo>
                        <a:pt x="280" y="1104"/>
                      </a:lnTo>
                      <a:lnTo>
                        <a:pt x="280" y="1098"/>
                      </a:lnTo>
                      <a:lnTo>
                        <a:pt x="274" y="1098"/>
                      </a:lnTo>
                      <a:lnTo>
                        <a:pt x="268" y="1098"/>
                      </a:lnTo>
                      <a:lnTo>
                        <a:pt x="268" y="1104"/>
                      </a:lnTo>
                      <a:lnTo>
                        <a:pt x="262" y="1104"/>
                      </a:lnTo>
                      <a:lnTo>
                        <a:pt x="262" y="1110"/>
                      </a:lnTo>
                      <a:lnTo>
                        <a:pt x="256" y="1110"/>
                      </a:lnTo>
                      <a:lnTo>
                        <a:pt x="256" y="1116"/>
                      </a:lnTo>
                      <a:lnTo>
                        <a:pt x="250" y="1116"/>
                      </a:lnTo>
                      <a:lnTo>
                        <a:pt x="244" y="1116"/>
                      </a:lnTo>
                      <a:lnTo>
                        <a:pt x="238" y="1116"/>
                      </a:lnTo>
                      <a:lnTo>
                        <a:pt x="238" y="1122"/>
                      </a:lnTo>
                      <a:lnTo>
                        <a:pt x="232" y="1122"/>
                      </a:lnTo>
                      <a:lnTo>
                        <a:pt x="232" y="1128"/>
                      </a:lnTo>
                      <a:lnTo>
                        <a:pt x="232" y="1134"/>
                      </a:lnTo>
                      <a:lnTo>
                        <a:pt x="232" y="1140"/>
                      </a:lnTo>
                      <a:lnTo>
                        <a:pt x="226" y="1140"/>
                      </a:lnTo>
                      <a:lnTo>
                        <a:pt x="232" y="1146"/>
                      </a:lnTo>
                      <a:lnTo>
                        <a:pt x="226" y="1146"/>
                      </a:lnTo>
                      <a:lnTo>
                        <a:pt x="232" y="1146"/>
                      </a:lnTo>
                      <a:lnTo>
                        <a:pt x="226" y="1146"/>
                      </a:lnTo>
                      <a:lnTo>
                        <a:pt x="232" y="1146"/>
                      </a:lnTo>
                      <a:lnTo>
                        <a:pt x="226" y="1146"/>
                      </a:lnTo>
                      <a:lnTo>
                        <a:pt x="226" y="1152"/>
                      </a:lnTo>
                      <a:lnTo>
                        <a:pt x="226" y="1158"/>
                      </a:lnTo>
                      <a:lnTo>
                        <a:pt x="220" y="1158"/>
                      </a:lnTo>
                      <a:lnTo>
                        <a:pt x="220" y="1164"/>
                      </a:lnTo>
                      <a:lnTo>
                        <a:pt x="214" y="1164"/>
                      </a:lnTo>
                      <a:lnTo>
                        <a:pt x="214" y="1158"/>
                      </a:lnTo>
                      <a:lnTo>
                        <a:pt x="209" y="1158"/>
                      </a:lnTo>
                      <a:lnTo>
                        <a:pt x="209" y="1152"/>
                      </a:lnTo>
                      <a:lnTo>
                        <a:pt x="203" y="1146"/>
                      </a:lnTo>
                      <a:lnTo>
                        <a:pt x="197" y="1146"/>
                      </a:lnTo>
                      <a:lnTo>
                        <a:pt x="191" y="1146"/>
                      </a:lnTo>
                      <a:lnTo>
                        <a:pt x="185" y="1146"/>
                      </a:lnTo>
                      <a:lnTo>
                        <a:pt x="185" y="1140"/>
                      </a:lnTo>
                      <a:lnTo>
                        <a:pt x="179" y="1140"/>
                      </a:lnTo>
                      <a:lnTo>
                        <a:pt x="179" y="1134"/>
                      </a:lnTo>
                      <a:lnTo>
                        <a:pt x="173" y="1134"/>
                      </a:lnTo>
                      <a:lnTo>
                        <a:pt x="167" y="1134"/>
                      </a:lnTo>
                      <a:lnTo>
                        <a:pt x="167" y="1128"/>
                      </a:lnTo>
                      <a:lnTo>
                        <a:pt x="161" y="1128"/>
                      </a:lnTo>
                      <a:lnTo>
                        <a:pt x="155" y="1128"/>
                      </a:lnTo>
                      <a:lnTo>
                        <a:pt x="155" y="1122"/>
                      </a:lnTo>
                      <a:lnTo>
                        <a:pt x="149" y="1122"/>
                      </a:lnTo>
                      <a:lnTo>
                        <a:pt x="143" y="1122"/>
                      </a:lnTo>
                      <a:lnTo>
                        <a:pt x="143" y="1128"/>
                      </a:lnTo>
                      <a:lnTo>
                        <a:pt x="137" y="1128"/>
                      </a:lnTo>
                      <a:lnTo>
                        <a:pt x="131" y="1128"/>
                      </a:lnTo>
                      <a:lnTo>
                        <a:pt x="131" y="1134"/>
                      </a:lnTo>
                      <a:lnTo>
                        <a:pt x="125" y="1134"/>
                      </a:lnTo>
                      <a:lnTo>
                        <a:pt x="125" y="1128"/>
                      </a:lnTo>
                      <a:lnTo>
                        <a:pt x="119" y="1128"/>
                      </a:lnTo>
                      <a:lnTo>
                        <a:pt x="119" y="1122"/>
                      </a:lnTo>
                      <a:lnTo>
                        <a:pt x="113" y="1122"/>
                      </a:lnTo>
                      <a:lnTo>
                        <a:pt x="107" y="1122"/>
                      </a:lnTo>
                      <a:lnTo>
                        <a:pt x="107" y="1116"/>
                      </a:lnTo>
                      <a:lnTo>
                        <a:pt x="107" y="1122"/>
                      </a:lnTo>
                      <a:lnTo>
                        <a:pt x="107" y="1128"/>
                      </a:lnTo>
                      <a:lnTo>
                        <a:pt x="101" y="1128"/>
                      </a:lnTo>
                      <a:lnTo>
                        <a:pt x="101" y="1134"/>
                      </a:lnTo>
                      <a:lnTo>
                        <a:pt x="107" y="1134"/>
                      </a:lnTo>
                      <a:lnTo>
                        <a:pt x="107" y="1140"/>
                      </a:lnTo>
                      <a:lnTo>
                        <a:pt x="113" y="1140"/>
                      </a:lnTo>
                      <a:lnTo>
                        <a:pt x="113" y="1146"/>
                      </a:lnTo>
                      <a:lnTo>
                        <a:pt x="113" y="1152"/>
                      </a:lnTo>
                      <a:lnTo>
                        <a:pt x="113" y="1158"/>
                      </a:lnTo>
                      <a:lnTo>
                        <a:pt x="107" y="1158"/>
                      </a:lnTo>
                      <a:lnTo>
                        <a:pt x="101" y="1158"/>
                      </a:lnTo>
                      <a:lnTo>
                        <a:pt x="95" y="1158"/>
                      </a:lnTo>
                      <a:lnTo>
                        <a:pt x="95" y="1152"/>
                      </a:lnTo>
                      <a:lnTo>
                        <a:pt x="95" y="1146"/>
                      </a:lnTo>
                      <a:lnTo>
                        <a:pt x="95" y="1140"/>
                      </a:lnTo>
                      <a:lnTo>
                        <a:pt x="89" y="1140"/>
                      </a:lnTo>
                      <a:lnTo>
                        <a:pt x="83" y="1140"/>
                      </a:lnTo>
                      <a:lnTo>
                        <a:pt x="83" y="1146"/>
                      </a:lnTo>
                      <a:lnTo>
                        <a:pt x="77" y="1140"/>
                      </a:lnTo>
                      <a:lnTo>
                        <a:pt x="77" y="1146"/>
                      </a:lnTo>
                      <a:lnTo>
                        <a:pt x="71" y="1146"/>
                      </a:lnTo>
                      <a:lnTo>
                        <a:pt x="65" y="1146"/>
                      </a:lnTo>
                      <a:lnTo>
                        <a:pt x="65" y="1152"/>
                      </a:lnTo>
                      <a:lnTo>
                        <a:pt x="59" y="1152"/>
                      </a:lnTo>
                      <a:lnTo>
                        <a:pt x="59" y="1146"/>
                      </a:lnTo>
                      <a:lnTo>
                        <a:pt x="53" y="1146"/>
                      </a:lnTo>
                      <a:lnTo>
                        <a:pt x="53" y="1140"/>
                      </a:lnTo>
                      <a:lnTo>
                        <a:pt x="47" y="1140"/>
                      </a:lnTo>
                      <a:lnTo>
                        <a:pt x="41" y="1140"/>
                      </a:lnTo>
                      <a:lnTo>
                        <a:pt x="36" y="1140"/>
                      </a:lnTo>
                      <a:lnTo>
                        <a:pt x="36" y="1146"/>
                      </a:lnTo>
                      <a:lnTo>
                        <a:pt x="36" y="1152"/>
                      </a:lnTo>
                      <a:lnTo>
                        <a:pt x="41" y="1152"/>
                      </a:lnTo>
                      <a:lnTo>
                        <a:pt x="41" y="1158"/>
                      </a:lnTo>
                      <a:lnTo>
                        <a:pt x="41" y="1164"/>
                      </a:lnTo>
                      <a:lnTo>
                        <a:pt x="47" y="1164"/>
                      </a:lnTo>
                      <a:lnTo>
                        <a:pt x="41" y="1170"/>
                      </a:lnTo>
                      <a:lnTo>
                        <a:pt x="41" y="1176"/>
                      </a:lnTo>
                      <a:lnTo>
                        <a:pt x="36" y="1176"/>
                      </a:lnTo>
                      <a:lnTo>
                        <a:pt x="36" y="1182"/>
                      </a:lnTo>
                      <a:lnTo>
                        <a:pt x="30" y="1182"/>
                      </a:lnTo>
                      <a:lnTo>
                        <a:pt x="30" y="1176"/>
                      </a:lnTo>
                      <a:lnTo>
                        <a:pt x="24" y="1176"/>
                      </a:lnTo>
                      <a:lnTo>
                        <a:pt x="18" y="1176"/>
                      </a:lnTo>
                      <a:lnTo>
                        <a:pt x="18" y="1170"/>
                      </a:lnTo>
                      <a:lnTo>
                        <a:pt x="12" y="1170"/>
                      </a:lnTo>
                      <a:lnTo>
                        <a:pt x="6" y="1170"/>
                      </a:lnTo>
                      <a:lnTo>
                        <a:pt x="6" y="1164"/>
                      </a:lnTo>
                      <a:lnTo>
                        <a:pt x="12" y="1164"/>
                      </a:lnTo>
                      <a:lnTo>
                        <a:pt x="12" y="1170"/>
                      </a:lnTo>
                      <a:lnTo>
                        <a:pt x="18" y="1170"/>
                      </a:lnTo>
                      <a:lnTo>
                        <a:pt x="18" y="1164"/>
                      </a:lnTo>
                      <a:lnTo>
                        <a:pt x="12" y="1158"/>
                      </a:lnTo>
                      <a:lnTo>
                        <a:pt x="6" y="1158"/>
                      </a:lnTo>
                      <a:lnTo>
                        <a:pt x="6" y="1152"/>
                      </a:lnTo>
                      <a:lnTo>
                        <a:pt x="0" y="1152"/>
                      </a:lnTo>
                      <a:lnTo>
                        <a:pt x="0" y="1146"/>
                      </a:lnTo>
                      <a:lnTo>
                        <a:pt x="6" y="1146"/>
                      </a:lnTo>
                      <a:lnTo>
                        <a:pt x="12" y="1146"/>
                      </a:lnTo>
                      <a:lnTo>
                        <a:pt x="18" y="1146"/>
                      </a:lnTo>
                      <a:lnTo>
                        <a:pt x="18" y="1140"/>
                      </a:lnTo>
                      <a:lnTo>
                        <a:pt x="12" y="1140"/>
                      </a:lnTo>
                      <a:lnTo>
                        <a:pt x="6" y="1140"/>
                      </a:lnTo>
                      <a:lnTo>
                        <a:pt x="6" y="1134"/>
                      </a:lnTo>
                      <a:lnTo>
                        <a:pt x="6" y="1140"/>
                      </a:lnTo>
                      <a:lnTo>
                        <a:pt x="12" y="1140"/>
                      </a:lnTo>
                      <a:lnTo>
                        <a:pt x="12" y="1134"/>
                      </a:lnTo>
                      <a:lnTo>
                        <a:pt x="12" y="1128"/>
                      </a:lnTo>
                      <a:lnTo>
                        <a:pt x="18" y="1128"/>
                      </a:lnTo>
                      <a:lnTo>
                        <a:pt x="18" y="1122"/>
                      </a:lnTo>
                      <a:lnTo>
                        <a:pt x="18" y="1116"/>
                      </a:lnTo>
                      <a:lnTo>
                        <a:pt x="12" y="1116"/>
                      </a:lnTo>
                      <a:lnTo>
                        <a:pt x="18" y="1116"/>
                      </a:lnTo>
                      <a:lnTo>
                        <a:pt x="18" y="1110"/>
                      </a:lnTo>
                      <a:lnTo>
                        <a:pt x="12" y="1110"/>
                      </a:lnTo>
                      <a:lnTo>
                        <a:pt x="12" y="1104"/>
                      </a:lnTo>
                      <a:lnTo>
                        <a:pt x="18" y="1104"/>
                      </a:lnTo>
                      <a:lnTo>
                        <a:pt x="18" y="1098"/>
                      </a:lnTo>
                      <a:lnTo>
                        <a:pt x="24" y="1098"/>
                      </a:lnTo>
                      <a:lnTo>
                        <a:pt x="30" y="1092"/>
                      </a:lnTo>
                      <a:lnTo>
                        <a:pt x="24" y="1092"/>
                      </a:lnTo>
                      <a:lnTo>
                        <a:pt x="18" y="1092"/>
                      </a:lnTo>
                      <a:lnTo>
                        <a:pt x="12" y="1092"/>
                      </a:lnTo>
                      <a:lnTo>
                        <a:pt x="18" y="1092"/>
                      </a:lnTo>
                      <a:lnTo>
                        <a:pt x="18" y="1086"/>
                      </a:lnTo>
                      <a:lnTo>
                        <a:pt x="24" y="1086"/>
                      </a:lnTo>
                      <a:lnTo>
                        <a:pt x="24" y="1080"/>
                      </a:lnTo>
                      <a:lnTo>
                        <a:pt x="30" y="1080"/>
                      </a:lnTo>
                      <a:lnTo>
                        <a:pt x="30" y="1074"/>
                      </a:lnTo>
                      <a:lnTo>
                        <a:pt x="30" y="1068"/>
                      </a:lnTo>
                      <a:lnTo>
                        <a:pt x="24" y="1068"/>
                      </a:lnTo>
                      <a:lnTo>
                        <a:pt x="24" y="1062"/>
                      </a:lnTo>
                      <a:lnTo>
                        <a:pt x="18" y="1062"/>
                      </a:lnTo>
                      <a:lnTo>
                        <a:pt x="18" y="1056"/>
                      </a:lnTo>
                      <a:lnTo>
                        <a:pt x="18" y="1050"/>
                      </a:lnTo>
                      <a:lnTo>
                        <a:pt x="24" y="1050"/>
                      </a:lnTo>
                      <a:lnTo>
                        <a:pt x="24" y="1044"/>
                      </a:lnTo>
                      <a:lnTo>
                        <a:pt x="24" y="1038"/>
                      </a:lnTo>
                      <a:lnTo>
                        <a:pt x="30" y="1038"/>
                      </a:lnTo>
                      <a:lnTo>
                        <a:pt x="30" y="1032"/>
                      </a:lnTo>
                      <a:lnTo>
                        <a:pt x="36" y="1032"/>
                      </a:lnTo>
                      <a:lnTo>
                        <a:pt x="30" y="1038"/>
                      </a:lnTo>
                      <a:lnTo>
                        <a:pt x="36" y="1038"/>
                      </a:lnTo>
                      <a:lnTo>
                        <a:pt x="36" y="1032"/>
                      </a:lnTo>
                      <a:lnTo>
                        <a:pt x="41" y="1026"/>
                      </a:lnTo>
                      <a:lnTo>
                        <a:pt x="41" y="1032"/>
                      </a:lnTo>
                      <a:lnTo>
                        <a:pt x="41" y="1038"/>
                      </a:lnTo>
                      <a:lnTo>
                        <a:pt x="47" y="1038"/>
                      </a:lnTo>
                      <a:lnTo>
                        <a:pt x="47" y="1032"/>
                      </a:lnTo>
                      <a:lnTo>
                        <a:pt x="47" y="1026"/>
                      </a:lnTo>
                      <a:lnTo>
                        <a:pt x="47" y="1020"/>
                      </a:lnTo>
                      <a:lnTo>
                        <a:pt x="47" y="1015"/>
                      </a:lnTo>
                      <a:lnTo>
                        <a:pt x="53" y="1015"/>
                      </a:lnTo>
                      <a:lnTo>
                        <a:pt x="53" y="1009"/>
                      </a:lnTo>
                      <a:lnTo>
                        <a:pt x="59" y="1009"/>
                      </a:lnTo>
                      <a:lnTo>
                        <a:pt x="59" y="1003"/>
                      </a:lnTo>
                      <a:lnTo>
                        <a:pt x="65" y="1003"/>
                      </a:lnTo>
                      <a:lnTo>
                        <a:pt x="65" y="997"/>
                      </a:lnTo>
                      <a:lnTo>
                        <a:pt x="65" y="991"/>
                      </a:lnTo>
                      <a:lnTo>
                        <a:pt x="65" y="985"/>
                      </a:lnTo>
                      <a:lnTo>
                        <a:pt x="59" y="985"/>
                      </a:lnTo>
                      <a:lnTo>
                        <a:pt x="65" y="985"/>
                      </a:lnTo>
                      <a:lnTo>
                        <a:pt x="65" y="979"/>
                      </a:lnTo>
                      <a:lnTo>
                        <a:pt x="71" y="979"/>
                      </a:lnTo>
                      <a:lnTo>
                        <a:pt x="77" y="979"/>
                      </a:lnTo>
                      <a:lnTo>
                        <a:pt x="77" y="973"/>
                      </a:lnTo>
                      <a:lnTo>
                        <a:pt x="83" y="973"/>
                      </a:lnTo>
                      <a:lnTo>
                        <a:pt x="83" y="967"/>
                      </a:lnTo>
                      <a:lnTo>
                        <a:pt x="83" y="961"/>
                      </a:lnTo>
                      <a:lnTo>
                        <a:pt x="77" y="961"/>
                      </a:lnTo>
                      <a:lnTo>
                        <a:pt x="77" y="955"/>
                      </a:lnTo>
                      <a:lnTo>
                        <a:pt x="83" y="955"/>
                      </a:lnTo>
                      <a:lnTo>
                        <a:pt x="83" y="949"/>
                      </a:lnTo>
                      <a:lnTo>
                        <a:pt x="83" y="943"/>
                      </a:lnTo>
                      <a:lnTo>
                        <a:pt x="89" y="943"/>
                      </a:lnTo>
                      <a:lnTo>
                        <a:pt x="89" y="937"/>
                      </a:lnTo>
                      <a:lnTo>
                        <a:pt x="89" y="931"/>
                      </a:lnTo>
                      <a:lnTo>
                        <a:pt x="89" y="925"/>
                      </a:lnTo>
                      <a:lnTo>
                        <a:pt x="95" y="925"/>
                      </a:lnTo>
                      <a:lnTo>
                        <a:pt x="95" y="919"/>
                      </a:lnTo>
                      <a:lnTo>
                        <a:pt x="101" y="919"/>
                      </a:lnTo>
                      <a:lnTo>
                        <a:pt x="107" y="913"/>
                      </a:lnTo>
                      <a:lnTo>
                        <a:pt x="107" y="907"/>
                      </a:lnTo>
                      <a:lnTo>
                        <a:pt x="107" y="901"/>
                      </a:lnTo>
                      <a:lnTo>
                        <a:pt x="107" y="895"/>
                      </a:lnTo>
                      <a:lnTo>
                        <a:pt x="107" y="889"/>
                      </a:lnTo>
                      <a:lnTo>
                        <a:pt x="107" y="883"/>
                      </a:lnTo>
                      <a:lnTo>
                        <a:pt x="101" y="883"/>
                      </a:lnTo>
                      <a:lnTo>
                        <a:pt x="101" y="877"/>
                      </a:lnTo>
                      <a:lnTo>
                        <a:pt x="101" y="871"/>
                      </a:lnTo>
                      <a:lnTo>
                        <a:pt x="95" y="871"/>
                      </a:lnTo>
                      <a:lnTo>
                        <a:pt x="95" y="865"/>
                      </a:lnTo>
                      <a:lnTo>
                        <a:pt x="95" y="859"/>
                      </a:lnTo>
                      <a:lnTo>
                        <a:pt x="101" y="859"/>
                      </a:lnTo>
                      <a:lnTo>
                        <a:pt x="101" y="853"/>
                      </a:lnTo>
                      <a:lnTo>
                        <a:pt x="95" y="853"/>
                      </a:lnTo>
                      <a:lnTo>
                        <a:pt x="101" y="853"/>
                      </a:lnTo>
                      <a:lnTo>
                        <a:pt x="101" y="847"/>
                      </a:lnTo>
                      <a:lnTo>
                        <a:pt x="101" y="841"/>
                      </a:lnTo>
                      <a:lnTo>
                        <a:pt x="95" y="841"/>
                      </a:lnTo>
                      <a:lnTo>
                        <a:pt x="95" y="835"/>
                      </a:lnTo>
                      <a:lnTo>
                        <a:pt x="89" y="835"/>
                      </a:lnTo>
                      <a:lnTo>
                        <a:pt x="83" y="835"/>
                      </a:lnTo>
                      <a:lnTo>
                        <a:pt x="83" y="830"/>
                      </a:lnTo>
                      <a:lnTo>
                        <a:pt x="89" y="830"/>
                      </a:lnTo>
                      <a:lnTo>
                        <a:pt x="89" y="824"/>
                      </a:lnTo>
                      <a:lnTo>
                        <a:pt x="83" y="824"/>
                      </a:lnTo>
                      <a:lnTo>
                        <a:pt x="89" y="824"/>
                      </a:lnTo>
                      <a:lnTo>
                        <a:pt x="83" y="824"/>
                      </a:lnTo>
                      <a:lnTo>
                        <a:pt x="83" y="818"/>
                      </a:lnTo>
                      <a:lnTo>
                        <a:pt x="83" y="812"/>
                      </a:lnTo>
                      <a:lnTo>
                        <a:pt x="77" y="812"/>
                      </a:lnTo>
                      <a:lnTo>
                        <a:pt x="77" y="806"/>
                      </a:lnTo>
                      <a:lnTo>
                        <a:pt x="71" y="806"/>
                      </a:lnTo>
                      <a:lnTo>
                        <a:pt x="71" y="800"/>
                      </a:lnTo>
                      <a:lnTo>
                        <a:pt x="65" y="800"/>
                      </a:lnTo>
                      <a:lnTo>
                        <a:pt x="65" y="794"/>
                      </a:lnTo>
                      <a:lnTo>
                        <a:pt x="65" y="788"/>
                      </a:lnTo>
                      <a:lnTo>
                        <a:pt x="71" y="782"/>
                      </a:lnTo>
                      <a:lnTo>
                        <a:pt x="71" y="788"/>
                      </a:lnTo>
                      <a:lnTo>
                        <a:pt x="71" y="782"/>
                      </a:lnTo>
                      <a:lnTo>
                        <a:pt x="77" y="782"/>
                      </a:lnTo>
                      <a:lnTo>
                        <a:pt x="77" y="776"/>
                      </a:lnTo>
                      <a:lnTo>
                        <a:pt x="83" y="770"/>
                      </a:lnTo>
                      <a:lnTo>
                        <a:pt x="83" y="764"/>
                      </a:lnTo>
                      <a:lnTo>
                        <a:pt x="77" y="764"/>
                      </a:lnTo>
                      <a:lnTo>
                        <a:pt x="83" y="764"/>
                      </a:lnTo>
                      <a:lnTo>
                        <a:pt x="77" y="764"/>
                      </a:lnTo>
                      <a:lnTo>
                        <a:pt x="77" y="758"/>
                      </a:lnTo>
                      <a:lnTo>
                        <a:pt x="71" y="758"/>
                      </a:lnTo>
                      <a:lnTo>
                        <a:pt x="71" y="752"/>
                      </a:lnTo>
                      <a:lnTo>
                        <a:pt x="71" y="746"/>
                      </a:lnTo>
                      <a:lnTo>
                        <a:pt x="71" y="740"/>
                      </a:lnTo>
                      <a:lnTo>
                        <a:pt x="77" y="740"/>
                      </a:lnTo>
                      <a:lnTo>
                        <a:pt x="77" y="734"/>
                      </a:lnTo>
                      <a:lnTo>
                        <a:pt x="83" y="734"/>
                      </a:lnTo>
                      <a:lnTo>
                        <a:pt x="89" y="734"/>
                      </a:lnTo>
                      <a:lnTo>
                        <a:pt x="83" y="698"/>
                      </a:lnTo>
                      <a:lnTo>
                        <a:pt x="83" y="656"/>
                      </a:lnTo>
                      <a:lnTo>
                        <a:pt x="77" y="579"/>
                      </a:lnTo>
                      <a:lnTo>
                        <a:pt x="65" y="501"/>
                      </a:lnTo>
                      <a:lnTo>
                        <a:pt x="59" y="418"/>
                      </a:lnTo>
                      <a:lnTo>
                        <a:pt x="59" y="412"/>
                      </a:lnTo>
                      <a:lnTo>
                        <a:pt x="53" y="340"/>
                      </a:lnTo>
                      <a:lnTo>
                        <a:pt x="47" y="269"/>
                      </a:lnTo>
                      <a:lnTo>
                        <a:pt x="41" y="221"/>
                      </a:lnTo>
                      <a:lnTo>
                        <a:pt x="41" y="185"/>
                      </a:lnTo>
                      <a:lnTo>
                        <a:pt x="36" y="137"/>
                      </a:lnTo>
                      <a:lnTo>
                        <a:pt x="30" y="90"/>
                      </a:lnTo>
                      <a:lnTo>
                        <a:pt x="30" y="66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36" y="78"/>
                      </a:lnTo>
                      <a:lnTo>
                        <a:pt x="47" y="84"/>
                      </a:lnTo>
                      <a:lnTo>
                        <a:pt x="47" y="78"/>
                      </a:lnTo>
                      <a:lnTo>
                        <a:pt x="47" y="84"/>
                      </a:lnTo>
                      <a:lnTo>
                        <a:pt x="53" y="78"/>
                      </a:lnTo>
                      <a:lnTo>
                        <a:pt x="47" y="84"/>
                      </a:lnTo>
                      <a:lnTo>
                        <a:pt x="53" y="90"/>
                      </a:lnTo>
                      <a:lnTo>
                        <a:pt x="59" y="90"/>
                      </a:lnTo>
                      <a:lnTo>
                        <a:pt x="65" y="90"/>
                      </a:lnTo>
                      <a:lnTo>
                        <a:pt x="71" y="90"/>
                      </a:lnTo>
                      <a:lnTo>
                        <a:pt x="77" y="90"/>
                      </a:lnTo>
                      <a:lnTo>
                        <a:pt x="83" y="90"/>
                      </a:lnTo>
                      <a:lnTo>
                        <a:pt x="89" y="90"/>
                      </a:lnTo>
                      <a:lnTo>
                        <a:pt x="95" y="90"/>
                      </a:lnTo>
                      <a:lnTo>
                        <a:pt x="101" y="90"/>
                      </a:lnTo>
                      <a:lnTo>
                        <a:pt x="107" y="84"/>
                      </a:lnTo>
                      <a:lnTo>
                        <a:pt x="113" y="84"/>
                      </a:lnTo>
                      <a:lnTo>
                        <a:pt x="119" y="78"/>
                      </a:lnTo>
                      <a:lnTo>
                        <a:pt x="125" y="78"/>
                      </a:lnTo>
                      <a:lnTo>
                        <a:pt x="131" y="72"/>
                      </a:lnTo>
                      <a:lnTo>
                        <a:pt x="137" y="72"/>
                      </a:lnTo>
                      <a:lnTo>
                        <a:pt x="137" y="66"/>
                      </a:lnTo>
                      <a:lnTo>
                        <a:pt x="143" y="66"/>
                      </a:lnTo>
                      <a:lnTo>
                        <a:pt x="149" y="60"/>
                      </a:lnTo>
                      <a:lnTo>
                        <a:pt x="155" y="60"/>
                      </a:lnTo>
                      <a:lnTo>
                        <a:pt x="155" y="54"/>
                      </a:lnTo>
                      <a:lnTo>
                        <a:pt x="161" y="54"/>
                      </a:lnTo>
                      <a:lnTo>
                        <a:pt x="161" y="48"/>
                      </a:lnTo>
                      <a:lnTo>
                        <a:pt x="167" y="48"/>
                      </a:lnTo>
                      <a:lnTo>
                        <a:pt x="173" y="48"/>
                      </a:lnTo>
                      <a:lnTo>
                        <a:pt x="173" y="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162"/>
                <p:cNvSpPr/>
                <p:nvPr/>
              </p:nvSpPr>
              <p:spPr>
                <a:xfrm>
                  <a:off x="6440400" y="4263120"/>
                  <a:ext cx="990000" cy="962640"/>
                </a:xfrm>
                <a:custGeom>
                  <a:avLst/>
                  <a:gdLst>
                    <a:gd name="textAreaLeft" fmla="*/ 0 w 990000"/>
                    <a:gd name="textAreaRight" fmla="*/ 990360 w 990000"/>
                    <a:gd name="textAreaTop" fmla="*/ 0 h 962640"/>
                    <a:gd name="textAreaBottom" fmla="*/ 963000 h 962640"/>
                  </a:gdLst>
                  <a:ahLst/>
                  <a:rect l="textAreaLeft" t="textAreaTop" r="textAreaRight" b="textAreaBottom"/>
                  <a:pathLst>
                    <a:path w="990" h="991">
                      <a:moveTo>
                        <a:pt x="346" y="0"/>
                      </a:moveTo>
                      <a:lnTo>
                        <a:pt x="352" y="48"/>
                      </a:lnTo>
                      <a:lnTo>
                        <a:pt x="352" y="66"/>
                      </a:lnTo>
                      <a:lnTo>
                        <a:pt x="364" y="131"/>
                      </a:lnTo>
                      <a:lnTo>
                        <a:pt x="370" y="173"/>
                      </a:lnTo>
                      <a:lnTo>
                        <a:pt x="376" y="191"/>
                      </a:lnTo>
                      <a:lnTo>
                        <a:pt x="382" y="257"/>
                      </a:lnTo>
                      <a:lnTo>
                        <a:pt x="406" y="251"/>
                      </a:lnTo>
                      <a:lnTo>
                        <a:pt x="513" y="233"/>
                      </a:lnTo>
                      <a:lnTo>
                        <a:pt x="543" y="227"/>
                      </a:lnTo>
                      <a:lnTo>
                        <a:pt x="602" y="221"/>
                      </a:lnTo>
                      <a:lnTo>
                        <a:pt x="608" y="239"/>
                      </a:lnTo>
                      <a:lnTo>
                        <a:pt x="614" y="269"/>
                      </a:lnTo>
                      <a:lnTo>
                        <a:pt x="608" y="269"/>
                      </a:lnTo>
                      <a:lnTo>
                        <a:pt x="626" y="364"/>
                      </a:lnTo>
                      <a:lnTo>
                        <a:pt x="632" y="358"/>
                      </a:lnTo>
                      <a:lnTo>
                        <a:pt x="638" y="358"/>
                      </a:lnTo>
                      <a:lnTo>
                        <a:pt x="638" y="352"/>
                      </a:lnTo>
                      <a:lnTo>
                        <a:pt x="644" y="346"/>
                      </a:lnTo>
                      <a:lnTo>
                        <a:pt x="644" y="340"/>
                      </a:lnTo>
                      <a:lnTo>
                        <a:pt x="650" y="340"/>
                      </a:lnTo>
                      <a:lnTo>
                        <a:pt x="650" y="334"/>
                      </a:lnTo>
                      <a:lnTo>
                        <a:pt x="656" y="334"/>
                      </a:lnTo>
                      <a:lnTo>
                        <a:pt x="656" y="328"/>
                      </a:lnTo>
                      <a:lnTo>
                        <a:pt x="662" y="328"/>
                      </a:lnTo>
                      <a:lnTo>
                        <a:pt x="662" y="322"/>
                      </a:lnTo>
                      <a:lnTo>
                        <a:pt x="668" y="322"/>
                      </a:lnTo>
                      <a:lnTo>
                        <a:pt x="668" y="316"/>
                      </a:lnTo>
                      <a:lnTo>
                        <a:pt x="668" y="310"/>
                      </a:lnTo>
                      <a:lnTo>
                        <a:pt x="674" y="310"/>
                      </a:lnTo>
                      <a:lnTo>
                        <a:pt x="674" y="304"/>
                      </a:lnTo>
                      <a:lnTo>
                        <a:pt x="680" y="304"/>
                      </a:lnTo>
                      <a:lnTo>
                        <a:pt x="680" y="298"/>
                      </a:lnTo>
                      <a:lnTo>
                        <a:pt x="686" y="298"/>
                      </a:lnTo>
                      <a:lnTo>
                        <a:pt x="686" y="292"/>
                      </a:lnTo>
                      <a:lnTo>
                        <a:pt x="692" y="292"/>
                      </a:lnTo>
                      <a:lnTo>
                        <a:pt x="692" y="286"/>
                      </a:lnTo>
                      <a:lnTo>
                        <a:pt x="692" y="292"/>
                      </a:lnTo>
                      <a:lnTo>
                        <a:pt x="692" y="286"/>
                      </a:lnTo>
                      <a:lnTo>
                        <a:pt x="692" y="281"/>
                      </a:lnTo>
                      <a:lnTo>
                        <a:pt x="698" y="281"/>
                      </a:lnTo>
                      <a:lnTo>
                        <a:pt x="698" y="275"/>
                      </a:lnTo>
                      <a:lnTo>
                        <a:pt x="692" y="275"/>
                      </a:lnTo>
                      <a:lnTo>
                        <a:pt x="698" y="275"/>
                      </a:lnTo>
                      <a:lnTo>
                        <a:pt x="704" y="275"/>
                      </a:lnTo>
                      <a:lnTo>
                        <a:pt x="704" y="269"/>
                      </a:lnTo>
                      <a:lnTo>
                        <a:pt x="710" y="269"/>
                      </a:lnTo>
                      <a:lnTo>
                        <a:pt x="710" y="275"/>
                      </a:lnTo>
                      <a:lnTo>
                        <a:pt x="716" y="275"/>
                      </a:lnTo>
                      <a:lnTo>
                        <a:pt x="722" y="275"/>
                      </a:lnTo>
                      <a:lnTo>
                        <a:pt x="728" y="275"/>
                      </a:lnTo>
                      <a:lnTo>
                        <a:pt x="728" y="269"/>
                      </a:lnTo>
                      <a:lnTo>
                        <a:pt x="728" y="263"/>
                      </a:lnTo>
                      <a:lnTo>
                        <a:pt x="734" y="263"/>
                      </a:lnTo>
                      <a:lnTo>
                        <a:pt x="734" y="257"/>
                      </a:lnTo>
                      <a:lnTo>
                        <a:pt x="740" y="251"/>
                      </a:lnTo>
                      <a:lnTo>
                        <a:pt x="740" y="245"/>
                      </a:lnTo>
                      <a:lnTo>
                        <a:pt x="746" y="245"/>
                      </a:lnTo>
                      <a:lnTo>
                        <a:pt x="746" y="239"/>
                      </a:lnTo>
                      <a:lnTo>
                        <a:pt x="752" y="239"/>
                      </a:lnTo>
                      <a:lnTo>
                        <a:pt x="752" y="233"/>
                      </a:lnTo>
                      <a:lnTo>
                        <a:pt x="746" y="233"/>
                      </a:lnTo>
                      <a:lnTo>
                        <a:pt x="752" y="227"/>
                      </a:lnTo>
                      <a:lnTo>
                        <a:pt x="752" y="221"/>
                      </a:lnTo>
                      <a:lnTo>
                        <a:pt x="752" y="215"/>
                      </a:lnTo>
                      <a:lnTo>
                        <a:pt x="758" y="215"/>
                      </a:lnTo>
                      <a:lnTo>
                        <a:pt x="758" y="221"/>
                      </a:lnTo>
                      <a:lnTo>
                        <a:pt x="763" y="221"/>
                      </a:lnTo>
                      <a:lnTo>
                        <a:pt x="763" y="215"/>
                      </a:lnTo>
                      <a:lnTo>
                        <a:pt x="763" y="221"/>
                      </a:lnTo>
                      <a:lnTo>
                        <a:pt x="763" y="227"/>
                      </a:lnTo>
                      <a:lnTo>
                        <a:pt x="758" y="227"/>
                      </a:lnTo>
                      <a:lnTo>
                        <a:pt x="763" y="227"/>
                      </a:lnTo>
                      <a:lnTo>
                        <a:pt x="763" y="233"/>
                      </a:lnTo>
                      <a:lnTo>
                        <a:pt x="763" y="227"/>
                      </a:lnTo>
                      <a:lnTo>
                        <a:pt x="769" y="233"/>
                      </a:lnTo>
                      <a:lnTo>
                        <a:pt x="775" y="233"/>
                      </a:lnTo>
                      <a:lnTo>
                        <a:pt x="781" y="239"/>
                      </a:lnTo>
                      <a:lnTo>
                        <a:pt x="787" y="239"/>
                      </a:lnTo>
                      <a:lnTo>
                        <a:pt x="793" y="239"/>
                      </a:lnTo>
                      <a:lnTo>
                        <a:pt x="799" y="239"/>
                      </a:lnTo>
                      <a:lnTo>
                        <a:pt x="805" y="239"/>
                      </a:lnTo>
                      <a:lnTo>
                        <a:pt x="811" y="239"/>
                      </a:lnTo>
                      <a:lnTo>
                        <a:pt x="817" y="239"/>
                      </a:lnTo>
                      <a:lnTo>
                        <a:pt x="817" y="233"/>
                      </a:lnTo>
                      <a:lnTo>
                        <a:pt x="823" y="233"/>
                      </a:lnTo>
                      <a:lnTo>
                        <a:pt x="823" y="239"/>
                      </a:lnTo>
                      <a:lnTo>
                        <a:pt x="823" y="233"/>
                      </a:lnTo>
                      <a:lnTo>
                        <a:pt x="829" y="233"/>
                      </a:lnTo>
                      <a:lnTo>
                        <a:pt x="829" y="227"/>
                      </a:lnTo>
                      <a:lnTo>
                        <a:pt x="835" y="227"/>
                      </a:lnTo>
                      <a:lnTo>
                        <a:pt x="835" y="221"/>
                      </a:lnTo>
                      <a:lnTo>
                        <a:pt x="829" y="221"/>
                      </a:lnTo>
                      <a:lnTo>
                        <a:pt x="823" y="221"/>
                      </a:lnTo>
                      <a:lnTo>
                        <a:pt x="823" y="215"/>
                      </a:lnTo>
                      <a:lnTo>
                        <a:pt x="829" y="215"/>
                      </a:lnTo>
                      <a:lnTo>
                        <a:pt x="835" y="215"/>
                      </a:lnTo>
                      <a:lnTo>
                        <a:pt x="835" y="209"/>
                      </a:lnTo>
                      <a:lnTo>
                        <a:pt x="829" y="209"/>
                      </a:lnTo>
                      <a:lnTo>
                        <a:pt x="829" y="203"/>
                      </a:lnTo>
                      <a:lnTo>
                        <a:pt x="835" y="203"/>
                      </a:lnTo>
                      <a:lnTo>
                        <a:pt x="835" y="209"/>
                      </a:lnTo>
                      <a:lnTo>
                        <a:pt x="835" y="203"/>
                      </a:lnTo>
                      <a:lnTo>
                        <a:pt x="835" y="209"/>
                      </a:lnTo>
                      <a:lnTo>
                        <a:pt x="841" y="209"/>
                      </a:lnTo>
                      <a:lnTo>
                        <a:pt x="841" y="203"/>
                      </a:lnTo>
                      <a:lnTo>
                        <a:pt x="841" y="197"/>
                      </a:lnTo>
                      <a:lnTo>
                        <a:pt x="841" y="203"/>
                      </a:lnTo>
                      <a:lnTo>
                        <a:pt x="841" y="197"/>
                      </a:lnTo>
                      <a:lnTo>
                        <a:pt x="847" y="197"/>
                      </a:lnTo>
                      <a:lnTo>
                        <a:pt x="853" y="197"/>
                      </a:lnTo>
                      <a:lnTo>
                        <a:pt x="853" y="203"/>
                      </a:lnTo>
                      <a:lnTo>
                        <a:pt x="859" y="203"/>
                      </a:lnTo>
                      <a:lnTo>
                        <a:pt x="865" y="203"/>
                      </a:lnTo>
                      <a:lnTo>
                        <a:pt x="865" y="197"/>
                      </a:lnTo>
                      <a:lnTo>
                        <a:pt x="865" y="191"/>
                      </a:lnTo>
                      <a:lnTo>
                        <a:pt x="871" y="191"/>
                      </a:lnTo>
                      <a:lnTo>
                        <a:pt x="871" y="185"/>
                      </a:lnTo>
                      <a:lnTo>
                        <a:pt x="865" y="185"/>
                      </a:lnTo>
                      <a:lnTo>
                        <a:pt x="871" y="185"/>
                      </a:lnTo>
                      <a:lnTo>
                        <a:pt x="871" y="179"/>
                      </a:lnTo>
                      <a:lnTo>
                        <a:pt x="877" y="179"/>
                      </a:lnTo>
                      <a:lnTo>
                        <a:pt x="877" y="173"/>
                      </a:lnTo>
                      <a:lnTo>
                        <a:pt x="883" y="173"/>
                      </a:lnTo>
                      <a:lnTo>
                        <a:pt x="883" y="179"/>
                      </a:lnTo>
                      <a:lnTo>
                        <a:pt x="889" y="179"/>
                      </a:lnTo>
                      <a:lnTo>
                        <a:pt x="895" y="179"/>
                      </a:lnTo>
                      <a:lnTo>
                        <a:pt x="901" y="179"/>
                      </a:lnTo>
                      <a:lnTo>
                        <a:pt x="907" y="185"/>
                      </a:lnTo>
                      <a:lnTo>
                        <a:pt x="913" y="185"/>
                      </a:lnTo>
                      <a:lnTo>
                        <a:pt x="913" y="191"/>
                      </a:lnTo>
                      <a:lnTo>
                        <a:pt x="919" y="191"/>
                      </a:lnTo>
                      <a:lnTo>
                        <a:pt x="919" y="197"/>
                      </a:lnTo>
                      <a:lnTo>
                        <a:pt x="925" y="197"/>
                      </a:lnTo>
                      <a:lnTo>
                        <a:pt x="925" y="191"/>
                      </a:lnTo>
                      <a:lnTo>
                        <a:pt x="931" y="191"/>
                      </a:lnTo>
                      <a:lnTo>
                        <a:pt x="931" y="197"/>
                      </a:lnTo>
                      <a:lnTo>
                        <a:pt x="936" y="197"/>
                      </a:lnTo>
                      <a:lnTo>
                        <a:pt x="936" y="191"/>
                      </a:lnTo>
                      <a:lnTo>
                        <a:pt x="931" y="191"/>
                      </a:lnTo>
                      <a:lnTo>
                        <a:pt x="931" y="185"/>
                      </a:lnTo>
                      <a:lnTo>
                        <a:pt x="936" y="191"/>
                      </a:lnTo>
                      <a:lnTo>
                        <a:pt x="942" y="191"/>
                      </a:lnTo>
                      <a:lnTo>
                        <a:pt x="942" y="185"/>
                      </a:lnTo>
                      <a:lnTo>
                        <a:pt x="948" y="185"/>
                      </a:lnTo>
                      <a:lnTo>
                        <a:pt x="948" y="191"/>
                      </a:lnTo>
                      <a:lnTo>
                        <a:pt x="948" y="185"/>
                      </a:lnTo>
                      <a:lnTo>
                        <a:pt x="954" y="185"/>
                      </a:lnTo>
                      <a:lnTo>
                        <a:pt x="954" y="191"/>
                      </a:lnTo>
                      <a:lnTo>
                        <a:pt x="954" y="197"/>
                      </a:lnTo>
                      <a:lnTo>
                        <a:pt x="948" y="197"/>
                      </a:lnTo>
                      <a:lnTo>
                        <a:pt x="942" y="203"/>
                      </a:lnTo>
                      <a:lnTo>
                        <a:pt x="948" y="203"/>
                      </a:lnTo>
                      <a:lnTo>
                        <a:pt x="948" y="209"/>
                      </a:lnTo>
                      <a:lnTo>
                        <a:pt x="954" y="215"/>
                      </a:lnTo>
                      <a:lnTo>
                        <a:pt x="954" y="209"/>
                      </a:lnTo>
                      <a:lnTo>
                        <a:pt x="960" y="209"/>
                      </a:lnTo>
                      <a:lnTo>
                        <a:pt x="960" y="215"/>
                      </a:lnTo>
                      <a:lnTo>
                        <a:pt x="954" y="215"/>
                      </a:lnTo>
                      <a:lnTo>
                        <a:pt x="960" y="215"/>
                      </a:lnTo>
                      <a:lnTo>
                        <a:pt x="966" y="215"/>
                      </a:lnTo>
                      <a:lnTo>
                        <a:pt x="972" y="215"/>
                      </a:lnTo>
                      <a:lnTo>
                        <a:pt x="972" y="221"/>
                      </a:lnTo>
                      <a:lnTo>
                        <a:pt x="966" y="221"/>
                      </a:lnTo>
                      <a:lnTo>
                        <a:pt x="972" y="221"/>
                      </a:lnTo>
                      <a:lnTo>
                        <a:pt x="972" y="227"/>
                      </a:lnTo>
                      <a:lnTo>
                        <a:pt x="966" y="227"/>
                      </a:lnTo>
                      <a:lnTo>
                        <a:pt x="972" y="227"/>
                      </a:lnTo>
                      <a:lnTo>
                        <a:pt x="966" y="233"/>
                      </a:lnTo>
                      <a:lnTo>
                        <a:pt x="972" y="233"/>
                      </a:lnTo>
                      <a:lnTo>
                        <a:pt x="978" y="233"/>
                      </a:lnTo>
                      <a:lnTo>
                        <a:pt x="984" y="233"/>
                      </a:lnTo>
                      <a:lnTo>
                        <a:pt x="984" y="239"/>
                      </a:lnTo>
                      <a:lnTo>
                        <a:pt x="984" y="245"/>
                      </a:lnTo>
                      <a:lnTo>
                        <a:pt x="984" y="251"/>
                      </a:lnTo>
                      <a:lnTo>
                        <a:pt x="984" y="257"/>
                      </a:lnTo>
                      <a:lnTo>
                        <a:pt x="984" y="263"/>
                      </a:lnTo>
                      <a:lnTo>
                        <a:pt x="990" y="263"/>
                      </a:lnTo>
                      <a:lnTo>
                        <a:pt x="990" y="269"/>
                      </a:lnTo>
                      <a:lnTo>
                        <a:pt x="984" y="275"/>
                      </a:lnTo>
                      <a:lnTo>
                        <a:pt x="984" y="281"/>
                      </a:lnTo>
                      <a:lnTo>
                        <a:pt x="990" y="281"/>
                      </a:lnTo>
                      <a:lnTo>
                        <a:pt x="984" y="286"/>
                      </a:lnTo>
                      <a:lnTo>
                        <a:pt x="984" y="292"/>
                      </a:lnTo>
                      <a:lnTo>
                        <a:pt x="984" y="298"/>
                      </a:lnTo>
                      <a:lnTo>
                        <a:pt x="984" y="304"/>
                      </a:lnTo>
                      <a:lnTo>
                        <a:pt x="984" y="310"/>
                      </a:lnTo>
                      <a:lnTo>
                        <a:pt x="984" y="316"/>
                      </a:lnTo>
                      <a:lnTo>
                        <a:pt x="978" y="316"/>
                      </a:lnTo>
                      <a:lnTo>
                        <a:pt x="931" y="286"/>
                      </a:lnTo>
                      <a:lnTo>
                        <a:pt x="883" y="263"/>
                      </a:lnTo>
                      <a:lnTo>
                        <a:pt x="877" y="257"/>
                      </a:lnTo>
                      <a:lnTo>
                        <a:pt x="871" y="257"/>
                      </a:lnTo>
                      <a:lnTo>
                        <a:pt x="871" y="251"/>
                      </a:lnTo>
                      <a:lnTo>
                        <a:pt x="865" y="251"/>
                      </a:lnTo>
                      <a:lnTo>
                        <a:pt x="859" y="251"/>
                      </a:lnTo>
                      <a:lnTo>
                        <a:pt x="853" y="251"/>
                      </a:lnTo>
                      <a:lnTo>
                        <a:pt x="853" y="257"/>
                      </a:lnTo>
                      <a:lnTo>
                        <a:pt x="853" y="263"/>
                      </a:lnTo>
                      <a:lnTo>
                        <a:pt x="859" y="263"/>
                      </a:lnTo>
                      <a:lnTo>
                        <a:pt x="859" y="269"/>
                      </a:lnTo>
                      <a:lnTo>
                        <a:pt x="859" y="275"/>
                      </a:lnTo>
                      <a:lnTo>
                        <a:pt x="853" y="275"/>
                      </a:lnTo>
                      <a:lnTo>
                        <a:pt x="859" y="275"/>
                      </a:lnTo>
                      <a:lnTo>
                        <a:pt x="859" y="281"/>
                      </a:lnTo>
                      <a:lnTo>
                        <a:pt x="859" y="286"/>
                      </a:lnTo>
                      <a:lnTo>
                        <a:pt x="859" y="292"/>
                      </a:lnTo>
                      <a:lnTo>
                        <a:pt x="853" y="292"/>
                      </a:lnTo>
                      <a:lnTo>
                        <a:pt x="853" y="298"/>
                      </a:lnTo>
                      <a:lnTo>
                        <a:pt x="853" y="304"/>
                      </a:lnTo>
                      <a:lnTo>
                        <a:pt x="853" y="310"/>
                      </a:lnTo>
                      <a:lnTo>
                        <a:pt x="853" y="316"/>
                      </a:lnTo>
                      <a:lnTo>
                        <a:pt x="853" y="322"/>
                      </a:lnTo>
                      <a:lnTo>
                        <a:pt x="853" y="328"/>
                      </a:lnTo>
                      <a:lnTo>
                        <a:pt x="859" y="328"/>
                      </a:lnTo>
                      <a:lnTo>
                        <a:pt x="859" y="334"/>
                      </a:lnTo>
                      <a:lnTo>
                        <a:pt x="853" y="334"/>
                      </a:lnTo>
                      <a:lnTo>
                        <a:pt x="853" y="340"/>
                      </a:lnTo>
                      <a:lnTo>
                        <a:pt x="853" y="346"/>
                      </a:lnTo>
                      <a:lnTo>
                        <a:pt x="847" y="346"/>
                      </a:lnTo>
                      <a:lnTo>
                        <a:pt x="841" y="346"/>
                      </a:lnTo>
                      <a:lnTo>
                        <a:pt x="841" y="352"/>
                      </a:lnTo>
                      <a:lnTo>
                        <a:pt x="841" y="358"/>
                      </a:lnTo>
                      <a:lnTo>
                        <a:pt x="835" y="358"/>
                      </a:lnTo>
                      <a:lnTo>
                        <a:pt x="835" y="364"/>
                      </a:lnTo>
                      <a:lnTo>
                        <a:pt x="835" y="370"/>
                      </a:lnTo>
                      <a:lnTo>
                        <a:pt x="829" y="370"/>
                      </a:lnTo>
                      <a:lnTo>
                        <a:pt x="829" y="376"/>
                      </a:lnTo>
                      <a:lnTo>
                        <a:pt x="835" y="376"/>
                      </a:lnTo>
                      <a:lnTo>
                        <a:pt x="835" y="382"/>
                      </a:lnTo>
                      <a:lnTo>
                        <a:pt x="829" y="382"/>
                      </a:lnTo>
                      <a:lnTo>
                        <a:pt x="829" y="388"/>
                      </a:lnTo>
                      <a:lnTo>
                        <a:pt x="829" y="394"/>
                      </a:lnTo>
                      <a:lnTo>
                        <a:pt x="823" y="394"/>
                      </a:lnTo>
                      <a:lnTo>
                        <a:pt x="823" y="388"/>
                      </a:lnTo>
                      <a:lnTo>
                        <a:pt x="817" y="394"/>
                      </a:lnTo>
                      <a:lnTo>
                        <a:pt x="817" y="400"/>
                      </a:lnTo>
                      <a:lnTo>
                        <a:pt x="817" y="406"/>
                      </a:lnTo>
                      <a:lnTo>
                        <a:pt x="811" y="406"/>
                      </a:lnTo>
                      <a:lnTo>
                        <a:pt x="811" y="412"/>
                      </a:lnTo>
                      <a:lnTo>
                        <a:pt x="805" y="412"/>
                      </a:lnTo>
                      <a:lnTo>
                        <a:pt x="805" y="418"/>
                      </a:lnTo>
                      <a:lnTo>
                        <a:pt x="805" y="412"/>
                      </a:lnTo>
                      <a:lnTo>
                        <a:pt x="799" y="406"/>
                      </a:lnTo>
                      <a:lnTo>
                        <a:pt x="799" y="412"/>
                      </a:lnTo>
                      <a:lnTo>
                        <a:pt x="799" y="418"/>
                      </a:lnTo>
                      <a:lnTo>
                        <a:pt x="793" y="418"/>
                      </a:lnTo>
                      <a:lnTo>
                        <a:pt x="793" y="424"/>
                      </a:lnTo>
                      <a:lnTo>
                        <a:pt x="787" y="424"/>
                      </a:lnTo>
                      <a:lnTo>
                        <a:pt x="787" y="430"/>
                      </a:lnTo>
                      <a:lnTo>
                        <a:pt x="787" y="436"/>
                      </a:lnTo>
                      <a:lnTo>
                        <a:pt x="787" y="442"/>
                      </a:lnTo>
                      <a:lnTo>
                        <a:pt x="781" y="448"/>
                      </a:lnTo>
                      <a:lnTo>
                        <a:pt x="781" y="454"/>
                      </a:lnTo>
                      <a:lnTo>
                        <a:pt x="781" y="460"/>
                      </a:lnTo>
                      <a:lnTo>
                        <a:pt x="775" y="460"/>
                      </a:lnTo>
                      <a:lnTo>
                        <a:pt x="775" y="454"/>
                      </a:lnTo>
                      <a:lnTo>
                        <a:pt x="769" y="454"/>
                      </a:lnTo>
                      <a:lnTo>
                        <a:pt x="763" y="454"/>
                      </a:lnTo>
                      <a:lnTo>
                        <a:pt x="763" y="448"/>
                      </a:lnTo>
                      <a:lnTo>
                        <a:pt x="758" y="448"/>
                      </a:lnTo>
                      <a:lnTo>
                        <a:pt x="752" y="442"/>
                      </a:lnTo>
                      <a:lnTo>
                        <a:pt x="752" y="448"/>
                      </a:lnTo>
                      <a:lnTo>
                        <a:pt x="746" y="448"/>
                      </a:lnTo>
                      <a:lnTo>
                        <a:pt x="746" y="454"/>
                      </a:lnTo>
                      <a:lnTo>
                        <a:pt x="740" y="460"/>
                      </a:lnTo>
                      <a:lnTo>
                        <a:pt x="740" y="466"/>
                      </a:lnTo>
                      <a:lnTo>
                        <a:pt x="740" y="471"/>
                      </a:lnTo>
                      <a:lnTo>
                        <a:pt x="740" y="477"/>
                      </a:lnTo>
                      <a:lnTo>
                        <a:pt x="734" y="477"/>
                      </a:lnTo>
                      <a:lnTo>
                        <a:pt x="740" y="483"/>
                      </a:lnTo>
                      <a:lnTo>
                        <a:pt x="734" y="483"/>
                      </a:lnTo>
                      <a:lnTo>
                        <a:pt x="740" y="483"/>
                      </a:lnTo>
                      <a:lnTo>
                        <a:pt x="740" y="489"/>
                      </a:lnTo>
                      <a:lnTo>
                        <a:pt x="740" y="495"/>
                      </a:lnTo>
                      <a:lnTo>
                        <a:pt x="734" y="501"/>
                      </a:lnTo>
                      <a:lnTo>
                        <a:pt x="734" y="495"/>
                      </a:lnTo>
                      <a:lnTo>
                        <a:pt x="728" y="501"/>
                      </a:lnTo>
                      <a:lnTo>
                        <a:pt x="728" y="507"/>
                      </a:lnTo>
                      <a:lnTo>
                        <a:pt x="728" y="513"/>
                      </a:lnTo>
                      <a:lnTo>
                        <a:pt x="728" y="519"/>
                      </a:lnTo>
                      <a:lnTo>
                        <a:pt x="728" y="525"/>
                      </a:lnTo>
                      <a:lnTo>
                        <a:pt x="722" y="525"/>
                      </a:lnTo>
                      <a:lnTo>
                        <a:pt x="722" y="531"/>
                      </a:lnTo>
                      <a:lnTo>
                        <a:pt x="722" y="537"/>
                      </a:lnTo>
                      <a:lnTo>
                        <a:pt x="722" y="543"/>
                      </a:lnTo>
                      <a:lnTo>
                        <a:pt x="722" y="549"/>
                      </a:lnTo>
                      <a:lnTo>
                        <a:pt x="716" y="549"/>
                      </a:lnTo>
                      <a:lnTo>
                        <a:pt x="716" y="555"/>
                      </a:lnTo>
                      <a:lnTo>
                        <a:pt x="716" y="561"/>
                      </a:lnTo>
                      <a:lnTo>
                        <a:pt x="710" y="561"/>
                      </a:lnTo>
                      <a:lnTo>
                        <a:pt x="710" y="567"/>
                      </a:lnTo>
                      <a:lnTo>
                        <a:pt x="704" y="573"/>
                      </a:lnTo>
                      <a:lnTo>
                        <a:pt x="662" y="567"/>
                      </a:lnTo>
                      <a:lnTo>
                        <a:pt x="656" y="555"/>
                      </a:lnTo>
                      <a:lnTo>
                        <a:pt x="656" y="549"/>
                      </a:lnTo>
                      <a:lnTo>
                        <a:pt x="650" y="543"/>
                      </a:lnTo>
                      <a:lnTo>
                        <a:pt x="644" y="543"/>
                      </a:lnTo>
                      <a:lnTo>
                        <a:pt x="638" y="543"/>
                      </a:lnTo>
                      <a:lnTo>
                        <a:pt x="632" y="543"/>
                      </a:lnTo>
                      <a:lnTo>
                        <a:pt x="632" y="537"/>
                      </a:lnTo>
                      <a:lnTo>
                        <a:pt x="626" y="537"/>
                      </a:lnTo>
                      <a:lnTo>
                        <a:pt x="620" y="537"/>
                      </a:lnTo>
                      <a:lnTo>
                        <a:pt x="620" y="543"/>
                      </a:lnTo>
                      <a:lnTo>
                        <a:pt x="620" y="549"/>
                      </a:lnTo>
                      <a:lnTo>
                        <a:pt x="620" y="555"/>
                      </a:lnTo>
                      <a:lnTo>
                        <a:pt x="620" y="561"/>
                      </a:lnTo>
                      <a:lnTo>
                        <a:pt x="620" y="567"/>
                      </a:lnTo>
                      <a:lnTo>
                        <a:pt x="620" y="573"/>
                      </a:lnTo>
                      <a:lnTo>
                        <a:pt x="620" y="579"/>
                      </a:lnTo>
                      <a:lnTo>
                        <a:pt x="620" y="585"/>
                      </a:lnTo>
                      <a:lnTo>
                        <a:pt x="620" y="591"/>
                      </a:lnTo>
                      <a:lnTo>
                        <a:pt x="614" y="591"/>
                      </a:lnTo>
                      <a:lnTo>
                        <a:pt x="614" y="597"/>
                      </a:lnTo>
                      <a:lnTo>
                        <a:pt x="614" y="603"/>
                      </a:lnTo>
                      <a:lnTo>
                        <a:pt x="614" y="609"/>
                      </a:lnTo>
                      <a:lnTo>
                        <a:pt x="608" y="609"/>
                      </a:lnTo>
                      <a:lnTo>
                        <a:pt x="608" y="615"/>
                      </a:lnTo>
                      <a:lnTo>
                        <a:pt x="602" y="615"/>
                      </a:lnTo>
                      <a:lnTo>
                        <a:pt x="602" y="621"/>
                      </a:lnTo>
                      <a:lnTo>
                        <a:pt x="602" y="627"/>
                      </a:lnTo>
                      <a:lnTo>
                        <a:pt x="608" y="627"/>
                      </a:lnTo>
                      <a:lnTo>
                        <a:pt x="608" y="633"/>
                      </a:lnTo>
                      <a:lnTo>
                        <a:pt x="602" y="633"/>
                      </a:lnTo>
                      <a:lnTo>
                        <a:pt x="602" y="639"/>
                      </a:lnTo>
                      <a:lnTo>
                        <a:pt x="596" y="639"/>
                      </a:lnTo>
                      <a:lnTo>
                        <a:pt x="596" y="645"/>
                      </a:lnTo>
                      <a:lnTo>
                        <a:pt x="596" y="650"/>
                      </a:lnTo>
                      <a:lnTo>
                        <a:pt x="590" y="650"/>
                      </a:lnTo>
                      <a:lnTo>
                        <a:pt x="590" y="656"/>
                      </a:lnTo>
                      <a:lnTo>
                        <a:pt x="585" y="656"/>
                      </a:lnTo>
                      <a:lnTo>
                        <a:pt x="585" y="662"/>
                      </a:lnTo>
                      <a:lnTo>
                        <a:pt x="585" y="668"/>
                      </a:lnTo>
                      <a:lnTo>
                        <a:pt x="585" y="674"/>
                      </a:lnTo>
                      <a:lnTo>
                        <a:pt x="585" y="680"/>
                      </a:lnTo>
                      <a:lnTo>
                        <a:pt x="585" y="686"/>
                      </a:lnTo>
                      <a:lnTo>
                        <a:pt x="585" y="692"/>
                      </a:lnTo>
                      <a:lnTo>
                        <a:pt x="579" y="692"/>
                      </a:lnTo>
                      <a:lnTo>
                        <a:pt x="585" y="698"/>
                      </a:lnTo>
                      <a:lnTo>
                        <a:pt x="579" y="698"/>
                      </a:lnTo>
                      <a:lnTo>
                        <a:pt x="579" y="704"/>
                      </a:lnTo>
                      <a:lnTo>
                        <a:pt x="579" y="710"/>
                      </a:lnTo>
                      <a:lnTo>
                        <a:pt x="579" y="716"/>
                      </a:lnTo>
                      <a:lnTo>
                        <a:pt x="573" y="716"/>
                      </a:lnTo>
                      <a:lnTo>
                        <a:pt x="573" y="722"/>
                      </a:lnTo>
                      <a:lnTo>
                        <a:pt x="567" y="728"/>
                      </a:lnTo>
                      <a:lnTo>
                        <a:pt x="561" y="734"/>
                      </a:lnTo>
                      <a:lnTo>
                        <a:pt x="555" y="740"/>
                      </a:lnTo>
                      <a:lnTo>
                        <a:pt x="555" y="746"/>
                      </a:lnTo>
                      <a:lnTo>
                        <a:pt x="555" y="752"/>
                      </a:lnTo>
                      <a:lnTo>
                        <a:pt x="549" y="752"/>
                      </a:lnTo>
                      <a:lnTo>
                        <a:pt x="549" y="758"/>
                      </a:lnTo>
                      <a:lnTo>
                        <a:pt x="543" y="758"/>
                      </a:lnTo>
                      <a:lnTo>
                        <a:pt x="543" y="764"/>
                      </a:lnTo>
                      <a:lnTo>
                        <a:pt x="549" y="764"/>
                      </a:lnTo>
                      <a:lnTo>
                        <a:pt x="543" y="764"/>
                      </a:lnTo>
                      <a:lnTo>
                        <a:pt x="543" y="770"/>
                      </a:lnTo>
                      <a:lnTo>
                        <a:pt x="537" y="770"/>
                      </a:lnTo>
                      <a:lnTo>
                        <a:pt x="537" y="776"/>
                      </a:lnTo>
                      <a:lnTo>
                        <a:pt x="537" y="782"/>
                      </a:lnTo>
                      <a:lnTo>
                        <a:pt x="537" y="788"/>
                      </a:lnTo>
                      <a:lnTo>
                        <a:pt x="531" y="788"/>
                      </a:lnTo>
                      <a:lnTo>
                        <a:pt x="531" y="794"/>
                      </a:lnTo>
                      <a:lnTo>
                        <a:pt x="537" y="794"/>
                      </a:lnTo>
                      <a:lnTo>
                        <a:pt x="537" y="800"/>
                      </a:lnTo>
                      <a:lnTo>
                        <a:pt x="531" y="800"/>
                      </a:lnTo>
                      <a:lnTo>
                        <a:pt x="531" y="806"/>
                      </a:lnTo>
                      <a:lnTo>
                        <a:pt x="531" y="812"/>
                      </a:lnTo>
                      <a:lnTo>
                        <a:pt x="525" y="812"/>
                      </a:lnTo>
                      <a:lnTo>
                        <a:pt x="525" y="818"/>
                      </a:lnTo>
                      <a:lnTo>
                        <a:pt x="525" y="824"/>
                      </a:lnTo>
                      <a:lnTo>
                        <a:pt x="531" y="824"/>
                      </a:lnTo>
                      <a:lnTo>
                        <a:pt x="537" y="824"/>
                      </a:lnTo>
                      <a:lnTo>
                        <a:pt x="543" y="824"/>
                      </a:lnTo>
                      <a:lnTo>
                        <a:pt x="549" y="824"/>
                      </a:lnTo>
                      <a:lnTo>
                        <a:pt x="543" y="830"/>
                      </a:lnTo>
                      <a:lnTo>
                        <a:pt x="543" y="835"/>
                      </a:lnTo>
                      <a:lnTo>
                        <a:pt x="537" y="835"/>
                      </a:lnTo>
                      <a:lnTo>
                        <a:pt x="537" y="841"/>
                      </a:lnTo>
                      <a:lnTo>
                        <a:pt x="531" y="841"/>
                      </a:lnTo>
                      <a:lnTo>
                        <a:pt x="525" y="847"/>
                      </a:lnTo>
                      <a:lnTo>
                        <a:pt x="531" y="847"/>
                      </a:lnTo>
                      <a:lnTo>
                        <a:pt x="531" y="853"/>
                      </a:lnTo>
                      <a:lnTo>
                        <a:pt x="525" y="853"/>
                      </a:lnTo>
                      <a:lnTo>
                        <a:pt x="531" y="853"/>
                      </a:lnTo>
                      <a:lnTo>
                        <a:pt x="537" y="853"/>
                      </a:lnTo>
                      <a:lnTo>
                        <a:pt x="537" y="859"/>
                      </a:lnTo>
                      <a:lnTo>
                        <a:pt x="531" y="859"/>
                      </a:lnTo>
                      <a:lnTo>
                        <a:pt x="531" y="865"/>
                      </a:lnTo>
                      <a:lnTo>
                        <a:pt x="525" y="865"/>
                      </a:lnTo>
                      <a:lnTo>
                        <a:pt x="525" y="871"/>
                      </a:lnTo>
                      <a:lnTo>
                        <a:pt x="519" y="871"/>
                      </a:lnTo>
                      <a:lnTo>
                        <a:pt x="519" y="877"/>
                      </a:lnTo>
                      <a:lnTo>
                        <a:pt x="513" y="877"/>
                      </a:lnTo>
                      <a:lnTo>
                        <a:pt x="513" y="883"/>
                      </a:lnTo>
                      <a:lnTo>
                        <a:pt x="507" y="883"/>
                      </a:lnTo>
                      <a:lnTo>
                        <a:pt x="513" y="883"/>
                      </a:lnTo>
                      <a:lnTo>
                        <a:pt x="507" y="883"/>
                      </a:lnTo>
                      <a:lnTo>
                        <a:pt x="507" y="889"/>
                      </a:lnTo>
                      <a:lnTo>
                        <a:pt x="501" y="889"/>
                      </a:lnTo>
                      <a:lnTo>
                        <a:pt x="495" y="889"/>
                      </a:lnTo>
                      <a:lnTo>
                        <a:pt x="495" y="883"/>
                      </a:lnTo>
                      <a:lnTo>
                        <a:pt x="495" y="877"/>
                      </a:lnTo>
                      <a:lnTo>
                        <a:pt x="489" y="877"/>
                      </a:lnTo>
                      <a:lnTo>
                        <a:pt x="483" y="877"/>
                      </a:lnTo>
                      <a:lnTo>
                        <a:pt x="483" y="883"/>
                      </a:lnTo>
                      <a:lnTo>
                        <a:pt x="477" y="883"/>
                      </a:lnTo>
                      <a:lnTo>
                        <a:pt x="477" y="889"/>
                      </a:lnTo>
                      <a:lnTo>
                        <a:pt x="471" y="889"/>
                      </a:lnTo>
                      <a:lnTo>
                        <a:pt x="471" y="895"/>
                      </a:lnTo>
                      <a:lnTo>
                        <a:pt x="465" y="895"/>
                      </a:lnTo>
                      <a:lnTo>
                        <a:pt x="459" y="901"/>
                      </a:lnTo>
                      <a:lnTo>
                        <a:pt x="453" y="907"/>
                      </a:lnTo>
                      <a:lnTo>
                        <a:pt x="447" y="907"/>
                      </a:lnTo>
                      <a:lnTo>
                        <a:pt x="441" y="907"/>
                      </a:lnTo>
                      <a:lnTo>
                        <a:pt x="441" y="913"/>
                      </a:lnTo>
                      <a:lnTo>
                        <a:pt x="435" y="913"/>
                      </a:lnTo>
                      <a:lnTo>
                        <a:pt x="429" y="913"/>
                      </a:lnTo>
                      <a:lnTo>
                        <a:pt x="429" y="907"/>
                      </a:lnTo>
                      <a:lnTo>
                        <a:pt x="429" y="901"/>
                      </a:lnTo>
                      <a:lnTo>
                        <a:pt x="423" y="901"/>
                      </a:lnTo>
                      <a:lnTo>
                        <a:pt x="417" y="901"/>
                      </a:lnTo>
                      <a:lnTo>
                        <a:pt x="417" y="907"/>
                      </a:lnTo>
                      <a:lnTo>
                        <a:pt x="417" y="913"/>
                      </a:lnTo>
                      <a:lnTo>
                        <a:pt x="412" y="913"/>
                      </a:lnTo>
                      <a:lnTo>
                        <a:pt x="417" y="919"/>
                      </a:lnTo>
                      <a:lnTo>
                        <a:pt x="423" y="925"/>
                      </a:lnTo>
                      <a:lnTo>
                        <a:pt x="417" y="931"/>
                      </a:lnTo>
                      <a:lnTo>
                        <a:pt x="412" y="937"/>
                      </a:lnTo>
                      <a:lnTo>
                        <a:pt x="406" y="937"/>
                      </a:lnTo>
                      <a:lnTo>
                        <a:pt x="406" y="943"/>
                      </a:lnTo>
                      <a:lnTo>
                        <a:pt x="400" y="943"/>
                      </a:lnTo>
                      <a:lnTo>
                        <a:pt x="394" y="943"/>
                      </a:lnTo>
                      <a:lnTo>
                        <a:pt x="388" y="943"/>
                      </a:lnTo>
                      <a:lnTo>
                        <a:pt x="388" y="949"/>
                      </a:lnTo>
                      <a:lnTo>
                        <a:pt x="382" y="949"/>
                      </a:lnTo>
                      <a:lnTo>
                        <a:pt x="376" y="949"/>
                      </a:lnTo>
                      <a:lnTo>
                        <a:pt x="370" y="949"/>
                      </a:lnTo>
                      <a:lnTo>
                        <a:pt x="370" y="955"/>
                      </a:lnTo>
                      <a:lnTo>
                        <a:pt x="364" y="955"/>
                      </a:lnTo>
                      <a:lnTo>
                        <a:pt x="358" y="955"/>
                      </a:lnTo>
                      <a:lnTo>
                        <a:pt x="352" y="961"/>
                      </a:lnTo>
                      <a:lnTo>
                        <a:pt x="352" y="967"/>
                      </a:lnTo>
                      <a:lnTo>
                        <a:pt x="346" y="967"/>
                      </a:lnTo>
                      <a:lnTo>
                        <a:pt x="340" y="967"/>
                      </a:lnTo>
                      <a:lnTo>
                        <a:pt x="340" y="961"/>
                      </a:lnTo>
                      <a:lnTo>
                        <a:pt x="334" y="961"/>
                      </a:lnTo>
                      <a:lnTo>
                        <a:pt x="328" y="961"/>
                      </a:lnTo>
                      <a:lnTo>
                        <a:pt x="328" y="955"/>
                      </a:lnTo>
                      <a:lnTo>
                        <a:pt x="322" y="955"/>
                      </a:lnTo>
                      <a:lnTo>
                        <a:pt x="322" y="949"/>
                      </a:lnTo>
                      <a:lnTo>
                        <a:pt x="316" y="949"/>
                      </a:lnTo>
                      <a:lnTo>
                        <a:pt x="310" y="943"/>
                      </a:lnTo>
                      <a:lnTo>
                        <a:pt x="310" y="949"/>
                      </a:lnTo>
                      <a:lnTo>
                        <a:pt x="304" y="955"/>
                      </a:lnTo>
                      <a:lnTo>
                        <a:pt x="304" y="961"/>
                      </a:lnTo>
                      <a:lnTo>
                        <a:pt x="304" y="967"/>
                      </a:lnTo>
                      <a:lnTo>
                        <a:pt x="298" y="967"/>
                      </a:lnTo>
                      <a:lnTo>
                        <a:pt x="292" y="967"/>
                      </a:lnTo>
                      <a:lnTo>
                        <a:pt x="292" y="973"/>
                      </a:lnTo>
                      <a:lnTo>
                        <a:pt x="286" y="973"/>
                      </a:lnTo>
                      <a:lnTo>
                        <a:pt x="286" y="979"/>
                      </a:lnTo>
                      <a:lnTo>
                        <a:pt x="280" y="979"/>
                      </a:lnTo>
                      <a:lnTo>
                        <a:pt x="280" y="985"/>
                      </a:lnTo>
                      <a:lnTo>
                        <a:pt x="274" y="985"/>
                      </a:lnTo>
                      <a:lnTo>
                        <a:pt x="274" y="991"/>
                      </a:lnTo>
                      <a:lnTo>
                        <a:pt x="268" y="991"/>
                      </a:lnTo>
                      <a:lnTo>
                        <a:pt x="262" y="991"/>
                      </a:lnTo>
                      <a:lnTo>
                        <a:pt x="256" y="991"/>
                      </a:lnTo>
                      <a:lnTo>
                        <a:pt x="250" y="991"/>
                      </a:lnTo>
                      <a:lnTo>
                        <a:pt x="244" y="991"/>
                      </a:lnTo>
                      <a:lnTo>
                        <a:pt x="239" y="985"/>
                      </a:lnTo>
                      <a:lnTo>
                        <a:pt x="233" y="985"/>
                      </a:lnTo>
                      <a:lnTo>
                        <a:pt x="233" y="979"/>
                      </a:lnTo>
                      <a:lnTo>
                        <a:pt x="227" y="979"/>
                      </a:lnTo>
                      <a:lnTo>
                        <a:pt x="221" y="979"/>
                      </a:lnTo>
                      <a:lnTo>
                        <a:pt x="221" y="973"/>
                      </a:lnTo>
                      <a:lnTo>
                        <a:pt x="215" y="973"/>
                      </a:lnTo>
                      <a:lnTo>
                        <a:pt x="215" y="979"/>
                      </a:lnTo>
                      <a:lnTo>
                        <a:pt x="209" y="979"/>
                      </a:lnTo>
                      <a:lnTo>
                        <a:pt x="209" y="973"/>
                      </a:lnTo>
                      <a:lnTo>
                        <a:pt x="203" y="973"/>
                      </a:lnTo>
                      <a:lnTo>
                        <a:pt x="203" y="967"/>
                      </a:lnTo>
                      <a:lnTo>
                        <a:pt x="197" y="967"/>
                      </a:lnTo>
                      <a:lnTo>
                        <a:pt x="197" y="961"/>
                      </a:lnTo>
                      <a:lnTo>
                        <a:pt x="191" y="961"/>
                      </a:lnTo>
                      <a:lnTo>
                        <a:pt x="191" y="955"/>
                      </a:lnTo>
                      <a:lnTo>
                        <a:pt x="185" y="955"/>
                      </a:lnTo>
                      <a:lnTo>
                        <a:pt x="185" y="949"/>
                      </a:lnTo>
                      <a:lnTo>
                        <a:pt x="185" y="943"/>
                      </a:lnTo>
                      <a:lnTo>
                        <a:pt x="179" y="937"/>
                      </a:lnTo>
                      <a:lnTo>
                        <a:pt x="173" y="937"/>
                      </a:lnTo>
                      <a:lnTo>
                        <a:pt x="173" y="931"/>
                      </a:lnTo>
                      <a:lnTo>
                        <a:pt x="167" y="931"/>
                      </a:lnTo>
                      <a:lnTo>
                        <a:pt x="173" y="931"/>
                      </a:lnTo>
                      <a:lnTo>
                        <a:pt x="173" y="925"/>
                      </a:lnTo>
                      <a:lnTo>
                        <a:pt x="179" y="925"/>
                      </a:lnTo>
                      <a:lnTo>
                        <a:pt x="179" y="919"/>
                      </a:lnTo>
                      <a:lnTo>
                        <a:pt x="173" y="913"/>
                      </a:lnTo>
                      <a:lnTo>
                        <a:pt x="173" y="907"/>
                      </a:lnTo>
                      <a:lnTo>
                        <a:pt x="167" y="907"/>
                      </a:lnTo>
                      <a:lnTo>
                        <a:pt x="167" y="913"/>
                      </a:lnTo>
                      <a:lnTo>
                        <a:pt x="161" y="913"/>
                      </a:lnTo>
                      <a:lnTo>
                        <a:pt x="155" y="913"/>
                      </a:lnTo>
                      <a:lnTo>
                        <a:pt x="155" y="907"/>
                      </a:lnTo>
                      <a:lnTo>
                        <a:pt x="149" y="907"/>
                      </a:lnTo>
                      <a:lnTo>
                        <a:pt x="149" y="913"/>
                      </a:lnTo>
                      <a:lnTo>
                        <a:pt x="155" y="913"/>
                      </a:lnTo>
                      <a:lnTo>
                        <a:pt x="155" y="919"/>
                      </a:lnTo>
                      <a:lnTo>
                        <a:pt x="149" y="913"/>
                      </a:lnTo>
                      <a:lnTo>
                        <a:pt x="143" y="913"/>
                      </a:lnTo>
                      <a:lnTo>
                        <a:pt x="137" y="913"/>
                      </a:lnTo>
                      <a:lnTo>
                        <a:pt x="131" y="913"/>
                      </a:lnTo>
                      <a:lnTo>
                        <a:pt x="131" y="907"/>
                      </a:lnTo>
                      <a:lnTo>
                        <a:pt x="131" y="901"/>
                      </a:lnTo>
                      <a:lnTo>
                        <a:pt x="125" y="901"/>
                      </a:lnTo>
                      <a:lnTo>
                        <a:pt x="125" y="895"/>
                      </a:lnTo>
                      <a:lnTo>
                        <a:pt x="119" y="895"/>
                      </a:lnTo>
                      <a:lnTo>
                        <a:pt x="119" y="889"/>
                      </a:lnTo>
                      <a:lnTo>
                        <a:pt x="119" y="895"/>
                      </a:lnTo>
                      <a:lnTo>
                        <a:pt x="113" y="895"/>
                      </a:lnTo>
                      <a:lnTo>
                        <a:pt x="113" y="889"/>
                      </a:lnTo>
                      <a:lnTo>
                        <a:pt x="107" y="889"/>
                      </a:lnTo>
                      <a:lnTo>
                        <a:pt x="107" y="883"/>
                      </a:lnTo>
                      <a:lnTo>
                        <a:pt x="101" y="883"/>
                      </a:lnTo>
                      <a:lnTo>
                        <a:pt x="95" y="883"/>
                      </a:lnTo>
                      <a:lnTo>
                        <a:pt x="89" y="883"/>
                      </a:lnTo>
                      <a:lnTo>
                        <a:pt x="89" y="877"/>
                      </a:lnTo>
                      <a:lnTo>
                        <a:pt x="89" y="871"/>
                      </a:lnTo>
                      <a:lnTo>
                        <a:pt x="83" y="865"/>
                      </a:lnTo>
                      <a:lnTo>
                        <a:pt x="83" y="859"/>
                      </a:lnTo>
                      <a:lnTo>
                        <a:pt x="83" y="853"/>
                      </a:lnTo>
                      <a:lnTo>
                        <a:pt x="77" y="853"/>
                      </a:lnTo>
                      <a:lnTo>
                        <a:pt x="71" y="853"/>
                      </a:lnTo>
                      <a:lnTo>
                        <a:pt x="71" y="847"/>
                      </a:lnTo>
                      <a:lnTo>
                        <a:pt x="66" y="847"/>
                      </a:lnTo>
                      <a:lnTo>
                        <a:pt x="66" y="841"/>
                      </a:lnTo>
                      <a:lnTo>
                        <a:pt x="60" y="841"/>
                      </a:lnTo>
                      <a:lnTo>
                        <a:pt x="60" y="835"/>
                      </a:lnTo>
                      <a:lnTo>
                        <a:pt x="60" y="830"/>
                      </a:lnTo>
                      <a:lnTo>
                        <a:pt x="54" y="830"/>
                      </a:lnTo>
                      <a:lnTo>
                        <a:pt x="54" y="824"/>
                      </a:lnTo>
                      <a:lnTo>
                        <a:pt x="48" y="824"/>
                      </a:lnTo>
                      <a:lnTo>
                        <a:pt x="42" y="824"/>
                      </a:lnTo>
                      <a:lnTo>
                        <a:pt x="42" y="818"/>
                      </a:lnTo>
                      <a:lnTo>
                        <a:pt x="42" y="812"/>
                      </a:lnTo>
                      <a:lnTo>
                        <a:pt x="42" y="806"/>
                      </a:lnTo>
                      <a:lnTo>
                        <a:pt x="42" y="800"/>
                      </a:lnTo>
                      <a:lnTo>
                        <a:pt x="36" y="800"/>
                      </a:lnTo>
                      <a:lnTo>
                        <a:pt x="36" y="794"/>
                      </a:lnTo>
                      <a:lnTo>
                        <a:pt x="30" y="794"/>
                      </a:lnTo>
                      <a:lnTo>
                        <a:pt x="30" y="788"/>
                      </a:lnTo>
                      <a:lnTo>
                        <a:pt x="24" y="788"/>
                      </a:lnTo>
                      <a:lnTo>
                        <a:pt x="24" y="782"/>
                      </a:lnTo>
                      <a:lnTo>
                        <a:pt x="18" y="782"/>
                      </a:lnTo>
                      <a:lnTo>
                        <a:pt x="18" y="776"/>
                      </a:lnTo>
                      <a:lnTo>
                        <a:pt x="12" y="770"/>
                      </a:lnTo>
                      <a:lnTo>
                        <a:pt x="6" y="770"/>
                      </a:lnTo>
                      <a:lnTo>
                        <a:pt x="6" y="764"/>
                      </a:lnTo>
                      <a:lnTo>
                        <a:pt x="0" y="764"/>
                      </a:lnTo>
                      <a:lnTo>
                        <a:pt x="0" y="758"/>
                      </a:lnTo>
                      <a:lnTo>
                        <a:pt x="0" y="752"/>
                      </a:lnTo>
                      <a:lnTo>
                        <a:pt x="6" y="752"/>
                      </a:lnTo>
                      <a:lnTo>
                        <a:pt x="6" y="746"/>
                      </a:lnTo>
                      <a:lnTo>
                        <a:pt x="6" y="740"/>
                      </a:lnTo>
                      <a:lnTo>
                        <a:pt x="0" y="740"/>
                      </a:lnTo>
                      <a:lnTo>
                        <a:pt x="0" y="734"/>
                      </a:lnTo>
                      <a:lnTo>
                        <a:pt x="6" y="734"/>
                      </a:lnTo>
                      <a:lnTo>
                        <a:pt x="12" y="734"/>
                      </a:lnTo>
                      <a:lnTo>
                        <a:pt x="12" y="728"/>
                      </a:lnTo>
                      <a:lnTo>
                        <a:pt x="12" y="722"/>
                      </a:lnTo>
                      <a:lnTo>
                        <a:pt x="6" y="722"/>
                      </a:lnTo>
                      <a:lnTo>
                        <a:pt x="6" y="716"/>
                      </a:lnTo>
                      <a:lnTo>
                        <a:pt x="12" y="716"/>
                      </a:lnTo>
                      <a:lnTo>
                        <a:pt x="6" y="710"/>
                      </a:lnTo>
                      <a:lnTo>
                        <a:pt x="6" y="704"/>
                      </a:lnTo>
                      <a:lnTo>
                        <a:pt x="0" y="704"/>
                      </a:lnTo>
                      <a:lnTo>
                        <a:pt x="0" y="698"/>
                      </a:lnTo>
                      <a:lnTo>
                        <a:pt x="0" y="692"/>
                      </a:lnTo>
                      <a:lnTo>
                        <a:pt x="0" y="686"/>
                      </a:lnTo>
                      <a:lnTo>
                        <a:pt x="6" y="686"/>
                      </a:lnTo>
                      <a:lnTo>
                        <a:pt x="12" y="686"/>
                      </a:lnTo>
                      <a:lnTo>
                        <a:pt x="18" y="686"/>
                      </a:lnTo>
                      <a:lnTo>
                        <a:pt x="24" y="686"/>
                      </a:lnTo>
                      <a:lnTo>
                        <a:pt x="30" y="680"/>
                      </a:lnTo>
                      <a:lnTo>
                        <a:pt x="36" y="674"/>
                      </a:lnTo>
                      <a:lnTo>
                        <a:pt x="42" y="674"/>
                      </a:lnTo>
                      <a:lnTo>
                        <a:pt x="48" y="674"/>
                      </a:lnTo>
                      <a:lnTo>
                        <a:pt x="54" y="674"/>
                      </a:lnTo>
                      <a:lnTo>
                        <a:pt x="54" y="668"/>
                      </a:lnTo>
                      <a:lnTo>
                        <a:pt x="60" y="668"/>
                      </a:lnTo>
                      <a:lnTo>
                        <a:pt x="60" y="662"/>
                      </a:lnTo>
                      <a:lnTo>
                        <a:pt x="60" y="656"/>
                      </a:lnTo>
                      <a:lnTo>
                        <a:pt x="60" y="650"/>
                      </a:lnTo>
                      <a:lnTo>
                        <a:pt x="60" y="645"/>
                      </a:lnTo>
                      <a:lnTo>
                        <a:pt x="60" y="639"/>
                      </a:lnTo>
                      <a:lnTo>
                        <a:pt x="60" y="633"/>
                      </a:lnTo>
                      <a:lnTo>
                        <a:pt x="60" y="627"/>
                      </a:lnTo>
                      <a:lnTo>
                        <a:pt x="66" y="627"/>
                      </a:lnTo>
                      <a:lnTo>
                        <a:pt x="71" y="627"/>
                      </a:lnTo>
                      <a:lnTo>
                        <a:pt x="77" y="627"/>
                      </a:lnTo>
                      <a:lnTo>
                        <a:pt x="83" y="621"/>
                      </a:lnTo>
                      <a:lnTo>
                        <a:pt x="83" y="615"/>
                      </a:lnTo>
                      <a:lnTo>
                        <a:pt x="77" y="609"/>
                      </a:lnTo>
                      <a:lnTo>
                        <a:pt x="77" y="603"/>
                      </a:lnTo>
                      <a:lnTo>
                        <a:pt x="77" y="597"/>
                      </a:lnTo>
                      <a:lnTo>
                        <a:pt x="77" y="591"/>
                      </a:lnTo>
                      <a:lnTo>
                        <a:pt x="71" y="585"/>
                      </a:lnTo>
                      <a:lnTo>
                        <a:pt x="71" y="579"/>
                      </a:lnTo>
                      <a:lnTo>
                        <a:pt x="66" y="579"/>
                      </a:lnTo>
                      <a:lnTo>
                        <a:pt x="66" y="573"/>
                      </a:lnTo>
                      <a:lnTo>
                        <a:pt x="66" y="567"/>
                      </a:lnTo>
                      <a:lnTo>
                        <a:pt x="71" y="567"/>
                      </a:lnTo>
                      <a:lnTo>
                        <a:pt x="71" y="561"/>
                      </a:lnTo>
                      <a:lnTo>
                        <a:pt x="77" y="561"/>
                      </a:lnTo>
                      <a:lnTo>
                        <a:pt x="77" y="555"/>
                      </a:lnTo>
                      <a:lnTo>
                        <a:pt x="77" y="549"/>
                      </a:lnTo>
                      <a:lnTo>
                        <a:pt x="77" y="543"/>
                      </a:lnTo>
                      <a:lnTo>
                        <a:pt x="77" y="537"/>
                      </a:lnTo>
                      <a:lnTo>
                        <a:pt x="77" y="531"/>
                      </a:lnTo>
                      <a:lnTo>
                        <a:pt x="83" y="531"/>
                      </a:lnTo>
                      <a:lnTo>
                        <a:pt x="83" y="525"/>
                      </a:lnTo>
                      <a:lnTo>
                        <a:pt x="83" y="519"/>
                      </a:lnTo>
                      <a:lnTo>
                        <a:pt x="83" y="513"/>
                      </a:lnTo>
                      <a:lnTo>
                        <a:pt x="89" y="513"/>
                      </a:lnTo>
                      <a:lnTo>
                        <a:pt x="89" y="507"/>
                      </a:lnTo>
                      <a:lnTo>
                        <a:pt x="95" y="507"/>
                      </a:lnTo>
                      <a:lnTo>
                        <a:pt x="95" y="501"/>
                      </a:lnTo>
                      <a:lnTo>
                        <a:pt x="101" y="501"/>
                      </a:lnTo>
                      <a:lnTo>
                        <a:pt x="107" y="501"/>
                      </a:lnTo>
                      <a:lnTo>
                        <a:pt x="107" y="507"/>
                      </a:lnTo>
                      <a:lnTo>
                        <a:pt x="113" y="507"/>
                      </a:lnTo>
                      <a:lnTo>
                        <a:pt x="119" y="507"/>
                      </a:lnTo>
                      <a:lnTo>
                        <a:pt x="119" y="513"/>
                      </a:lnTo>
                      <a:lnTo>
                        <a:pt x="125" y="513"/>
                      </a:lnTo>
                      <a:lnTo>
                        <a:pt x="125" y="519"/>
                      </a:lnTo>
                      <a:lnTo>
                        <a:pt x="131" y="519"/>
                      </a:lnTo>
                      <a:lnTo>
                        <a:pt x="125" y="525"/>
                      </a:lnTo>
                      <a:lnTo>
                        <a:pt x="125" y="531"/>
                      </a:lnTo>
                      <a:lnTo>
                        <a:pt x="125" y="537"/>
                      </a:lnTo>
                      <a:lnTo>
                        <a:pt x="131" y="537"/>
                      </a:lnTo>
                      <a:lnTo>
                        <a:pt x="137" y="531"/>
                      </a:lnTo>
                      <a:lnTo>
                        <a:pt x="137" y="525"/>
                      </a:lnTo>
                      <a:lnTo>
                        <a:pt x="143" y="519"/>
                      </a:lnTo>
                      <a:lnTo>
                        <a:pt x="143" y="513"/>
                      </a:lnTo>
                      <a:lnTo>
                        <a:pt x="149" y="513"/>
                      </a:lnTo>
                      <a:lnTo>
                        <a:pt x="149" y="519"/>
                      </a:lnTo>
                      <a:lnTo>
                        <a:pt x="155" y="519"/>
                      </a:lnTo>
                      <a:lnTo>
                        <a:pt x="155" y="513"/>
                      </a:lnTo>
                      <a:lnTo>
                        <a:pt x="155" y="507"/>
                      </a:lnTo>
                      <a:lnTo>
                        <a:pt x="149" y="507"/>
                      </a:lnTo>
                      <a:lnTo>
                        <a:pt x="149" y="501"/>
                      </a:lnTo>
                      <a:lnTo>
                        <a:pt x="149" y="495"/>
                      </a:lnTo>
                      <a:lnTo>
                        <a:pt x="149" y="489"/>
                      </a:lnTo>
                      <a:lnTo>
                        <a:pt x="143" y="489"/>
                      </a:lnTo>
                      <a:lnTo>
                        <a:pt x="143" y="483"/>
                      </a:lnTo>
                      <a:lnTo>
                        <a:pt x="137" y="483"/>
                      </a:lnTo>
                      <a:lnTo>
                        <a:pt x="137" y="477"/>
                      </a:lnTo>
                      <a:lnTo>
                        <a:pt x="143" y="477"/>
                      </a:lnTo>
                      <a:lnTo>
                        <a:pt x="149" y="477"/>
                      </a:lnTo>
                      <a:lnTo>
                        <a:pt x="149" y="471"/>
                      </a:lnTo>
                      <a:lnTo>
                        <a:pt x="155" y="471"/>
                      </a:lnTo>
                      <a:lnTo>
                        <a:pt x="155" y="466"/>
                      </a:lnTo>
                      <a:lnTo>
                        <a:pt x="155" y="460"/>
                      </a:lnTo>
                      <a:lnTo>
                        <a:pt x="149" y="460"/>
                      </a:lnTo>
                      <a:lnTo>
                        <a:pt x="149" y="448"/>
                      </a:lnTo>
                      <a:lnTo>
                        <a:pt x="149" y="442"/>
                      </a:lnTo>
                      <a:lnTo>
                        <a:pt x="155" y="436"/>
                      </a:lnTo>
                      <a:lnTo>
                        <a:pt x="161" y="436"/>
                      </a:lnTo>
                      <a:lnTo>
                        <a:pt x="161" y="430"/>
                      </a:lnTo>
                      <a:lnTo>
                        <a:pt x="161" y="424"/>
                      </a:lnTo>
                      <a:lnTo>
                        <a:pt x="161" y="418"/>
                      </a:lnTo>
                      <a:lnTo>
                        <a:pt x="167" y="418"/>
                      </a:lnTo>
                      <a:lnTo>
                        <a:pt x="173" y="418"/>
                      </a:lnTo>
                      <a:lnTo>
                        <a:pt x="179" y="418"/>
                      </a:lnTo>
                      <a:lnTo>
                        <a:pt x="185" y="418"/>
                      </a:lnTo>
                      <a:lnTo>
                        <a:pt x="185" y="412"/>
                      </a:lnTo>
                      <a:lnTo>
                        <a:pt x="185" y="406"/>
                      </a:lnTo>
                      <a:lnTo>
                        <a:pt x="185" y="400"/>
                      </a:lnTo>
                      <a:lnTo>
                        <a:pt x="185" y="394"/>
                      </a:lnTo>
                      <a:lnTo>
                        <a:pt x="191" y="388"/>
                      </a:lnTo>
                      <a:lnTo>
                        <a:pt x="191" y="382"/>
                      </a:lnTo>
                      <a:lnTo>
                        <a:pt x="197" y="382"/>
                      </a:lnTo>
                      <a:lnTo>
                        <a:pt x="197" y="376"/>
                      </a:lnTo>
                      <a:lnTo>
                        <a:pt x="203" y="376"/>
                      </a:lnTo>
                      <a:lnTo>
                        <a:pt x="203" y="370"/>
                      </a:lnTo>
                      <a:lnTo>
                        <a:pt x="209" y="376"/>
                      </a:lnTo>
                      <a:lnTo>
                        <a:pt x="215" y="382"/>
                      </a:lnTo>
                      <a:lnTo>
                        <a:pt x="215" y="388"/>
                      </a:lnTo>
                      <a:lnTo>
                        <a:pt x="221" y="388"/>
                      </a:lnTo>
                      <a:lnTo>
                        <a:pt x="227" y="388"/>
                      </a:lnTo>
                      <a:lnTo>
                        <a:pt x="227" y="382"/>
                      </a:lnTo>
                      <a:lnTo>
                        <a:pt x="233" y="382"/>
                      </a:lnTo>
                      <a:lnTo>
                        <a:pt x="233" y="376"/>
                      </a:lnTo>
                      <a:lnTo>
                        <a:pt x="239" y="376"/>
                      </a:lnTo>
                      <a:lnTo>
                        <a:pt x="239" y="370"/>
                      </a:lnTo>
                      <a:lnTo>
                        <a:pt x="244" y="370"/>
                      </a:lnTo>
                      <a:lnTo>
                        <a:pt x="250" y="370"/>
                      </a:lnTo>
                      <a:lnTo>
                        <a:pt x="250" y="364"/>
                      </a:lnTo>
                      <a:lnTo>
                        <a:pt x="256" y="364"/>
                      </a:lnTo>
                      <a:lnTo>
                        <a:pt x="256" y="358"/>
                      </a:lnTo>
                      <a:lnTo>
                        <a:pt x="262" y="358"/>
                      </a:lnTo>
                      <a:lnTo>
                        <a:pt x="262" y="352"/>
                      </a:lnTo>
                      <a:lnTo>
                        <a:pt x="268" y="352"/>
                      </a:lnTo>
                      <a:lnTo>
                        <a:pt x="268" y="346"/>
                      </a:lnTo>
                      <a:lnTo>
                        <a:pt x="274" y="346"/>
                      </a:lnTo>
                      <a:lnTo>
                        <a:pt x="274" y="340"/>
                      </a:lnTo>
                      <a:lnTo>
                        <a:pt x="274" y="334"/>
                      </a:lnTo>
                      <a:lnTo>
                        <a:pt x="280" y="334"/>
                      </a:lnTo>
                      <a:lnTo>
                        <a:pt x="280" y="328"/>
                      </a:lnTo>
                      <a:lnTo>
                        <a:pt x="286" y="328"/>
                      </a:lnTo>
                      <a:lnTo>
                        <a:pt x="286" y="322"/>
                      </a:lnTo>
                      <a:lnTo>
                        <a:pt x="286" y="316"/>
                      </a:lnTo>
                      <a:lnTo>
                        <a:pt x="292" y="316"/>
                      </a:lnTo>
                      <a:lnTo>
                        <a:pt x="292" y="310"/>
                      </a:lnTo>
                      <a:lnTo>
                        <a:pt x="298" y="310"/>
                      </a:lnTo>
                      <a:lnTo>
                        <a:pt x="298" y="304"/>
                      </a:lnTo>
                      <a:lnTo>
                        <a:pt x="304" y="304"/>
                      </a:lnTo>
                      <a:lnTo>
                        <a:pt x="304" y="298"/>
                      </a:lnTo>
                      <a:lnTo>
                        <a:pt x="310" y="298"/>
                      </a:lnTo>
                      <a:lnTo>
                        <a:pt x="316" y="292"/>
                      </a:lnTo>
                      <a:lnTo>
                        <a:pt x="316" y="286"/>
                      </a:lnTo>
                      <a:lnTo>
                        <a:pt x="316" y="281"/>
                      </a:lnTo>
                      <a:lnTo>
                        <a:pt x="316" y="275"/>
                      </a:lnTo>
                      <a:lnTo>
                        <a:pt x="322" y="275"/>
                      </a:lnTo>
                      <a:lnTo>
                        <a:pt x="322" y="269"/>
                      </a:lnTo>
                      <a:lnTo>
                        <a:pt x="316" y="269"/>
                      </a:lnTo>
                      <a:lnTo>
                        <a:pt x="316" y="263"/>
                      </a:lnTo>
                      <a:lnTo>
                        <a:pt x="310" y="263"/>
                      </a:lnTo>
                      <a:lnTo>
                        <a:pt x="310" y="257"/>
                      </a:lnTo>
                      <a:lnTo>
                        <a:pt x="310" y="251"/>
                      </a:lnTo>
                      <a:lnTo>
                        <a:pt x="316" y="251"/>
                      </a:lnTo>
                      <a:lnTo>
                        <a:pt x="316" y="245"/>
                      </a:lnTo>
                      <a:lnTo>
                        <a:pt x="316" y="239"/>
                      </a:lnTo>
                      <a:lnTo>
                        <a:pt x="316" y="233"/>
                      </a:lnTo>
                      <a:lnTo>
                        <a:pt x="322" y="227"/>
                      </a:lnTo>
                      <a:lnTo>
                        <a:pt x="322" y="221"/>
                      </a:lnTo>
                      <a:lnTo>
                        <a:pt x="316" y="215"/>
                      </a:lnTo>
                      <a:lnTo>
                        <a:pt x="316" y="209"/>
                      </a:lnTo>
                      <a:lnTo>
                        <a:pt x="322" y="209"/>
                      </a:lnTo>
                      <a:lnTo>
                        <a:pt x="328" y="209"/>
                      </a:lnTo>
                      <a:lnTo>
                        <a:pt x="328" y="203"/>
                      </a:lnTo>
                      <a:lnTo>
                        <a:pt x="322" y="203"/>
                      </a:lnTo>
                      <a:lnTo>
                        <a:pt x="322" y="197"/>
                      </a:lnTo>
                      <a:lnTo>
                        <a:pt x="328" y="197"/>
                      </a:lnTo>
                      <a:lnTo>
                        <a:pt x="328" y="191"/>
                      </a:lnTo>
                      <a:lnTo>
                        <a:pt x="328" y="185"/>
                      </a:lnTo>
                      <a:lnTo>
                        <a:pt x="328" y="179"/>
                      </a:lnTo>
                      <a:lnTo>
                        <a:pt x="328" y="173"/>
                      </a:lnTo>
                      <a:lnTo>
                        <a:pt x="328" y="167"/>
                      </a:lnTo>
                      <a:lnTo>
                        <a:pt x="328" y="161"/>
                      </a:lnTo>
                      <a:lnTo>
                        <a:pt x="328" y="155"/>
                      </a:lnTo>
                      <a:lnTo>
                        <a:pt x="328" y="149"/>
                      </a:lnTo>
                      <a:lnTo>
                        <a:pt x="328" y="143"/>
                      </a:lnTo>
                      <a:lnTo>
                        <a:pt x="328" y="137"/>
                      </a:lnTo>
                      <a:lnTo>
                        <a:pt x="328" y="131"/>
                      </a:lnTo>
                      <a:lnTo>
                        <a:pt x="334" y="125"/>
                      </a:lnTo>
                      <a:lnTo>
                        <a:pt x="334" y="119"/>
                      </a:lnTo>
                      <a:lnTo>
                        <a:pt x="334" y="113"/>
                      </a:lnTo>
                      <a:lnTo>
                        <a:pt x="340" y="113"/>
                      </a:lnTo>
                      <a:lnTo>
                        <a:pt x="340" y="107"/>
                      </a:lnTo>
                      <a:lnTo>
                        <a:pt x="340" y="102"/>
                      </a:lnTo>
                      <a:lnTo>
                        <a:pt x="340" y="96"/>
                      </a:lnTo>
                      <a:lnTo>
                        <a:pt x="340" y="90"/>
                      </a:lnTo>
                      <a:lnTo>
                        <a:pt x="340" y="84"/>
                      </a:lnTo>
                      <a:lnTo>
                        <a:pt x="340" y="78"/>
                      </a:lnTo>
                      <a:lnTo>
                        <a:pt x="334" y="78"/>
                      </a:lnTo>
                      <a:lnTo>
                        <a:pt x="334" y="72"/>
                      </a:lnTo>
                      <a:lnTo>
                        <a:pt x="334" y="66"/>
                      </a:lnTo>
                      <a:lnTo>
                        <a:pt x="334" y="60"/>
                      </a:lnTo>
                      <a:lnTo>
                        <a:pt x="334" y="54"/>
                      </a:lnTo>
                      <a:lnTo>
                        <a:pt x="334" y="48"/>
                      </a:lnTo>
                      <a:lnTo>
                        <a:pt x="328" y="48"/>
                      </a:lnTo>
                      <a:lnTo>
                        <a:pt x="328" y="42"/>
                      </a:lnTo>
                      <a:lnTo>
                        <a:pt x="328" y="36"/>
                      </a:lnTo>
                      <a:lnTo>
                        <a:pt x="322" y="36"/>
                      </a:lnTo>
                      <a:lnTo>
                        <a:pt x="322" y="30"/>
                      </a:lnTo>
                      <a:lnTo>
                        <a:pt x="316" y="30"/>
                      </a:lnTo>
                      <a:lnTo>
                        <a:pt x="316" y="24"/>
                      </a:lnTo>
                      <a:lnTo>
                        <a:pt x="316" y="18"/>
                      </a:lnTo>
                      <a:lnTo>
                        <a:pt x="316" y="12"/>
                      </a:lnTo>
                      <a:lnTo>
                        <a:pt x="322" y="12"/>
                      </a:lnTo>
                      <a:lnTo>
                        <a:pt x="328" y="12"/>
                      </a:lnTo>
                      <a:lnTo>
                        <a:pt x="334" y="12"/>
                      </a:lnTo>
                      <a:lnTo>
                        <a:pt x="334" y="6"/>
                      </a:lnTo>
                      <a:lnTo>
                        <a:pt x="340" y="6"/>
                      </a:lnTo>
                      <a:lnTo>
                        <a:pt x="340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63"/>
                <p:cNvSpPr/>
                <p:nvPr/>
              </p:nvSpPr>
              <p:spPr>
                <a:xfrm>
                  <a:off x="7042680" y="4327560"/>
                  <a:ext cx="1002960" cy="486720"/>
                </a:xfrm>
                <a:custGeom>
                  <a:avLst/>
                  <a:gdLst>
                    <a:gd name="textAreaLeft" fmla="*/ 0 w 1002960"/>
                    <a:gd name="textAreaRight" fmla="*/ 1003320 w 1002960"/>
                    <a:gd name="textAreaTop" fmla="*/ 0 h 486720"/>
                    <a:gd name="textAreaBottom" fmla="*/ 487080 h 486720"/>
                  </a:gdLst>
                  <a:ahLst/>
                  <a:rect l="textAreaLeft" t="textAreaTop" r="textAreaRight" b="textAreaBottom"/>
                  <a:pathLst>
                    <a:path w="1003" h="501">
                      <a:moveTo>
                        <a:pt x="675" y="113"/>
                      </a:moveTo>
                      <a:lnTo>
                        <a:pt x="675" y="119"/>
                      </a:lnTo>
                      <a:lnTo>
                        <a:pt x="669" y="119"/>
                      </a:lnTo>
                      <a:lnTo>
                        <a:pt x="663" y="119"/>
                      </a:lnTo>
                      <a:lnTo>
                        <a:pt x="669" y="125"/>
                      </a:lnTo>
                      <a:lnTo>
                        <a:pt x="669" y="119"/>
                      </a:lnTo>
                      <a:lnTo>
                        <a:pt x="669" y="125"/>
                      </a:lnTo>
                      <a:lnTo>
                        <a:pt x="675" y="119"/>
                      </a:lnTo>
                      <a:lnTo>
                        <a:pt x="680" y="119"/>
                      </a:lnTo>
                      <a:lnTo>
                        <a:pt x="680" y="125"/>
                      </a:lnTo>
                      <a:lnTo>
                        <a:pt x="680" y="131"/>
                      </a:lnTo>
                      <a:lnTo>
                        <a:pt x="675" y="131"/>
                      </a:lnTo>
                      <a:lnTo>
                        <a:pt x="675" y="137"/>
                      </a:lnTo>
                      <a:lnTo>
                        <a:pt x="675" y="131"/>
                      </a:lnTo>
                      <a:lnTo>
                        <a:pt x="680" y="131"/>
                      </a:lnTo>
                      <a:lnTo>
                        <a:pt x="680" y="137"/>
                      </a:lnTo>
                      <a:lnTo>
                        <a:pt x="686" y="137"/>
                      </a:lnTo>
                      <a:lnTo>
                        <a:pt x="680" y="137"/>
                      </a:lnTo>
                      <a:lnTo>
                        <a:pt x="680" y="143"/>
                      </a:lnTo>
                      <a:lnTo>
                        <a:pt x="680" y="137"/>
                      </a:lnTo>
                      <a:lnTo>
                        <a:pt x="675" y="137"/>
                      </a:lnTo>
                      <a:lnTo>
                        <a:pt x="669" y="137"/>
                      </a:lnTo>
                      <a:lnTo>
                        <a:pt x="675" y="137"/>
                      </a:lnTo>
                      <a:lnTo>
                        <a:pt x="675" y="143"/>
                      </a:lnTo>
                      <a:lnTo>
                        <a:pt x="669" y="143"/>
                      </a:lnTo>
                      <a:lnTo>
                        <a:pt x="669" y="137"/>
                      </a:lnTo>
                      <a:lnTo>
                        <a:pt x="669" y="143"/>
                      </a:lnTo>
                      <a:lnTo>
                        <a:pt x="663" y="137"/>
                      </a:lnTo>
                      <a:lnTo>
                        <a:pt x="663" y="143"/>
                      </a:lnTo>
                      <a:lnTo>
                        <a:pt x="669" y="143"/>
                      </a:lnTo>
                      <a:lnTo>
                        <a:pt x="669" y="149"/>
                      </a:lnTo>
                      <a:lnTo>
                        <a:pt x="675" y="149"/>
                      </a:lnTo>
                      <a:lnTo>
                        <a:pt x="675" y="143"/>
                      </a:lnTo>
                      <a:lnTo>
                        <a:pt x="675" y="149"/>
                      </a:lnTo>
                      <a:lnTo>
                        <a:pt x="669" y="149"/>
                      </a:lnTo>
                      <a:lnTo>
                        <a:pt x="675" y="149"/>
                      </a:lnTo>
                      <a:lnTo>
                        <a:pt x="675" y="155"/>
                      </a:lnTo>
                      <a:lnTo>
                        <a:pt x="669" y="155"/>
                      </a:lnTo>
                      <a:lnTo>
                        <a:pt x="669" y="161"/>
                      </a:lnTo>
                      <a:lnTo>
                        <a:pt x="675" y="161"/>
                      </a:lnTo>
                      <a:lnTo>
                        <a:pt x="669" y="161"/>
                      </a:lnTo>
                      <a:lnTo>
                        <a:pt x="663" y="161"/>
                      </a:lnTo>
                      <a:lnTo>
                        <a:pt x="663" y="155"/>
                      </a:lnTo>
                      <a:lnTo>
                        <a:pt x="663" y="149"/>
                      </a:lnTo>
                      <a:lnTo>
                        <a:pt x="657" y="149"/>
                      </a:lnTo>
                      <a:lnTo>
                        <a:pt x="651" y="149"/>
                      </a:lnTo>
                      <a:lnTo>
                        <a:pt x="657" y="149"/>
                      </a:lnTo>
                      <a:lnTo>
                        <a:pt x="657" y="155"/>
                      </a:lnTo>
                      <a:lnTo>
                        <a:pt x="657" y="149"/>
                      </a:lnTo>
                      <a:lnTo>
                        <a:pt x="657" y="155"/>
                      </a:lnTo>
                      <a:lnTo>
                        <a:pt x="663" y="155"/>
                      </a:lnTo>
                      <a:lnTo>
                        <a:pt x="663" y="161"/>
                      </a:lnTo>
                      <a:lnTo>
                        <a:pt x="669" y="161"/>
                      </a:lnTo>
                      <a:lnTo>
                        <a:pt x="669" y="167"/>
                      </a:lnTo>
                      <a:lnTo>
                        <a:pt x="669" y="161"/>
                      </a:lnTo>
                      <a:lnTo>
                        <a:pt x="675" y="161"/>
                      </a:lnTo>
                      <a:lnTo>
                        <a:pt x="675" y="167"/>
                      </a:lnTo>
                      <a:lnTo>
                        <a:pt x="669" y="167"/>
                      </a:lnTo>
                      <a:lnTo>
                        <a:pt x="669" y="173"/>
                      </a:lnTo>
                      <a:lnTo>
                        <a:pt x="669" y="167"/>
                      </a:lnTo>
                      <a:lnTo>
                        <a:pt x="669" y="173"/>
                      </a:lnTo>
                      <a:lnTo>
                        <a:pt x="663" y="173"/>
                      </a:lnTo>
                      <a:lnTo>
                        <a:pt x="663" y="167"/>
                      </a:lnTo>
                      <a:lnTo>
                        <a:pt x="663" y="173"/>
                      </a:lnTo>
                      <a:lnTo>
                        <a:pt x="657" y="173"/>
                      </a:lnTo>
                      <a:lnTo>
                        <a:pt x="657" y="167"/>
                      </a:lnTo>
                      <a:lnTo>
                        <a:pt x="657" y="161"/>
                      </a:lnTo>
                      <a:lnTo>
                        <a:pt x="657" y="167"/>
                      </a:lnTo>
                      <a:lnTo>
                        <a:pt x="651" y="167"/>
                      </a:lnTo>
                      <a:lnTo>
                        <a:pt x="645" y="167"/>
                      </a:lnTo>
                      <a:lnTo>
                        <a:pt x="645" y="161"/>
                      </a:lnTo>
                      <a:lnTo>
                        <a:pt x="639" y="161"/>
                      </a:lnTo>
                      <a:lnTo>
                        <a:pt x="633" y="161"/>
                      </a:lnTo>
                      <a:lnTo>
                        <a:pt x="633" y="155"/>
                      </a:lnTo>
                      <a:lnTo>
                        <a:pt x="627" y="155"/>
                      </a:lnTo>
                      <a:lnTo>
                        <a:pt x="627" y="161"/>
                      </a:lnTo>
                      <a:lnTo>
                        <a:pt x="633" y="161"/>
                      </a:lnTo>
                      <a:lnTo>
                        <a:pt x="627" y="167"/>
                      </a:lnTo>
                      <a:lnTo>
                        <a:pt x="627" y="161"/>
                      </a:lnTo>
                      <a:lnTo>
                        <a:pt x="627" y="167"/>
                      </a:lnTo>
                      <a:lnTo>
                        <a:pt x="633" y="167"/>
                      </a:lnTo>
                      <a:lnTo>
                        <a:pt x="639" y="167"/>
                      </a:lnTo>
                      <a:lnTo>
                        <a:pt x="639" y="173"/>
                      </a:lnTo>
                      <a:lnTo>
                        <a:pt x="639" y="179"/>
                      </a:lnTo>
                      <a:lnTo>
                        <a:pt x="639" y="185"/>
                      </a:lnTo>
                      <a:lnTo>
                        <a:pt x="633" y="185"/>
                      </a:lnTo>
                      <a:lnTo>
                        <a:pt x="639" y="185"/>
                      </a:lnTo>
                      <a:lnTo>
                        <a:pt x="639" y="191"/>
                      </a:lnTo>
                      <a:lnTo>
                        <a:pt x="639" y="185"/>
                      </a:lnTo>
                      <a:lnTo>
                        <a:pt x="639" y="179"/>
                      </a:lnTo>
                      <a:lnTo>
                        <a:pt x="639" y="173"/>
                      </a:lnTo>
                      <a:lnTo>
                        <a:pt x="645" y="173"/>
                      </a:lnTo>
                      <a:lnTo>
                        <a:pt x="645" y="179"/>
                      </a:lnTo>
                      <a:lnTo>
                        <a:pt x="651" y="179"/>
                      </a:lnTo>
                      <a:lnTo>
                        <a:pt x="651" y="185"/>
                      </a:lnTo>
                      <a:lnTo>
                        <a:pt x="651" y="191"/>
                      </a:lnTo>
                      <a:lnTo>
                        <a:pt x="645" y="191"/>
                      </a:lnTo>
                      <a:lnTo>
                        <a:pt x="651" y="191"/>
                      </a:lnTo>
                      <a:lnTo>
                        <a:pt x="657" y="191"/>
                      </a:lnTo>
                      <a:lnTo>
                        <a:pt x="651" y="185"/>
                      </a:lnTo>
                      <a:lnTo>
                        <a:pt x="657" y="185"/>
                      </a:lnTo>
                      <a:lnTo>
                        <a:pt x="657" y="191"/>
                      </a:lnTo>
                      <a:lnTo>
                        <a:pt x="657" y="185"/>
                      </a:lnTo>
                      <a:lnTo>
                        <a:pt x="663" y="185"/>
                      </a:lnTo>
                      <a:lnTo>
                        <a:pt x="669" y="191"/>
                      </a:lnTo>
                      <a:lnTo>
                        <a:pt x="663" y="191"/>
                      </a:lnTo>
                      <a:lnTo>
                        <a:pt x="669" y="191"/>
                      </a:lnTo>
                      <a:lnTo>
                        <a:pt x="669" y="197"/>
                      </a:lnTo>
                      <a:lnTo>
                        <a:pt x="663" y="197"/>
                      </a:lnTo>
                      <a:lnTo>
                        <a:pt x="669" y="197"/>
                      </a:lnTo>
                      <a:lnTo>
                        <a:pt x="675" y="197"/>
                      </a:lnTo>
                      <a:lnTo>
                        <a:pt x="675" y="191"/>
                      </a:lnTo>
                      <a:lnTo>
                        <a:pt x="675" y="197"/>
                      </a:lnTo>
                      <a:lnTo>
                        <a:pt x="675" y="203"/>
                      </a:lnTo>
                      <a:lnTo>
                        <a:pt x="680" y="203"/>
                      </a:lnTo>
                      <a:lnTo>
                        <a:pt x="680" y="209"/>
                      </a:lnTo>
                      <a:lnTo>
                        <a:pt x="675" y="209"/>
                      </a:lnTo>
                      <a:lnTo>
                        <a:pt x="675" y="203"/>
                      </a:lnTo>
                      <a:lnTo>
                        <a:pt x="669" y="203"/>
                      </a:lnTo>
                      <a:lnTo>
                        <a:pt x="669" y="209"/>
                      </a:lnTo>
                      <a:lnTo>
                        <a:pt x="663" y="209"/>
                      </a:lnTo>
                      <a:lnTo>
                        <a:pt x="657" y="209"/>
                      </a:lnTo>
                      <a:lnTo>
                        <a:pt x="657" y="203"/>
                      </a:lnTo>
                      <a:lnTo>
                        <a:pt x="657" y="209"/>
                      </a:lnTo>
                      <a:lnTo>
                        <a:pt x="657" y="215"/>
                      </a:lnTo>
                      <a:lnTo>
                        <a:pt x="663" y="215"/>
                      </a:lnTo>
                      <a:lnTo>
                        <a:pt x="669" y="215"/>
                      </a:lnTo>
                      <a:lnTo>
                        <a:pt x="675" y="215"/>
                      </a:lnTo>
                      <a:lnTo>
                        <a:pt x="669" y="215"/>
                      </a:lnTo>
                      <a:lnTo>
                        <a:pt x="675" y="215"/>
                      </a:lnTo>
                      <a:lnTo>
                        <a:pt x="680" y="215"/>
                      </a:lnTo>
                      <a:lnTo>
                        <a:pt x="686" y="220"/>
                      </a:lnTo>
                      <a:lnTo>
                        <a:pt x="686" y="226"/>
                      </a:lnTo>
                      <a:lnTo>
                        <a:pt x="680" y="226"/>
                      </a:lnTo>
                      <a:lnTo>
                        <a:pt x="686" y="226"/>
                      </a:lnTo>
                      <a:lnTo>
                        <a:pt x="686" y="220"/>
                      </a:lnTo>
                      <a:lnTo>
                        <a:pt x="680" y="220"/>
                      </a:lnTo>
                      <a:lnTo>
                        <a:pt x="680" y="226"/>
                      </a:lnTo>
                      <a:lnTo>
                        <a:pt x="675" y="226"/>
                      </a:lnTo>
                      <a:lnTo>
                        <a:pt x="680" y="226"/>
                      </a:lnTo>
                      <a:lnTo>
                        <a:pt x="675" y="226"/>
                      </a:lnTo>
                      <a:lnTo>
                        <a:pt x="675" y="232"/>
                      </a:lnTo>
                      <a:lnTo>
                        <a:pt x="680" y="232"/>
                      </a:lnTo>
                      <a:lnTo>
                        <a:pt x="675" y="232"/>
                      </a:lnTo>
                      <a:lnTo>
                        <a:pt x="669" y="232"/>
                      </a:lnTo>
                      <a:lnTo>
                        <a:pt x="669" y="226"/>
                      </a:lnTo>
                      <a:lnTo>
                        <a:pt x="663" y="226"/>
                      </a:lnTo>
                      <a:lnTo>
                        <a:pt x="663" y="220"/>
                      </a:lnTo>
                      <a:lnTo>
                        <a:pt x="657" y="220"/>
                      </a:lnTo>
                      <a:lnTo>
                        <a:pt x="657" y="215"/>
                      </a:lnTo>
                      <a:lnTo>
                        <a:pt x="651" y="215"/>
                      </a:lnTo>
                      <a:lnTo>
                        <a:pt x="645" y="215"/>
                      </a:lnTo>
                      <a:lnTo>
                        <a:pt x="639" y="215"/>
                      </a:lnTo>
                      <a:lnTo>
                        <a:pt x="645" y="215"/>
                      </a:lnTo>
                      <a:lnTo>
                        <a:pt x="645" y="220"/>
                      </a:lnTo>
                      <a:lnTo>
                        <a:pt x="651" y="220"/>
                      </a:lnTo>
                      <a:lnTo>
                        <a:pt x="651" y="215"/>
                      </a:lnTo>
                      <a:lnTo>
                        <a:pt x="651" y="220"/>
                      </a:lnTo>
                      <a:lnTo>
                        <a:pt x="651" y="226"/>
                      </a:lnTo>
                      <a:lnTo>
                        <a:pt x="657" y="226"/>
                      </a:lnTo>
                      <a:lnTo>
                        <a:pt x="663" y="226"/>
                      </a:lnTo>
                      <a:lnTo>
                        <a:pt x="663" y="232"/>
                      </a:lnTo>
                      <a:lnTo>
                        <a:pt x="669" y="232"/>
                      </a:lnTo>
                      <a:lnTo>
                        <a:pt x="669" y="238"/>
                      </a:lnTo>
                      <a:lnTo>
                        <a:pt x="675" y="238"/>
                      </a:lnTo>
                      <a:lnTo>
                        <a:pt x="675" y="244"/>
                      </a:lnTo>
                      <a:lnTo>
                        <a:pt x="680" y="244"/>
                      </a:lnTo>
                      <a:lnTo>
                        <a:pt x="680" y="250"/>
                      </a:lnTo>
                      <a:lnTo>
                        <a:pt x="680" y="256"/>
                      </a:lnTo>
                      <a:lnTo>
                        <a:pt x="675" y="256"/>
                      </a:lnTo>
                      <a:lnTo>
                        <a:pt x="675" y="250"/>
                      </a:lnTo>
                      <a:lnTo>
                        <a:pt x="669" y="250"/>
                      </a:lnTo>
                      <a:lnTo>
                        <a:pt x="669" y="244"/>
                      </a:lnTo>
                      <a:lnTo>
                        <a:pt x="663" y="244"/>
                      </a:lnTo>
                      <a:lnTo>
                        <a:pt x="657" y="244"/>
                      </a:lnTo>
                      <a:lnTo>
                        <a:pt x="651" y="244"/>
                      </a:lnTo>
                      <a:lnTo>
                        <a:pt x="645" y="244"/>
                      </a:lnTo>
                      <a:lnTo>
                        <a:pt x="651" y="244"/>
                      </a:lnTo>
                      <a:lnTo>
                        <a:pt x="651" y="250"/>
                      </a:lnTo>
                      <a:lnTo>
                        <a:pt x="657" y="250"/>
                      </a:lnTo>
                      <a:lnTo>
                        <a:pt x="657" y="244"/>
                      </a:lnTo>
                      <a:lnTo>
                        <a:pt x="657" y="250"/>
                      </a:lnTo>
                      <a:lnTo>
                        <a:pt x="663" y="250"/>
                      </a:lnTo>
                      <a:lnTo>
                        <a:pt x="669" y="250"/>
                      </a:lnTo>
                      <a:lnTo>
                        <a:pt x="669" y="256"/>
                      </a:lnTo>
                      <a:lnTo>
                        <a:pt x="675" y="256"/>
                      </a:lnTo>
                      <a:lnTo>
                        <a:pt x="675" y="262"/>
                      </a:lnTo>
                      <a:lnTo>
                        <a:pt x="669" y="262"/>
                      </a:lnTo>
                      <a:lnTo>
                        <a:pt x="663" y="262"/>
                      </a:lnTo>
                      <a:lnTo>
                        <a:pt x="663" y="268"/>
                      </a:lnTo>
                      <a:lnTo>
                        <a:pt x="663" y="262"/>
                      </a:lnTo>
                      <a:lnTo>
                        <a:pt x="669" y="262"/>
                      </a:lnTo>
                      <a:lnTo>
                        <a:pt x="669" y="268"/>
                      </a:lnTo>
                      <a:lnTo>
                        <a:pt x="669" y="274"/>
                      </a:lnTo>
                      <a:lnTo>
                        <a:pt x="663" y="274"/>
                      </a:lnTo>
                      <a:lnTo>
                        <a:pt x="669" y="274"/>
                      </a:lnTo>
                      <a:lnTo>
                        <a:pt x="669" y="280"/>
                      </a:lnTo>
                      <a:lnTo>
                        <a:pt x="663" y="280"/>
                      </a:lnTo>
                      <a:lnTo>
                        <a:pt x="669" y="280"/>
                      </a:lnTo>
                      <a:lnTo>
                        <a:pt x="669" y="274"/>
                      </a:lnTo>
                      <a:lnTo>
                        <a:pt x="675" y="274"/>
                      </a:lnTo>
                      <a:lnTo>
                        <a:pt x="675" y="268"/>
                      </a:lnTo>
                      <a:lnTo>
                        <a:pt x="675" y="274"/>
                      </a:lnTo>
                      <a:lnTo>
                        <a:pt x="680" y="280"/>
                      </a:lnTo>
                      <a:lnTo>
                        <a:pt x="675" y="280"/>
                      </a:lnTo>
                      <a:lnTo>
                        <a:pt x="675" y="286"/>
                      </a:lnTo>
                      <a:lnTo>
                        <a:pt x="675" y="292"/>
                      </a:lnTo>
                      <a:lnTo>
                        <a:pt x="669" y="292"/>
                      </a:lnTo>
                      <a:lnTo>
                        <a:pt x="669" y="298"/>
                      </a:lnTo>
                      <a:lnTo>
                        <a:pt x="669" y="292"/>
                      </a:lnTo>
                      <a:lnTo>
                        <a:pt x="663" y="298"/>
                      </a:lnTo>
                      <a:lnTo>
                        <a:pt x="669" y="298"/>
                      </a:lnTo>
                      <a:lnTo>
                        <a:pt x="669" y="304"/>
                      </a:lnTo>
                      <a:lnTo>
                        <a:pt x="675" y="310"/>
                      </a:lnTo>
                      <a:lnTo>
                        <a:pt x="675" y="304"/>
                      </a:lnTo>
                      <a:lnTo>
                        <a:pt x="680" y="310"/>
                      </a:lnTo>
                      <a:lnTo>
                        <a:pt x="675" y="310"/>
                      </a:lnTo>
                      <a:lnTo>
                        <a:pt x="675" y="316"/>
                      </a:lnTo>
                      <a:lnTo>
                        <a:pt x="680" y="316"/>
                      </a:lnTo>
                      <a:lnTo>
                        <a:pt x="680" y="322"/>
                      </a:lnTo>
                      <a:lnTo>
                        <a:pt x="680" y="328"/>
                      </a:lnTo>
                      <a:lnTo>
                        <a:pt x="680" y="334"/>
                      </a:lnTo>
                      <a:lnTo>
                        <a:pt x="686" y="334"/>
                      </a:lnTo>
                      <a:lnTo>
                        <a:pt x="686" y="340"/>
                      </a:lnTo>
                      <a:lnTo>
                        <a:pt x="686" y="346"/>
                      </a:lnTo>
                      <a:lnTo>
                        <a:pt x="686" y="352"/>
                      </a:lnTo>
                      <a:lnTo>
                        <a:pt x="692" y="358"/>
                      </a:lnTo>
                      <a:lnTo>
                        <a:pt x="692" y="364"/>
                      </a:lnTo>
                      <a:lnTo>
                        <a:pt x="698" y="370"/>
                      </a:lnTo>
                      <a:lnTo>
                        <a:pt x="698" y="376"/>
                      </a:lnTo>
                      <a:lnTo>
                        <a:pt x="704" y="376"/>
                      </a:lnTo>
                      <a:lnTo>
                        <a:pt x="704" y="382"/>
                      </a:lnTo>
                      <a:lnTo>
                        <a:pt x="710" y="382"/>
                      </a:lnTo>
                      <a:lnTo>
                        <a:pt x="710" y="388"/>
                      </a:lnTo>
                      <a:lnTo>
                        <a:pt x="716" y="388"/>
                      </a:lnTo>
                      <a:lnTo>
                        <a:pt x="722" y="388"/>
                      </a:lnTo>
                      <a:lnTo>
                        <a:pt x="722" y="394"/>
                      </a:lnTo>
                      <a:lnTo>
                        <a:pt x="728" y="394"/>
                      </a:lnTo>
                      <a:lnTo>
                        <a:pt x="728" y="400"/>
                      </a:lnTo>
                      <a:lnTo>
                        <a:pt x="728" y="405"/>
                      </a:lnTo>
                      <a:lnTo>
                        <a:pt x="722" y="411"/>
                      </a:lnTo>
                      <a:lnTo>
                        <a:pt x="722" y="417"/>
                      </a:lnTo>
                      <a:lnTo>
                        <a:pt x="722" y="411"/>
                      </a:lnTo>
                      <a:lnTo>
                        <a:pt x="716" y="411"/>
                      </a:lnTo>
                      <a:lnTo>
                        <a:pt x="710" y="411"/>
                      </a:lnTo>
                      <a:lnTo>
                        <a:pt x="716" y="411"/>
                      </a:lnTo>
                      <a:lnTo>
                        <a:pt x="716" y="417"/>
                      </a:lnTo>
                      <a:lnTo>
                        <a:pt x="710" y="417"/>
                      </a:lnTo>
                      <a:lnTo>
                        <a:pt x="710" y="411"/>
                      </a:lnTo>
                      <a:lnTo>
                        <a:pt x="710" y="405"/>
                      </a:lnTo>
                      <a:lnTo>
                        <a:pt x="704" y="405"/>
                      </a:lnTo>
                      <a:lnTo>
                        <a:pt x="704" y="400"/>
                      </a:lnTo>
                      <a:lnTo>
                        <a:pt x="704" y="394"/>
                      </a:lnTo>
                      <a:lnTo>
                        <a:pt x="704" y="388"/>
                      </a:lnTo>
                      <a:lnTo>
                        <a:pt x="698" y="388"/>
                      </a:lnTo>
                      <a:lnTo>
                        <a:pt x="698" y="394"/>
                      </a:lnTo>
                      <a:lnTo>
                        <a:pt x="704" y="394"/>
                      </a:lnTo>
                      <a:lnTo>
                        <a:pt x="704" y="400"/>
                      </a:lnTo>
                      <a:lnTo>
                        <a:pt x="698" y="400"/>
                      </a:lnTo>
                      <a:lnTo>
                        <a:pt x="698" y="394"/>
                      </a:lnTo>
                      <a:lnTo>
                        <a:pt x="692" y="394"/>
                      </a:lnTo>
                      <a:lnTo>
                        <a:pt x="692" y="400"/>
                      </a:lnTo>
                      <a:lnTo>
                        <a:pt x="686" y="400"/>
                      </a:lnTo>
                      <a:lnTo>
                        <a:pt x="686" y="394"/>
                      </a:lnTo>
                      <a:lnTo>
                        <a:pt x="680" y="394"/>
                      </a:lnTo>
                      <a:lnTo>
                        <a:pt x="680" y="388"/>
                      </a:lnTo>
                      <a:lnTo>
                        <a:pt x="680" y="394"/>
                      </a:lnTo>
                      <a:lnTo>
                        <a:pt x="675" y="394"/>
                      </a:lnTo>
                      <a:lnTo>
                        <a:pt x="675" y="388"/>
                      </a:lnTo>
                      <a:lnTo>
                        <a:pt x="680" y="388"/>
                      </a:lnTo>
                      <a:lnTo>
                        <a:pt x="680" y="382"/>
                      </a:lnTo>
                      <a:lnTo>
                        <a:pt x="675" y="382"/>
                      </a:lnTo>
                      <a:lnTo>
                        <a:pt x="675" y="388"/>
                      </a:lnTo>
                      <a:lnTo>
                        <a:pt x="669" y="388"/>
                      </a:lnTo>
                      <a:lnTo>
                        <a:pt x="669" y="382"/>
                      </a:lnTo>
                      <a:lnTo>
                        <a:pt x="669" y="388"/>
                      </a:lnTo>
                      <a:lnTo>
                        <a:pt x="669" y="394"/>
                      </a:lnTo>
                      <a:lnTo>
                        <a:pt x="675" y="394"/>
                      </a:lnTo>
                      <a:lnTo>
                        <a:pt x="669" y="394"/>
                      </a:lnTo>
                      <a:lnTo>
                        <a:pt x="675" y="400"/>
                      </a:lnTo>
                      <a:lnTo>
                        <a:pt x="680" y="400"/>
                      </a:lnTo>
                      <a:lnTo>
                        <a:pt x="686" y="400"/>
                      </a:lnTo>
                      <a:lnTo>
                        <a:pt x="686" y="405"/>
                      </a:lnTo>
                      <a:lnTo>
                        <a:pt x="692" y="405"/>
                      </a:lnTo>
                      <a:lnTo>
                        <a:pt x="698" y="405"/>
                      </a:lnTo>
                      <a:lnTo>
                        <a:pt x="704" y="405"/>
                      </a:lnTo>
                      <a:lnTo>
                        <a:pt x="704" y="411"/>
                      </a:lnTo>
                      <a:lnTo>
                        <a:pt x="698" y="411"/>
                      </a:lnTo>
                      <a:lnTo>
                        <a:pt x="704" y="411"/>
                      </a:lnTo>
                      <a:lnTo>
                        <a:pt x="698" y="417"/>
                      </a:lnTo>
                      <a:lnTo>
                        <a:pt x="704" y="417"/>
                      </a:lnTo>
                      <a:lnTo>
                        <a:pt x="704" y="411"/>
                      </a:lnTo>
                      <a:lnTo>
                        <a:pt x="704" y="417"/>
                      </a:lnTo>
                      <a:lnTo>
                        <a:pt x="710" y="417"/>
                      </a:lnTo>
                      <a:lnTo>
                        <a:pt x="716" y="423"/>
                      </a:lnTo>
                      <a:lnTo>
                        <a:pt x="710" y="423"/>
                      </a:lnTo>
                      <a:lnTo>
                        <a:pt x="716" y="423"/>
                      </a:lnTo>
                      <a:lnTo>
                        <a:pt x="722" y="423"/>
                      </a:lnTo>
                      <a:lnTo>
                        <a:pt x="722" y="417"/>
                      </a:lnTo>
                      <a:lnTo>
                        <a:pt x="728" y="417"/>
                      </a:lnTo>
                      <a:lnTo>
                        <a:pt x="734" y="417"/>
                      </a:lnTo>
                      <a:lnTo>
                        <a:pt x="734" y="423"/>
                      </a:lnTo>
                      <a:lnTo>
                        <a:pt x="728" y="423"/>
                      </a:lnTo>
                      <a:lnTo>
                        <a:pt x="728" y="429"/>
                      </a:lnTo>
                      <a:lnTo>
                        <a:pt x="734" y="429"/>
                      </a:lnTo>
                      <a:lnTo>
                        <a:pt x="734" y="435"/>
                      </a:lnTo>
                      <a:lnTo>
                        <a:pt x="734" y="441"/>
                      </a:lnTo>
                      <a:lnTo>
                        <a:pt x="740" y="441"/>
                      </a:lnTo>
                      <a:lnTo>
                        <a:pt x="740" y="447"/>
                      </a:lnTo>
                      <a:lnTo>
                        <a:pt x="746" y="447"/>
                      </a:lnTo>
                      <a:lnTo>
                        <a:pt x="746" y="453"/>
                      </a:lnTo>
                      <a:lnTo>
                        <a:pt x="752" y="453"/>
                      </a:lnTo>
                      <a:lnTo>
                        <a:pt x="752" y="459"/>
                      </a:lnTo>
                      <a:lnTo>
                        <a:pt x="752" y="465"/>
                      </a:lnTo>
                      <a:lnTo>
                        <a:pt x="746" y="459"/>
                      </a:lnTo>
                      <a:lnTo>
                        <a:pt x="746" y="465"/>
                      </a:lnTo>
                      <a:lnTo>
                        <a:pt x="746" y="471"/>
                      </a:lnTo>
                      <a:lnTo>
                        <a:pt x="752" y="471"/>
                      </a:lnTo>
                      <a:lnTo>
                        <a:pt x="752" y="465"/>
                      </a:lnTo>
                      <a:lnTo>
                        <a:pt x="752" y="471"/>
                      </a:lnTo>
                      <a:lnTo>
                        <a:pt x="752" y="477"/>
                      </a:lnTo>
                      <a:lnTo>
                        <a:pt x="758" y="477"/>
                      </a:lnTo>
                      <a:lnTo>
                        <a:pt x="758" y="483"/>
                      </a:lnTo>
                      <a:lnTo>
                        <a:pt x="758" y="489"/>
                      </a:lnTo>
                      <a:lnTo>
                        <a:pt x="758" y="483"/>
                      </a:lnTo>
                      <a:lnTo>
                        <a:pt x="752" y="483"/>
                      </a:lnTo>
                      <a:lnTo>
                        <a:pt x="752" y="477"/>
                      </a:lnTo>
                      <a:lnTo>
                        <a:pt x="746" y="477"/>
                      </a:lnTo>
                      <a:lnTo>
                        <a:pt x="740" y="477"/>
                      </a:lnTo>
                      <a:lnTo>
                        <a:pt x="740" y="471"/>
                      </a:lnTo>
                      <a:lnTo>
                        <a:pt x="740" y="465"/>
                      </a:lnTo>
                      <a:lnTo>
                        <a:pt x="740" y="471"/>
                      </a:lnTo>
                      <a:lnTo>
                        <a:pt x="734" y="465"/>
                      </a:lnTo>
                      <a:lnTo>
                        <a:pt x="734" y="471"/>
                      </a:lnTo>
                      <a:lnTo>
                        <a:pt x="728" y="465"/>
                      </a:lnTo>
                      <a:lnTo>
                        <a:pt x="728" y="459"/>
                      </a:lnTo>
                      <a:lnTo>
                        <a:pt x="734" y="459"/>
                      </a:lnTo>
                      <a:lnTo>
                        <a:pt x="734" y="453"/>
                      </a:lnTo>
                      <a:lnTo>
                        <a:pt x="728" y="459"/>
                      </a:lnTo>
                      <a:lnTo>
                        <a:pt x="728" y="453"/>
                      </a:lnTo>
                      <a:lnTo>
                        <a:pt x="728" y="447"/>
                      </a:lnTo>
                      <a:lnTo>
                        <a:pt x="722" y="447"/>
                      </a:lnTo>
                      <a:lnTo>
                        <a:pt x="716" y="447"/>
                      </a:lnTo>
                      <a:lnTo>
                        <a:pt x="716" y="441"/>
                      </a:lnTo>
                      <a:lnTo>
                        <a:pt x="716" y="447"/>
                      </a:lnTo>
                      <a:lnTo>
                        <a:pt x="722" y="447"/>
                      </a:lnTo>
                      <a:lnTo>
                        <a:pt x="722" y="453"/>
                      </a:lnTo>
                      <a:lnTo>
                        <a:pt x="728" y="453"/>
                      </a:lnTo>
                      <a:lnTo>
                        <a:pt x="722" y="453"/>
                      </a:lnTo>
                      <a:lnTo>
                        <a:pt x="722" y="459"/>
                      </a:lnTo>
                      <a:lnTo>
                        <a:pt x="722" y="465"/>
                      </a:lnTo>
                      <a:lnTo>
                        <a:pt x="722" y="471"/>
                      </a:lnTo>
                      <a:lnTo>
                        <a:pt x="722" y="465"/>
                      </a:lnTo>
                      <a:lnTo>
                        <a:pt x="716" y="465"/>
                      </a:lnTo>
                      <a:lnTo>
                        <a:pt x="716" y="459"/>
                      </a:lnTo>
                      <a:lnTo>
                        <a:pt x="710" y="459"/>
                      </a:lnTo>
                      <a:lnTo>
                        <a:pt x="710" y="465"/>
                      </a:lnTo>
                      <a:lnTo>
                        <a:pt x="716" y="465"/>
                      </a:lnTo>
                      <a:lnTo>
                        <a:pt x="716" y="471"/>
                      </a:lnTo>
                      <a:lnTo>
                        <a:pt x="710" y="471"/>
                      </a:lnTo>
                      <a:lnTo>
                        <a:pt x="710" y="465"/>
                      </a:lnTo>
                      <a:lnTo>
                        <a:pt x="704" y="465"/>
                      </a:lnTo>
                      <a:lnTo>
                        <a:pt x="704" y="459"/>
                      </a:lnTo>
                      <a:lnTo>
                        <a:pt x="704" y="453"/>
                      </a:lnTo>
                      <a:lnTo>
                        <a:pt x="698" y="453"/>
                      </a:lnTo>
                      <a:lnTo>
                        <a:pt x="692" y="453"/>
                      </a:lnTo>
                      <a:lnTo>
                        <a:pt x="686" y="447"/>
                      </a:lnTo>
                      <a:lnTo>
                        <a:pt x="680" y="447"/>
                      </a:lnTo>
                      <a:lnTo>
                        <a:pt x="675" y="447"/>
                      </a:lnTo>
                      <a:lnTo>
                        <a:pt x="669" y="447"/>
                      </a:lnTo>
                      <a:lnTo>
                        <a:pt x="675" y="447"/>
                      </a:lnTo>
                      <a:lnTo>
                        <a:pt x="675" y="441"/>
                      </a:lnTo>
                      <a:lnTo>
                        <a:pt x="680" y="441"/>
                      </a:lnTo>
                      <a:lnTo>
                        <a:pt x="680" y="435"/>
                      </a:lnTo>
                      <a:lnTo>
                        <a:pt x="675" y="435"/>
                      </a:lnTo>
                      <a:lnTo>
                        <a:pt x="675" y="429"/>
                      </a:lnTo>
                      <a:lnTo>
                        <a:pt x="675" y="435"/>
                      </a:lnTo>
                      <a:lnTo>
                        <a:pt x="675" y="441"/>
                      </a:lnTo>
                      <a:lnTo>
                        <a:pt x="669" y="441"/>
                      </a:lnTo>
                      <a:lnTo>
                        <a:pt x="669" y="447"/>
                      </a:lnTo>
                      <a:lnTo>
                        <a:pt x="669" y="453"/>
                      </a:lnTo>
                      <a:lnTo>
                        <a:pt x="663" y="453"/>
                      </a:lnTo>
                      <a:lnTo>
                        <a:pt x="663" y="447"/>
                      </a:lnTo>
                      <a:lnTo>
                        <a:pt x="663" y="441"/>
                      </a:lnTo>
                      <a:lnTo>
                        <a:pt x="663" y="435"/>
                      </a:lnTo>
                      <a:lnTo>
                        <a:pt x="657" y="429"/>
                      </a:lnTo>
                      <a:lnTo>
                        <a:pt x="657" y="435"/>
                      </a:lnTo>
                      <a:lnTo>
                        <a:pt x="663" y="435"/>
                      </a:lnTo>
                      <a:lnTo>
                        <a:pt x="663" y="441"/>
                      </a:lnTo>
                      <a:lnTo>
                        <a:pt x="663" y="447"/>
                      </a:lnTo>
                      <a:lnTo>
                        <a:pt x="663" y="441"/>
                      </a:lnTo>
                      <a:lnTo>
                        <a:pt x="657" y="441"/>
                      </a:lnTo>
                      <a:lnTo>
                        <a:pt x="657" y="447"/>
                      </a:lnTo>
                      <a:lnTo>
                        <a:pt x="663" y="447"/>
                      </a:lnTo>
                      <a:lnTo>
                        <a:pt x="657" y="447"/>
                      </a:lnTo>
                      <a:lnTo>
                        <a:pt x="657" y="453"/>
                      </a:lnTo>
                      <a:lnTo>
                        <a:pt x="657" y="447"/>
                      </a:lnTo>
                      <a:lnTo>
                        <a:pt x="657" y="453"/>
                      </a:lnTo>
                      <a:lnTo>
                        <a:pt x="651" y="453"/>
                      </a:lnTo>
                      <a:lnTo>
                        <a:pt x="651" y="447"/>
                      </a:lnTo>
                      <a:lnTo>
                        <a:pt x="645" y="447"/>
                      </a:lnTo>
                      <a:lnTo>
                        <a:pt x="645" y="441"/>
                      </a:lnTo>
                      <a:lnTo>
                        <a:pt x="639" y="441"/>
                      </a:lnTo>
                      <a:lnTo>
                        <a:pt x="639" y="435"/>
                      </a:lnTo>
                      <a:lnTo>
                        <a:pt x="639" y="429"/>
                      </a:lnTo>
                      <a:lnTo>
                        <a:pt x="633" y="429"/>
                      </a:lnTo>
                      <a:lnTo>
                        <a:pt x="633" y="423"/>
                      </a:lnTo>
                      <a:lnTo>
                        <a:pt x="639" y="423"/>
                      </a:lnTo>
                      <a:lnTo>
                        <a:pt x="639" y="417"/>
                      </a:lnTo>
                      <a:lnTo>
                        <a:pt x="639" y="423"/>
                      </a:lnTo>
                      <a:lnTo>
                        <a:pt x="633" y="423"/>
                      </a:lnTo>
                      <a:lnTo>
                        <a:pt x="633" y="417"/>
                      </a:lnTo>
                      <a:lnTo>
                        <a:pt x="627" y="417"/>
                      </a:lnTo>
                      <a:lnTo>
                        <a:pt x="621" y="411"/>
                      </a:lnTo>
                      <a:lnTo>
                        <a:pt x="621" y="417"/>
                      </a:lnTo>
                      <a:lnTo>
                        <a:pt x="615" y="417"/>
                      </a:lnTo>
                      <a:lnTo>
                        <a:pt x="621" y="417"/>
                      </a:lnTo>
                      <a:lnTo>
                        <a:pt x="621" y="423"/>
                      </a:lnTo>
                      <a:lnTo>
                        <a:pt x="627" y="423"/>
                      </a:lnTo>
                      <a:lnTo>
                        <a:pt x="627" y="429"/>
                      </a:lnTo>
                      <a:lnTo>
                        <a:pt x="633" y="435"/>
                      </a:lnTo>
                      <a:lnTo>
                        <a:pt x="633" y="441"/>
                      </a:lnTo>
                      <a:lnTo>
                        <a:pt x="639" y="441"/>
                      </a:lnTo>
                      <a:lnTo>
                        <a:pt x="639" y="447"/>
                      </a:lnTo>
                      <a:lnTo>
                        <a:pt x="633" y="447"/>
                      </a:lnTo>
                      <a:lnTo>
                        <a:pt x="627" y="447"/>
                      </a:lnTo>
                      <a:lnTo>
                        <a:pt x="621" y="447"/>
                      </a:lnTo>
                      <a:lnTo>
                        <a:pt x="621" y="441"/>
                      </a:lnTo>
                      <a:lnTo>
                        <a:pt x="615" y="441"/>
                      </a:lnTo>
                      <a:lnTo>
                        <a:pt x="621" y="441"/>
                      </a:lnTo>
                      <a:lnTo>
                        <a:pt x="621" y="435"/>
                      </a:lnTo>
                      <a:lnTo>
                        <a:pt x="615" y="435"/>
                      </a:lnTo>
                      <a:lnTo>
                        <a:pt x="609" y="435"/>
                      </a:lnTo>
                      <a:lnTo>
                        <a:pt x="609" y="429"/>
                      </a:lnTo>
                      <a:lnTo>
                        <a:pt x="609" y="435"/>
                      </a:lnTo>
                      <a:lnTo>
                        <a:pt x="603" y="435"/>
                      </a:lnTo>
                      <a:lnTo>
                        <a:pt x="603" y="429"/>
                      </a:lnTo>
                      <a:lnTo>
                        <a:pt x="603" y="423"/>
                      </a:lnTo>
                      <a:lnTo>
                        <a:pt x="597" y="423"/>
                      </a:lnTo>
                      <a:lnTo>
                        <a:pt x="597" y="417"/>
                      </a:lnTo>
                      <a:lnTo>
                        <a:pt x="591" y="411"/>
                      </a:lnTo>
                      <a:lnTo>
                        <a:pt x="591" y="405"/>
                      </a:lnTo>
                      <a:lnTo>
                        <a:pt x="585" y="405"/>
                      </a:lnTo>
                      <a:lnTo>
                        <a:pt x="585" y="400"/>
                      </a:lnTo>
                      <a:lnTo>
                        <a:pt x="585" y="394"/>
                      </a:lnTo>
                      <a:lnTo>
                        <a:pt x="585" y="400"/>
                      </a:lnTo>
                      <a:lnTo>
                        <a:pt x="579" y="400"/>
                      </a:lnTo>
                      <a:lnTo>
                        <a:pt x="579" y="405"/>
                      </a:lnTo>
                      <a:lnTo>
                        <a:pt x="585" y="405"/>
                      </a:lnTo>
                      <a:lnTo>
                        <a:pt x="579" y="411"/>
                      </a:lnTo>
                      <a:lnTo>
                        <a:pt x="573" y="417"/>
                      </a:lnTo>
                      <a:lnTo>
                        <a:pt x="573" y="423"/>
                      </a:lnTo>
                      <a:lnTo>
                        <a:pt x="573" y="417"/>
                      </a:lnTo>
                      <a:lnTo>
                        <a:pt x="573" y="411"/>
                      </a:lnTo>
                      <a:lnTo>
                        <a:pt x="567" y="411"/>
                      </a:lnTo>
                      <a:lnTo>
                        <a:pt x="573" y="411"/>
                      </a:lnTo>
                      <a:lnTo>
                        <a:pt x="573" y="405"/>
                      </a:lnTo>
                      <a:lnTo>
                        <a:pt x="567" y="405"/>
                      </a:lnTo>
                      <a:lnTo>
                        <a:pt x="567" y="411"/>
                      </a:lnTo>
                      <a:lnTo>
                        <a:pt x="561" y="411"/>
                      </a:lnTo>
                      <a:lnTo>
                        <a:pt x="561" y="405"/>
                      </a:lnTo>
                      <a:lnTo>
                        <a:pt x="561" y="411"/>
                      </a:lnTo>
                      <a:lnTo>
                        <a:pt x="567" y="411"/>
                      </a:lnTo>
                      <a:lnTo>
                        <a:pt x="567" y="417"/>
                      </a:lnTo>
                      <a:lnTo>
                        <a:pt x="567" y="423"/>
                      </a:lnTo>
                      <a:lnTo>
                        <a:pt x="567" y="429"/>
                      </a:lnTo>
                      <a:lnTo>
                        <a:pt x="561" y="429"/>
                      </a:lnTo>
                      <a:lnTo>
                        <a:pt x="555" y="435"/>
                      </a:lnTo>
                      <a:lnTo>
                        <a:pt x="549" y="435"/>
                      </a:lnTo>
                      <a:lnTo>
                        <a:pt x="543" y="435"/>
                      </a:lnTo>
                      <a:lnTo>
                        <a:pt x="543" y="429"/>
                      </a:lnTo>
                      <a:lnTo>
                        <a:pt x="537" y="429"/>
                      </a:lnTo>
                      <a:lnTo>
                        <a:pt x="537" y="423"/>
                      </a:lnTo>
                      <a:lnTo>
                        <a:pt x="537" y="417"/>
                      </a:lnTo>
                      <a:lnTo>
                        <a:pt x="537" y="411"/>
                      </a:lnTo>
                      <a:lnTo>
                        <a:pt x="531" y="411"/>
                      </a:lnTo>
                      <a:lnTo>
                        <a:pt x="531" y="405"/>
                      </a:lnTo>
                      <a:lnTo>
                        <a:pt x="531" y="400"/>
                      </a:lnTo>
                      <a:lnTo>
                        <a:pt x="531" y="394"/>
                      </a:lnTo>
                      <a:lnTo>
                        <a:pt x="537" y="394"/>
                      </a:lnTo>
                      <a:lnTo>
                        <a:pt x="537" y="388"/>
                      </a:lnTo>
                      <a:lnTo>
                        <a:pt x="537" y="382"/>
                      </a:lnTo>
                      <a:lnTo>
                        <a:pt x="543" y="382"/>
                      </a:lnTo>
                      <a:lnTo>
                        <a:pt x="549" y="382"/>
                      </a:lnTo>
                      <a:lnTo>
                        <a:pt x="549" y="376"/>
                      </a:lnTo>
                      <a:lnTo>
                        <a:pt x="555" y="376"/>
                      </a:lnTo>
                      <a:lnTo>
                        <a:pt x="555" y="370"/>
                      </a:lnTo>
                      <a:lnTo>
                        <a:pt x="549" y="370"/>
                      </a:lnTo>
                      <a:lnTo>
                        <a:pt x="549" y="376"/>
                      </a:lnTo>
                      <a:lnTo>
                        <a:pt x="543" y="376"/>
                      </a:lnTo>
                      <a:lnTo>
                        <a:pt x="543" y="382"/>
                      </a:lnTo>
                      <a:lnTo>
                        <a:pt x="543" y="376"/>
                      </a:lnTo>
                      <a:lnTo>
                        <a:pt x="543" y="370"/>
                      </a:lnTo>
                      <a:lnTo>
                        <a:pt x="549" y="370"/>
                      </a:lnTo>
                      <a:lnTo>
                        <a:pt x="549" y="364"/>
                      </a:lnTo>
                      <a:lnTo>
                        <a:pt x="555" y="364"/>
                      </a:lnTo>
                      <a:lnTo>
                        <a:pt x="555" y="358"/>
                      </a:lnTo>
                      <a:lnTo>
                        <a:pt x="555" y="352"/>
                      </a:lnTo>
                      <a:lnTo>
                        <a:pt x="555" y="358"/>
                      </a:lnTo>
                      <a:lnTo>
                        <a:pt x="555" y="352"/>
                      </a:lnTo>
                      <a:lnTo>
                        <a:pt x="549" y="352"/>
                      </a:lnTo>
                      <a:lnTo>
                        <a:pt x="549" y="346"/>
                      </a:lnTo>
                      <a:lnTo>
                        <a:pt x="555" y="346"/>
                      </a:lnTo>
                      <a:lnTo>
                        <a:pt x="555" y="340"/>
                      </a:lnTo>
                      <a:lnTo>
                        <a:pt x="561" y="334"/>
                      </a:lnTo>
                      <a:lnTo>
                        <a:pt x="567" y="334"/>
                      </a:lnTo>
                      <a:lnTo>
                        <a:pt x="567" y="328"/>
                      </a:lnTo>
                      <a:lnTo>
                        <a:pt x="567" y="322"/>
                      </a:lnTo>
                      <a:lnTo>
                        <a:pt x="561" y="322"/>
                      </a:lnTo>
                      <a:lnTo>
                        <a:pt x="561" y="316"/>
                      </a:lnTo>
                      <a:lnTo>
                        <a:pt x="561" y="310"/>
                      </a:lnTo>
                      <a:lnTo>
                        <a:pt x="585" y="280"/>
                      </a:lnTo>
                      <a:lnTo>
                        <a:pt x="561" y="262"/>
                      </a:lnTo>
                      <a:lnTo>
                        <a:pt x="549" y="256"/>
                      </a:lnTo>
                      <a:lnTo>
                        <a:pt x="537" y="274"/>
                      </a:lnTo>
                      <a:lnTo>
                        <a:pt x="531" y="274"/>
                      </a:lnTo>
                      <a:lnTo>
                        <a:pt x="531" y="268"/>
                      </a:lnTo>
                      <a:lnTo>
                        <a:pt x="525" y="268"/>
                      </a:lnTo>
                      <a:lnTo>
                        <a:pt x="519" y="268"/>
                      </a:lnTo>
                      <a:lnTo>
                        <a:pt x="513" y="268"/>
                      </a:lnTo>
                      <a:lnTo>
                        <a:pt x="507" y="268"/>
                      </a:lnTo>
                      <a:lnTo>
                        <a:pt x="507" y="262"/>
                      </a:lnTo>
                      <a:lnTo>
                        <a:pt x="507" y="256"/>
                      </a:lnTo>
                      <a:lnTo>
                        <a:pt x="502" y="256"/>
                      </a:lnTo>
                      <a:lnTo>
                        <a:pt x="496" y="256"/>
                      </a:lnTo>
                      <a:lnTo>
                        <a:pt x="496" y="250"/>
                      </a:lnTo>
                      <a:lnTo>
                        <a:pt x="490" y="250"/>
                      </a:lnTo>
                      <a:lnTo>
                        <a:pt x="484" y="250"/>
                      </a:lnTo>
                      <a:lnTo>
                        <a:pt x="478" y="250"/>
                      </a:lnTo>
                      <a:lnTo>
                        <a:pt x="472" y="250"/>
                      </a:lnTo>
                      <a:lnTo>
                        <a:pt x="466" y="250"/>
                      </a:lnTo>
                      <a:lnTo>
                        <a:pt x="460" y="250"/>
                      </a:lnTo>
                      <a:lnTo>
                        <a:pt x="460" y="244"/>
                      </a:lnTo>
                      <a:lnTo>
                        <a:pt x="454" y="244"/>
                      </a:lnTo>
                      <a:lnTo>
                        <a:pt x="448" y="244"/>
                      </a:lnTo>
                      <a:lnTo>
                        <a:pt x="448" y="238"/>
                      </a:lnTo>
                      <a:lnTo>
                        <a:pt x="442" y="238"/>
                      </a:lnTo>
                      <a:lnTo>
                        <a:pt x="442" y="232"/>
                      </a:lnTo>
                      <a:lnTo>
                        <a:pt x="442" y="226"/>
                      </a:lnTo>
                      <a:lnTo>
                        <a:pt x="448" y="226"/>
                      </a:lnTo>
                      <a:lnTo>
                        <a:pt x="448" y="220"/>
                      </a:lnTo>
                      <a:lnTo>
                        <a:pt x="454" y="220"/>
                      </a:lnTo>
                      <a:lnTo>
                        <a:pt x="454" y="215"/>
                      </a:lnTo>
                      <a:lnTo>
                        <a:pt x="448" y="209"/>
                      </a:lnTo>
                      <a:lnTo>
                        <a:pt x="442" y="203"/>
                      </a:lnTo>
                      <a:lnTo>
                        <a:pt x="436" y="203"/>
                      </a:lnTo>
                      <a:lnTo>
                        <a:pt x="430" y="203"/>
                      </a:lnTo>
                      <a:lnTo>
                        <a:pt x="430" y="197"/>
                      </a:lnTo>
                      <a:lnTo>
                        <a:pt x="424" y="197"/>
                      </a:lnTo>
                      <a:lnTo>
                        <a:pt x="418" y="197"/>
                      </a:lnTo>
                      <a:lnTo>
                        <a:pt x="412" y="197"/>
                      </a:lnTo>
                      <a:lnTo>
                        <a:pt x="406" y="197"/>
                      </a:lnTo>
                      <a:lnTo>
                        <a:pt x="406" y="191"/>
                      </a:lnTo>
                      <a:lnTo>
                        <a:pt x="400" y="191"/>
                      </a:lnTo>
                      <a:lnTo>
                        <a:pt x="400" y="197"/>
                      </a:lnTo>
                      <a:lnTo>
                        <a:pt x="394" y="197"/>
                      </a:lnTo>
                      <a:lnTo>
                        <a:pt x="388" y="197"/>
                      </a:lnTo>
                      <a:lnTo>
                        <a:pt x="382" y="197"/>
                      </a:lnTo>
                      <a:lnTo>
                        <a:pt x="382" y="191"/>
                      </a:lnTo>
                      <a:lnTo>
                        <a:pt x="382" y="185"/>
                      </a:lnTo>
                      <a:lnTo>
                        <a:pt x="382" y="179"/>
                      </a:lnTo>
                      <a:lnTo>
                        <a:pt x="382" y="173"/>
                      </a:lnTo>
                      <a:lnTo>
                        <a:pt x="382" y="167"/>
                      </a:lnTo>
                      <a:lnTo>
                        <a:pt x="376" y="167"/>
                      </a:lnTo>
                      <a:lnTo>
                        <a:pt x="370" y="167"/>
                      </a:lnTo>
                      <a:lnTo>
                        <a:pt x="364" y="167"/>
                      </a:lnTo>
                      <a:lnTo>
                        <a:pt x="370" y="161"/>
                      </a:lnTo>
                      <a:lnTo>
                        <a:pt x="364" y="161"/>
                      </a:lnTo>
                      <a:lnTo>
                        <a:pt x="370" y="161"/>
                      </a:lnTo>
                      <a:lnTo>
                        <a:pt x="370" y="155"/>
                      </a:lnTo>
                      <a:lnTo>
                        <a:pt x="364" y="155"/>
                      </a:lnTo>
                      <a:lnTo>
                        <a:pt x="370" y="155"/>
                      </a:lnTo>
                      <a:lnTo>
                        <a:pt x="370" y="149"/>
                      </a:lnTo>
                      <a:lnTo>
                        <a:pt x="364" y="149"/>
                      </a:lnTo>
                      <a:lnTo>
                        <a:pt x="358" y="149"/>
                      </a:lnTo>
                      <a:lnTo>
                        <a:pt x="352" y="149"/>
                      </a:lnTo>
                      <a:lnTo>
                        <a:pt x="358" y="149"/>
                      </a:lnTo>
                      <a:lnTo>
                        <a:pt x="358" y="143"/>
                      </a:lnTo>
                      <a:lnTo>
                        <a:pt x="352" y="143"/>
                      </a:lnTo>
                      <a:lnTo>
                        <a:pt x="352" y="149"/>
                      </a:lnTo>
                      <a:lnTo>
                        <a:pt x="346" y="143"/>
                      </a:lnTo>
                      <a:lnTo>
                        <a:pt x="346" y="137"/>
                      </a:lnTo>
                      <a:lnTo>
                        <a:pt x="340" y="137"/>
                      </a:lnTo>
                      <a:lnTo>
                        <a:pt x="346" y="131"/>
                      </a:lnTo>
                      <a:lnTo>
                        <a:pt x="352" y="131"/>
                      </a:lnTo>
                      <a:lnTo>
                        <a:pt x="352" y="125"/>
                      </a:lnTo>
                      <a:lnTo>
                        <a:pt x="352" y="119"/>
                      </a:lnTo>
                      <a:lnTo>
                        <a:pt x="346" y="119"/>
                      </a:lnTo>
                      <a:lnTo>
                        <a:pt x="346" y="125"/>
                      </a:lnTo>
                      <a:lnTo>
                        <a:pt x="346" y="119"/>
                      </a:lnTo>
                      <a:lnTo>
                        <a:pt x="340" y="119"/>
                      </a:lnTo>
                      <a:lnTo>
                        <a:pt x="340" y="125"/>
                      </a:lnTo>
                      <a:lnTo>
                        <a:pt x="334" y="125"/>
                      </a:lnTo>
                      <a:lnTo>
                        <a:pt x="329" y="119"/>
                      </a:lnTo>
                      <a:lnTo>
                        <a:pt x="329" y="125"/>
                      </a:lnTo>
                      <a:lnTo>
                        <a:pt x="334" y="125"/>
                      </a:lnTo>
                      <a:lnTo>
                        <a:pt x="334" y="131"/>
                      </a:lnTo>
                      <a:lnTo>
                        <a:pt x="329" y="131"/>
                      </a:lnTo>
                      <a:lnTo>
                        <a:pt x="329" y="125"/>
                      </a:lnTo>
                      <a:lnTo>
                        <a:pt x="323" y="125"/>
                      </a:lnTo>
                      <a:lnTo>
                        <a:pt x="323" y="131"/>
                      </a:lnTo>
                      <a:lnTo>
                        <a:pt x="317" y="131"/>
                      </a:lnTo>
                      <a:lnTo>
                        <a:pt x="317" y="125"/>
                      </a:lnTo>
                      <a:lnTo>
                        <a:pt x="311" y="125"/>
                      </a:lnTo>
                      <a:lnTo>
                        <a:pt x="311" y="119"/>
                      </a:lnTo>
                      <a:lnTo>
                        <a:pt x="305" y="119"/>
                      </a:lnTo>
                      <a:lnTo>
                        <a:pt x="299" y="113"/>
                      </a:lnTo>
                      <a:lnTo>
                        <a:pt x="293" y="113"/>
                      </a:lnTo>
                      <a:lnTo>
                        <a:pt x="287" y="113"/>
                      </a:lnTo>
                      <a:lnTo>
                        <a:pt x="281" y="113"/>
                      </a:lnTo>
                      <a:lnTo>
                        <a:pt x="281" y="107"/>
                      </a:lnTo>
                      <a:lnTo>
                        <a:pt x="275" y="107"/>
                      </a:lnTo>
                      <a:lnTo>
                        <a:pt x="275" y="113"/>
                      </a:lnTo>
                      <a:lnTo>
                        <a:pt x="269" y="113"/>
                      </a:lnTo>
                      <a:lnTo>
                        <a:pt x="269" y="119"/>
                      </a:lnTo>
                      <a:lnTo>
                        <a:pt x="263" y="119"/>
                      </a:lnTo>
                      <a:lnTo>
                        <a:pt x="269" y="119"/>
                      </a:lnTo>
                      <a:lnTo>
                        <a:pt x="269" y="125"/>
                      </a:lnTo>
                      <a:lnTo>
                        <a:pt x="263" y="125"/>
                      </a:lnTo>
                      <a:lnTo>
                        <a:pt x="263" y="131"/>
                      </a:lnTo>
                      <a:lnTo>
                        <a:pt x="263" y="137"/>
                      </a:lnTo>
                      <a:lnTo>
                        <a:pt x="257" y="137"/>
                      </a:lnTo>
                      <a:lnTo>
                        <a:pt x="251" y="137"/>
                      </a:lnTo>
                      <a:lnTo>
                        <a:pt x="251" y="131"/>
                      </a:lnTo>
                      <a:lnTo>
                        <a:pt x="245" y="131"/>
                      </a:lnTo>
                      <a:lnTo>
                        <a:pt x="239" y="131"/>
                      </a:lnTo>
                      <a:lnTo>
                        <a:pt x="239" y="137"/>
                      </a:lnTo>
                      <a:lnTo>
                        <a:pt x="239" y="131"/>
                      </a:lnTo>
                      <a:lnTo>
                        <a:pt x="239" y="137"/>
                      </a:lnTo>
                      <a:lnTo>
                        <a:pt x="239" y="143"/>
                      </a:lnTo>
                      <a:lnTo>
                        <a:pt x="233" y="143"/>
                      </a:lnTo>
                      <a:lnTo>
                        <a:pt x="233" y="137"/>
                      </a:lnTo>
                      <a:lnTo>
                        <a:pt x="233" y="143"/>
                      </a:lnTo>
                      <a:lnTo>
                        <a:pt x="233" y="137"/>
                      </a:lnTo>
                      <a:lnTo>
                        <a:pt x="227" y="137"/>
                      </a:lnTo>
                      <a:lnTo>
                        <a:pt x="227" y="143"/>
                      </a:lnTo>
                      <a:lnTo>
                        <a:pt x="233" y="143"/>
                      </a:lnTo>
                      <a:lnTo>
                        <a:pt x="233" y="149"/>
                      </a:lnTo>
                      <a:lnTo>
                        <a:pt x="227" y="149"/>
                      </a:lnTo>
                      <a:lnTo>
                        <a:pt x="221" y="149"/>
                      </a:lnTo>
                      <a:lnTo>
                        <a:pt x="221" y="155"/>
                      </a:lnTo>
                      <a:lnTo>
                        <a:pt x="227" y="155"/>
                      </a:lnTo>
                      <a:lnTo>
                        <a:pt x="233" y="155"/>
                      </a:lnTo>
                      <a:lnTo>
                        <a:pt x="233" y="161"/>
                      </a:lnTo>
                      <a:lnTo>
                        <a:pt x="227" y="161"/>
                      </a:lnTo>
                      <a:lnTo>
                        <a:pt x="227" y="167"/>
                      </a:lnTo>
                      <a:lnTo>
                        <a:pt x="221" y="167"/>
                      </a:lnTo>
                      <a:lnTo>
                        <a:pt x="221" y="173"/>
                      </a:lnTo>
                      <a:lnTo>
                        <a:pt x="221" y="167"/>
                      </a:lnTo>
                      <a:lnTo>
                        <a:pt x="215" y="167"/>
                      </a:lnTo>
                      <a:lnTo>
                        <a:pt x="215" y="173"/>
                      </a:lnTo>
                      <a:lnTo>
                        <a:pt x="209" y="173"/>
                      </a:lnTo>
                      <a:lnTo>
                        <a:pt x="203" y="173"/>
                      </a:lnTo>
                      <a:lnTo>
                        <a:pt x="197" y="173"/>
                      </a:lnTo>
                      <a:lnTo>
                        <a:pt x="191" y="173"/>
                      </a:lnTo>
                      <a:lnTo>
                        <a:pt x="185" y="173"/>
                      </a:lnTo>
                      <a:lnTo>
                        <a:pt x="179" y="173"/>
                      </a:lnTo>
                      <a:lnTo>
                        <a:pt x="173" y="167"/>
                      </a:lnTo>
                      <a:lnTo>
                        <a:pt x="167" y="167"/>
                      </a:lnTo>
                      <a:lnTo>
                        <a:pt x="161" y="161"/>
                      </a:lnTo>
                      <a:lnTo>
                        <a:pt x="161" y="167"/>
                      </a:lnTo>
                      <a:lnTo>
                        <a:pt x="161" y="161"/>
                      </a:lnTo>
                      <a:lnTo>
                        <a:pt x="156" y="161"/>
                      </a:lnTo>
                      <a:lnTo>
                        <a:pt x="161" y="161"/>
                      </a:lnTo>
                      <a:lnTo>
                        <a:pt x="161" y="155"/>
                      </a:lnTo>
                      <a:lnTo>
                        <a:pt x="161" y="149"/>
                      </a:lnTo>
                      <a:lnTo>
                        <a:pt x="161" y="155"/>
                      </a:lnTo>
                      <a:lnTo>
                        <a:pt x="156" y="155"/>
                      </a:lnTo>
                      <a:lnTo>
                        <a:pt x="156" y="149"/>
                      </a:lnTo>
                      <a:lnTo>
                        <a:pt x="150" y="149"/>
                      </a:lnTo>
                      <a:lnTo>
                        <a:pt x="150" y="155"/>
                      </a:lnTo>
                      <a:lnTo>
                        <a:pt x="150" y="161"/>
                      </a:lnTo>
                      <a:lnTo>
                        <a:pt x="144" y="167"/>
                      </a:lnTo>
                      <a:lnTo>
                        <a:pt x="150" y="167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44" y="179"/>
                      </a:lnTo>
                      <a:lnTo>
                        <a:pt x="138" y="179"/>
                      </a:lnTo>
                      <a:lnTo>
                        <a:pt x="138" y="185"/>
                      </a:lnTo>
                      <a:lnTo>
                        <a:pt x="132" y="191"/>
                      </a:lnTo>
                      <a:lnTo>
                        <a:pt x="132" y="197"/>
                      </a:lnTo>
                      <a:lnTo>
                        <a:pt x="126" y="197"/>
                      </a:lnTo>
                      <a:lnTo>
                        <a:pt x="126" y="203"/>
                      </a:lnTo>
                      <a:lnTo>
                        <a:pt x="126" y="209"/>
                      </a:lnTo>
                      <a:lnTo>
                        <a:pt x="120" y="209"/>
                      </a:lnTo>
                      <a:lnTo>
                        <a:pt x="114" y="209"/>
                      </a:lnTo>
                      <a:lnTo>
                        <a:pt x="108" y="209"/>
                      </a:lnTo>
                      <a:lnTo>
                        <a:pt x="108" y="203"/>
                      </a:lnTo>
                      <a:lnTo>
                        <a:pt x="102" y="203"/>
                      </a:lnTo>
                      <a:lnTo>
                        <a:pt x="102" y="209"/>
                      </a:lnTo>
                      <a:lnTo>
                        <a:pt x="96" y="209"/>
                      </a:lnTo>
                      <a:lnTo>
                        <a:pt x="90" y="209"/>
                      </a:lnTo>
                      <a:lnTo>
                        <a:pt x="96" y="209"/>
                      </a:lnTo>
                      <a:lnTo>
                        <a:pt x="96" y="215"/>
                      </a:lnTo>
                      <a:lnTo>
                        <a:pt x="90" y="215"/>
                      </a:lnTo>
                      <a:lnTo>
                        <a:pt x="90" y="220"/>
                      </a:lnTo>
                      <a:lnTo>
                        <a:pt x="90" y="226"/>
                      </a:lnTo>
                      <a:lnTo>
                        <a:pt x="90" y="220"/>
                      </a:lnTo>
                      <a:lnTo>
                        <a:pt x="90" y="226"/>
                      </a:lnTo>
                      <a:lnTo>
                        <a:pt x="84" y="226"/>
                      </a:lnTo>
                      <a:lnTo>
                        <a:pt x="84" y="232"/>
                      </a:lnTo>
                      <a:lnTo>
                        <a:pt x="78" y="232"/>
                      </a:lnTo>
                      <a:lnTo>
                        <a:pt x="78" y="238"/>
                      </a:lnTo>
                      <a:lnTo>
                        <a:pt x="72" y="238"/>
                      </a:lnTo>
                      <a:lnTo>
                        <a:pt x="72" y="244"/>
                      </a:lnTo>
                      <a:lnTo>
                        <a:pt x="66" y="244"/>
                      </a:lnTo>
                      <a:lnTo>
                        <a:pt x="66" y="250"/>
                      </a:lnTo>
                      <a:lnTo>
                        <a:pt x="66" y="256"/>
                      </a:lnTo>
                      <a:lnTo>
                        <a:pt x="60" y="256"/>
                      </a:lnTo>
                      <a:lnTo>
                        <a:pt x="60" y="262"/>
                      </a:lnTo>
                      <a:lnTo>
                        <a:pt x="54" y="262"/>
                      </a:lnTo>
                      <a:lnTo>
                        <a:pt x="54" y="268"/>
                      </a:lnTo>
                      <a:lnTo>
                        <a:pt x="48" y="268"/>
                      </a:lnTo>
                      <a:lnTo>
                        <a:pt x="48" y="274"/>
                      </a:lnTo>
                      <a:lnTo>
                        <a:pt x="42" y="274"/>
                      </a:lnTo>
                      <a:lnTo>
                        <a:pt x="42" y="280"/>
                      </a:lnTo>
                      <a:lnTo>
                        <a:pt x="36" y="286"/>
                      </a:lnTo>
                      <a:lnTo>
                        <a:pt x="36" y="292"/>
                      </a:lnTo>
                      <a:lnTo>
                        <a:pt x="30" y="292"/>
                      </a:lnTo>
                      <a:lnTo>
                        <a:pt x="24" y="298"/>
                      </a:lnTo>
                      <a:lnTo>
                        <a:pt x="6" y="203"/>
                      </a:lnTo>
                      <a:lnTo>
                        <a:pt x="12" y="203"/>
                      </a:lnTo>
                      <a:lnTo>
                        <a:pt x="6" y="173"/>
                      </a:lnTo>
                      <a:lnTo>
                        <a:pt x="0" y="155"/>
                      </a:lnTo>
                      <a:lnTo>
                        <a:pt x="18" y="149"/>
                      </a:lnTo>
                      <a:lnTo>
                        <a:pt x="120" y="131"/>
                      </a:lnTo>
                      <a:lnTo>
                        <a:pt x="138" y="125"/>
                      </a:lnTo>
                      <a:lnTo>
                        <a:pt x="233" y="107"/>
                      </a:lnTo>
                      <a:lnTo>
                        <a:pt x="239" y="107"/>
                      </a:lnTo>
                      <a:lnTo>
                        <a:pt x="293" y="95"/>
                      </a:lnTo>
                      <a:lnTo>
                        <a:pt x="424" y="77"/>
                      </a:lnTo>
                      <a:lnTo>
                        <a:pt x="424" y="71"/>
                      </a:lnTo>
                      <a:lnTo>
                        <a:pt x="472" y="65"/>
                      </a:lnTo>
                      <a:lnTo>
                        <a:pt x="519" y="53"/>
                      </a:lnTo>
                      <a:lnTo>
                        <a:pt x="561" y="47"/>
                      </a:lnTo>
                      <a:lnTo>
                        <a:pt x="609" y="36"/>
                      </a:lnTo>
                      <a:lnTo>
                        <a:pt x="680" y="24"/>
                      </a:lnTo>
                      <a:lnTo>
                        <a:pt x="698" y="18"/>
                      </a:lnTo>
                      <a:lnTo>
                        <a:pt x="770" y="0"/>
                      </a:lnTo>
                      <a:lnTo>
                        <a:pt x="794" y="95"/>
                      </a:lnTo>
                      <a:lnTo>
                        <a:pt x="806" y="119"/>
                      </a:lnTo>
                      <a:lnTo>
                        <a:pt x="806" y="131"/>
                      </a:lnTo>
                      <a:lnTo>
                        <a:pt x="818" y="161"/>
                      </a:lnTo>
                      <a:lnTo>
                        <a:pt x="842" y="244"/>
                      </a:lnTo>
                      <a:lnTo>
                        <a:pt x="853" y="292"/>
                      </a:lnTo>
                      <a:lnTo>
                        <a:pt x="859" y="316"/>
                      </a:lnTo>
                      <a:lnTo>
                        <a:pt x="865" y="340"/>
                      </a:lnTo>
                      <a:lnTo>
                        <a:pt x="943" y="328"/>
                      </a:lnTo>
                      <a:lnTo>
                        <a:pt x="997" y="316"/>
                      </a:lnTo>
                      <a:lnTo>
                        <a:pt x="997" y="322"/>
                      </a:lnTo>
                      <a:lnTo>
                        <a:pt x="991" y="322"/>
                      </a:lnTo>
                      <a:lnTo>
                        <a:pt x="991" y="328"/>
                      </a:lnTo>
                      <a:lnTo>
                        <a:pt x="997" y="328"/>
                      </a:lnTo>
                      <a:lnTo>
                        <a:pt x="997" y="334"/>
                      </a:lnTo>
                      <a:lnTo>
                        <a:pt x="991" y="334"/>
                      </a:lnTo>
                      <a:lnTo>
                        <a:pt x="991" y="328"/>
                      </a:lnTo>
                      <a:lnTo>
                        <a:pt x="985" y="328"/>
                      </a:lnTo>
                      <a:lnTo>
                        <a:pt x="985" y="334"/>
                      </a:lnTo>
                      <a:lnTo>
                        <a:pt x="985" y="328"/>
                      </a:lnTo>
                      <a:lnTo>
                        <a:pt x="979" y="328"/>
                      </a:lnTo>
                      <a:lnTo>
                        <a:pt x="973" y="328"/>
                      </a:lnTo>
                      <a:lnTo>
                        <a:pt x="979" y="328"/>
                      </a:lnTo>
                      <a:lnTo>
                        <a:pt x="979" y="334"/>
                      </a:lnTo>
                      <a:lnTo>
                        <a:pt x="973" y="334"/>
                      </a:lnTo>
                      <a:lnTo>
                        <a:pt x="979" y="334"/>
                      </a:lnTo>
                      <a:lnTo>
                        <a:pt x="985" y="334"/>
                      </a:lnTo>
                      <a:lnTo>
                        <a:pt x="991" y="334"/>
                      </a:lnTo>
                      <a:lnTo>
                        <a:pt x="991" y="340"/>
                      </a:lnTo>
                      <a:lnTo>
                        <a:pt x="991" y="346"/>
                      </a:lnTo>
                      <a:lnTo>
                        <a:pt x="985" y="346"/>
                      </a:lnTo>
                      <a:lnTo>
                        <a:pt x="991" y="346"/>
                      </a:lnTo>
                      <a:lnTo>
                        <a:pt x="991" y="352"/>
                      </a:lnTo>
                      <a:lnTo>
                        <a:pt x="991" y="346"/>
                      </a:lnTo>
                      <a:lnTo>
                        <a:pt x="997" y="346"/>
                      </a:lnTo>
                      <a:lnTo>
                        <a:pt x="1003" y="346"/>
                      </a:lnTo>
                      <a:lnTo>
                        <a:pt x="1003" y="352"/>
                      </a:lnTo>
                      <a:lnTo>
                        <a:pt x="1003" y="358"/>
                      </a:lnTo>
                      <a:lnTo>
                        <a:pt x="997" y="358"/>
                      </a:lnTo>
                      <a:lnTo>
                        <a:pt x="997" y="364"/>
                      </a:lnTo>
                      <a:lnTo>
                        <a:pt x="997" y="370"/>
                      </a:lnTo>
                      <a:lnTo>
                        <a:pt x="997" y="376"/>
                      </a:lnTo>
                      <a:lnTo>
                        <a:pt x="991" y="382"/>
                      </a:lnTo>
                      <a:lnTo>
                        <a:pt x="991" y="388"/>
                      </a:lnTo>
                      <a:lnTo>
                        <a:pt x="985" y="388"/>
                      </a:lnTo>
                      <a:lnTo>
                        <a:pt x="985" y="382"/>
                      </a:lnTo>
                      <a:lnTo>
                        <a:pt x="985" y="376"/>
                      </a:lnTo>
                      <a:lnTo>
                        <a:pt x="991" y="376"/>
                      </a:lnTo>
                      <a:lnTo>
                        <a:pt x="991" y="370"/>
                      </a:lnTo>
                      <a:lnTo>
                        <a:pt x="985" y="370"/>
                      </a:lnTo>
                      <a:lnTo>
                        <a:pt x="985" y="376"/>
                      </a:lnTo>
                      <a:lnTo>
                        <a:pt x="985" y="370"/>
                      </a:lnTo>
                      <a:lnTo>
                        <a:pt x="985" y="376"/>
                      </a:lnTo>
                      <a:lnTo>
                        <a:pt x="979" y="382"/>
                      </a:lnTo>
                      <a:lnTo>
                        <a:pt x="979" y="388"/>
                      </a:lnTo>
                      <a:lnTo>
                        <a:pt x="979" y="394"/>
                      </a:lnTo>
                      <a:lnTo>
                        <a:pt x="973" y="394"/>
                      </a:lnTo>
                      <a:lnTo>
                        <a:pt x="979" y="394"/>
                      </a:lnTo>
                      <a:lnTo>
                        <a:pt x="979" y="400"/>
                      </a:lnTo>
                      <a:lnTo>
                        <a:pt x="979" y="394"/>
                      </a:lnTo>
                      <a:lnTo>
                        <a:pt x="973" y="400"/>
                      </a:lnTo>
                      <a:lnTo>
                        <a:pt x="979" y="400"/>
                      </a:lnTo>
                      <a:lnTo>
                        <a:pt x="973" y="400"/>
                      </a:lnTo>
                      <a:lnTo>
                        <a:pt x="979" y="400"/>
                      </a:lnTo>
                      <a:lnTo>
                        <a:pt x="979" y="405"/>
                      </a:lnTo>
                      <a:lnTo>
                        <a:pt x="973" y="405"/>
                      </a:lnTo>
                      <a:lnTo>
                        <a:pt x="973" y="411"/>
                      </a:lnTo>
                      <a:lnTo>
                        <a:pt x="973" y="417"/>
                      </a:lnTo>
                      <a:lnTo>
                        <a:pt x="973" y="423"/>
                      </a:lnTo>
                      <a:lnTo>
                        <a:pt x="973" y="417"/>
                      </a:lnTo>
                      <a:lnTo>
                        <a:pt x="973" y="423"/>
                      </a:lnTo>
                      <a:lnTo>
                        <a:pt x="967" y="423"/>
                      </a:lnTo>
                      <a:lnTo>
                        <a:pt x="967" y="429"/>
                      </a:lnTo>
                      <a:lnTo>
                        <a:pt x="961" y="429"/>
                      </a:lnTo>
                      <a:lnTo>
                        <a:pt x="961" y="435"/>
                      </a:lnTo>
                      <a:lnTo>
                        <a:pt x="961" y="441"/>
                      </a:lnTo>
                      <a:lnTo>
                        <a:pt x="967" y="441"/>
                      </a:lnTo>
                      <a:lnTo>
                        <a:pt x="967" y="447"/>
                      </a:lnTo>
                      <a:lnTo>
                        <a:pt x="961" y="447"/>
                      </a:lnTo>
                      <a:lnTo>
                        <a:pt x="961" y="441"/>
                      </a:lnTo>
                      <a:lnTo>
                        <a:pt x="961" y="447"/>
                      </a:lnTo>
                      <a:lnTo>
                        <a:pt x="961" y="453"/>
                      </a:lnTo>
                      <a:lnTo>
                        <a:pt x="907" y="465"/>
                      </a:lnTo>
                      <a:lnTo>
                        <a:pt x="907" y="471"/>
                      </a:lnTo>
                      <a:lnTo>
                        <a:pt x="907" y="477"/>
                      </a:lnTo>
                      <a:lnTo>
                        <a:pt x="901" y="477"/>
                      </a:lnTo>
                      <a:lnTo>
                        <a:pt x="895" y="477"/>
                      </a:lnTo>
                      <a:lnTo>
                        <a:pt x="889" y="471"/>
                      </a:lnTo>
                      <a:lnTo>
                        <a:pt x="895" y="471"/>
                      </a:lnTo>
                      <a:lnTo>
                        <a:pt x="889" y="471"/>
                      </a:lnTo>
                      <a:lnTo>
                        <a:pt x="889" y="477"/>
                      </a:lnTo>
                      <a:lnTo>
                        <a:pt x="889" y="483"/>
                      </a:lnTo>
                      <a:lnTo>
                        <a:pt x="889" y="477"/>
                      </a:lnTo>
                      <a:lnTo>
                        <a:pt x="883" y="477"/>
                      </a:lnTo>
                      <a:lnTo>
                        <a:pt x="889" y="477"/>
                      </a:lnTo>
                      <a:lnTo>
                        <a:pt x="883" y="477"/>
                      </a:lnTo>
                      <a:lnTo>
                        <a:pt x="877" y="483"/>
                      </a:lnTo>
                      <a:lnTo>
                        <a:pt x="871" y="483"/>
                      </a:lnTo>
                      <a:lnTo>
                        <a:pt x="871" y="489"/>
                      </a:lnTo>
                      <a:lnTo>
                        <a:pt x="871" y="495"/>
                      </a:lnTo>
                      <a:lnTo>
                        <a:pt x="865" y="495"/>
                      </a:lnTo>
                      <a:lnTo>
                        <a:pt x="859" y="495"/>
                      </a:lnTo>
                      <a:lnTo>
                        <a:pt x="865" y="495"/>
                      </a:lnTo>
                      <a:lnTo>
                        <a:pt x="859" y="501"/>
                      </a:lnTo>
                      <a:lnTo>
                        <a:pt x="859" y="495"/>
                      </a:lnTo>
                      <a:lnTo>
                        <a:pt x="853" y="495"/>
                      </a:lnTo>
                      <a:lnTo>
                        <a:pt x="853" y="489"/>
                      </a:lnTo>
                      <a:lnTo>
                        <a:pt x="859" y="489"/>
                      </a:lnTo>
                      <a:lnTo>
                        <a:pt x="859" y="495"/>
                      </a:lnTo>
                      <a:lnTo>
                        <a:pt x="859" y="489"/>
                      </a:lnTo>
                      <a:lnTo>
                        <a:pt x="865" y="489"/>
                      </a:lnTo>
                      <a:lnTo>
                        <a:pt x="865" y="483"/>
                      </a:lnTo>
                      <a:lnTo>
                        <a:pt x="859" y="483"/>
                      </a:lnTo>
                      <a:lnTo>
                        <a:pt x="859" y="489"/>
                      </a:lnTo>
                      <a:lnTo>
                        <a:pt x="859" y="483"/>
                      </a:lnTo>
                      <a:lnTo>
                        <a:pt x="859" y="477"/>
                      </a:lnTo>
                      <a:lnTo>
                        <a:pt x="859" y="483"/>
                      </a:lnTo>
                      <a:lnTo>
                        <a:pt x="853" y="483"/>
                      </a:lnTo>
                      <a:lnTo>
                        <a:pt x="853" y="477"/>
                      </a:lnTo>
                      <a:lnTo>
                        <a:pt x="853" y="471"/>
                      </a:lnTo>
                      <a:lnTo>
                        <a:pt x="859" y="471"/>
                      </a:lnTo>
                      <a:lnTo>
                        <a:pt x="853" y="471"/>
                      </a:lnTo>
                      <a:lnTo>
                        <a:pt x="859" y="471"/>
                      </a:lnTo>
                      <a:lnTo>
                        <a:pt x="859" y="465"/>
                      </a:lnTo>
                      <a:lnTo>
                        <a:pt x="853" y="465"/>
                      </a:lnTo>
                      <a:lnTo>
                        <a:pt x="859" y="465"/>
                      </a:lnTo>
                      <a:lnTo>
                        <a:pt x="859" y="471"/>
                      </a:lnTo>
                      <a:lnTo>
                        <a:pt x="859" y="465"/>
                      </a:lnTo>
                      <a:lnTo>
                        <a:pt x="865" y="465"/>
                      </a:lnTo>
                      <a:lnTo>
                        <a:pt x="865" y="471"/>
                      </a:lnTo>
                      <a:lnTo>
                        <a:pt x="865" y="465"/>
                      </a:lnTo>
                      <a:lnTo>
                        <a:pt x="859" y="465"/>
                      </a:lnTo>
                      <a:lnTo>
                        <a:pt x="865" y="465"/>
                      </a:lnTo>
                      <a:lnTo>
                        <a:pt x="865" y="459"/>
                      </a:lnTo>
                      <a:lnTo>
                        <a:pt x="865" y="465"/>
                      </a:lnTo>
                      <a:lnTo>
                        <a:pt x="865" y="459"/>
                      </a:lnTo>
                      <a:lnTo>
                        <a:pt x="871" y="459"/>
                      </a:lnTo>
                      <a:lnTo>
                        <a:pt x="871" y="453"/>
                      </a:lnTo>
                      <a:lnTo>
                        <a:pt x="877" y="453"/>
                      </a:lnTo>
                      <a:lnTo>
                        <a:pt x="871" y="453"/>
                      </a:lnTo>
                      <a:lnTo>
                        <a:pt x="871" y="447"/>
                      </a:lnTo>
                      <a:lnTo>
                        <a:pt x="877" y="447"/>
                      </a:lnTo>
                      <a:lnTo>
                        <a:pt x="871" y="447"/>
                      </a:lnTo>
                      <a:lnTo>
                        <a:pt x="865" y="447"/>
                      </a:lnTo>
                      <a:lnTo>
                        <a:pt x="865" y="453"/>
                      </a:lnTo>
                      <a:lnTo>
                        <a:pt x="871" y="453"/>
                      </a:lnTo>
                      <a:lnTo>
                        <a:pt x="865" y="453"/>
                      </a:lnTo>
                      <a:lnTo>
                        <a:pt x="865" y="459"/>
                      </a:lnTo>
                      <a:lnTo>
                        <a:pt x="865" y="453"/>
                      </a:lnTo>
                      <a:lnTo>
                        <a:pt x="859" y="453"/>
                      </a:lnTo>
                      <a:lnTo>
                        <a:pt x="859" y="459"/>
                      </a:lnTo>
                      <a:lnTo>
                        <a:pt x="853" y="459"/>
                      </a:lnTo>
                      <a:lnTo>
                        <a:pt x="848" y="459"/>
                      </a:lnTo>
                      <a:lnTo>
                        <a:pt x="853" y="453"/>
                      </a:lnTo>
                      <a:lnTo>
                        <a:pt x="853" y="447"/>
                      </a:lnTo>
                      <a:lnTo>
                        <a:pt x="859" y="447"/>
                      </a:lnTo>
                      <a:lnTo>
                        <a:pt x="859" y="441"/>
                      </a:lnTo>
                      <a:lnTo>
                        <a:pt x="853" y="441"/>
                      </a:lnTo>
                      <a:lnTo>
                        <a:pt x="859" y="441"/>
                      </a:lnTo>
                      <a:lnTo>
                        <a:pt x="859" y="435"/>
                      </a:lnTo>
                      <a:lnTo>
                        <a:pt x="859" y="441"/>
                      </a:lnTo>
                      <a:lnTo>
                        <a:pt x="859" y="435"/>
                      </a:lnTo>
                      <a:lnTo>
                        <a:pt x="865" y="435"/>
                      </a:lnTo>
                      <a:lnTo>
                        <a:pt x="865" y="441"/>
                      </a:lnTo>
                      <a:lnTo>
                        <a:pt x="865" y="435"/>
                      </a:lnTo>
                      <a:lnTo>
                        <a:pt x="865" y="441"/>
                      </a:lnTo>
                      <a:lnTo>
                        <a:pt x="871" y="435"/>
                      </a:lnTo>
                      <a:lnTo>
                        <a:pt x="865" y="435"/>
                      </a:lnTo>
                      <a:lnTo>
                        <a:pt x="871" y="435"/>
                      </a:lnTo>
                      <a:lnTo>
                        <a:pt x="865" y="435"/>
                      </a:lnTo>
                      <a:lnTo>
                        <a:pt x="871" y="429"/>
                      </a:lnTo>
                      <a:lnTo>
                        <a:pt x="865" y="429"/>
                      </a:lnTo>
                      <a:lnTo>
                        <a:pt x="865" y="435"/>
                      </a:lnTo>
                      <a:lnTo>
                        <a:pt x="859" y="435"/>
                      </a:lnTo>
                      <a:lnTo>
                        <a:pt x="859" y="429"/>
                      </a:lnTo>
                      <a:lnTo>
                        <a:pt x="859" y="435"/>
                      </a:lnTo>
                      <a:lnTo>
                        <a:pt x="853" y="435"/>
                      </a:lnTo>
                      <a:lnTo>
                        <a:pt x="848" y="435"/>
                      </a:lnTo>
                      <a:lnTo>
                        <a:pt x="848" y="441"/>
                      </a:lnTo>
                      <a:lnTo>
                        <a:pt x="848" y="435"/>
                      </a:lnTo>
                      <a:lnTo>
                        <a:pt x="842" y="435"/>
                      </a:lnTo>
                      <a:lnTo>
                        <a:pt x="842" y="441"/>
                      </a:lnTo>
                      <a:lnTo>
                        <a:pt x="842" y="435"/>
                      </a:lnTo>
                      <a:lnTo>
                        <a:pt x="842" y="441"/>
                      </a:lnTo>
                      <a:lnTo>
                        <a:pt x="842" y="435"/>
                      </a:lnTo>
                      <a:lnTo>
                        <a:pt x="836" y="441"/>
                      </a:lnTo>
                      <a:lnTo>
                        <a:pt x="842" y="441"/>
                      </a:lnTo>
                      <a:lnTo>
                        <a:pt x="842" y="447"/>
                      </a:lnTo>
                      <a:lnTo>
                        <a:pt x="836" y="447"/>
                      </a:lnTo>
                      <a:lnTo>
                        <a:pt x="836" y="441"/>
                      </a:lnTo>
                      <a:lnTo>
                        <a:pt x="836" y="447"/>
                      </a:lnTo>
                      <a:lnTo>
                        <a:pt x="830" y="447"/>
                      </a:lnTo>
                      <a:lnTo>
                        <a:pt x="830" y="441"/>
                      </a:lnTo>
                      <a:lnTo>
                        <a:pt x="830" y="435"/>
                      </a:lnTo>
                      <a:lnTo>
                        <a:pt x="830" y="429"/>
                      </a:lnTo>
                      <a:lnTo>
                        <a:pt x="836" y="429"/>
                      </a:lnTo>
                      <a:lnTo>
                        <a:pt x="836" y="423"/>
                      </a:lnTo>
                      <a:lnTo>
                        <a:pt x="842" y="423"/>
                      </a:lnTo>
                      <a:lnTo>
                        <a:pt x="848" y="423"/>
                      </a:lnTo>
                      <a:lnTo>
                        <a:pt x="848" y="417"/>
                      </a:lnTo>
                      <a:lnTo>
                        <a:pt x="853" y="417"/>
                      </a:lnTo>
                      <a:lnTo>
                        <a:pt x="853" y="411"/>
                      </a:lnTo>
                      <a:lnTo>
                        <a:pt x="848" y="411"/>
                      </a:lnTo>
                      <a:lnTo>
                        <a:pt x="848" y="417"/>
                      </a:lnTo>
                      <a:lnTo>
                        <a:pt x="848" y="411"/>
                      </a:lnTo>
                      <a:lnTo>
                        <a:pt x="848" y="405"/>
                      </a:lnTo>
                      <a:lnTo>
                        <a:pt x="853" y="405"/>
                      </a:lnTo>
                      <a:lnTo>
                        <a:pt x="859" y="405"/>
                      </a:lnTo>
                      <a:lnTo>
                        <a:pt x="859" y="400"/>
                      </a:lnTo>
                      <a:lnTo>
                        <a:pt x="853" y="405"/>
                      </a:lnTo>
                      <a:lnTo>
                        <a:pt x="848" y="405"/>
                      </a:lnTo>
                      <a:lnTo>
                        <a:pt x="848" y="411"/>
                      </a:lnTo>
                      <a:lnTo>
                        <a:pt x="842" y="411"/>
                      </a:lnTo>
                      <a:lnTo>
                        <a:pt x="842" y="405"/>
                      </a:lnTo>
                      <a:lnTo>
                        <a:pt x="842" y="411"/>
                      </a:lnTo>
                      <a:lnTo>
                        <a:pt x="842" y="417"/>
                      </a:lnTo>
                      <a:lnTo>
                        <a:pt x="836" y="411"/>
                      </a:lnTo>
                      <a:lnTo>
                        <a:pt x="836" y="405"/>
                      </a:lnTo>
                      <a:lnTo>
                        <a:pt x="830" y="405"/>
                      </a:lnTo>
                      <a:lnTo>
                        <a:pt x="836" y="405"/>
                      </a:lnTo>
                      <a:lnTo>
                        <a:pt x="836" y="400"/>
                      </a:lnTo>
                      <a:lnTo>
                        <a:pt x="830" y="400"/>
                      </a:lnTo>
                      <a:lnTo>
                        <a:pt x="836" y="394"/>
                      </a:lnTo>
                      <a:lnTo>
                        <a:pt x="836" y="388"/>
                      </a:lnTo>
                      <a:lnTo>
                        <a:pt x="836" y="382"/>
                      </a:lnTo>
                      <a:lnTo>
                        <a:pt x="836" y="376"/>
                      </a:lnTo>
                      <a:lnTo>
                        <a:pt x="830" y="376"/>
                      </a:lnTo>
                      <a:lnTo>
                        <a:pt x="836" y="382"/>
                      </a:lnTo>
                      <a:lnTo>
                        <a:pt x="830" y="382"/>
                      </a:lnTo>
                      <a:lnTo>
                        <a:pt x="830" y="388"/>
                      </a:lnTo>
                      <a:lnTo>
                        <a:pt x="830" y="394"/>
                      </a:lnTo>
                      <a:lnTo>
                        <a:pt x="824" y="394"/>
                      </a:lnTo>
                      <a:lnTo>
                        <a:pt x="824" y="400"/>
                      </a:lnTo>
                      <a:lnTo>
                        <a:pt x="830" y="400"/>
                      </a:lnTo>
                      <a:lnTo>
                        <a:pt x="824" y="405"/>
                      </a:lnTo>
                      <a:lnTo>
                        <a:pt x="824" y="400"/>
                      </a:lnTo>
                      <a:lnTo>
                        <a:pt x="824" y="405"/>
                      </a:lnTo>
                      <a:lnTo>
                        <a:pt x="824" y="411"/>
                      </a:lnTo>
                      <a:lnTo>
                        <a:pt x="830" y="411"/>
                      </a:lnTo>
                      <a:lnTo>
                        <a:pt x="830" y="417"/>
                      </a:lnTo>
                      <a:lnTo>
                        <a:pt x="824" y="417"/>
                      </a:lnTo>
                      <a:lnTo>
                        <a:pt x="824" y="411"/>
                      </a:lnTo>
                      <a:lnTo>
                        <a:pt x="818" y="411"/>
                      </a:lnTo>
                      <a:lnTo>
                        <a:pt x="818" y="405"/>
                      </a:lnTo>
                      <a:lnTo>
                        <a:pt x="812" y="405"/>
                      </a:lnTo>
                      <a:lnTo>
                        <a:pt x="812" y="400"/>
                      </a:lnTo>
                      <a:lnTo>
                        <a:pt x="806" y="400"/>
                      </a:lnTo>
                      <a:lnTo>
                        <a:pt x="812" y="400"/>
                      </a:lnTo>
                      <a:lnTo>
                        <a:pt x="812" y="394"/>
                      </a:lnTo>
                      <a:lnTo>
                        <a:pt x="818" y="394"/>
                      </a:lnTo>
                      <a:lnTo>
                        <a:pt x="818" y="388"/>
                      </a:lnTo>
                      <a:lnTo>
                        <a:pt x="818" y="382"/>
                      </a:lnTo>
                      <a:lnTo>
                        <a:pt x="812" y="382"/>
                      </a:lnTo>
                      <a:lnTo>
                        <a:pt x="806" y="382"/>
                      </a:lnTo>
                      <a:lnTo>
                        <a:pt x="806" y="388"/>
                      </a:lnTo>
                      <a:lnTo>
                        <a:pt x="806" y="394"/>
                      </a:lnTo>
                      <a:lnTo>
                        <a:pt x="806" y="400"/>
                      </a:lnTo>
                      <a:lnTo>
                        <a:pt x="800" y="400"/>
                      </a:lnTo>
                      <a:lnTo>
                        <a:pt x="800" y="405"/>
                      </a:lnTo>
                      <a:lnTo>
                        <a:pt x="806" y="405"/>
                      </a:lnTo>
                      <a:lnTo>
                        <a:pt x="806" y="411"/>
                      </a:lnTo>
                      <a:lnTo>
                        <a:pt x="806" y="417"/>
                      </a:lnTo>
                      <a:lnTo>
                        <a:pt x="812" y="417"/>
                      </a:lnTo>
                      <a:lnTo>
                        <a:pt x="812" y="423"/>
                      </a:lnTo>
                      <a:lnTo>
                        <a:pt x="806" y="423"/>
                      </a:lnTo>
                      <a:lnTo>
                        <a:pt x="800" y="423"/>
                      </a:lnTo>
                      <a:lnTo>
                        <a:pt x="800" y="417"/>
                      </a:lnTo>
                      <a:lnTo>
                        <a:pt x="794" y="417"/>
                      </a:lnTo>
                      <a:lnTo>
                        <a:pt x="800" y="417"/>
                      </a:lnTo>
                      <a:lnTo>
                        <a:pt x="800" y="411"/>
                      </a:lnTo>
                      <a:lnTo>
                        <a:pt x="794" y="411"/>
                      </a:lnTo>
                      <a:lnTo>
                        <a:pt x="788" y="411"/>
                      </a:lnTo>
                      <a:lnTo>
                        <a:pt x="794" y="405"/>
                      </a:lnTo>
                      <a:lnTo>
                        <a:pt x="788" y="405"/>
                      </a:lnTo>
                      <a:lnTo>
                        <a:pt x="788" y="411"/>
                      </a:lnTo>
                      <a:lnTo>
                        <a:pt x="782" y="417"/>
                      </a:lnTo>
                      <a:lnTo>
                        <a:pt x="782" y="411"/>
                      </a:lnTo>
                      <a:lnTo>
                        <a:pt x="788" y="405"/>
                      </a:lnTo>
                      <a:lnTo>
                        <a:pt x="782" y="405"/>
                      </a:lnTo>
                      <a:lnTo>
                        <a:pt x="776" y="405"/>
                      </a:lnTo>
                      <a:lnTo>
                        <a:pt x="782" y="400"/>
                      </a:lnTo>
                      <a:lnTo>
                        <a:pt x="776" y="400"/>
                      </a:lnTo>
                      <a:lnTo>
                        <a:pt x="776" y="394"/>
                      </a:lnTo>
                      <a:lnTo>
                        <a:pt x="770" y="394"/>
                      </a:lnTo>
                      <a:lnTo>
                        <a:pt x="764" y="39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64"/>
                <p:cNvSpPr/>
                <p:nvPr/>
              </p:nvSpPr>
              <p:spPr>
                <a:xfrm>
                  <a:off x="7717320" y="4367160"/>
                  <a:ext cx="113040" cy="34884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348840"/>
                    <a:gd name="textAreaBottom" fmla="*/ 349200 h 348840"/>
                  </a:gdLst>
                  <a:ahLst/>
                  <a:rect l="textAreaLeft" t="textAreaTop" r="textAreaRight" b="textAreaBottom"/>
                  <a:pathLst>
                    <a:path w="113" h="359">
                      <a:moveTo>
                        <a:pt x="89" y="353"/>
                      </a:moveTo>
                      <a:lnTo>
                        <a:pt x="89" y="347"/>
                      </a:lnTo>
                      <a:lnTo>
                        <a:pt x="89" y="353"/>
                      </a:lnTo>
                      <a:lnTo>
                        <a:pt x="83" y="353"/>
                      </a:lnTo>
                      <a:lnTo>
                        <a:pt x="89" y="347"/>
                      </a:lnTo>
                      <a:lnTo>
                        <a:pt x="83" y="347"/>
                      </a:lnTo>
                      <a:lnTo>
                        <a:pt x="83" y="353"/>
                      </a:lnTo>
                      <a:lnTo>
                        <a:pt x="83" y="359"/>
                      </a:lnTo>
                      <a:lnTo>
                        <a:pt x="83" y="353"/>
                      </a:lnTo>
                      <a:lnTo>
                        <a:pt x="77" y="353"/>
                      </a:lnTo>
                      <a:lnTo>
                        <a:pt x="71" y="353"/>
                      </a:lnTo>
                      <a:lnTo>
                        <a:pt x="71" y="347"/>
                      </a:lnTo>
                      <a:lnTo>
                        <a:pt x="71" y="341"/>
                      </a:lnTo>
                      <a:lnTo>
                        <a:pt x="65" y="341"/>
                      </a:lnTo>
                      <a:lnTo>
                        <a:pt x="65" y="335"/>
                      </a:lnTo>
                      <a:lnTo>
                        <a:pt x="59" y="335"/>
                      </a:lnTo>
                      <a:lnTo>
                        <a:pt x="59" y="329"/>
                      </a:lnTo>
                      <a:lnTo>
                        <a:pt x="53" y="323"/>
                      </a:lnTo>
                      <a:lnTo>
                        <a:pt x="59" y="323"/>
                      </a:lnTo>
                      <a:lnTo>
                        <a:pt x="65" y="323"/>
                      </a:lnTo>
                      <a:lnTo>
                        <a:pt x="65" y="317"/>
                      </a:lnTo>
                      <a:lnTo>
                        <a:pt x="65" y="323"/>
                      </a:lnTo>
                      <a:lnTo>
                        <a:pt x="65" y="329"/>
                      </a:lnTo>
                      <a:lnTo>
                        <a:pt x="71" y="329"/>
                      </a:lnTo>
                      <a:lnTo>
                        <a:pt x="65" y="329"/>
                      </a:lnTo>
                      <a:lnTo>
                        <a:pt x="65" y="323"/>
                      </a:lnTo>
                      <a:lnTo>
                        <a:pt x="71" y="317"/>
                      </a:lnTo>
                      <a:lnTo>
                        <a:pt x="71" y="323"/>
                      </a:lnTo>
                      <a:lnTo>
                        <a:pt x="71" y="317"/>
                      </a:lnTo>
                      <a:lnTo>
                        <a:pt x="71" y="311"/>
                      </a:lnTo>
                      <a:lnTo>
                        <a:pt x="77" y="311"/>
                      </a:lnTo>
                      <a:lnTo>
                        <a:pt x="77" y="305"/>
                      </a:lnTo>
                      <a:lnTo>
                        <a:pt x="83" y="305"/>
                      </a:lnTo>
                      <a:lnTo>
                        <a:pt x="89" y="305"/>
                      </a:lnTo>
                      <a:lnTo>
                        <a:pt x="89" y="311"/>
                      </a:lnTo>
                      <a:lnTo>
                        <a:pt x="89" y="305"/>
                      </a:lnTo>
                      <a:lnTo>
                        <a:pt x="95" y="305"/>
                      </a:lnTo>
                      <a:lnTo>
                        <a:pt x="95" y="299"/>
                      </a:lnTo>
                      <a:lnTo>
                        <a:pt x="89" y="299"/>
                      </a:lnTo>
                      <a:lnTo>
                        <a:pt x="95" y="299"/>
                      </a:lnTo>
                      <a:lnTo>
                        <a:pt x="89" y="305"/>
                      </a:lnTo>
                      <a:lnTo>
                        <a:pt x="83" y="305"/>
                      </a:lnTo>
                      <a:lnTo>
                        <a:pt x="77" y="305"/>
                      </a:lnTo>
                      <a:lnTo>
                        <a:pt x="77" y="299"/>
                      </a:lnTo>
                      <a:lnTo>
                        <a:pt x="83" y="299"/>
                      </a:lnTo>
                      <a:lnTo>
                        <a:pt x="89" y="299"/>
                      </a:lnTo>
                      <a:lnTo>
                        <a:pt x="83" y="299"/>
                      </a:lnTo>
                      <a:lnTo>
                        <a:pt x="83" y="293"/>
                      </a:lnTo>
                      <a:lnTo>
                        <a:pt x="89" y="293"/>
                      </a:lnTo>
                      <a:lnTo>
                        <a:pt x="83" y="293"/>
                      </a:lnTo>
                      <a:lnTo>
                        <a:pt x="83" y="299"/>
                      </a:lnTo>
                      <a:lnTo>
                        <a:pt x="83" y="293"/>
                      </a:lnTo>
                      <a:lnTo>
                        <a:pt x="77" y="299"/>
                      </a:lnTo>
                      <a:lnTo>
                        <a:pt x="77" y="293"/>
                      </a:lnTo>
                      <a:lnTo>
                        <a:pt x="71" y="293"/>
                      </a:lnTo>
                      <a:lnTo>
                        <a:pt x="71" y="299"/>
                      </a:lnTo>
                      <a:lnTo>
                        <a:pt x="77" y="299"/>
                      </a:lnTo>
                      <a:lnTo>
                        <a:pt x="71" y="299"/>
                      </a:lnTo>
                      <a:lnTo>
                        <a:pt x="71" y="305"/>
                      </a:lnTo>
                      <a:lnTo>
                        <a:pt x="71" y="299"/>
                      </a:lnTo>
                      <a:lnTo>
                        <a:pt x="71" y="293"/>
                      </a:lnTo>
                      <a:lnTo>
                        <a:pt x="71" y="299"/>
                      </a:lnTo>
                      <a:lnTo>
                        <a:pt x="71" y="305"/>
                      </a:lnTo>
                      <a:lnTo>
                        <a:pt x="65" y="305"/>
                      </a:lnTo>
                      <a:lnTo>
                        <a:pt x="65" y="299"/>
                      </a:lnTo>
                      <a:lnTo>
                        <a:pt x="65" y="305"/>
                      </a:lnTo>
                      <a:lnTo>
                        <a:pt x="65" y="311"/>
                      </a:lnTo>
                      <a:lnTo>
                        <a:pt x="65" y="305"/>
                      </a:lnTo>
                      <a:lnTo>
                        <a:pt x="65" y="299"/>
                      </a:lnTo>
                      <a:lnTo>
                        <a:pt x="59" y="299"/>
                      </a:lnTo>
                      <a:lnTo>
                        <a:pt x="59" y="305"/>
                      </a:lnTo>
                      <a:lnTo>
                        <a:pt x="53" y="299"/>
                      </a:lnTo>
                      <a:lnTo>
                        <a:pt x="59" y="299"/>
                      </a:lnTo>
                      <a:lnTo>
                        <a:pt x="59" y="293"/>
                      </a:lnTo>
                      <a:lnTo>
                        <a:pt x="59" y="299"/>
                      </a:lnTo>
                      <a:lnTo>
                        <a:pt x="65" y="299"/>
                      </a:lnTo>
                      <a:lnTo>
                        <a:pt x="65" y="293"/>
                      </a:lnTo>
                      <a:lnTo>
                        <a:pt x="65" y="287"/>
                      </a:lnTo>
                      <a:lnTo>
                        <a:pt x="59" y="287"/>
                      </a:lnTo>
                      <a:lnTo>
                        <a:pt x="59" y="281"/>
                      </a:lnTo>
                      <a:lnTo>
                        <a:pt x="59" y="287"/>
                      </a:lnTo>
                      <a:lnTo>
                        <a:pt x="65" y="287"/>
                      </a:lnTo>
                      <a:lnTo>
                        <a:pt x="65" y="281"/>
                      </a:lnTo>
                      <a:lnTo>
                        <a:pt x="71" y="281"/>
                      </a:lnTo>
                      <a:lnTo>
                        <a:pt x="71" y="287"/>
                      </a:lnTo>
                      <a:lnTo>
                        <a:pt x="71" y="281"/>
                      </a:lnTo>
                      <a:lnTo>
                        <a:pt x="77" y="287"/>
                      </a:lnTo>
                      <a:lnTo>
                        <a:pt x="77" y="281"/>
                      </a:lnTo>
                      <a:lnTo>
                        <a:pt x="83" y="275"/>
                      </a:lnTo>
                      <a:lnTo>
                        <a:pt x="83" y="281"/>
                      </a:lnTo>
                      <a:lnTo>
                        <a:pt x="83" y="287"/>
                      </a:lnTo>
                      <a:lnTo>
                        <a:pt x="89" y="287"/>
                      </a:lnTo>
                      <a:lnTo>
                        <a:pt x="89" y="281"/>
                      </a:lnTo>
                      <a:lnTo>
                        <a:pt x="95" y="287"/>
                      </a:lnTo>
                      <a:lnTo>
                        <a:pt x="95" y="293"/>
                      </a:lnTo>
                      <a:lnTo>
                        <a:pt x="101" y="287"/>
                      </a:lnTo>
                      <a:lnTo>
                        <a:pt x="95" y="287"/>
                      </a:lnTo>
                      <a:lnTo>
                        <a:pt x="101" y="287"/>
                      </a:lnTo>
                      <a:lnTo>
                        <a:pt x="101" y="281"/>
                      </a:lnTo>
                      <a:lnTo>
                        <a:pt x="101" y="287"/>
                      </a:lnTo>
                      <a:lnTo>
                        <a:pt x="107" y="287"/>
                      </a:lnTo>
                      <a:lnTo>
                        <a:pt x="113" y="287"/>
                      </a:lnTo>
                      <a:lnTo>
                        <a:pt x="113" y="293"/>
                      </a:lnTo>
                      <a:lnTo>
                        <a:pt x="113" y="287"/>
                      </a:lnTo>
                      <a:lnTo>
                        <a:pt x="113" y="281"/>
                      </a:lnTo>
                      <a:lnTo>
                        <a:pt x="113" y="275"/>
                      </a:lnTo>
                      <a:lnTo>
                        <a:pt x="113" y="281"/>
                      </a:lnTo>
                      <a:lnTo>
                        <a:pt x="107" y="281"/>
                      </a:lnTo>
                      <a:lnTo>
                        <a:pt x="101" y="281"/>
                      </a:lnTo>
                      <a:lnTo>
                        <a:pt x="101" y="275"/>
                      </a:lnTo>
                      <a:lnTo>
                        <a:pt x="95" y="275"/>
                      </a:lnTo>
                      <a:lnTo>
                        <a:pt x="95" y="281"/>
                      </a:lnTo>
                      <a:lnTo>
                        <a:pt x="95" y="275"/>
                      </a:lnTo>
                      <a:lnTo>
                        <a:pt x="95" y="269"/>
                      </a:lnTo>
                      <a:lnTo>
                        <a:pt x="101" y="269"/>
                      </a:lnTo>
                      <a:lnTo>
                        <a:pt x="95" y="263"/>
                      </a:lnTo>
                      <a:lnTo>
                        <a:pt x="95" y="269"/>
                      </a:lnTo>
                      <a:lnTo>
                        <a:pt x="95" y="275"/>
                      </a:lnTo>
                      <a:lnTo>
                        <a:pt x="89" y="275"/>
                      </a:lnTo>
                      <a:lnTo>
                        <a:pt x="83" y="275"/>
                      </a:lnTo>
                      <a:lnTo>
                        <a:pt x="83" y="269"/>
                      </a:lnTo>
                      <a:lnTo>
                        <a:pt x="89" y="269"/>
                      </a:lnTo>
                      <a:lnTo>
                        <a:pt x="89" y="263"/>
                      </a:lnTo>
                      <a:lnTo>
                        <a:pt x="95" y="263"/>
                      </a:lnTo>
                      <a:lnTo>
                        <a:pt x="95" y="257"/>
                      </a:lnTo>
                      <a:lnTo>
                        <a:pt x="89" y="263"/>
                      </a:lnTo>
                      <a:lnTo>
                        <a:pt x="83" y="263"/>
                      </a:lnTo>
                      <a:lnTo>
                        <a:pt x="83" y="269"/>
                      </a:lnTo>
                      <a:lnTo>
                        <a:pt x="77" y="269"/>
                      </a:lnTo>
                      <a:lnTo>
                        <a:pt x="77" y="263"/>
                      </a:lnTo>
                      <a:lnTo>
                        <a:pt x="77" y="257"/>
                      </a:lnTo>
                      <a:lnTo>
                        <a:pt x="83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9" y="251"/>
                      </a:lnTo>
                      <a:lnTo>
                        <a:pt x="95" y="251"/>
                      </a:lnTo>
                      <a:lnTo>
                        <a:pt x="89" y="251"/>
                      </a:lnTo>
                      <a:lnTo>
                        <a:pt x="83" y="251"/>
                      </a:lnTo>
                      <a:lnTo>
                        <a:pt x="83" y="245"/>
                      </a:lnTo>
                      <a:lnTo>
                        <a:pt x="89" y="245"/>
                      </a:lnTo>
                      <a:lnTo>
                        <a:pt x="89" y="251"/>
                      </a:lnTo>
                      <a:lnTo>
                        <a:pt x="89" y="245"/>
                      </a:lnTo>
                      <a:lnTo>
                        <a:pt x="95" y="245"/>
                      </a:lnTo>
                      <a:lnTo>
                        <a:pt x="89" y="245"/>
                      </a:lnTo>
                      <a:lnTo>
                        <a:pt x="89" y="239"/>
                      </a:lnTo>
                      <a:lnTo>
                        <a:pt x="89" y="233"/>
                      </a:lnTo>
                      <a:lnTo>
                        <a:pt x="89" y="239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1"/>
                      </a:lnTo>
                      <a:lnTo>
                        <a:pt x="83" y="257"/>
                      </a:lnTo>
                      <a:lnTo>
                        <a:pt x="77" y="257"/>
                      </a:lnTo>
                      <a:lnTo>
                        <a:pt x="77" y="251"/>
                      </a:lnTo>
                      <a:lnTo>
                        <a:pt x="77" y="245"/>
                      </a:lnTo>
                      <a:lnTo>
                        <a:pt x="77" y="251"/>
                      </a:lnTo>
                      <a:lnTo>
                        <a:pt x="77" y="257"/>
                      </a:lnTo>
                      <a:lnTo>
                        <a:pt x="71" y="257"/>
                      </a:lnTo>
                      <a:lnTo>
                        <a:pt x="77" y="257"/>
                      </a:lnTo>
                      <a:lnTo>
                        <a:pt x="77" y="263"/>
                      </a:lnTo>
                      <a:lnTo>
                        <a:pt x="71" y="263"/>
                      </a:lnTo>
                      <a:lnTo>
                        <a:pt x="71" y="269"/>
                      </a:lnTo>
                      <a:lnTo>
                        <a:pt x="71" y="263"/>
                      </a:lnTo>
                      <a:lnTo>
                        <a:pt x="71" y="257"/>
                      </a:lnTo>
                      <a:lnTo>
                        <a:pt x="65" y="257"/>
                      </a:lnTo>
                      <a:lnTo>
                        <a:pt x="65" y="263"/>
                      </a:lnTo>
                      <a:lnTo>
                        <a:pt x="65" y="257"/>
                      </a:lnTo>
                      <a:lnTo>
                        <a:pt x="59" y="257"/>
                      </a:lnTo>
                      <a:lnTo>
                        <a:pt x="65" y="257"/>
                      </a:lnTo>
                      <a:lnTo>
                        <a:pt x="65" y="251"/>
                      </a:lnTo>
                      <a:lnTo>
                        <a:pt x="59" y="251"/>
                      </a:lnTo>
                      <a:lnTo>
                        <a:pt x="65" y="251"/>
                      </a:lnTo>
                      <a:lnTo>
                        <a:pt x="65" y="257"/>
                      </a:lnTo>
                      <a:lnTo>
                        <a:pt x="65" y="251"/>
                      </a:lnTo>
                      <a:lnTo>
                        <a:pt x="71" y="251"/>
                      </a:lnTo>
                      <a:lnTo>
                        <a:pt x="71" y="245"/>
                      </a:lnTo>
                      <a:lnTo>
                        <a:pt x="65" y="245"/>
                      </a:lnTo>
                      <a:lnTo>
                        <a:pt x="65" y="239"/>
                      </a:lnTo>
                      <a:lnTo>
                        <a:pt x="59" y="239"/>
                      </a:lnTo>
                      <a:lnTo>
                        <a:pt x="59" y="245"/>
                      </a:lnTo>
                      <a:lnTo>
                        <a:pt x="59" y="239"/>
                      </a:lnTo>
                      <a:lnTo>
                        <a:pt x="53" y="239"/>
                      </a:lnTo>
                      <a:lnTo>
                        <a:pt x="59" y="233"/>
                      </a:lnTo>
                      <a:lnTo>
                        <a:pt x="53" y="233"/>
                      </a:lnTo>
                      <a:lnTo>
                        <a:pt x="53" y="239"/>
                      </a:lnTo>
                      <a:lnTo>
                        <a:pt x="53" y="245"/>
                      </a:lnTo>
                      <a:lnTo>
                        <a:pt x="59" y="245"/>
                      </a:lnTo>
                      <a:lnTo>
                        <a:pt x="53" y="251"/>
                      </a:lnTo>
                      <a:lnTo>
                        <a:pt x="53" y="245"/>
                      </a:lnTo>
                      <a:lnTo>
                        <a:pt x="47" y="245"/>
                      </a:lnTo>
                      <a:lnTo>
                        <a:pt x="47" y="251"/>
                      </a:lnTo>
                      <a:lnTo>
                        <a:pt x="53" y="251"/>
                      </a:lnTo>
                      <a:lnTo>
                        <a:pt x="59" y="251"/>
                      </a:lnTo>
                      <a:lnTo>
                        <a:pt x="53" y="251"/>
                      </a:lnTo>
                      <a:lnTo>
                        <a:pt x="53" y="257"/>
                      </a:lnTo>
                      <a:lnTo>
                        <a:pt x="59" y="257"/>
                      </a:lnTo>
                      <a:lnTo>
                        <a:pt x="53" y="257"/>
                      </a:lnTo>
                      <a:lnTo>
                        <a:pt x="47" y="257"/>
                      </a:lnTo>
                      <a:lnTo>
                        <a:pt x="47" y="251"/>
                      </a:lnTo>
                      <a:lnTo>
                        <a:pt x="47" y="245"/>
                      </a:lnTo>
                      <a:lnTo>
                        <a:pt x="53" y="245"/>
                      </a:lnTo>
                      <a:lnTo>
                        <a:pt x="53" y="239"/>
                      </a:lnTo>
                      <a:lnTo>
                        <a:pt x="53" y="233"/>
                      </a:lnTo>
                      <a:lnTo>
                        <a:pt x="47" y="233"/>
                      </a:lnTo>
                      <a:lnTo>
                        <a:pt x="47" y="239"/>
                      </a:lnTo>
                      <a:lnTo>
                        <a:pt x="53" y="239"/>
                      </a:lnTo>
                      <a:lnTo>
                        <a:pt x="47" y="239"/>
                      </a:lnTo>
                      <a:lnTo>
                        <a:pt x="47" y="245"/>
                      </a:lnTo>
                      <a:lnTo>
                        <a:pt x="41" y="245"/>
                      </a:lnTo>
                      <a:lnTo>
                        <a:pt x="41" y="251"/>
                      </a:lnTo>
                      <a:lnTo>
                        <a:pt x="47" y="251"/>
                      </a:lnTo>
                      <a:lnTo>
                        <a:pt x="41" y="251"/>
                      </a:lnTo>
                      <a:lnTo>
                        <a:pt x="41" y="257"/>
                      </a:lnTo>
                      <a:lnTo>
                        <a:pt x="47" y="257"/>
                      </a:lnTo>
                      <a:lnTo>
                        <a:pt x="41" y="257"/>
                      </a:lnTo>
                      <a:lnTo>
                        <a:pt x="41" y="263"/>
                      </a:lnTo>
                      <a:lnTo>
                        <a:pt x="47" y="263"/>
                      </a:lnTo>
                      <a:lnTo>
                        <a:pt x="47" y="269"/>
                      </a:lnTo>
                      <a:lnTo>
                        <a:pt x="41" y="269"/>
                      </a:lnTo>
                      <a:lnTo>
                        <a:pt x="41" y="275"/>
                      </a:lnTo>
                      <a:lnTo>
                        <a:pt x="41" y="269"/>
                      </a:lnTo>
                      <a:lnTo>
                        <a:pt x="41" y="263"/>
                      </a:lnTo>
                      <a:lnTo>
                        <a:pt x="41" y="257"/>
                      </a:lnTo>
                      <a:lnTo>
                        <a:pt x="41" y="251"/>
                      </a:lnTo>
                      <a:lnTo>
                        <a:pt x="35" y="251"/>
                      </a:lnTo>
                      <a:lnTo>
                        <a:pt x="41" y="251"/>
                      </a:lnTo>
                      <a:lnTo>
                        <a:pt x="41" y="245"/>
                      </a:lnTo>
                      <a:lnTo>
                        <a:pt x="41" y="239"/>
                      </a:lnTo>
                      <a:lnTo>
                        <a:pt x="41" y="227"/>
                      </a:lnTo>
                      <a:lnTo>
                        <a:pt x="47" y="227"/>
                      </a:lnTo>
                      <a:lnTo>
                        <a:pt x="47" y="221"/>
                      </a:lnTo>
                      <a:lnTo>
                        <a:pt x="47" y="215"/>
                      </a:lnTo>
                      <a:lnTo>
                        <a:pt x="53" y="215"/>
                      </a:lnTo>
                      <a:lnTo>
                        <a:pt x="53" y="221"/>
                      </a:lnTo>
                      <a:lnTo>
                        <a:pt x="47" y="221"/>
                      </a:lnTo>
                      <a:lnTo>
                        <a:pt x="53" y="221"/>
                      </a:lnTo>
                      <a:lnTo>
                        <a:pt x="53" y="227"/>
                      </a:lnTo>
                      <a:lnTo>
                        <a:pt x="59" y="227"/>
                      </a:lnTo>
                      <a:lnTo>
                        <a:pt x="65" y="227"/>
                      </a:lnTo>
                      <a:lnTo>
                        <a:pt x="65" y="233"/>
                      </a:lnTo>
                      <a:lnTo>
                        <a:pt x="59" y="233"/>
                      </a:lnTo>
                      <a:lnTo>
                        <a:pt x="65" y="233"/>
                      </a:lnTo>
                      <a:lnTo>
                        <a:pt x="65" y="239"/>
                      </a:lnTo>
                      <a:lnTo>
                        <a:pt x="71" y="239"/>
                      </a:lnTo>
                      <a:lnTo>
                        <a:pt x="77" y="239"/>
                      </a:lnTo>
                      <a:lnTo>
                        <a:pt x="77" y="233"/>
                      </a:lnTo>
                      <a:lnTo>
                        <a:pt x="83" y="233"/>
                      </a:lnTo>
                      <a:lnTo>
                        <a:pt x="83" y="227"/>
                      </a:lnTo>
                      <a:lnTo>
                        <a:pt x="89" y="227"/>
                      </a:lnTo>
                      <a:lnTo>
                        <a:pt x="83" y="227"/>
                      </a:lnTo>
                      <a:lnTo>
                        <a:pt x="83" y="221"/>
                      </a:lnTo>
                      <a:lnTo>
                        <a:pt x="83" y="227"/>
                      </a:lnTo>
                      <a:lnTo>
                        <a:pt x="77" y="227"/>
                      </a:lnTo>
                      <a:lnTo>
                        <a:pt x="83" y="227"/>
                      </a:lnTo>
                      <a:lnTo>
                        <a:pt x="77" y="227"/>
                      </a:lnTo>
                      <a:lnTo>
                        <a:pt x="77" y="233"/>
                      </a:lnTo>
                      <a:lnTo>
                        <a:pt x="71" y="233"/>
                      </a:lnTo>
                      <a:lnTo>
                        <a:pt x="77" y="233"/>
                      </a:lnTo>
                      <a:lnTo>
                        <a:pt x="71" y="233"/>
                      </a:lnTo>
                      <a:lnTo>
                        <a:pt x="71" y="239"/>
                      </a:lnTo>
                      <a:lnTo>
                        <a:pt x="71" y="233"/>
                      </a:lnTo>
                      <a:lnTo>
                        <a:pt x="65" y="233"/>
                      </a:lnTo>
                      <a:lnTo>
                        <a:pt x="71" y="227"/>
                      </a:lnTo>
                      <a:lnTo>
                        <a:pt x="65" y="227"/>
                      </a:lnTo>
                      <a:lnTo>
                        <a:pt x="65" y="221"/>
                      </a:lnTo>
                      <a:lnTo>
                        <a:pt x="71" y="221"/>
                      </a:lnTo>
                      <a:lnTo>
                        <a:pt x="65" y="221"/>
                      </a:lnTo>
                      <a:lnTo>
                        <a:pt x="65" y="215"/>
                      </a:lnTo>
                      <a:lnTo>
                        <a:pt x="71" y="215"/>
                      </a:lnTo>
                      <a:lnTo>
                        <a:pt x="77" y="215"/>
                      </a:lnTo>
                      <a:lnTo>
                        <a:pt x="77" y="209"/>
                      </a:lnTo>
                      <a:lnTo>
                        <a:pt x="71" y="209"/>
                      </a:lnTo>
                      <a:lnTo>
                        <a:pt x="77" y="203"/>
                      </a:lnTo>
                      <a:lnTo>
                        <a:pt x="77" y="209"/>
                      </a:lnTo>
                      <a:lnTo>
                        <a:pt x="83" y="209"/>
                      </a:lnTo>
                      <a:lnTo>
                        <a:pt x="77" y="203"/>
                      </a:lnTo>
                      <a:lnTo>
                        <a:pt x="83" y="203"/>
                      </a:lnTo>
                      <a:lnTo>
                        <a:pt x="89" y="203"/>
                      </a:lnTo>
                      <a:lnTo>
                        <a:pt x="89" y="197"/>
                      </a:lnTo>
                      <a:lnTo>
                        <a:pt x="83" y="197"/>
                      </a:lnTo>
                      <a:lnTo>
                        <a:pt x="83" y="203"/>
                      </a:lnTo>
                      <a:lnTo>
                        <a:pt x="77" y="197"/>
                      </a:lnTo>
                      <a:lnTo>
                        <a:pt x="77" y="191"/>
                      </a:lnTo>
                      <a:lnTo>
                        <a:pt x="77" y="185"/>
                      </a:lnTo>
                      <a:lnTo>
                        <a:pt x="77" y="191"/>
                      </a:lnTo>
                      <a:lnTo>
                        <a:pt x="77" y="197"/>
                      </a:lnTo>
                      <a:lnTo>
                        <a:pt x="77" y="203"/>
                      </a:lnTo>
                      <a:lnTo>
                        <a:pt x="77" y="197"/>
                      </a:lnTo>
                      <a:lnTo>
                        <a:pt x="71" y="197"/>
                      </a:lnTo>
                      <a:lnTo>
                        <a:pt x="71" y="191"/>
                      </a:lnTo>
                      <a:lnTo>
                        <a:pt x="65" y="191"/>
                      </a:lnTo>
                      <a:lnTo>
                        <a:pt x="71" y="191"/>
                      </a:lnTo>
                      <a:lnTo>
                        <a:pt x="65" y="185"/>
                      </a:lnTo>
                      <a:lnTo>
                        <a:pt x="65" y="179"/>
                      </a:lnTo>
                      <a:lnTo>
                        <a:pt x="65" y="185"/>
                      </a:lnTo>
                      <a:lnTo>
                        <a:pt x="65" y="191"/>
                      </a:lnTo>
                      <a:lnTo>
                        <a:pt x="65" y="197"/>
                      </a:lnTo>
                      <a:lnTo>
                        <a:pt x="65" y="203"/>
                      </a:lnTo>
                      <a:lnTo>
                        <a:pt x="65" y="209"/>
                      </a:lnTo>
                      <a:lnTo>
                        <a:pt x="59" y="209"/>
                      </a:lnTo>
                      <a:lnTo>
                        <a:pt x="65" y="209"/>
                      </a:lnTo>
                      <a:lnTo>
                        <a:pt x="65" y="215"/>
                      </a:lnTo>
                      <a:lnTo>
                        <a:pt x="59" y="215"/>
                      </a:lnTo>
                      <a:lnTo>
                        <a:pt x="59" y="209"/>
                      </a:lnTo>
                      <a:lnTo>
                        <a:pt x="59" y="203"/>
                      </a:lnTo>
                      <a:lnTo>
                        <a:pt x="65" y="203"/>
                      </a:lnTo>
                      <a:lnTo>
                        <a:pt x="65" y="197"/>
                      </a:lnTo>
                      <a:lnTo>
                        <a:pt x="59" y="197"/>
                      </a:lnTo>
                      <a:lnTo>
                        <a:pt x="59" y="203"/>
                      </a:lnTo>
                      <a:lnTo>
                        <a:pt x="59" y="197"/>
                      </a:lnTo>
                      <a:lnTo>
                        <a:pt x="53" y="197"/>
                      </a:lnTo>
                      <a:lnTo>
                        <a:pt x="53" y="191"/>
                      </a:lnTo>
                      <a:lnTo>
                        <a:pt x="59" y="191"/>
                      </a:lnTo>
                      <a:lnTo>
                        <a:pt x="53" y="191"/>
                      </a:lnTo>
                      <a:lnTo>
                        <a:pt x="47" y="191"/>
                      </a:lnTo>
                      <a:lnTo>
                        <a:pt x="53" y="191"/>
                      </a:lnTo>
                      <a:lnTo>
                        <a:pt x="53" y="185"/>
                      </a:lnTo>
                      <a:lnTo>
                        <a:pt x="47" y="185"/>
                      </a:lnTo>
                      <a:lnTo>
                        <a:pt x="47" y="191"/>
                      </a:lnTo>
                      <a:lnTo>
                        <a:pt x="47" y="185"/>
                      </a:lnTo>
                      <a:lnTo>
                        <a:pt x="53" y="185"/>
                      </a:lnTo>
                      <a:lnTo>
                        <a:pt x="59" y="179"/>
                      </a:lnTo>
                      <a:lnTo>
                        <a:pt x="59" y="174"/>
                      </a:lnTo>
                      <a:lnTo>
                        <a:pt x="65" y="179"/>
                      </a:lnTo>
                      <a:lnTo>
                        <a:pt x="65" y="174"/>
                      </a:lnTo>
                      <a:lnTo>
                        <a:pt x="65" y="168"/>
                      </a:lnTo>
                      <a:lnTo>
                        <a:pt x="65" y="174"/>
                      </a:lnTo>
                      <a:lnTo>
                        <a:pt x="59" y="174"/>
                      </a:lnTo>
                      <a:lnTo>
                        <a:pt x="59" y="168"/>
                      </a:lnTo>
                      <a:lnTo>
                        <a:pt x="65" y="168"/>
                      </a:lnTo>
                      <a:lnTo>
                        <a:pt x="65" y="162"/>
                      </a:lnTo>
                      <a:lnTo>
                        <a:pt x="59" y="162"/>
                      </a:lnTo>
                      <a:lnTo>
                        <a:pt x="59" y="168"/>
                      </a:lnTo>
                      <a:lnTo>
                        <a:pt x="59" y="162"/>
                      </a:lnTo>
                      <a:lnTo>
                        <a:pt x="53" y="162"/>
                      </a:lnTo>
                      <a:lnTo>
                        <a:pt x="59" y="162"/>
                      </a:lnTo>
                      <a:lnTo>
                        <a:pt x="59" y="156"/>
                      </a:lnTo>
                      <a:lnTo>
                        <a:pt x="59" y="162"/>
                      </a:lnTo>
                      <a:lnTo>
                        <a:pt x="65" y="162"/>
                      </a:lnTo>
                      <a:lnTo>
                        <a:pt x="59" y="162"/>
                      </a:lnTo>
                      <a:lnTo>
                        <a:pt x="59" y="156"/>
                      </a:lnTo>
                      <a:lnTo>
                        <a:pt x="65" y="156"/>
                      </a:lnTo>
                      <a:lnTo>
                        <a:pt x="59" y="156"/>
                      </a:lnTo>
                      <a:lnTo>
                        <a:pt x="59" y="150"/>
                      </a:lnTo>
                      <a:lnTo>
                        <a:pt x="65" y="150"/>
                      </a:lnTo>
                      <a:lnTo>
                        <a:pt x="65" y="156"/>
                      </a:lnTo>
                      <a:lnTo>
                        <a:pt x="71" y="150"/>
                      </a:lnTo>
                      <a:lnTo>
                        <a:pt x="77" y="150"/>
                      </a:lnTo>
                      <a:lnTo>
                        <a:pt x="77" y="156"/>
                      </a:lnTo>
                      <a:lnTo>
                        <a:pt x="77" y="150"/>
                      </a:lnTo>
                      <a:lnTo>
                        <a:pt x="71" y="150"/>
                      </a:lnTo>
                      <a:lnTo>
                        <a:pt x="71" y="144"/>
                      </a:lnTo>
                      <a:lnTo>
                        <a:pt x="65" y="150"/>
                      </a:lnTo>
                      <a:lnTo>
                        <a:pt x="59" y="150"/>
                      </a:lnTo>
                      <a:lnTo>
                        <a:pt x="59" y="144"/>
                      </a:lnTo>
                      <a:lnTo>
                        <a:pt x="65" y="144"/>
                      </a:lnTo>
                      <a:lnTo>
                        <a:pt x="65" y="138"/>
                      </a:lnTo>
                      <a:lnTo>
                        <a:pt x="65" y="144"/>
                      </a:lnTo>
                      <a:lnTo>
                        <a:pt x="65" y="138"/>
                      </a:lnTo>
                      <a:lnTo>
                        <a:pt x="59" y="138"/>
                      </a:lnTo>
                      <a:lnTo>
                        <a:pt x="59" y="144"/>
                      </a:lnTo>
                      <a:lnTo>
                        <a:pt x="59" y="150"/>
                      </a:lnTo>
                      <a:lnTo>
                        <a:pt x="53" y="150"/>
                      </a:lnTo>
                      <a:lnTo>
                        <a:pt x="53" y="144"/>
                      </a:lnTo>
                      <a:lnTo>
                        <a:pt x="59" y="138"/>
                      </a:lnTo>
                      <a:lnTo>
                        <a:pt x="59" y="132"/>
                      </a:lnTo>
                      <a:lnTo>
                        <a:pt x="59" y="126"/>
                      </a:lnTo>
                      <a:lnTo>
                        <a:pt x="53" y="132"/>
                      </a:lnTo>
                      <a:lnTo>
                        <a:pt x="59" y="132"/>
                      </a:lnTo>
                      <a:lnTo>
                        <a:pt x="59" y="138"/>
                      </a:lnTo>
                      <a:lnTo>
                        <a:pt x="53" y="138"/>
                      </a:lnTo>
                      <a:lnTo>
                        <a:pt x="53" y="132"/>
                      </a:lnTo>
                      <a:lnTo>
                        <a:pt x="47" y="132"/>
                      </a:lnTo>
                      <a:lnTo>
                        <a:pt x="53" y="126"/>
                      </a:lnTo>
                      <a:lnTo>
                        <a:pt x="47" y="126"/>
                      </a:lnTo>
                      <a:lnTo>
                        <a:pt x="47" y="132"/>
                      </a:lnTo>
                      <a:lnTo>
                        <a:pt x="47" y="138"/>
                      </a:lnTo>
                      <a:lnTo>
                        <a:pt x="53" y="138"/>
                      </a:lnTo>
                      <a:lnTo>
                        <a:pt x="53" y="144"/>
                      </a:lnTo>
                      <a:lnTo>
                        <a:pt x="47" y="144"/>
                      </a:lnTo>
                      <a:lnTo>
                        <a:pt x="53" y="144"/>
                      </a:lnTo>
                      <a:lnTo>
                        <a:pt x="53" y="150"/>
                      </a:lnTo>
                      <a:lnTo>
                        <a:pt x="47" y="150"/>
                      </a:lnTo>
                      <a:lnTo>
                        <a:pt x="47" y="144"/>
                      </a:lnTo>
                      <a:lnTo>
                        <a:pt x="41" y="144"/>
                      </a:lnTo>
                      <a:lnTo>
                        <a:pt x="41" y="150"/>
                      </a:lnTo>
                      <a:lnTo>
                        <a:pt x="47" y="150"/>
                      </a:lnTo>
                      <a:lnTo>
                        <a:pt x="47" y="156"/>
                      </a:lnTo>
                      <a:lnTo>
                        <a:pt x="47" y="162"/>
                      </a:lnTo>
                      <a:lnTo>
                        <a:pt x="47" y="156"/>
                      </a:lnTo>
                      <a:lnTo>
                        <a:pt x="47" y="162"/>
                      </a:lnTo>
                      <a:lnTo>
                        <a:pt x="53" y="162"/>
                      </a:lnTo>
                      <a:lnTo>
                        <a:pt x="53" y="168"/>
                      </a:lnTo>
                      <a:lnTo>
                        <a:pt x="47" y="168"/>
                      </a:lnTo>
                      <a:lnTo>
                        <a:pt x="53" y="168"/>
                      </a:lnTo>
                      <a:lnTo>
                        <a:pt x="53" y="174"/>
                      </a:lnTo>
                      <a:lnTo>
                        <a:pt x="47" y="174"/>
                      </a:lnTo>
                      <a:lnTo>
                        <a:pt x="47" y="168"/>
                      </a:lnTo>
                      <a:lnTo>
                        <a:pt x="41" y="168"/>
                      </a:lnTo>
                      <a:lnTo>
                        <a:pt x="47" y="168"/>
                      </a:lnTo>
                      <a:lnTo>
                        <a:pt x="47" y="162"/>
                      </a:lnTo>
                      <a:lnTo>
                        <a:pt x="41" y="162"/>
                      </a:lnTo>
                      <a:lnTo>
                        <a:pt x="41" y="156"/>
                      </a:lnTo>
                      <a:lnTo>
                        <a:pt x="41" y="150"/>
                      </a:lnTo>
                      <a:lnTo>
                        <a:pt x="35" y="150"/>
                      </a:lnTo>
                      <a:lnTo>
                        <a:pt x="35" y="144"/>
                      </a:lnTo>
                      <a:lnTo>
                        <a:pt x="35" y="138"/>
                      </a:lnTo>
                      <a:lnTo>
                        <a:pt x="29" y="138"/>
                      </a:lnTo>
                      <a:lnTo>
                        <a:pt x="29" y="132"/>
                      </a:lnTo>
                      <a:lnTo>
                        <a:pt x="29" y="126"/>
                      </a:lnTo>
                      <a:lnTo>
                        <a:pt x="35" y="120"/>
                      </a:lnTo>
                      <a:lnTo>
                        <a:pt x="35" y="114"/>
                      </a:lnTo>
                      <a:lnTo>
                        <a:pt x="35" y="108"/>
                      </a:lnTo>
                      <a:lnTo>
                        <a:pt x="35" y="102"/>
                      </a:lnTo>
                      <a:lnTo>
                        <a:pt x="35" y="108"/>
                      </a:lnTo>
                      <a:lnTo>
                        <a:pt x="41" y="108"/>
                      </a:lnTo>
                      <a:lnTo>
                        <a:pt x="47" y="108"/>
                      </a:lnTo>
                      <a:lnTo>
                        <a:pt x="41" y="108"/>
                      </a:lnTo>
                      <a:lnTo>
                        <a:pt x="41" y="102"/>
                      </a:lnTo>
                      <a:lnTo>
                        <a:pt x="35" y="102"/>
                      </a:lnTo>
                      <a:lnTo>
                        <a:pt x="41" y="96"/>
                      </a:lnTo>
                      <a:lnTo>
                        <a:pt x="41" y="102"/>
                      </a:lnTo>
                      <a:lnTo>
                        <a:pt x="41" y="96"/>
                      </a:lnTo>
                      <a:lnTo>
                        <a:pt x="47" y="102"/>
                      </a:lnTo>
                      <a:lnTo>
                        <a:pt x="47" y="96"/>
                      </a:lnTo>
                      <a:lnTo>
                        <a:pt x="47" y="90"/>
                      </a:lnTo>
                      <a:lnTo>
                        <a:pt x="41" y="96"/>
                      </a:lnTo>
                      <a:lnTo>
                        <a:pt x="41" y="90"/>
                      </a:lnTo>
                      <a:lnTo>
                        <a:pt x="41" y="84"/>
                      </a:lnTo>
                      <a:lnTo>
                        <a:pt x="47" y="84"/>
                      </a:lnTo>
                      <a:lnTo>
                        <a:pt x="53" y="84"/>
                      </a:lnTo>
                      <a:lnTo>
                        <a:pt x="59" y="84"/>
                      </a:lnTo>
                      <a:lnTo>
                        <a:pt x="53" y="84"/>
                      </a:lnTo>
                      <a:lnTo>
                        <a:pt x="53" y="78"/>
                      </a:lnTo>
                      <a:lnTo>
                        <a:pt x="47" y="78"/>
                      </a:lnTo>
                      <a:lnTo>
                        <a:pt x="47" y="72"/>
                      </a:lnTo>
                      <a:lnTo>
                        <a:pt x="53" y="72"/>
                      </a:lnTo>
                      <a:lnTo>
                        <a:pt x="59" y="72"/>
                      </a:lnTo>
                      <a:lnTo>
                        <a:pt x="65" y="72"/>
                      </a:lnTo>
                      <a:lnTo>
                        <a:pt x="65" y="66"/>
                      </a:lnTo>
                      <a:lnTo>
                        <a:pt x="71" y="66"/>
                      </a:lnTo>
                      <a:lnTo>
                        <a:pt x="71" y="72"/>
                      </a:lnTo>
                      <a:lnTo>
                        <a:pt x="71" y="66"/>
                      </a:lnTo>
                      <a:lnTo>
                        <a:pt x="77" y="66"/>
                      </a:lnTo>
                      <a:lnTo>
                        <a:pt x="77" y="72"/>
                      </a:lnTo>
                      <a:lnTo>
                        <a:pt x="83" y="72"/>
                      </a:lnTo>
                      <a:lnTo>
                        <a:pt x="83" y="66"/>
                      </a:lnTo>
                      <a:lnTo>
                        <a:pt x="77" y="66"/>
                      </a:lnTo>
                      <a:lnTo>
                        <a:pt x="83" y="66"/>
                      </a:lnTo>
                      <a:lnTo>
                        <a:pt x="89" y="66"/>
                      </a:lnTo>
                      <a:lnTo>
                        <a:pt x="95" y="66"/>
                      </a:lnTo>
                      <a:lnTo>
                        <a:pt x="89" y="66"/>
                      </a:lnTo>
                      <a:lnTo>
                        <a:pt x="89" y="60"/>
                      </a:lnTo>
                      <a:lnTo>
                        <a:pt x="95" y="60"/>
                      </a:lnTo>
                      <a:lnTo>
                        <a:pt x="95" y="66"/>
                      </a:lnTo>
                      <a:lnTo>
                        <a:pt x="95" y="60"/>
                      </a:lnTo>
                      <a:lnTo>
                        <a:pt x="95" y="66"/>
                      </a:lnTo>
                      <a:lnTo>
                        <a:pt x="101" y="60"/>
                      </a:lnTo>
                      <a:lnTo>
                        <a:pt x="107" y="60"/>
                      </a:lnTo>
                      <a:lnTo>
                        <a:pt x="107" y="54"/>
                      </a:lnTo>
                      <a:lnTo>
                        <a:pt x="101" y="54"/>
                      </a:lnTo>
                      <a:lnTo>
                        <a:pt x="101" y="60"/>
                      </a:lnTo>
                      <a:lnTo>
                        <a:pt x="95" y="60"/>
                      </a:lnTo>
                      <a:lnTo>
                        <a:pt x="89" y="60"/>
                      </a:lnTo>
                      <a:lnTo>
                        <a:pt x="89" y="54"/>
                      </a:lnTo>
                      <a:lnTo>
                        <a:pt x="89" y="60"/>
                      </a:lnTo>
                      <a:lnTo>
                        <a:pt x="83" y="60"/>
                      </a:lnTo>
                      <a:lnTo>
                        <a:pt x="77" y="60"/>
                      </a:lnTo>
                      <a:lnTo>
                        <a:pt x="71" y="60"/>
                      </a:lnTo>
                      <a:lnTo>
                        <a:pt x="65" y="60"/>
                      </a:lnTo>
                      <a:lnTo>
                        <a:pt x="65" y="54"/>
                      </a:lnTo>
                      <a:lnTo>
                        <a:pt x="71" y="54"/>
                      </a:lnTo>
                      <a:lnTo>
                        <a:pt x="71" y="48"/>
                      </a:lnTo>
                      <a:lnTo>
                        <a:pt x="71" y="42"/>
                      </a:lnTo>
                      <a:lnTo>
                        <a:pt x="77" y="42"/>
                      </a:lnTo>
                      <a:lnTo>
                        <a:pt x="77" y="36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77" y="42"/>
                      </a:lnTo>
                      <a:lnTo>
                        <a:pt x="77" y="36"/>
                      </a:lnTo>
                      <a:lnTo>
                        <a:pt x="83" y="36"/>
                      </a:lnTo>
                      <a:lnTo>
                        <a:pt x="89" y="30"/>
                      </a:lnTo>
                      <a:lnTo>
                        <a:pt x="95" y="30"/>
                      </a:lnTo>
                      <a:lnTo>
                        <a:pt x="95" y="36"/>
                      </a:lnTo>
                      <a:lnTo>
                        <a:pt x="101" y="36"/>
                      </a:lnTo>
                      <a:lnTo>
                        <a:pt x="107" y="36"/>
                      </a:lnTo>
                      <a:lnTo>
                        <a:pt x="101" y="36"/>
                      </a:lnTo>
                      <a:lnTo>
                        <a:pt x="101" y="30"/>
                      </a:lnTo>
                      <a:lnTo>
                        <a:pt x="95" y="30"/>
                      </a:lnTo>
                      <a:lnTo>
                        <a:pt x="95" y="36"/>
                      </a:lnTo>
                      <a:lnTo>
                        <a:pt x="95" y="30"/>
                      </a:lnTo>
                      <a:lnTo>
                        <a:pt x="89" y="30"/>
                      </a:lnTo>
                      <a:lnTo>
                        <a:pt x="83" y="30"/>
                      </a:lnTo>
                      <a:lnTo>
                        <a:pt x="83" y="24"/>
                      </a:lnTo>
                      <a:lnTo>
                        <a:pt x="89" y="24"/>
                      </a:lnTo>
                      <a:lnTo>
                        <a:pt x="89" y="18"/>
                      </a:lnTo>
                      <a:lnTo>
                        <a:pt x="95" y="18"/>
                      </a:lnTo>
                      <a:lnTo>
                        <a:pt x="89" y="18"/>
                      </a:lnTo>
                      <a:lnTo>
                        <a:pt x="95" y="18"/>
                      </a:lnTo>
                      <a:lnTo>
                        <a:pt x="89" y="18"/>
                      </a:lnTo>
                      <a:lnTo>
                        <a:pt x="89" y="12"/>
                      </a:lnTo>
                      <a:lnTo>
                        <a:pt x="95" y="12"/>
                      </a:lnTo>
                      <a:lnTo>
                        <a:pt x="95" y="6"/>
                      </a:lnTo>
                      <a:lnTo>
                        <a:pt x="101" y="6"/>
                      </a:lnTo>
                      <a:lnTo>
                        <a:pt x="95" y="0"/>
                      </a:lnTo>
                      <a:lnTo>
                        <a:pt x="89" y="0"/>
                      </a:lnTo>
                      <a:lnTo>
                        <a:pt x="89" y="6"/>
                      </a:lnTo>
                      <a:lnTo>
                        <a:pt x="95" y="6"/>
                      </a:lnTo>
                      <a:lnTo>
                        <a:pt x="89" y="6"/>
                      </a:lnTo>
                      <a:lnTo>
                        <a:pt x="89" y="12"/>
                      </a:lnTo>
                      <a:lnTo>
                        <a:pt x="89" y="18"/>
                      </a:lnTo>
                      <a:lnTo>
                        <a:pt x="83" y="24"/>
                      </a:lnTo>
                      <a:lnTo>
                        <a:pt x="83" y="18"/>
                      </a:lnTo>
                      <a:lnTo>
                        <a:pt x="83" y="24"/>
                      </a:lnTo>
                      <a:lnTo>
                        <a:pt x="77" y="24"/>
                      </a:lnTo>
                      <a:lnTo>
                        <a:pt x="83" y="24"/>
                      </a:lnTo>
                      <a:lnTo>
                        <a:pt x="77" y="24"/>
                      </a:lnTo>
                      <a:lnTo>
                        <a:pt x="77" y="30"/>
                      </a:lnTo>
                      <a:lnTo>
                        <a:pt x="77" y="36"/>
                      </a:lnTo>
                      <a:lnTo>
                        <a:pt x="71" y="36"/>
                      </a:lnTo>
                      <a:lnTo>
                        <a:pt x="71" y="42"/>
                      </a:lnTo>
                      <a:lnTo>
                        <a:pt x="65" y="42"/>
                      </a:lnTo>
                      <a:lnTo>
                        <a:pt x="65" y="36"/>
                      </a:lnTo>
                      <a:lnTo>
                        <a:pt x="71" y="36"/>
                      </a:lnTo>
                      <a:lnTo>
                        <a:pt x="65" y="36"/>
                      </a:lnTo>
                      <a:lnTo>
                        <a:pt x="65" y="30"/>
                      </a:lnTo>
                      <a:lnTo>
                        <a:pt x="71" y="30"/>
                      </a:lnTo>
                      <a:lnTo>
                        <a:pt x="71" y="24"/>
                      </a:lnTo>
                      <a:lnTo>
                        <a:pt x="71" y="18"/>
                      </a:lnTo>
                      <a:lnTo>
                        <a:pt x="71" y="12"/>
                      </a:lnTo>
                      <a:lnTo>
                        <a:pt x="71" y="6"/>
                      </a:lnTo>
                      <a:lnTo>
                        <a:pt x="71" y="0"/>
                      </a:lnTo>
                      <a:lnTo>
                        <a:pt x="71" y="6"/>
                      </a:lnTo>
                      <a:lnTo>
                        <a:pt x="65" y="6"/>
                      </a:lnTo>
                      <a:lnTo>
                        <a:pt x="71" y="6"/>
                      </a:lnTo>
                      <a:lnTo>
                        <a:pt x="65" y="6"/>
                      </a:lnTo>
                      <a:lnTo>
                        <a:pt x="65" y="12"/>
                      </a:lnTo>
                      <a:lnTo>
                        <a:pt x="65" y="18"/>
                      </a:lnTo>
                      <a:lnTo>
                        <a:pt x="59" y="18"/>
                      </a:lnTo>
                      <a:lnTo>
                        <a:pt x="59" y="12"/>
                      </a:lnTo>
                      <a:lnTo>
                        <a:pt x="53" y="12"/>
                      </a:lnTo>
                      <a:lnTo>
                        <a:pt x="53" y="18"/>
                      </a:lnTo>
                      <a:lnTo>
                        <a:pt x="47" y="18"/>
                      </a:lnTo>
                      <a:lnTo>
                        <a:pt x="47" y="24"/>
                      </a:lnTo>
                      <a:lnTo>
                        <a:pt x="41" y="30"/>
                      </a:lnTo>
                      <a:lnTo>
                        <a:pt x="41" y="36"/>
                      </a:lnTo>
                      <a:lnTo>
                        <a:pt x="41" y="42"/>
                      </a:lnTo>
                      <a:lnTo>
                        <a:pt x="41" y="36"/>
                      </a:lnTo>
                      <a:lnTo>
                        <a:pt x="47" y="36"/>
                      </a:lnTo>
                      <a:lnTo>
                        <a:pt x="47" y="42"/>
                      </a:lnTo>
                      <a:lnTo>
                        <a:pt x="47" y="48"/>
                      </a:lnTo>
                      <a:lnTo>
                        <a:pt x="47" y="54"/>
                      </a:lnTo>
                      <a:lnTo>
                        <a:pt x="47" y="60"/>
                      </a:lnTo>
                      <a:lnTo>
                        <a:pt x="41" y="60"/>
                      </a:lnTo>
                      <a:lnTo>
                        <a:pt x="35" y="66"/>
                      </a:lnTo>
                      <a:lnTo>
                        <a:pt x="35" y="72"/>
                      </a:lnTo>
                      <a:lnTo>
                        <a:pt x="35" y="66"/>
                      </a:lnTo>
                      <a:lnTo>
                        <a:pt x="29" y="66"/>
                      </a:lnTo>
                      <a:lnTo>
                        <a:pt x="29" y="72"/>
                      </a:lnTo>
                      <a:lnTo>
                        <a:pt x="23" y="66"/>
                      </a:lnTo>
                      <a:lnTo>
                        <a:pt x="23" y="72"/>
                      </a:lnTo>
                      <a:lnTo>
                        <a:pt x="29" y="72"/>
                      </a:lnTo>
                      <a:lnTo>
                        <a:pt x="35" y="72"/>
                      </a:lnTo>
                      <a:lnTo>
                        <a:pt x="35" y="78"/>
                      </a:lnTo>
                      <a:lnTo>
                        <a:pt x="29" y="78"/>
                      </a:lnTo>
                      <a:lnTo>
                        <a:pt x="29" y="84"/>
                      </a:lnTo>
                      <a:lnTo>
                        <a:pt x="29" y="78"/>
                      </a:lnTo>
                      <a:lnTo>
                        <a:pt x="23" y="78"/>
                      </a:lnTo>
                      <a:lnTo>
                        <a:pt x="23" y="72"/>
                      </a:lnTo>
                      <a:lnTo>
                        <a:pt x="23" y="66"/>
                      </a:lnTo>
                      <a:lnTo>
                        <a:pt x="23" y="60"/>
                      </a:lnTo>
                      <a:lnTo>
                        <a:pt x="23" y="54"/>
                      </a:lnTo>
                      <a:lnTo>
                        <a:pt x="23" y="48"/>
                      </a:lnTo>
                      <a:lnTo>
                        <a:pt x="17" y="48"/>
                      </a:lnTo>
                      <a:lnTo>
                        <a:pt x="17" y="54"/>
                      </a:lnTo>
                      <a:lnTo>
                        <a:pt x="11" y="54"/>
                      </a:lnTo>
                      <a:lnTo>
                        <a:pt x="11" y="60"/>
                      </a:lnTo>
                      <a:lnTo>
                        <a:pt x="17" y="60"/>
                      </a:lnTo>
                      <a:lnTo>
                        <a:pt x="17" y="54"/>
                      </a:lnTo>
                      <a:lnTo>
                        <a:pt x="17" y="60"/>
                      </a:lnTo>
                      <a:lnTo>
                        <a:pt x="17" y="66"/>
                      </a:lnTo>
                      <a:lnTo>
                        <a:pt x="17" y="72"/>
                      </a:lnTo>
                      <a:lnTo>
                        <a:pt x="17" y="78"/>
                      </a:lnTo>
                      <a:lnTo>
                        <a:pt x="17" y="84"/>
                      </a:lnTo>
                      <a:lnTo>
                        <a:pt x="23" y="84"/>
                      </a:lnTo>
                      <a:lnTo>
                        <a:pt x="23" y="90"/>
                      </a:lnTo>
                      <a:lnTo>
                        <a:pt x="17" y="90"/>
                      </a:lnTo>
                      <a:lnTo>
                        <a:pt x="23" y="90"/>
                      </a:lnTo>
                      <a:lnTo>
                        <a:pt x="17" y="90"/>
                      </a:lnTo>
                      <a:lnTo>
                        <a:pt x="17" y="96"/>
                      </a:lnTo>
                      <a:lnTo>
                        <a:pt x="17" y="90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5" y="84"/>
                      </a:lnTo>
                      <a:lnTo>
                        <a:pt x="11" y="84"/>
                      </a:lnTo>
                      <a:lnTo>
                        <a:pt x="11" y="78"/>
                      </a:lnTo>
                      <a:lnTo>
                        <a:pt x="5" y="72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165"/>
                <p:cNvSpPr/>
                <p:nvPr/>
              </p:nvSpPr>
              <p:spPr>
                <a:xfrm>
                  <a:off x="7764480" y="4408200"/>
                  <a:ext cx="11520" cy="540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12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Rectangle 166"/>
                <p:cNvSpPr/>
                <p:nvPr/>
              </p:nvSpPr>
              <p:spPr>
                <a:xfrm>
                  <a:off x="7717320" y="4478040"/>
                  <a:ext cx="468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167"/>
                <p:cNvSpPr/>
                <p:nvPr/>
              </p:nvSpPr>
              <p:spPr>
                <a:xfrm>
                  <a:off x="6273720" y="4512960"/>
                  <a:ext cx="1711800" cy="938520"/>
                </a:xfrm>
                <a:custGeom>
                  <a:avLst/>
                  <a:gdLst>
                    <a:gd name="textAreaLeft" fmla="*/ 0 w 1711800"/>
                    <a:gd name="textAreaRight" fmla="*/ 1712160 w 1711800"/>
                    <a:gd name="textAreaTop" fmla="*/ 0 h 938520"/>
                    <a:gd name="textAreaBottom" fmla="*/ 938880 h 938520"/>
                  </a:gdLst>
                  <a:ahLst/>
                  <a:rect l="textAreaLeft" t="textAreaTop" r="textAreaRight" b="textAreaBottom"/>
                  <a:pathLst>
                    <a:path w="1712" h="966">
                      <a:moveTo>
                        <a:pt x="1145" y="59"/>
                      </a:moveTo>
                      <a:lnTo>
                        <a:pt x="1151" y="59"/>
                      </a:lnTo>
                      <a:lnTo>
                        <a:pt x="1151" y="53"/>
                      </a:lnTo>
                      <a:lnTo>
                        <a:pt x="1151" y="47"/>
                      </a:lnTo>
                      <a:lnTo>
                        <a:pt x="1151" y="41"/>
                      </a:lnTo>
                      <a:lnTo>
                        <a:pt x="1151" y="35"/>
                      </a:lnTo>
                      <a:lnTo>
                        <a:pt x="1151" y="29"/>
                      </a:lnTo>
                      <a:lnTo>
                        <a:pt x="1157" y="24"/>
                      </a:lnTo>
                      <a:lnTo>
                        <a:pt x="1151" y="24"/>
                      </a:lnTo>
                      <a:lnTo>
                        <a:pt x="1151" y="18"/>
                      </a:lnTo>
                      <a:lnTo>
                        <a:pt x="1157" y="12"/>
                      </a:lnTo>
                      <a:lnTo>
                        <a:pt x="1157" y="6"/>
                      </a:lnTo>
                      <a:lnTo>
                        <a:pt x="1163" y="6"/>
                      </a:lnTo>
                      <a:lnTo>
                        <a:pt x="1169" y="6"/>
                      </a:lnTo>
                      <a:lnTo>
                        <a:pt x="1169" y="0"/>
                      </a:lnTo>
                      <a:lnTo>
                        <a:pt x="1175" y="0"/>
                      </a:lnTo>
                      <a:lnTo>
                        <a:pt x="1175" y="6"/>
                      </a:lnTo>
                      <a:lnTo>
                        <a:pt x="1181" y="6"/>
                      </a:lnTo>
                      <a:lnTo>
                        <a:pt x="1187" y="6"/>
                      </a:lnTo>
                      <a:lnTo>
                        <a:pt x="1193" y="6"/>
                      </a:lnTo>
                      <a:lnTo>
                        <a:pt x="1199" y="6"/>
                      </a:lnTo>
                      <a:lnTo>
                        <a:pt x="1199" y="12"/>
                      </a:lnTo>
                      <a:lnTo>
                        <a:pt x="1205" y="12"/>
                      </a:lnTo>
                      <a:lnTo>
                        <a:pt x="1211" y="12"/>
                      </a:lnTo>
                      <a:lnTo>
                        <a:pt x="1217" y="18"/>
                      </a:lnTo>
                      <a:lnTo>
                        <a:pt x="1223" y="24"/>
                      </a:lnTo>
                      <a:lnTo>
                        <a:pt x="1223" y="29"/>
                      </a:lnTo>
                      <a:lnTo>
                        <a:pt x="1217" y="29"/>
                      </a:lnTo>
                      <a:lnTo>
                        <a:pt x="1217" y="35"/>
                      </a:lnTo>
                      <a:lnTo>
                        <a:pt x="1211" y="35"/>
                      </a:lnTo>
                      <a:lnTo>
                        <a:pt x="1211" y="41"/>
                      </a:lnTo>
                      <a:lnTo>
                        <a:pt x="1211" y="47"/>
                      </a:lnTo>
                      <a:lnTo>
                        <a:pt x="1217" y="47"/>
                      </a:lnTo>
                      <a:lnTo>
                        <a:pt x="1217" y="53"/>
                      </a:lnTo>
                      <a:lnTo>
                        <a:pt x="1223" y="53"/>
                      </a:lnTo>
                      <a:lnTo>
                        <a:pt x="1229" y="53"/>
                      </a:lnTo>
                      <a:lnTo>
                        <a:pt x="1229" y="59"/>
                      </a:lnTo>
                      <a:lnTo>
                        <a:pt x="1235" y="59"/>
                      </a:lnTo>
                      <a:lnTo>
                        <a:pt x="1241" y="59"/>
                      </a:lnTo>
                      <a:lnTo>
                        <a:pt x="1247" y="59"/>
                      </a:lnTo>
                      <a:lnTo>
                        <a:pt x="1253" y="59"/>
                      </a:lnTo>
                      <a:lnTo>
                        <a:pt x="1259" y="59"/>
                      </a:lnTo>
                      <a:lnTo>
                        <a:pt x="1265" y="59"/>
                      </a:lnTo>
                      <a:lnTo>
                        <a:pt x="1265" y="65"/>
                      </a:lnTo>
                      <a:lnTo>
                        <a:pt x="1271" y="65"/>
                      </a:lnTo>
                      <a:lnTo>
                        <a:pt x="1276" y="65"/>
                      </a:lnTo>
                      <a:lnTo>
                        <a:pt x="1276" y="71"/>
                      </a:lnTo>
                      <a:lnTo>
                        <a:pt x="1276" y="77"/>
                      </a:lnTo>
                      <a:lnTo>
                        <a:pt x="1282" y="77"/>
                      </a:lnTo>
                      <a:lnTo>
                        <a:pt x="1288" y="77"/>
                      </a:lnTo>
                      <a:lnTo>
                        <a:pt x="1294" y="77"/>
                      </a:lnTo>
                      <a:lnTo>
                        <a:pt x="1300" y="77"/>
                      </a:lnTo>
                      <a:lnTo>
                        <a:pt x="1300" y="83"/>
                      </a:lnTo>
                      <a:lnTo>
                        <a:pt x="1306" y="83"/>
                      </a:lnTo>
                      <a:lnTo>
                        <a:pt x="1306" y="89"/>
                      </a:lnTo>
                      <a:lnTo>
                        <a:pt x="1312" y="89"/>
                      </a:lnTo>
                      <a:lnTo>
                        <a:pt x="1318" y="89"/>
                      </a:lnTo>
                      <a:lnTo>
                        <a:pt x="1318" y="95"/>
                      </a:lnTo>
                      <a:lnTo>
                        <a:pt x="1324" y="95"/>
                      </a:lnTo>
                      <a:lnTo>
                        <a:pt x="1324" y="101"/>
                      </a:lnTo>
                      <a:lnTo>
                        <a:pt x="1330" y="101"/>
                      </a:lnTo>
                      <a:lnTo>
                        <a:pt x="1330" y="107"/>
                      </a:lnTo>
                      <a:lnTo>
                        <a:pt x="1330" y="113"/>
                      </a:lnTo>
                      <a:lnTo>
                        <a:pt x="1330" y="119"/>
                      </a:lnTo>
                      <a:lnTo>
                        <a:pt x="1330" y="125"/>
                      </a:lnTo>
                      <a:lnTo>
                        <a:pt x="1330" y="131"/>
                      </a:lnTo>
                      <a:lnTo>
                        <a:pt x="1336" y="131"/>
                      </a:lnTo>
                      <a:lnTo>
                        <a:pt x="1336" y="137"/>
                      </a:lnTo>
                      <a:lnTo>
                        <a:pt x="1336" y="143"/>
                      </a:lnTo>
                      <a:lnTo>
                        <a:pt x="1330" y="143"/>
                      </a:lnTo>
                      <a:lnTo>
                        <a:pt x="1324" y="149"/>
                      </a:lnTo>
                      <a:lnTo>
                        <a:pt x="1324" y="155"/>
                      </a:lnTo>
                      <a:lnTo>
                        <a:pt x="1318" y="155"/>
                      </a:lnTo>
                      <a:lnTo>
                        <a:pt x="1318" y="161"/>
                      </a:lnTo>
                      <a:lnTo>
                        <a:pt x="1324" y="161"/>
                      </a:lnTo>
                      <a:lnTo>
                        <a:pt x="1324" y="167"/>
                      </a:lnTo>
                      <a:lnTo>
                        <a:pt x="1318" y="167"/>
                      </a:lnTo>
                      <a:lnTo>
                        <a:pt x="1312" y="167"/>
                      </a:lnTo>
                      <a:lnTo>
                        <a:pt x="1318" y="167"/>
                      </a:lnTo>
                      <a:lnTo>
                        <a:pt x="1318" y="173"/>
                      </a:lnTo>
                      <a:lnTo>
                        <a:pt x="1312" y="173"/>
                      </a:lnTo>
                      <a:lnTo>
                        <a:pt x="1306" y="173"/>
                      </a:lnTo>
                      <a:lnTo>
                        <a:pt x="1306" y="167"/>
                      </a:lnTo>
                      <a:lnTo>
                        <a:pt x="1306" y="161"/>
                      </a:lnTo>
                      <a:lnTo>
                        <a:pt x="1306" y="167"/>
                      </a:lnTo>
                      <a:lnTo>
                        <a:pt x="1300" y="167"/>
                      </a:lnTo>
                      <a:lnTo>
                        <a:pt x="1300" y="173"/>
                      </a:lnTo>
                      <a:lnTo>
                        <a:pt x="1300" y="179"/>
                      </a:lnTo>
                      <a:lnTo>
                        <a:pt x="1294" y="179"/>
                      </a:lnTo>
                      <a:lnTo>
                        <a:pt x="1300" y="185"/>
                      </a:lnTo>
                      <a:lnTo>
                        <a:pt x="1294" y="185"/>
                      </a:lnTo>
                      <a:lnTo>
                        <a:pt x="1300" y="185"/>
                      </a:lnTo>
                      <a:lnTo>
                        <a:pt x="1300" y="191"/>
                      </a:lnTo>
                      <a:lnTo>
                        <a:pt x="1300" y="197"/>
                      </a:lnTo>
                      <a:lnTo>
                        <a:pt x="1294" y="197"/>
                      </a:lnTo>
                      <a:lnTo>
                        <a:pt x="1288" y="197"/>
                      </a:lnTo>
                      <a:lnTo>
                        <a:pt x="1294" y="197"/>
                      </a:lnTo>
                      <a:lnTo>
                        <a:pt x="1294" y="203"/>
                      </a:lnTo>
                      <a:lnTo>
                        <a:pt x="1294" y="209"/>
                      </a:lnTo>
                      <a:lnTo>
                        <a:pt x="1294" y="214"/>
                      </a:lnTo>
                      <a:lnTo>
                        <a:pt x="1288" y="214"/>
                      </a:lnTo>
                      <a:lnTo>
                        <a:pt x="1288" y="220"/>
                      </a:lnTo>
                      <a:lnTo>
                        <a:pt x="1288" y="226"/>
                      </a:lnTo>
                      <a:lnTo>
                        <a:pt x="1294" y="232"/>
                      </a:lnTo>
                      <a:lnTo>
                        <a:pt x="1294" y="238"/>
                      </a:lnTo>
                      <a:lnTo>
                        <a:pt x="1294" y="232"/>
                      </a:lnTo>
                      <a:lnTo>
                        <a:pt x="1288" y="232"/>
                      </a:lnTo>
                      <a:lnTo>
                        <a:pt x="1282" y="232"/>
                      </a:lnTo>
                      <a:lnTo>
                        <a:pt x="1288" y="232"/>
                      </a:lnTo>
                      <a:lnTo>
                        <a:pt x="1288" y="238"/>
                      </a:lnTo>
                      <a:lnTo>
                        <a:pt x="1294" y="238"/>
                      </a:lnTo>
                      <a:lnTo>
                        <a:pt x="1294" y="244"/>
                      </a:lnTo>
                      <a:lnTo>
                        <a:pt x="1300" y="244"/>
                      </a:lnTo>
                      <a:lnTo>
                        <a:pt x="1300" y="250"/>
                      </a:lnTo>
                      <a:lnTo>
                        <a:pt x="1306" y="250"/>
                      </a:lnTo>
                      <a:lnTo>
                        <a:pt x="1300" y="250"/>
                      </a:lnTo>
                      <a:lnTo>
                        <a:pt x="1294" y="250"/>
                      </a:lnTo>
                      <a:lnTo>
                        <a:pt x="1294" y="256"/>
                      </a:lnTo>
                      <a:lnTo>
                        <a:pt x="1288" y="256"/>
                      </a:lnTo>
                      <a:lnTo>
                        <a:pt x="1294" y="256"/>
                      </a:lnTo>
                      <a:lnTo>
                        <a:pt x="1300" y="256"/>
                      </a:lnTo>
                      <a:lnTo>
                        <a:pt x="1306" y="256"/>
                      </a:lnTo>
                      <a:lnTo>
                        <a:pt x="1312" y="256"/>
                      </a:lnTo>
                      <a:lnTo>
                        <a:pt x="1318" y="256"/>
                      </a:lnTo>
                      <a:lnTo>
                        <a:pt x="1324" y="250"/>
                      </a:lnTo>
                      <a:lnTo>
                        <a:pt x="1330" y="250"/>
                      </a:lnTo>
                      <a:lnTo>
                        <a:pt x="1336" y="244"/>
                      </a:lnTo>
                      <a:lnTo>
                        <a:pt x="1336" y="238"/>
                      </a:lnTo>
                      <a:lnTo>
                        <a:pt x="1342" y="238"/>
                      </a:lnTo>
                      <a:lnTo>
                        <a:pt x="1348" y="238"/>
                      </a:lnTo>
                      <a:lnTo>
                        <a:pt x="1348" y="232"/>
                      </a:lnTo>
                      <a:lnTo>
                        <a:pt x="1348" y="226"/>
                      </a:lnTo>
                      <a:lnTo>
                        <a:pt x="1354" y="226"/>
                      </a:lnTo>
                      <a:lnTo>
                        <a:pt x="1354" y="232"/>
                      </a:lnTo>
                      <a:lnTo>
                        <a:pt x="1360" y="232"/>
                      </a:lnTo>
                      <a:lnTo>
                        <a:pt x="1360" y="238"/>
                      </a:lnTo>
                      <a:lnTo>
                        <a:pt x="1360" y="244"/>
                      </a:lnTo>
                      <a:lnTo>
                        <a:pt x="1366" y="244"/>
                      </a:lnTo>
                      <a:lnTo>
                        <a:pt x="1360" y="244"/>
                      </a:lnTo>
                      <a:lnTo>
                        <a:pt x="1360" y="250"/>
                      </a:lnTo>
                      <a:lnTo>
                        <a:pt x="1354" y="250"/>
                      </a:lnTo>
                      <a:lnTo>
                        <a:pt x="1354" y="256"/>
                      </a:lnTo>
                      <a:lnTo>
                        <a:pt x="1354" y="250"/>
                      </a:lnTo>
                      <a:lnTo>
                        <a:pt x="1360" y="250"/>
                      </a:lnTo>
                      <a:lnTo>
                        <a:pt x="1366" y="256"/>
                      </a:lnTo>
                      <a:lnTo>
                        <a:pt x="1366" y="262"/>
                      </a:lnTo>
                      <a:lnTo>
                        <a:pt x="1372" y="262"/>
                      </a:lnTo>
                      <a:lnTo>
                        <a:pt x="1378" y="262"/>
                      </a:lnTo>
                      <a:lnTo>
                        <a:pt x="1378" y="268"/>
                      </a:lnTo>
                      <a:lnTo>
                        <a:pt x="1384" y="268"/>
                      </a:lnTo>
                      <a:lnTo>
                        <a:pt x="1378" y="268"/>
                      </a:lnTo>
                      <a:lnTo>
                        <a:pt x="1378" y="274"/>
                      </a:lnTo>
                      <a:lnTo>
                        <a:pt x="1384" y="274"/>
                      </a:lnTo>
                      <a:lnTo>
                        <a:pt x="1378" y="274"/>
                      </a:lnTo>
                      <a:lnTo>
                        <a:pt x="1378" y="280"/>
                      </a:lnTo>
                      <a:lnTo>
                        <a:pt x="1372" y="280"/>
                      </a:lnTo>
                      <a:lnTo>
                        <a:pt x="1378" y="280"/>
                      </a:lnTo>
                      <a:lnTo>
                        <a:pt x="1384" y="280"/>
                      </a:lnTo>
                      <a:lnTo>
                        <a:pt x="1384" y="274"/>
                      </a:lnTo>
                      <a:lnTo>
                        <a:pt x="1384" y="280"/>
                      </a:lnTo>
                      <a:lnTo>
                        <a:pt x="1390" y="280"/>
                      </a:lnTo>
                      <a:lnTo>
                        <a:pt x="1396" y="280"/>
                      </a:lnTo>
                      <a:lnTo>
                        <a:pt x="1390" y="280"/>
                      </a:lnTo>
                      <a:lnTo>
                        <a:pt x="1390" y="286"/>
                      </a:lnTo>
                      <a:lnTo>
                        <a:pt x="1396" y="286"/>
                      </a:lnTo>
                      <a:lnTo>
                        <a:pt x="1396" y="280"/>
                      </a:lnTo>
                      <a:lnTo>
                        <a:pt x="1402" y="280"/>
                      </a:lnTo>
                      <a:lnTo>
                        <a:pt x="1402" y="286"/>
                      </a:lnTo>
                      <a:lnTo>
                        <a:pt x="1408" y="286"/>
                      </a:lnTo>
                      <a:lnTo>
                        <a:pt x="1414" y="286"/>
                      </a:lnTo>
                      <a:lnTo>
                        <a:pt x="1414" y="280"/>
                      </a:lnTo>
                      <a:lnTo>
                        <a:pt x="1420" y="280"/>
                      </a:lnTo>
                      <a:lnTo>
                        <a:pt x="1426" y="280"/>
                      </a:lnTo>
                      <a:lnTo>
                        <a:pt x="1426" y="286"/>
                      </a:lnTo>
                      <a:lnTo>
                        <a:pt x="1432" y="286"/>
                      </a:lnTo>
                      <a:lnTo>
                        <a:pt x="1438" y="286"/>
                      </a:lnTo>
                      <a:lnTo>
                        <a:pt x="1438" y="292"/>
                      </a:lnTo>
                      <a:lnTo>
                        <a:pt x="1432" y="298"/>
                      </a:lnTo>
                      <a:lnTo>
                        <a:pt x="1438" y="298"/>
                      </a:lnTo>
                      <a:lnTo>
                        <a:pt x="1438" y="304"/>
                      </a:lnTo>
                      <a:lnTo>
                        <a:pt x="1444" y="304"/>
                      </a:lnTo>
                      <a:lnTo>
                        <a:pt x="1438" y="304"/>
                      </a:lnTo>
                      <a:lnTo>
                        <a:pt x="1438" y="298"/>
                      </a:lnTo>
                      <a:lnTo>
                        <a:pt x="1444" y="298"/>
                      </a:lnTo>
                      <a:lnTo>
                        <a:pt x="1444" y="292"/>
                      </a:lnTo>
                      <a:lnTo>
                        <a:pt x="1438" y="292"/>
                      </a:lnTo>
                      <a:lnTo>
                        <a:pt x="1438" y="286"/>
                      </a:lnTo>
                      <a:lnTo>
                        <a:pt x="1444" y="286"/>
                      </a:lnTo>
                      <a:lnTo>
                        <a:pt x="1438" y="286"/>
                      </a:lnTo>
                      <a:lnTo>
                        <a:pt x="1438" y="280"/>
                      </a:lnTo>
                      <a:lnTo>
                        <a:pt x="1444" y="280"/>
                      </a:lnTo>
                      <a:lnTo>
                        <a:pt x="1449" y="280"/>
                      </a:lnTo>
                      <a:lnTo>
                        <a:pt x="1455" y="286"/>
                      </a:lnTo>
                      <a:lnTo>
                        <a:pt x="1455" y="280"/>
                      </a:lnTo>
                      <a:lnTo>
                        <a:pt x="1461" y="280"/>
                      </a:lnTo>
                      <a:lnTo>
                        <a:pt x="1461" y="286"/>
                      </a:lnTo>
                      <a:lnTo>
                        <a:pt x="1467" y="286"/>
                      </a:lnTo>
                      <a:lnTo>
                        <a:pt x="1467" y="292"/>
                      </a:lnTo>
                      <a:lnTo>
                        <a:pt x="1473" y="292"/>
                      </a:lnTo>
                      <a:lnTo>
                        <a:pt x="1479" y="292"/>
                      </a:lnTo>
                      <a:lnTo>
                        <a:pt x="1479" y="298"/>
                      </a:lnTo>
                      <a:lnTo>
                        <a:pt x="1485" y="298"/>
                      </a:lnTo>
                      <a:lnTo>
                        <a:pt x="1485" y="304"/>
                      </a:lnTo>
                      <a:lnTo>
                        <a:pt x="1479" y="304"/>
                      </a:lnTo>
                      <a:lnTo>
                        <a:pt x="1479" y="298"/>
                      </a:lnTo>
                      <a:lnTo>
                        <a:pt x="1479" y="304"/>
                      </a:lnTo>
                      <a:lnTo>
                        <a:pt x="1473" y="304"/>
                      </a:lnTo>
                      <a:lnTo>
                        <a:pt x="1479" y="304"/>
                      </a:lnTo>
                      <a:lnTo>
                        <a:pt x="1479" y="310"/>
                      </a:lnTo>
                      <a:lnTo>
                        <a:pt x="1479" y="316"/>
                      </a:lnTo>
                      <a:lnTo>
                        <a:pt x="1473" y="316"/>
                      </a:lnTo>
                      <a:lnTo>
                        <a:pt x="1479" y="316"/>
                      </a:lnTo>
                      <a:lnTo>
                        <a:pt x="1485" y="316"/>
                      </a:lnTo>
                      <a:lnTo>
                        <a:pt x="1485" y="310"/>
                      </a:lnTo>
                      <a:lnTo>
                        <a:pt x="1491" y="310"/>
                      </a:lnTo>
                      <a:lnTo>
                        <a:pt x="1497" y="310"/>
                      </a:lnTo>
                      <a:lnTo>
                        <a:pt x="1503" y="316"/>
                      </a:lnTo>
                      <a:lnTo>
                        <a:pt x="1497" y="316"/>
                      </a:lnTo>
                      <a:lnTo>
                        <a:pt x="1491" y="316"/>
                      </a:lnTo>
                      <a:lnTo>
                        <a:pt x="1491" y="322"/>
                      </a:lnTo>
                      <a:lnTo>
                        <a:pt x="1497" y="322"/>
                      </a:lnTo>
                      <a:lnTo>
                        <a:pt x="1497" y="316"/>
                      </a:lnTo>
                      <a:lnTo>
                        <a:pt x="1503" y="316"/>
                      </a:lnTo>
                      <a:lnTo>
                        <a:pt x="1503" y="322"/>
                      </a:lnTo>
                      <a:lnTo>
                        <a:pt x="1497" y="322"/>
                      </a:lnTo>
                      <a:lnTo>
                        <a:pt x="1497" y="328"/>
                      </a:lnTo>
                      <a:lnTo>
                        <a:pt x="1497" y="322"/>
                      </a:lnTo>
                      <a:lnTo>
                        <a:pt x="1503" y="322"/>
                      </a:lnTo>
                      <a:lnTo>
                        <a:pt x="1503" y="316"/>
                      </a:lnTo>
                      <a:lnTo>
                        <a:pt x="1503" y="322"/>
                      </a:lnTo>
                      <a:lnTo>
                        <a:pt x="1509" y="322"/>
                      </a:lnTo>
                      <a:lnTo>
                        <a:pt x="1509" y="316"/>
                      </a:lnTo>
                      <a:lnTo>
                        <a:pt x="1509" y="322"/>
                      </a:lnTo>
                      <a:lnTo>
                        <a:pt x="1515" y="322"/>
                      </a:lnTo>
                      <a:lnTo>
                        <a:pt x="1521" y="322"/>
                      </a:lnTo>
                      <a:lnTo>
                        <a:pt x="1515" y="322"/>
                      </a:lnTo>
                      <a:lnTo>
                        <a:pt x="1515" y="328"/>
                      </a:lnTo>
                      <a:lnTo>
                        <a:pt x="1521" y="328"/>
                      </a:lnTo>
                      <a:lnTo>
                        <a:pt x="1521" y="322"/>
                      </a:lnTo>
                      <a:lnTo>
                        <a:pt x="1527" y="322"/>
                      </a:lnTo>
                      <a:lnTo>
                        <a:pt x="1527" y="328"/>
                      </a:lnTo>
                      <a:lnTo>
                        <a:pt x="1527" y="322"/>
                      </a:lnTo>
                      <a:lnTo>
                        <a:pt x="1533" y="322"/>
                      </a:lnTo>
                      <a:lnTo>
                        <a:pt x="1533" y="328"/>
                      </a:lnTo>
                      <a:lnTo>
                        <a:pt x="1539" y="328"/>
                      </a:lnTo>
                      <a:lnTo>
                        <a:pt x="1545" y="328"/>
                      </a:lnTo>
                      <a:lnTo>
                        <a:pt x="1545" y="334"/>
                      </a:lnTo>
                      <a:lnTo>
                        <a:pt x="1551" y="334"/>
                      </a:lnTo>
                      <a:lnTo>
                        <a:pt x="1545" y="334"/>
                      </a:lnTo>
                      <a:lnTo>
                        <a:pt x="1539" y="334"/>
                      </a:lnTo>
                      <a:lnTo>
                        <a:pt x="1539" y="328"/>
                      </a:lnTo>
                      <a:lnTo>
                        <a:pt x="1533" y="328"/>
                      </a:lnTo>
                      <a:lnTo>
                        <a:pt x="1539" y="334"/>
                      </a:lnTo>
                      <a:lnTo>
                        <a:pt x="1545" y="334"/>
                      </a:lnTo>
                      <a:lnTo>
                        <a:pt x="1545" y="340"/>
                      </a:lnTo>
                      <a:lnTo>
                        <a:pt x="1545" y="334"/>
                      </a:lnTo>
                      <a:lnTo>
                        <a:pt x="1545" y="340"/>
                      </a:lnTo>
                      <a:lnTo>
                        <a:pt x="1551" y="340"/>
                      </a:lnTo>
                      <a:lnTo>
                        <a:pt x="1551" y="334"/>
                      </a:lnTo>
                      <a:lnTo>
                        <a:pt x="1557" y="334"/>
                      </a:lnTo>
                      <a:lnTo>
                        <a:pt x="1557" y="340"/>
                      </a:lnTo>
                      <a:lnTo>
                        <a:pt x="1557" y="346"/>
                      </a:lnTo>
                      <a:lnTo>
                        <a:pt x="1557" y="352"/>
                      </a:lnTo>
                      <a:lnTo>
                        <a:pt x="1551" y="352"/>
                      </a:lnTo>
                      <a:lnTo>
                        <a:pt x="1551" y="358"/>
                      </a:lnTo>
                      <a:lnTo>
                        <a:pt x="1551" y="352"/>
                      </a:lnTo>
                      <a:lnTo>
                        <a:pt x="1551" y="346"/>
                      </a:lnTo>
                      <a:lnTo>
                        <a:pt x="1545" y="346"/>
                      </a:lnTo>
                      <a:lnTo>
                        <a:pt x="1545" y="352"/>
                      </a:lnTo>
                      <a:lnTo>
                        <a:pt x="1539" y="352"/>
                      </a:lnTo>
                      <a:lnTo>
                        <a:pt x="1539" y="346"/>
                      </a:lnTo>
                      <a:lnTo>
                        <a:pt x="1533" y="346"/>
                      </a:lnTo>
                      <a:lnTo>
                        <a:pt x="1527" y="346"/>
                      </a:lnTo>
                      <a:lnTo>
                        <a:pt x="1521" y="346"/>
                      </a:lnTo>
                      <a:lnTo>
                        <a:pt x="1521" y="340"/>
                      </a:lnTo>
                      <a:lnTo>
                        <a:pt x="1521" y="346"/>
                      </a:lnTo>
                      <a:lnTo>
                        <a:pt x="1515" y="346"/>
                      </a:lnTo>
                      <a:lnTo>
                        <a:pt x="1509" y="346"/>
                      </a:lnTo>
                      <a:lnTo>
                        <a:pt x="1515" y="346"/>
                      </a:lnTo>
                      <a:lnTo>
                        <a:pt x="1521" y="346"/>
                      </a:lnTo>
                      <a:lnTo>
                        <a:pt x="1527" y="346"/>
                      </a:lnTo>
                      <a:lnTo>
                        <a:pt x="1527" y="352"/>
                      </a:lnTo>
                      <a:lnTo>
                        <a:pt x="1521" y="352"/>
                      </a:lnTo>
                      <a:lnTo>
                        <a:pt x="1527" y="352"/>
                      </a:lnTo>
                      <a:lnTo>
                        <a:pt x="1533" y="352"/>
                      </a:lnTo>
                      <a:lnTo>
                        <a:pt x="1539" y="352"/>
                      </a:lnTo>
                      <a:lnTo>
                        <a:pt x="1539" y="358"/>
                      </a:lnTo>
                      <a:lnTo>
                        <a:pt x="1545" y="358"/>
                      </a:lnTo>
                      <a:lnTo>
                        <a:pt x="1545" y="364"/>
                      </a:lnTo>
                      <a:lnTo>
                        <a:pt x="1539" y="364"/>
                      </a:lnTo>
                      <a:lnTo>
                        <a:pt x="1533" y="358"/>
                      </a:lnTo>
                      <a:lnTo>
                        <a:pt x="1533" y="364"/>
                      </a:lnTo>
                      <a:lnTo>
                        <a:pt x="1539" y="364"/>
                      </a:lnTo>
                      <a:lnTo>
                        <a:pt x="1545" y="364"/>
                      </a:lnTo>
                      <a:lnTo>
                        <a:pt x="1551" y="364"/>
                      </a:lnTo>
                      <a:lnTo>
                        <a:pt x="1545" y="364"/>
                      </a:lnTo>
                      <a:lnTo>
                        <a:pt x="1545" y="370"/>
                      </a:lnTo>
                      <a:lnTo>
                        <a:pt x="1545" y="376"/>
                      </a:lnTo>
                      <a:lnTo>
                        <a:pt x="1551" y="376"/>
                      </a:lnTo>
                      <a:lnTo>
                        <a:pt x="1545" y="376"/>
                      </a:lnTo>
                      <a:lnTo>
                        <a:pt x="1539" y="376"/>
                      </a:lnTo>
                      <a:lnTo>
                        <a:pt x="1539" y="370"/>
                      </a:lnTo>
                      <a:lnTo>
                        <a:pt x="1539" y="376"/>
                      </a:lnTo>
                      <a:lnTo>
                        <a:pt x="1539" y="382"/>
                      </a:lnTo>
                      <a:lnTo>
                        <a:pt x="1539" y="376"/>
                      </a:lnTo>
                      <a:lnTo>
                        <a:pt x="1545" y="376"/>
                      </a:lnTo>
                      <a:lnTo>
                        <a:pt x="1545" y="382"/>
                      </a:lnTo>
                      <a:lnTo>
                        <a:pt x="1551" y="382"/>
                      </a:lnTo>
                      <a:lnTo>
                        <a:pt x="1551" y="388"/>
                      </a:lnTo>
                      <a:lnTo>
                        <a:pt x="1551" y="393"/>
                      </a:lnTo>
                      <a:lnTo>
                        <a:pt x="1551" y="388"/>
                      </a:lnTo>
                      <a:lnTo>
                        <a:pt x="1545" y="388"/>
                      </a:lnTo>
                      <a:lnTo>
                        <a:pt x="1545" y="393"/>
                      </a:lnTo>
                      <a:lnTo>
                        <a:pt x="1545" y="388"/>
                      </a:lnTo>
                      <a:lnTo>
                        <a:pt x="1539" y="388"/>
                      </a:lnTo>
                      <a:lnTo>
                        <a:pt x="1539" y="393"/>
                      </a:lnTo>
                      <a:lnTo>
                        <a:pt x="1545" y="393"/>
                      </a:lnTo>
                      <a:lnTo>
                        <a:pt x="1551" y="393"/>
                      </a:lnTo>
                      <a:lnTo>
                        <a:pt x="1551" y="399"/>
                      </a:lnTo>
                      <a:lnTo>
                        <a:pt x="1545" y="399"/>
                      </a:lnTo>
                      <a:lnTo>
                        <a:pt x="1545" y="393"/>
                      </a:lnTo>
                      <a:lnTo>
                        <a:pt x="1545" y="399"/>
                      </a:lnTo>
                      <a:lnTo>
                        <a:pt x="1545" y="393"/>
                      </a:lnTo>
                      <a:lnTo>
                        <a:pt x="1539" y="393"/>
                      </a:lnTo>
                      <a:lnTo>
                        <a:pt x="1539" y="399"/>
                      </a:lnTo>
                      <a:lnTo>
                        <a:pt x="1545" y="399"/>
                      </a:lnTo>
                      <a:lnTo>
                        <a:pt x="1539" y="399"/>
                      </a:lnTo>
                      <a:lnTo>
                        <a:pt x="1539" y="405"/>
                      </a:lnTo>
                      <a:lnTo>
                        <a:pt x="1545" y="405"/>
                      </a:lnTo>
                      <a:lnTo>
                        <a:pt x="1551" y="405"/>
                      </a:lnTo>
                      <a:lnTo>
                        <a:pt x="1545" y="405"/>
                      </a:lnTo>
                      <a:lnTo>
                        <a:pt x="1545" y="411"/>
                      </a:lnTo>
                      <a:lnTo>
                        <a:pt x="1551" y="405"/>
                      </a:lnTo>
                      <a:lnTo>
                        <a:pt x="1557" y="405"/>
                      </a:lnTo>
                      <a:lnTo>
                        <a:pt x="1557" y="411"/>
                      </a:lnTo>
                      <a:lnTo>
                        <a:pt x="1551" y="411"/>
                      </a:lnTo>
                      <a:lnTo>
                        <a:pt x="1545" y="411"/>
                      </a:lnTo>
                      <a:lnTo>
                        <a:pt x="1545" y="417"/>
                      </a:lnTo>
                      <a:lnTo>
                        <a:pt x="1545" y="411"/>
                      </a:lnTo>
                      <a:lnTo>
                        <a:pt x="1539" y="411"/>
                      </a:lnTo>
                      <a:lnTo>
                        <a:pt x="1533" y="411"/>
                      </a:lnTo>
                      <a:lnTo>
                        <a:pt x="1527" y="411"/>
                      </a:lnTo>
                      <a:lnTo>
                        <a:pt x="1527" y="405"/>
                      </a:lnTo>
                      <a:lnTo>
                        <a:pt x="1533" y="405"/>
                      </a:lnTo>
                      <a:lnTo>
                        <a:pt x="1527" y="405"/>
                      </a:lnTo>
                      <a:lnTo>
                        <a:pt x="1527" y="399"/>
                      </a:lnTo>
                      <a:lnTo>
                        <a:pt x="1527" y="405"/>
                      </a:lnTo>
                      <a:lnTo>
                        <a:pt x="1521" y="411"/>
                      </a:lnTo>
                      <a:lnTo>
                        <a:pt x="1521" y="405"/>
                      </a:lnTo>
                      <a:lnTo>
                        <a:pt x="1521" y="399"/>
                      </a:lnTo>
                      <a:lnTo>
                        <a:pt x="1521" y="393"/>
                      </a:lnTo>
                      <a:lnTo>
                        <a:pt x="1515" y="393"/>
                      </a:lnTo>
                      <a:lnTo>
                        <a:pt x="1521" y="393"/>
                      </a:lnTo>
                      <a:lnTo>
                        <a:pt x="1521" y="388"/>
                      </a:lnTo>
                      <a:lnTo>
                        <a:pt x="1527" y="388"/>
                      </a:lnTo>
                      <a:lnTo>
                        <a:pt x="1521" y="388"/>
                      </a:lnTo>
                      <a:lnTo>
                        <a:pt x="1515" y="388"/>
                      </a:lnTo>
                      <a:lnTo>
                        <a:pt x="1515" y="393"/>
                      </a:lnTo>
                      <a:lnTo>
                        <a:pt x="1509" y="393"/>
                      </a:lnTo>
                      <a:lnTo>
                        <a:pt x="1509" y="388"/>
                      </a:lnTo>
                      <a:lnTo>
                        <a:pt x="1509" y="382"/>
                      </a:lnTo>
                      <a:lnTo>
                        <a:pt x="1503" y="382"/>
                      </a:lnTo>
                      <a:lnTo>
                        <a:pt x="1503" y="388"/>
                      </a:lnTo>
                      <a:lnTo>
                        <a:pt x="1503" y="382"/>
                      </a:lnTo>
                      <a:lnTo>
                        <a:pt x="1503" y="388"/>
                      </a:lnTo>
                      <a:lnTo>
                        <a:pt x="1503" y="393"/>
                      </a:lnTo>
                      <a:lnTo>
                        <a:pt x="1509" y="393"/>
                      </a:lnTo>
                      <a:lnTo>
                        <a:pt x="1515" y="393"/>
                      </a:lnTo>
                      <a:lnTo>
                        <a:pt x="1515" y="399"/>
                      </a:lnTo>
                      <a:lnTo>
                        <a:pt x="1509" y="399"/>
                      </a:lnTo>
                      <a:lnTo>
                        <a:pt x="1515" y="399"/>
                      </a:lnTo>
                      <a:lnTo>
                        <a:pt x="1515" y="405"/>
                      </a:lnTo>
                      <a:lnTo>
                        <a:pt x="1509" y="405"/>
                      </a:lnTo>
                      <a:lnTo>
                        <a:pt x="1509" y="411"/>
                      </a:lnTo>
                      <a:lnTo>
                        <a:pt x="1515" y="411"/>
                      </a:lnTo>
                      <a:lnTo>
                        <a:pt x="1509" y="411"/>
                      </a:lnTo>
                      <a:lnTo>
                        <a:pt x="1503" y="405"/>
                      </a:lnTo>
                      <a:lnTo>
                        <a:pt x="1503" y="399"/>
                      </a:lnTo>
                      <a:lnTo>
                        <a:pt x="1503" y="393"/>
                      </a:lnTo>
                      <a:lnTo>
                        <a:pt x="1497" y="393"/>
                      </a:lnTo>
                      <a:lnTo>
                        <a:pt x="1491" y="393"/>
                      </a:lnTo>
                      <a:lnTo>
                        <a:pt x="1491" y="388"/>
                      </a:lnTo>
                      <a:lnTo>
                        <a:pt x="1491" y="382"/>
                      </a:lnTo>
                      <a:lnTo>
                        <a:pt x="1491" y="376"/>
                      </a:lnTo>
                      <a:lnTo>
                        <a:pt x="1485" y="376"/>
                      </a:lnTo>
                      <a:lnTo>
                        <a:pt x="1485" y="382"/>
                      </a:lnTo>
                      <a:lnTo>
                        <a:pt x="1479" y="382"/>
                      </a:lnTo>
                      <a:lnTo>
                        <a:pt x="1479" y="376"/>
                      </a:lnTo>
                      <a:lnTo>
                        <a:pt x="1473" y="376"/>
                      </a:lnTo>
                      <a:lnTo>
                        <a:pt x="1479" y="376"/>
                      </a:lnTo>
                      <a:lnTo>
                        <a:pt x="1479" y="370"/>
                      </a:lnTo>
                      <a:lnTo>
                        <a:pt x="1473" y="370"/>
                      </a:lnTo>
                      <a:lnTo>
                        <a:pt x="1473" y="376"/>
                      </a:lnTo>
                      <a:lnTo>
                        <a:pt x="1467" y="376"/>
                      </a:lnTo>
                      <a:lnTo>
                        <a:pt x="1467" y="370"/>
                      </a:lnTo>
                      <a:lnTo>
                        <a:pt x="1467" y="364"/>
                      </a:lnTo>
                      <a:lnTo>
                        <a:pt x="1467" y="370"/>
                      </a:lnTo>
                      <a:lnTo>
                        <a:pt x="1461" y="370"/>
                      </a:lnTo>
                      <a:lnTo>
                        <a:pt x="1455" y="370"/>
                      </a:lnTo>
                      <a:lnTo>
                        <a:pt x="1449" y="370"/>
                      </a:lnTo>
                      <a:lnTo>
                        <a:pt x="1449" y="364"/>
                      </a:lnTo>
                      <a:lnTo>
                        <a:pt x="1449" y="358"/>
                      </a:lnTo>
                      <a:lnTo>
                        <a:pt x="1449" y="352"/>
                      </a:lnTo>
                      <a:lnTo>
                        <a:pt x="1449" y="358"/>
                      </a:lnTo>
                      <a:lnTo>
                        <a:pt x="1444" y="358"/>
                      </a:lnTo>
                      <a:lnTo>
                        <a:pt x="1444" y="352"/>
                      </a:lnTo>
                      <a:lnTo>
                        <a:pt x="1438" y="352"/>
                      </a:lnTo>
                      <a:lnTo>
                        <a:pt x="1432" y="346"/>
                      </a:lnTo>
                      <a:lnTo>
                        <a:pt x="1432" y="352"/>
                      </a:lnTo>
                      <a:lnTo>
                        <a:pt x="1426" y="352"/>
                      </a:lnTo>
                      <a:lnTo>
                        <a:pt x="1432" y="352"/>
                      </a:lnTo>
                      <a:lnTo>
                        <a:pt x="1426" y="352"/>
                      </a:lnTo>
                      <a:lnTo>
                        <a:pt x="1426" y="358"/>
                      </a:lnTo>
                      <a:lnTo>
                        <a:pt x="1432" y="358"/>
                      </a:lnTo>
                      <a:lnTo>
                        <a:pt x="1438" y="358"/>
                      </a:lnTo>
                      <a:lnTo>
                        <a:pt x="1438" y="364"/>
                      </a:lnTo>
                      <a:lnTo>
                        <a:pt x="1444" y="364"/>
                      </a:lnTo>
                      <a:lnTo>
                        <a:pt x="1444" y="370"/>
                      </a:lnTo>
                      <a:lnTo>
                        <a:pt x="1449" y="376"/>
                      </a:lnTo>
                      <a:lnTo>
                        <a:pt x="1455" y="382"/>
                      </a:lnTo>
                      <a:lnTo>
                        <a:pt x="1461" y="382"/>
                      </a:lnTo>
                      <a:lnTo>
                        <a:pt x="1467" y="382"/>
                      </a:lnTo>
                      <a:lnTo>
                        <a:pt x="1467" y="388"/>
                      </a:lnTo>
                      <a:lnTo>
                        <a:pt x="1473" y="388"/>
                      </a:lnTo>
                      <a:lnTo>
                        <a:pt x="1479" y="388"/>
                      </a:lnTo>
                      <a:lnTo>
                        <a:pt x="1479" y="393"/>
                      </a:lnTo>
                      <a:lnTo>
                        <a:pt x="1485" y="393"/>
                      </a:lnTo>
                      <a:lnTo>
                        <a:pt x="1485" y="399"/>
                      </a:lnTo>
                      <a:lnTo>
                        <a:pt x="1485" y="405"/>
                      </a:lnTo>
                      <a:lnTo>
                        <a:pt x="1491" y="399"/>
                      </a:lnTo>
                      <a:lnTo>
                        <a:pt x="1491" y="405"/>
                      </a:lnTo>
                      <a:lnTo>
                        <a:pt x="1491" y="411"/>
                      </a:lnTo>
                      <a:lnTo>
                        <a:pt x="1497" y="411"/>
                      </a:lnTo>
                      <a:lnTo>
                        <a:pt x="1491" y="411"/>
                      </a:lnTo>
                      <a:lnTo>
                        <a:pt x="1485" y="405"/>
                      </a:lnTo>
                      <a:lnTo>
                        <a:pt x="1485" y="411"/>
                      </a:lnTo>
                      <a:lnTo>
                        <a:pt x="1491" y="411"/>
                      </a:lnTo>
                      <a:lnTo>
                        <a:pt x="1497" y="411"/>
                      </a:lnTo>
                      <a:lnTo>
                        <a:pt x="1491" y="411"/>
                      </a:lnTo>
                      <a:lnTo>
                        <a:pt x="1497" y="411"/>
                      </a:lnTo>
                      <a:lnTo>
                        <a:pt x="1497" y="417"/>
                      </a:lnTo>
                      <a:lnTo>
                        <a:pt x="1503" y="417"/>
                      </a:lnTo>
                      <a:lnTo>
                        <a:pt x="1503" y="423"/>
                      </a:lnTo>
                      <a:lnTo>
                        <a:pt x="1509" y="423"/>
                      </a:lnTo>
                      <a:lnTo>
                        <a:pt x="1515" y="423"/>
                      </a:lnTo>
                      <a:lnTo>
                        <a:pt x="1515" y="417"/>
                      </a:lnTo>
                      <a:lnTo>
                        <a:pt x="1521" y="417"/>
                      </a:lnTo>
                      <a:lnTo>
                        <a:pt x="1527" y="417"/>
                      </a:lnTo>
                      <a:lnTo>
                        <a:pt x="1527" y="423"/>
                      </a:lnTo>
                      <a:lnTo>
                        <a:pt x="1527" y="417"/>
                      </a:lnTo>
                      <a:lnTo>
                        <a:pt x="1533" y="417"/>
                      </a:lnTo>
                      <a:lnTo>
                        <a:pt x="1533" y="423"/>
                      </a:lnTo>
                      <a:lnTo>
                        <a:pt x="1527" y="423"/>
                      </a:lnTo>
                      <a:lnTo>
                        <a:pt x="1533" y="423"/>
                      </a:lnTo>
                      <a:lnTo>
                        <a:pt x="1539" y="423"/>
                      </a:lnTo>
                      <a:lnTo>
                        <a:pt x="1539" y="429"/>
                      </a:lnTo>
                      <a:lnTo>
                        <a:pt x="1545" y="429"/>
                      </a:lnTo>
                      <a:lnTo>
                        <a:pt x="1545" y="423"/>
                      </a:lnTo>
                      <a:lnTo>
                        <a:pt x="1551" y="423"/>
                      </a:lnTo>
                      <a:lnTo>
                        <a:pt x="1551" y="429"/>
                      </a:lnTo>
                      <a:lnTo>
                        <a:pt x="1557" y="429"/>
                      </a:lnTo>
                      <a:lnTo>
                        <a:pt x="1557" y="423"/>
                      </a:lnTo>
                      <a:lnTo>
                        <a:pt x="1557" y="429"/>
                      </a:lnTo>
                      <a:lnTo>
                        <a:pt x="1563" y="423"/>
                      </a:lnTo>
                      <a:lnTo>
                        <a:pt x="1563" y="429"/>
                      </a:lnTo>
                      <a:lnTo>
                        <a:pt x="1557" y="429"/>
                      </a:lnTo>
                      <a:lnTo>
                        <a:pt x="1557" y="435"/>
                      </a:lnTo>
                      <a:lnTo>
                        <a:pt x="1557" y="429"/>
                      </a:lnTo>
                      <a:lnTo>
                        <a:pt x="1557" y="435"/>
                      </a:lnTo>
                      <a:lnTo>
                        <a:pt x="1551" y="435"/>
                      </a:lnTo>
                      <a:lnTo>
                        <a:pt x="1545" y="435"/>
                      </a:lnTo>
                      <a:lnTo>
                        <a:pt x="1539" y="435"/>
                      </a:lnTo>
                      <a:lnTo>
                        <a:pt x="1539" y="441"/>
                      </a:lnTo>
                      <a:lnTo>
                        <a:pt x="1533" y="441"/>
                      </a:lnTo>
                      <a:lnTo>
                        <a:pt x="1533" y="447"/>
                      </a:lnTo>
                      <a:lnTo>
                        <a:pt x="1533" y="441"/>
                      </a:lnTo>
                      <a:lnTo>
                        <a:pt x="1527" y="441"/>
                      </a:lnTo>
                      <a:lnTo>
                        <a:pt x="1521" y="441"/>
                      </a:lnTo>
                      <a:lnTo>
                        <a:pt x="1521" y="435"/>
                      </a:lnTo>
                      <a:lnTo>
                        <a:pt x="1515" y="435"/>
                      </a:lnTo>
                      <a:lnTo>
                        <a:pt x="1515" y="441"/>
                      </a:lnTo>
                      <a:lnTo>
                        <a:pt x="1521" y="441"/>
                      </a:lnTo>
                      <a:lnTo>
                        <a:pt x="1527" y="441"/>
                      </a:lnTo>
                      <a:lnTo>
                        <a:pt x="1527" y="447"/>
                      </a:lnTo>
                      <a:lnTo>
                        <a:pt x="1533" y="447"/>
                      </a:lnTo>
                      <a:lnTo>
                        <a:pt x="1539" y="447"/>
                      </a:lnTo>
                      <a:lnTo>
                        <a:pt x="1539" y="441"/>
                      </a:lnTo>
                      <a:lnTo>
                        <a:pt x="1545" y="441"/>
                      </a:lnTo>
                      <a:lnTo>
                        <a:pt x="1551" y="441"/>
                      </a:lnTo>
                      <a:lnTo>
                        <a:pt x="1557" y="441"/>
                      </a:lnTo>
                      <a:lnTo>
                        <a:pt x="1557" y="447"/>
                      </a:lnTo>
                      <a:lnTo>
                        <a:pt x="1563" y="447"/>
                      </a:lnTo>
                      <a:lnTo>
                        <a:pt x="1569" y="447"/>
                      </a:lnTo>
                      <a:lnTo>
                        <a:pt x="1569" y="453"/>
                      </a:lnTo>
                      <a:lnTo>
                        <a:pt x="1563" y="453"/>
                      </a:lnTo>
                      <a:lnTo>
                        <a:pt x="1563" y="459"/>
                      </a:lnTo>
                      <a:lnTo>
                        <a:pt x="1569" y="459"/>
                      </a:lnTo>
                      <a:lnTo>
                        <a:pt x="1569" y="453"/>
                      </a:lnTo>
                      <a:lnTo>
                        <a:pt x="1569" y="459"/>
                      </a:lnTo>
                      <a:lnTo>
                        <a:pt x="1575" y="459"/>
                      </a:lnTo>
                      <a:lnTo>
                        <a:pt x="1575" y="453"/>
                      </a:lnTo>
                      <a:lnTo>
                        <a:pt x="1569" y="453"/>
                      </a:lnTo>
                      <a:lnTo>
                        <a:pt x="1575" y="453"/>
                      </a:lnTo>
                      <a:lnTo>
                        <a:pt x="1575" y="459"/>
                      </a:lnTo>
                      <a:lnTo>
                        <a:pt x="1575" y="453"/>
                      </a:lnTo>
                      <a:lnTo>
                        <a:pt x="1575" y="459"/>
                      </a:lnTo>
                      <a:lnTo>
                        <a:pt x="1575" y="453"/>
                      </a:lnTo>
                      <a:lnTo>
                        <a:pt x="1581" y="453"/>
                      </a:lnTo>
                      <a:lnTo>
                        <a:pt x="1581" y="459"/>
                      </a:lnTo>
                      <a:lnTo>
                        <a:pt x="1581" y="465"/>
                      </a:lnTo>
                      <a:lnTo>
                        <a:pt x="1581" y="471"/>
                      </a:lnTo>
                      <a:lnTo>
                        <a:pt x="1581" y="477"/>
                      </a:lnTo>
                      <a:lnTo>
                        <a:pt x="1581" y="471"/>
                      </a:lnTo>
                      <a:lnTo>
                        <a:pt x="1575" y="471"/>
                      </a:lnTo>
                      <a:lnTo>
                        <a:pt x="1575" y="477"/>
                      </a:lnTo>
                      <a:lnTo>
                        <a:pt x="1581" y="477"/>
                      </a:lnTo>
                      <a:lnTo>
                        <a:pt x="1581" y="483"/>
                      </a:lnTo>
                      <a:lnTo>
                        <a:pt x="1581" y="477"/>
                      </a:lnTo>
                      <a:lnTo>
                        <a:pt x="1575" y="477"/>
                      </a:lnTo>
                      <a:lnTo>
                        <a:pt x="1575" y="483"/>
                      </a:lnTo>
                      <a:lnTo>
                        <a:pt x="1581" y="483"/>
                      </a:lnTo>
                      <a:lnTo>
                        <a:pt x="1581" y="489"/>
                      </a:lnTo>
                      <a:lnTo>
                        <a:pt x="1581" y="495"/>
                      </a:lnTo>
                      <a:lnTo>
                        <a:pt x="1581" y="489"/>
                      </a:lnTo>
                      <a:lnTo>
                        <a:pt x="1575" y="489"/>
                      </a:lnTo>
                      <a:lnTo>
                        <a:pt x="1569" y="489"/>
                      </a:lnTo>
                      <a:lnTo>
                        <a:pt x="1575" y="489"/>
                      </a:lnTo>
                      <a:lnTo>
                        <a:pt x="1575" y="483"/>
                      </a:lnTo>
                      <a:lnTo>
                        <a:pt x="1569" y="483"/>
                      </a:lnTo>
                      <a:lnTo>
                        <a:pt x="1563" y="483"/>
                      </a:lnTo>
                      <a:lnTo>
                        <a:pt x="1563" y="477"/>
                      </a:lnTo>
                      <a:lnTo>
                        <a:pt x="1563" y="471"/>
                      </a:lnTo>
                      <a:lnTo>
                        <a:pt x="1563" y="465"/>
                      </a:lnTo>
                      <a:lnTo>
                        <a:pt x="1557" y="465"/>
                      </a:lnTo>
                      <a:lnTo>
                        <a:pt x="1551" y="465"/>
                      </a:lnTo>
                      <a:lnTo>
                        <a:pt x="1557" y="465"/>
                      </a:lnTo>
                      <a:lnTo>
                        <a:pt x="1557" y="471"/>
                      </a:lnTo>
                      <a:lnTo>
                        <a:pt x="1563" y="471"/>
                      </a:lnTo>
                      <a:lnTo>
                        <a:pt x="1563" y="477"/>
                      </a:lnTo>
                      <a:lnTo>
                        <a:pt x="1563" y="483"/>
                      </a:lnTo>
                      <a:lnTo>
                        <a:pt x="1557" y="483"/>
                      </a:lnTo>
                      <a:lnTo>
                        <a:pt x="1557" y="477"/>
                      </a:lnTo>
                      <a:lnTo>
                        <a:pt x="1551" y="477"/>
                      </a:lnTo>
                      <a:lnTo>
                        <a:pt x="1551" y="471"/>
                      </a:lnTo>
                      <a:lnTo>
                        <a:pt x="1551" y="465"/>
                      </a:lnTo>
                      <a:lnTo>
                        <a:pt x="1545" y="465"/>
                      </a:lnTo>
                      <a:lnTo>
                        <a:pt x="1545" y="471"/>
                      </a:lnTo>
                      <a:lnTo>
                        <a:pt x="1539" y="471"/>
                      </a:lnTo>
                      <a:lnTo>
                        <a:pt x="1539" y="465"/>
                      </a:lnTo>
                      <a:lnTo>
                        <a:pt x="1533" y="459"/>
                      </a:lnTo>
                      <a:lnTo>
                        <a:pt x="1533" y="465"/>
                      </a:lnTo>
                      <a:lnTo>
                        <a:pt x="1533" y="471"/>
                      </a:lnTo>
                      <a:lnTo>
                        <a:pt x="1539" y="471"/>
                      </a:lnTo>
                      <a:lnTo>
                        <a:pt x="1545" y="471"/>
                      </a:lnTo>
                      <a:lnTo>
                        <a:pt x="1545" y="477"/>
                      </a:lnTo>
                      <a:lnTo>
                        <a:pt x="1545" y="483"/>
                      </a:lnTo>
                      <a:lnTo>
                        <a:pt x="1551" y="483"/>
                      </a:lnTo>
                      <a:lnTo>
                        <a:pt x="1545" y="483"/>
                      </a:lnTo>
                      <a:lnTo>
                        <a:pt x="1539" y="483"/>
                      </a:lnTo>
                      <a:lnTo>
                        <a:pt x="1539" y="477"/>
                      </a:lnTo>
                      <a:lnTo>
                        <a:pt x="1533" y="477"/>
                      </a:lnTo>
                      <a:lnTo>
                        <a:pt x="1527" y="477"/>
                      </a:lnTo>
                      <a:lnTo>
                        <a:pt x="1533" y="483"/>
                      </a:lnTo>
                      <a:lnTo>
                        <a:pt x="1533" y="489"/>
                      </a:lnTo>
                      <a:lnTo>
                        <a:pt x="1533" y="483"/>
                      </a:lnTo>
                      <a:lnTo>
                        <a:pt x="1533" y="489"/>
                      </a:lnTo>
                      <a:lnTo>
                        <a:pt x="1539" y="489"/>
                      </a:lnTo>
                      <a:lnTo>
                        <a:pt x="1539" y="483"/>
                      </a:lnTo>
                      <a:lnTo>
                        <a:pt x="1539" y="489"/>
                      </a:lnTo>
                      <a:lnTo>
                        <a:pt x="1545" y="489"/>
                      </a:lnTo>
                      <a:lnTo>
                        <a:pt x="1551" y="489"/>
                      </a:lnTo>
                      <a:lnTo>
                        <a:pt x="1551" y="495"/>
                      </a:lnTo>
                      <a:lnTo>
                        <a:pt x="1545" y="495"/>
                      </a:lnTo>
                      <a:lnTo>
                        <a:pt x="1539" y="495"/>
                      </a:lnTo>
                      <a:lnTo>
                        <a:pt x="1539" y="501"/>
                      </a:lnTo>
                      <a:lnTo>
                        <a:pt x="1539" y="495"/>
                      </a:lnTo>
                      <a:lnTo>
                        <a:pt x="1533" y="495"/>
                      </a:lnTo>
                      <a:lnTo>
                        <a:pt x="1533" y="501"/>
                      </a:lnTo>
                      <a:lnTo>
                        <a:pt x="1539" y="501"/>
                      </a:lnTo>
                      <a:lnTo>
                        <a:pt x="1545" y="501"/>
                      </a:lnTo>
                      <a:lnTo>
                        <a:pt x="1539" y="501"/>
                      </a:lnTo>
                      <a:lnTo>
                        <a:pt x="1539" y="507"/>
                      </a:lnTo>
                      <a:lnTo>
                        <a:pt x="1545" y="507"/>
                      </a:lnTo>
                      <a:lnTo>
                        <a:pt x="1545" y="501"/>
                      </a:lnTo>
                      <a:lnTo>
                        <a:pt x="1551" y="501"/>
                      </a:lnTo>
                      <a:lnTo>
                        <a:pt x="1557" y="501"/>
                      </a:lnTo>
                      <a:lnTo>
                        <a:pt x="1551" y="501"/>
                      </a:lnTo>
                      <a:lnTo>
                        <a:pt x="1557" y="501"/>
                      </a:lnTo>
                      <a:lnTo>
                        <a:pt x="1557" y="507"/>
                      </a:lnTo>
                      <a:lnTo>
                        <a:pt x="1551" y="507"/>
                      </a:lnTo>
                      <a:lnTo>
                        <a:pt x="1551" y="513"/>
                      </a:lnTo>
                      <a:lnTo>
                        <a:pt x="1557" y="513"/>
                      </a:lnTo>
                      <a:lnTo>
                        <a:pt x="1551" y="513"/>
                      </a:lnTo>
                      <a:lnTo>
                        <a:pt x="1545" y="519"/>
                      </a:lnTo>
                      <a:lnTo>
                        <a:pt x="1539" y="519"/>
                      </a:lnTo>
                      <a:lnTo>
                        <a:pt x="1539" y="513"/>
                      </a:lnTo>
                      <a:lnTo>
                        <a:pt x="1539" y="519"/>
                      </a:lnTo>
                      <a:lnTo>
                        <a:pt x="1533" y="519"/>
                      </a:lnTo>
                      <a:lnTo>
                        <a:pt x="1533" y="513"/>
                      </a:lnTo>
                      <a:lnTo>
                        <a:pt x="1527" y="513"/>
                      </a:lnTo>
                      <a:lnTo>
                        <a:pt x="1527" y="507"/>
                      </a:lnTo>
                      <a:lnTo>
                        <a:pt x="1527" y="513"/>
                      </a:lnTo>
                      <a:lnTo>
                        <a:pt x="1521" y="513"/>
                      </a:lnTo>
                      <a:lnTo>
                        <a:pt x="1521" y="507"/>
                      </a:lnTo>
                      <a:lnTo>
                        <a:pt x="1515" y="507"/>
                      </a:lnTo>
                      <a:lnTo>
                        <a:pt x="1509" y="501"/>
                      </a:lnTo>
                      <a:lnTo>
                        <a:pt x="1509" y="495"/>
                      </a:lnTo>
                      <a:lnTo>
                        <a:pt x="1503" y="495"/>
                      </a:lnTo>
                      <a:lnTo>
                        <a:pt x="1497" y="489"/>
                      </a:lnTo>
                      <a:lnTo>
                        <a:pt x="1491" y="489"/>
                      </a:lnTo>
                      <a:lnTo>
                        <a:pt x="1491" y="483"/>
                      </a:lnTo>
                      <a:lnTo>
                        <a:pt x="1485" y="483"/>
                      </a:lnTo>
                      <a:lnTo>
                        <a:pt x="1479" y="483"/>
                      </a:lnTo>
                      <a:lnTo>
                        <a:pt x="1485" y="489"/>
                      </a:lnTo>
                      <a:lnTo>
                        <a:pt x="1491" y="495"/>
                      </a:lnTo>
                      <a:lnTo>
                        <a:pt x="1497" y="495"/>
                      </a:lnTo>
                      <a:lnTo>
                        <a:pt x="1497" y="501"/>
                      </a:lnTo>
                      <a:lnTo>
                        <a:pt x="1503" y="507"/>
                      </a:lnTo>
                      <a:lnTo>
                        <a:pt x="1509" y="507"/>
                      </a:lnTo>
                      <a:lnTo>
                        <a:pt x="1509" y="513"/>
                      </a:lnTo>
                      <a:lnTo>
                        <a:pt x="1503" y="513"/>
                      </a:lnTo>
                      <a:lnTo>
                        <a:pt x="1509" y="513"/>
                      </a:lnTo>
                      <a:lnTo>
                        <a:pt x="1515" y="513"/>
                      </a:lnTo>
                      <a:lnTo>
                        <a:pt x="1515" y="519"/>
                      </a:lnTo>
                      <a:lnTo>
                        <a:pt x="1521" y="519"/>
                      </a:lnTo>
                      <a:lnTo>
                        <a:pt x="1527" y="519"/>
                      </a:lnTo>
                      <a:lnTo>
                        <a:pt x="1527" y="525"/>
                      </a:lnTo>
                      <a:lnTo>
                        <a:pt x="1533" y="525"/>
                      </a:lnTo>
                      <a:lnTo>
                        <a:pt x="1539" y="525"/>
                      </a:lnTo>
                      <a:lnTo>
                        <a:pt x="1545" y="525"/>
                      </a:lnTo>
                      <a:lnTo>
                        <a:pt x="1551" y="525"/>
                      </a:lnTo>
                      <a:lnTo>
                        <a:pt x="1557" y="525"/>
                      </a:lnTo>
                      <a:lnTo>
                        <a:pt x="1551" y="525"/>
                      </a:lnTo>
                      <a:lnTo>
                        <a:pt x="1551" y="531"/>
                      </a:lnTo>
                      <a:lnTo>
                        <a:pt x="1557" y="531"/>
                      </a:lnTo>
                      <a:lnTo>
                        <a:pt x="1557" y="525"/>
                      </a:lnTo>
                      <a:lnTo>
                        <a:pt x="1563" y="531"/>
                      </a:lnTo>
                      <a:lnTo>
                        <a:pt x="1563" y="537"/>
                      </a:lnTo>
                      <a:lnTo>
                        <a:pt x="1557" y="531"/>
                      </a:lnTo>
                      <a:lnTo>
                        <a:pt x="1551" y="531"/>
                      </a:lnTo>
                      <a:lnTo>
                        <a:pt x="1551" y="537"/>
                      </a:lnTo>
                      <a:lnTo>
                        <a:pt x="1557" y="537"/>
                      </a:lnTo>
                      <a:lnTo>
                        <a:pt x="1557" y="543"/>
                      </a:lnTo>
                      <a:lnTo>
                        <a:pt x="1557" y="537"/>
                      </a:lnTo>
                      <a:lnTo>
                        <a:pt x="1557" y="543"/>
                      </a:lnTo>
                      <a:lnTo>
                        <a:pt x="1557" y="549"/>
                      </a:lnTo>
                      <a:lnTo>
                        <a:pt x="1551" y="549"/>
                      </a:lnTo>
                      <a:lnTo>
                        <a:pt x="1557" y="549"/>
                      </a:lnTo>
                      <a:lnTo>
                        <a:pt x="1557" y="543"/>
                      </a:lnTo>
                      <a:lnTo>
                        <a:pt x="1563" y="543"/>
                      </a:lnTo>
                      <a:lnTo>
                        <a:pt x="1563" y="537"/>
                      </a:lnTo>
                      <a:lnTo>
                        <a:pt x="1563" y="543"/>
                      </a:lnTo>
                      <a:lnTo>
                        <a:pt x="1563" y="537"/>
                      </a:lnTo>
                      <a:lnTo>
                        <a:pt x="1569" y="543"/>
                      </a:lnTo>
                      <a:lnTo>
                        <a:pt x="1575" y="537"/>
                      </a:lnTo>
                      <a:lnTo>
                        <a:pt x="1569" y="537"/>
                      </a:lnTo>
                      <a:lnTo>
                        <a:pt x="1575" y="537"/>
                      </a:lnTo>
                      <a:lnTo>
                        <a:pt x="1575" y="543"/>
                      </a:lnTo>
                      <a:lnTo>
                        <a:pt x="1581" y="543"/>
                      </a:lnTo>
                      <a:lnTo>
                        <a:pt x="1587" y="543"/>
                      </a:lnTo>
                      <a:lnTo>
                        <a:pt x="1587" y="549"/>
                      </a:lnTo>
                      <a:lnTo>
                        <a:pt x="1581" y="549"/>
                      </a:lnTo>
                      <a:lnTo>
                        <a:pt x="1581" y="555"/>
                      </a:lnTo>
                      <a:lnTo>
                        <a:pt x="1575" y="555"/>
                      </a:lnTo>
                      <a:lnTo>
                        <a:pt x="1575" y="549"/>
                      </a:lnTo>
                      <a:lnTo>
                        <a:pt x="1569" y="555"/>
                      </a:lnTo>
                      <a:lnTo>
                        <a:pt x="1575" y="555"/>
                      </a:lnTo>
                      <a:lnTo>
                        <a:pt x="1575" y="561"/>
                      </a:lnTo>
                      <a:lnTo>
                        <a:pt x="1581" y="561"/>
                      </a:lnTo>
                      <a:lnTo>
                        <a:pt x="1575" y="561"/>
                      </a:lnTo>
                      <a:lnTo>
                        <a:pt x="1575" y="567"/>
                      </a:lnTo>
                      <a:lnTo>
                        <a:pt x="1575" y="573"/>
                      </a:lnTo>
                      <a:lnTo>
                        <a:pt x="1581" y="573"/>
                      </a:lnTo>
                      <a:lnTo>
                        <a:pt x="1581" y="567"/>
                      </a:lnTo>
                      <a:lnTo>
                        <a:pt x="1581" y="561"/>
                      </a:lnTo>
                      <a:lnTo>
                        <a:pt x="1581" y="555"/>
                      </a:lnTo>
                      <a:lnTo>
                        <a:pt x="1587" y="555"/>
                      </a:lnTo>
                      <a:lnTo>
                        <a:pt x="1587" y="561"/>
                      </a:lnTo>
                      <a:lnTo>
                        <a:pt x="1587" y="555"/>
                      </a:lnTo>
                      <a:lnTo>
                        <a:pt x="1593" y="555"/>
                      </a:lnTo>
                      <a:lnTo>
                        <a:pt x="1593" y="561"/>
                      </a:lnTo>
                      <a:lnTo>
                        <a:pt x="1593" y="567"/>
                      </a:lnTo>
                      <a:lnTo>
                        <a:pt x="1593" y="573"/>
                      </a:lnTo>
                      <a:lnTo>
                        <a:pt x="1593" y="578"/>
                      </a:lnTo>
                      <a:lnTo>
                        <a:pt x="1587" y="584"/>
                      </a:lnTo>
                      <a:lnTo>
                        <a:pt x="1587" y="578"/>
                      </a:lnTo>
                      <a:lnTo>
                        <a:pt x="1593" y="578"/>
                      </a:lnTo>
                      <a:lnTo>
                        <a:pt x="1593" y="573"/>
                      </a:lnTo>
                      <a:lnTo>
                        <a:pt x="1587" y="573"/>
                      </a:lnTo>
                      <a:lnTo>
                        <a:pt x="1587" y="578"/>
                      </a:lnTo>
                      <a:lnTo>
                        <a:pt x="1581" y="578"/>
                      </a:lnTo>
                      <a:lnTo>
                        <a:pt x="1581" y="584"/>
                      </a:lnTo>
                      <a:lnTo>
                        <a:pt x="1575" y="584"/>
                      </a:lnTo>
                      <a:lnTo>
                        <a:pt x="1575" y="590"/>
                      </a:lnTo>
                      <a:lnTo>
                        <a:pt x="1575" y="596"/>
                      </a:lnTo>
                      <a:lnTo>
                        <a:pt x="1569" y="596"/>
                      </a:lnTo>
                      <a:lnTo>
                        <a:pt x="1563" y="596"/>
                      </a:lnTo>
                      <a:lnTo>
                        <a:pt x="1563" y="590"/>
                      </a:lnTo>
                      <a:lnTo>
                        <a:pt x="1563" y="584"/>
                      </a:lnTo>
                      <a:lnTo>
                        <a:pt x="1557" y="584"/>
                      </a:lnTo>
                      <a:lnTo>
                        <a:pt x="1557" y="578"/>
                      </a:lnTo>
                      <a:lnTo>
                        <a:pt x="1551" y="578"/>
                      </a:lnTo>
                      <a:lnTo>
                        <a:pt x="1545" y="578"/>
                      </a:lnTo>
                      <a:lnTo>
                        <a:pt x="1539" y="573"/>
                      </a:lnTo>
                      <a:lnTo>
                        <a:pt x="1539" y="567"/>
                      </a:lnTo>
                      <a:lnTo>
                        <a:pt x="1533" y="567"/>
                      </a:lnTo>
                      <a:lnTo>
                        <a:pt x="1533" y="561"/>
                      </a:lnTo>
                      <a:lnTo>
                        <a:pt x="1527" y="561"/>
                      </a:lnTo>
                      <a:lnTo>
                        <a:pt x="1527" y="567"/>
                      </a:lnTo>
                      <a:lnTo>
                        <a:pt x="1533" y="567"/>
                      </a:lnTo>
                      <a:lnTo>
                        <a:pt x="1533" y="573"/>
                      </a:lnTo>
                      <a:lnTo>
                        <a:pt x="1527" y="573"/>
                      </a:lnTo>
                      <a:lnTo>
                        <a:pt x="1527" y="567"/>
                      </a:lnTo>
                      <a:lnTo>
                        <a:pt x="1521" y="567"/>
                      </a:lnTo>
                      <a:lnTo>
                        <a:pt x="1521" y="561"/>
                      </a:lnTo>
                      <a:lnTo>
                        <a:pt x="1515" y="561"/>
                      </a:lnTo>
                      <a:lnTo>
                        <a:pt x="1515" y="555"/>
                      </a:lnTo>
                      <a:lnTo>
                        <a:pt x="1515" y="549"/>
                      </a:lnTo>
                      <a:lnTo>
                        <a:pt x="1515" y="543"/>
                      </a:lnTo>
                      <a:lnTo>
                        <a:pt x="1509" y="543"/>
                      </a:lnTo>
                      <a:lnTo>
                        <a:pt x="1509" y="537"/>
                      </a:lnTo>
                      <a:lnTo>
                        <a:pt x="1503" y="537"/>
                      </a:lnTo>
                      <a:lnTo>
                        <a:pt x="1497" y="537"/>
                      </a:lnTo>
                      <a:lnTo>
                        <a:pt x="1491" y="537"/>
                      </a:lnTo>
                      <a:lnTo>
                        <a:pt x="1491" y="543"/>
                      </a:lnTo>
                      <a:lnTo>
                        <a:pt x="1485" y="543"/>
                      </a:lnTo>
                      <a:lnTo>
                        <a:pt x="1485" y="549"/>
                      </a:lnTo>
                      <a:lnTo>
                        <a:pt x="1479" y="543"/>
                      </a:lnTo>
                      <a:lnTo>
                        <a:pt x="1473" y="537"/>
                      </a:lnTo>
                      <a:lnTo>
                        <a:pt x="1467" y="537"/>
                      </a:lnTo>
                      <a:lnTo>
                        <a:pt x="1461" y="537"/>
                      </a:lnTo>
                      <a:lnTo>
                        <a:pt x="1455" y="537"/>
                      </a:lnTo>
                      <a:lnTo>
                        <a:pt x="1455" y="531"/>
                      </a:lnTo>
                      <a:lnTo>
                        <a:pt x="1455" y="525"/>
                      </a:lnTo>
                      <a:lnTo>
                        <a:pt x="1455" y="519"/>
                      </a:lnTo>
                      <a:lnTo>
                        <a:pt x="1449" y="519"/>
                      </a:lnTo>
                      <a:lnTo>
                        <a:pt x="1449" y="525"/>
                      </a:lnTo>
                      <a:lnTo>
                        <a:pt x="1449" y="531"/>
                      </a:lnTo>
                      <a:lnTo>
                        <a:pt x="1455" y="531"/>
                      </a:lnTo>
                      <a:lnTo>
                        <a:pt x="1455" y="537"/>
                      </a:lnTo>
                      <a:lnTo>
                        <a:pt x="1449" y="537"/>
                      </a:lnTo>
                      <a:lnTo>
                        <a:pt x="1449" y="543"/>
                      </a:lnTo>
                      <a:lnTo>
                        <a:pt x="1444" y="543"/>
                      </a:lnTo>
                      <a:lnTo>
                        <a:pt x="1449" y="543"/>
                      </a:lnTo>
                      <a:lnTo>
                        <a:pt x="1444" y="543"/>
                      </a:lnTo>
                      <a:lnTo>
                        <a:pt x="1438" y="543"/>
                      </a:lnTo>
                      <a:lnTo>
                        <a:pt x="1438" y="549"/>
                      </a:lnTo>
                      <a:lnTo>
                        <a:pt x="1444" y="549"/>
                      </a:lnTo>
                      <a:lnTo>
                        <a:pt x="1449" y="549"/>
                      </a:lnTo>
                      <a:lnTo>
                        <a:pt x="1449" y="555"/>
                      </a:lnTo>
                      <a:lnTo>
                        <a:pt x="1455" y="555"/>
                      </a:lnTo>
                      <a:lnTo>
                        <a:pt x="1455" y="549"/>
                      </a:lnTo>
                      <a:lnTo>
                        <a:pt x="1461" y="549"/>
                      </a:lnTo>
                      <a:lnTo>
                        <a:pt x="1467" y="549"/>
                      </a:lnTo>
                      <a:lnTo>
                        <a:pt x="1473" y="549"/>
                      </a:lnTo>
                      <a:lnTo>
                        <a:pt x="1479" y="549"/>
                      </a:lnTo>
                      <a:lnTo>
                        <a:pt x="1479" y="555"/>
                      </a:lnTo>
                      <a:lnTo>
                        <a:pt x="1485" y="555"/>
                      </a:lnTo>
                      <a:lnTo>
                        <a:pt x="1491" y="561"/>
                      </a:lnTo>
                      <a:lnTo>
                        <a:pt x="1497" y="561"/>
                      </a:lnTo>
                      <a:lnTo>
                        <a:pt x="1497" y="555"/>
                      </a:lnTo>
                      <a:lnTo>
                        <a:pt x="1497" y="549"/>
                      </a:lnTo>
                      <a:lnTo>
                        <a:pt x="1497" y="543"/>
                      </a:lnTo>
                      <a:lnTo>
                        <a:pt x="1503" y="549"/>
                      </a:lnTo>
                      <a:lnTo>
                        <a:pt x="1503" y="555"/>
                      </a:lnTo>
                      <a:lnTo>
                        <a:pt x="1503" y="561"/>
                      </a:lnTo>
                      <a:lnTo>
                        <a:pt x="1509" y="561"/>
                      </a:lnTo>
                      <a:lnTo>
                        <a:pt x="1509" y="567"/>
                      </a:lnTo>
                      <a:lnTo>
                        <a:pt x="1509" y="573"/>
                      </a:lnTo>
                      <a:lnTo>
                        <a:pt x="1509" y="578"/>
                      </a:lnTo>
                      <a:lnTo>
                        <a:pt x="1509" y="584"/>
                      </a:lnTo>
                      <a:lnTo>
                        <a:pt x="1515" y="584"/>
                      </a:lnTo>
                      <a:lnTo>
                        <a:pt x="1521" y="584"/>
                      </a:lnTo>
                      <a:lnTo>
                        <a:pt x="1527" y="584"/>
                      </a:lnTo>
                      <a:lnTo>
                        <a:pt x="1533" y="584"/>
                      </a:lnTo>
                      <a:lnTo>
                        <a:pt x="1533" y="590"/>
                      </a:lnTo>
                      <a:lnTo>
                        <a:pt x="1527" y="590"/>
                      </a:lnTo>
                      <a:lnTo>
                        <a:pt x="1527" y="596"/>
                      </a:lnTo>
                      <a:lnTo>
                        <a:pt x="1533" y="590"/>
                      </a:lnTo>
                      <a:lnTo>
                        <a:pt x="1539" y="590"/>
                      </a:lnTo>
                      <a:lnTo>
                        <a:pt x="1539" y="596"/>
                      </a:lnTo>
                      <a:lnTo>
                        <a:pt x="1545" y="596"/>
                      </a:lnTo>
                      <a:lnTo>
                        <a:pt x="1551" y="602"/>
                      </a:lnTo>
                      <a:lnTo>
                        <a:pt x="1557" y="602"/>
                      </a:lnTo>
                      <a:lnTo>
                        <a:pt x="1557" y="608"/>
                      </a:lnTo>
                      <a:lnTo>
                        <a:pt x="1551" y="602"/>
                      </a:lnTo>
                      <a:lnTo>
                        <a:pt x="1551" y="608"/>
                      </a:lnTo>
                      <a:lnTo>
                        <a:pt x="1551" y="614"/>
                      </a:lnTo>
                      <a:lnTo>
                        <a:pt x="1557" y="614"/>
                      </a:lnTo>
                      <a:lnTo>
                        <a:pt x="1557" y="620"/>
                      </a:lnTo>
                      <a:lnTo>
                        <a:pt x="1551" y="620"/>
                      </a:lnTo>
                      <a:lnTo>
                        <a:pt x="1551" y="626"/>
                      </a:lnTo>
                      <a:lnTo>
                        <a:pt x="1551" y="632"/>
                      </a:lnTo>
                      <a:lnTo>
                        <a:pt x="1545" y="638"/>
                      </a:lnTo>
                      <a:lnTo>
                        <a:pt x="1545" y="644"/>
                      </a:lnTo>
                      <a:lnTo>
                        <a:pt x="1545" y="650"/>
                      </a:lnTo>
                      <a:lnTo>
                        <a:pt x="1551" y="650"/>
                      </a:lnTo>
                      <a:lnTo>
                        <a:pt x="1551" y="644"/>
                      </a:lnTo>
                      <a:lnTo>
                        <a:pt x="1551" y="638"/>
                      </a:lnTo>
                      <a:lnTo>
                        <a:pt x="1545" y="638"/>
                      </a:lnTo>
                      <a:lnTo>
                        <a:pt x="1551" y="638"/>
                      </a:lnTo>
                      <a:lnTo>
                        <a:pt x="1557" y="632"/>
                      </a:lnTo>
                      <a:lnTo>
                        <a:pt x="1551" y="632"/>
                      </a:lnTo>
                      <a:lnTo>
                        <a:pt x="1557" y="632"/>
                      </a:lnTo>
                      <a:lnTo>
                        <a:pt x="1557" y="626"/>
                      </a:lnTo>
                      <a:lnTo>
                        <a:pt x="1557" y="620"/>
                      </a:lnTo>
                      <a:lnTo>
                        <a:pt x="1563" y="620"/>
                      </a:lnTo>
                      <a:lnTo>
                        <a:pt x="1569" y="620"/>
                      </a:lnTo>
                      <a:lnTo>
                        <a:pt x="1569" y="614"/>
                      </a:lnTo>
                      <a:lnTo>
                        <a:pt x="1563" y="614"/>
                      </a:lnTo>
                      <a:lnTo>
                        <a:pt x="1569" y="614"/>
                      </a:lnTo>
                      <a:lnTo>
                        <a:pt x="1575" y="614"/>
                      </a:lnTo>
                      <a:lnTo>
                        <a:pt x="1581" y="614"/>
                      </a:lnTo>
                      <a:lnTo>
                        <a:pt x="1581" y="608"/>
                      </a:lnTo>
                      <a:lnTo>
                        <a:pt x="1587" y="602"/>
                      </a:lnTo>
                      <a:lnTo>
                        <a:pt x="1587" y="608"/>
                      </a:lnTo>
                      <a:lnTo>
                        <a:pt x="1587" y="614"/>
                      </a:lnTo>
                      <a:lnTo>
                        <a:pt x="1587" y="620"/>
                      </a:lnTo>
                      <a:lnTo>
                        <a:pt x="1593" y="620"/>
                      </a:lnTo>
                      <a:lnTo>
                        <a:pt x="1587" y="620"/>
                      </a:lnTo>
                      <a:lnTo>
                        <a:pt x="1587" y="626"/>
                      </a:lnTo>
                      <a:lnTo>
                        <a:pt x="1581" y="626"/>
                      </a:lnTo>
                      <a:lnTo>
                        <a:pt x="1581" y="632"/>
                      </a:lnTo>
                      <a:lnTo>
                        <a:pt x="1581" y="638"/>
                      </a:lnTo>
                      <a:lnTo>
                        <a:pt x="1581" y="632"/>
                      </a:lnTo>
                      <a:lnTo>
                        <a:pt x="1587" y="632"/>
                      </a:lnTo>
                      <a:lnTo>
                        <a:pt x="1587" y="626"/>
                      </a:lnTo>
                      <a:lnTo>
                        <a:pt x="1593" y="626"/>
                      </a:lnTo>
                      <a:lnTo>
                        <a:pt x="1593" y="620"/>
                      </a:lnTo>
                      <a:lnTo>
                        <a:pt x="1599" y="620"/>
                      </a:lnTo>
                      <a:lnTo>
                        <a:pt x="1599" y="626"/>
                      </a:lnTo>
                      <a:lnTo>
                        <a:pt x="1599" y="620"/>
                      </a:lnTo>
                      <a:lnTo>
                        <a:pt x="1605" y="626"/>
                      </a:lnTo>
                      <a:lnTo>
                        <a:pt x="1611" y="626"/>
                      </a:lnTo>
                      <a:lnTo>
                        <a:pt x="1611" y="620"/>
                      </a:lnTo>
                      <a:lnTo>
                        <a:pt x="1617" y="620"/>
                      </a:lnTo>
                      <a:lnTo>
                        <a:pt x="1611" y="620"/>
                      </a:lnTo>
                      <a:lnTo>
                        <a:pt x="1605" y="620"/>
                      </a:lnTo>
                      <a:lnTo>
                        <a:pt x="1599" y="620"/>
                      </a:lnTo>
                      <a:lnTo>
                        <a:pt x="1599" y="614"/>
                      </a:lnTo>
                      <a:lnTo>
                        <a:pt x="1593" y="614"/>
                      </a:lnTo>
                      <a:lnTo>
                        <a:pt x="1599" y="614"/>
                      </a:lnTo>
                      <a:lnTo>
                        <a:pt x="1599" y="608"/>
                      </a:lnTo>
                      <a:lnTo>
                        <a:pt x="1593" y="608"/>
                      </a:lnTo>
                      <a:lnTo>
                        <a:pt x="1599" y="608"/>
                      </a:lnTo>
                      <a:lnTo>
                        <a:pt x="1605" y="608"/>
                      </a:lnTo>
                      <a:lnTo>
                        <a:pt x="1605" y="614"/>
                      </a:lnTo>
                      <a:lnTo>
                        <a:pt x="1605" y="608"/>
                      </a:lnTo>
                      <a:lnTo>
                        <a:pt x="1599" y="608"/>
                      </a:lnTo>
                      <a:lnTo>
                        <a:pt x="1605" y="608"/>
                      </a:lnTo>
                      <a:lnTo>
                        <a:pt x="1599" y="608"/>
                      </a:lnTo>
                      <a:lnTo>
                        <a:pt x="1599" y="602"/>
                      </a:lnTo>
                      <a:lnTo>
                        <a:pt x="1599" y="608"/>
                      </a:lnTo>
                      <a:lnTo>
                        <a:pt x="1593" y="602"/>
                      </a:lnTo>
                      <a:lnTo>
                        <a:pt x="1593" y="608"/>
                      </a:lnTo>
                      <a:lnTo>
                        <a:pt x="1593" y="602"/>
                      </a:lnTo>
                      <a:lnTo>
                        <a:pt x="1593" y="596"/>
                      </a:lnTo>
                      <a:lnTo>
                        <a:pt x="1587" y="596"/>
                      </a:lnTo>
                      <a:lnTo>
                        <a:pt x="1593" y="596"/>
                      </a:lnTo>
                      <a:lnTo>
                        <a:pt x="1593" y="590"/>
                      </a:lnTo>
                      <a:lnTo>
                        <a:pt x="1599" y="596"/>
                      </a:lnTo>
                      <a:lnTo>
                        <a:pt x="1599" y="590"/>
                      </a:lnTo>
                      <a:lnTo>
                        <a:pt x="1593" y="590"/>
                      </a:lnTo>
                      <a:lnTo>
                        <a:pt x="1599" y="590"/>
                      </a:lnTo>
                      <a:lnTo>
                        <a:pt x="1605" y="590"/>
                      </a:lnTo>
                      <a:lnTo>
                        <a:pt x="1611" y="590"/>
                      </a:lnTo>
                      <a:lnTo>
                        <a:pt x="1617" y="590"/>
                      </a:lnTo>
                      <a:lnTo>
                        <a:pt x="1622" y="596"/>
                      </a:lnTo>
                      <a:lnTo>
                        <a:pt x="1622" y="602"/>
                      </a:lnTo>
                      <a:lnTo>
                        <a:pt x="1617" y="602"/>
                      </a:lnTo>
                      <a:lnTo>
                        <a:pt x="1622" y="602"/>
                      </a:lnTo>
                      <a:lnTo>
                        <a:pt x="1628" y="602"/>
                      </a:lnTo>
                      <a:lnTo>
                        <a:pt x="1628" y="608"/>
                      </a:lnTo>
                      <a:lnTo>
                        <a:pt x="1634" y="608"/>
                      </a:lnTo>
                      <a:lnTo>
                        <a:pt x="1634" y="602"/>
                      </a:lnTo>
                      <a:lnTo>
                        <a:pt x="1628" y="602"/>
                      </a:lnTo>
                      <a:lnTo>
                        <a:pt x="1622" y="602"/>
                      </a:lnTo>
                      <a:lnTo>
                        <a:pt x="1622" y="596"/>
                      </a:lnTo>
                      <a:lnTo>
                        <a:pt x="1628" y="596"/>
                      </a:lnTo>
                      <a:lnTo>
                        <a:pt x="1634" y="596"/>
                      </a:lnTo>
                      <a:lnTo>
                        <a:pt x="1640" y="596"/>
                      </a:lnTo>
                      <a:lnTo>
                        <a:pt x="1640" y="602"/>
                      </a:lnTo>
                      <a:lnTo>
                        <a:pt x="1640" y="608"/>
                      </a:lnTo>
                      <a:lnTo>
                        <a:pt x="1640" y="602"/>
                      </a:lnTo>
                      <a:lnTo>
                        <a:pt x="1640" y="608"/>
                      </a:lnTo>
                      <a:lnTo>
                        <a:pt x="1640" y="614"/>
                      </a:lnTo>
                      <a:lnTo>
                        <a:pt x="1640" y="608"/>
                      </a:lnTo>
                      <a:lnTo>
                        <a:pt x="1646" y="608"/>
                      </a:lnTo>
                      <a:lnTo>
                        <a:pt x="1640" y="608"/>
                      </a:lnTo>
                      <a:lnTo>
                        <a:pt x="1646" y="608"/>
                      </a:lnTo>
                      <a:lnTo>
                        <a:pt x="1646" y="602"/>
                      </a:lnTo>
                      <a:lnTo>
                        <a:pt x="1640" y="602"/>
                      </a:lnTo>
                      <a:lnTo>
                        <a:pt x="1646" y="602"/>
                      </a:lnTo>
                      <a:lnTo>
                        <a:pt x="1646" y="608"/>
                      </a:lnTo>
                      <a:lnTo>
                        <a:pt x="1652" y="608"/>
                      </a:lnTo>
                      <a:lnTo>
                        <a:pt x="1652" y="602"/>
                      </a:lnTo>
                      <a:lnTo>
                        <a:pt x="1652" y="596"/>
                      </a:lnTo>
                      <a:lnTo>
                        <a:pt x="1646" y="596"/>
                      </a:lnTo>
                      <a:lnTo>
                        <a:pt x="1652" y="590"/>
                      </a:lnTo>
                      <a:lnTo>
                        <a:pt x="1652" y="584"/>
                      </a:lnTo>
                      <a:lnTo>
                        <a:pt x="1658" y="584"/>
                      </a:lnTo>
                      <a:lnTo>
                        <a:pt x="1664" y="590"/>
                      </a:lnTo>
                      <a:lnTo>
                        <a:pt x="1664" y="596"/>
                      </a:lnTo>
                      <a:lnTo>
                        <a:pt x="1670" y="596"/>
                      </a:lnTo>
                      <a:lnTo>
                        <a:pt x="1670" y="602"/>
                      </a:lnTo>
                      <a:lnTo>
                        <a:pt x="1670" y="608"/>
                      </a:lnTo>
                      <a:lnTo>
                        <a:pt x="1676" y="614"/>
                      </a:lnTo>
                      <a:lnTo>
                        <a:pt x="1676" y="620"/>
                      </a:lnTo>
                      <a:lnTo>
                        <a:pt x="1682" y="620"/>
                      </a:lnTo>
                      <a:lnTo>
                        <a:pt x="1682" y="626"/>
                      </a:lnTo>
                      <a:lnTo>
                        <a:pt x="1682" y="632"/>
                      </a:lnTo>
                      <a:lnTo>
                        <a:pt x="1688" y="638"/>
                      </a:lnTo>
                      <a:lnTo>
                        <a:pt x="1688" y="644"/>
                      </a:lnTo>
                      <a:lnTo>
                        <a:pt x="1694" y="644"/>
                      </a:lnTo>
                      <a:lnTo>
                        <a:pt x="1694" y="650"/>
                      </a:lnTo>
                      <a:lnTo>
                        <a:pt x="1700" y="656"/>
                      </a:lnTo>
                      <a:lnTo>
                        <a:pt x="1700" y="662"/>
                      </a:lnTo>
                      <a:lnTo>
                        <a:pt x="1706" y="668"/>
                      </a:lnTo>
                      <a:lnTo>
                        <a:pt x="1706" y="674"/>
                      </a:lnTo>
                      <a:lnTo>
                        <a:pt x="1706" y="680"/>
                      </a:lnTo>
                      <a:lnTo>
                        <a:pt x="1712" y="686"/>
                      </a:lnTo>
                      <a:lnTo>
                        <a:pt x="1706" y="686"/>
                      </a:lnTo>
                      <a:lnTo>
                        <a:pt x="1706" y="680"/>
                      </a:lnTo>
                      <a:lnTo>
                        <a:pt x="1700" y="686"/>
                      </a:lnTo>
                      <a:lnTo>
                        <a:pt x="1700" y="680"/>
                      </a:lnTo>
                      <a:lnTo>
                        <a:pt x="1706" y="680"/>
                      </a:lnTo>
                      <a:lnTo>
                        <a:pt x="1700" y="680"/>
                      </a:lnTo>
                      <a:lnTo>
                        <a:pt x="1706" y="680"/>
                      </a:lnTo>
                      <a:lnTo>
                        <a:pt x="1706" y="674"/>
                      </a:lnTo>
                      <a:lnTo>
                        <a:pt x="1700" y="668"/>
                      </a:lnTo>
                      <a:lnTo>
                        <a:pt x="1700" y="662"/>
                      </a:lnTo>
                      <a:lnTo>
                        <a:pt x="1694" y="662"/>
                      </a:lnTo>
                      <a:lnTo>
                        <a:pt x="1694" y="656"/>
                      </a:lnTo>
                      <a:lnTo>
                        <a:pt x="1694" y="650"/>
                      </a:lnTo>
                      <a:lnTo>
                        <a:pt x="1688" y="650"/>
                      </a:lnTo>
                      <a:lnTo>
                        <a:pt x="1688" y="644"/>
                      </a:lnTo>
                      <a:lnTo>
                        <a:pt x="1682" y="644"/>
                      </a:lnTo>
                      <a:lnTo>
                        <a:pt x="1682" y="650"/>
                      </a:lnTo>
                      <a:lnTo>
                        <a:pt x="1682" y="656"/>
                      </a:lnTo>
                      <a:lnTo>
                        <a:pt x="1682" y="662"/>
                      </a:lnTo>
                      <a:lnTo>
                        <a:pt x="1682" y="668"/>
                      </a:lnTo>
                      <a:lnTo>
                        <a:pt x="1682" y="674"/>
                      </a:lnTo>
                      <a:lnTo>
                        <a:pt x="1682" y="680"/>
                      </a:lnTo>
                      <a:lnTo>
                        <a:pt x="1682" y="686"/>
                      </a:lnTo>
                      <a:lnTo>
                        <a:pt x="1676" y="692"/>
                      </a:lnTo>
                      <a:lnTo>
                        <a:pt x="1676" y="686"/>
                      </a:lnTo>
                      <a:lnTo>
                        <a:pt x="1670" y="686"/>
                      </a:lnTo>
                      <a:lnTo>
                        <a:pt x="1670" y="680"/>
                      </a:lnTo>
                      <a:lnTo>
                        <a:pt x="1664" y="680"/>
                      </a:lnTo>
                      <a:lnTo>
                        <a:pt x="1670" y="680"/>
                      </a:lnTo>
                      <a:lnTo>
                        <a:pt x="1670" y="686"/>
                      </a:lnTo>
                      <a:lnTo>
                        <a:pt x="1670" y="692"/>
                      </a:lnTo>
                      <a:lnTo>
                        <a:pt x="1676" y="692"/>
                      </a:lnTo>
                      <a:lnTo>
                        <a:pt x="1658" y="698"/>
                      </a:lnTo>
                      <a:lnTo>
                        <a:pt x="1652" y="698"/>
                      </a:lnTo>
                      <a:lnTo>
                        <a:pt x="1611" y="704"/>
                      </a:lnTo>
                      <a:lnTo>
                        <a:pt x="1575" y="710"/>
                      </a:lnTo>
                      <a:lnTo>
                        <a:pt x="1563" y="716"/>
                      </a:lnTo>
                      <a:lnTo>
                        <a:pt x="1485" y="734"/>
                      </a:lnTo>
                      <a:lnTo>
                        <a:pt x="1426" y="740"/>
                      </a:lnTo>
                      <a:lnTo>
                        <a:pt x="1396" y="752"/>
                      </a:lnTo>
                      <a:lnTo>
                        <a:pt x="1300" y="769"/>
                      </a:lnTo>
                      <a:lnTo>
                        <a:pt x="1271" y="775"/>
                      </a:lnTo>
                      <a:lnTo>
                        <a:pt x="1235" y="781"/>
                      </a:lnTo>
                      <a:lnTo>
                        <a:pt x="1181" y="793"/>
                      </a:lnTo>
                      <a:lnTo>
                        <a:pt x="1151" y="799"/>
                      </a:lnTo>
                      <a:lnTo>
                        <a:pt x="1086" y="811"/>
                      </a:lnTo>
                      <a:lnTo>
                        <a:pt x="1074" y="811"/>
                      </a:lnTo>
                      <a:lnTo>
                        <a:pt x="996" y="829"/>
                      </a:lnTo>
                      <a:lnTo>
                        <a:pt x="984" y="829"/>
                      </a:lnTo>
                      <a:lnTo>
                        <a:pt x="978" y="829"/>
                      </a:lnTo>
                      <a:lnTo>
                        <a:pt x="919" y="841"/>
                      </a:lnTo>
                      <a:lnTo>
                        <a:pt x="871" y="847"/>
                      </a:lnTo>
                      <a:lnTo>
                        <a:pt x="805" y="859"/>
                      </a:lnTo>
                      <a:lnTo>
                        <a:pt x="799" y="859"/>
                      </a:lnTo>
                      <a:lnTo>
                        <a:pt x="716" y="877"/>
                      </a:lnTo>
                      <a:lnTo>
                        <a:pt x="674" y="877"/>
                      </a:lnTo>
                      <a:lnTo>
                        <a:pt x="626" y="883"/>
                      </a:lnTo>
                      <a:lnTo>
                        <a:pt x="614" y="889"/>
                      </a:lnTo>
                      <a:lnTo>
                        <a:pt x="513" y="901"/>
                      </a:lnTo>
                      <a:lnTo>
                        <a:pt x="441" y="907"/>
                      </a:lnTo>
                      <a:lnTo>
                        <a:pt x="447" y="901"/>
                      </a:lnTo>
                      <a:lnTo>
                        <a:pt x="411" y="907"/>
                      </a:lnTo>
                      <a:lnTo>
                        <a:pt x="406" y="907"/>
                      </a:lnTo>
                      <a:lnTo>
                        <a:pt x="388" y="907"/>
                      </a:lnTo>
                      <a:lnTo>
                        <a:pt x="388" y="913"/>
                      </a:lnTo>
                      <a:lnTo>
                        <a:pt x="334" y="919"/>
                      </a:lnTo>
                      <a:lnTo>
                        <a:pt x="322" y="925"/>
                      </a:lnTo>
                      <a:lnTo>
                        <a:pt x="304" y="925"/>
                      </a:lnTo>
                      <a:lnTo>
                        <a:pt x="238" y="936"/>
                      </a:lnTo>
                      <a:lnTo>
                        <a:pt x="191" y="942"/>
                      </a:lnTo>
                      <a:lnTo>
                        <a:pt x="185" y="942"/>
                      </a:lnTo>
                      <a:lnTo>
                        <a:pt x="155" y="948"/>
                      </a:lnTo>
                      <a:lnTo>
                        <a:pt x="101" y="954"/>
                      </a:lnTo>
                      <a:lnTo>
                        <a:pt x="95" y="954"/>
                      </a:lnTo>
                      <a:lnTo>
                        <a:pt x="89" y="954"/>
                      </a:lnTo>
                      <a:lnTo>
                        <a:pt x="48" y="960"/>
                      </a:lnTo>
                      <a:lnTo>
                        <a:pt x="0" y="966"/>
                      </a:lnTo>
                      <a:lnTo>
                        <a:pt x="6" y="960"/>
                      </a:lnTo>
                      <a:lnTo>
                        <a:pt x="12" y="954"/>
                      </a:lnTo>
                      <a:lnTo>
                        <a:pt x="18" y="954"/>
                      </a:lnTo>
                      <a:lnTo>
                        <a:pt x="24" y="948"/>
                      </a:lnTo>
                      <a:lnTo>
                        <a:pt x="30" y="948"/>
                      </a:lnTo>
                      <a:lnTo>
                        <a:pt x="30" y="942"/>
                      </a:lnTo>
                      <a:lnTo>
                        <a:pt x="36" y="942"/>
                      </a:lnTo>
                      <a:lnTo>
                        <a:pt x="42" y="942"/>
                      </a:lnTo>
                      <a:lnTo>
                        <a:pt x="48" y="942"/>
                      </a:lnTo>
                      <a:lnTo>
                        <a:pt x="54" y="942"/>
                      </a:lnTo>
                      <a:lnTo>
                        <a:pt x="54" y="936"/>
                      </a:lnTo>
                      <a:lnTo>
                        <a:pt x="60" y="936"/>
                      </a:lnTo>
                      <a:lnTo>
                        <a:pt x="60" y="931"/>
                      </a:lnTo>
                      <a:lnTo>
                        <a:pt x="65" y="931"/>
                      </a:lnTo>
                      <a:lnTo>
                        <a:pt x="71" y="931"/>
                      </a:lnTo>
                      <a:lnTo>
                        <a:pt x="77" y="925"/>
                      </a:lnTo>
                      <a:lnTo>
                        <a:pt x="83" y="925"/>
                      </a:lnTo>
                      <a:lnTo>
                        <a:pt x="89" y="919"/>
                      </a:lnTo>
                      <a:lnTo>
                        <a:pt x="95" y="919"/>
                      </a:lnTo>
                      <a:lnTo>
                        <a:pt x="101" y="913"/>
                      </a:lnTo>
                      <a:lnTo>
                        <a:pt x="107" y="913"/>
                      </a:lnTo>
                      <a:lnTo>
                        <a:pt x="113" y="913"/>
                      </a:lnTo>
                      <a:lnTo>
                        <a:pt x="113" y="907"/>
                      </a:lnTo>
                      <a:lnTo>
                        <a:pt x="119" y="907"/>
                      </a:lnTo>
                      <a:lnTo>
                        <a:pt x="113" y="907"/>
                      </a:lnTo>
                      <a:lnTo>
                        <a:pt x="113" y="90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168"/>
                <p:cNvSpPr/>
                <p:nvPr/>
              </p:nvSpPr>
              <p:spPr>
                <a:xfrm>
                  <a:off x="6386400" y="4506840"/>
                  <a:ext cx="1031760" cy="881280"/>
                </a:xfrm>
                <a:custGeom>
                  <a:avLst/>
                  <a:gdLst>
                    <a:gd name="textAreaLeft" fmla="*/ 0 w 1031760"/>
                    <a:gd name="textAreaRight" fmla="*/ 1032120 w 1031760"/>
                    <a:gd name="textAreaTop" fmla="*/ 0 h 881280"/>
                    <a:gd name="textAreaBottom" fmla="*/ 881640 h 881280"/>
                  </a:gdLst>
                  <a:ahLst/>
                  <a:rect l="textAreaLeft" t="textAreaTop" r="textAreaRight" b="textAreaBottom"/>
                  <a:pathLst>
                    <a:path w="1032" h="907">
                      <a:moveTo>
                        <a:pt x="0" y="907"/>
                      </a:moveTo>
                      <a:lnTo>
                        <a:pt x="6" y="901"/>
                      </a:lnTo>
                      <a:lnTo>
                        <a:pt x="6" y="895"/>
                      </a:lnTo>
                      <a:lnTo>
                        <a:pt x="6" y="889"/>
                      </a:lnTo>
                      <a:lnTo>
                        <a:pt x="12" y="889"/>
                      </a:lnTo>
                      <a:lnTo>
                        <a:pt x="12" y="883"/>
                      </a:lnTo>
                      <a:lnTo>
                        <a:pt x="18" y="883"/>
                      </a:lnTo>
                      <a:lnTo>
                        <a:pt x="24" y="883"/>
                      </a:lnTo>
                      <a:lnTo>
                        <a:pt x="24" y="877"/>
                      </a:lnTo>
                      <a:lnTo>
                        <a:pt x="30" y="877"/>
                      </a:lnTo>
                      <a:lnTo>
                        <a:pt x="36" y="877"/>
                      </a:lnTo>
                      <a:lnTo>
                        <a:pt x="42" y="877"/>
                      </a:lnTo>
                      <a:lnTo>
                        <a:pt x="48" y="871"/>
                      </a:lnTo>
                      <a:lnTo>
                        <a:pt x="54" y="865"/>
                      </a:lnTo>
                      <a:lnTo>
                        <a:pt x="54" y="859"/>
                      </a:lnTo>
                      <a:lnTo>
                        <a:pt x="54" y="853"/>
                      </a:lnTo>
                      <a:lnTo>
                        <a:pt x="54" y="847"/>
                      </a:lnTo>
                      <a:lnTo>
                        <a:pt x="54" y="841"/>
                      </a:lnTo>
                      <a:lnTo>
                        <a:pt x="60" y="841"/>
                      </a:lnTo>
                      <a:lnTo>
                        <a:pt x="60" y="835"/>
                      </a:lnTo>
                      <a:lnTo>
                        <a:pt x="66" y="829"/>
                      </a:lnTo>
                      <a:lnTo>
                        <a:pt x="72" y="829"/>
                      </a:lnTo>
                      <a:lnTo>
                        <a:pt x="78" y="823"/>
                      </a:lnTo>
                      <a:lnTo>
                        <a:pt x="84" y="823"/>
                      </a:lnTo>
                      <a:lnTo>
                        <a:pt x="78" y="817"/>
                      </a:lnTo>
                      <a:lnTo>
                        <a:pt x="78" y="811"/>
                      </a:lnTo>
                      <a:lnTo>
                        <a:pt x="84" y="811"/>
                      </a:lnTo>
                      <a:lnTo>
                        <a:pt x="78" y="805"/>
                      </a:lnTo>
                      <a:lnTo>
                        <a:pt x="78" y="799"/>
                      </a:lnTo>
                      <a:lnTo>
                        <a:pt x="84" y="799"/>
                      </a:lnTo>
                      <a:lnTo>
                        <a:pt x="84" y="793"/>
                      </a:lnTo>
                      <a:lnTo>
                        <a:pt x="90" y="793"/>
                      </a:lnTo>
                      <a:lnTo>
                        <a:pt x="96" y="787"/>
                      </a:lnTo>
                      <a:lnTo>
                        <a:pt x="102" y="781"/>
                      </a:lnTo>
                      <a:lnTo>
                        <a:pt x="108" y="775"/>
                      </a:lnTo>
                      <a:lnTo>
                        <a:pt x="114" y="769"/>
                      </a:lnTo>
                      <a:lnTo>
                        <a:pt x="120" y="769"/>
                      </a:lnTo>
                      <a:lnTo>
                        <a:pt x="120" y="763"/>
                      </a:lnTo>
                      <a:lnTo>
                        <a:pt x="125" y="763"/>
                      </a:lnTo>
                      <a:lnTo>
                        <a:pt x="131" y="758"/>
                      </a:lnTo>
                      <a:lnTo>
                        <a:pt x="143" y="752"/>
                      </a:lnTo>
                      <a:lnTo>
                        <a:pt x="149" y="752"/>
                      </a:lnTo>
                      <a:lnTo>
                        <a:pt x="155" y="746"/>
                      </a:lnTo>
                      <a:lnTo>
                        <a:pt x="161" y="740"/>
                      </a:lnTo>
                      <a:lnTo>
                        <a:pt x="161" y="734"/>
                      </a:lnTo>
                      <a:lnTo>
                        <a:pt x="167" y="734"/>
                      </a:lnTo>
                      <a:lnTo>
                        <a:pt x="185" y="710"/>
                      </a:lnTo>
                      <a:lnTo>
                        <a:pt x="227" y="662"/>
                      </a:lnTo>
                      <a:lnTo>
                        <a:pt x="233" y="668"/>
                      </a:lnTo>
                      <a:lnTo>
                        <a:pt x="233" y="674"/>
                      </a:lnTo>
                      <a:lnTo>
                        <a:pt x="227" y="674"/>
                      </a:lnTo>
                      <a:lnTo>
                        <a:pt x="227" y="680"/>
                      </a:lnTo>
                      <a:lnTo>
                        <a:pt x="221" y="680"/>
                      </a:lnTo>
                      <a:lnTo>
                        <a:pt x="227" y="680"/>
                      </a:lnTo>
                      <a:lnTo>
                        <a:pt x="227" y="686"/>
                      </a:lnTo>
                      <a:lnTo>
                        <a:pt x="233" y="686"/>
                      </a:lnTo>
                      <a:lnTo>
                        <a:pt x="239" y="692"/>
                      </a:lnTo>
                      <a:lnTo>
                        <a:pt x="239" y="698"/>
                      </a:lnTo>
                      <a:lnTo>
                        <a:pt x="239" y="704"/>
                      </a:lnTo>
                      <a:lnTo>
                        <a:pt x="245" y="704"/>
                      </a:lnTo>
                      <a:lnTo>
                        <a:pt x="245" y="710"/>
                      </a:lnTo>
                      <a:lnTo>
                        <a:pt x="251" y="710"/>
                      </a:lnTo>
                      <a:lnTo>
                        <a:pt x="251" y="716"/>
                      </a:lnTo>
                      <a:lnTo>
                        <a:pt x="257" y="716"/>
                      </a:lnTo>
                      <a:lnTo>
                        <a:pt x="257" y="722"/>
                      </a:lnTo>
                      <a:lnTo>
                        <a:pt x="263" y="722"/>
                      </a:lnTo>
                      <a:lnTo>
                        <a:pt x="263" y="728"/>
                      </a:lnTo>
                      <a:lnTo>
                        <a:pt x="269" y="728"/>
                      </a:lnTo>
                      <a:lnTo>
                        <a:pt x="269" y="722"/>
                      </a:lnTo>
                      <a:lnTo>
                        <a:pt x="275" y="722"/>
                      </a:lnTo>
                      <a:lnTo>
                        <a:pt x="275" y="728"/>
                      </a:lnTo>
                      <a:lnTo>
                        <a:pt x="281" y="728"/>
                      </a:lnTo>
                      <a:lnTo>
                        <a:pt x="287" y="728"/>
                      </a:lnTo>
                      <a:lnTo>
                        <a:pt x="287" y="734"/>
                      </a:lnTo>
                      <a:lnTo>
                        <a:pt x="293" y="734"/>
                      </a:lnTo>
                      <a:lnTo>
                        <a:pt x="298" y="740"/>
                      </a:lnTo>
                      <a:lnTo>
                        <a:pt x="304" y="740"/>
                      </a:lnTo>
                      <a:lnTo>
                        <a:pt x="310" y="740"/>
                      </a:lnTo>
                      <a:lnTo>
                        <a:pt x="316" y="740"/>
                      </a:lnTo>
                      <a:lnTo>
                        <a:pt x="322" y="740"/>
                      </a:lnTo>
                      <a:lnTo>
                        <a:pt x="328" y="740"/>
                      </a:lnTo>
                      <a:lnTo>
                        <a:pt x="328" y="734"/>
                      </a:lnTo>
                      <a:lnTo>
                        <a:pt x="334" y="734"/>
                      </a:lnTo>
                      <a:lnTo>
                        <a:pt x="334" y="728"/>
                      </a:lnTo>
                      <a:lnTo>
                        <a:pt x="340" y="728"/>
                      </a:lnTo>
                      <a:lnTo>
                        <a:pt x="340" y="722"/>
                      </a:lnTo>
                      <a:lnTo>
                        <a:pt x="346" y="722"/>
                      </a:lnTo>
                      <a:lnTo>
                        <a:pt x="346" y="716"/>
                      </a:lnTo>
                      <a:lnTo>
                        <a:pt x="352" y="716"/>
                      </a:lnTo>
                      <a:lnTo>
                        <a:pt x="358" y="716"/>
                      </a:lnTo>
                      <a:lnTo>
                        <a:pt x="358" y="710"/>
                      </a:lnTo>
                      <a:lnTo>
                        <a:pt x="358" y="704"/>
                      </a:lnTo>
                      <a:lnTo>
                        <a:pt x="364" y="698"/>
                      </a:lnTo>
                      <a:lnTo>
                        <a:pt x="364" y="692"/>
                      </a:lnTo>
                      <a:lnTo>
                        <a:pt x="370" y="698"/>
                      </a:lnTo>
                      <a:lnTo>
                        <a:pt x="376" y="698"/>
                      </a:lnTo>
                      <a:lnTo>
                        <a:pt x="376" y="704"/>
                      </a:lnTo>
                      <a:lnTo>
                        <a:pt x="382" y="704"/>
                      </a:lnTo>
                      <a:lnTo>
                        <a:pt x="382" y="710"/>
                      </a:lnTo>
                      <a:lnTo>
                        <a:pt x="388" y="710"/>
                      </a:lnTo>
                      <a:lnTo>
                        <a:pt x="394" y="710"/>
                      </a:lnTo>
                      <a:lnTo>
                        <a:pt x="394" y="716"/>
                      </a:lnTo>
                      <a:lnTo>
                        <a:pt x="400" y="716"/>
                      </a:lnTo>
                      <a:lnTo>
                        <a:pt x="406" y="716"/>
                      </a:lnTo>
                      <a:lnTo>
                        <a:pt x="406" y="710"/>
                      </a:lnTo>
                      <a:lnTo>
                        <a:pt x="412" y="704"/>
                      </a:lnTo>
                      <a:lnTo>
                        <a:pt x="418" y="704"/>
                      </a:lnTo>
                      <a:lnTo>
                        <a:pt x="424" y="704"/>
                      </a:lnTo>
                      <a:lnTo>
                        <a:pt x="424" y="698"/>
                      </a:lnTo>
                      <a:lnTo>
                        <a:pt x="430" y="698"/>
                      </a:lnTo>
                      <a:lnTo>
                        <a:pt x="436" y="698"/>
                      </a:lnTo>
                      <a:lnTo>
                        <a:pt x="442" y="698"/>
                      </a:lnTo>
                      <a:lnTo>
                        <a:pt x="442" y="692"/>
                      </a:lnTo>
                      <a:lnTo>
                        <a:pt x="448" y="692"/>
                      </a:lnTo>
                      <a:lnTo>
                        <a:pt x="454" y="692"/>
                      </a:lnTo>
                      <a:lnTo>
                        <a:pt x="460" y="692"/>
                      </a:lnTo>
                      <a:lnTo>
                        <a:pt x="460" y="686"/>
                      </a:lnTo>
                      <a:lnTo>
                        <a:pt x="466" y="686"/>
                      </a:lnTo>
                      <a:lnTo>
                        <a:pt x="471" y="680"/>
                      </a:lnTo>
                      <a:lnTo>
                        <a:pt x="477" y="674"/>
                      </a:lnTo>
                      <a:lnTo>
                        <a:pt x="471" y="668"/>
                      </a:lnTo>
                      <a:lnTo>
                        <a:pt x="466" y="662"/>
                      </a:lnTo>
                      <a:lnTo>
                        <a:pt x="471" y="662"/>
                      </a:lnTo>
                      <a:lnTo>
                        <a:pt x="471" y="656"/>
                      </a:lnTo>
                      <a:lnTo>
                        <a:pt x="471" y="650"/>
                      </a:lnTo>
                      <a:lnTo>
                        <a:pt x="477" y="650"/>
                      </a:lnTo>
                      <a:lnTo>
                        <a:pt x="483" y="650"/>
                      </a:lnTo>
                      <a:lnTo>
                        <a:pt x="483" y="656"/>
                      </a:lnTo>
                      <a:lnTo>
                        <a:pt x="483" y="662"/>
                      </a:lnTo>
                      <a:lnTo>
                        <a:pt x="489" y="662"/>
                      </a:lnTo>
                      <a:lnTo>
                        <a:pt x="495" y="662"/>
                      </a:lnTo>
                      <a:lnTo>
                        <a:pt x="495" y="656"/>
                      </a:lnTo>
                      <a:lnTo>
                        <a:pt x="501" y="656"/>
                      </a:lnTo>
                      <a:lnTo>
                        <a:pt x="507" y="656"/>
                      </a:lnTo>
                      <a:lnTo>
                        <a:pt x="513" y="650"/>
                      </a:lnTo>
                      <a:lnTo>
                        <a:pt x="519" y="644"/>
                      </a:lnTo>
                      <a:lnTo>
                        <a:pt x="525" y="644"/>
                      </a:lnTo>
                      <a:lnTo>
                        <a:pt x="525" y="638"/>
                      </a:lnTo>
                      <a:lnTo>
                        <a:pt x="531" y="638"/>
                      </a:lnTo>
                      <a:lnTo>
                        <a:pt x="531" y="632"/>
                      </a:lnTo>
                      <a:lnTo>
                        <a:pt x="537" y="632"/>
                      </a:lnTo>
                      <a:lnTo>
                        <a:pt x="537" y="626"/>
                      </a:lnTo>
                      <a:lnTo>
                        <a:pt x="543" y="626"/>
                      </a:lnTo>
                      <a:lnTo>
                        <a:pt x="549" y="626"/>
                      </a:lnTo>
                      <a:lnTo>
                        <a:pt x="549" y="632"/>
                      </a:lnTo>
                      <a:lnTo>
                        <a:pt x="549" y="638"/>
                      </a:lnTo>
                      <a:lnTo>
                        <a:pt x="555" y="638"/>
                      </a:lnTo>
                      <a:lnTo>
                        <a:pt x="561" y="638"/>
                      </a:lnTo>
                      <a:lnTo>
                        <a:pt x="561" y="632"/>
                      </a:lnTo>
                      <a:lnTo>
                        <a:pt x="567" y="632"/>
                      </a:lnTo>
                      <a:lnTo>
                        <a:pt x="561" y="632"/>
                      </a:lnTo>
                      <a:lnTo>
                        <a:pt x="567" y="632"/>
                      </a:lnTo>
                      <a:lnTo>
                        <a:pt x="567" y="626"/>
                      </a:lnTo>
                      <a:lnTo>
                        <a:pt x="573" y="626"/>
                      </a:lnTo>
                      <a:lnTo>
                        <a:pt x="573" y="620"/>
                      </a:lnTo>
                      <a:lnTo>
                        <a:pt x="579" y="620"/>
                      </a:lnTo>
                      <a:lnTo>
                        <a:pt x="579" y="614"/>
                      </a:lnTo>
                      <a:lnTo>
                        <a:pt x="585" y="614"/>
                      </a:lnTo>
                      <a:lnTo>
                        <a:pt x="585" y="608"/>
                      </a:lnTo>
                      <a:lnTo>
                        <a:pt x="591" y="608"/>
                      </a:lnTo>
                      <a:lnTo>
                        <a:pt x="591" y="602"/>
                      </a:lnTo>
                      <a:lnTo>
                        <a:pt x="585" y="602"/>
                      </a:lnTo>
                      <a:lnTo>
                        <a:pt x="579" y="602"/>
                      </a:lnTo>
                      <a:lnTo>
                        <a:pt x="585" y="602"/>
                      </a:lnTo>
                      <a:lnTo>
                        <a:pt x="585" y="596"/>
                      </a:lnTo>
                      <a:lnTo>
                        <a:pt x="579" y="596"/>
                      </a:lnTo>
                      <a:lnTo>
                        <a:pt x="585" y="590"/>
                      </a:lnTo>
                      <a:lnTo>
                        <a:pt x="591" y="590"/>
                      </a:lnTo>
                      <a:lnTo>
                        <a:pt x="591" y="584"/>
                      </a:lnTo>
                      <a:lnTo>
                        <a:pt x="597" y="584"/>
                      </a:lnTo>
                      <a:lnTo>
                        <a:pt x="597" y="579"/>
                      </a:lnTo>
                      <a:lnTo>
                        <a:pt x="603" y="573"/>
                      </a:lnTo>
                      <a:lnTo>
                        <a:pt x="597" y="573"/>
                      </a:lnTo>
                      <a:lnTo>
                        <a:pt x="591" y="573"/>
                      </a:lnTo>
                      <a:lnTo>
                        <a:pt x="585" y="573"/>
                      </a:lnTo>
                      <a:lnTo>
                        <a:pt x="579" y="573"/>
                      </a:lnTo>
                      <a:lnTo>
                        <a:pt x="579" y="567"/>
                      </a:lnTo>
                      <a:lnTo>
                        <a:pt x="579" y="561"/>
                      </a:lnTo>
                      <a:lnTo>
                        <a:pt x="585" y="561"/>
                      </a:lnTo>
                      <a:lnTo>
                        <a:pt x="585" y="555"/>
                      </a:lnTo>
                      <a:lnTo>
                        <a:pt x="585" y="549"/>
                      </a:lnTo>
                      <a:lnTo>
                        <a:pt x="591" y="549"/>
                      </a:lnTo>
                      <a:lnTo>
                        <a:pt x="591" y="543"/>
                      </a:lnTo>
                      <a:lnTo>
                        <a:pt x="585" y="543"/>
                      </a:lnTo>
                      <a:lnTo>
                        <a:pt x="585" y="537"/>
                      </a:lnTo>
                      <a:lnTo>
                        <a:pt x="591" y="537"/>
                      </a:lnTo>
                      <a:lnTo>
                        <a:pt x="591" y="531"/>
                      </a:lnTo>
                      <a:lnTo>
                        <a:pt x="591" y="525"/>
                      </a:lnTo>
                      <a:lnTo>
                        <a:pt x="591" y="519"/>
                      </a:lnTo>
                      <a:lnTo>
                        <a:pt x="597" y="519"/>
                      </a:lnTo>
                      <a:lnTo>
                        <a:pt x="597" y="513"/>
                      </a:lnTo>
                      <a:lnTo>
                        <a:pt x="603" y="513"/>
                      </a:lnTo>
                      <a:lnTo>
                        <a:pt x="597" y="513"/>
                      </a:lnTo>
                      <a:lnTo>
                        <a:pt x="597" y="507"/>
                      </a:lnTo>
                      <a:lnTo>
                        <a:pt x="603" y="507"/>
                      </a:lnTo>
                      <a:lnTo>
                        <a:pt x="603" y="501"/>
                      </a:lnTo>
                      <a:lnTo>
                        <a:pt x="609" y="501"/>
                      </a:lnTo>
                      <a:lnTo>
                        <a:pt x="609" y="495"/>
                      </a:lnTo>
                      <a:lnTo>
                        <a:pt x="609" y="489"/>
                      </a:lnTo>
                      <a:lnTo>
                        <a:pt x="615" y="483"/>
                      </a:lnTo>
                      <a:lnTo>
                        <a:pt x="621" y="477"/>
                      </a:lnTo>
                      <a:lnTo>
                        <a:pt x="627" y="471"/>
                      </a:lnTo>
                      <a:lnTo>
                        <a:pt x="627" y="465"/>
                      </a:lnTo>
                      <a:lnTo>
                        <a:pt x="633" y="465"/>
                      </a:lnTo>
                      <a:lnTo>
                        <a:pt x="633" y="459"/>
                      </a:lnTo>
                      <a:lnTo>
                        <a:pt x="633" y="453"/>
                      </a:lnTo>
                      <a:lnTo>
                        <a:pt x="633" y="447"/>
                      </a:lnTo>
                      <a:lnTo>
                        <a:pt x="639" y="447"/>
                      </a:lnTo>
                      <a:lnTo>
                        <a:pt x="633" y="441"/>
                      </a:lnTo>
                      <a:lnTo>
                        <a:pt x="639" y="441"/>
                      </a:lnTo>
                      <a:lnTo>
                        <a:pt x="639" y="435"/>
                      </a:lnTo>
                      <a:lnTo>
                        <a:pt x="639" y="429"/>
                      </a:lnTo>
                      <a:lnTo>
                        <a:pt x="639" y="423"/>
                      </a:lnTo>
                      <a:lnTo>
                        <a:pt x="639" y="417"/>
                      </a:lnTo>
                      <a:lnTo>
                        <a:pt x="639" y="411"/>
                      </a:lnTo>
                      <a:lnTo>
                        <a:pt x="639" y="405"/>
                      </a:lnTo>
                      <a:lnTo>
                        <a:pt x="644" y="405"/>
                      </a:lnTo>
                      <a:lnTo>
                        <a:pt x="644" y="399"/>
                      </a:lnTo>
                      <a:lnTo>
                        <a:pt x="650" y="399"/>
                      </a:lnTo>
                      <a:lnTo>
                        <a:pt x="650" y="394"/>
                      </a:lnTo>
                      <a:lnTo>
                        <a:pt x="650" y="388"/>
                      </a:lnTo>
                      <a:lnTo>
                        <a:pt x="656" y="388"/>
                      </a:lnTo>
                      <a:lnTo>
                        <a:pt x="656" y="382"/>
                      </a:lnTo>
                      <a:lnTo>
                        <a:pt x="662" y="382"/>
                      </a:lnTo>
                      <a:lnTo>
                        <a:pt x="662" y="376"/>
                      </a:lnTo>
                      <a:lnTo>
                        <a:pt x="656" y="376"/>
                      </a:lnTo>
                      <a:lnTo>
                        <a:pt x="656" y="370"/>
                      </a:lnTo>
                      <a:lnTo>
                        <a:pt x="656" y="364"/>
                      </a:lnTo>
                      <a:lnTo>
                        <a:pt x="662" y="364"/>
                      </a:lnTo>
                      <a:lnTo>
                        <a:pt x="662" y="358"/>
                      </a:lnTo>
                      <a:lnTo>
                        <a:pt x="668" y="358"/>
                      </a:lnTo>
                      <a:lnTo>
                        <a:pt x="668" y="352"/>
                      </a:lnTo>
                      <a:lnTo>
                        <a:pt x="668" y="346"/>
                      </a:lnTo>
                      <a:lnTo>
                        <a:pt x="668" y="340"/>
                      </a:lnTo>
                      <a:lnTo>
                        <a:pt x="674" y="340"/>
                      </a:lnTo>
                      <a:lnTo>
                        <a:pt x="674" y="334"/>
                      </a:lnTo>
                      <a:lnTo>
                        <a:pt x="674" y="328"/>
                      </a:lnTo>
                      <a:lnTo>
                        <a:pt x="674" y="322"/>
                      </a:lnTo>
                      <a:lnTo>
                        <a:pt x="674" y="316"/>
                      </a:lnTo>
                      <a:lnTo>
                        <a:pt x="674" y="310"/>
                      </a:lnTo>
                      <a:lnTo>
                        <a:pt x="674" y="304"/>
                      </a:lnTo>
                      <a:lnTo>
                        <a:pt x="674" y="298"/>
                      </a:lnTo>
                      <a:lnTo>
                        <a:pt x="674" y="292"/>
                      </a:lnTo>
                      <a:lnTo>
                        <a:pt x="674" y="286"/>
                      </a:lnTo>
                      <a:lnTo>
                        <a:pt x="680" y="286"/>
                      </a:lnTo>
                      <a:lnTo>
                        <a:pt x="686" y="286"/>
                      </a:lnTo>
                      <a:lnTo>
                        <a:pt x="686" y="292"/>
                      </a:lnTo>
                      <a:lnTo>
                        <a:pt x="692" y="292"/>
                      </a:lnTo>
                      <a:lnTo>
                        <a:pt x="698" y="292"/>
                      </a:lnTo>
                      <a:lnTo>
                        <a:pt x="704" y="292"/>
                      </a:lnTo>
                      <a:lnTo>
                        <a:pt x="710" y="298"/>
                      </a:lnTo>
                      <a:lnTo>
                        <a:pt x="710" y="304"/>
                      </a:lnTo>
                      <a:lnTo>
                        <a:pt x="716" y="316"/>
                      </a:lnTo>
                      <a:lnTo>
                        <a:pt x="758" y="322"/>
                      </a:lnTo>
                      <a:lnTo>
                        <a:pt x="764" y="316"/>
                      </a:lnTo>
                      <a:lnTo>
                        <a:pt x="764" y="310"/>
                      </a:lnTo>
                      <a:lnTo>
                        <a:pt x="770" y="310"/>
                      </a:lnTo>
                      <a:lnTo>
                        <a:pt x="770" y="304"/>
                      </a:lnTo>
                      <a:lnTo>
                        <a:pt x="770" y="298"/>
                      </a:lnTo>
                      <a:lnTo>
                        <a:pt x="776" y="298"/>
                      </a:lnTo>
                      <a:lnTo>
                        <a:pt x="776" y="292"/>
                      </a:lnTo>
                      <a:lnTo>
                        <a:pt x="776" y="286"/>
                      </a:lnTo>
                      <a:lnTo>
                        <a:pt x="776" y="280"/>
                      </a:lnTo>
                      <a:lnTo>
                        <a:pt x="776" y="274"/>
                      </a:lnTo>
                      <a:lnTo>
                        <a:pt x="782" y="274"/>
                      </a:lnTo>
                      <a:lnTo>
                        <a:pt x="782" y="268"/>
                      </a:lnTo>
                      <a:lnTo>
                        <a:pt x="782" y="262"/>
                      </a:lnTo>
                      <a:lnTo>
                        <a:pt x="782" y="256"/>
                      </a:lnTo>
                      <a:lnTo>
                        <a:pt x="782" y="250"/>
                      </a:lnTo>
                      <a:lnTo>
                        <a:pt x="788" y="244"/>
                      </a:lnTo>
                      <a:lnTo>
                        <a:pt x="788" y="250"/>
                      </a:lnTo>
                      <a:lnTo>
                        <a:pt x="794" y="244"/>
                      </a:lnTo>
                      <a:lnTo>
                        <a:pt x="794" y="238"/>
                      </a:lnTo>
                      <a:lnTo>
                        <a:pt x="794" y="232"/>
                      </a:lnTo>
                      <a:lnTo>
                        <a:pt x="788" y="232"/>
                      </a:lnTo>
                      <a:lnTo>
                        <a:pt x="794" y="232"/>
                      </a:lnTo>
                      <a:lnTo>
                        <a:pt x="788" y="226"/>
                      </a:lnTo>
                      <a:lnTo>
                        <a:pt x="794" y="226"/>
                      </a:lnTo>
                      <a:lnTo>
                        <a:pt x="794" y="220"/>
                      </a:lnTo>
                      <a:lnTo>
                        <a:pt x="794" y="215"/>
                      </a:lnTo>
                      <a:lnTo>
                        <a:pt x="794" y="209"/>
                      </a:lnTo>
                      <a:lnTo>
                        <a:pt x="800" y="203"/>
                      </a:lnTo>
                      <a:lnTo>
                        <a:pt x="800" y="197"/>
                      </a:lnTo>
                      <a:lnTo>
                        <a:pt x="806" y="197"/>
                      </a:lnTo>
                      <a:lnTo>
                        <a:pt x="806" y="191"/>
                      </a:lnTo>
                      <a:lnTo>
                        <a:pt x="812" y="197"/>
                      </a:lnTo>
                      <a:lnTo>
                        <a:pt x="817" y="197"/>
                      </a:lnTo>
                      <a:lnTo>
                        <a:pt x="817" y="203"/>
                      </a:lnTo>
                      <a:lnTo>
                        <a:pt x="823" y="203"/>
                      </a:lnTo>
                      <a:lnTo>
                        <a:pt x="829" y="203"/>
                      </a:lnTo>
                      <a:lnTo>
                        <a:pt x="829" y="209"/>
                      </a:lnTo>
                      <a:lnTo>
                        <a:pt x="835" y="209"/>
                      </a:lnTo>
                      <a:lnTo>
                        <a:pt x="835" y="203"/>
                      </a:lnTo>
                      <a:lnTo>
                        <a:pt x="835" y="197"/>
                      </a:lnTo>
                      <a:lnTo>
                        <a:pt x="841" y="191"/>
                      </a:lnTo>
                      <a:lnTo>
                        <a:pt x="841" y="185"/>
                      </a:lnTo>
                      <a:lnTo>
                        <a:pt x="841" y="179"/>
                      </a:lnTo>
                      <a:lnTo>
                        <a:pt x="841" y="173"/>
                      </a:lnTo>
                      <a:lnTo>
                        <a:pt x="847" y="173"/>
                      </a:lnTo>
                      <a:lnTo>
                        <a:pt x="847" y="167"/>
                      </a:lnTo>
                      <a:lnTo>
                        <a:pt x="853" y="167"/>
                      </a:lnTo>
                      <a:lnTo>
                        <a:pt x="853" y="161"/>
                      </a:lnTo>
                      <a:lnTo>
                        <a:pt x="853" y="155"/>
                      </a:lnTo>
                      <a:lnTo>
                        <a:pt x="859" y="161"/>
                      </a:lnTo>
                      <a:lnTo>
                        <a:pt x="859" y="167"/>
                      </a:lnTo>
                      <a:lnTo>
                        <a:pt x="859" y="161"/>
                      </a:lnTo>
                      <a:lnTo>
                        <a:pt x="865" y="161"/>
                      </a:lnTo>
                      <a:lnTo>
                        <a:pt x="865" y="155"/>
                      </a:lnTo>
                      <a:lnTo>
                        <a:pt x="871" y="155"/>
                      </a:lnTo>
                      <a:lnTo>
                        <a:pt x="871" y="149"/>
                      </a:lnTo>
                      <a:lnTo>
                        <a:pt x="871" y="143"/>
                      </a:lnTo>
                      <a:lnTo>
                        <a:pt x="877" y="137"/>
                      </a:lnTo>
                      <a:lnTo>
                        <a:pt x="877" y="143"/>
                      </a:lnTo>
                      <a:lnTo>
                        <a:pt x="883" y="143"/>
                      </a:lnTo>
                      <a:lnTo>
                        <a:pt x="883" y="137"/>
                      </a:lnTo>
                      <a:lnTo>
                        <a:pt x="883" y="131"/>
                      </a:lnTo>
                      <a:lnTo>
                        <a:pt x="889" y="131"/>
                      </a:lnTo>
                      <a:lnTo>
                        <a:pt x="889" y="125"/>
                      </a:lnTo>
                      <a:lnTo>
                        <a:pt x="883" y="125"/>
                      </a:lnTo>
                      <a:lnTo>
                        <a:pt x="883" y="119"/>
                      </a:lnTo>
                      <a:lnTo>
                        <a:pt x="889" y="119"/>
                      </a:lnTo>
                      <a:lnTo>
                        <a:pt x="889" y="113"/>
                      </a:lnTo>
                      <a:lnTo>
                        <a:pt x="889" y="107"/>
                      </a:lnTo>
                      <a:lnTo>
                        <a:pt x="895" y="107"/>
                      </a:lnTo>
                      <a:lnTo>
                        <a:pt x="895" y="101"/>
                      </a:lnTo>
                      <a:lnTo>
                        <a:pt x="895" y="95"/>
                      </a:lnTo>
                      <a:lnTo>
                        <a:pt x="901" y="95"/>
                      </a:lnTo>
                      <a:lnTo>
                        <a:pt x="907" y="95"/>
                      </a:lnTo>
                      <a:lnTo>
                        <a:pt x="907" y="89"/>
                      </a:lnTo>
                      <a:lnTo>
                        <a:pt x="907" y="83"/>
                      </a:lnTo>
                      <a:lnTo>
                        <a:pt x="913" y="83"/>
                      </a:lnTo>
                      <a:lnTo>
                        <a:pt x="913" y="77"/>
                      </a:lnTo>
                      <a:lnTo>
                        <a:pt x="907" y="77"/>
                      </a:lnTo>
                      <a:lnTo>
                        <a:pt x="907" y="71"/>
                      </a:lnTo>
                      <a:lnTo>
                        <a:pt x="907" y="65"/>
                      </a:lnTo>
                      <a:lnTo>
                        <a:pt x="907" y="59"/>
                      </a:lnTo>
                      <a:lnTo>
                        <a:pt x="907" y="53"/>
                      </a:lnTo>
                      <a:lnTo>
                        <a:pt x="907" y="47"/>
                      </a:lnTo>
                      <a:lnTo>
                        <a:pt x="907" y="41"/>
                      </a:lnTo>
                      <a:lnTo>
                        <a:pt x="913" y="41"/>
                      </a:lnTo>
                      <a:lnTo>
                        <a:pt x="913" y="35"/>
                      </a:lnTo>
                      <a:lnTo>
                        <a:pt x="913" y="30"/>
                      </a:lnTo>
                      <a:lnTo>
                        <a:pt x="913" y="24"/>
                      </a:lnTo>
                      <a:lnTo>
                        <a:pt x="907" y="24"/>
                      </a:lnTo>
                      <a:lnTo>
                        <a:pt x="913" y="24"/>
                      </a:lnTo>
                      <a:lnTo>
                        <a:pt x="913" y="18"/>
                      </a:lnTo>
                      <a:lnTo>
                        <a:pt x="913" y="12"/>
                      </a:lnTo>
                      <a:lnTo>
                        <a:pt x="907" y="12"/>
                      </a:lnTo>
                      <a:lnTo>
                        <a:pt x="907" y="6"/>
                      </a:lnTo>
                      <a:lnTo>
                        <a:pt x="907" y="0"/>
                      </a:lnTo>
                      <a:lnTo>
                        <a:pt x="913" y="0"/>
                      </a:lnTo>
                      <a:lnTo>
                        <a:pt x="919" y="0"/>
                      </a:lnTo>
                      <a:lnTo>
                        <a:pt x="925" y="0"/>
                      </a:lnTo>
                      <a:lnTo>
                        <a:pt x="925" y="6"/>
                      </a:lnTo>
                      <a:lnTo>
                        <a:pt x="931" y="6"/>
                      </a:lnTo>
                      <a:lnTo>
                        <a:pt x="937" y="12"/>
                      </a:lnTo>
                      <a:lnTo>
                        <a:pt x="985" y="35"/>
                      </a:lnTo>
                      <a:lnTo>
                        <a:pt x="1032" y="6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69"/>
                <p:cNvSpPr/>
                <p:nvPr/>
              </p:nvSpPr>
              <p:spPr>
                <a:xfrm>
                  <a:off x="7740720" y="4530240"/>
                  <a:ext cx="23760" cy="57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24" h="59">
                      <a:moveTo>
                        <a:pt x="18" y="35"/>
                      </a:moveTo>
                      <a:lnTo>
                        <a:pt x="12" y="35"/>
                      </a:lnTo>
                      <a:lnTo>
                        <a:pt x="12" y="29"/>
                      </a:lnTo>
                      <a:lnTo>
                        <a:pt x="12" y="23"/>
                      </a:lnTo>
                      <a:lnTo>
                        <a:pt x="12" y="29"/>
                      </a:lnTo>
                      <a:lnTo>
                        <a:pt x="6" y="29"/>
                      </a:lnTo>
                      <a:lnTo>
                        <a:pt x="6" y="23"/>
                      </a:lnTo>
                      <a:lnTo>
                        <a:pt x="6" y="29"/>
                      </a:lnTo>
                      <a:lnTo>
                        <a:pt x="12" y="29"/>
                      </a:lnTo>
                      <a:lnTo>
                        <a:pt x="12" y="35"/>
                      </a:lnTo>
                      <a:lnTo>
                        <a:pt x="12" y="41"/>
                      </a:lnTo>
                      <a:lnTo>
                        <a:pt x="12" y="35"/>
                      </a:lnTo>
                      <a:lnTo>
                        <a:pt x="6" y="35"/>
                      </a:lnTo>
                      <a:lnTo>
                        <a:pt x="6" y="41"/>
                      </a:lnTo>
                      <a:lnTo>
                        <a:pt x="12" y="41"/>
                      </a:lnTo>
                      <a:lnTo>
                        <a:pt x="12" y="47"/>
                      </a:lnTo>
                      <a:lnTo>
                        <a:pt x="6" y="47"/>
                      </a:lnTo>
                      <a:lnTo>
                        <a:pt x="6" y="53"/>
                      </a:lnTo>
                      <a:lnTo>
                        <a:pt x="6" y="59"/>
                      </a:lnTo>
                      <a:lnTo>
                        <a:pt x="0" y="59"/>
                      </a:lnTo>
                      <a:lnTo>
                        <a:pt x="0" y="53"/>
                      </a:lnTo>
                      <a:lnTo>
                        <a:pt x="6" y="47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6" y="17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1"/>
                      </a:lnTo>
                      <a:lnTo>
                        <a:pt x="12" y="17"/>
                      </a:lnTo>
                      <a:lnTo>
                        <a:pt x="18" y="17"/>
                      </a:lnTo>
                      <a:lnTo>
                        <a:pt x="24" y="17"/>
                      </a:lnTo>
                      <a:lnTo>
                        <a:pt x="24" y="23"/>
                      </a:lnTo>
                      <a:lnTo>
                        <a:pt x="18" y="23"/>
                      </a:lnTo>
                      <a:lnTo>
                        <a:pt x="24" y="23"/>
                      </a:lnTo>
                      <a:lnTo>
                        <a:pt x="24" y="29"/>
                      </a:lnTo>
                      <a:lnTo>
                        <a:pt x="24" y="35"/>
                      </a:lnTo>
                      <a:lnTo>
                        <a:pt x="24" y="29"/>
                      </a:lnTo>
                      <a:lnTo>
                        <a:pt x="18" y="29"/>
                      </a:lnTo>
                      <a:lnTo>
                        <a:pt x="18" y="23"/>
                      </a:lnTo>
                      <a:lnTo>
                        <a:pt x="18" y="29"/>
                      </a:lnTo>
                      <a:lnTo>
                        <a:pt x="18" y="3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170"/>
                <p:cNvSpPr/>
                <p:nvPr/>
              </p:nvSpPr>
              <p:spPr>
                <a:xfrm>
                  <a:off x="7782480" y="456444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171"/>
                <p:cNvSpPr/>
                <p:nvPr/>
              </p:nvSpPr>
              <p:spPr>
                <a:xfrm>
                  <a:off x="7579440" y="4576320"/>
                  <a:ext cx="47520" cy="522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8" h="54">
                      <a:moveTo>
                        <a:pt x="0" y="18"/>
                      </a:moveTo>
                      <a:lnTo>
                        <a:pt x="12" y="0"/>
                      </a:lnTo>
                      <a:lnTo>
                        <a:pt x="24" y="6"/>
                      </a:lnTo>
                      <a:lnTo>
                        <a:pt x="48" y="24"/>
                      </a:lnTo>
                      <a:lnTo>
                        <a:pt x="24" y="54"/>
                      </a:lnTo>
                      <a:lnTo>
                        <a:pt x="24" y="48"/>
                      </a:lnTo>
                      <a:lnTo>
                        <a:pt x="24" y="42"/>
                      </a:lnTo>
                      <a:lnTo>
                        <a:pt x="24" y="36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Rectangle 172"/>
                <p:cNvSpPr/>
                <p:nvPr/>
              </p:nvSpPr>
              <p:spPr>
                <a:xfrm>
                  <a:off x="7746480" y="4610880"/>
                  <a:ext cx="612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173"/>
                <p:cNvSpPr/>
                <p:nvPr/>
              </p:nvSpPr>
              <p:spPr>
                <a:xfrm>
                  <a:off x="8045640" y="4634280"/>
                  <a:ext cx="5760" cy="349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6" h="36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6" y="3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174"/>
                <p:cNvSpPr/>
                <p:nvPr/>
              </p:nvSpPr>
              <p:spPr>
                <a:xfrm>
                  <a:off x="8027280" y="4669200"/>
                  <a:ext cx="18000" cy="8604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8" h="89">
                      <a:moveTo>
                        <a:pt x="18" y="0"/>
                      </a:move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12" y="48"/>
                      </a:lnTo>
                      <a:lnTo>
                        <a:pt x="12" y="53"/>
                      </a:lnTo>
                      <a:lnTo>
                        <a:pt x="12" y="59"/>
                      </a:lnTo>
                      <a:lnTo>
                        <a:pt x="12" y="65"/>
                      </a:lnTo>
                      <a:lnTo>
                        <a:pt x="12" y="71"/>
                      </a:lnTo>
                      <a:lnTo>
                        <a:pt x="12" y="77"/>
                      </a:lnTo>
                      <a:lnTo>
                        <a:pt x="6" y="77"/>
                      </a:lnTo>
                      <a:lnTo>
                        <a:pt x="6" y="83"/>
                      </a:lnTo>
                      <a:lnTo>
                        <a:pt x="6" y="89"/>
                      </a:lnTo>
                      <a:lnTo>
                        <a:pt x="0" y="89"/>
                      </a:lnTo>
                      <a:lnTo>
                        <a:pt x="6" y="89"/>
                      </a:lnTo>
                      <a:lnTo>
                        <a:pt x="6" y="83"/>
                      </a:lnTo>
                      <a:lnTo>
                        <a:pt x="6" y="77"/>
                      </a:lnTo>
                      <a:lnTo>
                        <a:pt x="6" y="71"/>
                      </a:lnTo>
                      <a:lnTo>
                        <a:pt x="6" y="65"/>
                      </a:lnTo>
                      <a:lnTo>
                        <a:pt x="12" y="59"/>
                      </a:lnTo>
                      <a:lnTo>
                        <a:pt x="6" y="53"/>
                      </a:ln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175"/>
                <p:cNvSpPr/>
                <p:nvPr/>
              </p:nvSpPr>
              <p:spPr>
                <a:xfrm>
                  <a:off x="7800480" y="4716000"/>
                  <a:ext cx="11880" cy="104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12" h="11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12" y="5"/>
                      </a:lnTo>
                      <a:lnTo>
                        <a:pt x="12" y="11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176"/>
                <p:cNvSpPr/>
                <p:nvPr/>
              </p:nvSpPr>
              <p:spPr>
                <a:xfrm>
                  <a:off x="7794360" y="4716000"/>
                  <a:ext cx="11880" cy="104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12" h="1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12" y="11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177"/>
                <p:cNvSpPr/>
                <p:nvPr/>
              </p:nvSpPr>
              <p:spPr>
                <a:xfrm>
                  <a:off x="7561440" y="4716000"/>
                  <a:ext cx="6120" cy="277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6" h="29">
                      <a:moveTo>
                        <a:pt x="6" y="29"/>
                      </a:moveTo>
                      <a:lnTo>
                        <a:pt x="6" y="23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6" y="5"/>
                      </a:lnTo>
                      <a:lnTo>
                        <a:pt x="6" y="0"/>
                      </a:ln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6" y="17"/>
                      </a:lnTo>
                      <a:lnTo>
                        <a:pt x="6" y="23"/>
                      </a:lnTo>
                      <a:lnTo>
                        <a:pt x="6" y="2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78"/>
                <p:cNvSpPr/>
                <p:nvPr/>
              </p:nvSpPr>
              <p:spPr>
                <a:xfrm>
                  <a:off x="7812360" y="472680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79"/>
                <p:cNvSpPr/>
                <p:nvPr/>
              </p:nvSpPr>
              <p:spPr>
                <a:xfrm>
                  <a:off x="7621560" y="473256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180"/>
                <p:cNvSpPr/>
                <p:nvPr/>
              </p:nvSpPr>
              <p:spPr>
                <a:xfrm>
                  <a:off x="7609320" y="474408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81"/>
                <p:cNvSpPr/>
                <p:nvPr/>
              </p:nvSpPr>
              <p:spPr>
                <a:xfrm>
                  <a:off x="7842240" y="474408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12" y="6"/>
                      </a:moveTo>
                      <a:lnTo>
                        <a:pt x="18" y="6"/>
                      </a:lnTo>
                      <a:lnTo>
                        <a:pt x="12" y="12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182"/>
                <p:cNvSpPr/>
                <p:nvPr/>
              </p:nvSpPr>
              <p:spPr>
                <a:xfrm>
                  <a:off x="7567560" y="475020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183"/>
                <p:cNvSpPr/>
                <p:nvPr/>
              </p:nvSpPr>
              <p:spPr>
                <a:xfrm>
                  <a:off x="8009640" y="475020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184"/>
                <p:cNvSpPr/>
                <p:nvPr/>
              </p:nvSpPr>
              <p:spPr>
                <a:xfrm>
                  <a:off x="8009640" y="4755600"/>
                  <a:ext cx="23760" cy="464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4" h="48">
                      <a:moveTo>
                        <a:pt x="18" y="0"/>
                      </a:moveTo>
                      <a:lnTo>
                        <a:pt x="24" y="0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2" y="30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12" y="48"/>
                      </a:lnTo>
                      <a:lnTo>
                        <a:pt x="6" y="48"/>
                      </a:ln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6" y="36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185"/>
                <p:cNvSpPr/>
                <p:nvPr/>
              </p:nvSpPr>
              <p:spPr>
                <a:xfrm>
                  <a:off x="7579440" y="4755600"/>
                  <a:ext cx="17640" cy="57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86"/>
                <p:cNvSpPr/>
                <p:nvPr/>
              </p:nvSpPr>
              <p:spPr>
                <a:xfrm>
                  <a:off x="7639560" y="476172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87"/>
                <p:cNvSpPr/>
                <p:nvPr/>
              </p:nvSpPr>
              <p:spPr>
                <a:xfrm>
                  <a:off x="7860600" y="476172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188"/>
                <p:cNvSpPr/>
                <p:nvPr/>
              </p:nvSpPr>
              <p:spPr>
                <a:xfrm>
                  <a:off x="7675560" y="476172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189"/>
                <p:cNvSpPr/>
                <p:nvPr/>
              </p:nvSpPr>
              <p:spPr>
                <a:xfrm>
                  <a:off x="7907400" y="4761720"/>
                  <a:ext cx="95760" cy="26676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96" h="275">
                      <a:moveTo>
                        <a:pt x="42" y="30"/>
                      </a:moveTo>
                      <a:lnTo>
                        <a:pt x="42" y="24"/>
                      </a:lnTo>
                      <a:lnTo>
                        <a:pt x="42" y="18"/>
                      </a:lnTo>
                      <a:lnTo>
                        <a:pt x="96" y="6"/>
                      </a:lnTo>
                      <a:lnTo>
                        <a:pt x="96" y="0"/>
                      </a:lnTo>
                      <a:lnTo>
                        <a:pt x="96" y="6"/>
                      </a:lnTo>
                      <a:lnTo>
                        <a:pt x="90" y="12"/>
                      </a:lnTo>
                      <a:lnTo>
                        <a:pt x="96" y="12"/>
                      </a:lnTo>
                      <a:lnTo>
                        <a:pt x="90" y="12"/>
                      </a:lnTo>
                      <a:lnTo>
                        <a:pt x="90" y="18"/>
                      </a:lnTo>
                      <a:lnTo>
                        <a:pt x="90" y="24"/>
                      </a:lnTo>
                      <a:lnTo>
                        <a:pt x="90" y="30"/>
                      </a:lnTo>
                      <a:lnTo>
                        <a:pt x="84" y="30"/>
                      </a:lnTo>
                      <a:lnTo>
                        <a:pt x="90" y="30"/>
                      </a:lnTo>
                      <a:lnTo>
                        <a:pt x="90" y="36"/>
                      </a:lnTo>
                      <a:lnTo>
                        <a:pt x="90" y="42"/>
                      </a:lnTo>
                      <a:lnTo>
                        <a:pt x="84" y="42"/>
                      </a:lnTo>
                      <a:lnTo>
                        <a:pt x="84" y="36"/>
                      </a:lnTo>
                      <a:lnTo>
                        <a:pt x="78" y="42"/>
                      </a:lnTo>
                      <a:lnTo>
                        <a:pt x="78" y="48"/>
                      </a:lnTo>
                      <a:lnTo>
                        <a:pt x="84" y="48"/>
                      </a:lnTo>
                      <a:lnTo>
                        <a:pt x="84" y="54"/>
                      </a:lnTo>
                      <a:lnTo>
                        <a:pt x="84" y="60"/>
                      </a:lnTo>
                      <a:lnTo>
                        <a:pt x="78" y="60"/>
                      </a:lnTo>
                      <a:lnTo>
                        <a:pt x="78" y="54"/>
                      </a:lnTo>
                      <a:lnTo>
                        <a:pt x="84" y="54"/>
                      </a:lnTo>
                      <a:lnTo>
                        <a:pt x="78" y="54"/>
                      </a:lnTo>
                      <a:lnTo>
                        <a:pt x="78" y="60"/>
                      </a:lnTo>
                      <a:lnTo>
                        <a:pt x="78" y="66"/>
                      </a:lnTo>
                      <a:lnTo>
                        <a:pt x="78" y="72"/>
                      </a:lnTo>
                      <a:lnTo>
                        <a:pt x="78" y="78"/>
                      </a:lnTo>
                      <a:lnTo>
                        <a:pt x="72" y="78"/>
                      </a:lnTo>
                      <a:lnTo>
                        <a:pt x="72" y="84"/>
                      </a:lnTo>
                      <a:lnTo>
                        <a:pt x="72" y="90"/>
                      </a:lnTo>
                      <a:lnTo>
                        <a:pt x="66" y="90"/>
                      </a:lnTo>
                      <a:lnTo>
                        <a:pt x="66" y="96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72" y="108"/>
                      </a:lnTo>
                      <a:lnTo>
                        <a:pt x="66" y="108"/>
                      </a:lnTo>
                      <a:lnTo>
                        <a:pt x="66" y="114"/>
                      </a:lnTo>
                      <a:lnTo>
                        <a:pt x="60" y="114"/>
                      </a:lnTo>
                      <a:lnTo>
                        <a:pt x="60" y="120"/>
                      </a:lnTo>
                      <a:lnTo>
                        <a:pt x="60" y="126"/>
                      </a:lnTo>
                      <a:lnTo>
                        <a:pt x="60" y="132"/>
                      </a:lnTo>
                      <a:lnTo>
                        <a:pt x="54" y="132"/>
                      </a:lnTo>
                      <a:lnTo>
                        <a:pt x="54" y="137"/>
                      </a:lnTo>
                      <a:lnTo>
                        <a:pt x="60" y="137"/>
                      </a:lnTo>
                      <a:lnTo>
                        <a:pt x="66" y="137"/>
                      </a:lnTo>
                      <a:lnTo>
                        <a:pt x="66" y="143"/>
                      </a:lnTo>
                      <a:lnTo>
                        <a:pt x="66" y="137"/>
                      </a:lnTo>
                      <a:lnTo>
                        <a:pt x="60" y="137"/>
                      </a:lnTo>
                      <a:lnTo>
                        <a:pt x="60" y="143"/>
                      </a:lnTo>
                      <a:lnTo>
                        <a:pt x="60" y="149"/>
                      </a:lnTo>
                      <a:lnTo>
                        <a:pt x="54" y="149"/>
                      </a:lnTo>
                      <a:lnTo>
                        <a:pt x="54" y="143"/>
                      </a:lnTo>
                      <a:lnTo>
                        <a:pt x="48" y="143"/>
                      </a:lnTo>
                      <a:lnTo>
                        <a:pt x="48" y="149"/>
                      </a:lnTo>
                      <a:lnTo>
                        <a:pt x="48" y="155"/>
                      </a:lnTo>
                      <a:lnTo>
                        <a:pt x="48" y="161"/>
                      </a:lnTo>
                      <a:lnTo>
                        <a:pt x="54" y="161"/>
                      </a:lnTo>
                      <a:lnTo>
                        <a:pt x="60" y="161"/>
                      </a:lnTo>
                      <a:lnTo>
                        <a:pt x="54" y="161"/>
                      </a:lnTo>
                      <a:lnTo>
                        <a:pt x="54" y="167"/>
                      </a:lnTo>
                      <a:lnTo>
                        <a:pt x="48" y="167"/>
                      </a:lnTo>
                      <a:lnTo>
                        <a:pt x="48" y="161"/>
                      </a:lnTo>
                      <a:lnTo>
                        <a:pt x="42" y="161"/>
                      </a:lnTo>
                      <a:lnTo>
                        <a:pt x="42" y="167"/>
                      </a:lnTo>
                      <a:lnTo>
                        <a:pt x="36" y="167"/>
                      </a:lnTo>
                      <a:lnTo>
                        <a:pt x="36" y="173"/>
                      </a:lnTo>
                      <a:lnTo>
                        <a:pt x="36" y="179"/>
                      </a:lnTo>
                      <a:lnTo>
                        <a:pt x="36" y="185"/>
                      </a:lnTo>
                      <a:lnTo>
                        <a:pt x="42" y="185"/>
                      </a:lnTo>
                      <a:lnTo>
                        <a:pt x="42" y="191"/>
                      </a:lnTo>
                      <a:lnTo>
                        <a:pt x="36" y="191"/>
                      </a:lnTo>
                      <a:lnTo>
                        <a:pt x="36" y="185"/>
                      </a:lnTo>
                      <a:lnTo>
                        <a:pt x="36" y="191"/>
                      </a:lnTo>
                      <a:lnTo>
                        <a:pt x="30" y="191"/>
                      </a:lnTo>
                      <a:lnTo>
                        <a:pt x="30" y="197"/>
                      </a:lnTo>
                      <a:lnTo>
                        <a:pt x="30" y="203"/>
                      </a:lnTo>
                      <a:lnTo>
                        <a:pt x="24" y="203"/>
                      </a:lnTo>
                      <a:lnTo>
                        <a:pt x="24" y="209"/>
                      </a:lnTo>
                      <a:lnTo>
                        <a:pt x="24" y="203"/>
                      </a:lnTo>
                      <a:lnTo>
                        <a:pt x="24" y="209"/>
                      </a:lnTo>
                      <a:lnTo>
                        <a:pt x="24" y="215"/>
                      </a:lnTo>
                      <a:lnTo>
                        <a:pt x="24" y="221"/>
                      </a:lnTo>
                      <a:lnTo>
                        <a:pt x="24" y="227"/>
                      </a:lnTo>
                      <a:lnTo>
                        <a:pt x="24" y="233"/>
                      </a:lnTo>
                      <a:lnTo>
                        <a:pt x="24" y="239"/>
                      </a:lnTo>
                      <a:lnTo>
                        <a:pt x="24" y="245"/>
                      </a:lnTo>
                      <a:lnTo>
                        <a:pt x="30" y="245"/>
                      </a:lnTo>
                      <a:lnTo>
                        <a:pt x="30" y="251"/>
                      </a:lnTo>
                      <a:lnTo>
                        <a:pt x="24" y="251"/>
                      </a:lnTo>
                      <a:lnTo>
                        <a:pt x="24" y="257"/>
                      </a:lnTo>
                      <a:lnTo>
                        <a:pt x="24" y="263"/>
                      </a:lnTo>
                      <a:lnTo>
                        <a:pt x="30" y="263"/>
                      </a:lnTo>
                      <a:lnTo>
                        <a:pt x="30" y="269"/>
                      </a:lnTo>
                      <a:lnTo>
                        <a:pt x="30" y="275"/>
                      </a:lnTo>
                      <a:lnTo>
                        <a:pt x="24" y="275"/>
                      </a:lnTo>
                      <a:lnTo>
                        <a:pt x="18" y="269"/>
                      </a:lnTo>
                      <a:lnTo>
                        <a:pt x="18" y="263"/>
                      </a:lnTo>
                      <a:lnTo>
                        <a:pt x="12" y="257"/>
                      </a:lnTo>
                      <a:lnTo>
                        <a:pt x="6" y="257"/>
                      </a:lnTo>
                      <a:lnTo>
                        <a:pt x="6" y="251"/>
                      </a:lnTo>
                      <a:lnTo>
                        <a:pt x="6" y="245"/>
                      </a:lnTo>
                      <a:lnTo>
                        <a:pt x="12" y="245"/>
                      </a:lnTo>
                      <a:lnTo>
                        <a:pt x="12" y="239"/>
                      </a:lnTo>
                      <a:lnTo>
                        <a:pt x="6" y="239"/>
                      </a:lnTo>
                      <a:lnTo>
                        <a:pt x="6" y="245"/>
                      </a:lnTo>
                      <a:lnTo>
                        <a:pt x="6" y="239"/>
                      </a:lnTo>
                      <a:lnTo>
                        <a:pt x="0" y="239"/>
                      </a:lnTo>
                      <a:lnTo>
                        <a:pt x="0" y="233"/>
                      </a:lnTo>
                      <a:lnTo>
                        <a:pt x="6" y="233"/>
                      </a:lnTo>
                      <a:lnTo>
                        <a:pt x="0" y="233"/>
                      </a:lnTo>
                      <a:lnTo>
                        <a:pt x="0" y="227"/>
                      </a:lnTo>
                      <a:lnTo>
                        <a:pt x="6" y="227"/>
                      </a:lnTo>
                      <a:lnTo>
                        <a:pt x="6" y="221"/>
                      </a:lnTo>
                      <a:lnTo>
                        <a:pt x="12" y="221"/>
                      </a:lnTo>
                      <a:lnTo>
                        <a:pt x="6" y="221"/>
                      </a:lnTo>
                      <a:lnTo>
                        <a:pt x="6" y="215"/>
                      </a:lnTo>
                      <a:lnTo>
                        <a:pt x="6" y="221"/>
                      </a:lnTo>
                      <a:lnTo>
                        <a:pt x="0" y="221"/>
                      </a:lnTo>
                      <a:lnTo>
                        <a:pt x="0" y="227"/>
                      </a:lnTo>
                      <a:lnTo>
                        <a:pt x="0" y="221"/>
                      </a:lnTo>
                      <a:lnTo>
                        <a:pt x="0" y="215"/>
                      </a:lnTo>
                      <a:lnTo>
                        <a:pt x="6" y="209"/>
                      </a:lnTo>
                      <a:lnTo>
                        <a:pt x="0" y="203"/>
                      </a:lnTo>
                      <a:lnTo>
                        <a:pt x="6" y="203"/>
                      </a:lnTo>
                      <a:lnTo>
                        <a:pt x="12" y="203"/>
                      </a:lnTo>
                      <a:lnTo>
                        <a:pt x="6" y="203"/>
                      </a:lnTo>
                      <a:lnTo>
                        <a:pt x="6" y="197"/>
                      </a:lnTo>
                      <a:lnTo>
                        <a:pt x="6" y="191"/>
                      </a:lnTo>
                      <a:lnTo>
                        <a:pt x="12" y="191"/>
                      </a:lnTo>
                      <a:lnTo>
                        <a:pt x="6" y="191"/>
                      </a:lnTo>
                      <a:lnTo>
                        <a:pt x="12" y="191"/>
                      </a:lnTo>
                      <a:lnTo>
                        <a:pt x="12" y="185"/>
                      </a:lnTo>
                      <a:lnTo>
                        <a:pt x="6" y="185"/>
                      </a:lnTo>
                      <a:lnTo>
                        <a:pt x="6" y="191"/>
                      </a:lnTo>
                      <a:lnTo>
                        <a:pt x="0" y="191"/>
                      </a:lnTo>
                      <a:lnTo>
                        <a:pt x="0" y="197"/>
                      </a:lnTo>
                      <a:lnTo>
                        <a:pt x="0" y="191"/>
                      </a:lnTo>
                      <a:lnTo>
                        <a:pt x="0" y="185"/>
                      </a:lnTo>
                      <a:lnTo>
                        <a:pt x="6" y="179"/>
                      </a:lnTo>
                      <a:lnTo>
                        <a:pt x="12" y="179"/>
                      </a:lnTo>
                      <a:lnTo>
                        <a:pt x="6" y="179"/>
                      </a:lnTo>
                      <a:lnTo>
                        <a:pt x="6" y="173"/>
                      </a:lnTo>
                      <a:lnTo>
                        <a:pt x="12" y="173"/>
                      </a:lnTo>
                      <a:lnTo>
                        <a:pt x="18" y="173"/>
                      </a:lnTo>
                      <a:lnTo>
                        <a:pt x="12" y="173"/>
                      </a:lnTo>
                      <a:lnTo>
                        <a:pt x="12" y="167"/>
                      </a:lnTo>
                      <a:lnTo>
                        <a:pt x="18" y="167"/>
                      </a:lnTo>
                      <a:lnTo>
                        <a:pt x="12" y="167"/>
                      </a:lnTo>
                      <a:lnTo>
                        <a:pt x="18" y="161"/>
                      </a:lnTo>
                      <a:lnTo>
                        <a:pt x="12" y="161"/>
                      </a:lnTo>
                      <a:lnTo>
                        <a:pt x="12" y="167"/>
                      </a:lnTo>
                      <a:lnTo>
                        <a:pt x="6" y="173"/>
                      </a:lnTo>
                      <a:lnTo>
                        <a:pt x="6" y="179"/>
                      </a:lnTo>
                      <a:lnTo>
                        <a:pt x="0" y="179"/>
                      </a:lnTo>
                      <a:lnTo>
                        <a:pt x="0" y="173"/>
                      </a:lnTo>
                      <a:lnTo>
                        <a:pt x="0" y="167"/>
                      </a:lnTo>
                      <a:lnTo>
                        <a:pt x="6" y="161"/>
                      </a:lnTo>
                      <a:lnTo>
                        <a:pt x="6" y="155"/>
                      </a:lnTo>
                      <a:lnTo>
                        <a:pt x="6" y="161"/>
                      </a:lnTo>
                      <a:lnTo>
                        <a:pt x="6" y="155"/>
                      </a:lnTo>
                      <a:lnTo>
                        <a:pt x="12" y="155"/>
                      </a:lnTo>
                      <a:lnTo>
                        <a:pt x="18" y="155"/>
                      </a:lnTo>
                      <a:lnTo>
                        <a:pt x="24" y="155"/>
                      </a:lnTo>
                      <a:lnTo>
                        <a:pt x="24" y="149"/>
                      </a:lnTo>
                      <a:lnTo>
                        <a:pt x="18" y="149"/>
                      </a:lnTo>
                      <a:lnTo>
                        <a:pt x="18" y="155"/>
                      </a:lnTo>
                      <a:lnTo>
                        <a:pt x="12" y="149"/>
                      </a:lnTo>
                      <a:lnTo>
                        <a:pt x="6" y="149"/>
                      </a:lnTo>
                      <a:lnTo>
                        <a:pt x="6" y="155"/>
                      </a:lnTo>
                      <a:lnTo>
                        <a:pt x="0" y="155"/>
                      </a:lnTo>
                      <a:lnTo>
                        <a:pt x="0" y="149"/>
                      </a:lnTo>
                      <a:lnTo>
                        <a:pt x="6" y="149"/>
                      </a:lnTo>
                      <a:lnTo>
                        <a:pt x="12" y="149"/>
                      </a:lnTo>
                      <a:lnTo>
                        <a:pt x="12" y="143"/>
                      </a:lnTo>
                      <a:lnTo>
                        <a:pt x="6" y="143"/>
                      </a:lnTo>
                      <a:lnTo>
                        <a:pt x="0" y="143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32"/>
                      </a:lnTo>
                      <a:lnTo>
                        <a:pt x="6" y="137"/>
                      </a:lnTo>
                      <a:lnTo>
                        <a:pt x="12" y="137"/>
                      </a:lnTo>
                      <a:lnTo>
                        <a:pt x="18" y="137"/>
                      </a:lnTo>
                      <a:lnTo>
                        <a:pt x="12" y="137"/>
                      </a:lnTo>
                      <a:lnTo>
                        <a:pt x="18" y="137"/>
                      </a:lnTo>
                      <a:lnTo>
                        <a:pt x="18" y="132"/>
                      </a:lnTo>
                      <a:lnTo>
                        <a:pt x="24" y="132"/>
                      </a:lnTo>
                      <a:lnTo>
                        <a:pt x="24" y="126"/>
                      </a:lnTo>
                      <a:lnTo>
                        <a:pt x="18" y="132"/>
                      </a:lnTo>
                      <a:lnTo>
                        <a:pt x="12" y="132"/>
                      </a:lnTo>
                      <a:lnTo>
                        <a:pt x="12" y="137"/>
                      </a:lnTo>
                      <a:lnTo>
                        <a:pt x="12" y="132"/>
                      </a:lnTo>
                      <a:lnTo>
                        <a:pt x="6" y="132"/>
                      </a:lnTo>
                      <a:lnTo>
                        <a:pt x="6" y="126"/>
                      </a:lnTo>
                      <a:lnTo>
                        <a:pt x="12" y="126"/>
                      </a:lnTo>
                      <a:lnTo>
                        <a:pt x="12" y="120"/>
                      </a:lnTo>
                      <a:lnTo>
                        <a:pt x="18" y="120"/>
                      </a:lnTo>
                      <a:lnTo>
                        <a:pt x="24" y="126"/>
                      </a:lnTo>
                      <a:lnTo>
                        <a:pt x="24" y="120"/>
                      </a:lnTo>
                      <a:lnTo>
                        <a:pt x="30" y="120"/>
                      </a:lnTo>
                      <a:lnTo>
                        <a:pt x="30" y="114"/>
                      </a:lnTo>
                      <a:lnTo>
                        <a:pt x="24" y="114"/>
                      </a:lnTo>
                      <a:lnTo>
                        <a:pt x="24" y="120"/>
                      </a:lnTo>
                      <a:lnTo>
                        <a:pt x="18" y="120"/>
                      </a:lnTo>
                      <a:lnTo>
                        <a:pt x="12" y="114"/>
                      </a:lnTo>
                      <a:lnTo>
                        <a:pt x="18" y="114"/>
                      </a:lnTo>
                      <a:lnTo>
                        <a:pt x="12" y="114"/>
                      </a:lnTo>
                      <a:lnTo>
                        <a:pt x="18" y="114"/>
                      </a:lnTo>
                      <a:lnTo>
                        <a:pt x="18" y="108"/>
                      </a:lnTo>
                      <a:lnTo>
                        <a:pt x="18" y="102"/>
                      </a:lnTo>
                      <a:lnTo>
                        <a:pt x="24" y="108"/>
                      </a:lnTo>
                      <a:lnTo>
                        <a:pt x="24" y="102"/>
                      </a:lnTo>
                      <a:lnTo>
                        <a:pt x="24" y="108"/>
                      </a:lnTo>
                      <a:lnTo>
                        <a:pt x="30" y="108"/>
                      </a:lnTo>
                      <a:lnTo>
                        <a:pt x="36" y="108"/>
                      </a:lnTo>
                      <a:lnTo>
                        <a:pt x="36" y="102"/>
                      </a:lnTo>
                      <a:lnTo>
                        <a:pt x="30" y="102"/>
                      </a:lnTo>
                      <a:lnTo>
                        <a:pt x="24" y="102"/>
                      </a:lnTo>
                      <a:lnTo>
                        <a:pt x="18" y="102"/>
                      </a:lnTo>
                      <a:lnTo>
                        <a:pt x="18" y="96"/>
                      </a:lnTo>
                      <a:lnTo>
                        <a:pt x="24" y="96"/>
                      </a:lnTo>
                      <a:lnTo>
                        <a:pt x="24" y="90"/>
                      </a:lnTo>
                      <a:lnTo>
                        <a:pt x="24" y="96"/>
                      </a:lnTo>
                      <a:lnTo>
                        <a:pt x="30" y="96"/>
                      </a:lnTo>
                      <a:lnTo>
                        <a:pt x="30" y="90"/>
                      </a:lnTo>
                      <a:lnTo>
                        <a:pt x="24" y="90"/>
                      </a:lnTo>
                      <a:lnTo>
                        <a:pt x="24" y="84"/>
                      </a:lnTo>
                      <a:lnTo>
                        <a:pt x="18" y="84"/>
                      </a:lnTo>
                      <a:lnTo>
                        <a:pt x="18" y="90"/>
                      </a:lnTo>
                      <a:lnTo>
                        <a:pt x="18" y="84"/>
                      </a:lnTo>
                      <a:lnTo>
                        <a:pt x="18" y="78"/>
                      </a:lnTo>
                      <a:lnTo>
                        <a:pt x="24" y="78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0" y="78"/>
                      </a:lnTo>
                      <a:lnTo>
                        <a:pt x="30" y="84"/>
                      </a:lnTo>
                      <a:lnTo>
                        <a:pt x="30" y="90"/>
                      </a:lnTo>
                      <a:lnTo>
                        <a:pt x="30" y="84"/>
                      </a:lnTo>
                      <a:lnTo>
                        <a:pt x="36" y="84"/>
                      </a:lnTo>
                      <a:lnTo>
                        <a:pt x="36" y="78"/>
                      </a:lnTo>
                      <a:lnTo>
                        <a:pt x="36" y="84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42" y="72"/>
                      </a:lnTo>
                      <a:lnTo>
                        <a:pt x="36" y="78"/>
                      </a:lnTo>
                      <a:lnTo>
                        <a:pt x="36" y="72"/>
                      </a:lnTo>
                      <a:lnTo>
                        <a:pt x="36" y="66"/>
                      </a:lnTo>
                      <a:lnTo>
                        <a:pt x="36" y="60"/>
                      </a:lnTo>
                      <a:lnTo>
                        <a:pt x="36" y="66"/>
                      </a:lnTo>
                      <a:lnTo>
                        <a:pt x="42" y="66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8" y="66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8" y="60"/>
                      </a:lnTo>
                      <a:lnTo>
                        <a:pt x="42" y="60"/>
                      </a:lnTo>
                      <a:lnTo>
                        <a:pt x="36" y="60"/>
                      </a:lnTo>
                      <a:lnTo>
                        <a:pt x="42" y="54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6" y="54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4" y="54"/>
                      </a:lnTo>
                      <a:lnTo>
                        <a:pt x="24" y="48"/>
                      </a:lnTo>
                      <a:lnTo>
                        <a:pt x="24" y="42"/>
                      </a:lnTo>
                      <a:lnTo>
                        <a:pt x="30" y="42"/>
                      </a:lnTo>
                      <a:lnTo>
                        <a:pt x="30" y="36"/>
                      </a:lnTo>
                      <a:lnTo>
                        <a:pt x="30" y="42"/>
                      </a:lnTo>
                      <a:lnTo>
                        <a:pt x="36" y="42"/>
                      </a:lnTo>
                      <a:lnTo>
                        <a:pt x="36" y="36"/>
                      </a:lnTo>
                      <a:lnTo>
                        <a:pt x="42" y="36"/>
                      </a:lnTo>
                      <a:lnTo>
                        <a:pt x="42" y="3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190"/>
                <p:cNvSpPr/>
                <p:nvPr/>
              </p:nvSpPr>
              <p:spPr>
                <a:xfrm>
                  <a:off x="7860600" y="476748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6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191"/>
                <p:cNvSpPr/>
                <p:nvPr/>
              </p:nvSpPr>
              <p:spPr>
                <a:xfrm>
                  <a:off x="8003520" y="4767480"/>
                  <a:ext cx="18000" cy="291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12" y="24"/>
                      </a:move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192"/>
                <p:cNvSpPr/>
                <p:nvPr/>
              </p:nvSpPr>
              <p:spPr>
                <a:xfrm>
                  <a:off x="7657560" y="477900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193"/>
                <p:cNvSpPr/>
                <p:nvPr/>
              </p:nvSpPr>
              <p:spPr>
                <a:xfrm>
                  <a:off x="7728480" y="478512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194"/>
                <p:cNvSpPr/>
                <p:nvPr/>
              </p:nvSpPr>
              <p:spPr>
                <a:xfrm>
                  <a:off x="8003520" y="478512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195"/>
                <p:cNvSpPr/>
                <p:nvPr/>
              </p:nvSpPr>
              <p:spPr>
                <a:xfrm>
                  <a:off x="7675560" y="4785120"/>
                  <a:ext cx="23760" cy="54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4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196"/>
                <p:cNvSpPr/>
                <p:nvPr/>
              </p:nvSpPr>
              <p:spPr>
                <a:xfrm>
                  <a:off x="7699680" y="478512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197"/>
                <p:cNvSpPr/>
                <p:nvPr/>
              </p:nvSpPr>
              <p:spPr>
                <a:xfrm>
                  <a:off x="7758360" y="478512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198"/>
                <p:cNvSpPr/>
                <p:nvPr/>
              </p:nvSpPr>
              <p:spPr>
                <a:xfrm>
                  <a:off x="7860600" y="478512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199"/>
                <p:cNvSpPr/>
                <p:nvPr/>
              </p:nvSpPr>
              <p:spPr>
                <a:xfrm>
                  <a:off x="7997400" y="479088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200"/>
                <p:cNvSpPr/>
                <p:nvPr/>
              </p:nvSpPr>
              <p:spPr>
                <a:xfrm>
                  <a:off x="5008320" y="4790880"/>
                  <a:ext cx="1604880" cy="811080"/>
                </a:xfrm>
                <a:custGeom>
                  <a:avLst/>
                  <a:gdLst>
                    <a:gd name="textAreaLeft" fmla="*/ 0 w 1604880"/>
                    <a:gd name="textAreaRight" fmla="*/ 1605240 w 1604880"/>
                    <a:gd name="textAreaTop" fmla="*/ 0 h 811080"/>
                    <a:gd name="textAreaBottom" fmla="*/ 811440 h 811080"/>
                  </a:gdLst>
                  <a:ahLst/>
                  <a:rect l="textAreaLeft" t="textAreaTop" r="textAreaRight" b="textAreaBottom"/>
                  <a:pathLst>
                    <a:path w="1605" h="835">
                      <a:moveTo>
                        <a:pt x="931" y="12"/>
                      </a:moveTo>
                      <a:lnTo>
                        <a:pt x="937" y="12"/>
                      </a:lnTo>
                      <a:lnTo>
                        <a:pt x="937" y="6"/>
                      </a:lnTo>
                      <a:lnTo>
                        <a:pt x="943" y="6"/>
                      </a:lnTo>
                      <a:lnTo>
                        <a:pt x="943" y="0"/>
                      </a:lnTo>
                      <a:lnTo>
                        <a:pt x="949" y="0"/>
                      </a:lnTo>
                      <a:lnTo>
                        <a:pt x="955" y="0"/>
                      </a:lnTo>
                      <a:lnTo>
                        <a:pt x="955" y="6"/>
                      </a:lnTo>
                      <a:lnTo>
                        <a:pt x="961" y="12"/>
                      </a:lnTo>
                      <a:lnTo>
                        <a:pt x="967" y="12"/>
                      </a:lnTo>
                      <a:lnTo>
                        <a:pt x="973" y="12"/>
                      </a:lnTo>
                      <a:lnTo>
                        <a:pt x="973" y="18"/>
                      </a:lnTo>
                      <a:lnTo>
                        <a:pt x="979" y="18"/>
                      </a:lnTo>
                      <a:lnTo>
                        <a:pt x="985" y="18"/>
                      </a:lnTo>
                      <a:lnTo>
                        <a:pt x="985" y="12"/>
                      </a:lnTo>
                      <a:lnTo>
                        <a:pt x="990" y="12"/>
                      </a:lnTo>
                      <a:lnTo>
                        <a:pt x="996" y="6"/>
                      </a:lnTo>
                      <a:lnTo>
                        <a:pt x="1002" y="6"/>
                      </a:lnTo>
                      <a:lnTo>
                        <a:pt x="1002" y="0"/>
                      </a:lnTo>
                      <a:lnTo>
                        <a:pt x="1008" y="0"/>
                      </a:lnTo>
                      <a:lnTo>
                        <a:pt x="1014" y="0"/>
                      </a:lnTo>
                      <a:lnTo>
                        <a:pt x="1014" y="6"/>
                      </a:lnTo>
                      <a:lnTo>
                        <a:pt x="1014" y="12"/>
                      </a:lnTo>
                      <a:lnTo>
                        <a:pt x="1020" y="18"/>
                      </a:lnTo>
                      <a:lnTo>
                        <a:pt x="1026" y="18"/>
                      </a:lnTo>
                      <a:lnTo>
                        <a:pt x="1032" y="18"/>
                      </a:lnTo>
                      <a:lnTo>
                        <a:pt x="1038" y="18"/>
                      </a:lnTo>
                      <a:lnTo>
                        <a:pt x="1038" y="24"/>
                      </a:lnTo>
                      <a:lnTo>
                        <a:pt x="1044" y="24"/>
                      </a:lnTo>
                      <a:lnTo>
                        <a:pt x="1044" y="30"/>
                      </a:lnTo>
                      <a:lnTo>
                        <a:pt x="1044" y="36"/>
                      </a:lnTo>
                      <a:lnTo>
                        <a:pt x="1050" y="42"/>
                      </a:lnTo>
                      <a:lnTo>
                        <a:pt x="1056" y="48"/>
                      </a:lnTo>
                      <a:lnTo>
                        <a:pt x="1062" y="54"/>
                      </a:lnTo>
                      <a:lnTo>
                        <a:pt x="1062" y="60"/>
                      </a:lnTo>
                      <a:lnTo>
                        <a:pt x="1062" y="66"/>
                      </a:lnTo>
                      <a:lnTo>
                        <a:pt x="1068" y="72"/>
                      </a:lnTo>
                      <a:lnTo>
                        <a:pt x="1068" y="78"/>
                      </a:lnTo>
                      <a:lnTo>
                        <a:pt x="1068" y="84"/>
                      </a:lnTo>
                      <a:lnTo>
                        <a:pt x="1074" y="84"/>
                      </a:lnTo>
                      <a:lnTo>
                        <a:pt x="1080" y="84"/>
                      </a:lnTo>
                      <a:lnTo>
                        <a:pt x="1086" y="84"/>
                      </a:lnTo>
                      <a:lnTo>
                        <a:pt x="1092" y="84"/>
                      </a:lnTo>
                      <a:lnTo>
                        <a:pt x="1092" y="90"/>
                      </a:lnTo>
                      <a:lnTo>
                        <a:pt x="1098" y="90"/>
                      </a:lnTo>
                      <a:lnTo>
                        <a:pt x="1104" y="90"/>
                      </a:lnTo>
                      <a:lnTo>
                        <a:pt x="1110" y="90"/>
                      </a:lnTo>
                      <a:lnTo>
                        <a:pt x="1116" y="84"/>
                      </a:lnTo>
                      <a:lnTo>
                        <a:pt x="1122" y="84"/>
                      </a:lnTo>
                      <a:lnTo>
                        <a:pt x="1128" y="84"/>
                      </a:lnTo>
                      <a:lnTo>
                        <a:pt x="1134" y="84"/>
                      </a:lnTo>
                      <a:lnTo>
                        <a:pt x="1140" y="84"/>
                      </a:lnTo>
                      <a:lnTo>
                        <a:pt x="1146" y="84"/>
                      </a:lnTo>
                      <a:lnTo>
                        <a:pt x="1152" y="90"/>
                      </a:lnTo>
                      <a:lnTo>
                        <a:pt x="1152" y="96"/>
                      </a:lnTo>
                      <a:lnTo>
                        <a:pt x="1158" y="96"/>
                      </a:lnTo>
                      <a:lnTo>
                        <a:pt x="1163" y="96"/>
                      </a:lnTo>
                      <a:lnTo>
                        <a:pt x="1163" y="102"/>
                      </a:lnTo>
                      <a:lnTo>
                        <a:pt x="1169" y="102"/>
                      </a:lnTo>
                      <a:lnTo>
                        <a:pt x="1169" y="107"/>
                      </a:lnTo>
                      <a:lnTo>
                        <a:pt x="1169" y="113"/>
                      </a:lnTo>
                      <a:lnTo>
                        <a:pt x="1175" y="113"/>
                      </a:lnTo>
                      <a:lnTo>
                        <a:pt x="1181" y="113"/>
                      </a:lnTo>
                      <a:lnTo>
                        <a:pt x="1187" y="113"/>
                      </a:lnTo>
                      <a:lnTo>
                        <a:pt x="1193" y="119"/>
                      </a:lnTo>
                      <a:lnTo>
                        <a:pt x="1193" y="113"/>
                      </a:lnTo>
                      <a:lnTo>
                        <a:pt x="1199" y="113"/>
                      </a:lnTo>
                      <a:lnTo>
                        <a:pt x="1199" y="107"/>
                      </a:lnTo>
                      <a:lnTo>
                        <a:pt x="1199" y="102"/>
                      </a:lnTo>
                      <a:lnTo>
                        <a:pt x="1205" y="102"/>
                      </a:lnTo>
                      <a:lnTo>
                        <a:pt x="1205" y="96"/>
                      </a:lnTo>
                      <a:lnTo>
                        <a:pt x="1211" y="96"/>
                      </a:lnTo>
                      <a:lnTo>
                        <a:pt x="1217" y="96"/>
                      </a:lnTo>
                      <a:lnTo>
                        <a:pt x="1217" y="90"/>
                      </a:lnTo>
                      <a:lnTo>
                        <a:pt x="1223" y="90"/>
                      </a:lnTo>
                      <a:lnTo>
                        <a:pt x="1229" y="96"/>
                      </a:lnTo>
                      <a:lnTo>
                        <a:pt x="1235" y="96"/>
                      </a:lnTo>
                      <a:lnTo>
                        <a:pt x="1241" y="102"/>
                      </a:lnTo>
                      <a:lnTo>
                        <a:pt x="1241" y="96"/>
                      </a:lnTo>
                      <a:lnTo>
                        <a:pt x="1247" y="96"/>
                      </a:lnTo>
                      <a:lnTo>
                        <a:pt x="1253" y="96"/>
                      </a:lnTo>
                      <a:lnTo>
                        <a:pt x="1259" y="102"/>
                      </a:lnTo>
                      <a:lnTo>
                        <a:pt x="1265" y="102"/>
                      </a:lnTo>
                      <a:lnTo>
                        <a:pt x="1265" y="107"/>
                      </a:lnTo>
                      <a:lnTo>
                        <a:pt x="1271" y="107"/>
                      </a:lnTo>
                      <a:lnTo>
                        <a:pt x="1271" y="113"/>
                      </a:lnTo>
                      <a:lnTo>
                        <a:pt x="1277" y="113"/>
                      </a:lnTo>
                      <a:lnTo>
                        <a:pt x="1277" y="107"/>
                      </a:lnTo>
                      <a:lnTo>
                        <a:pt x="1283" y="107"/>
                      </a:lnTo>
                      <a:lnTo>
                        <a:pt x="1283" y="102"/>
                      </a:lnTo>
                      <a:lnTo>
                        <a:pt x="1289" y="102"/>
                      </a:lnTo>
                      <a:lnTo>
                        <a:pt x="1289" y="107"/>
                      </a:lnTo>
                      <a:lnTo>
                        <a:pt x="1295" y="107"/>
                      </a:lnTo>
                      <a:lnTo>
                        <a:pt x="1301" y="107"/>
                      </a:lnTo>
                      <a:lnTo>
                        <a:pt x="1307" y="102"/>
                      </a:lnTo>
                      <a:lnTo>
                        <a:pt x="1313" y="96"/>
                      </a:lnTo>
                      <a:lnTo>
                        <a:pt x="1313" y="90"/>
                      </a:lnTo>
                      <a:lnTo>
                        <a:pt x="1313" y="84"/>
                      </a:lnTo>
                      <a:lnTo>
                        <a:pt x="1319" y="84"/>
                      </a:lnTo>
                      <a:lnTo>
                        <a:pt x="1325" y="84"/>
                      </a:lnTo>
                      <a:lnTo>
                        <a:pt x="1325" y="78"/>
                      </a:lnTo>
                      <a:lnTo>
                        <a:pt x="1325" y="72"/>
                      </a:lnTo>
                      <a:lnTo>
                        <a:pt x="1330" y="72"/>
                      </a:lnTo>
                      <a:lnTo>
                        <a:pt x="1336" y="72"/>
                      </a:lnTo>
                      <a:lnTo>
                        <a:pt x="1342" y="72"/>
                      </a:lnTo>
                      <a:lnTo>
                        <a:pt x="1342" y="66"/>
                      </a:lnTo>
                      <a:lnTo>
                        <a:pt x="1348" y="60"/>
                      </a:lnTo>
                      <a:lnTo>
                        <a:pt x="1354" y="60"/>
                      </a:lnTo>
                      <a:lnTo>
                        <a:pt x="1360" y="60"/>
                      </a:lnTo>
                      <a:lnTo>
                        <a:pt x="1360" y="66"/>
                      </a:lnTo>
                      <a:lnTo>
                        <a:pt x="1360" y="72"/>
                      </a:lnTo>
                      <a:lnTo>
                        <a:pt x="1360" y="78"/>
                      </a:lnTo>
                      <a:lnTo>
                        <a:pt x="1366" y="84"/>
                      </a:lnTo>
                      <a:lnTo>
                        <a:pt x="1366" y="90"/>
                      </a:lnTo>
                      <a:lnTo>
                        <a:pt x="1366" y="96"/>
                      </a:lnTo>
                      <a:lnTo>
                        <a:pt x="1372" y="102"/>
                      </a:lnTo>
                      <a:lnTo>
                        <a:pt x="1378" y="107"/>
                      </a:lnTo>
                      <a:lnTo>
                        <a:pt x="1384" y="107"/>
                      </a:lnTo>
                      <a:lnTo>
                        <a:pt x="1390" y="107"/>
                      </a:lnTo>
                      <a:lnTo>
                        <a:pt x="1396" y="107"/>
                      </a:lnTo>
                      <a:lnTo>
                        <a:pt x="1402" y="107"/>
                      </a:lnTo>
                      <a:lnTo>
                        <a:pt x="1402" y="113"/>
                      </a:lnTo>
                      <a:lnTo>
                        <a:pt x="1408" y="113"/>
                      </a:lnTo>
                      <a:lnTo>
                        <a:pt x="1408" y="119"/>
                      </a:lnTo>
                      <a:lnTo>
                        <a:pt x="1414" y="119"/>
                      </a:lnTo>
                      <a:lnTo>
                        <a:pt x="1414" y="125"/>
                      </a:lnTo>
                      <a:lnTo>
                        <a:pt x="1420" y="125"/>
                      </a:lnTo>
                      <a:lnTo>
                        <a:pt x="1426" y="125"/>
                      </a:lnTo>
                      <a:lnTo>
                        <a:pt x="1426" y="131"/>
                      </a:lnTo>
                      <a:lnTo>
                        <a:pt x="1432" y="131"/>
                      </a:lnTo>
                      <a:lnTo>
                        <a:pt x="1432" y="137"/>
                      </a:lnTo>
                      <a:lnTo>
                        <a:pt x="1432" y="143"/>
                      </a:lnTo>
                      <a:lnTo>
                        <a:pt x="1432" y="149"/>
                      </a:lnTo>
                      <a:lnTo>
                        <a:pt x="1432" y="155"/>
                      </a:lnTo>
                      <a:lnTo>
                        <a:pt x="1432" y="161"/>
                      </a:lnTo>
                      <a:lnTo>
                        <a:pt x="1438" y="161"/>
                      </a:lnTo>
                      <a:lnTo>
                        <a:pt x="1438" y="167"/>
                      </a:lnTo>
                      <a:lnTo>
                        <a:pt x="1444" y="173"/>
                      </a:lnTo>
                      <a:lnTo>
                        <a:pt x="1438" y="173"/>
                      </a:lnTo>
                      <a:lnTo>
                        <a:pt x="1438" y="179"/>
                      </a:lnTo>
                      <a:lnTo>
                        <a:pt x="1444" y="179"/>
                      </a:lnTo>
                      <a:lnTo>
                        <a:pt x="1444" y="185"/>
                      </a:lnTo>
                      <a:lnTo>
                        <a:pt x="1444" y="191"/>
                      </a:lnTo>
                      <a:lnTo>
                        <a:pt x="1438" y="191"/>
                      </a:lnTo>
                      <a:lnTo>
                        <a:pt x="1432" y="191"/>
                      </a:lnTo>
                      <a:lnTo>
                        <a:pt x="1432" y="197"/>
                      </a:lnTo>
                      <a:lnTo>
                        <a:pt x="1438" y="197"/>
                      </a:lnTo>
                      <a:lnTo>
                        <a:pt x="1438" y="203"/>
                      </a:lnTo>
                      <a:lnTo>
                        <a:pt x="1438" y="209"/>
                      </a:lnTo>
                      <a:lnTo>
                        <a:pt x="1432" y="209"/>
                      </a:lnTo>
                      <a:lnTo>
                        <a:pt x="1432" y="215"/>
                      </a:lnTo>
                      <a:lnTo>
                        <a:pt x="1432" y="221"/>
                      </a:lnTo>
                      <a:lnTo>
                        <a:pt x="1438" y="221"/>
                      </a:lnTo>
                      <a:lnTo>
                        <a:pt x="1438" y="227"/>
                      </a:lnTo>
                      <a:lnTo>
                        <a:pt x="1444" y="227"/>
                      </a:lnTo>
                      <a:lnTo>
                        <a:pt x="1450" y="233"/>
                      </a:lnTo>
                      <a:lnTo>
                        <a:pt x="1450" y="239"/>
                      </a:lnTo>
                      <a:lnTo>
                        <a:pt x="1456" y="239"/>
                      </a:lnTo>
                      <a:lnTo>
                        <a:pt x="1456" y="245"/>
                      </a:lnTo>
                      <a:lnTo>
                        <a:pt x="1462" y="245"/>
                      </a:lnTo>
                      <a:lnTo>
                        <a:pt x="1462" y="251"/>
                      </a:lnTo>
                      <a:lnTo>
                        <a:pt x="1468" y="251"/>
                      </a:lnTo>
                      <a:lnTo>
                        <a:pt x="1468" y="257"/>
                      </a:lnTo>
                      <a:lnTo>
                        <a:pt x="1474" y="257"/>
                      </a:lnTo>
                      <a:lnTo>
                        <a:pt x="1474" y="263"/>
                      </a:lnTo>
                      <a:lnTo>
                        <a:pt x="1474" y="269"/>
                      </a:lnTo>
                      <a:lnTo>
                        <a:pt x="1474" y="275"/>
                      </a:lnTo>
                      <a:lnTo>
                        <a:pt x="1474" y="281"/>
                      </a:lnTo>
                      <a:lnTo>
                        <a:pt x="1480" y="281"/>
                      </a:lnTo>
                      <a:lnTo>
                        <a:pt x="1486" y="281"/>
                      </a:lnTo>
                      <a:lnTo>
                        <a:pt x="1486" y="287"/>
                      </a:lnTo>
                      <a:lnTo>
                        <a:pt x="1492" y="287"/>
                      </a:lnTo>
                      <a:lnTo>
                        <a:pt x="1492" y="292"/>
                      </a:lnTo>
                      <a:lnTo>
                        <a:pt x="1492" y="298"/>
                      </a:lnTo>
                      <a:lnTo>
                        <a:pt x="1498" y="298"/>
                      </a:lnTo>
                      <a:lnTo>
                        <a:pt x="1498" y="304"/>
                      </a:lnTo>
                      <a:lnTo>
                        <a:pt x="1503" y="304"/>
                      </a:lnTo>
                      <a:lnTo>
                        <a:pt x="1503" y="310"/>
                      </a:lnTo>
                      <a:lnTo>
                        <a:pt x="1509" y="310"/>
                      </a:lnTo>
                      <a:lnTo>
                        <a:pt x="1515" y="310"/>
                      </a:lnTo>
                      <a:lnTo>
                        <a:pt x="1515" y="316"/>
                      </a:lnTo>
                      <a:lnTo>
                        <a:pt x="1515" y="322"/>
                      </a:lnTo>
                      <a:lnTo>
                        <a:pt x="1521" y="328"/>
                      </a:lnTo>
                      <a:lnTo>
                        <a:pt x="1521" y="334"/>
                      </a:lnTo>
                      <a:lnTo>
                        <a:pt x="1521" y="340"/>
                      </a:lnTo>
                      <a:lnTo>
                        <a:pt x="1527" y="340"/>
                      </a:lnTo>
                      <a:lnTo>
                        <a:pt x="1533" y="340"/>
                      </a:lnTo>
                      <a:lnTo>
                        <a:pt x="1539" y="340"/>
                      </a:lnTo>
                      <a:lnTo>
                        <a:pt x="1539" y="346"/>
                      </a:lnTo>
                      <a:lnTo>
                        <a:pt x="1545" y="346"/>
                      </a:lnTo>
                      <a:lnTo>
                        <a:pt x="1545" y="352"/>
                      </a:lnTo>
                      <a:lnTo>
                        <a:pt x="1551" y="352"/>
                      </a:lnTo>
                      <a:lnTo>
                        <a:pt x="1551" y="346"/>
                      </a:lnTo>
                      <a:lnTo>
                        <a:pt x="1551" y="352"/>
                      </a:lnTo>
                      <a:lnTo>
                        <a:pt x="1557" y="352"/>
                      </a:lnTo>
                      <a:lnTo>
                        <a:pt x="1557" y="358"/>
                      </a:lnTo>
                      <a:lnTo>
                        <a:pt x="1563" y="358"/>
                      </a:lnTo>
                      <a:lnTo>
                        <a:pt x="1563" y="364"/>
                      </a:lnTo>
                      <a:lnTo>
                        <a:pt x="1563" y="370"/>
                      </a:lnTo>
                      <a:lnTo>
                        <a:pt x="1569" y="370"/>
                      </a:lnTo>
                      <a:lnTo>
                        <a:pt x="1575" y="370"/>
                      </a:lnTo>
                      <a:lnTo>
                        <a:pt x="1581" y="370"/>
                      </a:lnTo>
                      <a:lnTo>
                        <a:pt x="1587" y="376"/>
                      </a:lnTo>
                      <a:lnTo>
                        <a:pt x="1587" y="370"/>
                      </a:lnTo>
                      <a:lnTo>
                        <a:pt x="1581" y="370"/>
                      </a:lnTo>
                      <a:lnTo>
                        <a:pt x="1581" y="364"/>
                      </a:lnTo>
                      <a:lnTo>
                        <a:pt x="1587" y="364"/>
                      </a:lnTo>
                      <a:lnTo>
                        <a:pt x="1587" y="370"/>
                      </a:lnTo>
                      <a:lnTo>
                        <a:pt x="1593" y="370"/>
                      </a:lnTo>
                      <a:lnTo>
                        <a:pt x="1599" y="370"/>
                      </a:lnTo>
                      <a:lnTo>
                        <a:pt x="1599" y="364"/>
                      </a:lnTo>
                      <a:lnTo>
                        <a:pt x="1605" y="364"/>
                      </a:lnTo>
                      <a:lnTo>
                        <a:pt x="1605" y="370"/>
                      </a:lnTo>
                      <a:lnTo>
                        <a:pt x="1563" y="418"/>
                      </a:lnTo>
                      <a:lnTo>
                        <a:pt x="1545" y="442"/>
                      </a:lnTo>
                      <a:lnTo>
                        <a:pt x="1539" y="442"/>
                      </a:lnTo>
                      <a:lnTo>
                        <a:pt x="1539" y="448"/>
                      </a:lnTo>
                      <a:lnTo>
                        <a:pt x="1533" y="454"/>
                      </a:lnTo>
                      <a:lnTo>
                        <a:pt x="1527" y="460"/>
                      </a:lnTo>
                      <a:lnTo>
                        <a:pt x="1521" y="460"/>
                      </a:lnTo>
                      <a:lnTo>
                        <a:pt x="1509" y="466"/>
                      </a:lnTo>
                      <a:lnTo>
                        <a:pt x="1503" y="471"/>
                      </a:lnTo>
                      <a:lnTo>
                        <a:pt x="1498" y="471"/>
                      </a:lnTo>
                      <a:lnTo>
                        <a:pt x="1498" y="477"/>
                      </a:lnTo>
                      <a:lnTo>
                        <a:pt x="1492" y="477"/>
                      </a:lnTo>
                      <a:lnTo>
                        <a:pt x="1486" y="483"/>
                      </a:lnTo>
                      <a:lnTo>
                        <a:pt x="1480" y="489"/>
                      </a:lnTo>
                      <a:lnTo>
                        <a:pt x="1474" y="495"/>
                      </a:lnTo>
                      <a:lnTo>
                        <a:pt x="1468" y="501"/>
                      </a:lnTo>
                      <a:lnTo>
                        <a:pt x="1462" y="501"/>
                      </a:lnTo>
                      <a:lnTo>
                        <a:pt x="1462" y="507"/>
                      </a:lnTo>
                      <a:lnTo>
                        <a:pt x="1456" y="507"/>
                      </a:lnTo>
                      <a:lnTo>
                        <a:pt x="1456" y="513"/>
                      </a:lnTo>
                      <a:lnTo>
                        <a:pt x="1462" y="519"/>
                      </a:lnTo>
                      <a:lnTo>
                        <a:pt x="1456" y="519"/>
                      </a:lnTo>
                      <a:lnTo>
                        <a:pt x="1456" y="525"/>
                      </a:lnTo>
                      <a:lnTo>
                        <a:pt x="1462" y="531"/>
                      </a:lnTo>
                      <a:lnTo>
                        <a:pt x="1456" y="531"/>
                      </a:lnTo>
                      <a:lnTo>
                        <a:pt x="1450" y="537"/>
                      </a:lnTo>
                      <a:lnTo>
                        <a:pt x="1444" y="537"/>
                      </a:lnTo>
                      <a:lnTo>
                        <a:pt x="1438" y="543"/>
                      </a:lnTo>
                      <a:lnTo>
                        <a:pt x="1438" y="549"/>
                      </a:lnTo>
                      <a:lnTo>
                        <a:pt x="1432" y="549"/>
                      </a:lnTo>
                      <a:lnTo>
                        <a:pt x="1432" y="555"/>
                      </a:lnTo>
                      <a:lnTo>
                        <a:pt x="1432" y="561"/>
                      </a:lnTo>
                      <a:lnTo>
                        <a:pt x="1432" y="567"/>
                      </a:lnTo>
                      <a:lnTo>
                        <a:pt x="1432" y="573"/>
                      </a:lnTo>
                      <a:lnTo>
                        <a:pt x="1426" y="579"/>
                      </a:lnTo>
                      <a:lnTo>
                        <a:pt x="1420" y="585"/>
                      </a:lnTo>
                      <a:lnTo>
                        <a:pt x="1414" y="585"/>
                      </a:lnTo>
                      <a:lnTo>
                        <a:pt x="1408" y="585"/>
                      </a:lnTo>
                      <a:lnTo>
                        <a:pt x="1402" y="585"/>
                      </a:lnTo>
                      <a:lnTo>
                        <a:pt x="1402" y="591"/>
                      </a:lnTo>
                      <a:lnTo>
                        <a:pt x="1396" y="591"/>
                      </a:lnTo>
                      <a:lnTo>
                        <a:pt x="1390" y="591"/>
                      </a:lnTo>
                      <a:lnTo>
                        <a:pt x="1390" y="597"/>
                      </a:lnTo>
                      <a:lnTo>
                        <a:pt x="1384" y="597"/>
                      </a:lnTo>
                      <a:lnTo>
                        <a:pt x="1384" y="603"/>
                      </a:lnTo>
                      <a:lnTo>
                        <a:pt x="1384" y="609"/>
                      </a:lnTo>
                      <a:lnTo>
                        <a:pt x="1378" y="615"/>
                      </a:lnTo>
                      <a:lnTo>
                        <a:pt x="1378" y="621"/>
                      </a:lnTo>
                      <a:lnTo>
                        <a:pt x="1384" y="621"/>
                      </a:lnTo>
                      <a:lnTo>
                        <a:pt x="1378" y="621"/>
                      </a:lnTo>
                      <a:lnTo>
                        <a:pt x="1378" y="627"/>
                      </a:lnTo>
                      <a:lnTo>
                        <a:pt x="1372" y="627"/>
                      </a:lnTo>
                      <a:lnTo>
                        <a:pt x="1366" y="627"/>
                      </a:lnTo>
                      <a:lnTo>
                        <a:pt x="1360" y="633"/>
                      </a:lnTo>
                      <a:lnTo>
                        <a:pt x="1354" y="633"/>
                      </a:lnTo>
                      <a:lnTo>
                        <a:pt x="1348" y="639"/>
                      </a:lnTo>
                      <a:lnTo>
                        <a:pt x="1342" y="639"/>
                      </a:lnTo>
                      <a:lnTo>
                        <a:pt x="1336" y="645"/>
                      </a:lnTo>
                      <a:lnTo>
                        <a:pt x="1330" y="645"/>
                      </a:lnTo>
                      <a:lnTo>
                        <a:pt x="1325" y="645"/>
                      </a:lnTo>
                      <a:lnTo>
                        <a:pt x="1325" y="650"/>
                      </a:lnTo>
                      <a:lnTo>
                        <a:pt x="1319" y="650"/>
                      </a:lnTo>
                      <a:lnTo>
                        <a:pt x="1319" y="656"/>
                      </a:lnTo>
                      <a:lnTo>
                        <a:pt x="1313" y="656"/>
                      </a:lnTo>
                      <a:lnTo>
                        <a:pt x="1307" y="656"/>
                      </a:lnTo>
                      <a:lnTo>
                        <a:pt x="1301" y="656"/>
                      </a:lnTo>
                      <a:lnTo>
                        <a:pt x="1295" y="656"/>
                      </a:lnTo>
                      <a:lnTo>
                        <a:pt x="1295" y="662"/>
                      </a:lnTo>
                      <a:lnTo>
                        <a:pt x="1289" y="662"/>
                      </a:lnTo>
                      <a:lnTo>
                        <a:pt x="1283" y="668"/>
                      </a:lnTo>
                      <a:lnTo>
                        <a:pt x="1277" y="668"/>
                      </a:lnTo>
                      <a:lnTo>
                        <a:pt x="1271" y="674"/>
                      </a:lnTo>
                      <a:lnTo>
                        <a:pt x="1265" y="680"/>
                      </a:lnTo>
                      <a:lnTo>
                        <a:pt x="1265" y="686"/>
                      </a:lnTo>
                      <a:lnTo>
                        <a:pt x="1211" y="692"/>
                      </a:lnTo>
                      <a:lnTo>
                        <a:pt x="1193" y="692"/>
                      </a:lnTo>
                      <a:lnTo>
                        <a:pt x="1140" y="698"/>
                      </a:lnTo>
                      <a:lnTo>
                        <a:pt x="1020" y="710"/>
                      </a:lnTo>
                      <a:lnTo>
                        <a:pt x="1014" y="710"/>
                      </a:lnTo>
                      <a:lnTo>
                        <a:pt x="996" y="710"/>
                      </a:lnTo>
                      <a:lnTo>
                        <a:pt x="973" y="710"/>
                      </a:lnTo>
                      <a:lnTo>
                        <a:pt x="967" y="710"/>
                      </a:lnTo>
                      <a:lnTo>
                        <a:pt x="955" y="710"/>
                      </a:lnTo>
                      <a:lnTo>
                        <a:pt x="931" y="716"/>
                      </a:lnTo>
                      <a:lnTo>
                        <a:pt x="913" y="716"/>
                      </a:lnTo>
                      <a:lnTo>
                        <a:pt x="907" y="716"/>
                      </a:lnTo>
                      <a:lnTo>
                        <a:pt x="895" y="716"/>
                      </a:lnTo>
                      <a:lnTo>
                        <a:pt x="877" y="722"/>
                      </a:lnTo>
                      <a:lnTo>
                        <a:pt x="871" y="722"/>
                      </a:lnTo>
                      <a:lnTo>
                        <a:pt x="865" y="722"/>
                      </a:lnTo>
                      <a:lnTo>
                        <a:pt x="800" y="728"/>
                      </a:lnTo>
                      <a:lnTo>
                        <a:pt x="758" y="728"/>
                      </a:lnTo>
                      <a:lnTo>
                        <a:pt x="710" y="734"/>
                      </a:lnTo>
                      <a:lnTo>
                        <a:pt x="662" y="734"/>
                      </a:lnTo>
                      <a:lnTo>
                        <a:pt x="639" y="734"/>
                      </a:lnTo>
                      <a:lnTo>
                        <a:pt x="585" y="746"/>
                      </a:lnTo>
                      <a:lnTo>
                        <a:pt x="579" y="746"/>
                      </a:lnTo>
                      <a:lnTo>
                        <a:pt x="519" y="752"/>
                      </a:lnTo>
                      <a:lnTo>
                        <a:pt x="513" y="752"/>
                      </a:lnTo>
                      <a:lnTo>
                        <a:pt x="507" y="752"/>
                      </a:lnTo>
                      <a:lnTo>
                        <a:pt x="454" y="758"/>
                      </a:lnTo>
                      <a:lnTo>
                        <a:pt x="388" y="764"/>
                      </a:lnTo>
                      <a:lnTo>
                        <a:pt x="376" y="764"/>
                      </a:lnTo>
                      <a:lnTo>
                        <a:pt x="340" y="770"/>
                      </a:lnTo>
                      <a:lnTo>
                        <a:pt x="340" y="758"/>
                      </a:lnTo>
                      <a:lnTo>
                        <a:pt x="293" y="764"/>
                      </a:lnTo>
                      <a:lnTo>
                        <a:pt x="298" y="770"/>
                      </a:lnTo>
                      <a:lnTo>
                        <a:pt x="298" y="776"/>
                      </a:lnTo>
                      <a:lnTo>
                        <a:pt x="298" y="782"/>
                      </a:lnTo>
                      <a:lnTo>
                        <a:pt x="304" y="788"/>
                      </a:lnTo>
                      <a:lnTo>
                        <a:pt x="304" y="794"/>
                      </a:lnTo>
                      <a:lnTo>
                        <a:pt x="304" y="800"/>
                      </a:lnTo>
                      <a:lnTo>
                        <a:pt x="304" y="806"/>
                      </a:lnTo>
                      <a:lnTo>
                        <a:pt x="304" y="812"/>
                      </a:lnTo>
                      <a:lnTo>
                        <a:pt x="298" y="812"/>
                      </a:lnTo>
                      <a:lnTo>
                        <a:pt x="281" y="812"/>
                      </a:lnTo>
                      <a:lnTo>
                        <a:pt x="245" y="818"/>
                      </a:lnTo>
                      <a:lnTo>
                        <a:pt x="203" y="818"/>
                      </a:lnTo>
                      <a:lnTo>
                        <a:pt x="197" y="818"/>
                      </a:lnTo>
                      <a:lnTo>
                        <a:pt x="131" y="824"/>
                      </a:lnTo>
                      <a:lnTo>
                        <a:pt x="125" y="824"/>
                      </a:lnTo>
                      <a:lnTo>
                        <a:pt x="114" y="824"/>
                      </a:lnTo>
                      <a:lnTo>
                        <a:pt x="102" y="830"/>
                      </a:lnTo>
                      <a:lnTo>
                        <a:pt x="84" y="830"/>
                      </a:lnTo>
                      <a:lnTo>
                        <a:pt x="60" y="830"/>
                      </a:lnTo>
                      <a:lnTo>
                        <a:pt x="48" y="830"/>
                      </a:lnTo>
                      <a:lnTo>
                        <a:pt x="30" y="830"/>
                      </a:lnTo>
                      <a:lnTo>
                        <a:pt x="12" y="835"/>
                      </a:lnTo>
                      <a:lnTo>
                        <a:pt x="0" y="835"/>
                      </a:lnTo>
                      <a:lnTo>
                        <a:pt x="0" y="830"/>
                      </a:lnTo>
                      <a:lnTo>
                        <a:pt x="0" y="824"/>
                      </a:lnTo>
                      <a:lnTo>
                        <a:pt x="0" y="818"/>
                      </a:lnTo>
                      <a:lnTo>
                        <a:pt x="6" y="812"/>
                      </a:lnTo>
                      <a:lnTo>
                        <a:pt x="6" y="806"/>
                      </a:lnTo>
                      <a:lnTo>
                        <a:pt x="6" y="800"/>
                      </a:lnTo>
                      <a:lnTo>
                        <a:pt x="12" y="800"/>
                      </a:lnTo>
                      <a:lnTo>
                        <a:pt x="18" y="800"/>
                      </a:lnTo>
                      <a:lnTo>
                        <a:pt x="18" y="806"/>
                      </a:lnTo>
                      <a:lnTo>
                        <a:pt x="24" y="806"/>
                      </a:lnTo>
                      <a:lnTo>
                        <a:pt x="30" y="812"/>
                      </a:lnTo>
                      <a:lnTo>
                        <a:pt x="36" y="812"/>
                      </a:lnTo>
                      <a:lnTo>
                        <a:pt x="42" y="806"/>
                      </a:lnTo>
                      <a:lnTo>
                        <a:pt x="42" y="800"/>
                      </a:lnTo>
                      <a:lnTo>
                        <a:pt x="42" y="794"/>
                      </a:lnTo>
                      <a:lnTo>
                        <a:pt x="48" y="794"/>
                      </a:lnTo>
                      <a:lnTo>
                        <a:pt x="48" y="788"/>
                      </a:lnTo>
                      <a:lnTo>
                        <a:pt x="54" y="788"/>
                      </a:lnTo>
                      <a:lnTo>
                        <a:pt x="54" y="782"/>
                      </a:lnTo>
                      <a:lnTo>
                        <a:pt x="48" y="782"/>
                      </a:lnTo>
                      <a:lnTo>
                        <a:pt x="48" y="776"/>
                      </a:lnTo>
                      <a:lnTo>
                        <a:pt x="42" y="770"/>
                      </a:lnTo>
                      <a:lnTo>
                        <a:pt x="42" y="764"/>
                      </a:lnTo>
                      <a:lnTo>
                        <a:pt x="48" y="764"/>
                      </a:lnTo>
                      <a:lnTo>
                        <a:pt x="48" y="758"/>
                      </a:lnTo>
                      <a:lnTo>
                        <a:pt x="54" y="758"/>
                      </a:lnTo>
                      <a:lnTo>
                        <a:pt x="60" y="758"/>
                      </a:lnTo>
                      <a:lnTo>
                        <a:pt x="60" y="752"/>
                      </a:lnTo>
                      <a:lnTo>
                        <a:pt x="60" y="746"/>
                      </a:lnTo>
                      <a:lnTo>
                        <a:pt x="54" y="746"/>
                      </a:lnTo>
                      <a:lnTo>
                        <a:pt x="48" y="746"/>
                      </a:lnTo>
                      <a:lnTo>
                        <a:pt x="48" y="740"/>
                      </a:lnTo>
                      <a:lnTo>
                        <a:pt x="48" y="734"/>
                      </a:lnTo>
                      <a:lnTo>
                        <a:pt x="54" y="734"/>
                      </a:lnTo>
                      <a:lnTo>
                        <a:pt x="54" y="728"/>
                      </a:lnTo>
                      <a:lnTo>
                        <a:pt x="54" y="722"/>
                      </a:lnTo>
                      <a:lnTo>
                        <a:pt x="60" y="722"/>
                      </a:lnTo>
                      <a:lnTo>
                        <a:pt x="60" y="716"/>
                      </a:lnTo>
                      <a:lnTo>
                        <a:pt x="60" y="710"/>
                      </a:lnTo>
                      <a:lnTo>
                        <a:pt x="60" y="704"/>
                      </a:lnTo>
                      <a:lnTo>
                        <a:pt x="60" y="698"/>
                      </a:lnTo>
                      <a:lnTo>
                        <a:pt x="54" y="692"/>
                      </a:lnTo>
                      <a:lnTo>
                        <a:pt x="48" y="692"/>
                      </a:lnTo>
                      <a:lnTo>
                        <a:pt x="48" y="686"/>
                      </a:lnTo>
                      <a:lnTo>
                        <a:pt x="42" y="686"/>
                      </a:lnTo>
                      <a:lnTo>
                        <a:pt x="42" y="680"/>
                      </a:lnTo>
                      <a:lnTo>
                        <a:pt x="42" y="674"/>
                      </a:lnTo>
                      <a:lnTo>
                        <a:pt x="42" y="668"/>
                      </a:lnTo>
                      <a:lnTo>
                        <a:pt x="48" y="668"/>
                      </a:lnTo>
                      <a:lnTo>
                        <a:pt x="48" y="662"/>
                      </a:lnTo>
                      <a:lnTo>
                        <a:pt x="54" y="662"/>
                      </a:lnTo>
                      <a:lnTo>
                        <a:pt x="54" y="656"/>
                      </a:lnTo>
                      <a:lnTo>
                        <a:pt x="54" y="650"/>
                      </a:lnTo>
                      <a:lnTo>
                        <a:pt x="60" y="650"/>
                      </a:lnTo>
                      <a:lnTo>
                        <a:pt x="60" y="645"/>
                      </a:lnTo>
                      <a:lnTo>
                        <a:pt x="60" y="639"/>
                      </a:lnTo>
                      <a:lnTo>
                        <a:pt x="66" y="639"/>
                      </a:lnTo>
                      <a:lnTo>
                        <a:pt x="66" y="633"/>
                      </a:lnTo>
                      <a:lnTo>
                        <a:pt x="72" y="633"/>
                      </a:lnTo>
                      <a:lnTo>
                        <a:pt x="72" y="627"/>
                      </a:lnTo>
                      <a:lnTo>
                        <a:pt x="78" y="627"/>
                      </a:lnTo>
                      <a:lnTo>
                        <a:pt x="84" y="627"/>
                      </a:lnTo>
                      <a:lnTo>
                        <a:pt x="90" y="627"/>
                      </a:lnTo>
                      <a:lnTo>
                        <a:pt x="96" y="627"/>
                      </a:lnTo>
                      <a:lnTo>
                        <a:pt x="102" y="627"/>
                      </a:lnTo>
                      <a:lnTo>
                        <a:pt x="108" y="627"/>
                      </a:lnTo>
                      <a:lnTo>
                        <a:pt x="108" y="633"/>
                      </a:lnTo>
                      <a:lnTo>
                        <a:pt x="114" y="633"/>
                      </a:lnTo>
                      <a:lnTo>
                        <a:pt x="120" y="633"/>
                      </a:lnTo>
                      <a:lnTo>
                        <a:pt x="125" y="639"/>
                      </a:lnTo>
                      <a:lnTo>
                        <a:pt x="131" y="639"/>
                      </a:lnTo>
                      <a:lnTo>
                        <a:pt x="137" y="645"/>
                      </a:lnTo>
                      <a:lnTo>
                        <a:pt x="143" y="645"/>
                      </a:lnTo>
                      <a:lnTo>
                        <a:pt x="149" y="645"/>
                      </a:lnTo>
                      <a:lnTo>
                        <a:pt x="155" y="645"/>
                      </a:lnTo>
                      <a:lnTo>
                        <a:pt x="155" y="650"/>
                      </a:lnTo>
                      <a:lnTo>
                        <a:pt x="161" y="650"/>
                      </a:lnTo>
                      <a:lnTo>
                        <a:pt x="167" y="650"/>
                      </a:lnTo>
                      <a:lnTo>
                        <a:pt x="173" y="656"/>
                      </a:lnTo>
                      <a:lnTo>
                        <a:pt x="179" y="662"/>
                      </a:lnTo>
                      <a:lnTo>
                        <a:pt x="185" y="662"/>
                      </a:lnTo>
                      <a:lnTo>
                        <a:pt x="191" y="662"/>
                      </a:lnTo>
                      <a:lnTo>
                        <a:pt x="197" y="656"/>
                      </a:lnTo>
                      <a:lnTo>
                        <a:pt x="197" y="650"/>
                      </a:lnTo>
                      <a:lnTo>
                        <a:pt x="203" y="650"/>
                      </a:lnTo>
                      <a:lnTo>
                        <a:pt x="203" y="645"/>
                      </a:lnTo>
                      <a:lnTo>
                        <a:pt x="203" y="639"/>
                      </a:lnTo>
                      <a:lnTo>
                        <a:pt x="203" y="633"/>
                      </a:lnTo>
                      <a:lnTo>
                        <a:pt x="203" y="627"/>
                      </a:lnTo>
                      <a:lnTo>
                        <a:pt x="197" y="627"/>
                      </a:lnTo>
                      <a:lnTo>
                        <a:pt x="197" y="621"/>
                      </a:lnTo>
                      <a:lnTo>
                        <a:pt x="197" y="615"/>
                      </a:lnTo>
                      <a:lnTo>
                        <a:pt x="191" y="615"/>
                      </a:lnTo>
                      <a:lnTo>
                        <a:pt x="191" y="609"/>
                      </a:lnTo>
                      <a:lnTo>
                        <a:pt x="185" y="609"/>
                      </a:lnTo>
                      <a:lnTo>
                        <a:pt x="185" y="603"/>
                      </a:lnTo>
                      <a:lnTo>
                        <a:pt x="185" y="597"/>
                      </a:lnTo>
                      <a:lnTo>
                        <a:pt x="185" y="591"/>
                      </a:lnTo>
                      <a:lnTo>
                        <a:pt x="185" y="585"/>
                      </a:lnTo>
                      <a:lnTo>
                        <a:pt x="185" y="579"/>
                      </a:lnTo>
                      <a:lnTo>
                        <a:pt x="185" y="573"/>
                      </a:lnTo>
                      <a:lnTo>
                        <a:pt x="191" y="573"/>
                      </a:lnTo>
                      <a:lnTo>
                        <a:pt x="191" y="567"/>
                      </a:lnTo>
                      <a:lnTo>
                        <a:pt x="191" y="561"/>
                      </a:lnTo>
                      <a:lnTo>
                        <a:pt x="197" y="561"/>
                      </a:lnTo>
                      <a:lnTo>
                        <a:pt x="203" y="561"/>
                      </a:lnTo>
                      <a:lnTo>
                        <a:pt x="209" y="561"/>
                      </a:lnTo>
                      <a:lnTo>
                        <a:pt x="215" y="561"/>
                      </a:lnTo>
                      <a:lnTo>
                        <a:pt x="215" y="555"/>
                      </a:lnTo>
                      <a:lnTo>
                        <a:pt x="221" y="555"/>
                      </a:lnTo>
                      <a:lnTo>
                        <a:pt x="227" y="549"/>
                      </a:lnTo>
                      <a:lnTo>
                        <a:pt x="233" y="549"/>
                      </a:lnTo>
                      <a:lnTo>
                        <a:pt x="239" y="549"/>
                      </a:lnTo>
                      <a:lnTo>
                        <a:pt x="245" y="549"/>
                      </a:lnTo>
                      <a:lnTo>
                        <a:pt x="245" y="543"/>
                      </a:lnTo>
                      <a:lnTo>
                        <a:pt x="251" y="543"/>
                      </a:lnTo>
                      <a:lnTo>
                        <a:pt x="257" y="543"/>
                      </a:lnTo>
                      <a:lnTo>
                        <a:pt x="263" y="543"/>
                      </a:lnTo>
                      <a:lnTo>
                        <a:pt x="263" y="537"/>
                      </a:lnTo>
                      <a:lnTo>
                        <a:pt x="269" y="537"/>
                      </a:lnTo>
                      <a:lnTo>
                        <a:pt x="275" y="537"/>
                      </a:lnTo>
                      <a:lnTo>
                        <a:pt x="275" y="531"/>
                      </a:lnTo>
                      <a:lnTo>
                        <a:pt x="275" y="525"/>
                      </a:lnTo>
                      <a:lnTo>
                        <a:pt x="269" y="525"/>
                      </a:lnTo>
                      <a:lnTo>
                        <a:pt x="269" y="519"/>
                      </a:lnTo>
                      <a:lnTo>
                        <a:pt x="263" y="519"/>
                      </a:lnTo>
                      <a:lnTo>
                        <a:pt x="263" y="513"/>
                      </a:lnTo>
                      <a:lnTo>
                        <a:pt x="257" y="513"/>
                      </a:lnTo>
                      <a:lnTo>
                        <a:pt x="257" y="507"/>
                      </a:lnTo>
                      <a:lnTo>
                        <a:pt x="257" y="501"/>
                      </a:lnTo>
                      <a:lnTo>
                        <a:pt x="251" y="501"/>
                      </a:lnTo>
                      <a:lnTo>
                        <a:pt x="251" y="495"/>
                      </a:lnTo>
                      <a:lnTo>
                        <a:pt x="251" y="489"/>
                      </a:lnTo>
                      <a:lnTo>
                        <a:pt x="251" y="483"/>
                      </a:lnTo>
                      <a:lnTo>
                        <a:pt x="257" y="483"/>
                      </a:lnTo>
                      <a:lnTo>
                        <a:pt x="257" y="477"/>
                      </a:lnTo>
                      <a:lnTo>
                        <a:pt x="257" y="471"/>
                      </a:lnTo>
                      <a:lnTo>
                        <a:pt x="263" y="471"/>
                      </a:lnTo>
                      <a:lnTo>
                        <a:pt x="269" y="466"/>
                      </a:lnTo>
                      <a:lnTo>
                        <a:pt x="269" y="460"/>
                      </a:lnTo>
                      <a:lnTo>
                        <a:pt x="269" y="454"/>
                      </a:lnTo>
                      <a:lnTo>
                        <a:pt x="275" y="454"/>
                      </a:lnTo>
                      <a:lnTo>
                        <a:pt x="275" y="448"/>
                      </a:lnTo>
                      <a:lnTo>
                        <a:pt x="281" y="448"/>
                      </a:lnTo>
                      <a:lnTo>
                        <a:pt x="287" y="448"/>
                      </a:lnTo>
                      <a:lnTo>
                        <a:pt x="287" y="454"/>
                      </a:lnTo>
                      <a:lnTo>
                        <a:pt x="293" y="454"/>
                      </a:lnTo>
                      <a:lnTo>
                        <a:pt x="293" y="448"/>
                      </a:lnTo>
                      <a:lnTo>
                        <a:pt x="298" y="448"/>
                      </a:lnTo>
                      <a:lnTo>
                        <a:pt x="298" y="442"/>
                      </a:lnTo>
                      <a:lnTo>
                        <a:pt x="304" y="436"/>
                      </a:lnTo>
                      <a:lnTo>
                        <a:pt x="298" y="436"/>
                      </a:lnTo>
                      <a:lnTo>
                        <a:pt x="298" y="430"/>
                      </a:lnTo>
                      <a:lnTo>
                        <a:pt x="298" y="424"/>
                      </a:lnTo>
                      <a:lnTo>
                        <a:pt x="293" y="424"/>
                      </a:lnTo>
                      <a:lnTo>
                        <a:pt x="293" y="418"/>
                      </a:lnTo>
                      <a:lnTo>
                        <a:pt x="293" y="412"/>
                      </a:lnTo>
                      <a:lnTo>
                        <a:pt x="298" y="412"/>
                      </a:lnTo>
                      <a:lnTo>
                        <a:pt x="304" y="412"/>
                      </a:lnTo>
                      <a:lnTo>
                        <a:pt x="310" y="412"/>
                      </a:lnTo>
                      <a:lnTo>
                        <a:pt x="310" y="418"/>
                      </a:lnTo>
                      <a:lnTo>
                        <a:pt x="316" y="418"/>
                      </a:lnTo>
                      <a:lnTo>
                        <a:pt x="316" y="424"/>
                      </a:lnTo>
                      <a:lnTo>
                        <a:pt x="322" y="424"/>
                      </a:lnTo>
                      <a:lnTo>
                        <a:pt x="322" y="418"/>
                      </a:lnTo>
                      <a:lnTo>
                        <a:pt x="328" y="418"/>
                      </a:lnTo>
                      <a:lnTo>
                        <a:pt x="334" y="418"/>
                      </a:lnTo>
                      <a:lnTo>
                        <a:pt x="334" y="412"/>
                      </a:lnTo>
                      <a:lnTo>
                        <a:pt x="340" y="418"/>
                      </a:lnTo>
                      <a:lnTo>
                        <a:pt x="340" y="412"/>
                      </a:lnTo>
                      <a:lnTo>
                        <a:pt x="346" y="412"/>
                      </a:lnTo>
                      <a:lnTo>
                        <a:pt x="352" y="412"/>
                      </a:lnTo>
                      <a:lnTo>
                        <a:pt x="352" y="418"/>
                      </a:lnTo>
                      <a:lnTo>
                        <a:pt x="352" y="424"/>
                      </a:lnTo>
                      <a:lnTo>
                        <a:pt x="352" y="430"/>
                      </a:lnTo>
                      <a:lnTo>
                        <a:pt x="358" y="430"/>
                      </a:lnTo>
                      <a:lnTo>
                        <a:pt x="364" y="430"/>
                      </a:lnTo>
                      <a:lnTo>
                        <a:pt x="370" y="430"/>
                      </a:lnTo>
                      <a:lnTo>
                        <a:pt x="370" y="424"/>
                      </a:lnTo>
                      <a:lnTo>
                        <a:pt x="370" y="418"/>
                      </a:lnTo>
                      <a:lnTo>
                        <a:pt x="370" y="412"/>
                      </a:lnTo>
                      <a:lnTo>
                        <a:pt x="364" y="412"/>
                      </a:lnTo>
                      <a:lnTo>
                        <a:pt x="364" y="406"/>
                      </a:lnTo>
                      <a:lnTo>
                        <a:pt x="358" y="406"/>
                      </a:lnTo>
                      <a:lnTo>
                        <a:pt x="358" y="400"/>
                      </a:lnTo>
                      <a:lnTo>
                        <a:pt x="364" y="400"/>
                      </a:lnTo>
                      <a:lnTo>
                        <a:pt x="364" y="394"/>
                      </a:lnTo>
                      <a:lnTo>
                        <a:pt x="364" y="388"/>
                      </a:lnTo>
                      <a:lnTo>
                        <a:pt x="364" y="394"/>
                      </a:lnTo>
                      <a:lnTo>
                        <a:pt x="370" y="394"/>
                      </a:lnTo>
                      <a:lnTo>
                        <a:pt x="376" y="394"/>
                      </a:lnTo>
                      <a:lnTo>
                        <a:pt x="376" y="400"/>
                      </a:lnTo>
                      <a:lnTo>
                        <a:pt x="382" y="400"/>
                      </a:lnTo>
                      <a:lnTo>
                        <a:pt x="382" y="406"/>
                      </a:lnTo>
                      <a:lnTo>
                        <a:pt x="388" y="406"/>
                      </a:lnTo>
                      <a:lnTo>
                        <a:pt x="388" y="400"/>
                      </a:lnTo>
                      <a:lnTo>
                        <a:pt x="394" y="400"/>
                      </a:lnTo>
                      <a:lnTo>
                        <a:pt x="400" y="400"/>
                      </a:lnTo>
                      <a:lnTo>
                        <a:pt x="400" y="394"/>
                      </a:lnTo>
                      <a:lnTo>
                        <a:pt x="406" y="394"/>
                      </a:lnTo>
                      <a:lnTo>
                        <a:pt x="412" y="394"/>
                      </a:lnTo>
                      <a:lnTo>
                        <a:pt x="412" y="400"/>
                      </a:lnTo>
                      <a:lnTo>
                        <a:pt x="418" y="400"/>
                      </a:lnTo>
                      <a:lnTo>
                        <a:pt x="424" y="400"/>
                      </a:lnTo>
                      <a:lnTo>
                        <a:pt x="424" y="406"/>
                      </a:lnTo>
                      <a:lnTo>
                        <a:pt x="430" y="406"/>
                      </a:lnTo>
                      <a:lnTo>
                        <a:pt x="436" y="406"/>
                      </a:lnTo>
                      <a:lnTo>
                        <a:pt x="436" y="412"/>
                      </a:lnTo>
                      <a:lnTo>
                        <a:pt x="442" y="412"/>
                      </a:lnTo>
                      <a:lnTo>
                        <a:pt x="442" y="418"/>
                      </a:lnTo>
                      <a:lnTo>
                        <a:pt x="448" y="418"/>
                      </a:lnTo>
                      <a:lnTo>
                        <a:pt x="454" y="418"/>
                      </a:lnTo>
                      <a:lnTo>
                        <a:pt x="460" y="418"/>
                      </a:lnTo>
                      <a:lnTo>
                        <a:pt x="466" y="424"/>
                      </a:lnTo>
                      <a:lnTo>
                        <a:pt x="466" y="430"/>
                      </a:lnTo>
                      <a:lnTo>
                        <a:pt x="471" y="430"/>
                      </a:lnTo>
                      <a:lnTo>
                        <a:pt x="471" y="436"/>
                      </a:lnTo>
                      <a:lnTo>
                        <a:pt x="477" y="436"/>
                      </a:lnTo>
                      <a:lnTo>
                        <a:pt x="477" y="430"/>
                      </a:lnTo>
                      <a:lnTo>
                        <a:pt x="483" y="430"/>
                      </a:lnTo>
                      <a:lnTo>
                        <a:pt x="483" y="424"/>
                      </a:lnTo>
                      <a:lnTo>
                        <a:pt x="483" y="418"/>
                      </a:lnTo>
                      <a:lnTo>
                        <a:pt x="489" y="418"/>
                      </a:lnTo>
                      <a:lnTo>
                        <a:pt x="483" y="418"/>
                      </a:lnTo>
                      <a:lnTo>
                        <a:pt x="489" y="418"/>
                      </a:lnTo>
                      <a:lnTo>
                        <a:pt x="483" y="418"/>
                      </a:lnTo>
                      <a:lnTo>
                        <a:pt x="489" y="418"/>
                      </a:lnTo>
                      <a:lnTo>
                        <a:pt x="483" y="412"/>
                      </a:lnTo>
                      <a:lnTo>
                        <a:pt x="489" y="412"/>
                      </a:lnTo>
                      <a:lnTo>
                        <a:pt x="489" y="406"/>
                      </a:lnTo>
                      <a:lnTo>
                        <a:pt x="489" y="400"/>
                      </a:lnTo>
                      <a:lnTo>
                        <a:pt x="489" y="394"/>
                      </a:lnTo>
                      <a:lnTo>
                        <a:pt x="495" y="394"/>
                      </a:lnTo>
                      <a:lnTo>
                        <a:pt x="495" y="388"/>
                      </a:lnTo>
                      <a:lnTo>
                        <a:pt x="501" y="388"/>
                      </a:lnTo>
                      <a:lnTo>
                        <a:pt x="507" y="388"/>
                      </a:lnTo>
                      <a:lnTo>
                        <a:pt x="513" y="388"/>
                      </a:lnTo>
                      <a:lnTo>
                        <a:pt x="513" y="382"/>
                      </a:lnTo>
                      <a:lnTo>
                        <a:pt x="519" y="382"/>
                      </a:lnTo>
                      <a:lnTo>
                        <a:pt x="519" y="376"/>
                      </a:lnTo>
                      <a:lnTo>
                        <a:pt x="525" y="376"/>
                      </a:lnTo>
                      <a:lnTo>
                        <a:pt x="525" y="370"/>
                      </a:lnTo>
                      <a:lnTo>
                        <a:pt x="531" y="370"/>
                      </a:lnTo>
                      <a:lnTo>
                        <a:pt x="537" y="370"/>
                      </a:lnTo>
                      <a:lnTo>
                        <a:pt x="537" y="376"/>
                      </a:lnTo>
                      <a:lnTo>
                        <a:pt x="543" y="376"/>
                      </a:lnTo>
                      <a:lnTo>
                        <a:pt x="543" y="382"/>
                      </a:lnTo>
                      <a:lnTo>
                        <a:pt x="543" y="388"/>
                      </a:lnTo>
                      <a:lnTo>
                        <a:pt x="549" y="388"/>
                      </a:lnTo>
                      <a:lnTo>
                        <a:pt x="549" y="394"/>
                      </a:lnTo>
                      <a:lnTo>
                        <a:pt x="555" y="394"/>
                      </a:lnTo>
                      <a:lnTo>
                        <a:pt x="561" y="394"/>
                      </a:lnTo>
                      <a:lnTo>
                        <a:pt x="561" y="388"/>
                      </a:lnTo>
                      <a:lnTo>
                        <a:pt x="567" y="388"/>
                      </a:lnTo>
                      <a:lnTo>
                        <a:pt x="573" y="388"/>
                      </a:lnTo>
                      <a:lnTo>
                        <a:pt x="573" y="394"/>
                      </a:lnTo>
                      <a:lnTo>
                        <a:pt x="573" y="400"/>
                      </a:lnTo>
                      <a:lnTo>
                        <a:pt x="573" y="406"/>
                      </a:lnTo>
                      <a:lnTo>
                        <a:pt x="579" y="406"/>
                      </a:lnTo>
                      <a:lnTo>
                        <a:pt x="585" y="406"/>
                      </a:lnTo>
                      <a:lnTo>
                        <a:pt x="585" y="400"/>
                      </a:lnTo>
                      <a:lnTo>
                        <a:pt x="585" y="394"/>
                      </a:lnTo>
                      <a:lnTo>
                        <a:pt x="585" y="388"/>
                      </a:lnTo>
                      <a:lnTo>
                        <a:pt x="585" y="382"/>
                      </a:lnTo>
                      <a:lnTo>
                        <a:pt x="591" y="382"/>
                      </a:lnTo>
                      <a:lnTo>
                        <a:pt x="597" y="382"/>
                      </a:lnTo>
                      <a:lnTo>
                        <a:pt x="603" y="382"/>
                      </a:lnTo>
                      <a:lnTo>
                        <a:pt x="603" y="376"/>
                      </a:lnTo>
                      <a:lnTo>
                        <a:pt x="603" y="370"/>
                      </a:lnTo>
                      <a:lnTo>
                        <a:pt x="597" y="370"/>
                      </a:lnTo>
                      <a:lnTo>
                        <a:pt x="597" y="364"/>
                      </a:lnTo>
                      <a:lnTo>
                        <a:pt x="597" y="358"/>
                      </a:lnTo>
                      <a:lnTo>
                        <a:pt x="597" y="352"/>
                      </a:lnTo>
                      <a:lnTo>
                        <a:pt x="597" y="346"/>
                      </a:lnTo>
                      <a:lnTo>
                        <a:pt x="603" y="346"/>
                      </a:lnTo>
                      <a:lnTo>
                        <a:pt x="609" y="346"/>
                      </a:lnTo>
                      <a:lnTo>
                        <a:pt x="609" y="340"/>
                      </a:lnTo>
                      <a:lnTo>
                        <a:pt x="615" y="340"/>
                      </a:lnTo>
                      <a:lnTo>
                        <a:pt x="615" y="334"/>
                      </a:lnTo>
                      <a:lnTo>
                        <a:pt x="609" y="334"/>
                      </a:lnTo>
                      <a:lnTo>
                        <a:pt x="609" y="328"/>
                      </a:lnTo>
                      <a:lnTo>
                        <a:pt x="609" y="322"/>
                      </a:lnTo>
                      <a:lnTo>
                        <a:pt x="615" y="322"/>
                      </a:lnTo>
                      <a:lnTo>
                        <a:pt x="615" y="328"/>
                      </a:lnTo>
                      <a:lnTo>
                        <a:pt x="621" y="328"/>
                      </a:lnTo>
                      <a:lnTo>
                        <a:pt x="621" y="322"/>
                      </a:lnTo>
                      <a:lnTo>
                        <a:pt x="627" y="322"/>
                      </a:lnTo>
                      <a:lnTo>
                        <a:pt x="633" y="322"/>
                      </a:lnTo>
                      <a:lnTo>
                        <a:pt x="633" y="316"/>
                      </a:lnTo>
                      <a:lnTo>
                        <a:pt x="633" y="310"/>
                      </a:lnTo>
                      <a:lnTo>
                        <a:pt x="627" y="310"/>
                      </a:lnTo>
                      <a:lnTo>
                        <a:pt x="621" y="310"/>
                      </a:lnTo>
                      <a:lnTo>
                        <a:pt x="621" y="304"/>
                      </a:lnTo>
                      <a:lnTo>
                        <a:pt x="627" y="304"/>
                      </a:lnTo>
                      <a:lnTo>
                        <a:pt x="633" y="304"/>
                      </a:lnTo>
                      <a:lnTo>
                        <a:pt x="633" y="310"/>
                      </a:lnTo>
                      <a:lnTo>
                        <a:pt x="639" y="310"/>
                      </a:lnTo>
                      <a:lnTo>
                        <a:pt x="644" y="310"/>
                      </a:lnTo>
                      <a:lnTo>
                        <a:pt x="644" y="316"/>
                      </a:lnTo>
                      <a:lnTo>
                        <a:pt x="644" y="322"/>
                      </a:lnTo>
                      <a:lnTo>
                        <a:pt x="644" y="328"/>
                      </a:lnTo>
                      <a:lnTo>
                        <a:pt x="644" y="334"/>
                      </a:lnTo>
                      <a:lnTo>
                        <a:pt x="650" y="334"/>
                      </a:lnTo>
                      <a:lnTo>
                        <a:pt x="650" y="340"/>
                      </a:lnTo>
                      <a:lnTo>
                        <a:pt x="656" y="340"/>
                      </a:lnTo>
                      <a:lnTo>
                        <a:pt x="656" y="346"/>
                      </a:lnTo>
                      <a:lnTo>
                        <a:pt x="662" y="346"/>
                      </a:lnTo>
                      <a:lnTo>
                        <a:pt x="668" y="346"/>
                      </a:lnTo>
                      <a:lnTo>
                        <a:pt x="674" y="346"/>
                      </a:lnTo>
                      <a:lnTo>
                        <a:pt x="680" y="346"/>
                      </a:lnTo>
                      <a:lnTo>
                        <a:pt x="686" y="346"/>
                      </a:lnTo>
                      <a:lnTo>
                        <a:pt x="692" y="352"/>
                      </a:lnTo>
                      <a:lnTo>
                        <a:pt x="698" y="352"/>
                      </a:lnTo>
                      <a:lnTo>
                        <a:pt x="698" y="358"/>
                      </a:lnTo>
                      <a:lnTo>
                        <a:pt x="704" y="358"/>
                      </a:lnTo>
                      <a:lnTo>
                        <a:pt x="704" y="352"/>
                      </a:lnTo>
                      <a:lnTo>
                        <a:pt x="710" y="352"/>
                      </a:lnTo>
                      <a:lnTo>
                        <a:pt x="710" y="346"/>
                      </a:lnTo>
                      <a:lnTo>
                        <a:pt x="716" y="346"/>
                      </a:lnTo>
                      <a:lnTo>
                        <a:pt x="722" y="346"/>
                      </a:lnTo>
                      <a:lnTo>
                        <a:pt x="722" y="340"/>
                      </a:lnTo>
                      <a:lnTo>
                        <a:pt x="728" y="340"/>
                      </a:lnTo>
                      <a:lnTo>
                        <a:pt x="728" y="334"/>
                      </a:lnTo>
                      <a:lnTo>
                        <a:pt x="728" y="328"/>
                      </a:lnTo>
                      <a:lnTo>
                        <a:pt x="728" y="322"/>
                      </a:lnTo>
                      <a:lnTo>
                        <a:pt x="728" y="316"/>
                      </a:lnTo>
                      <a:lnTo>
                        <a:pt x="728" y="310"/>
                      </a:lnTo>
                      <a:lnTo>
                        <a:pt x="728" y="304"/>
                      </a:lnTo>
                      <a:lnTo>
                        <a:pt x="728" y="298"/>
                      </a:lnTo>
                      <a:lnTo>
                        <a:pt x="728" y="292"/>
                      </a:lnTo>
                      <a:lnTo>
                        <a:pt x="728" y="287"/>
                      </a:lnTo>
                      <a:lnTo>
                        <a:pt x="734" y="287"/>
                      </a:lnTo>
                      <a:lnTo>
                        <a:pt x="734" y="281"/>
                      </a:lnTo>
                      <a:lnTo>
                        <a:pt x="740" y="281"/>
                      </a:lnTo>
                      <a:lnTo>
                        <a:pt x="740" y="275"/>
                      </a:lnTo>
                      <a:lnTo>
                        <a:pt x="740" y="269"/>
                      </a:lnTo>
                      <a:lnTo>
                        <a:pt x="746" y="263"/>
                      </a:lnTo>
                      <a:lnTo>
                        <a:pt x="752" y="263"/>
                      </a:lnTo>
                      <a:lnTo>
                        <a:pt x="752" y="269"/>
                      </a:lnTo>
                      <a:lnTo>
                        <a:pt x="758" y="269"/>
                      </a:lnTo>
                      <a:lnTo>
                        <a:pt x="764" y="269"/>
                      </a:lnTo>
                      <a:lnTo>
                        <a:pt x="764" y="263"/>
                      </a:lnTo>
                      <a:lnTo>
                        <a:pt x="770" y="263"/>
                      </a:lnTo>
                      <a:lnTo>
                        <a:pt x="770" y="257"/>
                      </a:lnTo>
                      <a:lnTo>
                        <a:pt x="776" y="257"/>
                      </a:lnTo>
                      <a:lnTo>
                        <a:pt x="776" y="251"/>
                      </a:lnTo>
                      <a:lnTo>
                        <a:pt x="776" y="245"/>
                      </a:lnTo>
                      <a:lnTo>
                        <a:pt x="776" y="239"/>
                      </a:lnTo>
                      <a:lnTo>
                        <a:pt x="776" y="233"/>
                      </a:lnTo>
                      <a:lnTo>
                        <a:pt x="776" y="227"/>
                      </a:lnTo>
                      <a:lnTo>
                        <a:pt x="782" y="227"/>
                      </a:lnTo>
                      <a:lnTo>
                        <a:pt x="776" y="227"/>
                      </a:lnTo>
                      <a:lnTo>
                        <a:pt x="782" y="227"/>
                      </a:lnTo>
                      <a:lnTo>
                        <a:pt x="782" y="221"/>
                      </a:lnTo>
                      <a:lnTo>
                        <a:pt x="782" y="215"/>
                      </a:lnTo>
                      <a:lnTo>
                        <a:pt x="788" y="215"/>
                      </a:lnTo>
                      <a:lnTo>
                        <a:pt x="788" y="209"/>
                      </a:lnTo>
                      <a:lnTo>
                        <a:pt x="794" y="209"/>
                      </a:lnTo>
                      <a:lnTo>
                        <a:pt x="800" y="209"/>
                      </a:lnTo>
                      <a:lnTo>
                        <a:pt x="806" y="209"/>
                      </a:lnTo>
                      <a:lnTo>
                        <a:pt x="806" y="203"/>
                      </a:lnTo>
                      <a:lnTo>
                        <a:pt x="806" y="197"/>
                      </a:lnTo>
                      <a:lnTo>
                        <a:pt x="812" y="197"/>
                      </a:lnTo>
                      <a:lnTo>
                        <a:pt x="812" y="191"/>
                      </a:lnTo>
                      <a:lnTo>
                        <a:pt x="817" y="191"/>
                      </a:lnTo>
                      <a:lnTo>
                        <a:pt x="817" y="185"/>
                      </a:lnTo>
                      <a:lnTo>
                        <a:pt x="817" y="179"/>
                      </a:lnTo>
                      <a:lnTo>
                        <a:pt x="823" y="179"/>
                      </a:lnTo>
                      <a:lnTo>
                        <a:pt x="817" y="179"/>
                      </a:lnTo>
                      <a:lnTo>
                        <a:pt x="817" y="173"/>
                      </a:lnTo>
                      <a:lnTo>
                        <a:pt x="817" y="167"/>
                      </a:lnTo>
                      <a:lnTo>
                        <a:pt x="817" y="161"/>
                      </a:lnTo>
                      <a:lnTo>
                        <a:pt x="812" y="161"/>
                      </a:lnTo>
                      <a:lnTo>
                        <a:pt x="812" y="155"/>
                      </a:lnTo>
                      <a:lnTo>
                        <a:pt x="812" y="149"/>
                      </a:lnTo>
                      <a:lnTo>
                        <a:pt x="812" y="143"/>
                      </a:lnTo>
                      <a:lnTo>
                        <a:pt x="812" y="137"/>
                      </a:lnTo>
                      <a:lnTo>
                        <a:pt x="812" y="131"/>
                      </a:lnTo>
                      <a:lnTo>
                        <a:pt x="817" y="131"/>
                      </a:lnTo>
                      <a:lnTo>
                        <a:pt x="817" y="125"/>
                      </a:lnTo>
                      <a:lnTo>
                        <a:pt x="823" y="125"/>
                      </a:lnTo>
                      <a:lnTo>
                        <a:pt x="823" y="131"/>
                      </a:lnTo>
                      <a:lnTo>
                        <a:pt x="829" y="131"/>
                      </a:lnTo>
                      <a:lnTo>
                        <a:pt x="829" y="125"/>
                      </a:lnTo>
                      <a:lnTo>
                        <a:pt x="835" y="125"/>
                      </a:lnTo>
                      <a:lnTo>
                        <a:pt x="841" y="125"/>
                      </a:lnTo>
                      <a:lnTo>
                        <a:pt x="847" y="125"/>
                      </a:lnTo>
                      <a:lnTo>
                        <a:pt x="853" y="125"/>
                      </a:lnTo>
                      <a:lnTo>
                        <a:pt x="853" y="131"/>
                      </a:lnTo>
                      <a:lnTo>
                        <a:pt x="859" y="131"/>
                      </a:lnTo>
                      <a:lnTo>
                        <a:pt x="859" y="137"/>
                      </a:lnTo>
                      <a:lnTo>
                        <a:pt x="865" y="137"/>
                      </a:lnTo>
                      <a:lnTo>
                        <a:pt x="871" y="137"/>
                      </a:lnTo>
                      <a:lnTo>
                        <a:pt x="871" y="131"/>
                      </a:lnTo>
                      <a:lnTo>
                        <a:pt x="877" y="131"/>
                      </a:lnTo>
                      <a:lnTo>
                        <a:pt x="883" y="125"/>
                      </a:lnTo>
                      <a:lnTo>
                        <a:pt x="883" y="119"/>
                      </a:lnTo>
                      <a:lnTo>
                        <a:pt x="889" y="119"/>
                      </a:lnTo>
                      <a:lnTo>
                        <a:pt x="889" y="113"/>
                      </a:lnTo>
                      <a:lnTo>
                        <a:pt x="895" y="113"/>
                      </a:lnTo>
                      <a:lnTo>
                        <a:pt x="901" y="113"/>
                      </a:lnTo>
                      <a:lnTo>
                        <a:pt x="901" y="107"/>
                      </a:lnTo>
                      <a:lnTo>
                        <a:pt x="907" y="107"/>
                      </a:lnTo>
                      <a:lnTo>
                        <a:pt x="913" y="107"/>
                      </a:lnTo>
                      <a:lnTo>
                        <a:pt x="919" y="107"/>
                      </a:lnTo>
                      <a:lnTo>
                        <a:pt x="919" y="102"/>
                      </a:lnTo>
                      <a:lnTo>
                        <a:pt x="925" y="102"/>
                      </a:lnTo>
                      <a:lnTo>
                        <a:pt x="931" y="102"/>
                      </a:lnTo>
                      <a:lnTo>
                        <a:pt x="937" y="102"/>
                      </a:lnTo>
                      <a:lnTo>
                        <a:pt x="943" y="102"/>
                      </a:lnTo>
                      <a:lnTo>
                        <a:pt x="943" y="96"/>
                      </a:lnTo>
                      <a:lnTo>
                        <a:pt x="943" y="90"/>
                      </a:lnTo>
                      <a:lnTo>
                        <a:pt x="937" y="90"/>
                      </a:lnTo>
                      <a:lnTo>
                        <a:pt x="937" y="84"/>
                      </a:lnTo>
                      <a:lnTo>
                        <a:pt x="943" y="84"/>
                      </a:lnTo>
                      <a:lnTo>
                        <a:pt x="943" y="78"/>
                      </a:lnTo>
                      <a:lnTo>
                        <a:pt x="949" y="78"/>
                      </a:lnTo>
                      <a:lnTo>
                        <a:pt x="943" y="78"/>
                      </a:lnTo>
                      <a:lnTo>
                        <a:pt x="943" y="72"/>
                      </a:lnTo>
                      <a:lnTo>
                        <a:pt x="937" y="72"/>
                      </a:lnTo>
                      <a:lnTo>
                        <a:pt x="931" y="72"/>
                      </a:lnTo>
                      <a:lnTo>
                        <a:pt x="925" y="72"/>
                      </a:lnTo>
                      <a:lnTo>
                        <a:pt x="925" y="66"/>
                      </a:lnTo>
                      <a:lnTo>
                        <a:pt x="925" y="60"/>
                      </a:lnTo>
                      <a:lnTo>
                        <a:pt x="931" y="60"/>
                      </a:lnTo>
                      <a:lnTo>
                        <a:pt x="931" y="54"/>
                      </a:lnTo>
                      <a:lnTo>
                        <a:pt x="931" y="48"/>
                      </a:lnTo>
                      <a:lnTo>
                        <a:pt x="931" y="42"/>
                      </a:lnTo>
                      <a:lnTo>
                        <a:pt x="925" y="36"/>
                      </a:lnTo>
                      <a:lnTo>
                        <a:pt x="919" y="36"/>
                      </a:lnTo>
                      <a:lnTo>
                        <a:pt x="919" y="30"/>
                      </a:lnTo>
                      <a:lnTo>
                        <a:pt x="919" y="24"/>
                      </a:lnTo>
                      <a:lnTo>
                        <a:pt x="925" y="24"/>
                      </a:lnTo>
                      <a:lnTo>
                        <a:pt x="925" y="18"/>
                      </a:lnTo>
                      <a:lnTo>
                        <a:pt x="931" y="18"/>
                      </a:lnTo>
                      <a:lnTo>
                        <a:pt x="931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201"/>
                <p:cNvSpPr/>
                <p:nvPr/>
              </p:nvSpPr>
              <p:spPr>
                <a:xfrm>
                  <a:off x="7734600" y="479088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4" h="1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24" y="18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202"/>
                <p:cNvSpPr/>
                <p:nvPr/>
              </p:nvSpPr>
              <p:spPr>
                <a:xfrm>
                  <a:off x="7860600" y="4796640"/>
                  <a:ext cx="11880" cy="111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203"/>
                <p:cNvSpPr/>
                <p:nvPr/>
              </p:nvSpPr>
              <p:spPr>
                <a:xfrm>
                  <a:off x="7991640" y="4802400"/>
                  <a:ext cx="11520" cy="172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204"/>
                <p:cNvSpPr/>
                <p:nvPr/>
              </p:nvSpPr>
              <p:spPr>
                <a:xfrm>
                  <a:off x="7872480" y="480240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205"/>
                <p:cNvSpPr/>
                <p:nvPr/>
              </p:nvSpPr>
              <p:spPr>
                <a:xfrm>
                  <a:off x="7872480" y="4808160"/>
                  <a:ext cx="576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206"/>
                <p:cNvSpPr/>
                <p:nvPr/>
              </p:nvSpPr>
              <p:spPr>
                <a:xfrm>
                  <a:off x="7895520" y="480816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207"/>
                <p:cNvSpPr/>
                <p:nvPr/>
              </p:nvSpPr>
              <p:spPr>
                <a:xfrm>
                  <a:off x="7770600" y="48142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208"/>
                <p:cNvSpPr/>
                <p:nvPr/>
              </p:nvSpPr>
              <p:spPr>
                <a:xfrm>
                  <a:off x="7895520" y="4820040"/>
                  <a:ext cx="612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209"/>
              <p:cNvGrpSpPr/>
              <p:nvPr/>
            </p:nvGrpSpPr>
            <p:grpSpPr>
              <a:xfrm>
                <a:off x="4835520" y="3794040"/>
                <a:ext cx="3304440" cy="2225880"/>
                <a:chOff x="4835520" y="3794040"/>
                <a:chExt cx="3304440" cy="2225880"/>
              </a:xfrm>
            </p:grpSpPr>
            <p:sp>
              <p:nvSpPr>
                <p:cNvPr id="355" name="Freeform 210"/>
                <p:cNvSpPr/>
                <p:nvPr/>
              </p:nvSpPr>
              <p:spPr>
                <a:xfrm>
                  <a:off x="7979400" y="4819680"/>
                  <a:ext cx="11880" cy="40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2" h="42">
                      <a:moveTo>
                        <a:pt x="12" y="0"/>
                      </a:move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6" y="36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211"/>
                <p:cNvSpPr/>
                <p:nvPr/>
              </p:nvSpPr>
              <p:spPr>
                <a:xfrm>
                  <a:off x="7782120" y="481968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212"/>
                <p:cNvSpPr/>
                <p:nvPr/>
              </p:nvSpPr>
              <p:spPr>
                <a:xfrm>
                  <a:off x="7800120" y="482580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18" y="6"/>
                      </a:move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213"/>
                <p:cNvSpPr/>
                <p:nvPr/>
              </p:nvSpPr>
              <p:spPr>
                <a:xfrm>
                  <a:off x="7818120" y="483156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214"/>
                <p:cNvSpPr/>
                <p:nvPr/>
              </p:nvSpPr>
              <p:spPr>
                <a:xfrm>
                  <a:off x="7878240" y="483732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215"/>
                <p:cNvSpPr/>
                <p:nvPr/>
              </p:nvSpPr>
              <p:spPr>
                <a:xfrm>
                  <a:off x="7967160" y="486648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12" y="0"/>
                      </a:move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216"/>
                <p:cNvSpPr/>
                <p:nvPr/>
              </p:nvSpPr>
              <p:spPr>
                <a:xfrm>
                  <a:off x="7967160" y="4889880"/>
                  <a:ext cx="11880" cy="4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2" h="5">
                      <a:moveTo>
                        <a:pt x="12" y="0"/>
                      </a:moveTo>
                      <a:lnTo>
                        <a:pt x="12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217"/>
                <p:cNvSpPr/>
                <p:nvPr/>
              </p:nvSpPr>
              <p:spPr>
                <a:xfrm>
                  <a:off x="7961040" y="4889880"/>
                  <a:ext cx="23760" cy="338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24" h="35">
                      <a:moveTo>
                        <a:pt x="24" y="5"/>
                      </a:moveTo>
                      <a:lnTo>
                        <a:pt x="24" y="11"/>
                      </a:lnTo>
                      <a:lnTo>
                        <a:pt x="18" y="11"/>
                      </a:lnTo>
                      <a:lnTo>
                        <a:pt x="18" y="17"/>
                      </a:lnTo>
                      <a:lnTo>
                        <a:pt x="18" y="23"/>
                      </a:lnTo>
                      <a:lnTo>
                        <a:pt x="18" y="29"/>
                      </a:lnTo>
                      <a:lnTo>
                        <a:pt x="12" y="29"/>
                      </a:lnTo>
                      <a:lnTo>
                        <a:pt x="12" y="35"/>
                      </a:lnTo>
                      <a:lnTo>
                        <a:pt x="12" y="29"/>
                      </a:lnTo>
                      <a:lnTo>
                        <a:pt x="12" y="23"/>
                      </a:lnTo>
                      <a:lnTo>
                        <a:pt x="12" y="17"/>
                      </a:lnTo>
                      <a:lnTo>
                        <a:pt x="6" y="17"/>
                      </a:lnTo>
                      <a:lnTo>
                        <a:pt x="6" y="23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6" y="17"/>
                      </a:lnTo>
                      <a:lnTo>
                        <a:pt x="12" y="17"/>
                      </a:lnTo>
                      <a:lnTo>
                        <a:pt x="12" y="11"/>
                      </a:lnTo>
                      <a:lnTo>
                        <a:pt x="12" y="5"/>
                      </a:lnTo>
                      <a:lnTo>
                        <a:pt x="18" y="5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218"/>
                <p:cNvSpPr/>
                <p:nvPr/>
              </p:nvSpPr>
              <p:spPr>
                <a:xfrm>
                  <a:off x="7830360" y="490644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219"/>
                <p:cNvSpPr/>
                <p:nvPr/>
              </p:nvSpPr>
              <p:spPr>
                <a:xfrm>
                  <a:off x="7967160" y="4912200"/>
                  <a:ext cx="576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220"/>
                <p:cNvSpPr/>
                <p:nvPr/>
              </p:nvSpPr>
              <p:spPr>
                <a:xfrm>
                  <a:off x="7967160" y="491796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221"/>
                <p:cNvSpPr/>
                <p:nvPr/>
              </p:nvSpPr>
              <p:spPr>
                <a:xfrm>
                  <a:off x="7967160" y="49237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222"/>
                <p:cNvSpPr/>
                <p:nvPr/>
              </p:nvSpPr>
              <p:spPr>
                <a:xfrm>
                  <a:off x="7967160" y="4923720"/>
                  <a:ext cx="5760" cy="230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6" h="24">
                      <a:moveTo>
                        <a:pt x="6" y="6"/>
                      </a:move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223"/>
                <p:cNvSpPr/>
                <p:nvPr/>
              </p:nvSpPr>
              <p:spPr>
                <a:xfrm>
                  <a:off x="7836120" y="493560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6" y="6"/>
                      </a:move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224"/>
                <p:cNvSpPr/>
                <p:nvPr/>
              </p:nvSpPr>
              <p:spPr>
                <a:xfrm>
                  <a:off x="7937280" y="494712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12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225"/>
                <p:cNvSpPr/>
                <p:nvPr/>
              </p:nvSpPr>
              <p:spPr>
                <a:xfrm>
                  <a:off x="7949160" y="4947120"/>
                  <a:ext cx="612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226"/>
                <p:cNvSpPr/>
                <p:nvPr/>
              </p:nvSpPr>
              <p:spPr>
                <a:xfrm>
                  <a:off x="7949160" y="495288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6" y="6"/>
                      </a:move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227"/>
                <p:cNvSpPr/>
                <p:nvPr/>
              </p:nvSpPr>
              <p:spPr>
                <a:xfrm>
                  <a:off x="7961040" y="495288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12" y="0"/>
                      </a:move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228"/>
                <p:cNvSpPr/>
                <p:nvPr/>
              </p:nvSpPr>
              <p:spPr>
                <a:xfrm>
                  <a:off x="7931160" y="495900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12" y="12"/>
                      </a:move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229"/>
                <p:cNvSpPr/>
                <p:nvPr/>
              </p:nvSpPr>
              <p:spPr>
                <a:xfrm>
                  <a:off x="7931160" y="4970520"/>
                  <a:ext cx="720" cy="115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230"/>
                <p:cNvSpPr/>
                <p:nvPr/>
              </p:nvSpPr>
              <p:spPr>
                <a:xfrm>
                  <a:off x="7955280" y="497628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231"/>
                <p:cNvSpPr/>
                <p:nvPr/>
              </p:nvSpPr>
              <p:spPr>
                <a:xfrm>
                  <a:off x="7931160" y="4976280"/>
                  <a:ext cx="17640" cy="40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8" h="42">
                      <a:moveTo>
                        <a:pt x="12" y="24"/>
                      </a:moveTo>
                      <a:lnTo>
                        <a:pt x="12" y="30"/>
                      </a:ln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12" y="36"/>
                      </a:lnTo>
                      <a:lnTo>
                        <a:pt x="18" y="36"/>
                      </a:lnTo>
                      <a:lnTo>
                        <a:pt x="18" y="42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232"/>
                <p:cNvSpPr/>
                <p:nvPr/>
              </p:nvSpPr>
              <p:spPr>
                <a:xfrm>
                  <a:off x="7943400" y="4976280"/>
                  <a:ext cx="576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Rectangle 233"/>
                <p:cNvSpPr/>
                <p:nvPr/>
              </p:nvSpPr>
              <p:spPr>
                <a:xfrm>
                  <a:off x="7931160" y="498240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234"/>
                <p:cNvSpPr/>
                <p:nvPr/>
              </p:nvSpPr>
              <p:spPr>
                <a:xfrm>
                  <a:off x="7949160" y="499392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12" y="0"/>
                      </a:move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235"/>
                <p:cNvSpPr/>
                <p:nvPr/>
              </p:nvSpPr>
              <p:spPr>
                <a:xfrm>
                  <a:off x="7949160" y="499968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6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Rectangle 236"/>
                <p:cNvSpPr/>
                <p:nvPr/>
              </p:nvSpPr>
              <p:spPr>
                <a:xfrm>
                  <a:off x="7955280" y="4999680"/>
                  <a:ext cx="576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237"/>
                <p:cNvSpPr/>
                <p:nvPr/>
              </p:nvSpPr>
              <p:spPr>
                <a:xfrm>
                  <a:off x="7949160" y="500544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6"/>
                      </a:move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238"/>
                <p:cNvSpPr/>
                <p:nvPr/>
              </p:nvSpPr>
              <p:spPr>
                <a:xfrm>
                  <a:off x="7937280" y="5017320"/>
                  <a:ext cx="11880" cy="111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12" y="6"/>
                      </a:move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Rectangle 239"/>
                <p:cNvSpPr/>
                <p:nvPr/>
              </p:nvSpPr>
              <p:spPr>
                <a:xfrm>
                  <a:off x="7830360" y="501732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240"/>
                <p:cNvSpPr/>
                <p:nvPr/>
              </p:nvSpPr>
              <p:spPr>
                <a:xfrm>
                  <a:off x="7925040" y="503460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241"/>
                <p:cNvSpPr/>
                <p:nvPr/>
              </p:nvSpPr>
              <p:spPr>
                <a:xfrm>
                  <a:off x="7955280" y="513864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242"/>
                <p:cNvSpPr/>
                <p:nvPr/>
              </p:nvSpPr>
              <p:spPr>
                <a:xfrm>
                  <a:off x="7961040" y="514440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243"/>
                <p:cNvSpPr/>
                <p:nvPr/>
              </p:nvSpPr>
              <p:spPr>
                <a:xfrm>
                  <a:off x="7955280" y="514440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44"/>
                <p:cNvSpPr/>
                <p:nvPr/>
              </p:nvSpPr>
              <p:spPr>
                <a:xfrm>
                  <a:off x="7961040" y="517356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45"/>
                <p:cNvSpPr/>
                <p:nvPr/>
              </p:nvSpPr>
              <p:spPr>
                <a:xfrm>
                  <a:off x="7961040" y="517356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12" y="6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46"/>
                <p:cNvSpPr/>
                <p:nvPr/>
              </p:nvSpPr>
              <p:spPr>
                <a:xfrm>
                  <a:off x="7979400" y="5179320"/>
                  <a:ext cx="124920" cy="18540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25" h="19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24"/>
                      </a:lnTo>
                      <a:lnTo>
                        <a:pt x="18" y="30"/>
                      </a:lnTo>
                      <a:lnTo>
                        <a:pt x="24" y="36"/>
                      </a:lnTo>
                      <a:lnTo>
                        <a:pt x="24" y="42"/>
                      </a:lnTo>
                      <a:lnTo>
                        <a:pt x="24" y="48"/>
                      </a:lnTo>
                      <a:lnTo>
                        <a:pt x="30" y="54"/>
                      </a:lnTo>
                      <a:lnTo>
                        <a:pt x="36" y="60"/>
                      </a:lnTo>
                      <a:lnTo>
                        <a:pt x="36" y="66"/>
                      </a:lnTo>
                      <a:lnTo>
                        <a:pt x="42" y="71"/>
                      </a:lnTo>
                      <a:lnTo>
                        <a:pt x="42" y="77"/>
                      </a:lnTo>
                      <a:lnTo>
                        <a:pt x="48" y="83"/>
                      </a:lnTo>
                      <a:lnTo>
                        <a:pt x="48" y="89"/>
                      </a:lnTo>
                      <a:lnTo>
                        <a:pt x="54" y="89"/>
                      </a:lnTo>
                      <a:lnTo>
                        <a:pt x="54" y="95"/>
                      </a:lnTo>
                      <a:lnTo>
                        <a:pt x="60" y="101"/>
                      </a:lnTo>
                      <a:lnTo>
                        <a:pt x="66" y="107"/>
                      </a:lnTo>
                      <a:lnTo>
                        <a:pt x="66" y="113"/>
                      </a:lnTo>
                      <a:lnTo>
                        <a:pt x="72" y="119"/>
                      </a:lnTo>
                      <a:lnTo>
                        <a:pt x="78" y="125"/>
                      </a:lnTo>
                      <a:lnTo>
                        <a:pt x="78" y="131"/>
                      </a:lnTo>
                      <a:lnTo>
                        <a:pt x="84" y="131"/>
                      </a:lnTo>
                      <a:lnTo>
                        <a:pt x="84" y="137"/>
                      </a:lnTo>
                      <a:lnTo>
                        <a:pt x="89" y="137"/>
                      </a:lnTo>
                      <a:lnTo>
                        <a:pt x="89" y="143"/>
                      </a:lnTo>
                      <a:lnTo>
                        <a:pt x="95" y="149"/>
                      </a:lnTo>
                      <a:lnTo>
                        <a:pt x="101" y="155"/>
                      </a:lnTo>
                      <a:lnTo>
                        <a:pt x="107" y="161"/>
                      </a:lnTo>
                      <a:lnTo>
                        <a:pt x="107" y="167"/>
                      </a:lnTo>
                      <a:lnTo>
                        <a:pt x="113" y="173"/>
                      </a:lnTo>
                      <a:lnTo>
                        <a:pt x="113" y="179"/>
                      </a:lnTo>
                      <a:lnTo>
                        <a:pt x="119" y="185"/>
                      </a:lnTo>
                      <a:lnTo>
                        <a:pt x="125" y="185"/>
                      </a:lnTo>
                      <a:lnTo>
                        <a:pt x="125" y="191"/>
                      </a:lnTo>
                      <a:lnTo>
                        <a:pt x="119" y="191"/>
                      </a:lnTo>
                      <a:lnTo>
                        <a:pt x="113" y="191"/>
                      </a:lnTo>
                      <a:lnTo>
                        <a:pt x="113" y="185"/>
                      </a:lnTo>
                      <a:lnTo>
                        <a:pt x="113" y="179"/>
                      </a:lnTo>
                      <a:lnTo>
                        <a:pt x="107" y="179"/>
                      </a:lnTo>
                      <a:lnTo>
                        <a:pt x="107" y="173"/>
                      </a:lnTo>
                      <a:lnTo>
                        <a:pt x="101" y="173"/>
                      </a:lnTo>
                      <a:lnTo>
                        <a:pt x="101" y="167"/>
                      </a:lnTo>
                      <a:lnTo>
                        <a:pt x="101" y="161"/>
                      </a:lnTo>
                      <a:lnTo>
                        <a:pt x="95" y="161"/>
                      </a:lnTo>
                      <a:lnTo>
                        <a:pt x="95" y="155"/>
                      </a:lnTo>
                      <a:lnTo>
                        <a:pt x="89" y="149"/>
                      </a:lnTo>
                      <a:lnTo>
                        <a:pt x="84" y="149"/>
                      </a:lnTo>
                      <a:lnTo>
                        <a:pt x="84" y="143"/>
                      </a:lnTo>
                      <a:lnTo>
                        <a:pt x="78" y="143"/>
                      </a:lnTo>
                      <a:lnTo>
                        <a:pt x="78" y="137"/>
                      </a:lnTo>
                      <a:lnTo>
                        <a:pt x="78" y="131"/>
                      </a:lnTo>
                      <a:lnTo>
                        <a:pt x="72" y="131"/>
                      </a:lnTo>
                      <a:lnTo>
                        <a:pt x="72" y="125"/>
                      </a:lnTo>
                      <a:lnTo>
                        <a:pt x="72" y="131"/>
                      </a:lnTo>
                      <a:lnTo>
                        <a:pt x="66" y="131"/>
                      </a:lnTo>
                      <a:lnTo>
                        <a:pt x="66" y="125"/>
                      </a:lnTo>
                      <a:lnTo>
                        <a:pt x="60" y="125"/>
                      </a:lnTo>
                      <a:lnTo>
                        <a:pt x="60" y="119"/>
                      </a:lnTo>
                      <a:lnTo>
                        <a:pt x="60" y="113"/>
                      </a:lnTo>
                      <a:lnTo>
                        <a:pt x="54" y="113"/>
                      </a:lnTo>
                      <a:lnTo>
                        <a:pt x="54" y="107"/>
                      </a:lnTo>
                      <a:lnTo>
                        <a:pt x="60" y="113"/>
                      </a:lnTo>
                      <a:lnTo>
                        <a:pt x="60" y="107"/>
                      </a:lnTo>
                      <a:lnTo>
                        <a:pt x="54" y="107"/>
                      </a:lnTo>
                      <a:lnTo>
                        <a:pt x="54" y="101"/>
                      </a:lnTo>
                      <a:lnTo>
                        <a:pt x="54" y="95"/>
                      </a:lnTo>
                      <a:lnTo>
                        <a:pt x="48" y="95"/>
                      </a:lnTo>
                      <a:lnTo>
                        <a:pt x="48" y="89"/>
                      </a:lnTo>
                      <a:lnTo>
                        <a:pt x="48" y="83"/>
                      </a:lnTo>
                      <a:lnTo>
                        <a:pt x="42" y="83"/>
                      </a:lnTo>
                      <a:lnTo>
                        <a:pt x="42" y="77"/>
                      </a:lnTo>
                      <a:lnTo>
                        <a:pt x="36" y="77"/>
                      </a:lnTo>
                      <a:lnTo>
                        <a:pt x="36" y="71"/>
                      </a:lnTo>
                      <a:lnTo>
                        <a:pt x="36" y="66"/>
                      </a:lnTo>
                      <a:lnTo>
                        <a:pt x="30" y="66"/>
                      </a:lnTo>
                      <a:lnTo>
                        <a:pt x="30" y="60"/>
                      </a:lnTo>
                      <a:lnTo>
                        <a:pt x="30" y="54"/>
                      </a:lnTo>
                      <a:lnTo>
                        <a:pt x="24" y="54"/>
                      </a:lnTo>
                      <a:lnTo>
                        <a:pt x="24" y="48"/>
                      </a:lnTo>
                      <a:lnTo>
                        <a:pt x="24" y="42"/>
                      </a:lnTo>
                      <a:lnTo>
                        <a:pt x="18" y="42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12" y="36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47"/>
                <p:cNvSpPr/>
                <p:nvPr/>
              </p:nvSpPr>
              <p:spPr>
                <a:xfrm>
                  <a:off x="7961040" y="5179320"/>
                  <a:ext cx="11880" cy="7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248"/>
                <p:cNvSpPr/>
                <p:nvPr/>
              </p:nvSpPr>
              <p:spPr>
                <a:xfrm>
                  <a:off x="7949160" y="517932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0" y="6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30" y="24"/>
                      </a:lnTo>
                      <a:lnTo>
                        <a:pt x="24" y="24"/>
                      </a:lnTo>
                      <a:lnTo>
                        <a:pt x="24" y="18"/>
                      </a:lnTo>
                      <a:lnTo>
                        <a:pt x="24" y="24"/>
                      </a:lnTo>
                      <a:lnTo>
                        <a:pt x="24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249"/>
                <p:cNvSpPr/>
                <p:nvPr/>
              </p:nvSpPr>
              <p:spPr>
                <a:xfrm>
                  <a:off x="7949160" y="517932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250"/>
                <p:cNvSpPr/>
                <p:nvPr/>
              </p:nvSpPr>
              <p:spPr>
                <a:xfrm>
                  <a:off x="7758360" y="5243400"/>
                  <a:ext cx="309960" cy="428400"/>
                </a:xfrm>
                <a:custGeom>
                  <a:avLst/>
                  <a:gdLst>
                    <a:gd name="textAreaLeft" fmla="*/ 0 w 309960"/>
                    <a:gd name="textAreaRight" fmla="*/ 310320 w 309960"/>
                    <a:gd name="textAreaTop" fmla="*/ 0 h 428400"/>
                    <a:gd name="textAreaBottom" fmla="*/ 428760 h 428400"/>
                  </a:gdLst>
                  <a:ahLst/>
                  <a:rect l="textAreaLeft" t="textAreaTop" r="textAreaRight" b="textAreaBottom"/>
                  <a:pathLst>
                    <a:path w="310" h="441">
                      <a:moveTo>
                        <a:pt x="257" y="53"/>
                      </a:moveTo>
                      <a:lnTo>
                        <a:pt x="251" y="47"/>
                      </a:lnTo>
                      <a:lnTo>
                        <a:pt x="251" y="41"/>
                      </a:lnTo>
                      <a:lnTo>
                        <a:pt x="251" y="35"/>
                      </a:lnTo>
                      <a:lnTo>
                        <a:pt x="245" y="35"/>
                      </a:lnTo>
                      <a:lnTo>
                        <a:pt x="239" y="29"/>
                      </a:lnTo>
                      <a:lnTo>
                        <a:pt x="239" y="23"/>
                      </a:lnTo>
                      <a:lnTo>
                        <a:pt x="233" y="23"/>
                      </a:lnTo>
                      <a:lnTo>
                        <a:pt x="233" y="17"/>
                      </a:lnTo>
                      <a:lnTo>
                        <a:pt x="227" y="17"/>
                      </a:lnTo>
                      <a:lnTo>
                        <a:pt x="227" y="11"/>
                      </a:lnTo>
                      <a:lnTo>
                        <a:pt x="227" y="5"/>
                      </a:lnTo>
                      <a:lnTo>
                        <a:pt x="227" y="11"/>
                      </a:lnTo>
                      <a:lnTo>
                        <a:pt x="221" y="11"/>
                      </a:lnTo>
                      <a:lnTo>
                        <a:pt x="221" y="5"/>
                      </a:lnTo>
                      <a:lnTo>
                        <a:pt x="221" y="0"/>
                      </a:lnTo>
                      <a:lnTo>
                        <a:pt x="215" y="0"/>
                      </a:lnTo>
                      <a:lnTo>
                        <a:pt x="215" y="5"/>
                      </a:lnTo>
                      <a:lnTo>
                        <a:pt x="209" y="5"/>
                      </a:lnTo>
                      <a:lnTo>
                        <a:pt x="215" y="5"/>
                      </a:lnTo>
                      <a:lnTo>
                        <a:pt x="215" y="11"/>
                      </a:lnTo>
                      <a:lnTo>
                        <a:pt x="221" y="11"/>
                      </a:lnTo>
                      <a:lnTo>
                        <a:pt x="227" y="11"/>
                      </a:lnTo>
                      <a:lnTo>
                        <a:pt x="221" y="11"/>
                      </a:lnTo>
                      <a:lnTo>
                        <a:pt x="221" y="17"/>
                      </a:lnTo>
                      <a:lnTo>
                        <a:pt x="227" y="23"/>
                      </a:lnTo>
                      <a:lnTo>
                        <a:pt x="221" y="23"/>
                      </a:lnTo>
                      <a:lnTo>
                        <a:pt x="227" y="23"/>
                      </a:lnTo>
                      <a:lnTo>
                        <a:pt x="227" y="29"/>
                      </a:lnTo>
                      <a:lnTo>
                        <a:pt x="227" y="35"/>
                      </a:lnTo>
                      <a:lnTo>
                        <a:pt x="227" y="29"/>
                      </a:lnTo>
                      <a:lnTo>
                        <a:pt x="221" y="29"/>
                      </a:lnTo>
                      <a:lnTo>
                        <a:pt x="221" y="35"/>
                      </a:lnTo>
                      <a:lnTo>
                        <a:pt x="227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9" y="41"/>
                      </a:lnTo>
                      <a:lnTo>
                        <a:pt x="233" y="41"/>
                      </a:lnTo>
                      <a:lnTo>
                        <a:pt x="227" y="41"/>
                      </a:lnTo>
                      <a:lnTo>
                        <a:pt x="221" y="41"/>
                      </a:lnTo>
                      <a:lnTo>
                        <a:pt x="215" y="41"/>
                      </a:lnTo>
                      <a:lnTo>
                        <a:pt x="209" y="35"/>
                      </a:lnTo>
                      <a:lnTo>
                        <a:pt x="203" y="35"/>
                      </a:lnTo>
                      <a:lnTo>
                        <a:pt x="203" y="29"/>
                      </a:lnTo>
                      <a:lnTo>
                        <a:pt x="197" y="29"/>
                      </a:lnTo>
                      <a:lnTo>
                        <a:pt x="197" y="23"/>
                      </a:lnTo>
                      <a:lnTo>
                        <a:pt x="191" y="23"/>
                      </a:lnTo>
                      <a:lnTo>
                        <a:pt x="185" y="23"/>
                      </a:lnTo>
                      <a:lnTo>
                        <a:pt x="185" y="17"/>
                      </a:lnTo>
                      <a:lnTo>
                        <a:pt x="179" y="17"/>
                      </a:lnTo>
                      <a:lnTo>
                        <a:pt x="173" y="17"/>
                      </a:lnTo>
                      <a:lnTo>
                        <a:pt x="167" y="17"/>
                      </a:lnTo>
                      <a:lnTo>
                        <a:pt x="173" y="17"/>
                      </a:lnTo>
                      <a:lnTo>
                        <a:pt x="173" y="11"/>
                      </a:lnTo>
                      <a:lnTo>
                        <a:pt x="167" y="11"/>
                      </a:lnTo>
                      <a:lnTo>
                        <a:pt x="167" y="17"/>
                      </a:lnTo>
                      <a:lnTo>
                        <a:pt x="167" y="23"/>
                      </a:lnTo>
                      <a:lnTo>
                        <a:pt x="173" y="23"/>
                      </a:lnTo>
                      <a:lnTo>
                        <a:pt x="179" y="29"/>
                      </a:lnTo>
                      <a:lnTo>
                        <a:pt x="185" y="29"/>
                      </a:lnTo>
                      <a:lnTo>
                        <a:pt x="185" y="35"/>
                      </a:lnTo>
                      <a:lnTo>
                        <a:pt x="191" y="35"/>
                      </a:lnTo>
                      <a:lnTo>
                        <a:pt x="185" y="35"/>
                      </a:lnTo>
                      <a:lnTo>
                        <a:pt x="185" y="41"/>
                      </a:lnTo>
                      <a:lnTo>
                        <a:pt x="191" y="41"/>
                      </a:lnTo>
                      <a:lnTo>
                        <a:pt x="191" y="35"/>
                      </a:lnTo>
                      <a:lnTo>
                        <a:pt x="197" y="35"/>
                      </a:lnTo>
                      <a:lnTo>
                        <a:pt x="197" y="41"/>
                      </a:lnTo>
                      <a:lnTo>
                        <a:pt x="203" y="41"/>
                      </a:lnTo>
                      <a:lnTo>
                        <a:pt x="203" y="47"/>
                      </a:lnTo>
                      <a:lnTo>
                        <a:pt x="197" y="47"/>
                      </a:lnTo>
                      <a:lnTo>
                        <a:pt x="203" y="47"/>
                      </a:lnTo>
                      <a:lnTo>
                        <a:pt x="209" y="47"/>
                      </a:lnTo>
                      <a:lnTo>
                        <a:pt x="209" y="53"/>
                      </a:lnTo>
                      <a:lnTo>
                        <a:pt x="203" y="59"/>
                      </a:lnTo>
                      <a:lnTo>
                        <a:pt x="197" y="59"/>
                      </a:lnTo>
                      <a:lnTo>
                        <a:pt x="191" y="59"/>
                      </a:lnTo>
                      <a:lnTo>
                        <a:pt x="191" y="53"/>
                      </a:lnTo>
                      <a:lnTo>
                        <a:pt x="191" y="59"/>
                      </a:lnTo>
                      <a:lnTo>
                        <a:pt x="185" y="53"/>
                      </a:lnTo>
                      <a:lnTo>
                        <a:pt x="185" y="59"/>
                      </a:lnTo>
                      <a:lnTo>
                        <a:pt x="191" y="59"/>
                      </a:lnTo>
                      <a:lnTo>
                        <a:pt x="197" y="59"/>
                      </a:lnTo>
                      <a:lnTo>
                        <a:pt x="197" y="65"/>
                      </a:lnTo>
                      <a:lnTo>
                        <a:pt x="191" y="65"/>
                      </a:lnTo>
                      <a:lnTo>
                        <a:pt x="185" y="65"/>
                      </a:lnTo>
                      <a:lnTo>
                        <a:pt x="179" y="65"/>
                      </a:lnTo>
                      <a:lnTo>
                        <a:pt x="179" y="59"/>
                      </a:lnTo>
                      <a:lnTo>
                        <a:pt x="173" y="59"/>
                      </a:lnTo>
                      <a:lnTo>
                        <a:pt x="173" y="53"/>
                      </a:lnTo>
                      <a:lnTo>
                        <a:pt x="167" y="53"/>
                      </a:lnTo>
                      <a:lnTo>
                        <a:pt x="161" y="53"/>
                      </a:lnTo>
                      <a:lnTo>
                        <a:pt x="161" y="47"/>
                      </a:lnTo>
                      <a:lnTo>
                        <a:pt x="155" y="47"/>
                      </a:lnTo>
                      <a:lnTo>
                        <a:pt x="155" y="53"/>
                      </a:lnTo>
                      <a:lnTo>
                        <a:pt x="155" y="59"/>
                      </a:lnTo>
                      <a:lnTo>
                        <a:pt x="161" y="53"/>
                      </a:lnTo>
                      <a:lnTo>
                        <a:pt x="161" y="59"/>
                      </a:lnTo>
                      <a:lnTo>
                        <a:pt x="167" y="59"/>
                      </a:lnTo>
                      <a:lnTo>
                        <a:pt x="167" y="65"/>
                      </a:lnTo>
                      <a:lnTo>
                        <a:pt x="173" y="65"/>
                      </a:lnTo>
                      <a:lnTo>
                        <a:pt x="173" y="71"/>
                      </a:lnTo>
                      <a:lnTo>
                        <a:pt x="179" y="71"/>
                      </a:lnTo>
                      <a:lnTo>
                        <a:pt x="185" y="71"/>
                      </a:lnTo>
                      <a:lnTo>
                        <a:pt x="179" y="71"/>
                      </a:lnTo>
                      <a:lnTo>
                        <a:pt x="179" y="77"/>
                      </a:lnTo>
                      <a:lnTo>
                        <a:pt x="173" y="77"/>
                      </a:lnTo>
                      <a:lnTo>
                        <a:pt x="167" y="77"/>
                      </a:lnTo>
                      <a:lnTo>
                        <a:pt x="167" y="71"/>
                      </a:lnTo>
                      <a:lnTo>
                        <a:pt x="161" y="71"/>
                      </a:lnTo>
                      <a:lnTo>
                        <a:pt x="155" y="71"/>
                      </a:lnTo>
                      <a:lnTo>
                        <a:pt x="149" y="71"/>
                      </a:lnTo>
                      <a:lnTo>
                        <a:pt x="143" y="71"/>
                      </a:lnTo>
                      <a:lnTo>
                        <a:pt x="137" y="71"/>
                      </a:lnTo>
                      <a:lnTo>
                        <a:pt x="137" y="65"/>
                      </a:lnTo>
                      <a:lnTo>
                        <a:pt x="137" y="59"/>
                      </a:lnTo>
                      <a:lnTo>
                        <a:pt x="132" y="59"/>
                      </a:lnTo>
                      <a:lnTo>
                        <a:pt x="132" y="65"/>
                      </a:lnTo>
                      <a:lnTo>
                        <a:pt x="126" y="59"/>
                      </a:lnTo>
                      <a:lnTo>
                        <a:pt x="120" y="59"/>
                      </a:lnTo>
                      <a:lnTo>
                        <a:pt x="120" y="65"/>
                      </a:lnTo>
                      <a:lnTo>
                        <a:pt x="126" y="65"/>
                      </a:lnTo>
                      <a:lnTo>
                        <a:pt x="132" y="65"/>
                      </a:lnTo>
                      <a:lnTo>
                        <a:pt x="132" y="71"/>
                      </a:lnTo>
                      <a:lnTo>
                        <a:pt x="137" y="71"/>
                      </a:lnTo>
                      <a:lnTo>
                        <a:pt x="137" y="77"/>
                      </a:lnTo>
                      <a:lnTo>
                        <a:pt x="143" y="77"/>
                      </a:lnTo>
                      <a:lnTo>
                        <a:pt x="149" y="77"/>
                      </a:lnTo>
                      <a:lnTo>
                        <a:pt x="155" y="77"/>
                      </a:lnTo>
                      <a:lnTo>
                        <a:pt x="161" y="77"/>
                      </a:lnTo>
                      <a:lnTo>
                        <a:pt x="155" y="83"/>
                      </a:lnTo>
                      <a:lnTo>
                        <a:pt x="149" y="83"/>
                      </a:lnTo>
                      <a:lnTo>
                        <a:pt x="143" y="83"/>
                      </a:lnTo>
                      <a:lnTo>
                        <a:pt x="137" y="89"/>
                      </a:lnTo>
                      <a:lnTo>
                        <a:pt x="137" y="83"/>
                      </a:lnTo>
                      <a:lnTo>
                        <a:pt x="132" y="83"/>
                      </a:lnTo>
                      <a:lnTo>
                        <a:pt x="132" y="77"/>
                      </a:lnTo>
                      <a:lnTo>
                        <a:pt x="132" y="83"/>
                      </a:lnTo>
                      <a:lnTo>
                        <a:pt x="132" y="89"/>
                      </a:lnTo>
                      <a:lnTo>
                        <a:pt x="126" y="89"/>
                      </a:lnTo>
                      <a:lnTo>
                        <a:pt x="120" y="89"/>
                      </a:lnTo>
                      <a:lnTo>
                        <a:pt x="126" y="89"/>
                      </a:lnTo>
                      <a:lnTo>
                        <a:pt x="126" y="95"/>
                      </a:lnTo>
                      <a:lnTo>
                        <a:pt x="132" y="95"/>
                      </a:lnTo>
                      <a:lnTo>
                        <a:pt x="132" y="89"/>
                      </a:lnTo>
                      <a:lnTo>
                        <a:pt x="137" y="89"/>
                      </a:lnTo>
                      <a:lnTo>
                        <a:pt x="137" y="95"/>
                      </a:lnTo>
                      <a:lnTo>
                        <a:pt x="132" y="95"/>
                      </a:lnTo>
                      <a:lnTo>
                        <a:pt x="132" y="101"/>
                      </a:lnTo>
                      <a:lnTo>
                        <a:pt x="126" y="107"/>
                      </a:lnTo>
                      <a:lnTo>
                        <a:pt x="120" y="107"/>
                      </a:lnTo>
                      <a:lnTo>
                        <a:pt x="120" y="113"/>
                      </a:lnTo>
                      <a:lnTo>
                        <a:pt x="114" y="113"/>
                      </a:lnTo>
                      <a:lnTo>
                        <a:pt x="108" y="113"/>
                      </a:lnTo>
                      <a:lnTo>
                        <a:pt x="102" y="113"/>
                      </a:lnTo>
                      <a:lnTo>
                        <a:pt x="96" y="113"/>
                      </a:lnTo>
                      <a:lnTo>
                        <a:pt x="96" y="107"/>
                      </a:lnTo>
                      <a:lnTo>
                        <a:pt x="90" y="107"/>
                      </a:lnTo>
                      <a:lnTo>
                        <a:pt x="90" y="101"/>
                      </a:lnTo>
                      <a:lnTo>
                        <a:pt x="84" y="101"/>
                      </a:lnTo>
                      <a:lnTo>
                        <a:pt x="84" y="107"/>
                      </a:lnTo>
                      <a:lnTo>
                        <a:pt x="90" y="107"/>
                      </a:lnTo>
                      <a:lnTo>
                        <a:pt x="90" y="113"/>
                      </a:lnTo>
                      <a:lnTo>
                        <a:pt x="84" y="113"/>
                      </a:lnTo>
                      <a:lnTo>
                        <a:pt x="78" y="113"/>
                      </a:lnTo>
                      <a:lnTo>
                        <a:pt x="78" y="107"/>
                      </a:lnTo>
                      <a:lnTo>
                        <a:pt x="78" y="101"/>
                      </a:lnTo>
                      <a:lnTo>
                        <a:pt x="72" y="101"/>
                      </a:lnTo>
                      <a:lnTo>
                        <a:pt x="72" y="95"/>
                      </a:lnTo>
                      <a:lnTo>
                        <a:pt x="66" y="89"/>
                      </a:lnTo>
                      <a:lnTo>
                        <a:pt x="66" y="83"/>
                      </a:lnTo>
                      <a:lnTo>
                        <a:pt x="60" y="77"/>
                      </a:lnTo>
                      <a:lnTo>
                        <a:pt x="60" y="71"/>
                      </a:lnTo>
                      <a:lnTo>
                        <a:pt x="60" y="65"/>
                      </a:lnTo>
                      <a:lnTo>
                        <a:pt x="66" y="59"/>
                      </a:lnTo>
                      <a:lnTo>
                        <a:pt x="66" y="53"/>
                      </a:lnTo>
                      <a:lnTo>
                        <a:pt x="66" y="47"/>
                      </a:lnTo>
                      <a:lnTo>
                        <a:pt x="66" y="41"/>
                      </a:lnTo>
                      <a:lnTo>
                        <a:pt x="60" y="41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60" y="35"/>
                      </a:lnTo>
                      <a:lnTo>
                        <a:pt x="54" y="41"/>
                      </a:lnTo>
                      <a:lnTo>
                        <a:pt x="54" y="35"/>
                      </a:lnTo>
                      <a:lnTo>
                        <a:pt x="48" y="35"/>
                      </a:lnTo>
                      <a:lnTo>
                        <a:pt x="48" y="29"/>
                      </a:lnTo>
                      <a:lnTo>
                        <a:pt x="42" y="29"/>
                      </a:lnTo>
                      <a:lnTo>
                        <a:pt x="36" y="29"/>
                      </a:lnTo>
                      <a:lnTo>
                        <a:pt x="30" y="29"/>
                      </a:lnTo>
                      <a:lnTo>
                        <a:pt x="24" y="23"/>
                      </a:lnTo>
                      <a:lnTo>
                        <a:pt x="18" y="23"/>
                      </a:lnTo>
                      <a:lnTo>
                        <a:pt x="12" y="23"/>
                      </a:lnTo>
                      <a:lnTo>
                        <a:pt x="6" y="23"/>
                      </a:lnTo>
                      <a:lnTo>
                        <a:pt x="12" y="23"/>
                      </a:lnTo>
                      <a:lnTo>
                        <a:pt x="12" y="29"/>
                      </a:lnTo>
                      <a:lnTo>
                        <a:pt x="18" y="29"/>
                      </a:lnTo>
                      <a:lnTo>
                        <a:pt x="24" y="29"/>
                      </a:lnTo>
                      <a:lnTo>
                        <a:pt x="30" y="29"/>
                      </a:lnTo>
                      <a:lnTo>
                        <a:pt x="36" y="29"/>
                      </a:lnTo>
                      <a:lnTo>
                        <a:pt x="42" y="29"/>
                      </a:lnTo>
                      <a:lnTo>
                        <a:pt x="42" y="35"/>
                      </a:lnTo>
                      <a:lnTo>
                        <a:pt x="48" y="35"/>
                      </a:lnTo>
                      <a:lnTo>
                        <a:pt x="54" y="35"/>
                      </a:lnTo>
                      <a:lnTo>
                        <a:pt x="54" y="41"/>
                      </a:lnTo>
                      <a:lnTo>
                        <a:pt x="60" y="41"/>
                      </a:lnTo>
                      <a:lnTo>
                        <a:pt x="60" y="47"/>
                      </a:lnTo>
                      <a:lnTo>
                        <a:pt x="60" y="53"/>
                      </a:lnTo>
                      <a:lnTo>
                        <a:pt x="60" y="59"/>
                      </a:lnTo>
                      <a:lnTo>
                        <a:pt x="54" y="59"/>
                      </a:lnTo>
                      <a:lnTo>
                        <a:pt x="54" y="65"/>
                      </a:lnTo>
                      <a:lnTo>
                        <a:pt x="54" y="71"/>
                      </a:lnTo>
                      <a:lnTo>
                        <a:pt x="54" y="77"/>
                      </a:lnTo>
                      <a:lnTo>
                        <a:pt x="54" y="83"/>
                      </a:lnTo>
                      <a:lnTo>
                        <a:pt x="60" y="89"/>
                      </a:lnTo>
                      <a:lnTo>
                        <a:pt x="60" y="95"/>
                      </a:lnTo>
                      <a:lnTo>
                        <a:pt x="66" y="101"/>
                      </a:lnTo>
                      <a:lnTo>
                        <a:pt x="66" y="107"/>
                      </a:lnTo>
                      <a:lnTo>
                        <a:pt x="72" y="113"/>
                      </a:lnTo>
                      <a:lnTo>
                        <a:pt x="72" y="119"/>
                      </a:lnTo>
                      <a:lnTo>
                        <a:pt x="78" y="125"/>
                      </a:lnTo>
                      <a:lnTo>
                        <a:pt x="78" y="131"/>
                      </a:lnTo>
                      <a:lnTo>
                        <a:pt x="72" y="137"/>
                      </a:lnTo>
                      <a:lnTo>
                        <a:pt x="72" y="143"/>
                      </a:lnTo>
                      <a:lnTo>
                        <a:pt x="78" y="143"/>
                      </a:lnTo>
                      <a:lnTo>
                        <a:pt x="78" y="137"/>
                      </a:lnTo>
                      <a:lnTo>
                        <a:pt x="84" y="137"/>
                      </a:lnTo>
                      <a:lnTo>
                        <a:pt x="90" y="137"/>
                      </a:lnTo>
                      <a:lnTo>
                        <a:pt x="96" y="137"/>
                      </a:lnTo>
                      <a:lnTo>
                        <a:pt x="102" y="137"/>
                      </a:lnTo>
                      <a:lnTo>
                        <a:pt x="108" y="131"/>
                      </a:lnTo>
                      <a:lnTo>
                        <a:pt x="114" y="131"/>
                      </a:lnTo>
                      <a:lnTo>
                        <a:pt x="120" y="131"/>
                      </a:lnTo>
                      <a:lnTo>
                        <a:pt x="120" y="125"/>
                      </a:lnTo>
                      <a:lnTo>
                        <a:pt x="126" y="125"/>
                      </a:lnTo>
                      <a:lnTo>
                        <a:pt x="132" y="125"/>
                      </a:lnTo>
                      <a:lnTo>
                        <a:pt x="132" y="119"/>
                      </a:lnTo>
                      <a:lnTo>
                        <a:pt x="137" y="119"/>
                      </a:lnTo>
                      <a:lnTo>
                        <a:pt x="143" y="119"/>
                      </a:lnTo>
                      <a:lnTo>
                        <a:pt x="143" y="113"/>
                      </a:lnTo>
                      <a:lnTo>
                        <a:pt x="149" y="113"/>
                      </a:lnTo>
                      <a:lnTo>
                        <a:pt x="149" y="119"/>
                      </a:lnTo>
                      <a:lnTo>
                        <a:pt x="149" y="125"/>
                      </a:lnTo>
                      <a:lnTo>
                        <a:pt x="155" y="125"/>
                      </a:lnTo>
                      <a:lnTo>
                        <a:pt x="161" y="125"/>
                      </a:lnTo>
                      <a:lnTo>
                        <a:pt x="167" y="125"/>
                      </a:lnTo>
                      <a:lnTo>
                        <a:pt x="173" y="125"/>
                      </a:lnTo>
                      <a:lnTo>
                        <a:pt x="179" y="125"/>
                      </a:lnTo>
                      <a:lnTo>
                        <a:pt x="173" y="125"/>
                      </a:lnTo>
                      <a:lnTo>
                        <a:pt x="173" y="119"/>
                      </a:lnTo>
                      <a:lnTo>
                        <a:pt x="167" y="119"/>
                      </a:lnTo>
                      <a:lnTo>
                        <a:pt x="167" y="113"/>
                      </a:lnTo>
                      <a:lnTo>
                        <a:pt x="173" y="113"/>
                      </a:lnTo>
                      <a:lnTo>
                        <a:pt x="173" y="107"/>
                      </a:lnTo>
                      <a:lnTo>
                        <a:pt x="179" y="107"/>
                      </a:lnTo>
                      <a:lnTo>
                        <a:pt x="185" y="107"/>
                      </a:lnTo>
                      <a:lnTo>
                        <a:pt x="191" y="101"/>
                      </a:lnTo>
                      <a:lnTo>
                        <a:pt x="197" y="101"/>
                      </a:lnTo>
                      <a:lnTo>
                        <a:pt x="203" y="101"/>
                      </a:lnTo>
                      <a:lnTo>
                        <a:pt x="209" y="101"/>
                      </a:lnTo>
                      <a:lnTo>
                        <a:pt x="209" y="95"/>
                      </a:lnTo>
                      <a:lnTo>
                        <a:pt x="215" y="95"/>
                      </a:lnTo>
                      <a:lnTo>
                        <a:pt x="221" y="95"/>
                      </a:lnTo>
                      <a:lnTo>
                        <a:pt x="221" y="101"/>
                      </a:lnTo>
                      <a:lnTo>
                        <a:pt x="227" y="101"/>
                      </a:lnTo>
                      <a:lnTo>
                        <a:pt x="227" y="107"/>
                      </a:lnTo>
                      <a:lnTo>
                        <a:pt x="221" y="107"/>
                      </a:lnTo>
                      <a:lnTo>
                        <a:pt x="221" y="113"/>
                      </a:lnTo>
                      <a:lnTo>
                        <a:pt x="215" y="113"/>
                      </a:lnTo>
                      <a:lnTo>
                        <a:pt x="209" y="113"/>
                      </a:lnTo>
                      <a:lnTo>
                        <a:pt x="209" y="107"/>
                      </a:lnTo>
                      <a:lnTo>
                        <a:pt x="209" y="113"/>
                      </a:lnTo>
                      <a:lnTo>
                        <a:pt x="215" y="113"/>
                      </a:lnTo>
                      <a:lnTo>
                        <a:pt x="215" y="119"/>
                      </a:lnTo>
                      <a:lnTo>
                        <a:pt x="221" y="119"/>
                      </a:lnTo>
                      <a:lnTo>
                        <a:pt x="221" y="113"/>
                      </a:lnTo>
                      <a:lnTo>
                        <a:pt x="227" y="113"/>
                      </a:lnTo>
                      <a:lnTo>
                        <a:pt x="233" y="107"/>
                      </a:lnTo>
                      <a:lnTo>
                        <a:pt x="233" y="113"/>
                      </a:lnTo>
                      <a:lnTo>
                        <a:pt x="227" y="119"/>
                      </a:lnTo>
                      <a:lnTo>
                        <a:pt x="227" y="125"/>
                      </a:lnTo>
                      <a:lnTo>
                        <a:pt x="227" y="131"/>
                      </a:lnTo>
                      <a:lnTo>
                        <a:pt x="221" y="131"/>
                      </a:lnTo>
                      <a:lnTo>
                        <a:pt x="215" y="131"/>
                      </a:lnTo>
                      <a:lnTo>
                        <a:pt x="215" y="125"/>
                      </a:lnTo>
                      <a:lnTo>
                        <a:pt x="215" y="131"/>
                      </a:lnTo>
                      <a:lnTo>
                        <a:pt x="221" y="131"/>
                      </a:lnTo>
                      <a:lnTo>
                        <a:pt x="221" y="137"/>
                      </a:lnTo>
                      <a:lnTo>
                        <a:pt x="227" y="137"/>
                      </a:lnTo>
                      <a:lnTo>
                        <a:pt x="227" y="143"/>
                      </a:lnTo>
                      <a:lnTo>
                        <a:pt x="227" y="149"/>
                      </a:lnTo>
                      <a:lnTo>
                        <a:pt x="233" y="149"/>
                      </a:lnTo>
                      <a:lnTo>
                        <a:pt x="233" y="155"/>
                      </a:lnTo>
                      <a:lnTo>
                        <a:pt x="227" y="155"/>
                      </a:lnTo>
                      <a:lnTo>
                        <a:pt x="221" y="155"/>
                      </a:lnTo>
                      <a:lnTo>
                        <a:pt x="215" y="155"/>
                      </a:lnTo>
                      <a:lnTo>
                        <a:pt x="221" y="161"/>
                      </a:lnTo>
                      <a:lnTo>
                        <a:pt x="227" y="161"/>
                      </a:lnTo>
                      <a:lnTo>
                        <a:pt x="233" y="161"/>
                      </a:lnTo>
                      <a:lnTo>
                        <a:pt x="233" y="167"/>
                      </a:lnTo>
                      <a:lnTo>
                        <a:pt x="233" y="173"/>
                      </a:lnTo>
                      <a:lnTo>
                        <a:pt x="239" y="173"/>
                      </a:lnTo>
                      <a:lnTo>
                        <a:pt x="239" y="179"/>
                      </a:lnTo>
                      <a:lnTo>
                        <a:pt x="239" y="184"/>
                      </a:lnTo>
                      <a:lnTo>
                        <a:pt x="239" y="179"/>
                      </a:lnTo>
                      <a:lnTo>
                        <a:pt x="233" y="179"/>
                      </a:lnTo>
                      <a:lnTo>
                        <a:pt x="227" y="184"/>
                      </a:lnTo>
                      <a:lnTo>
                        <a:pt x="227" y="179"/>
                      </a:lnTo>
                      <a:lnTo>
                        <a:pt x="227" y="184"/>
                      </a:lnTo>
                      <a:lnTo>
                        <a:pt x="221" y="184"/>
                      </a:lnTo>
                      <a:lnTo>
                        <a:pt x="221" y="179"/>
                      </a:lnTo>
                      <a:lnTo>
                        <a:pt x="215" y="179"/>
                      </a:lnTo>
                      <a:lnTo>
                        <a:pt x="209" y="179"/>
                      </a:lnTo>
                      <a:lnTo>
                        <a:pt x="215" y="179"/>
                      </a:lnTo>
                      <a:lnTo>
                        <a:pt x="221" y="179"/>
                      </a:lnTo>
                      <a:lnTo>
                        <a:pt x="221" y="184"/>
                      </a:lnTo>
                      <a:lnTo>
                        <a:pt x="227" y="184"/>
                      </a:lnTo>
                      <a:lnTo>
                        <a:pt x="233" y="184"/>
                      </a:lnTo>
                      <a:lnTo>
                        <a:pt x="239" y="184"/>
                      </a:lnTo>
                      <a:lnTo>
                        <a:pt x="245" y="184"/>
                      </a:lnTo>
                      <a:lnTo>
                        <a:pt x="245" y="179"/>
                      </a:lnTo>
                      <a:lnTo>
                        <a:pt x="245" y="173"/>
                      </a:lnTo>
                      <a:lnTo>
                        <a:pt x="245" y="167"/>
                      </a:lnTo>
                      <a:lnTo>
                        <a:pt x="245" y="161"/>
                      </a:lnTo>
                      <a:lnTo>
                        <a:pt x="245" y="155"/>
                      </a:lnTo>
                      <a:lnTo>
                        <a:pt x="245" y="149"/>
                      </a:lnTo>
                      <a:lnTo>
                        <a:pt x="245" y="143"/>
                      </a:lnTo>
                      <a:lnTo>
                        <a:pt x="245" y="137"/>
                      </a:lnTo>
                      <a:lnTo>
                        <a:pt x="245" y="131"/>
                      </a:lnTo>
                      <a:lnTo>
                        <a:pt x="239" y="131"/>
                      </a:lnTo>
                      <a:lnTo>
                        <a:pt x="239" y="125"/>
                      </a:lnTo>
                      <a:lnTo>
                        <a:pt x="239" y="119"/>
                      </a:lnTo>
                      <a:lnTo>
                        <a:pt x="245" y="119"/>
                      </a:lnTo>
                      <a:lnTo>
                        <a:pt x="245" y="113"/>
                      </a:lnTo>
                      <a:lnTo>
                        <a:pt x="251" y="113"/>
                      </a:lnTo>
                      <a:lnTo>
                        <a:pt x="251" y="107"/>
                      </a:lnTo>
                      <a:lnTo>
                        <a:pt x="251" y="113"/>
                      </a:lnTo>
                      <a:lnTo>
                        <a:pt x="257" y="113"/>
                      </a:lnTo>
                      <a:lnTo>
                        <a:pt x="257" y="119"/>
                      </a:lnTo>
                      <a:lnTo>
                        <a:pt x="263" y="119"/>
                      </a:lnTo>
                      <a:lnTo>
                        <a:pt x="269" y="119"/>
                      </a:lnTo>
                      <a:lnTo>
                        <a:pt x="269" y="113"/>
                      </a:lnTo>
                      <a:lnTo>
                        <a:pt x="263" y="113"/>
                      </a:lnTo>
                      <a:lnTo>
                        <a:pt x="257" y="113"/>
                      </a:lnTo>
                      <a:lnTo>
                        <a:pt x="257" y="107"/>
                      </a:lnTo>
                      <a:lnTo>
                        <a:pt x="263" y="107"/>
                      </a:lnTo>
                      <a:lnTo>
                        <a:pt x="269" y="107"/>
                      </a:lnTo>
                      <a:lnTo>
                        <a:pt x="275" y="107"/>
                      </a:lnTo>
                      <a:lnTo>
                        <a:pt x="275" y="101"/>
                      </a:lnTo>
                      <a:lnTo>
                        <a:pt x="269" y="101"/>
                      </a:lnTo>
                      <a:lnTo>
                        <a:pt x="263" y="101"/>
                      </a:lnTo>
                      <a:lnTo>
                        <a:pt x="269" y="101"/>
                      </a:lnTo>
                      <a:lnTo>
                        <a:pt x="269" y="95"/>
                      </a:lnTo>
                      <a:lnTo>
                        <a:pt x="263" y="95"/>
                      </a:lnTo>
                      <a:lnTo>
                        <a:pt x="263" y="89"/>
                      </a:lnTo>
                      <a:lnTo>
                        <a:pt x="269" y="89"/>
                      </a:lnTo>
                      <a:lnTo>
                        <a:pt x="275" y="95"/>
                      </a:lnTo>
                      <a:lnTo>
                        <a:pt x="275" y="101"/>
                      </a:lnTo>
                      <a:lnTo>
                        <a:pt x="281" y="101"/>
                      </a:lnTo>
                      <a:lnTo>
                        <a:pt x="281" y="95"/>
                      </a:lnTo>
                      <a:lnTo>
                        <a:pt x="281" y="101"/>
                      </a:lnTo>
                      <a:lnTo>
                        <a:pt x="287" y="101"/>
                      </a:lnTo>
                      <a:lnTo>
                        <a:pt x="287" y="107"/>
                      </a:lnTo>
                      <a:lnTo>
                        <a:pt x="293" y="107"/>
                      </a:lnTo>
                      <a:lnTo>
                        <a:pt x="293" y="113"/>
                      </a:lnTo>
                      <a:lnTo>
                        <a:pt x="293" y="119"/>
                      </a:lnTo>
                      <a:lnTo>
                        <a:pt x="293" y="125"/>
                      </a:lnTo>
                      <a:lnTo>
                        <a:pt x="299" y="125"/>
                      </a:lnTo>
                      <a:lnTo>
                        <a:pt x="305" y="131"/>
                      </a:lnTo>
                      <a:lnTo>
                        <a:pt x="305" y="137"/>
                      </a:lnTo>
                      <a:lnTo>
                        <a:pt x="305" y="143"/>
                      </a:lnTo>
                      <a:lnTo>
                        <a:pt x="305" y="149"/>
                      </a:lnTo>
                      <a:lnTo>
                        <a:pt x="310" y="155"/>
                      </a:lnTo>
                      <a:lnTo>
                        <a:pt x="310" y="161"/>
                      </a:lnTo>
                      <a:lnTo>
                        <a:pt x="310" y="167"/>
                      </a:lnTo>
                      <a:lnTo>
                        <a:pt x="305" y="167"/>
                      </a:lnTo>
                      <a:lnTo>
                        <a:pt x="305" y="161"/>
                      </a:lnTo>
                      <a:lnTo>
                        <a:pt x="299" y="161"/>
                      </a:lnTo>
                      <a:lnTo>
                        <a:pt x="299" y="167"/>
                      </a:lnTo>
                      <a:lnTo>
                        <a:pt x="305" y="173"/>
                      </a:lnTo>
                      <a:lnTo>
                        <a:pt x="310" y="173"/>
                      </a:lnTo>
                      <a:lnTo>
                        <a:pt x="310" y="179"/>
                      </a:lnTo>
                      <a:lnTo>
                        <a:pt x="310" y="184"/>
                      </a:lnTo>
                      <a:lnTo>
                        <a:pt x="310" y="190"/>
                      </a:lnTo>
                      <a:lnTo>
                        <a:pt x="305" y="190"/>
                      </a:lnTo>
                      <a:lnTo>
                        <a:pt x="305" y="196"/>
                      </a:lnTo>
                      <a:lnTo>
                        <a:pt x="299" y="196"/>
                      </a:lnTo>
                      <a:lnTo>
                        <a:pt x="299" y="202"/>
                      </a:lnTo>
                      <a:lnTo>
                        <a:pt x="293" y="202"/>
                      </a:lnTo>
                      <a:lnTo>
                        <a:pt x="293" y="196"/>
                      </a:lnTo>
                      <a:lnTo>
                        <a:pt x="299" y="196"/>
                      </a:lnTo>
                      <a:lnTo>
                        <a:pt x="293" y="196"/>
                      </a:lnTo>
                      <a:lnTo>
                        <a:pt x="287" y="196"/>
                      </a:lnTo>
                      <a:lnTo>
                        <a:pt x="281" y="196"/>
                      </a:lnTo>
                      <a:lnTo>
                        <a:pt x="281" y="190"/>
                      </a:lnTo>
                      <a:lnTo>
                        <a:pt x="281" y="184"/>
                      </a:lnTo>
                      <a:lnTo>
                        <a:pt x="275" y="184"/>
                      </a:lnTo>
                      <a:lnTo>
                        <a:pt x="275" y="190"/>
                      </a:lnTo>
                      <a:lnTo>
                        <a:pt x="275" y="196"/>
                      </a:lnTo>
                      <a:lnTo>
                        <a:pt x="281" y="196"/>
                      </a:lnTo>
                      <a:lnTo>
                        <a:pt x="281" y="202"/>
                      </a:lnTo>
                      <a:lnTo>
                        <a:pt x="275" y="202"/>
                      </a:lnTo>
                      <a:lnTo>
                        <a:pt x="275" y="208"/>
                      </a:lnTo>
                      <a:lnTo>
                        <a:pt x="275" y="214"/>
                      </a:lnTo>
                      <a:lnTo>
                        <a:pt x="275" y="208"/>
                      </a:lnTo>
                      <a:lnTo>
                        <a:pt x="275" y="214"/>
                      </a:lnTo>
                      <a:lnTo>
                        <a:pt x="269" y="214"/>
                      </a:lnTo>
                      <a:lnTo>
                        <a:pt x="269" y="220"/>
                      </a:lnTo>
                      <a:lnTo>
                        <a:pt x="263" y="220"/>
                      </a:lnTo>
                      <a:lnTo>
                        <a:pt x="263" y="226"/>
                      </a:lnTo>
                      <a:lnTo>
                        <a:pt x="269" y="226"/>
                      </a:lnTo>
                      <a:lnTo>
                        <a:pt x="269" y="232"/>
                      </a:lnTo>
                      <a:lnTo>
                        <a:pt x="263" y="232"/>
                      </a:lnTo>
                      <a:lnTo>
                        <a:pt x="257" y="232"/>
                      </a:lnTo>
                      <a:lnTo>
                        <a:pt x="257" y="238"/>
                      </a:lnTo>
                      <a:lnTo>
                        <a:pt x="263" y="238"/>
                      </a:lnTo>
                      <a:lnTo>
                        <a:pt x="263" y="244"/>
                      </a:lnTo>
                      <a:lnTo>
                        <a:pt x="257" y="244"/>
                      </a:lnTo>
                      <a:lnTo>
                        <a:pt x="257" y="250"/>
                      </a:lnTo>
                      <a:lnTo>
                        <a:pt x="263" y="250"/>
                      </a:lnTo>
                      <a:lnTo>
                        <a:pt x="257" y="250"/>
                      </a:lnTo>
                      <a:lnTo>
                        <a:pt x="251" y="250"/>
                      </a:lnTo>
                      <a:lnTo>
                        <a:pt x="251" y="256"/>
                      </a:lnTo>
                      <a:lnTo>
                        <a:pt x="245" y="256"/>
                      </a:lnTo>
                      <a:lnTo>
                        <a:pt x="251" y="256"/>
                      </a:lnTo>
                      <a:lnTo>
                        <a:pt x="245" y="256"/>
                      </a:lnTo>
                      <a:lnTo>
                        <a:pt x="245" y="262"/>
                      </a:lnTo>
                      <a:lnTo>
                        <a:pt x="251" y="262"/>
                      </a:lnTo>
                      <a:lnTo>
                        <a:pt x="251" y="268"/>
                      </a:lnTo>
                      <a:lnTo>
                        <a:pt x="245" y="268"/>
                      </a:lnTo>
                      <a:lnTo>
                        <a:pt x="245" y="274"/>
                      </a:lnTo>
                      <a:lnTo>
                        <a:pt x="239" y="274"/>
                      </a:lnTo>
                      <a:lnTo>
                        <a:pt x="239" y="280"/>
                      </a:lnTo>
                      <a:lnTo>
                        <a:pt x="233" y="280"/>
                      </a:lnTo>
                      <a:lnTo>
                        <a:pt x="227" y="280"/>
                      </a:lnTo>
                      <a:lnTo>
                        <a:pt x="221" y="280"/>
                      </a:lnTo>
                      <a:lnTo>
                        <a:pt x="215" y="280"/>
                      </a:lnTo>
                      <a:lnTo>
                        <a:pt x="221" y="280"/>
                      </a:lnTo>
                      <a:lnTo>
                        <a:pt x="215" y="274"/>
                      </a:lnTo>
                      <a:lnTo>
                        <a:pt x="209" y="274"/>
                      </a:lnTo>
                      <a:lnTo>
                        <a:pt x="215" y="274"/>
                      </a:lnTo>
                      <a:lnTo>
                        <a:pt x="209" y="268"/>
                      </a:lnTo>
                      <a:lnTo>
                        <a:pt x="209" y="274"/>
                      </a:lnTo>
                      <a:lnTo>
                        <a:pt x="209" y="280"/>
                      </a:lnTo>
                      <a:lnTo>
                        <a:pt x="209" y="286"/>
                      </a:lnTo>
                      <a:lnTo>
                        <a:pt x="203" y="280"/>
                      </a:lnTo>
                      <a:lnTo>
                        <a:pt x="203" y="274"/>
                      </a:lnTo>
                      <a:lnTo>
                        <a:pt x="197" y="274"/>
                      </a:lnTo>
                      <a:lnTo>
                        <a:pt x="197" y="280"/>
                      </a:lnTo>
                      <a:lnTo>
                        <a:pt x="197" y="274"/>
                      </a:lnTo>
                      <a:lnTo>
                        <a:pt x="191" y="274"/>
                      </a:lnTo>
                      <a:lnTo>
                        <a:pt x="191" y="268"/>
                      </a:lnTo>
                      <a:lnTo>
                        <a:pt x="185" y="268"/>
                      </a:lnTo>
                      <a:lnTo>
                        <a:pt x="185" y="274"/>
                      </a:lnTo>
                      <a:lnTo>
                        <a:pt x="191" y="274"/>
                      </a:lnTo>
                      <a:lnTo>
                        <a:pt x="185" y="274"/>
                      </a:lnTo>
                      <a:lnTo>
                        <a:pt x="191" y="274"/>
                      </a:lnTo>
                      <a:lnTo>
                        <a:pt x="185" y="274"/>
                      </a:lnTo>
                      <a:lnTo>
                        <a:pt x="191" y="274"/>
                      </a:lnTo>
                      <a:lnTo>
                        <a:pt x="191" y="280"/>
                      </a:lnTo>
                      <a:lnTo>
                        <a:pt x="197" y="286"/>
                      </a:lnTo>
                      <a:lnTo>
                        <a:pt x="191" y="286"/>
                      </a:lnTo>
                      <a:lnTo>
                        <a:pt x="185" y="286"/>
                      </a:lnTo>
                      <a:lnTo>
                        <a:pt x="179" y="286"/>
                      </a:lnTo>
                      <a:lnTo>
                        <a:pt x="173" y="286"/>
                      </a:lnTo>
                      <a:lnTo>
                        <a:pt x="173" y="280"/>
                      </a:lnTo>
                      <a:lnTo>
                        <a:pt x="179" y="280"/>
                      </a:lnTo>
                      <a:lnTo>
                        <a:pt x="185" y="280"/>
                      </a:lnTo>
                      <a:lnTo>
                        <a:pt x="185" y="274"/>
                      </a:lnTo>
                      <a:lnTo>
                        <a:pt x="179" y="274"/>
                      </a:lnTo>
                      <a:lnTo>
                        <a:pt x="179" y="268"/>
                      </a:lnTo>
                      <a:lnTo>
                        <a:pt x="173" y="262"/>
                      </a:lnTo>
                      <a:lnTo>
                        <a:pt x="173" y="256"/>
                      </a:lnTo>
                      <a:lnTo>
                        <a:pt x="173" y="262"/>
                      </a:lnTo>
                      <a:lnTo>
                        <a:pt x="167" y="262"/>
                      </a:lnTo>
                      <a:lnTo>
                        <a:pt x="167" y="268"/>
                      </a:lnTo>
                      <a:lnTo>
                        <a:pt x="167" y="262"/>
                      </a:lnTo>
                      <a:lnTo>
                        <a:pt x="173" y="268"/>
                      </a:lnTo>
                      <a:lnTo>
                        <a:pt x="167" y="268"/>
                      </a:lnTo>
                      <a:lnTo>
                        <a:pt x="173" y="268"/>
                      </a:lnTo>
                      <a:lnTo>
                        <a:pt x="173" y="274"/>
                      </a:lnTo>
                      <a:lnTo>
                        <a:pt x="167" y="274"/>
                      </a:lnTo>
                      <a:lnTo>
                        <a:pt x="167" y="280"/>
                      </a:lnTo>
                      <a:lnTo>
                        <a:pt x="167" y="274"/>
                      </a:lnTo>
                      <a:lnTo>
                        <a:pt x="167" y="268"/>
                      </a:lnTo>
                      <a:lnTo>
                        <a:pt x="161" y="268"/>
                      </a:lnTo>
                      <a:lnTo>
                        <a:pt x="161" y="274"/>
                      </a:lnTo>
                      <a:lnTo>
                        <a:pt x="161" y="280"/>
                      </a:lnTo>
                      <a:lnTo>
                        <a:pt x="167" y="286"/>
                      </a:lnTo>
                      <a:lnTo>
                        <a:pt x="161" y="286"/>
                      </a:lnTo>
                      <a:lnTo>
                        <a:pt x="155" y="286"/>
                      </a:lnTo>
                      <a:lnTo>
                        <a:pt x="155" y="280"/>
                      </a:lnTo>
                      <a:lnTo>
                        <a:pt x="149" y="280"/>
                      </a:lnTo>
                      <a:lnTo>
                        <a:pt x="143" y="274"/>
                      </a:lnTo>
                      <a:lnTo>
                        <a:pt x="149" y="274"/>
                      </a:lnTo>
                      <a:lnTo>
                        <a:pt x="155" y="274"/>
                      </a:lnTo>
                      <a:lnTo>
                        <a:pt x="149" y="274"/>
                      </a:lnTo>
                      <a:lnTo>
                        <a:pt x="149" y="268"/>
                      </a:lnTo>
                      <a:lnTo>
                        <a:pt x="143" y="268"/>
                      </a:lnTo>
                      <a:lnTo>
                        <a:pt x="149" y="268"/>
                      </a:lnTo>
                      <a:lnTo>
                        <a:pt x="143" y="268"/>
                      </a:lnTo>
                      <a:lnTo>
                        <a:pt x="143" y="274"/>
                      </a:lnTo>
                      <a:lnTo>
                        <a:pt x="143" y="268"/>
                      </a:lnTo>
                      <a:lnTo>
                        <a:pt x="137" y="268"/>
                      </a:lnTo>
                      <a:lnTo>
                        <a:pt x="143" y="268"/>
                      </a:lnTo>
                      <a:lnTo>
                        <a:pt x="143" y="262"/>
                      </a:lnTo>
                      <a:lnTo>
                        <a:pt x="149" y="262"/>
                      </a:lnTo>
                      <a:lnTo>
                        <a:pt x="155" y="262"/>
                      </a:lnTo>
                      <a:lnTo>
                        <a:pt x="149" y="262"/>
                      </a:lnTo>
                      <a:lnTo>
                        <a:pt x="149" y="256"/>
                      </a:lnTo>
                      <a:lnTo>
                        <a:pt x="143" y="256"/>
                      </a:lnTo>
                      <a:lnTo>
                        <a:pt x="143" y="262"/>
                      </a:lnTo>
                      <a:lnTo>
                        <a:pt x="137" y="262"/>
                      </a:lnTo>
                      <a:lnTo>
                        <a:pt x="137" y="256"/>
                      </a:lnTo>
                      <a:lnTo>
                        <a:pt x="132" y="256"/>
                      </a:lnTo>
                      <a:lnTo>
                        <a:pt x="132" y="250"/>
                      </a:lnTo>
                      <a:lnTo>
                        <a:pt x="137" y="250"/>
                      </a:lnTo>
                      <a:lnTo>
                        <a:pt x="143" y="250"/>
                      </a:lnTo>
                      <a:lnTo>
                        <a:pt x="149" y="250"/>
                      </a:lnTo>
                      <a:lnTo>
                        <a:pt x="149" y="256"/>
                      </a:lnTo>
                      <a:lnTo>
                        <a:pt x="155" y="256"/>
                      </a:lnTo>
                      <a:lnTo>
                        <a:pt x="155" y="250"/>
                      </a:lnTo>
                      <a:lnTo>
                        <a:pt x="161" y="250"/>
                      </a:lnTo>
                      <a:lnTo>
                        <a:pt x="155" y="244"/>
                      </a:lnTo>
                      <a:lnTo>
                        <a:pt x="155" y="238"/>
                      </a:lnTo>
                      <a:lnTo>
                        <a:pt x="161" y="232"/>
                      </a:lnTo>
                      <a:lnTo>
                        <a:pt x="155" y="232"/>
                      </a:lnTo>
                      <a:lnTo>
                        <a:pt x="149" y="232"/>
                      </a:lnTo>
                      <a:lnTo>
                        <a:pt x="143" y="226"/>
                      </a:lnTo>
                      <a:lnTo>
                        <a:pt x="143" y="232"/>
                      </a:lnTo>
                      <a:lnTo>
                        <a:pt x="137" y="232"/>
                      </a:lnTo>
                      <a:lnTo>
                        <a:pt x="143" y="232"/>
                      </a:lnTo>
                      <a:lnTo>
                        <a:pt x="149" y="232"/>
                      </a:lnTo>
                      <a:lnTo>
                        <a:pt x="149" y="238"/>
                      </a:lnTo>
                      <a:lnTo>
                        <a:pt x="149" y="244"/>
                      </a:lnTo>
                      <a:lnTo>
                        <a:pt x="143" y="244"/>
                      </a:lnTo>
                      <a:lnTo>
                        <a:pt x="143" y="238"/>
                      </a:lnTo>
                      <a:lnTo>
                        <a:pt x="137" y="238"/>
                      </a:lnTo>
                      <a:lnTo>
                        <a:pt x="137" y="244"/>
                      </a:lnTo>
                      <a:lnTo>
                        <a:pt x="132" y="244"/>
                      </a:lnTo>
                      <a:lnTo>
                        <a:pt x="132" y="238"/>
                      </a:lnTo>
                      <a:lnTo>
                        <a:pt x="132" y="244"/>
                      </a:lnTo>
                      <a:lnTo>
                        <a:pt x="126" y="244"/>
                      </a:lnTo>
                      <a:lnTo>
                        <a:pt x="126" y="250"/>
                      </a:lnTo>
                      <a:lnTo>
                        <a:pt x="120" y="250"/>
                      </a:lnTo>
                      <a:lnTo>
                        <a:pt x="120" y="244"/>
                      </a:lnTo>
                      <a:lnTo>
                        <a:pt x="114" y="244"/>
                      </a:lnTo>
                      <a:lnTo>
                        <a:pt x="114" y="238"/>
                      </a:lnTo>
                      <a:lnTo>
                        <a:pt x="108" y="238"/>
                      </a:lnTo>
                      <a:lnTo>
                        <a:pt x="108" y="244"/>
                      </a:lnTo>
                      <a:lnTo>
                        <a:pt x="102" y="244"/>
                      </a:lnTo>
                      <a:lnTo>
                        <a:pt x="108" y="250"/>
                      </a:lnTo>
                      <a:lnTo>
                        <a:pt x="114" y="250"/>
                      </a:lnTo>
                      <a:lnTo>
                        <a:pt x="114" y="244"/>
                      </a:lnTo>
                      <a:lnTo>
                        <a:pt x="114" y="250"/>
                      </a:lnTo>
                      <a:lnTo>
                        <a:pt x="120" y="250"/>
                      </a:lnTo>
                      <a:lnTo>
                        <a:pt x="114" y="256"/>
                      </a:lnTo>
                      <a:lnTo>
                        <a:pt x="108" y="256"/>
                      </a:lnTo>
                      <a:lnTo>
                        <a:pt x="108" y="262"/>
                      </a:lnTo>
                      <a:lnTo>
                        <a:pt x="102" y="262"/>
                      </a:lnTo>
                      <a:lnTo>
                        <a:pt x="102" y="256"/>
                      </a:lnTo>
                      <a:lnTo>
                        <a:pt x="96" y="256"/>
                      </a:lnTo>
                      <a:lnTo>
                        <a:pt x="102" y="256"/>
                      </a:lnTo>
                      <a:lnTo>
                        <a:pt x="102" y="262"/>
                      </a:lnTo>
                      <a:lnTo>
                        <a:pt x="108" y="262"/>
                      </a:lnTo>
                      <a:lnTo>
                        <a:pt x="114" y="262"/>
                      </a:lnTo>
                      <a:lnTo>
                        <a:pt x="114" y="256"/>
                      </a:lnTo>
                      <a:lnTo>
                        <a:pt x="120" y="256"/>
                      </a:lnTo>
                      <a:lnTo>
                        <a:pt x="126" y="256"/>
                      </a:lnTo>
                      <a:lnTo>
                        <a:pt x="126" y="262"/>
                      </a:lnTo>
                      <a:lnTo>
                        <a:pt x="126" y="268"/>
                      </a:lnTo>
                      <a:lnTo>
                        <a:pt x="132" y="274"/>
                      </a:lnTo>
                      <a:lnTo>
                        <a:pt x="132" y="280"/>
                      </a:lnTo>
                      <a:lnTo>
                        <a:pt x="137" y="280"/>
                      </a:lnTo>
                      <a:lnTo>
                        <a:pt x="132" y="280"/>
                      </a:lnTo>
                      <a:lnTo>
                        <a:pt x="137" y="280"/>
                      </a:lnTo>
                      <a:lnTo>
                        <a:pt x="137" y="286"/>
                      </a:lnTo>
                      <a:lnTo>
                        <a:pt x="132" y="286"/>
                      </a:lnTo>
                      <a:lnTo>
                        <a:pt x="126" y="286"/>
                      </a:lnTo>
                      <a:lnTo>
                        <a:pt x="120" y="286"/>
                      </a:lnTo>
                      <a:lnTo>
                        <a:pt x="120" y="280"/>
                      </a:lnTo>
                      <a:lnTo>
                        <a:pt x="126" y="280"/>
                      </a:lnTo>
                      <a:lnTo>
                        <a:pt x="126" y="274"/>
                      </a:lnTo>
                      <a:lnTo>
                        <a:pt x="120" y="274"/>
                      </a:lnTo>
                      <a:lnTo>
                        <a:pt x="120" y="280"/>
                      </a:lnTo>
                      <a:lnTo>
                        <a:pt x="120" y="274"/>
                      </a:lnTo>
                      <a:lnTo>
                        <a:pt x="114" y="274"/>
                      </a:lnTo>
                      <a:lnTo>
                        <a:pt x="114" y="280"/>
                      </a:lnTo>
                      <a:lnTo>
                        <a:pt x="108" y="280"/>
                      </a:lnTo>
                      <a:lnTo>
                        <a:pt x="102" y="280"/>
                      </a:lnTo>
                      <a:lnTo>
                        <a:pt x="96" y="286"/>
                      </a:lnTo>
                      <a:lnTo>
                        <a:pt x="96" y="280"/>
                      </a:lnTo>
                      <a:lnTo>
                        <a:pt x="90" y="280"/>
                      </a:lnTo>
                      <a:lnTo>
                        <a:pt x="84" y="280"/>
                      </a:lnTo>
                      <a:lnTo>
                        <a:pt x="84" y="274"/>
                      </a:lnTo>
                      <a:lnTo>
                        <a:pt x="90" y="274"/>
                      </a:lnTo>
                      <a:lnTo>
                        <a:pt x="84" y="274"/>
                      </a:lnTo>
                      <a:lnTo>
                        <a:pt x="78" y="268"/>
                      </a:lnTo>
                      <a:lnTo>
                        <a:pt x="84" y="268"/>
                      </a:lnTo>
                      <a:lnTo>
                        <a:pt x="84" y="262"/>
                      </a:lnTo>
                      <a:lnTo>
                        <a:pt x="78" y="262"/>
                      </a:lnTo>
                      <a:lnTo>
                        <a:pt x="78" y="268"/>
                      </a:lnTo>
                      <a:lnTo>
                        <a:pt x="78" y="274"/>
                      </a:lnTo>
                      <a:lnTo>
                        <a:pt x="78" y="280"/>
                      </a:lnTo>
                      <a:lnTo>
                        <a:pt x="72" y="280"/>
                      </a:lnTo>
                      <a:lnTo>
                        <a:pt x="66" y="280"/>
                      </a:lnTo>
                      <a:lnTo>
                        <a:pt x="60" y="280"/>
                      </a:lnTo>
                      <a:lnTo>
                        <a:pt x="54" y="280"/>
                      </a:lnTo>
                      <a:lnTo>
                        <a:pt x="60" y="280"/>
                      </a:lnTo>
                      <a:lnTo>
                        <a:pt x="60" y="274"/>
                      </a:lnTo>
                      <a:lnTo>
                        <a:pt x="54" y="274"/>
                      </a:lnTo>
                      <a:lnTo>
                        <a:pt x="54" y="280"/>
                      </a:lnTo>
                      <a:lnTo>
                        <a:pt x="48" y="280"/>
                      </a:lnTo>
                      <a:lnTo>
                        <a:pt x="48" y="274"/>
                      </a:lnTo>
                      <a:lnTo>
                        <a:pt x="48" y="268"/>
                      </a:lnTo>
                      <a:lnTo>
                        <a:pt x="48" y="274"/>
                      </a:lnTo>
                      <a:lnTo>
                        <a:pt x="48" y="280"/>
                      </a:lnTo>
                      <a:lnTo>
                        <a:pt x="42" y="280"/>
                      </a:lnTo>
                      <a:lnTo>
                        <a:pt x="42" y="274"/>
                      </a:lnTo>
                      <a:lnTo>
                        <a:pt x="36" y="274"/>
                      </a:lnTo>
                      <a:lnTo>
                        <a:pt x="36" y="268"/>
                      </a:lnTo>
                      <a:lnTo>
                        <a:pt x="30" y="268"/>
                      </a:lnTo>
                      <a:lnTo>
                        <a:pt x="24" y="268"/>
                      </a:lnTo>
                      <a:lnTo>
                        <a:pt x="24" y="262"/>
                      </a:lnTo>
                      <a:lnTo>
                        <a:pt x="18" y="262"/>
                      </a:lnTo>
                      <a:lnTo>
                        <a:pt x="12" y="262"/>
                      </a:lnTo>
                      <a:lnTo>
                        <a:pt x="6" y="262"/>
                      </a:lnTo>
                      <a:lnTo>
                        <a:pt x="0" y="262"/>
                      </a:lnTo>
                      <a:lnTo>
                        <a:pt x="6" y="262"/>
                      </a:lnTo>
                      <a:lnTo>
                        <a:pt x="12" y="262"/>
                      </a:lnTo>
                      <a:lnTo>
                        <a:pt x="18" y="268"/>
                      </a:lnTo>
                      <a:lnTo>
                        <a:pt x="24" y="268"/>
                      </a:lnTo>
                      <a:lnTo>
                        <a:pt x="30" y="268"/>
                      </a:lnTo>
                      <a:lnTo>
                        <a:pt x="30" y="274"/>
                      </a:lnTo>
                      <a:lnTo>
                        <a:pt x="36" y="274"/>
                      </a:lnTo>
                      <a:lnTo>
                        <a:pt x="30" y="274"/>
                      </a:lnTo>
                      <a:lnTo>
                        <a:pt x="24" y="274"/>
                      </a:lnTo>
                      <a:lnTo>
                        <a:pt x="30" y="274"/>
                      </a:lnTo>
                      <a:lnTo>
                        <a:pt x="30" y="280"/>
                      </a:lnTo>
                      <a:lnTo>
                        <a:pt x="36" y="280"/>
                      </a:lnTo>
                      <a:lnTo>
                        <a:pt x="42" y="280"/>
                      </a:lnTo>
                      <a:lnTo>
                        <a:pt x="48" y="286"/>
                      </a:lnTo>
                      <a:lnTo>
                        <a:pt x="48" y="292"/>
                      </a:lnTo>
                      <a:lnTo>
                        <a:pt x="48" y="298"/>
                      </a:lnTo>
                      <a:lnTo>
                        <a:pt x="54" y="298"/>
                      </a:lnTo>
                      <a:lnTo>
                        <a:pt x="48" y="304"/>
                      </a:lnTo>
                      <a:lnTo>
                        <a:pt x="54" y="304"/>
                      </a:lnTo>
                      <a:lnTo>
                        <a:pt x="54" y="298"/>
                      </a:lnTo>
                      <a:lnTo>
                        <a:pt x="54" y="292"/>
                      </a:lnTo>
                      <a:lnTo>
                        <a:pt x="48" y="292"/>
                      </a:lnTo>
                      <a:lnTo>
                        <a:pt x="54" y="292"/>
                      </a:lnTo>
                      <a:lnTo>
                        <a:pt x="54" y="286"/>
                      </a:lnTo>
                      <a:lnTo>
                        <a:pt x="60" y="286"/>
                      </a:lnTo>
                      <a:lnTo>
                        <a:pt x="60" y="292"/>
                      </a:lnTo>
                      <a:lnTo>
                        <a:pt x="60" y="298"/>
                      </a:lnTo>
                      <a:lnTo>
                        <a:pt x="60" y="292"/>
                      </a:lnTo>
                      <a:lnTo>
                        <a:pt x="66" y="292"/>
                      </a:lnTo>
                      <a:lnTo>
                        <a:pt x="66" y="286"/>
                      </a:lnTo>
                      <a:lnTo>
                        <a:pt x="72" y="286"/>
                      </a:lnTo>
                      <a:lnTo>
                        <a:pt x="78" y="286"/>
                      </a:lnTo>
                      <a:lnTo>
                        <a:pt x="78" y="292"/>
                      </a:lnTo>
                      <a:lnTo>
                        <a:pt x="84" y="292"/>
                      </a:lnTo>
                      <a:lnTo>
                        <a:pt x="84" y="298"/>
                      </a:lnTo>
                      <a:lnTo>
                        <a:pt x="78" y="298"/>
                      </a:lnTo>
                      <a:lnTo>
                        <a:pt x="78" y="304"/>
                      </a:lnTo>
                      <a:lnTo>
                        <a:pt x="84" y="304"/>
                      </a:lnTo>
                      <a:lnTo>
                        <a:pt x="84" y="298"/>
                      </a:lnTo>
                      <a:lnTo>
                        <a:pt x="90" y="292"/>
                      </a:lnTo>
                      <a:lnTo>
                        <a:pt x="90" y="298"/>
                      </a:lnTo>
                      <a:lnTo>
                        <a:pt x="96" y="298"/>
                      </a:lnTo>
                      <a:lnTo>
                        <a:pt x="102" y="298"/>
                      </a:lnTo>
                      <a:lnTo>
                        <a:pt x="108" y="298"/>
                      </a:lnTo>
                      <a:lnTo>
                        <a:pt x="114" y="298"/>
                      </a:lnTo>
                      <a:lnTo>
                        <a:pt x="108" y="304"/>
                      </a:lnTo>
                      <a:lnTo>
                        <a:pt x="102" y="304"/>
                      </a:lnTo>
                      <a:lnTo>
                        <a:pt x="102" y="310"/>
                      </a:lnTo>
                      <a:lnTo>
                        <a:pt x="96" y="310"/>
                      </a:lnTo>
                      <a:lnTo>
                        <a:pt x="96" y="316"/>
                      </a:lnTo>
                      <a:lnTo>
                        <a:pt x="102" y="316"/>
                      </a:lnTo>
                      <a:lnTo>
                        <a:pt x="102" y="310"/>
                      </a:lnTo>
                      <a:lnTo>
                        <a:pt x="108" y="310"/>
                      </a:lnTo>
                      <a:lnTo>
                        <a:pt x="108" y="304"/>
                      </a:lnTo>
                      <a:lnTo>
                        <a:pt x="114" y="304"/>
                      </a:lnTo>
                      <a:lnTo>
                        <a:pt x="114" y="310"/>
                      </a:lnTo>
                      <a:lnTo>
                        <a:pt x="114" y="304"/>
                      </a:lnTo>
                      <a:lnTo>
                        <a:pt x="114" y="310"/>
                      </a:lnTo>
                      <a:lnTo>
                        <a:pt x="120" y="304"/>
                      </a:lnTo>
                      <a:lnTo>
                        <a:pt x="114" y="304"/>
                      </a:lnTo>
                      <a:lnTo>
                        <a:pt x="120" y="304"/>
                      </a:lnTo>
                      <a:lnTo>
                        <a:pt x="126" y="304"/>
                      </a:lnTo>
                      <a:lnTo>
                        <a:pt x="132" y="304"/>
                      </a:lnTo>
                      <a:lnTo>
                        <a:pt x="126" y="304"/>
                      </a:lnTo>
                      <a:lnTo>
                        <a:pt x="126" y="310"/>
                      </a:lnTo>
                      <a:lnTo>
                        <a:pt x="132" y="310"/>
                      </a:lnTo>
                      <a:lnTo>
                        <a:pt x="132" y="304"/>
                      </a:lnTo>
                      <a:lnTo>
                        <a:pt x="132" y="310"/>
                      </a:lnTo>
                      <a:lnTo>
                        <a:pt x="132" y="316"/>
                      </a:lnTo>
                      <a:lnTo>
                        <a:pt x="126" y="316"/>
                      </a:lnTo>
                      <a:lnTo>
                        <a:pt x="132" y="316"/>
                      </a:lnTo>
                      <a:lnTo>
                        <a:pt x="137" y="316"/>
                      </a:lnTo>
                      <a:lnTo>
                        <a:pt x="132" y="316"/>
                      </a:lnTo>
                      <a:lnTo>
                        <a:pt x="126" y="316"/>
                      </a:lnTo>
                      <a:lnTo>
                        <a:pt x="126" y="322"/>
                      </a:lnTo>
                      <a:lnTo>
                        <a:pt x="132" y="322"/>
                      </a:lnTo>
                      <a:lnTo>
                        <a:pt x="132" y="316"/>
                      </a:lnTo>
                      <a:lnTo>
                        <a:pt x="137" y="316"/>
                      </a:lnTo>
                      <a:lnTo>
                        <a:pt x="137" y="322"/>
                      </a:lnTo>
                      <a:lnTo>
                        <a:pt x="137" y="316"/>
                      </a:lnTo>
                      <a:lnTo>
                        <a:pt x="143" y="316"/>
                      </a:lnTo>
                      <a:lnTo>
                        <a:pt x="143" y="310"/>
                      </a:lnTo>
                      <a:lnTo>
                        <a:pt x="137" y="310"/>
                      </a:lnTo>
                      <a:lnTo>
                        <a:pt x="137" y="316"/>
                      </a:lnTo>
                      <a:lnTo>
                        <a:pt x="137" y="310"/>
                      </a:lnTo>
                      <a:lnTo>
                        <a:pt x="137" y="304"/>
                      </a:lnTo>
                      <a:lnTo>
                        <a:pt x="143" y="304"/>
                      </a:lnTo>
                      <a:lnTo>
                        <a:pt x="149" y="304"/>
                      </a:lnTo>
                      <a:lnTo>
                        <a:pt x="143" y="304"/>
                      </a:lnTo>
                      <a:lnTo>
                        <a:pt x="149" y="304"/>
                      </a:lnTo>
                      <a:lnTo>
                        <a:pt x="149" y="310"/>
                      </a:lnTo>
                      <a:lnTo>
                        <a:pt x="155" y="310"/>
                      </a:lnTo>
                      <a:lnTo>
                        <a:pt x="149" y="310"/>
                      </a:lnTo>
                      <a:lnTo>
                        <a:pt x="155" y="316"/>
                      </a:lnTo>
                      <a:lnTo>
                        <a:pt x="155" y="310"/>
                      </a:lnTo>
                      <a:lnTo>
                        <a:pt x="155" y="304"/>
                      </a:lnTo>
                      <a:lnTo>
                        <a:pt x="161" y="304"/>
                      </a:lnTo>
                      <a:lnTo>
                        <a:pt x="161" y="310"/>
                      </a:lnTo>
                      <a:lnTo>
                        <a:pt x="161" y="316"/>
                      </a:lnTo>
                      <a:lnTo>
                        <a:pt x="167" y="316"/>
                      </a:lnTo>
                      <a:lnTo>
                        <a:pt x="167" y="310"/>
                      </a:lnTo>
                      <a:lnTo>
                        <a:pt x="167" y="316"/>
                      </a:lnTo>
                      <a:lnTo>
                        <a:pt x="173" y="316"/>
                      </a:lnTo>
                      <a:lnTo>
                        <a:pt x="167" y="316"/>
                      </a:lnTo>
                      <a:lnTo>
                        <a:pt x="161" y="316"/>
                      </a:lnTo>
                      <a:lnTo>
                        <a:pt x="167" y="316"/>
                      </a:lnTo>
                      <a:lnTo>
                        <a:pt x="167" y="322"/>
                      </a:lnTo>
                      <a:lnTo>
                        <a:pt x="161" y="322"/>
                      </a:lnTo>
                      <a:lnTo>
                        <a:pt x="155" y="322"/>
                      </a:lnTo>
                      <a:lnTo>
                        <a:pt x="161" y="322"/>
                      </a:lnTo>
                      <a:lnTo>
                        <a:pt x="161" y="328"/>
                      </a:lnTo>
                      <a:lnTo>
                        <a:pt x="167" y="328"/>
                      </a:lnTo>
                      <a:lnTo>
                        <a:pt x="161" y="328"/>
                      </a:lnTo>
                      <a:lnTo>
                        <a:pt x="155" y="328"/>
                      </a:lnTo>
                      <a:lnTo>
                        <a:pt x="149" y="328"/>
                      </a:lnTo>
                      <a:lnTo>
                        <a:pt x="143" y="328"/>
                      </a:lnTo>
                      <a:lnTo>
                        <a:pt x="149" y="328"/>
                      </a:lnTo>
                      <a:lnTo>
                        <a:pt x="149" y="334"/>
                      </a:lnTo>
                      <a:lnTo>
                        <a:pt x="155" y="334"/>
                      </a:lnTo>
                      <a:lnTo>
                        <a:pt x="161" y="334"/>
                      </a:lnTo>
                      <a:lnTo>
                        <a:pt x="161" y="340"/>
                      </a:lnTo>
                      <a:lnTo>
                        <a:pt x="155" y="340"/>
                      </a:lnTo>
                      <a:lnTo>
                        <a:pt x="155" y="334"/>
                      </a:lnTo>
                      <a:lnTo>
                        <a:pt x="155" y="340"/>
                      </a:lnTo>
                      <a:lnTo>
                        <a:pt x="149" y="340"/>
                      </a:lnTo>
                      <a:lnTo>
                        <a:pt x="149" y="334"/>
                      </a:lnTo>
                      <a:lnTo>
                        <a:pt x="143" y="334"/>
                      </a:lnTo>
                      <a:lnTo>
                        <a:pt x="149" y="334"/>
                      </a:lnTo>
                      <a:lnTo>
                        <a:pt x="149" y="340"/>
                      </a:lnTo>
                      <a:lnTo>
                        <a:pt x="143" y="340"/>
                      </a:lnTo>
                      <a:lnTo>
                        <a:pt x="137" y="340"/>
                      </a:lnTo>
                      <a:lnTo>
                        <a:pt x="143" y="340"/>
                      </a:lnTo>
                      <a:lnTo>
                        <a:pt x="143" y="346"/>
                      </a:lnTo>
                      <a:lnTo>
                        <a:pt x="137" y="346"/>
                      </a:lnTo>
                      <a:lnTo>
                        <a:pt x="132" y="346"/>
                      </a:lnTo>
                      <a:lnTo>
                        <a:pt x="137" y="346"/>
                      </a:lnTo>
                      <a:lnTo>
                        <a:pt x="137" y="340"/>
                      </a:lnTo>
                      <a:lnTo>
                        <a:pt x="132" y="340"/>
                      </a:lnTo>
                      <a:lnTo>
                        <a:pt x="132" y="346"/>
                      </a:lnTo>
                      <a:lnTo>
                        <a:pt x="132" y="352"/>
                      </a:lnTo>
                      <a:lnTo>
                        <a:pt x="126" y="352"/>
                      </a:lnTo>
                      <a:lnTo>
                        <a:pt x="126" y="358"/>
                      </a:lnTo>
                      <a:lnTo>
                        <a:pt x="120" y="358"/>
                      </a:lnTo>
                      <a:lnTo>
                        <a:pt x="120" y="364"/>
                      </a:lnTo>
                      <a:lnTo>
                        <a:pt x="120" y="358"/>
                      </a:lnTo>
                      <a:lnTo>
                        <a:pt x="126" y="358"/>
                      </a:lnTo>
                      <a:lnTo>
                        <a:pt x="126" y="364"/>
                      </a:lnTo>
                      <a:lnTo>
                        <a:pt x="126" y="358"/>
                      </a:lnTo>
                      <a:lnTo>
                        <a:pt x="132" y="358"/>
                      </a:lnTo>
                      <a:lnTo>
                        <a:pt x="126" y="358"/>
                      </a:lnTo>
                      <a:lnTo>
                        <a:pt x="132" y="358"/>
                      </a:lnTo>
                      <a:lnTo>
                        <a:pt x="132" y="352"/>
                      </a:lnTo>
                      <a:lnTo>
                        <a:pt x="137" y="352"/>
                      </a:lnTo>
                      <a:lnTo>
                        <a:pt x="143" y="352"/>
                      </a:lnTo>
                      <a:lnTo>
                        <a:pt x="149" y="352"/>
                      </a:lnTo>
                      <a:lnTo>
                        <a:pt x="143" y="358"/>
                      </a:lnTo>
                      <a:lnTo>
                        <a:pt x="149" y="358"/>
                      </a:lnTo>
                      <a:lnTo>
                        <a:pt x="149" y="352"/>
                      </a:lnTo>
                      <a:lnTo>
                        <a:pt x="155" y="352"/>
                      </a:lnTo>
                      <a:lnTo>
                        <a:pt x="155" y="358"/>
                      </a:lnTo>
                      <a:lnTo>
                        <a:pt x="155" y="352"/>
                      </a:lnTo>
                      <a:lnTo>
                        <a:pt x="149" y="352"/>
                      </a:lnTo>
                      <a:lnTo>
                        <a:pt x="149" y="346"/>
                      </a:lnTo>
                      <a:lnTo>
                        <a:pt x="155" y="346"/>
                      </a:lnTo>
                      <a:lnTo>
                        <a:pt x="155" y="352"/>
                      </a:lnTo>
                      <a:lnTo>
                        <a:pt x="161" y="352"/>
                      </a:lnTo>
                      <a:lnTo>
                        <a:pt x="155" y="358"/>
                      </a:lnTo>
                      <a:lnTo>
                        <a:pt x="155" y="364"/>
                      </a:lnTo>
                      <a:lnTo>
                        <a:pt x="149" y="364"/>
                      </a:lnTo>
                      <a:lnTo>
                        <a:pt x="155" y="364"/>
                      </a:lnTo>
                      <a:lnTo>
                        <a:pt x="155" y="369"/>
                      </a:lnTo>
                      <a:lnTo>
                        <a:pt x="155" y="364"/>
                      </a:lnTo>
                      <a:lnTo>
                        <a:pt x="149" y="364"/>
                      </a:lnTo>
                      <a:lnTo>
                        <a:pt x="149" y="369"/>
                      </a:lnTo>
                      <a:lnTo>
                        <a:pt x="143" y="369"/>
                      </a:lnTo>
                      <a:lnTo>
                        <a:pt x="143" y="364"/>
                      </a:lnTo>
                      <a:lnTo>
                        <a:pt x="137" y="364"/>
                      </a:lnTo>
                      <a:lnTo>
                        <a:pt x="137" y="369"/>
                      </a:lnTo>
                      <a:lnTo>
                        <a:pt x="143" y="369"/>
                      </a:lnTo>
                      <a:lnTo>
                        <a:pt x="137" y="375"/>
                      </a:lnTo>
                      <a:lnTo>
                        <a:pt x="143" y="375"/>
                      </a:lnTo>
                      <a:lnTo>
                        <a:pt x="143" y="369"/>
                      </a:lnTo>
                      <a:lnTo>
                        <a:pt x="149" y="369"/>
                      </a:lnTo>
                      <a:lnTo>
                        <a:pt x="149" y="375"/>
                      </a:lnTo>
                      <a:lnTo>
                        <a:pt x="143" y="375"/>
                      </a:lnTo>
                      <a:lnTo>
                        <a:pt x="143" y="381"/>
                      </a:lnTo>
                      <a:lnTo>
                        <a:pt x="143" y="375"/>
                      </a:lnTo>
                      <a:lnTo>
                        <a:pt x="143" y="381"/>
                      </a:lnTo>
                      <a:lnTo>
                        <a:pt x="143" y="387"/>
                      </a:lnTo>
                      <a:lnTo>
                        <a:pt x="137" y="387"/>
                      </a:lnTo>
                      <a:lnTo>
                        <a:pt x="137" y="381"/>
                      </a:lnTo>
                      <a:lnTo>
                        <a:pt x="137" y="387"/>
                      </a:lnTo>
                      <a:lnTo>
                        <a:pt x="132" y="387"/>
                      </a:lnTo>
                      <a:lnTo>
                        <a:pt x="132" y="393"/>
                      </a:lnTo>
                      <a:lnTo>
                        <a:pt x="132" y="387"/>
                      </a:lnTo>
                      <a:lnTo>
                        <a:pt x="132" y="393"/>
                      </a:lnTo>
                      <a:lnTo>
                        <a:pt x="126" y="387"/>
                      </a:lnTo>
                      <a:lnTo>
                        <a:pt x="126" y="393"/>
                      </a:lnTo>
                      <a:lnTo>
                        <a:pt x="132" y="393"/>
                      </a:lnTo>
                      <a:lnTo>
                        <a:pt x="132" y="399"/>
                      </a:lnTo>
                      <a:lnTo>
                        <a:pt x="126" y="399"/>
                      </a:lnTo>
                      <a:lnTo>
                        <a:pt x="126" y="405"/>
                      </a:lnTo>
                      <a:lnTo>
                        <a:pt x="126" y="399"/>
                      </a:lnTo>
                      <a:lnTo>
                        <a:pt x="120" y="399"/>
                      </a:lnTo>
                      <a:lnTo>
                        <a:pt x="114" y="399"/>
                      </a:lnTo>
                      <a:lnTo>
                        <a:pt x="114" y="393"/>
                      </a:lnTo>
                      <a:lnTo>
                        <a:pt x="114" y="399"/>
                      </a:lnTo>
                      <a:lnTo>
                        <a:pt x="120" y="399"/>
                      </a:lnTo>
                      <a:lnTo>
                        <a:pt x="120" y="405"/>
                      </a:lnTo>
                      <a:lnTo>
                        <a:pt x="114" y="411"/>
                      </a:lnTo>
                      <a:lnTo>
                        <a:pt x="108" y="411"/>
                      </a:lnTo>
                      <a:lnTo>
                        <a:pt x="102" y="411"/>
                      </a:lnTo>
                      <a:lnTo>
                        <a:pt x="102" y="405"/>
                      </a:lnTo>
                      <a:lnTo>
                        <a:pt x="96" y="405"/>
                      </a:lnTo>
                      <a:lnTo>
                        <a:pt x="96" y="399"/>
                      </a:lnTo>
                      <a:lnTo>
                        <a:pt x="96" y="405"/>
                      </a:lnTo>
                      <a:lnTo>
                        <a:pt x="90" y="405"/>
                      </a:lnTo>
                      <a:lnTo>
                        <a:pt x="90" y="399"/>
                      </a:lnTo>
                      <a:lnTo>
                        <a:pt x="84" y="399"/>
                      </a:lnTo>
                      <a:lnTo>
                        <a:pt x="78" y="399"/>
                      </a:lnTo>
                      <a:lnTo>
                        <a:pt x="78" y="393"/>
                      </a:lnTo>
                      <a:lnTo>
                        <a:pt x="84" y="393"/>
                      </a:lnTo>
                      <a:lnTo>
                        <a:pt x="78" y="393"/>
                      </a:lnTo>
                      <a:lnTo>
                        <a:pt x="78" y="399"/>
                      </a:lnTo>
                      <a:lnTo>
                        <a:pt x="78" y="393"/>
                      </a:lnTo>
                      <a:lnTo>
                        <a:pt x="78" y="387"/>
                      </a:lnTo>
                      <a:lnTo>
                        <a:pt x="72" y="387"/>
                      </a:lnTo>
                      <a:lnTo>
                        <a:pt x="72" y="393"/>
                      </a:lnTo>
                      <a:lnTo>
                        <a:pt x="66" y="393"/>
                      </a:lnTo>
                      <a:lnTo>
                        <a:pt x="66" y="387"/>
                      </a:lnTo>
                      <a:lnTo>
                        <a:pt x="66" y="393"/>
                      </a:lnTo>
                      <a:lnTo>
                        <a:pt x="60" y="387"/>
                      </a:lnTo>
                      <a:lnTo>
                        <a:pt x="54" y="387"/>
                      </a:lnTo>
                      <a:lnTo>
                        <a:pt x="54" y="381"/>
                      </a:lnTo>
                      <a:lnTo>
                        <a:pt x="54" y="375"/>
                      </a:lnTo>
                      <a:lnTo>
                        <a:pt x="48" y="375"/>
                      </a:lnTo>
                      <a:lnTo>
                        <a:pt x="42" y="375"/>
                      </a:lnTo>
                      <a:lnTo>
                        <a:pt x="42" y="369"/>
                      </a:lnTo>
                      <a:lnTo>
                        <a:pt x="36" y="369"/>
                      </a:lnTo>
                      <a:lnTo>
                        <a:pt x="36" y="375"/>
                      </a:lnTo>
                      <a:lnTo>
                        <a:pt x="42" y="375"/>
                      </a:lnTo>
                      <a:lnTo>
                        <a:pt x="48" y="375"/>
                      </a:lnTo>
                      <a:lnTo>
                        <a:pt x="54" y="381"/>
                      </a:lnTo>
                      <a:lnTo>
                        <a:pt x="54" y="387"/>
                      </a:lnTo>
                      <a:lnTo>
                        <a:pt x="48" y="387"/>
                      </a:lnTo>
                      <a:lnTo>
                        <a:pt x="48" y="393"/>
                      </a:lnTo>
                      <a:lnTo>
                        <a:pt x="42" y="393"/>
                      </a:lnTo>
                      <a:lnTo>
                        <a:pt x="36" y="393"/>
                      </a:lnTo>
                      <a:lnTo>
                        <a:pt x="36" y="399"/>
                      </a:lnTo>
                      <a:lnTo>
                        <a:pt x="42" y="399"/>
                      </a:lnTo>
                      <a:lnTo>
                        <a:pt x="48" y="399"/>
                      </a:lnTo>
                      <a:lnTo>
                        <a:pt x="48" y="393"/>
                      </a:lnTo>
                      <a:lnTo>
                        <a:pt x="54" y="393"/>
                      </a:lnTo>
                      <a:lnTo>
                        <a:pt x="54" y="387"/>
                      </a:lnTo>
                      <a:lnTo>
                        <a:pt x="60" y="387"/>
                      </a:lnTo>
                      <a:lnTo>
                        <a:pt x="60" y="393"/>
                      </a:lnTo>
                      <a:lnTo>
                        <a:pt x="66" y="393"/>
                      </a:lnTo>
                      <a:lnTo>
                        <a:pt x="66" y="399"/>
                      </a:lnTo>
                      <a:lnTo>
                        <a:pt x="72" y="399"/>
                      </a:lnTo>
                      <a:lnTo>
                        <a:pt x="72" y="405"/>
                      </a:lnTo>
                      <a:lnTo>
                        <a:pt x="72" y="411"/>
                      </a:lnTo>
                      <a:lnTo>
                        <a:pt x="78" y="411"/>
                      </a:lnTo>
                      <a:lnTo>
                        <a:pt x="84" y="417"/>
                      </a:lnTo>
                      <a:lnTo>
                        <a:pt x="90" y="417"/>
                      </a:lnTo>
                      <a:lnTo>
                        <a:pt x="90" y="423"/>
                      </a:lnTo>
                      <a:lnTo>
                        <a:pt x="84" y="423"/>
                      </a:lnTo>
                      <a:lnTo>
                        <a:pt x="90" y="423"/>
                      </a:lnTo>
                      <a:lnTo>
                        <a:pt x="90" y="429"/>
                      </a:lnTo>
                      <a:lnTo>
                        <a:pt x="90" y="435"/>
                      </a:lnTo>
                      <a:lnTo>
                        <a:pt x="96" y="435"/>
                      </a:lnTo>
                      <a:lnTo>
                        <a:pt x="90" y="429"/>
                      </a:lnTo>
                      <a:lnTo>
                        <a:pt x="90" y="423"/>
                      </a:lnTo>
                      <a:lnTo>
                        <a:pt x="96" y="423"/>
                      </a:lnTo>
                      <a:lnTo>
                        <a:pt x="96" y="417"/>
                      </a:lnTo>
                      <a:lnTo>
                        <a:pt x="96" y="423"/>
                      </a:lnTo>
                      <a:lnTo>
                        <a:pt x="102" y="423"/>
                      </a:lnTo>
                      <a:lnTo>
                        <a:pt x="102" y="417"/>
                      </a:lnTo>
                      <a:lnTo>
                        <a:pt x="102" y="423"/>
                      </a:lnTo>
                      <a:lnTo>
                        <a:pt x="102" y="429"/>
                      </a:lnTo>
                      <a:lnTo>
                        <a:pt x="108" y="429"/>
                      </a:lnTo>
                      <a:lnTo>
                        <a:pt x="108" y="423"/>
                      </a:lnTo>
                      <a:lnTo>
                        <a:pt x="108" y="417"/>
                      </a:lnTo>
                      <a:lnTo>
                        <a:pt x="114" y="417"/>
                      </a:lnTo>
                      <a:lnTo>
                        <a:pt x="114" y="423"/>
                      </a:lnTo>
                      <a:lnTo>
                        <a:pt x="120" y="423"/>
                      </a:lnTo>
                      <a:lnTo>
                        <a:pt x="126" y="423"/>
                      </a:lnTo>
                      <a:lnTo>
                        <a:pt x="126" y="429"/>
                      </a:lnTo>
                      <a:lnTo>
                        <a:pt x="120" y="429"/>
                      </a:lnTo>
                      <a:lnTo>
                        <a:pt x="126" y="429"/>
                      </a:lnTo>
                      <a:lnTo>
                        <a:pt x="126" y="435"/>
                      </a:lnTo>
                      <a:lnTo>
                        <a:pt x="126" y="441"/>
                      </a:lnTo>
                      <a:lnTo>
                        <a:pt x="126" y="435"/>
                      </a:lnTo>
                      <a:lnTo>
                        <a:pt x="126" y="429"/>
                      </a:lnTo>
                      <a:lnTo>
                        <a:pt x="126" y="423"/>
                      </a:lnTo>
                      <a:lnTo>
                        <a:pt x="132" y="417"/>
                      </a:lnTo>
                      <a:lnTo>
                        <a:pt x="137" y="411"/>
                      </a:lnTo>
                      <a:lnTo>
                        <a:pt x="143" y="411"/>
                      </a:lnTo>
                      <a:lnTo>
                        <a:pt x="143" y="417"/>
                      </a:lnTo>
                      <a:lnTo>
                        <a:pt x="143" y="423"/>
                      </a:lnTo>
                      <a:lnTo>
                        <a:pt x="143" y="429"/>
                      </a:lnTo>
                      <a:lnTo>
                        <a:pt x="143" y="423"/>
                      </a:lnTo>
                      <a:lnTo>
                        <a:pt x="149" y="423"/>
                      </a:lnTo>
                      <a:lnTo>
                        <a:pt x="149" y="417"/>
                      </a:lnTo>
                      <a:lnTo>
                        <a:pt x="149" y="411"/>
                      </a:lnTo>
                      <a:lnTo>
                        <a:pt x="143" y="411"/>
                      </a:lnTo>
                      <a:lnTo>
                        <a:pt x="143" y="405"/>
                      </a:lnTo>
                      <a:lnTo>
                        <a:pt x="143" y="399"/>
                      </a:lnTo>
                      <a:lnTo>
                        <a:pt x="149" y="399"/>
                      </a:lnTo>
                      <a:lnTo>
                        <a:pt x="155" y="399"/>
                      </a:lnTo>
                      <a:lnTo>
                        <a:pt x="161" y="399"/>
                      </a:lnTo>
                      <a:lnTo>
                        <a:pt x="161" y="405"/>
                      </a:lnTo>
                      <a:lnTo>
                        <a:pt x="167" y="405"/>
                      </a:lnTo>
                      <a:lnTo>
                        <a:pt x="167" y="411"/>
                      </a:lnTo>
                      <a:lnTo>
                        <a:pt x="173" y="411"/>
                      </a:lnTo>
                      <a:lnTo>
                        <a:pt x="167" y="411"/>
                      </a:lnTo>
                      <a:lnTo>
                        <a:pt x="167" y="417"/>
                      </a:lnTo>
                      <a:lnTo>
                        <a:pt x="173" y="417"/>
                      </a:lnTo>
                      <a:lnTo>
                        <a:pt x="173" y="411"/>
                      </a:lnTo>
                      <a:lnTo>
                        <a:pt x="173" y="417"/>
                      </a:lnTo>
                      <a:lnTo>
                        <a:pt x="179" y="417"/>
                      </a:lnTo>
                      <a:lnTo>
                        <a:pt x="173" y="417"/>
                      </a:lnTo>
                      <a:lnTo>
                        <a:pt x="173" y="411"/>
                      </a:lnTo>
                      <a:lnTo>
                        <a:pt x="179" y="411"/>
                      </a:lnTo>
                      <a:lnTo>
                        <a:pt x="173" y="405"/>
                      </a:lnTo>
                      <a:lnTo>
                        <a:pt x="167" y="405"/>
                      </a:lnTo>
                      <a:lnTo>
                        <a:pt x="161" y="399"/>
                      </a:lnTo>
                      <a:lnTo>
                        <a:pt x="161" y="393"/>
                      </a:lnTo>
                      <a:lnTo>
                        <a:pt x="167" y="393"/>
                      </a:lnTo>
                      <a:lnTo>
                        <a:pt x="167" y="387"/>
                      </a:lnTo>
                      <a:lnTo>
                        <a:pt x="173" y="387"/>
                      </a:lnTo>
                      <a:lnTo>
                        <a:pt x="173" y="393"/>
                      </a:lnTo>
                      <a:lnTo>
                        <a:pt x="179" y="393"/>
                      </a:lnTo>
                      <a:lnTo>
                        <a:pt x="179" y="399"/>
                      </a:lnTo>
                      <a:lnTo>
                        <a:pt x="185" y="399"/>
                      </a:lnTo>
                      <a:lnTo>
                        <a:pt x="179" y="399"/>
                      </a:lnTo>
                      <a:lnTo>
                        <a:pt x="185" y="393"/>
                      </a:lnTo>
                      <a:lnTo>
                        <a:pt x="179" y="393"/>
                      </a:lnTo>
                      <a:lnTo>
                        <a:pt x="179" y="387"/>
                      </a:lnTo>
                      <a:lnTo>
                        <a:pt x="179" y="393"/>
                      </a:lnTo>
                      <a:lnTo>
                        <a:pt x="179" y="387"/>
                      </a:lnTo>
                      <a:lnTo>
                        <a:pt x="179" y="381"/>
                      </a:lnTo>
                      <a:lnTo>
                        <a:pt x="179" y="375"/>
                      </a:lnTo>
                      <a:lnTo>
                        <a:pt x="179" y="381"/>
                      </a:lnTo>
                      <a:lnTo>
                        <a:pt x="185" y="381"/>
                      </a:lnTo>
                      <a:lnTo>
                        <a:pt x="185" y="375"/>
                      </a:lnTo>
                      <a:lnTo>
                        <a:pt x="179" y="375"/>
                      </a:lnTo>
                      <a:lnTo>
                        <a:pt x="185" y="375"/>
                      </a:lnTo>
                      <a:lnTo>
                        <a:pt x="179" y="375"/>
                      </a:lnTo>
                      <a:lnTo>
                        <a:pt x="179" y="369"/>
                      </a:lnTo>
                      <a:lnTo>
                        <a:pt x="179" y="364"/>
                      </a:lnTo>
                      <a:lnTo>
                        <a:pt x="185" y="369"/>
                      </a:lnTo>
                      <a:lnTo>
                        <a:pt x="191" y="369"/>
                      </a:lnTo>
                      <a:lnTo>
                        <a:pt x="191" y="375"/>
                      </a:lnTo>
                      <a:lnTo>
                        <a:pt x="191" y="381"/>
                      </a:lnTo>
                      <a:lnTo>
                        <a:pt x="191" y="375"/>
                      </a:lnTo>
                      <a:lnTo>
                        <a:pt x="191" y="381"/>
                      </a:lnTo>
                      <a:lnTo>
                        <a:pt x="191" y="387"/>
                      </a:lnTo>
                      <a:lnTo>
                        <a:pt x="197" y="387"/>
                      </a:lnTo>
                      <a:lnTo>
                        <a:pt x="197" y="393"/>
                      </a:lnTo>
                      <a:lnTo>
                        <a:pt x="191" y="393"/>
                      </a:lnTo>
                      <a:lnTo>
                        <a:pt x="197" y="393"/>
                      </a:lnTo>
                      <a:lnTo>
                        <a:pt x="191" y="393"/>
                      </a:lnTo>
                      <a:lnTo>
                        <a:pt x="185" y="393"/>
                      </a:lnTo>
                      <a:lnTo>
                        <a:pt x="185" y="399"/>
                      </a:lnTo>
                      <a:lnTo>
                        <a:pt x="191" y="399"/>
                      </a:lnTo>
                      <a:lnTo>
                        <a:pt x="185" y="405"/>
                      </a:lnTo>
                      <a:lnTo>
                        <a:pt x="191" y="405"/>
                      </a:lnTo>
                      <a:lnTo>
                        <a:pt x="197" y="411"/>
                      </a:lnTo>
                      <a:lnTo>
                        <a:pt x="197" y="405"/>
                      </a:lnTo>
                      <a:lnTo>
                        <a:pt x="191" y="399"/>
                      </a:lnTo>
                      <a:lnTo>
                        <a:pt x="197" y="399"/>
                      </a:lnTo>
                      <a:lnTo>
                        <a:pt x="197" y="393"/>
                      </a:lnTo>
                      <a:lnTo>
                        <a:pt x="203" y="393"/>
                      </a:lnTo>
                      <a:lnTo>
                        <a:pt x="203" y="399"/>
                      </a:lnTo>
                      <a:lnTo>
                        <a:pt x="209" y="399"/>
                      </a:lnTo>
                      <a:lnTo>
                        <a:pt x="203" y="393"/>
                      </a:lnTo>
                      <a:lnTo>
                        <a:pt x="209" y="393"/>
                      </a:lnTo>
                      <a:lnTo>
                        <a:pt x="203" y="387"/>
                      </a:lnTo>
                      <a:lnTo>
                        <a:pt x="209" y="387"/>
                      </a:lnTo>
                      <a:lnTo>
                        <a:pt x="215" y="387"/>
                      </a:lnTo>
                      <a:lnTo>
                        <a:pt x="215" y="393"/>
                      </a:lnTo>
                      <a:lnTo>
                        <a:pt x="215" y="387"/>
                      </a:lnTo>
                      <a:lnTo>
                        <a:pt x="221" y="387"/>
                      </a:lnTo>
                      <a:lnTo>
                        <a:pt x="221" y="393"/>
                      </a:lnTo>
                      <a:lnTo>
                        <a:pt x="221" y="387"/>
                      </a:lnTo>
                      <a:lnTo>
                        <a:pt x="215" y="387"/>
                      </a:lnTo>
                      <a:lnTo>
                        <a:pt x="215" y="381"/>
                      </a:lnTo>
                      <a:lnTo>
                        <a:pt x="209" y="381"/>
                      </a:lnTo>
                      <a:lnTo>
                        <a:pt x="209" y="375"/>
                      </a:lnTo>
                      <a:lnTo>
                        <a:pt x="215" y="375"/>
                      </a:lnTo>
                      <a:lnTo>
                        <a:pt x="221" y="375"/>
                      </a:lnTo>
                      <a:lnTo>
                        <a:pt x="221" y="381"/>
                      </a:lnTo>
                      <a:lnTo>
                        <a:pt x="221" y="375"/>
                      </a:lnTo>
                      <a:lnTo>
                        <a:pt x="221" y="381"/>
                      </a:lnTo>
                      <a:lnTo>
                        <a:pt x="227" y="381"/>
                      </a:lnTo>
                      <a:lnTo>
                        <a:pt x="227" y="387"/>
                      </a:lnTo>
                      <a:lnTo>
                        <a:pt x="233" y="38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251"/>
                <p:cNvSpPr/>
                <p:nvPr/>
              </p:nvSpPr>
              <p:spPr>
                <a:xfrm>
                  <a:off x="6183360" y="5185080"/>
                  <a:ext cx="1843560" cy="828720"/>
                </a:xfrm>
                <a:custGeom>
                  <a:avLst/>
                  <a:gdLst>
                    <a:gd name="textAreaLeft" fmla="*/ 0 w 1843560"/>
                    <a:gd name="textAreaRight" fmla="*/ 1843920 w 1843560"/>
                    <a:gd name="textAreaTop" fmla="*/ 0 h 828720"/>
                    <a:gd name="textAreaBottom" fmla="*/ 829080 h 828720"/>
                  </a:gdLst>
                  <a:ahLst/>
                  <a:rect l="textAreaLeft" t="textAreaTop" r="textAreaRight" b="textAreaBottom"/>
                  <a:pathLst>
                    <a:path w="1844" h="853">
                      <a:moveTo>
                        <a:pt x="1808" y="447"/>
                      </a:moveTo>
                      <a:lnTo>
                        <a:pt x="1808" y="453"/>
                      </a:lnTo>
                      <a:lnTo>
                        <a:pt x="1802" y="453"/>
                      </a:lnTo>
                      <a:lnTo>
                        <a:pt x="1802" y="459"/>
                      </a:lnTo>
                      <a:lnTo>
                        <a:pt x="1796" y="459"/>
                      </a:lnTo>
                      <a:lnTo>
                        <a:pt x="1790" y="459"/>
                      </a:lnTo>
                      <a:lnTo>
                        <a:pt x="1790" y="465"/>
                      </a:lnTo>
                      <a:lnTo>
                        <a:pt x="1790" y="459"/>
                      </a:lnTo>
                      <a:lnTo>
                        <a:pt x="1796" y="459"/>
                      </a:lnTo>
                      <a:lnTo>
                        <a:pt x="1796" y="465"/>
                      </a:lnTo>
                      <a:lnTo>
                        <a:pt x="1790" y="465"/>
                      </a:lnTo>
                      <a:lnTo>
                        <a:pt x="1796" y="465"/>
                      </a:lnTo>
                      <a:lnTo>
                        <a:pt x="1796" y="471"/>
                      </a:lnTo>
                      <a:lnTo>
                        <a:pt x="1796" y="477"/>
                      </a:lnTo>
                      <a:lnTo>
                        <a:pt x="1790" y="477"/>
                      </a:lnTo>
                      <a:lnTo>
                        <a:pt x="1790" y="483"/>
                      </a:lnTo>
                      <a:lnTo>
                        <a:pt x="1784" y="483"/>
                      </a:lnTo>
                      <a:lnTo>
                        <a:pt x="1784" y="477"/>
                      </a:lnTo>
                      <a:lnTo>
                        <a:pt x="1778" y="477"/>
                      </a:lnTo>
                      <a:lnTo>
                        <a:pt x="1784" y="477"/>
                      </a:lnTo>
                      <a:lnTo>
                        <a:pt x="1778" y="483"/>
                      </a:lnTo>
                      <a:lnTo>
                        <a:pt x="1778" y="489"/>
                      </a:lnTo>
                      <a:lnTo>
                        <a:pt x="1784" y="489"/>
                      </a:lnTo>
                      <a:lnTo>
                        <a:pt x="1778" y="489"/>
                      </a:lnTo>
                      <a:lnTo>
                        <a:pt x="1778" y="495"/>
                      </a:lnTo>
                      <a:lnTo>
                        <a:pt x="1772" y="495"/>
                      </a:lnTo>
                      <a:lnTo>
                        <a:pt x="1778" y="501"/>
                      </a:lnTo>
                      <a:lnTo>
                        <a:pt x="1772" y="507"/>
                      </a:lnTo>
                      <a:lnTo>
                        <a:pt x="1772" y="513"/>
                      </a:lnTo>
                      <a:lnTo>
                        <a:pt x="1766" y="513"/>
                      </a:lnTo>
                      <a:lnTo>
                        <a:pt x="1766" y="507"/>
                      </a:lnTo>
                      <a:lnTo>
                        <a:pt x="1772" y="507"/>
                      </a:lnTo>
                      <a:lnTo>
                        <a:pt x="1772" y="501"/>
                      </a:lnTo>
                      <a:lnTo>
                        <a:pt x="1766" y="501"/>
                      </a:lnTo>
                      <a:lnTo>
                        <a:pt x="1766" y="507"/>
                      </a:lnTo>
                      <a:lnTo>
                        <a:pt x="1766" y="513"/>
                      </a:lnTo>
                      <a:lnTo>
                        <a:pt x="1766" y="519"/>
                      </a:lnTo>
                      <a:lnTo>
                        <a:pt x="1772" y="519"/>
                      </a:lnTo>
                      <a:lnTo>
                        <a:pt x="1772" y="525"/>
                      </a:lnTo>
                      <a:lnTo>
                        <a:pt x="1766" y="525"/>
                      </a:lnTo>
                      <a:lnTo>
                        <a:pt x="1760" y="525"/>
                      </a:lnTo>
                      <a:lnTo>
                        <a:pt x="1754" y="525"/>
                      </a:lnTo>
                      <a:lnTo>
                        <a:pt x="1754" y="531"/>
                      </a:lnTo>
                      <a:lnTo>
                        <a:pt x="1754" y="525"/>
                      </a:lnTo>
                      <a:lnTo>
                        <a:pt x="1748" y="525"/>
                      </a:lnTo>
                      <a:lnTo>
                        <a:pt x="1754" y="525"/>
                      </a:lnTo>
                      <a:lnTo>
                        <a:pt x="1748" y="525"/>
                      </a:lnTo>
                      <a:lnTo>
                        <a:pt x="1748" y="519"/>
                      </a:lnTo>
                      <a:lnTo>
                        <a:pt x="1754" y="513"/>
                      </a:lnTo>
                      <a:lnTo>
                        <a:pt x="1748" y="513"/>
                      </a:lnTo>
                      <a:lnTo>
                        <a:pt x="1748" y="507"/>
                      </a:lnTo>
                      <a:lnTo>
                        <a:pt x="1748" y="513"/>
                      </a:lnTo>
                      <a:lnTo>
                        <a:pt x="1742" y="513"/>
                      </a:lnTo>
                      <a:lnTo>
                        <a:pt x="1742" y="507"/>
                      </a:lnTo>
                      <a:lnTo>
                        <a:pt x="1736" y="507"/>
                      </a:lnTo>
                      <a:lnTo>
                        <a:pt x="1742" y="513"/>
                      </a:lnTo>
                      <a:lnTo>
                        <a:pt x="1742" y="519"/>
                      </a:lnTo>
                      <a:lnTo>
                        <a:pt x="1742" y="525"/>
                      </a:lnTo>
                      <a:lnTo>
                        <a:pt x="1742" y="531"/>
                      </a:lnTo>
                      <a:lnTo>
                        <a:pt x="1742" y="537"/>
                      </a:lnTo>
                      <a:lnTo>
                        <a:pt x="1736" y="537"/>
                      </a:lnTo>
                      <a:lnTo>
                        <a:pt x="1730" y="537"/>
                      </a:lnTo>
                      <a:lnTo>
                        <a:pt x="1730" y="531"/>
                      </a:lnTo>
                      <a:lnTo>
                        <a:pt x="1730" y="525"/>
                      </a:lnTo>
                      <a:lnTo>
                        <a:pt x="1730" y="519"/>
                      </a:lnTo>
                      <a:lnTo>
                        <a:pt x="1724" y="519"/>
                      </a:lnTo>
                      <a:lnTo>
                        <a:pt x="1724" y="513"/>
                      </a:lnTo>
                      <a:lnTo>
                        <a:pt x="1718" y="513"/>
                      </a:lnTo>
                      <a:lnTo>
                        <a:pt x="1724" y="519"/>
                      </a:lnTo>
                      <a:lnTo>
                        <a:pt x="1718" y="519"/>
                      </a:lnTo>
                      <a:lnTo>
                        <a:pt x="1712" y="519"/>
                      </a:lnTo>
                      <a:lnTo>
                        <a:pt x="1712" y="525"/>
                      </a:lnTo>
                      <a:lnTo>
                        <a:pt x="1707" y="525"/>
                      </a:lnTo>
                      <a:lnTo>
                        <a:pt x="1707" y="531"/>
                      </a:lnTo>
                      <a:lnTo>
                        <a:pt x="1712" y="531"/>
                      </a:lnTo>
                      <a:lnTo>
                        <a:pt x="1712" y="525"/>
                      </a:lnTo>
                      <a:lnTo>
                        <a:pt x="1718" y="525"/>
                      </a:lnTo>
                      <a:lnTo>
                        <a:pt x="1718" y="531"/>
                      </a:lnTo>
                      <a:lnTo>
                        <a:pt x="1724" y="531"/>
                      </a:lnTo>
                      <a:lnTo>
                        <a:pt x="1718" y="531"/>
                      </a:lnTo>
                      <a:lnTo>
                        <a:pt x="1724" y="531"/>
                      </a:lnTo>
                      <a:lnTo>
                        <a:pt x="1724" y="537"/>
                      </a:lnTo>
                      <a:lnTo>
                        <a:pt x="1718" y="537"/>
                      </a:lnTo>
                      <a:lnTo>
                        <a:pt x="1712" y="537"/>
                      </a:lnTo>
                      <a:lnTo>
                        <a:pt x="1707" y="537"/>
                      </a:lnTo>
                      <a:lnTo>
                        <a:pt x="1701" y="537"/>
                      </a:lnTo>
                      <a:lnTo>
                        <a:pt x="1695" y="537"/>
                      </a:lnTo>
                      <a:lnTo>
                        <a:pt x="1689" y="537"/>
                      </a:lnTo>
                      <a:lnTo>
                        <a:pt x="1683" y="543"/>
                      </a:lnTo>
                      <a:lnTo>
                        <a:pt x="1677" y="543"/>
                      </a:lnTo>
                      <a:lnTo>
                        <a:pt x="1671" y="543"/>
                      </a:lnTo>
                      <a:lnTo>
                        <a:pt x="1671" y="549"/>
                      </a:lnTo>
                      <a:lnTo>
                        <a:pt x="1665" y="549"/>
                      </a:lnTo>
                      <a:lnTo>
                        <a:pt x="1665" y="555"/>
                      </a:lnTo>
                      <a:lnTo>
                        <a:pt x="1659" y="555"/>
                      </a:lnTo>
                      <a:lnTo>
                        <a:pt x="1653" y="555"/>
                      </a:lnTo>
                      <a:lnTo>
                        <a:pt x="1653" y="561"/>
                      </a:lnTo>
                      <a:lnTo>
                        <a:pt x="1647" y="561"/>
                      </a:lnTo>
                      <a:lnTo>
                        <a:pt x="1641" y="561"/>
                      </a:lnTo>
                      <a:lnTo>
                        <a:pt x="1641" y="567"/>
                      </a:lnTo>
                      <a:lnTo>
                        <a:pt x="1635" y="567"/>
                      </a:lnTo>
                      <a:lnTo>
                        <a:pt x="1635" y="561"/>
                      </a:lnTo>
                      <a:lnTo>
                        <a:pt x="1641" y="561"/>
                      </a:lnTo>
                      <a:lnTo>
                        <a:pt x="1635" y="561"/>
                      </a:lnTo>
                      <a:lnTo>
                        <a:pt x="1641" y="555"/>
                      </a:lnTo>
                      <a:lnTo>
                        <a:pt x="1635" y="555"/>
                      </a:lnTo>
                      <a:lnTo>
                        <a:pt x="1635" y="549"/>
                      </a:lnTo>
                      <a:lnTo>
                        <a:pt x="1629" y="549"/>
                      </a:lnTo>
                      <a:lnTo>
                        <a:pt x="1635" y="543"/>
                      </a:lnTo>
                      <a:lnTo>
                        <a:pt x="1629" y="543"/>
                      </a:lnTo>
                      <a:lnTo>
                        <a:pt x="1623" y="543"/>
                      </a:lnTo>
                      <a:lnTo>
                        <a:pt x="1629" y="543"/>
                      </a:lnTo>
                      <a:lnTo>
                        <a:pt x="1629" y="549"/>
                      </a:lnTo>
                      <a:lnTo>
                        <a:pt x="1629" y="555"/>
                      </a:lnTo>
                      <a:lnTo>
                        <a:pt x="1635" y="555"/>
                      </a:lnTo>
                      <a:lnTo>
                        <a:pt x="1635" y="561"/>
                      </a:lnTo>
                      <a:lnTo>
                        <a:pt x="1629" y="567"/>
                      </a:lnTo>
                      <a:lnTo>
                        <a:pt x="1623" y="567"/>
                      </a:lnTo>
                      <a:lnTo>
                        <a:pt x="1623" y="561"/>
                      </a:lnTo>
                      <a:lnTo>
                        <a:pt x="1617" y="561"/>
                      </a:lnTo>
                      <a:lnTo>
                        <a:pt x="1617" y="567"/>
                      </a:lnTo>
                      <a:lnTo>
                        <a:pt x="1623" y="567"/>
                      </a:lnTo>
                      <a:lnTo>
                        <a:pt x="1629" y="573"/>
                      </a:lnTo>
                      <a:lnTo>
                        <a:pt x="1623" y="573"/>
                      </a:lnTo>
                      <a:lnTo>
                        <a:pt x="1617" y="579"/>
                      </a:lnTo>
                      <a:lnTo>
                        <a:pt x="1611" y="579"/>
                      </a:lnTo>
                      <a:lnTo>
                        <a:pt x="1617" y="579"/>
                      </a:lnTo>
                      <a:lnTo>
                        <a:pt x="1617" y="585"/>
                      </a:lnTo>
                      <a:lnTo>
                        <a:pt x="1611" y="585"/>
                      </a:lnTo>
                      <a:lnTo>
                        <a:pt x="1611" y="591"/>
                      </a:lnTo>
                      <a:lnTo>
                        <a:pt x="1611" y="597"/>
                      </a:lnTo>
                      <a:lnTo>
                        <a:pt x="1605" y="597"/>
                      </a:lnTo>
                      <a:lnTo>
                        <a:pt x="1605" y="603"/>
                      </a:lnTo>
                      <a:lnTo>
                        <a:pt x="1599" y="603"/>
                      </a:lnTo>
                      <a:lnTo>
                        <a:pt x="1599" y="608"/>
                      </a:lnTo>
                      <a:lnTo>
                        <a:pt x="1593" y="608"/>
                      </a:lnTo>
                      <a:lnTo>
                        <a:pt x="1593" y="603"/>
                      </a:lnTo>
                      <a:lnTo>
                        <a:pt x="1587" y="603"/>
                      </a:lnTo>
                      <a:lnTo>
                        <a:pt x="1587" y="608"/>
                      </a:lnTo>
                      <a:lnTo>
                        <a:pt x="1587" y="603"/>
                      </a:lnTo>
                      <a:lnTo>
                        <a:pt x="1581" y="603"/>
                      </a:lnTo>
                      <a:lnTo>
                        <a:pt x="1575" y="603"/>
                      </a:lnTo>
                      <a:lnTo>
                        <a:pt x="1575" y="597"/>
                      </a:lnTo>
                      <a:lnTo>
                        <a:pt x="1581" y="597"/>
                      </a:lnTo>
                      <a:lnTo>
                        <a:pt x="1581" y="591"/>
                      </a:lnTo>
                      <a:lnTo>
                        <a:pt x="1587" y="591"/>
                      </a:lnTo>
                      <a:lnTo>
                        <a:pt x="1587" y="585"/>
                      </a:lnTo>
                      <a:lnTo>
                        <a:pt x="1593" y="585"/>
                      </a:lnTo>
                      <a:lnTo>
                        <a:pt x="1587" y="585"/>
                      </a:lnTo>
                      <a:lnTo>
                        <a:pt x="1581" y="585"/>
                      </a:lnTo>
                      <a:lnTo>
                        <a:pt x="1581" y="579"/>
                      </a:lnTo>
                      <a:lnTo>
                        <a:pt x="1575" y="579"/>
                      </a:lnTo>
                      <a:lnTo>
                        <a:pt x="1581" y="573"/>
                      </a:lnTo>
                      <a:lnTo>
                        <a:pt x="1575" y="573"/>
                      </a:lnTo>
                      <a:lnTo>
                        <a:pt x="1575" y="567"/>
                      </a:lnTo>
                      <a:lnTo>
                        <a:pt x="1569" y="567"/>
                      </a:lnTo>
                      <a:lnTo>
                        <a:pt x="1575" y="567"/>
                      </a:lnTo>
                      <a:lnTo>
                        <a:pt x="1575" y="561"/>
                      </a:lnTo>
                      <a:lnTo>
                        <a:pt x="1569" y="561"/>
                      </a:lnTo>
                      <a:lnTo>
                        <a:pt x="1563" y="567"/>
                      </a:lnTo>
                      <a:lnTo>
                        <a:pt x="1563" y="561"/>
                      </a:lnTo>
                      <a:lnTo>
                        <a:pt x="1557" y="561"/>
                      </a:lnTo>
                      <a:lnTo>
                        <a:pt x="1563" y="567"/>
                      </a:lnTo>
                      <a:lnTo>
                        <a:pt x="1563" y="573"/>
                      </a:lnTo>
                      <a:lnTo>
                        <a:pt x="1563" y="579"/>
                      </a:lnTo>
                      <a:lnTo>
                        <a:pt x="1563" y="573"/>
                      </a:lnTo>
                      <a:lnTo>
                        <a:pt x="1569" y="573"/>
                      </a:lnTo>
                      <a:lnTo>
                        <a:pt x="1569" y="579"/>
                      </a:lnTo>
                      <a:lnTo>
                        <a:pt x="1575" y="579"/>
                      </a:lnTo>
                      <a:lnTo>
                        <a:pt x="1575" y="585"/>
                      </a:lnTo>
                      <a:lnTo>
                        <a:pt x="1581" y="585"/>
                      </a:lnTo>
                      <a:lnTo>
                        <a:pt x="1581" y="591"/>
                      </a:lnTo>
                      <a:lnTo>
                        <a:pt x="1575" y="591"/>
                      </a:lnTo>
                      <a:lnTo>
                        <a:pt x="1575" y="597"/>
                      </a:lnTo>
                      <a:lnTo>
                        <a:pt x="1569" y="597"/>
                      </a:lnTo>
                      <a:lnTo>
                        <a:pt x="1563" y="597"/>
                      </a:lnTo>
                      <a:lnTo>
                        <a:pt x="1563" y="603"/>
                      </a:lnTo>
                      <a:lnTo>
                        <a:pt x="1563" y="597"/>
                      </a:lnTo>
                      <a:lnTo>
                        <a:pt x="1569" y="597"/>
                      </a:lnTo>
                      <a:lnTo>
                        <a:pt x="1569" y="603"/>
                      </a:lnTo>
                      <a:lnTo>
                        <a:pt x="1563" y="603"/>
                      </a:lnTo>
                      <a:lnTo>
                        <a:pt x="1569" y="603"/>
                      </a:lnTo>
                      <a:lnTo>
                        <a:pt x="1569" y="608"/>
                      </a:lnTo>
                      <a:lnTo>
                        <a:pt x="1575" y="608"/>
                      </a:lnTo>
                      <a:lnTo>
                        <a:pt x="1581" y="608"/>
                      </a:lnTo>
                      <a:lnTo>
                        <a:pt x="1587" y="608"/>
                      </a:lnTo>
                      <a:lnTo>
                        <a:pt x="1587" y="614"/>
                      </a:lnTo>
                      <a:lnTo>
                        <a:pt x="1581" y="614"/>
                      </a:lnTo>
                      <a:lnTo>
                        <a:pt x="1587" y="614"/>
                      </a:lnTo>
                      <a:lnTo>
                        <a:pt x="1587" y="620"/>
                      </a:lnTo>
                      <a:lnTo>
                        <a:pt x="1581" y="620"/>
                      </a:lnTo>
                      <a:lnTo>
                        <a:pt x="1575" y="620"/>
                      </a:lnTo>
                      <a:lnTo>
                        <a:pt x="1575" y="626"/>
                      </a:lnTo>
                      <a:lnTo>
                        <a:pt x="1569" y="626"/>
                      </a:lnTo>
                      <a:lnTo>
                        <a:pt x="1569" y="632"/>
                      </a:lnTo>
                      <a:lnTo>
                        <a:pt x="1563" y="626"/>
                      </a:lnTo>
                      <a:lnTo>
                        <a:pt x="1563" y="632"/>
                      </a:lnTo>
                      <a:lnTo>
                        <a:pt x="1557" y="632"/>
                      </a:lnTo>
                      <a:lnTo>
                        <a:pt x="1557" y="638"/>
                      </a:lnTo>
                      <a:lnTo>
                        <a:pt x="1551" y="644"/>
                      </a:lnTo>
                      <a:lnTo>
                        <a:pt x="1551" y="650"/>
                      </a:lnTo>
                      <a:lnTo>
                        <a:pt x="1545" y="650"/>
                      </a:lnTo>
                      <a:lnTo>
                        <a:pt x="1545" y="656"/>
                      </a:lnTo>
                      <a:lnTo>
                        <a:pt x="1539" y="656"/>
                      </a:lnTo>
                      <a:lnTo>
                        <a:pt x="1539" y="650"/>
                      </a:lnTo>
                      <a:lnTo>
                        <a:pt x="1539" y="656"/>
                      </a:lnTo>
                      <a:lnTo>
                        <a:pt x="1539" y="662"/>
                      </a:lnTo>
                      <a:lnTo>
                        <a:pt x="1534" y="662"/>
                      </a:lnTo>
                      <a:lnTo>
                        <a:pt x="1534" y="668"/>
                      </a:lnTo>
                      <a:lnTo>
                        <a:pt x="1528" y="674"/>
                      </a:lnTo>
                      <a:lnTo>
                        <a:pt x="1522" y="674"/>
                      </a:lnTo>
                      <a:lnTo>
                        <a:pt x="1528" y="680"/>
                      </a:lnTo>
                      <a:lnTo>
                        <a:pt x="1522" y="680"/>
                      </a:lnTo>
                      <a:lnTo>
                        <a:pt x="1522" y="686"/>
                      </a:lnTo>
                      <a:lnTo>
                        <a:pt x="1516" y="686"/>
                      </a:lnTo>
                      <a:lnTo>
                        <a:pt x="1516" y="692"/>
                      </a:lnTo>
                      <a:lnTo>
                        <a:pt x="1516" y="698"/>
                      </a:lnTo>
                      <a:lnTo>
                        <a:pt x="1510" y="698"/>
                      </a:lnTo>
                      <a:lnTo>
                        <a:pt x="1516" y="698"/>
                      </a:lnTo>
                      <a:lnTo>
                        <a:pt x="1510" y="704"/>
                      </a:lnTo>
                      <a:lnTo>
                        <a:pt x="1510" y="710"/>
                      </a:lnTo>
                      <a:lnTo>
                        <a:pt x="1504" y="710"/>
                      </a:lnTo>
                      <a:lnTo>
                        <a:pt x="1504" y="716"/>
                      </a:lnTo>
                      <a:lnTo>
                        <a:pt x="1504" y="722"/>
                      </a:lnTo>
                      <a:lnTo>
                        <a:pt x="1498" y="722"/>
                      </a:lnTo>
                      <a:lnTo>
                        <a:pt x="1498" y="728"/>
                      </a:lnTo>
                      <a:lnTo>
                        <a:pt x="1492" y="728"/>
                      </a:lnTo>
                      <a:lnTo>
                        <a:pt x="1492" y="734"/>
                      </a:lnTo>
                      <a:lnTo>
                        <a:pt x="1498" y="734"/>
                      </a:lnTo>
                      <a:lnTo>
                        <a:pt x="1498" y="740"/>
                      </a:lnTo>
                      <a:lnTo>
                        <a:pt x="1492" y="740"/>
                      </a:lnTo>
                      <a:lnTo>
                        <a:pt x="1498" y="740"/>
                      </a:lnTo>
                      <a:lnTo>
                        <a:pt x="1498" y="746"/>
                      </a:lnTo>
                      <a:lnTo>
                        <a:pt x="1492" y="746"/>
                      </a:lnTo>
                      <a:lnTo>
                        <a:pt x="1492" y="752"/>
                      </a:lnTo>
                      <a:lnTo>
                        <a:pt x="1492" y="758"/>
                      </a:lnTo>
                      <a:lnTo>
                        <a:pt x="1492" y="764"/>
                      </a:lnTo>
                      <a:lnTo>
                        <a:pt x="1492" y="770"/>
                      </a:lnTo>
                      <a:lnTo>
                        <a:pt x="1486" y="770"/>
                      </a:lnTo>
                      <a:lnTo>
                        <a:pt x="1486" y="764"/>
                      </a:lnTo>
                      <a:lnTo>
                        <a:pt x="1486" y="758"/>
                      </a:lnTo>
                      <a:lnTo>
                        <a:pt x="1480" y="752"/>
                      </a:lnTo>
                      <a:lnTo>
                        <a:pt x="1480" y="746"/>
                      </a:lnTo>
                      <a:lnTo>
                        <a:pt x="1474" y="746"/>
                      </a:lnTo>
                      <a:lnTo>
                        <a:pt x="1474" y="740"/>
                      </a:lnTo>
                      <a:lnTo>
                        <a:pt x="1474" y="734"/>
                      </a:lnTo>
                      <a:lnTo>
                        <a:pt x="1468" y="734"/>
                      </a:lnTo>
                      <a:lnTo>
                        <a:pt x="1468" y="740"/>
                      </a:lnTo>
                      <a:lnTo>
                        <a:pt x="1468" y="746"/>
                      </a:lnTo>
                      <a:lnTo>
                        <a:pt x="1474" y="746"/>
                      </a:lnTo>
                      <a:lnTo>
                        <a:pt x="1474" y="752"/>
                      </a:lnTo>
                      <a:lnTo>
                        <a:pt x="1474" y="758"/>
                      </a:lnTo>
                      <a:lnTo>
                        <a:pt x="1480" y="758"/>
                      </a:lnTo>
                      <a:lnTo>
                        <a:pt x="1480" y="764"/>
                      </a:lnTo>
                      <a:lnTo>
                        <a:pt x="1480" y="770"/>
                      </a:lnTo>
                      <a:lnTo>
                        <a:pt x="1480" y="776"/>
                      </a:lnTo>
                      <a:lnTo>
                        <a:pt x="1480" y="782"/>
                      </a:lnTo>
                      <a:lnTo>
                        <a:pt x="1480" y="788"/>
                      </a:lnTo>
                      <a:lnTo>
                        <a:pt x="1480" y="793"/>
                      </a:lnTo>
                      <a:lnTo>
                        <a:pt x="1480" y="799"/>
                      </a:lnTo>
                      <a:lnTo>
                        <a:pt x="1480" y="805"/>
                      </a:lnTo>
                      <a:lnTo>
                        <a:pt x="1474" y="811"/>
                      </a:lnTo>
                      <a:lnTo>
                        <a:pt x="1474" y="817"/>
                      </a:lnTo>
                      <a:lnTo>
                        <a:pt x="1474" y="823"/>
                      </a:lnTo>
                      <a:lnTo>
                        <a:pt x="1468" y="823"/>
                      </a:lnTo>
                      <a:lnTo>
                        <a:pt x="1462" y="823"/>
                      </a:lnTo>
                      <a:lnTo>
                        <a:pt x="1456" y="817"/>
                      </a:lnTo>
                      <a:lnTo>
                        <a:pt x="1450" y="817"/>
                      </a:lnTo>
                      <a:lnTo>
                        <a:pt x="1444" y="823"/>
                      </a:lnTo>
                      <a:lnTo>
                        <a:pt x="1438" y="823"/>
                      </a:lnTo>
                      <a:lnTo>
                        <a:pt x="1432" y="823"/>
                      </a:lnTo>
                      <a:lnTo>
                        <a:pt x="1426" y="823"/>
                      </a:lnTo>
                      <a:lnTo>
                        <a:pt x="1432" y="823"/>
                      </a:lnTo>
                      <a:lnTo>
                        <a:pt x="1432" y="817"/>
                      </a:lnTo>
                      <a:lnTo>
                        <a:pt x="1426" y="817"/>
                      </a:lnTo>
                      <a:lnTo>
                        <a:pt x="1426" y="811"/>
                      </a:lnTo>
                      <a:lnTo>
                        <a:pt x="1420" y="811"/>
                      </a:lnTo>
                      <a:lnTo>
                        <a:pt x="1426" y="811"/>
                      </a:lnTo>
                      <a:lnTo>
                        <a:pt x="1426" y="817"/>
                      </a:lnTo>
                      <a:lnTo>
                        <a:pt x="1426" y="823"/>
                      </a:lnTo>
                      <a:lnTo>
                        <a:pt x="1420" y="823"/>
                      </a:lnTo>
                      <a:lnTo>
                        <a:pt x="1414" y="829"/>
                      </a:lnTo>
                      <a:lnTo>
                        <a:pt x="1408" y="829"/>
                      </a:lnTo>
                      <a:lnTo>
                        <a:pt x="1402" y="829"/>
                      </a:lnTo>
                      <a:lnTo>
                        <a:pt x="1396" y="829"/>
                      </a:lnTo>
                      <a:lnTo>
                        <a:pt x="1396" y="835"/>
                      </a:lnTo>
                      <a:lnTo>
                        <a:pt x="1390" y="829"/>
                      </a:lnTo>
                      <a:lnTo>
                        <a:pt x="1396" y="829"/>
                      </a:lnTo>
                      <a:lnTo>
                        <a:pt x="1396" y="823"/>
                      </a:lnTo>
                      <a:lnTo>
                        <a:pt x="1396" y="817"/>
                      </a:lnTo>
                      <a:lnTo>
                        <a:pt x="1390" y="817"/>
                      </a:lnTo>
                      <a:lnTo>
                        <a:pt x="1390" y="823"/>
                      </a:lnTo>
                      <a:lnTo>
                        <a:pt x="1390" y="829"/>
                      </a:lnTo>
                      <a:lnTo>
                        <a:pt x="1390" y="835"/>
                      </a:lnTo>
                      <a:lnTo>
                        <a:pt x="1384" y="835"/>
                      </a:lnTo>
                      <a:lnTo>
                        <a:pt x="1378" y="835"/>
                      </a:lnTo>
                      <a:lnTo>
                        <a:pt x="1372" y="835"/>
                      </a:lnTo>
                      <a:lnTo>
                        <a:pt x="1372" y="841"/>
                      </a:lnTo>
                      <a:lnTo>
                        <a:pt x="1366" y="841"/>
                      </a:lnTo>
                      <a:lnTo>
                        <a:pt x="1361" y="847"/>
                      </a:lnTo>
                      <a:lnTo>
                        <a:pt x="1355" y="847"/>
                      </a:lnTo>
                      <a:lnTo>
                        <a:pt x="1355" y="853"/>
                      </a:lnTo>
                      <a:lnTo>
                        <a:pt x="1349" y="847"/>
                      </a:lnTo>
                      <a:lnTo>
                        <a:pt x="1355" y="847"/>
                      </a:lnTo>
                      <a:lnTo>
                        <a:pt x="1355" y="841"/>
                      </a:lnTo>
                      <a:lnTo>
                        <a:pt x="1349" y="847"/>
                      </a:lnTo>
                      <a:lnTo>
                        <a:pt x="1325" y="829"/>
                      </a:lnTo>
                      <a:lnTo>
                        <a:pt x="1217" y="752"/>
                      </a:lnTo>
                      <a:lnTo>
                        <a:pt x="1116" y="680"/>
                      </a:lnTo>
                      <a:lnTo>
                        <a:pt x="1116" y="674"/>
                      </a:lnTo>
                      <a:lnTo>
                        <a:pt x="1104" y="674"/>
                      </a:lnTo>
                      <a:lnTo>
                        <a:pt x="1092" y="662"/>
                      </a:lnTo>
                      <a:lnTo>
                        <a:pt x="1080" y="656"/>
                      </a:lnTo>
                      <a:lnTo>
                        <a:pt x="1074" y="650"/>
                      </a:lnTo>
                      <a:lnTo>
                        <a:pt x="1068" y="644"/>
                      </a:lnTo>
                      <a:lnTo>
                        <a:pt x="1056" y="638"/>
                      </a:lnTo>
                      <a:lnTo>
                        <a:pt x="1050" y="638"/>
                      </a:lnTo>
                      <a:lnTo>
                        <a:pt x="1003" y="644"/>
                      </a:lnTo>
                      <a:lnTo>
                        <a:pt x="907" y="656"/>
                      </a:lnTo>
                      <a:lnTo>
                        <a:pt x="853" y="668"/>
                      </a:lnTo>
                      <a:lnTo>
                        <a:pt x="806" y="674"/>
                      </a:lnTo>
                      <a:lnTo>
                        <a:pt x="800" y="638"/>
                      </a:lnTo>
                      <a:lnTo>
                        <a:pt x="788" y="626"/>
                      </a:lnTo>
                      <a:lnTo>
                        <a:pt x="770" y="614"/>
                      </a:lnTo>
                      <a:lnTo>
                        <a:pt x="764" y="603"/>
                      </a:lnTo>
                      <a:lnTo>
                        <a:pt x="740" y="620"/>
                      </a:lnTo>
                      <a:lnTo>
                        <a:pt x="734" y="614"/>
                      </a:lnTo>
                      <a:lnTo>
                        <a:pt x="740" y="603"/>
                      </a:lnTo>
                      <a:lnTo>
                        <a:pt x="734" y="597"/>
                      </a:lnTo>
                      <a:lnTo>
                        <a:pt x="734" y="591"/>
                      </a:lnTo>
                      <a:lnTo>
                        <a:pt x="669" y="597"/>
                      </a:lnTo>
                      <a:lnTo>
                        <a:pt x="663" y="603"/>
                      </a:lnTo>
                      <a:lnTo>
                        <a:pt x="573" y="608"/>
                      </a:lnTo>
                      <a:lnTo>
                        <a:pt x="549" y="608"/>
                      </a:lnTo>
                      <a:lnTo>
                        <a:pt x="525" y="614"/>
                      </a:lnTo>
                      <a:lnTo>
                        <a:pt x="472" y="620"/>
                      </a:lnTo>
                      <a:lnTo>
                        <a:pt x="466" y="620"/>
                      </a:lnTo>
                      <a:lnTo>
                        <a:pt x="460" y="620"/>
                      </a:lnTo>
                      <a:lnTo>
                        <a:pt x="454" y="620"/>
                      </a:lnTo>
                      <a:lnTo>
                        <a:pt x="454" y="626"/>
                      </a:lnTo>
                      <a:lnTo>
                        <a:pt x="448" y="626"/>
                      </a:lnTo>
                      <a:lnTo>
                        <a:pt x="442" y="626"/>
                      </a:lnTo>
                      <a:lnTo>
                        <a:pt x="436" y="626"/>
                      </a:lnTo>
                      <a:lnTo>
                        <a:pt x="430" y="626"/>
                      </a:lnTo>
                      <a:lnTo>
                        <a:pt x="430" y="620"/>
                      </a:lnTo>
                      <a:lnTo>
                        <a:pt x="424" y="626"/>
                      </a:lnTo>
                      <a:lnTo>
                        <a:pt x="424" y="632"/>
                      </a:lnTo>
                      <a:lnTo>
                        <a:pt x="418" y="632"/>
                      </a:lnTo>
                      <a:lnTo>
                        <a:pt x="412" y="632"/>
                      </a:lnTo>
                      <a:lnTo>
                        <a:pt x="412" y="638"/>
                      </a:lnTo>
                      <a:lnTo>
                        <a:pt x="406" y="638"/>
                      </a:lnTo>
                      <a:lnTo>
                        <a:pt x="400" y="638"/>
                      </a:lnTo>
                      <a:lnTo>
                        <a:pt x="400" y="644"/>
                      </a:lnTo>
                      <a:lnTo>
                        <a:pt x="394" y="644"/>
                      </a:lnTo>
                      <a:lnTo>
                        <a:pt x="388" y="644"/>
                      </a:lnTo>
                      <a:lnTo>
                        <a:pt x="388" y="650"/>
                      </a:lnTo>
                      <a:lnTo>
                        <a:pt x="382" y="650"/>
                      </a:lnTo>
                      <a:lnTo>
                        <a:pt x="376" y="650"/>
                      </a:lnTo>
                      <a:lnTo>
                        <a:pt x="376" y="656"/>
                      </a:lnTo>
                      <a:lnTo>
                        <a:pt x="370" y="656"/>
                      </a:lnTo>
                      <a:lnTo>
                        <a:pt x="364" y="656"/>
                      </a:lnTo>
                      <a:lnTo>
                        <a:pt x="364" y="662"/>
                      </a:lnTo>
                      <a:lnTo>
                        <a:pt x="370" y="662"/>
                      </a:lnTo>
                      <a:lnTo>
                        <a:pt x="364" y="662"/>
                      </a:lnTo>
                      <a:lnTo>
                        <a:pt x="358" y="662"/>
                      </a:lnTo>
                      <a:lnTo>
                        <a:pt x="358" y="668"/>
                      </a:lnTo>
                      <a:lnTo>
                        <a:pt x="352" y="668"/>
                      </a:lnTo>
                      <a:lnTo>
                        <a:pt x="346" y="668"/>
                      </a:lnTo>
                      <a:lnTo>
                        <a:pt x="323" y="680"/>
                      </a:lnTo>
                      <a:lnTo>
                        <a:pt x="299" y="692"/>
                      </a:lnTo>
                      <a:lnTo>
                        <a:pt x="293" y="692"/>
                      </a:lnTo>
                      <a:lnTo>
                        <a:pt x="293" y="698"/>
                      </a:lnTo>
                      <a:lnTo>
                        <a:pt x="287" y="698"/>
                      </a:lnTo>
                      <a:lnTo>
                        <a:pt x="281" y="698"/>
                      </a:lnTo>
                      <a:lnTo>
                        <a:pt x="281" y="704"/>
                      </a:lnTo>
                      <a:lnTo>
                        <a:pt x="275" y="704"/>
                      </a:lnTo>
                      <a:lnTo>
                        <a:pt x="191" y="716"/>
                      </a:lnTo>
                      <a:lnTo>
                        <a:pt x="185" y="716"/>
                      </a:lnTo>
                      <a:lnTo>
                        <a:pt x="179" y="716"/>
                      </a:lnTo>
                      <a:lnTo>
                        <a:pt x="90" y="728"/>
                      </a:lnTo>
                      <a:lnTo>
                        <a:pt x="78" y="734"/>
                      </a:lnTo>
                      <a:lnTo>
                        <a:pt x="48" y="734"/>
                      </a:lnTo>
                      <a:lnTo>
                        <a:pt x="6" y="740"/>
                      </a:lnTo>
                      <a:lnTo>
                        <a:pt x="6" y="734"/>
                      </a:lnTo>
                      <a:lnTo>
                        <a:pt x="6" y="728"/>
                      </a:lnTo>
                      <a:lnTo>
                        <a:pt x="6" y="722"/>
                      </a:lnTo>
                      <a:lnTo>
                        <a:pt x="6" y="716"/>
                      </a:lnTo>
                      <a:lnTo>
                        <a:pt x="0" y="716"/>
                      </a:lnTo>
                      <a:lnTo>
                        <a:pt x="6" y="716"/>
                      </a:lnTo>
                      <a:lnTo>
                        <a:pt x="6" y="710"/>
                      </a:lnTo>
                      <a:lnTo>
                        <a:pt x="0" y="704"/>
                      </a:lnTo>
                      <a:lnTo>
                        <a:pt x="6" y="704"/>
                      </a:lnTo>
                      <a:lnTo>
                        <a:pt x="6" y="698"/>
                      </a:lnTo>
                      <a:lnTo>
                        <a:pt x="0" y="692"/>
                      </a:lnTo>
                      <a:lnTo>
                        <a:pt x="6" y="692"/>
                      </a:lnTo>
                      <a:lnTo>
                        <a:pt x="0" y="686"/>
                      </a:lnTo>
                      <a:lnTo>
                        <a:pt x="0" y="680"/>
                      </a:lnTo>
                      <a:lnTo>
                        <a:pt x="6" y="680"/>
                      </a:lnTo>
                      <a:lnTo>
                        <a:pt x="6" y="674"/>
                      </a:lnTo>
                      <a:lnTo>
                        <a:pt x="6" y="668"/>
                      </a:lnTo>
                      <a:lnTo>
                        <a:pt x="12" y="662"/>
                      </a:lnTo>
                      <a:lnTo>
                        <a:pt x="18" y="662"/>
                      </a:lnTo>
                      <a:lnTo>
                        <a:pt x="24" y="662"/>
                      </a:lnTo>
                      <a:lnTo>
                        <a:pt x="24" y="668"/>
                      </a:lnTo>
                      <a:lnTo>
                        <a:pt x="30" y="668"/>
                      </a:lnTo>
                      <a:lnTo>
                        <a:pt x="36" y="668"/>
                      </a:lnTo>
                      <a:lnTo>
                        <a:pt x="36" y="662"/>
                      </a:lnTo>
                      <a:lnTo>
                        <a:pt x="42" y="662"/>
                      </a:lnTo>
                      <a:lnTo>
                        <a:pt x="48" y="662"/>
                      </a:lnTo>
                      <a:lnTo>
                        <a:pt x="48" y="656"/>
                      </a:lnTo>
                      <a:lnTo>
                        <a:pt x="54" y="656"/>
                      </a:lnTo>
                      <a:lnTo>
                        <a:pt x="60" y="650"/>
                      </a:lnTo>
                      <a:lnTo>
                        <a:pt x="60" y="644"/>
                      </a:lnTo>
                      <a:lnTo>
                        <a:pt x="60" y="638"/>
                      </a:lnTo>
                      <a:lnTo>
                        <a:pt x="60" y="632"/>
                      </a:lnTo>
                      <a:lnTo>
                        <a:pt x="60" y="626"/>
                      </a:lnTo>
                      <a:lnTo>
                        <a:pt x="60" y="620"/>
                      </a:lnTo>
                      <a:lnTo>
                        <a:pt x="60" y="614"/>
                      </a:lnTo>
                      <a:lnTo>
                        <a:pt x="60" y="608"/>
                      </a:lnTo>
                      <a:lnTo>
                        <a:pt x="66" y="608"/>
                      </a:lnTo>
                      <a:lnTo>
                        <a:pt x="66" y="603"/>
                      </a:lnTo>
                      <a:lnTo>
                        <a:pt x="72" y="603"/>
                      </a:lnTo>
                      <a:lnTo>
                        <a:pt x="72" y="597"/>
                      </a:lnTo>
                      <a:lnTo>
                        <a:pt x="78" y="597"/>
                      </a:lnTo>
                      <a:lnTo>
                        <a:pt x="78" y="591"/>
                      </a:lnTo>
                      <a:lnTo>
                        <a:pt x="84" y="591"/>
                      </a:lnTo>
                      <a:lnTo>
                        <a:pt x="84" y="585"/>
                      </a:lnTo>
                      <a:lnTo>
                        <a:pt x="90" y="579"/>
                      </a:lnTo>
                      <a:lnTo>
                        <a:pt x="96" y="579"/>
                      </a:lnTo>
                      <a:lnTo>
                        <a:pt x="102" y="579"/>
                      </a:lnTo>
                      <a:lnTo>
                        <a:pt x="102" y="573"/>
                      </a:lnTo>
                      <a:lnTo>
                        <a:pt x="108" y="573"/>
                      </a:lnTo>
                      <a:lnTo>
                        <a:pt x="108" y="567"/>
                      </a:lnTo>
                      <a:lnTo>
                        <a:pt x="114" y="567"/>
                      </a:lnTo>
                      <a:lnTo>
                        <a:pt x="120" y="567"/>
                      </a:lnTo>
                      <a:lnTo>
                        <a:pt x="126" y="567"/>
                      </a:lnTo>
                      <a:lnTo>
                        <a:pt x="126" y="561"/>
                      </a:lnTo>
                      <a:lnTo>
                        <a:pt x="132" y="561"/>
                      </a:lnTo>
                      <a:lnTo>
                        <a:pt x="138" y="561"/>
                      </a:lnTo>
                      <a:lnTo>
                        <a:pt x="144" y="561"/>
                      </a:lnTo>
                      <a:lnTo>
                        <a:pt x="150" y="561"/>
                      </a:lnTo>
                      <a:lnTo>
                        <a:pt x="155" y="561"/>
                      </a:lnTo>
                      <a:lnTo>
                        <a:pt x="161" y="561"/>
                      </a:lnTo>
                      <a:lnTo>
                        <a:pt x="167" y="561"/>
                      </a:lnTo>
                      <a:lnTo>
                        <a:pt x="167" y="555"/>
                      </a:lnTo>
                      <a:lnTo>
                        <a:pt x="173" y="555"/>
                      </a:lnTo>
                      <a:lnTo>
                        <a:pt x="173" y="549"/>
                      </a:lnTo>
                      <a:lnTo>
                        <a:pt x="179" y="543"/>
                      </a:lnTo>
                      <a:lnTo>
                        <a:pt x="185" y="543"/>
                      </a:lnTo>
                      <a:lnTo>
                        <a:pt x="185" y="537"/>
                      </a:lnTo>
                      <a:lnTo>
                        <a:pt x="191" y="537"/>
                      </a:lnTo>
                      <a:lnTo>
                        <a:pt x="197" y="531"/>
                      </a:lnTo>
                      <a:lnTo>
                        <a:pt x="197" y="525"/>
                      </a:lnTo>
                      <a:lnTo>
                        <a:pt x="203" y="525"/>
                      </a:lnTo>
                      <a:lnTo>
                        <a:pt x="209" y="525"/>
                      </a:lnTo>
                      <a:lnTo>
                        <a:pt x="209" y="519"/>
                      </a:lnTo>
                      <a:lnTo>
                        <a:pt x="215" y="519"/>
                      </a:lnTo>
                      <a:lnTo>
                        <a:pt x="215" y="513"/>
                      </a:lnTo>
                      <a:lnTo>
                        <a:pt x="221" y="513"/>
                      </a:lnTo>
                      <a:lnTo>
                        <a:pt x="221" y="507"/>
                      </a:lnTo>
                      <a:lnTo>
                        <a:pt x="227" y="501"/>
                      </a:lnTo>
                      <a:lnTo>
                        <a:pt x="233" y="501"/>
                      </a:lnTo>
                      <a:lnTo>
                        <a:pt x="233" y="495"/>
                      </a:lnTo>
                      <a:lnTo>
                        <a:pt x="239" y="495"/>
                      </a:lnTo>
                      <a:lnTo>
                        <a:pt x="239" y="489"/>
                      </a:lnTo>
                      <a:lnTo>
                        <a:pt x="245" y="489"/>
                      </a:lnTo>
                      <a:lnTo>
                        <a:pt x="251" y="489"/>
                      </a:lnTo>
                      <a:lnTo>
                        <a:pt x="251" y="483"/>
                      </a:lnTo>
                      <a:lnTo>
                        <a:pt x="257" y="483"/>
                      </a:lnTo>
                      <a:lnTo>
                        <a:pt x="263" y="483"/>
                      </a:lnTo>
                      <a:lnTo>
                        <a:pt x="269" y="483"/>
                      </a:lnTo>
                      <a:lnTo>
                        <a:pt x="275" y="483"/>
                      </a:lnTo>
                      <a:lnTo>
                        <a:pt x="281" y="477"/>
                      </a:lnTo>
                      <a:lnTo>
                        <a:pt x="281" y="471"/>
                      </a:lnTo>
                      <a:lnTo>
                        <a:pt x="281" y="465"/>
                      </a:lnTo>
                      <a:lnTo>
                        <a:pt x="287" y="465"/>
                      </a:lnTo>
                      <a:lnTo>
                        <a:pt x="287" y="459"/>
                      </a:lnTo>
                      <a:lnTo>
                        <a:pt x="287" y="453"/>
                      </a:lnTo>
                      <a:lnTo>
                        <a:pt x="287" y="447"/>
                      </a:lnTo>
                      <a:lnTo>
                        <a:pt x="287" y="441"/>
                      </a:lnTo>
                      <a:lnTo>
                        <a:pt x="287" y="435"/>
                      </a:lnTo>
                      <a:lnTo>
                        <a:pt x="287" y="429"/>
                      </a:lnTo>
                      <a:lnTo>
                        <a:pt x="293" y="429"/>
                      </a:lnTo>
                      <a:lnTo>
                        <a:pt x="299" y="429"/>
                      </a:lnTo>
                      <a:lnTo>
                        <a:pt x="299" y="435"/>
                      </a:lnTo>
                      <a:lnTo>
                        <a:pt x="305" y="435"/>
                      </a:lnTo>
                      <a:lnTo>
                        <a:pt x="311" y="435"/>
                      </a:lnTo>
                      <a:lnTo>
                        <a:pt x="311" y="429"/>
                      </a:lnTo>
                      <a:lnTo>
                        <a:pt x="317" y="424"/>
                      </a:lnTo>
                      <a:lnTo>
                        <a:pt x="317" y="418"/>
                      </a:lnTo>
                      <a:lnTo>
                        <a:pt x="311" y="418"/>
                      </a:lnTo>
                      <a:lnTo>
                        <a:pt x="317" y="418"/>
                      </a:lnTo>
                      <a:lnTo>
                        <a:pt x="317" y="412"/>
                      </a:lnTo>
                      <a:lnTo>
                        <a:pt x="323" y="406"/>
                      </a:lnTo>
                      <a:lnTo>
                        <a:pt x="328" y="406"/>
                      </a:lnTo>
                      <a:lnTo>
                        <a:pt x="328" y="400"/>
                      </a:lnTo>
                      <a:lnTo>
                        <a:pt x="334" y="400"/>
                      </a:lnTo>
                      <a:lnTo>
                        <a:pt x="340" y="394"/>
                      </a:lnTo>
                      <a:lnTo>
                        <a:pt x="346" y="394"/>
                      </a:lnTo>
                      <a:lnTo>
                        <a:pt x="352" y="400"/>
                      </a:lnTo>
                      <a:lnTo>
                        <a:pt x="352" y="406"/>
                      </a:lnTo>
                      <a:lnTo>
                        <a:pt x="352" y="412"/>
                      </a:lnTo>
                      <a:lnTo>
                        <a:pt x="352" y="418"/>
                      </a:lnTo>
                      <a:lnTo>
                        <a:pt x="358" y="418"/>
                      </a:lnTo>
                      <a:lnTo>
                        <a:pt x="364" y="418"/>
                      </a:lnTo>
                      <a:lnTo>
                        <a:pt x="370" y="418"/>
                      </a:lnTo>
                      <a:lnTo>
                        <a:pt x="370" y="412"/>
                      </a:lnTo>
                      <a:lnTo>
                        <a:pt x="376" y="412"/>
                      </a:lnTo>
                      <a:lnTo>
                        <a:pt x="376" y="406"/>
                      </a:lnTo>
                      <a:lnTo>
                        <a:pt x="382" y="406"/>
                      </a:lnTo>
                      <a:lnTo>
                        <a:pt x="382" y="400"/>
                      </a:lnTo>
                      <a:lnTo>
                        <a:pt x="388" y="394"/>
                      </a:lnTo>
                      <a:lnTo>
                        <a:pt x="388" y="388"/>
                      </a:lnTo>
                      <a:lnTo>
                        <a:pt x="388" y="382"/>
                      </a:lnTo>
                      <a:lnTo>
                        <a:pt x="394" y="382"/>
                      </a:lnTo>
                      <a:lnTo>
                        <a:pt x="394" y="376"/>
                      </a:lnTo>
                      <a:lnTo>
                        <a:pt x="400" y="376"/>
                      </a:lnTo>
                      <a:lnTo>
                        <a:pt x="400" y="370"/>
                      </a:lnTo>
                      <a:lnTo>
                        <a:pt x="406" y="370"/>
                      </a:lnTo>
                      <a:lnTo>
                        <a:pt x="406" y="364"/>
                      </a:lnTo>
                      <a:lnTo>
                        <a:pt x="412" y="364"/>
                      </a:lnTo>
                      <a:lnTo>
                        <a:pt x="418" y="364"/>
                      </a:lnTo>
                      <a:lnTo>
                        <a:pt x="424" y="364"/>
                      </a:lnTo>
                      <a:lnTo>
                        <a:pt x="424" y="358"/>
                      </a:lnTo>
                      <a:lnTo>
                        <a:pt x="430" y="358"/>
                      </a:lnTo>
                      <a:lnTo>
                        <a:pt x="436" y="352"/>
                      </a:lnTo>
                      <a:lnTo>
                        <a:pt x="442" y="352"/>
                      </a:lnTo>
                      <a:lnTo>
                        <a:pt x="442" y="358"/>
                      </a:lnTo>
                      <a:lnTo>
                        <a:pt x="448" y="358"/>
                      </a:lnTo>
                      <a:lnTo>
                        <a:pt x="448" y="364"/>
                      </a:lnTo>
                      <a:lnTo>
                        <a:pt x="454" y="364"/>
                      </a:lnTo>
                      <a:lnTo>
                        <a:pt x="460" y="364"/>
                      </a:lnTo>
                      <a:lnTo>
                        <a:pt x="466" y="364"/>
                      </a:lnTo>
                      <a:lnTo>
                        <a:pt x="472" y="358"/>
                      </a:lnTo>
                      <a:lnTo>
                        <a:pt x="472" y="352"/>
                      </a:lnTo>
                      <a:lnTo>
                        <a:pt x="478" y="352"/>
                      </a:lnTo>
                      <a:lnTo>
                        <a:pt x="478" y="346"/>
                      </a:lnTo>
                      <a:lnTo>
                        <a:pt x="478" y="340"/>
                      </a:lnTo>
                      <a:lnTo>
                        <a:pt x="484" y="334"/>
                      </a:lnTo>
                      <a:lnTo>
                        <a:pt x="484" y="328"/>
                      </a:lnTo>
                      <a:lnTo>
                        <a:pt x="484" y="322"/>
                      </a:lnTo>
                      <a:lnTo>
                        <a:pt x="490" y="316"/>
                      </a:lnTo>
                      <a:lnTo>
                        <a:pt x="490" y="310"/>
                      </a:lnTo>
                      <a:lnTo>
                        <a:pt x="490" y="304"/>
                      </a:lnTo>
                      <a:lnTo>
                        <a:pt x="496" y="304"/>
                      </a:lnTo>
                      <a:lnTo>
                        <a:pt x="496" y="298"/>
                      </a:lnTo>
                      <a:lnTo>
                        <a:pt x="501" y="298"/>
                      </a:lnTo>
                      <a:lnTo>
                        <a:pt x="501" y="292"/>
                      </a:lnTo>
                      <a:lnTo>
                        <a:pt x="507" y="292"/>
                      </a:lnTo>
                      <a:lnTo>
                        <a:pt x="513" y="292"/>
                      </a:lnTo>
                      <a:lnTo>
                        <a:pt x="513" y="286"/>
                      </a:lnTo>
                      <a:lnTo>
                        <a:pt x="519" y="286"/>
                      </a:lnTo>
                      <a:lnTo>
                        <a:pt x="519" y="292"/>
                      </a:lnTo>
                      <a:lnTo>
                        <a:pt x="519" y="286"/>
                      </a:lnTo>
                      <a:lnTo>
                        <a:pt x="525" y="286"/>
                      </a:lnTo>
                      <a:lnTo>
                        <a:pt x="531" y="286"/>
                      </a:lnTo>
                      <a:lnTo>
                        <a:pt x="537" y="286"/>
                      </a:lnTo>
                      <a:lnTo>
                        <a:pt x="531" y="286"/>
                      </a:lnTo>
                      <a:lnTo>
                        <a:pt x="531" y="280"/>
                      </a:lnTo>
                      <a:lnTo>
                        <a:pt x="525" y="280"/>
                      </a:lnTo>
                      <a:lnTo>
                        <a:pt x="525" y="274"/>
                      </a:lnTo>
                      <a:lnTo>
                        <a:pt x="525" y="268"/>
                      </a:lnTo>
                      <a:lnTo>
                        <a:pt x="525" y="262"/>
                      </a:lnTo>
                      <a:lnTo>
                        <a:pt x="531" y="262"/>
                      </a:lnTo>
                      <a:lnTo>
                        <a:pt x="531" y="256"/>
                      </a:lnTo>
                      <a:lnTo>
                        <a:pt x="531" y="250"/>
                      </a:lnTo>
                      <a:lnTo>
                        <a:pt x="531" y="244"/>
                      </a:lnTo>
                      <a:lnTo>
                        <a:pt x="531" y="239"/>
                      </a:lnTo>
                      <a:lnTo>
                        <a:pt x="531" y="233"/>
                      </a:lnTo>
                      <a:lnTo>
                        <a:pt x="531" y="227"/>
                      </a:lnTo>
                      <a:lnTo>
                        <a:pt x="531" y="221"/>
                      </a:lnTo>
                      <a:lnTo>
                        <a:pt x="531" y="215"/>
                      </a:lnTo>
                      <a:lnTo>
                        <a:pt x="603" y="209"/>
                      </a:lnTo>
                      <a:lnTo>
                        <a:pt x="704" y="197"/>
                      </a:lnTo>
                      <a:lnTo>
                        <a:pt x="716" y="191"/>
                      </a:lnTo>
                      <a:lnTo>
                        <a:pt x="764" y="185"/>
                      </a:lnTo>
                      <a:lnTo>
                        <a:pt x="806" y="185"/>
                      </a:lnTo>
                      <a:lnTo>
                        <a:pt x="889" y="167"/>
                      </a:lnTo>
                      <a:lnTo>
                        <a:pt x="895" y="167"/>
                      </a:lnTo>
                      <a:lnTo>
                        <a:pt x="961" y="155"/>
                      </a:lnTo>
                      <a:lnTo>
                        <a:pt x="1009" y="149"/>
                      </a:lnTo>
                      <a:lnTo>
                        <a:pt x="1068" y="137"/>
                      </a:lnTo>
                      <a:lnTo>
                        <a:pt x="1074" y="137"/>
                      </a:lnTo>
                      <a:lnTo>
                        <a:pt x="1086" y="137"/>
                      </a:lnTo>
                      <a:lnTo>
                        <a:pt x="1164" y="119"/>
                      </a:lnTo>
                      <a:lnTo>
                        <a:pt x="1176" y="119"/>
                      </a:lnTo>
                      <a:lnTo>
                        <a:pt x="1241" y="107"/>
                      </a:lnTo>
                      <a:lnTo>
                        <a:pt x="1271" y="101"/>
                      </a:lnTo>
                      <a:lnTo>
                        <a:pt x="1325" y="89"/>
                      </a:lnTo>
                      <a:lnTo>
                        <a:pt x="1361" y="83"/>
                      </a:lnTo>
                      <a:lnTo>
                        <a:pt x="1390" y="77"/>
                      </a:lnTo>
                      <a:lnTo>
                        <a:pt x="1486" y="60"/>
                      </a:lnTo>
                      <a:lnTo>
                        <a:pt x="1516" y="48"/>
                      </a:lnTo>
                      <a:lnTo>
                        <a:pt x="1575" y="42"/>
                      </a:lnTo>
                      <a:lnTo>
                        <a:pt x="1653" y="24"/>
                      </a:lnTo>
                      <a:lnTo>
                        <a:pt x="1665" y="18"/>
                      </a:lnTo>
                      <a:lnTo>
                        <a:pt x="1701" y="12"/>
                      </a:lnTo>
                      <a:lnTo>
                        <a:pt x="1742" y="6"/>
                      </a:lnTo>
                      <a:lnTo>
                        <a:pt x="1748" y="6"/>
                      </a:lnTo>
                      <a:lnTo>
                        <a:pt x="1766" y="0"/>
                      </a:lnTo>
                      <a:lnTo>
                        <a:pt x="1766" y="6"/>
                      </a:lnTo>
                      <a:lnTo>
                        <a:pt x="1766" y="12"/>
                      </a:lnTo>
                      <a:lnTo>
                        <a:pt x="1760" y="12"/>
                      </a:lnTo>
                      <a:lnTo>
                        <a:pt x="1754" y="18"/>
                      </a:lnTo>
                      <a:lnTo>
                        <a:pt x="1760" y="18"/>
                      </a:lnTo>
                      <a:lnTo>
                        <a:pt x="1766" y="18"/>
                      </a:lnTo>
                      <a:lnTo>
                        <a:pt x="1772" y="18"/>
                      </a:lnTo>
                      <a:lnTo>
                        <a:pt x="1772" y="24"/>
                      </a:lnTo>
                      <a:lnTo>
                        <a:pt x="1778" y="24"/>
                      </a:lnTo>
                      <a:lnTo>
                        <a:pt x="1778" y="30"/>
                      </a:lnTo>
                      <a:lnTo>
                        <a:pt x="1784" y="30"/>
                      </a:lnTo>
                      <a:lnTo>
                        <a:pt x="1790" y="36"/>
                      </a:lnTo>
                      <a:lnTo>
                        <a:pt x="1784" y="36"/>
                      </a:lnTo>
                      <a:lnTo>
                        <a:pt x="1784" y="42"/>
                      </a:lnTo>
                      <a:lnTo>
                        <a:pt x="1790" y="42"/>
                      </a:lnTo>
                      <a:lnTo>
                        <a:pt x="1796" y="48"/>
                      </a:lnTo>
                      <a:lnTo>
                        <a:pt x="1796" y="42"/>
                      </a:lnTo>
                      <a:lnTo>
                        <a:pt x="1796" y="36"/>
                      </a:lnTo>
                      <a:lnTo>
                        <a:pt x="1796" y="30"/>
                      </a:lnTo>
                      <a:lnTo>
                        <a:pt x="1790" y="30"/>
                      </a:lnTo>
                      <a:lnTo>
                        <a:pt x="1796" y="30"/>
                      </a:lnTo>
                      <a:lnTo>
                        <a:pt x="1796" y="36"/>
                      </a:lnTo>
                      <a:lnTo>
                        <a:pt x="1802" y="36"/>
                      </a:lnTo>
                      <a:lnTo>
                        <a:pt x="1802" y="42"/>
                      </a:lnTo>
                      <a:lnTo>
                        <a:pt x="1802" y="48"/>
                      </a:lnTo>
                      <a:lnTo>
                        <a:pt x="1802" y="54"/>
                      </a:lnTo>
                      <a:lnTo>
                        <a:pt x="1808" y="54"/>
                      </a:lnTo>
                      <a:lnTo>
                        <a:pt x="1808" y="60"/>
                      </a:lnTo>
                      <a:lnTo>
                        <a:pt x="1814" y="65"/>
                      </a:lnTo>
                      <a:lnTo>
                        <a:pt x="1814" y="71"/>
                      </a:lnTo>
                      <a:lnTo>
                        <a:pt x="1820" y="71"/>
                      </a:lnTo>
                      <a:lnTo>
                        <a:pt x="1820" y="77"/>
                      </a:lnTo>
                      <a:lnTo>
                        <a:pt x="1820" y="83"/>
                      </a:lnTo>
                      <a:lnTo>
                        <a:pt x="1826" y="83"/>
                      </a:lnTo>
                      <a:lnTo>
                        <a:pt x="1826" y="89"/>
                      </a:lnTo>
                      <a:lnTo>
                        <a:pt x="1832" y="89"/>
                      </a:lnTo>
                      <a:lnTo>
                        <a:pt x="1832" y="95"/>
                      </a:lnTo>
                      <a:lnTo>
                        <a:pt x="1832" y="101"/>
                      </a:lnTo>
                      <a:lnTo>
                        <a:pt x="1838" y="101"/>
                      </a:lnTo>
                      <a:lnTo>
                        <a:pt x="1838" y="107"/>
                      </a:lnTo>
                      <a:lnTo>
                        <a:pt x="1844" y="107"/>
                      </a:lnTo>
                      <a:lnTo>
                        <a:pt x="1844" y="113"/>
                      </a:lnTo>
                      <a:lnTo>
                        <a:pt x="1844" y="119"/>
                      </a:lnTo>
                      <a:lnTo>
                        <a:pt x="1838" y="119"/>
                      </a:lnTo>
                      <a:lnTo>
                        <a:pt x="1832" y="11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252"/>
                <p:cNvSpPr/>
                <p:nvPr/>
              </p:nvSpPr>
              <p:spPr>
                <a:xfrm>
                  <a:off x="7949160" y="518508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253"/>
                <p:cNvSpPr/>
                <p:nvPr/>
              </p:nvSpPr>
              <p:spPr>
                <a:xfrm>
                  <a:off x="7943400" y="519696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Rectangle 254"/>
                <p:cNvSpPr/>
                <p:nvPr/>
              </p:nvSpPr>
              <p:spPr>
                <a:xfrm>
                  <a:off x="8003160" y="5238000"/>
                  <a:ext cx="612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255"/>
                <p:cNvSpPr/>
                <p:nvPr/>
              </p:nvSpPr>
              <p:spPr>
                <a:xfrm>
                  <a:off x="8003160" y="5254200"/>
                  <a:ext cx="612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256"/>
                <p:cNvSpPr/>
                <p:nvPr/>
              </p:nvSpPr>
              <p:spPr>
                <a:xfrm>
                  <a:off x="8009280" y="52657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257"/>
                <p:cNvSpPr/>
                <p:nvPr/>
              </p:nvSpPr>
              <p:spPr>
                <a:xfrm>
                  <a:off x="7818120" y="528336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258"/>
                <p:cNvSpPr/>
                <p:nvPr/>
              </p:nvSpPr>
              <p:spPr>
                <a:xfrm>
                  <a:off x="8045280" y="531252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259"/>
                <p:cNvSpPr/>
                <p:nvPr/>
              </p:nvSpPr>
              <p:spPr>
                <a:xfrm>
                  <a:off x="8003160" y="533592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6" y="0"/>
                      </a:move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260"/>
                <p:cNvSpPr/>
                <p:nvPr/>
              </p:nvSpPr>
              <p:spPr>
                <a:xfrm>
                  <a:off x="8051040" y="5335920"/>
                  <a:ext cx="34920" cy="288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5" h="3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23" y="6"/>
                      </a:lnTo>
                      <a:lnTo>
                        <a:pt x="23" y="12"/>
                      </a:lnTo>
                      <a:lnTo>
                        <a:pt x="29" y="12"/>
                      </a:lnTo>
                      <a:lnTo>
                        <a:pt x="29" y="18"/>
                      </a:lnTo>
                      <a:lnTo>
                        <a:pt x="23" y="18"/>
                      </a:lnTo>
                      <a:lnTo>
                        <a:pt x="23" y="12"/>
                      </a:lnTo>
                      <a:lnTo>
                        <a:pt x="23" y="18"/>
                      </a:lnTo>
                      <a:lnTo>
                        <a:pt x="29" y="18"/>
                      </a:lnTo>
                      <a:lnTo>
                        <a:pt x="29" y="24"/>
                      </a:lnTo>
                      <a:lnTo>
                        <a:pt x="35" y="24"/>
                      </a:lnTo>
                      <a:lnTo>
                        <a:pt x="29" y="24"/>
                      </a:lnTo>
                      <a:lnTo>
                        <a:pt x="23" y="30"/>
                      </a:lnTo>
                      <a:lnTo>
                        <a:pt x="23" y="24"/>
                      </a:lnTo>
                      <a:lnTo>
                        <a:pt x="23" y="18"/>
                      </a:lnTo>
                      <a:lnTo>
                        <a:pt x="17" y="18"/>
                      </a:lnTo>
                      <a:lnTo>
                        <a:pt x="17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261"/>
                <p:cNvSpPr/>
                <p:nvPr/>
              </p:nvSpPr>
              <p:spPr>
                <a:xfrm>
                  <a:off x="8092080" y="5370840"/>
                  <a:ext cx="47880" cy="1620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8" h="167">
                      <a:moveTo>
                        <a:pt x="30" y="24"/>
                      </a:moveTo>
                      <a:lnTo>
                        <a:pt x="24" y="18"/>
                      </a:lnTo>
                      <a:lnTo>
                        <a:pt x="24" y="24"/>
                      </a:lnTo>
                      <a:lnTo>
                        <a:pt x="24" y="18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30" y="24"/>
                      </a:lnTo>
                      <a:lnTo>
                        <a:pt x="36" y="30"/>
                      </a:lnTo>
                      <a:lnTo>
                        <a:pt x="36" y="36"/>
                      </a:lnTo>
                      <a:lnTo>
                        <a:pt x="36" y="42"/>
                      </a:lnTo>
                      <a:lnTo>
                        <a:pt x="42" y="42"/>
                      </a:lnTo>
                      <a:lnTo>
                        <a:pt x="42" y="48"/>
                      </a:lnTo>
                      <a:lnTo>
                        <a:pt x="42" y="53"/>
                      </a:lnTo>
                      <a:lnTo>
                        <a:pt x="42" y="59"/>
                      </a:lnTo>
                      <a:lnTo>
                        <a:pt x="42" y="65"/>
                      </a:lnTo>
                      <a:lnTo>
                        <a:pt x="42" y="71"/>
                      </a:lnTo>
                      <a:lnTo>
                        <a:pt x="42" y="77"/>
                      </a:lnTo>
                      <a:lnTo>
                        <a:pt x="42" y="83"/>
                      </a:lnTo>
                      <a:lnTo>
                        <a:pt x="48" y="89"/>
                      </a:lnTo>
                      <a:lnTo>
                        <a:pt x="48" y="95"/>
                      </a:lnTo>
                      <a:lnTo>
                        <a:pt x="48" y="101"/>
                      </a:lnTo>
                      <a:lnTo>
                        <a:pt x="48" y="107"/>
                      </a:lnTo>
                      <a:lnTo>
                        <a:pt x="48" y="113"/>
                      </a:lnTo>
                      <a:lnTo>
                        <a:pt x="48" y="119"/>
                      </a:lnTo>
                      <a:lnTo>
                        <a:pt x="48" y="125"/>
                      </a:lnTo>
                      <a:lnTo>
                        <a:pt x="48" y="131"/>
                      </a:lnTo>
                      <a:lnTo>
                        <a:pt x="48" y="137"/>
                      </a:lnTo>
                      <a:lnTo>
                        <a:pt x="48" y="143"/>
                      </a:lnTo>
                      <a:lnTo>
                        <a:pt x="48" y="149"/>
                      </a:lnTo>
                      <a:lnTo>
                        <a:pt x="42" y="149"/>
                      </a:lnTo>
                      <a:lnTo>
                        <a:pt x="36" y="149"/>
                      </a:lnTo>
                      <a:lnTo>
                        <a:pt x="30" y="149"/>
                      </a:lnTo>
                      <a:lnTo>
                        <a:pt x="30" y="155"/>
                      </a:lnTo>
                      <a:lnTo>
                        <a:pt x="24" y="155"/>
                      </a:lnTo>
                      <a:lnTo>
                        <a:pt x="18" y="155"/>
                      </a:lnTo>
                      <a:lnTo>
                        <a:pt x="18" y="161"/>
                      </a:lnTo>
                      <a:lnTo>
                        <a:pt x="12" y="161"/>
                      </a:lnTo>
                      <a:lnTo>
                        <a:pt x="12" y="167"/>
                      </a:lnTo>
                      <a:lnTo>
                        <a:pt x="6" y="167"/>
                      </a:lnTo>
                      <a:lnTo>
                        <a:pt x="0" y="167"/>
                      </a:lnTo>
                      <a:lnTo>
                        <a:pt x="6" y="167"/>
                      </a:lnTo>
                      <a:lnTo>
                        <a:pt x="6" y="161"/>
                      </a:lnTo>
                      <a:lnTo>
                        <a:pt x="12" y="155"/>
                      </a:lnTo>
                      <a:lnTo>
                        <a:pt x="6" y="155"/>
                      </a:lnTo>
                      <a:lnTo>
                        <a:pt x="12" y="155"/>
                      </a:lnTo>
                      <a:lnTo>
                        <a:pt x="18" y="155"/>
                      </a:lnTo>
                      <a:lnTo>
                        <a:pt x="24" y="155"/>
                      </a:lnTo>
                      <a:lnTo>
                        <a:pt x="24" y="149"/>
                      </a:lnTo>
                      <a:lnTo>
                        <a:pt x="30" y="149"/>
                      </a:lnTo>
                      <a:lnTo>
                        <a:pt x="30" y="143"/>
                      </a:lnTo>
                      <a:lnTo>
                        <a:pt x="36" y="143"/>
                      </a:lnTo>
                      <a:lnTo>
                        <a:pt x="36" y="137"/>
                      </a:lnTo>
                      <a:lnTo>
                        <a:pt x="42" y="137"/>
                      </a:lnTo>
                      <a:lnTo>
                        <a:pt x="42" y="131"/>
                      </a:lnTo>
                      <a:lnTo>
                        <a:pt x="42" y="125"/>
                      </a:lnTo>
                      <a:lnTo>
                        <a:pt x="42" y="119"/>
                      </a:lnTo>
                      <a:lnTo>
                        <a:pt x="42" y="113"/>
                      </a:lnTo>
                      <a:lnTo>
                        <a:pt x="42" y="107"/>
                      </a:lnTo>
                      <a:lnTo>
                        <a:pt x="42" y="101"/>
                      </a:lnTo>
                      <a:lnTo>
                        <a:pt x="42" y="95"/>
                      </a:lnTo>
                      <a:lnTo>
                        <a:pt x="42" y="89"/>
                      </a:lnTo>
                      <a:lnTo>
                        <a:pt x="42" y="83"/>
                      </a:lnTo>
                      <a:lnTo>
                        <a:pt x="42" y="77"/>
                      </a:lnTo>
                      <a:lnTo>
                        <a:pt x="36" y="71"/>
                      </a:lnTo>
                      <a:lnTo>
                        <a:pt x="36" y="65"/>
                      </a:lnTo>
                      <a:lnTo>
                        <a:pt x="36" y="59"/>
                      </a:lnTo>
                      <a:lnTo>
                        <a:pt x="36" y="53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6"/>
                      </a:lnTo>
                      <a:lnTo>
                        <a:pt x="30" y="36"/>
                      </a:lnTo>
                      <a:lnTo>
                        <a:pt x="30" y="30"/>
                      </a:lnTo>
                      <a:lnTo>
                        <a:pt x="30" y="2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262"/>
                <p:cNvSpPr/>
                <p:nvPr/>
              </p:nvSpPr>
              <p:spPr>
                <a:xfrm>
                  <a:off x="4835520" y="5388480"/>
                  <a:ext cx="1884960" cy="631440"/>
                </a:xfrm>
                <a:custGeom>
                  <a:avLst/>
                  <a:gdLst>
                    <a:gd name="textAreaLeft" fmla="*/ 0 w 1884960"/>
                    <a:gd name="textAreaRight" fmla="*/ 1885320 w 1884960"/>
                    <a:gd name="textAreaTop" fmla="*/ 0 h 631440"/>
                    <a:gd name="textAreaBottom" fmla="*/ 631800 h 631440"/>
                  </a:gdLst>
                  <a:ahLst/>
                  <a:rect l="textAreaLeft" t="textAreaTop" r="textAreaRight" b="textAreaBottom"/>
                  <a:pathLst>
                    <a:path w="1885" h="650">
                      <a:moveTo>
                        <a:pt x="1438" y="65"/>
                      </a:moveTo>
                      <a:lnTo>
                        <a:pt x="1486" y="59"/>
                      </a:lnTo>
                      <a:lnTo>
                        <a:pt x="1527" y="53"/>
                      </a:lnTo>
                      <a:lnTo>
                        <a:pt x="1533" y="53"/>
                      </a:lnTo>
                      <a:lnTo>
                        <a:pt x="1539" y="53"/>
                      </a:lnTo>
                      <a:lnTo>
                        <a:pt x="1593" y="47"/>
                      </a:lnTo>
                      <a:lnTo>
                        <a:pt x="1623" y="41"/>
                      </a:lnTo>
                      <a:lnTo>
                        <a:pt x="1629" y="41"/>
                      </a:lnTo>
                      <a:lnTo>
                        <a:pt x="1676" y="35"/>
                      </a:lnTo>
                      <a:lnTo>
                        <a:pt x="1742" y="24"/>
                      </a:lnTo>
                      <a:lnTo>
                        <a:pt x="1760" y="24"/>
                      </a:lnTo>
                      <a:lnTo>
                        <a:pt x="1772" y="18"/>
                      </a:lnTo>
                      <a:lnTo>
                        <a:pt x="1826" y="12"/>
                      </a:lnTo>
                      <a:lnTo>
                        <a:pt x="1826" y="6"/>
                      </a:lnTo>
                      <a:lnTo>
                        <a:pt x="1844" y="6"/>
                      </a:lnTo>
                      <a:lnTo>
                        <a:pt x="1849" y="6"/>
                      </a:lnTo>
                      <a:lnTo>
                        <a:pt x="1885" y="0"/>
                      </a:lnTo>
                      <a:lnTo>
                        <a:pt x="1879" y="6"/>
                      </a:lnTo>
                      <a:lnTo>
                        <a:pt x="1879" y="12"/>
                      </a:lnTo>
                      <a:lnTo>
                        <a:pt x="1879" y="18"/>
                      </a:lnTo>
                      <a:lnTo>
                        <a:pt x="1879" y="24"/>
                      </a:lnTo>
                      <a:lnTo>
                        <a:pt x="1879" y="30"/>
                      </a:lnTo>
                      <a:lnTo>
                        <a:pt x="1879" y="35"/>
                      </a:lnTo>
                      <a:lnTo>
                        <a:pt x="1879" y="41"/>
                      </a:lnTo>
                      <a:lnTo>
                        <a:pt x="1879" y="47"/>
                      </a:lnTo>
                      <a:lnTo>
                        <a:pt x="1879" y="53"/>
                      </a:lnTo>
                      <a:lnTo>
                        <a:pt x="1873" y="53"/>
                      </a:lnTo>
                      <a:lnTo>
                        <a:pt x="1873" y="59"/>
                      </a:lnTo>
                      <a:lnTo>
                        <a:pt x="1873" y="65"/>
                      </a:lnTo>
                      <a:lnTo>
                        <a:pt x="1873" y="71"/>
                      </a:lnTo>
                      <a:lnTo>
                        <a:pt x="1879" y="71"/>
                      </a:lnTo>
                      <a:lnTo>
                        <a:pt x="1879" y="77"/>
                      </a:lnTo>
                      <a:lnTo>
                        <a:pt x="1885" y="77"/>
                      </a:lnTo>
                      <a:lnTo>
                        <a:pt x="1879" y="77"/>
                      </a:lnTo>
                      <a:lnTo>
                        <a:pt x="1873" y="77"/>
                      </a:lnTo>
                      <a:lnTo>
                        <a:pt x="1867" y="77"/>
                      </a:lnTo>
                      <a:lnTo>
                        <a:pt x="1867" y="83"/>
                      </a:lnTo>
                      <a:lnTo>
                        <a:pt x="1867" y="77"/>
                      </a:lnTo>
                      <a:lnTo>
                        <a:pt x="1861" y="77"/>
                      </a:lnTo>
                      <a:lnTo>
                        <a:pt x="1861" y="83"/>
                      </a:lnTo>
                      <a:lnTo>
                        <a:pt x="1855" y="83"/>
                      </a:lnTo>
                      <a:lnTo>
                        <a:pt x="1849" y="83"/>
                      </a:lnTo>
                      <a:lnTo>
                        <a:pt x="1849" y="89"/>
                      </a:lnTo>
                      <a:lnTo>
                        <a:pt x="1844" y="89"/>
                      </a:lnTo>
                      <a:lnTo>
                        <a:pt x="1844" y="95"/>
                      </a:lnTo>
                      <a:lnTo>
                        <a:pt x="1838" y="95"/>
                      </a:lnTo>
                      <a:lnTo>
                        <a:pt x="1838" y="101"/>
                      </a:lnTo>
                      <a:lnTo>
                        <a:pt x="1838" y="107"/>
                      </a:lnTo>
                      <a:lnTo>
                        <a:pt x="1832" y="113"/>
                      </a:lnTo>
                      <a:lnTo>
                        <a:pt x="1832" y="119"/>
                      </a:lnTo>
                      <a:lnTo>
                        <a:pt x="1832" y="125"/>
                      </a:lnTo>
                      <a:lnTo>
                        <a:pt x="1826" y="131"/>
                      </a:lnTo>
                      <a:lnTo>
                        <a:pt x="1826" y="137"/>
                      </a:lnTo>
                      <a:lnTo>
                        <a:pt x="1826" y="143"/>
                      </a:lnTo>
                      <a:lnTo>
                        <a:pt x="1820" y="143"/>
                      </a:lnTo>
                      <a:lnTo>
                        <a:pt x="1820" y="149"/>
                      </a:lnTo>
                      <a:lnTo>
                        <a:pt x="1814" y="155"/>
                      </a:lnTo>
                      <a:lnTo>
                        <a:pt x="1808" y="155"/>
                      </a:lnTo>
                      <a:lnTo>
                        <a:pt x="1802" y="155"/>
                      </a:lnTo>
                      <a:lnTo>
                        <a:pt x="1796" y="155"/>
                      </a:lnTo>
                      <a:lnTo>
                        <a:pt x="1796" y="149"/>
                      </a:lnTo>
                      <a:lnTo>
                        <a:pt x="1790" y="149"/>
                      </a:lnTo>
                      <a:lnTo>
                        <a:pt x="1790" y="143"/>
                      </a:lnTo>
                      <a:lnTo>
                        <a:pt x="1784" y="143"/>
                      </a:lnTo>
                      <a:lnTo>
                        <a:pt x="1778" y="149"/>
                      </a:lnTo>
                      <a:lnTo>
                        <a:pt x="1772" y="149"/>
                      </a:lnTo>
                      <a:lnTo>
                        <a:pt x="1772" y="155"/>
                      </a:lnTo>
                      <a:lnTo>
                        <a:pt x="1766" y="155"/>
                      </a:lnTo>
                      <a:lnTo>
                        <a:pt x="1760" y="155"/>
                      </a:lnTo>
                      <a:lnTo>
                        <a:pt x="1754" y="155"/>
                      </a:lnTo>
                      <a:lnTo>
                        <a:pt x="1754" y="161"/>
                      </a:lnTo>
                      <a:lnTo>
                        <a:pt x="1748" y="161"/>
                      </a:lnTo>
                      <a:lnTo>
                        <a:pt x="1748" y="167"/>
                      </a:lnTo>
                      <a:lnTo>
                        <a:pt x="1742" y="167"/>
                      </a:lnTo>
                      <a:lnTo>
                        <a:pt x="1742" y="173"/>
                      </a:lnTo>
                      <a:lnTo>
                        <a:pt x="1736" y="173"/>
                      </a:lnTo>
                      <a:lnTo>
                        <a:pt x="1736" y="179"/>
                      </a:lnTo>
                      <a:lnTo>
                        <a:pt x="1736" y="185"/>
                      </a:lnTo>
                      <a:lnTo>
                        <a:pt x="1730" y="191"/>
                      </a:lnTo>
                      <a:lnTo>
                        <a:pt x="1730" y="197"/>
                      </a:lnTo>
                      <a:lnTo>
                        <a:pt x="1724" y="197"/>
                      </a:lnTo>
                      <a:lnTo>
                        <a:pt x="1724" y="203"/>
                      </a:lnTo>
                      <a:lnTo>
                        <a:pt x="1718" y="203"/>
                      </a:lnTo>
                      <a:lnTo>
                        <a:pt x="1718" y="209"/>
                      </a:lnTo>
                      <a:lnTo>
                        <a:pt x="1712" y="209"/>
                      </a:lnTo>
                      <a:lnTo>
                        <a:pt x="1706" y="209"/>
                      </a:lnTo>
                      <a:lnTo>
                        <a:pt x="1700" y="209"/>
                      </a:lnTo>
                      <a:lnTo>
                        <a:pt x="1700" y="203"/>
                      </a:lnTo>
                      <a:lnTo>
                        <a:pt x="1700" y="197"/>
                      </a:lnTo>
                      <a:lnTo>
                        <a:pt x="1700" y="191"/>
                      </a:lnTo>
                      <a:lnTo>
                        <a:pt x="1694" y="185"/>
                      </a:lnTo>
                      <a:lnTo>
                        <a:pt x="1688" y="185"/>
                      </a:lnTo>
                      <a:lnTo>
                        <a:pt x="1682" y="191"/>
                      </a:lnTo>
                      <a:lnTo>
                        <a:pt x="1676" y="191"/>
                      </a:lnTo>
                      <a:lnTo>
                        <a:pt x="1676" y="197"/>
                      </a:lnTo>
                      <a:lnTo>
                        <a:pt x="1671" y="197"/>
                      </a:lnTo>
                      <a:lnTo>
                        <a:pt x="1665" y="203"/>
                      </a:lnTo>
                      <a:lnTo>
                        <a:pt x="1665" y="209"/>
                      </a:lnTo>
                      <a:lnTo>
                        <a:pt x="1659" y="209"/>
                      </a:lnTo>
                      <a:lnTo>
                        <a:pt x="1665" y="209"/>
                      </a:lnTo>
                      <a:lnTo>
                        <a:pt x="1665" y="215"/>
                      </a:lnTo>
                      <a:lnTo>
                        <a:pt x="1659" y="220"/>
                      </a:lnTo>
                      <a:lnTo>
                        <a:pt x="1659" y="226"/>
                      </a:lnTo>
                      <a:lnTo>
                        <a:pt x="1653" y="226"/>
                      </a:lnTo>
                      <a:lnTo>
                        <a:pt x="1647" y="226"/>
                      </a:lnTo>
                      <a:lnTo>
                        <a:pt x="1647" y="220"/>
                      </a:lnTo>
                      <a:lnTo>
                        <a:pt x="1641" y="220"/>
                      </a:lnTo>
                      <a:lnTo>
                        <a:pt x="1635" y="220"/>
                      </a:lnTo>
                      <a:lnTo>
                        <a:pt x="1635" y="226"/>
                      </a:lnTo>
                      <a:lnTo>
                        <a:pt x="1635" y="232"/>
                      </a:lnTo>
                      <a:lnTo>
                        <a:pt x="1635" y="238"/>
                      </a:lnTo>
                      <a:lnTo>
                        <a:pt x="1635" y="244"/>
                      </a:lnTo>
                      <a:lnTo>
                        <a:pt x="1635" y="250"/>
                      </a:lnTo>
                      <a:lnTo>
                        <a:pt x="1635" y="256"/>
                      </a:lnTo>
                      <a:lnTo>
                        <a:pt x="1629" y="256"/>
                      </a:lnTo>
                      <a:lnTo>
                        <a:pt x="1629" y="262"/>
                      </a:lnTo>
                      <a:lnTo>
                        <a:pt x="1629" y="268"/>
                      </a:lnTo>
                      <a:lnTo>
                        <a:pt x="1623" y="274"/>
                      </a:lnTo>
                      <a:lnTo>
                        <a:pt x="1617" y="274"/>
                      </a:lnTo>
                      <a:lnTo>
                        <a:pt x="1611" y="274"/>
                      </a:lnTo>
                      <a:lnTo>
                        <a:pt x="1605" y="274"/>
                      </a:lnTo>
                      <a:lnTo>
                        <a:pt x="1599" y="274"/>
                      </a:lnTo>
                      <a:lnTo>
                        <a:pt x="1599" y="280"/>
                      </a:lnTo>
                      <a:lnTo>
                        <a:pt x="1593" y="280"/>
                      </a:lnTo>
                      <a:lnTo>
                        <a:pt x="1587" y="280"/>
                      </a:lnTo>
                      <a:lnTo>
                        <a:pt x="1587" y="286"/>
                      </a:lnTo>
                      <a:lnTo>
                        <a:pt x="1581" y="286"/>
                      </a:lnTo>
                      <a:lnTo>
                        <a:pt x="1581" y="292"/>
                      </a:lnTo>
                      <a:lnTo>
                        <a:pt x="1575" y="292"/>
                      </a:lnTo>
                      <a:lnTo>
                        <a:pt x="1569" y="298"/>
                      </a:lnTo>
                      <a:lnTo>
                        <a:pt x="1569" y="304"/>
                      </a:lnTo>
                      <a:lnTo>
                        <a:pt x="1563" y="304"/>
                      </a:lnTo>
                      <a:lnTo>
                        <a:pt x="1563" y="310"/>
                      </a:lnTo>
                      <a:lnTo>
                        <a:pt x="1557" y="310"/>
                      </a:lnTo>
                      <a:lnTo>
                        <a:pt x="1557" y="316"/>
                      </a:lnTo>
                      <a:lnTo>
                        <a:pt x="1551" y="316"/>
                      </a:lnTo>
                      <a:lnTo>
                        <a:pt x="1545" y="316"/>
                      </a:lnTo>
                      <a:lnTo>
                        <a:pt x="1545" y="322"/>
                      </a:lnTo>
                      <a:lnTo>
                        <a:pt x="1539" y="328"/>
                      </a:lnTo>
                      <a:lnTo>
                        <a:pt x="1533" y="328"/>
                      </a:lnTo>
                      <a:lnTo>
                        <a:pt x="1533" y="334"/>
                      </a:lnTo>
                      <a:lnTo>
                        <a:pt x="1527" y="334"/>
                      </a:lnTo>
                      <a:lnTo>
                        <a:pt x="1521" y="340"/>
                      </a:lnTo>
                      <a:lnTo>
                        <a:pt x="1521" y="346"/>
                      </a:lnTo>
                      <a:lnTo>
                        <a:pt x="1515" y="346"/>
                      </a:lnTo>
                      <a:lnTo>
                        <a:pt x="1515" y="352"/>
                      </a:lnTo>
                      <a:lnTo>
                        <a:pt x="1509" y="352"/>
                      </a:lnTo>
                      <a:lnTo>
                        <a:pt x="1503" y="352"/>
                      </a:lnTo>
                      <a:lnTo>
                        <a:pt x="1498" y="352"/>
                      </a:lnTo>
                      <a:lnTo>
                        <a:pt x="1492" y="352"/>
                      </a:lnTo>
                      <a:lnTo>
                        <a:pt x="1486" y="352"/>
                      </a:lnTo>
                      <a:lnTo>
                        <a:pt x="1480" y="352"/>
                      </a:lnTo>
                      <a:lnTo>
                        <a:pt x="1474" y="352"/>
                      </a:lnTo>
                      <a:lnTo>
                        <a:pt x="1474" y="358"/>
                      </a:lnTo>
                      <a:lnTo>
                        <a:pt x="1468" y="358"/>
                      </a:lnTo>
                      <a:lnTo>
                        <a:pt x="1462" y="358"/>
                      </a:lnTo>
                      <a:lnTo>
                        <a:pt x="1456" y="358"/>
                      </a:lnTo>
                      <a:lnTo>
                        <a:pt x="1456" y="364"/>
                      </a:lnTo>
                      <a:lnTo>
                        <a:pt x="1450" y="364"/>
                      </a:lnTo>
                      <a:lnTo>
                        <a:pt x="1450" y="370"/>
                      </a:lnTo>
                      <a:lnTo>
                        <a:pt x="1444" y="370"/>
                      </a:lnTo>
                      <a:lnTo>
                        <a:pt x="1438" y="370"/>
                      </a:lnTo>
                      <a:lnTo>
                        <a:pt x="1432" y="376"/>
                      </a:lnTo>
                      <a:lnTo>
                        <a:pt x="1432" y="382"/>
                      </a:lnTo>
                      <a:lnTo>
                        <a:pt x="1426" y="382"/>
                      </a:lnTo>
                      <a:lnTo>
                        <a:pt x="1426" y="388"/>
                      </a:lnTo>
                      <a:lnTo>
                        <a:pt x="1420" y="388"/>
                      </a:lnTo>
                      <a:lnTo>
                        <a:pt x="1420" y="394"/>
                      </a:lnTo>
                      <a:lnTo>
                        <a:pt x="1414" y="394"/>
                      </a:lnTo>
                      <a:lnTo>
                        <a:pt x="1414" y="399"/>
                      </a:lnTo>
                      <a:lnTo>
                        <a:pt x="1408" y="399"/>
                      </a:lnTo>
                      <a:lnTo>
                        <a:pt x="1408" y="405"/>
                      </a:lnTo>
                      <a:lnTo>
                        <a:pt x="1408" y="411"/>
                      </a:lnTo>
                      <a:lnTo>
                        <a:pt x="1408" y="417"/>
                      </a:lnTo>
                      <a:lnTo>
                        <a:pt x="1408" y="423"/>
                      </a:lnTo>
                      <a:lnTo>
                        <a:pt x="1408" y="429"/>
                      </a:lnTo>
                      <a:lnTo>
                        <a:pt x="1408" y="435"/>
                      </a:lnTo>
                      <a:lnTo>
                        <a:pt x="1408" y="441"/>
                      </a:lnTo>
                      <a:lnTo>
                        <a:pt x="1402" y="447"/>
                      </a:lnTo>
                      <a:lnTo>
                        <a:pt x="1396" y="447"/>
                      </a:lnTo>
                      <a:lnTo>
                        <a:pt x="1396" y="453"/>
                      </a:lnTo>
                      <a:lnTo>
                        <a:pt x="1390" y="453"/>
                      </a:lnTo>
                      <a:lnTo>
                        <a:pt x="1384" y="453"/>
                      </a:lnTo>
                      <a:lnTo>
                        <a:pt x="1384" y="459"/>
                      </a:lnTo>
                      <a:lnTo>
                        <a:pt x="1378" y="459"/>
                      </a:lnTo>
                      <a:lnTo>
                        <a:pt x="1372" y="459"/>
                      </a:lnTo>
                      <a:lnTo>
                        <a:pt x="1372" y="453"/>
                      </a:lnTo>
                      <a:lnTo>
                        <a:pt x="1366" y="453"/>
                      </a:lnTo>
                      <a:lnTo>
                        <a:pt x="1360" y="453"/>
                      </a:lnTo>
                      <a:lnTo>
                        <a:pt x="1354" y="459"/>
                      </a:lnTo>
                      <a:lnTo>
                        <a:pt x="1354" y="465"/>
                      </a:lnTo>
                      <a:lnTo>
                        <a:pt x="1354" y="471"/>
                      </a:lnTo>
                      <a:lnTo>
                        <a:pt x="1348" y="471"/>
                      </a:lnTo>
                      <a:lnTo>
                        <a:pt x="1348" y="477"/>
                      </a:lnTo>
                      <a:lnTo>
                        <a:pt x="1354" y="483"/>
                      </a:lnTo>
                      <a:lnTo>
                        <a:pt x="1348" y="483"/>
                      </a:lnTo>
                      <a:lnTo>
                        <a:pt x="1354" y="489"/>
                      </a:lnTo>
                      <a:lnTo>
                        <a:pt x="1354" y="495"/>
                      </a:lnTo>
                      <a:lnTo>
                        <a:pt x="1348" y="495"/>
                      </a:lnTo>
                      <a:lnTo>
                        <a:pt x="1354" y="501"/>
                      </a:lnTo>
                      <a:lnTo>
                        <a:pt x="1354" y="507"/>
                      </a:lnTo>
                      <a:lnTo>
                        <a:pt x="1348" y="507"/>
                      </a:lnTo>
                      <a:lnTo>
                        <a:pt x="1354" y="507"/>
                      </a:lnTo>
                      <a:lnTo>
                        <a:pt x="1354" y="513"/>
                      </a:lnTo>
                      <a:lnTo>
                        <a:pt x="1354" y="519"/>
                      </a:lnTo>
                      <a:lnTo>
                        <a:pt x="1354" y="525"/>
                      </a:lnTo>
                      <a:lnTo>
                        <a:pt x="1354" y="531"/>
                      </a:lnTo>
                      <a:lnTo>
                        <a:pt x="1283" y="543"/>
                      </a:lnTo>
                      <a:lnTo>
                        <a:pt x="1253" y="543"/>
                      </a:lnTo>
                      <a:lnTo>
                        <a:pt x="1247" y="543"/>
                      </a:lnTo>
                      <a:lnTo>
                        <a:pt x="1205" y="549"/>
                      </a:lnTo>
                      <a:lnTo>
                        <a:pt x="1140" y="555"/>
                      </a:lnTo>
                      <a:lnTo>
                        <a:pt x="1116" y="561"/>
                      </a:lnTo>
                      <a:lnTo>
                        <a:pt x="1092" y="561"/>
                      </a:lnTo>
                      <a:lnTo>
                        <a:pt x="1062" y="567"/>
                      </a:lnTo>
                      <a:lnTo>
                        <a:pt x="1056" y="567"/>
                      </a:lnTo>
                      <a:lnTo>
                        <a:pt x="1038" y="567"/>
                      </a:lnTo>
                      <a:lnTo>
                        <a:pt x="1002" y="573"/>
                      </a:lnTo>
                      <a:lnTo>
                        <a:pt x="985" y="573"/>
                      </a:lnTo>
                      <a:lnTo>
                        <a:pt x="961" y="573"/>
                      </a:lnTo>
                      <a:lnTo>
                        <a:pt x="931" y="579"/>
                      </a:lnTo>
                      <a:lnTo>
                        <a:pt x="907" y="579"/>
                      </a:lnTo>
                      <a:lnTo>
                        <a:pt x="901" y="579"/>
                      </a:lnTo>
                      <a:lnTo>
                        <a:pt x="877" y="584"/>
                      </a:lnTo>
                      <a:lnTo>
                        <a:pt x="823" y="590"/>
                      </a:lnTo>
                      <a:lnTo>
                        <a:pt x="800" y="590"/>
                      </a:lnTo>
                      <a:lnTo>
                        <a:pt x="794" y="590"/>
                      </a:lnTo>
                      <a:lnTo>
                        <a:pt x="788" y="590"/>
                      </a:lnTo>
                      <a:lnTo>
                        <a:pt x="776" y="590"/>
                      </a:lnTo>
                      <a:lnTo>
                        <a:pt x="770" y="590"/>
                      </a:lnTo>
                      <a:lnTo>
                        <a:pt x="758" y="590"/>
                      </a:lnTo>
                      <a:lnTo>
                        <a:pt x="752" y="590"/>
                      </a:lnTo>
                      <a:lnTo>
                        <a:pt x="734" y="596"/>
                      </a:lnTo>
                      <a:lnTo>
                        <a:pt x="722" y="596"/>
                      </a:lnTo>
                      <a:lnTo>
                        <a:pt x="716" y="596"/>
                      </a:lnTo>
                      <a:lnTo>
                        <a:pt x="704" y="596"/>
                      </a:lnTo>
                      <a:lnTo>
                        <a:pt x="698" y="596"/>
                      </a:lnTo>
                      <a:lnTo>
                        <a:pt x="680" y="596"/>
                      </a:lnTo>
                      <a:lnTo>
                        <a:pt x="639" y="602"/>
                      </a:lnTo>
                      <a:lnTo>
                        <a:pt x="609" y="602"/>
                      </a:lnTo>
                      <a:lnTo>
                        <a:pt x="597" y="602"/>
                      </a:lnTo>
                      <a:lnTo>
                        <a:pt x="555" y="608"/>
                      </a:lnTo>
                      <a:lnTo>
                        <a:pt x="525" y="608"/>
                      </a:lnTo>
                      <a:lnTo>
                        <a:pt x="519" y="608"/>
                      </a:lnTo>
                      <a:lnTo>
                        <a:pt x="495" y="614"/>
                      </a:lnTo>
                      <a:lnTo>
                        <a:pt x="477" y="614"/>
                      </a:lnTo>
                      <a:lnTo>
                        <a:pt x="442" y="620"/>
                      </a:lnTo>
                      <a:lnTo>
                        <a:pt x="436" y="620"/>
                      </a:lnTo>
                      <a:lnTo>
                        <a:pt x="346" y="626"/>
                      </a:lnTo>
                      <a:lnTo>
                        <a:pt x="340" y="626"/>
                      </a:lnTo>
                      <a:lnTo>
                        <a:pt x="293" y="632"/>
                      </a:lnTo>
                      <a:lnTo>
                        <a:pt x="251" y="638"/>
                      </a:lnTo>
                      <a:lnTo>
                        <a:pt x="221" y="638"/>
                      </a:lnTo>
                      <a:lnTo>
                        <a:pt x="149" y="644"/>
                      </a:lnTo>
                      <a:lnTo>
                        <a:pt x="131" y="644"/>
                      </a:lnTo>
                      <a:lnTo>
                        <a:pt x="72" y="650"/>
                      </a:lnTo>
                      <a:lnTo>
                        <a:pt x="66" y="650"/>
                      </a:lnTo>
                      <a:lnTo>
                        <a:pt x="54" y="650"/>
                      </a:lnTo>
                      <a:lnTo>
                        <a:pt x="48" y="650"/>
                      </a:lnTo>
                      <a:lnTo>
                        <a:pt x="42" y="650"/>
                      </a:lnTo>
                      <a:lnTo>
                        <a:pt x="36" y="650"/>
                      </a:lnTo>
                      <a:lnTo>
                        <a:pt x="24" y="650"/>
                      </a:lnTo>
                      <a:lnTo>
                        <a:pt x="0" y="650"/>
                      </a:lnTo>
                      <a:lnTo>
                        <a:pt x="0" y="644"/>
                      </a:lnTo>
                      <a:lnTo>
                        <a:pt x="0" y="638"/>
                      </a:lnTo>
                      <a:lnTo>
                        <a:pt x="6" y="638"/>
                      </a:lnTo>
                      <a:lnTo>
                        <a:pt x="12" y="638"/>
                      </a:lnTo>
                      <a:lnTo>
                        <a:pt x="18" y="638"/>
                      </a:lnTo>
                      <a:lnTo>
                        <a:pt x="24" y="638"/>
                      </a:lnTo>
                      <a:lnTo>
                        <a:pt x="24" y="632"/>
                      </a:lnTo>
                      <a:lnTo>
                        <a:pt x="30" y="632"/>
                      </a:lnTo>
                      <a:lnTo>
                        <a:pt x="30" y="626"/>
                      </a:lnTo>
                      <a:lnTo>
                        <a:pt x="30" y="620"/>
                      </a:lnTo>
                      <a:lnTo>
                        <a:pt x="30" y="614"/>
                      </a:lnTo>
                      <a:lnTo>
                        <a:pt x="36" y="614"/>
                      </a:lnTo>
                      <a:lnTo>
                        <a:pt x="42" y="614"/>
                      </a:lnTo>
                      <a:lnTo>
                        <a:pt x="48" y="614"/>
                      </a:lnTo>
                      <a:lnTo>
                        <a:pt x="54" y="608"/>
                      </a:lnTo>
                      <a:lnTo>
                        <a:pt x="54" y="602"/>
                      </a:lnTo>
                      <a:lnTo>
                        <a:pt x="48" y="596"/>
                      </a:lnTo>
                      <a:lnTo>
                        <a:pt x="48" y="590"/>
                      </a:lnTo>
                      <a:lnTo>
                        <a:pt x="48" y="584"/>
                      </a:lnTo>
                      <a:lnTo>
                        <a:pt x="48" y="579"/>
                      </a:lnTo>
                      <a:lnTo>
                        <a:pt x="42" y="579"/>
                      </a:lnTo>
                      <a:lnTo>
                        <a:pt x="36" y="579"/>
                      </a:lnTo>
                      <a:lnTo>
                        <a:pt x="30" y="579"/>
                      </a:lnTo>
                      <a:lnTo>
                        <a:pt x="30" y="573"/>
                      </a:lnTo>
                      <a:lnTo>
                        <a:pt x="24" y="573"/>
                      </a:lnTo>
                      <a:lnTo>
                        <a:pt x="24" y="567"/>
                      </a:lnTo>
                      <a:lnTo>
                        <a:pt x="30" y="567"/>
                      </a:lnTo>
                      <a:lnTo>
                        <a:pt x="36" y="567"/>
                      </a:lnTo>
                      <a:lnTo>
                        <a:pt x="36" y="561"/>
                      </a:lnTo>
                      <a:lnTo>
                        <a:pt x="42" y="561"/>
                      </a:lnTo>
                      <a:lnTo>
                        <a:pt x="42" y="555"/>
                      </a:lnTo>
                      <a:lnTo>
                        <a:pt x="42" y="549"/>
                      </a:lnTo>
                      <a:lnTo>
                        <a:pt x="42" y="543"/>
                      </a:lnTo>
                      <a:lnTo>
                        <a:pt x="42" y="537"/>
                      </a:lnTo>
                      <a:lnTo>
                        <a:pt x="48" y="537"/>
                      </a:lnTo>
                      <a:lnTo>
                        <a:pt x="42" y="537"/>
                      </a:lnTo>
                      <a:lnTo>
                        <a:pt x="42" y="531"/>
                      </a:lnTo>
                      <a:lnTo>
                        <a:pt x="36" y="531"/>
                      </a:lnTo>
                      <a:lnTo>
                        <a:pt x="36" y="537"/>
                      </a:lnTo>
                      <a:lnTo>
                        <a:pt x="30" y="537"/>
                      </a:lnTo>
                      <a:lnTo>
                        <a:pt x="30" y="543"/>
                      </a:lnTo>
                      <a:lnTo>
                        <a:pt x="24" y="543"/>
                      </a:lnTo>
                      <a:lnTo>
                        <a:pt x="24" y="537"/>
                      </a:lnTo>
                      <a:lnTo>
                        <a:pt x="24" y="531"/>
                      </a:lnTo>
                      <a:lnTo>
                        <a:pt x="30" y="531"/>
                      </a:lnTo>
                      <a:lnTo>
                        <a:pt x="30" y="525"/>
                      </a:lnTo>
                      <a:lnTo>
                        <a:pt x="36" y="525"/>
                      </a:lnTo>
                      <a:lnTo>
                        <a:pt x="36" y="519"/>
                      </a:lnTo>
                      <a:lnTo>
                        <a:pt x="42" y="519"/>
                      </a:lnTo>
                      <a:lnTo>
                        <a:pt x="42" y="513"/>
                      </a:lnTo>
                      <a:lnTo>
                        <a:pt x="42" y="519"/>
                      </a:lnTo>
                      <a:lnTo>
                        <a:pt x="42" y="525"/>
                      </a:lnTo>
                      <a:lnTo>
                        <a:pt x="42" y="531"/>
                      </a:lnTo>
                      <a:lnTo>
                        <a:pt x="48" y="531"/>
                      </a:lnTo>
                      <a:lnTo>
                        <a:pt x="54" y="531"/>
                      </a:lnTo>
                      <a:lnTo>
                        <a:pt x="60" y="525"/>
                      </a:lnTo>
                      <a:lnTo>
                        <a:pt x="60" y="519"/>
                      </a:lnTo>
                      <a:lnTo>
                        <a:pt x="60" y="513"/>
                      </a:lnTo>
                      <a:lnTo>
                        <a:pt x="54" y="513"/>
                      </a:lnTo>
                      <a:lnTo>
                        <a:pt x="54" y="507"/>
                      </a:lnTo>
                      <a:lnTo>
                        <a:pt x="48" y="507"/>
                      </a:lnTo>
                      <a:lnTo>
                        <a:pt x="48" y="501"/>
                      </a:lnTo>
                      <a:lnTo>
                        <a:pt x="48" y="495"/>
                      </a:lnTo>
                      <a:lnTo>
                        <a:pt x="54" y="495"/>
                      </a:lnTo>
                      <a:lnTo>
                        <a:pt x="54" y="489"/>
                      </a:lnTo>
                      <a:lnTo>
                        <a:pt x="60" y="489"/>
                      </a:lnTo>
                      <a:lnTo>
                        <a:pt x="66" y="495"/>
                      </a:lnTo>
                      <a:lnTo>
                        <a:pt x="66" y="501"/>
                      </a:lnTo>
                      <a:lnTo>
                        <a:pt x="72" y="501"/>
                      </a:lnTo>
                      <a:lnTo>
                        <a:pt x="78" y="501"/>
                      </a:lnTo>
                      <a:lnTo>
                        <a:pt x="78" y="495"/>
                      </a:lnTo>
                      <a:lnTo>
                        <a:pt x="78" y="489"/>
                      </a:lnTo>
                      <a:lnTo>
                        <a:pt x="72" y="489"/>
                      </a:lnTo>
                      <a:lnTo>
                        <a:pt x="66" y="483"/>
                      </a:lnTo>
                      <a:lnTo>
                        <a:pt x="66" y="477"/>
                      </a:lnTo>
                      <a:lnTo>
                        <a:pt x="72" y="477"/>
                      </a:lnTo>
                      <a:lnTo>
                        <a:pt x="78" y="477"/>
                      </a:lnTo>
                      <a:lnTo>
                        <a:pt x="78" y="471"/>
                      </a:lnTo>
                      <a:lnTo>
                        <a:pt x="84" y="471"/>
                      </a:lnTo>
                      <a:lnTo>
                        <a:pt x="90" y="471"/>
                      </a:lnTo>
                      <a:lnTo>
                        <a:pt x="90" y="465"/>
                      </a:lnTo>
                      <a:lnTo>
                        <a:pt x="90" y="459"/>
                      </a:lnTo>
                      <a:lnTo>
                        <a:pt x="84" y="459"/>
                      </a:lnTo>
                      <a:lnTo>
                        <a:pt x="84" y="465"/>
                      </a:lnTo>
                      <a:lnTo>
                        <a:pt x="78" y="465"/>
                      </a:lnTo>
                      <a:lnTo>
                        <a:pt x="78" y="459"/>
                      </a:lnTo>
                      <a:lnTo>
                        <a:pt x="72" y="459"/>
                      </a:lnTo>
                      <a:lnTo>
                        <a:pt x="72" y="453"/>
                      </a:lnTo>
                      <a:lnTo>
                        <a:pt x="66" y="447"/>
                      </a:lnTo>
                      <a:lnTo>
                        <a:pt x="66" y="441"/>
                      </a:lnTo>
                      <a:lnTo>
                        <a:pt x="72" y="441"/>
                      </a:lnTo>
                      <a:lnTo>
                        <a:pt x="72" y="435"/>
                      </a:lnTo>
                      <a:lnTo>
                        <a:pt x="78" y="435"/>
                      </a:lnTo>
                      <a:lnTo>
                        <a:pt x="84" y="435"/>
                      </a:lnTo>
                      <a:lnTo>
                        <a:pt x="90" y="435"/>
                      </a:lnTo>
                      <a:lnTo>
                        <a:pt x="96" y="435"/>
                      </a:lnTo>
                      <a:lnTo>
                        <a:pt x="96" y="429"/>
                      </a:lnTo>
                      <a:lnTo>
                        <a:pt x="102" y="429"/>
                      </a:lnTo>
                      <a:lnTo>
                        <a:pt x="102" y="423"/>
                      </a:lnTo>
                      <a:lnTo>
                        <a:pt x="102" y="417"/>
                      </a:lnTo>
                      <a:lnTo>
                        <a:pt x="108" y="417"/>
                      </a:lnTo>
                      <a:lnTo>
                        <a:pt x="114" y="417"/>
                      </a:lnTo>
                      <a:lnTo>
                        <a:pt x="120" y="411"/>
                      </a:lnTo>
                      <a:lnTo>
                        <a:pt x="120" y="405"/>
                      </a:lnTo>
                      <a:lnTo>
                        <a:pt x="114" y="405"/>
                      </a:lnTo>
                      <a:lnTo>
                        <a:pt x="108" y="399"/>
                      </a:lnTo>
                      <a:lnTo>
                        <a:pt x="108" y="394"/>
                      </a:lnTo>
                      <a:lnTo>
                        <a:pt x="108" y="388"/>
                      </a:lnTo>
                      <a:lnTo>
                        <a:pt x="114" y="388"/>
                      </a:lnTo>
                      <a:lnTo>
                        <a:pt x="120" y="388"/>
                      </a:lnTo>
                      <a:lnTo>
                        <a:pt x="125" y="394"/>
                      </a:lnTo>
                      <a:lnTo>
                        <a:pt x="131" y="394"/>
                      </a:lnTo>
                      <a:lnTo>
                        <a:pt x="131" y="388"/>
                      </a:lnTo>
                      <a:lnTo>
                        <a:pt x="131" y="382"/>
                      </a:lnTo>
                      <a:lnTo>
                        <a:pt x="125" y="382"/>
                      </a:lnTo>
                      <a:lnTo>
                        <a:pt x="125" y="376"/>
                      </a:lnTo>
                      <a:lnTo>
                        <a:pt x="120" y="376"/>
                      </a:lnTo>
                      <a:lnTo>
                        <a:pt x="114" y="376"/>
                      </a:lnTo>
                      <a:lnTo>
                        <a:pt x="114" y="370"/>
                      </a:lnTo>
                      <a:lnTo>
                        <a:pt x="114" y="364"/>
                      </a:lnTo>
                      <a:lnTo>
                        <a:pt x="120" y="364"/>
                      </a:lnTo>
                      <a:lnTo>
                        <a:pt x="120" y="358"/>
                      </a:lnTo>
                      <a:lnTo>
                        <a:pt x="120" y="352"/>
                      </a:lnTo>
                      <a:lnTo>
                        <a:pt x="120" y="346"/>
                      </a:lnTo>
                      <a:lnTo>
                        <a:pt x="120" y="340"/>
                      </a:lnTo>
                      <a:lnTo>
                        <a:pt x="125" y="340"/>
                      </a:lnTo>
                      <a:lnTo>
                        <a:pt x="125" y="334"/>
                      </a:lnTo>
                      <a:lnTo>
                        <a:pt x="131" y="334"/>
                      </a:lnTo>
                      <a:lnTo>
                        <a:pt x="131" y="328"/>
                      </a:lnTo>
                      <a:lnTo>
                        <a:pt x="137" y="328"/>
                      </a:lnTo>
                      <a:lnTo>
                        <a:pt x="143" y="328"/>
                      </a:lnTo>
                      <a:lnTo>
                        <a:pt x="143" y="322"/>
                      </a:lnTo>
                      <a:lnTo>
                        <a:pt x="137" y="316"/>
                      </a:lnTo>
                      <a:lnTo>
                        <a:pt x="137" y="310"/>
                      </a:lnTo>
                      <a:lnTo>
                        <a:pt x="131" y="310"/>
                      </a:lnTo>
                      <a:lnTo>
                        <a:pt x="125" y="310"/>
                      </a:lnTo>
                      <a:lnTo>
                        <a:pt x="125" y="304"/>
                      </a:lnTo>
                      <a:lnTo>
                        <a:pt x="120" y="304"/>
                      </a:lnTo>
                      <a:lnTo>
                        <a:pt x="120" y="298"/>
                      </a:lnTo>
                      <a:lnTo>
                        <a:pt x="114" y="298"/>
                      </a:lnTo>
                      <a:lnTo>
                        <a:pt x="114" y="292"/>
                      </a:lnTo>
                      <a:lnTo>
                        <a:pt x="120" y="292"/>
                      </a:lnTo>
                      <a:lnTo>
                        <a:pt x="125" y="292"/>
                      </a:lnTo>
                      <a:lnTo>
                        <a:pt x="131" y="292"/>
                      </a:lnTo>
                      <a:lnTo>
                        <a:pt x="131" y="298"/>
                      </a:lnTo>
                      <a:lnTo>
                        <a:pt x="137" y="292"/>
                      </a:lnTo>
                      <a:lnTo>
                        <a:pt x="143" y="292"/>
                      </a:lnTo>
                      <a:lnTo>
                        <a:pt x="149" y="292"/>
                      </a:lnTo>
                      <a:lnTo>
                        <a:pt x="149" y="286"/>
                      </a:lnTo>
                      <a:lnTo>
                        <a:pt x="149" y="280"/>
                      </a:lnTo>
                      <a:lnTo>
                        <a:pt x="143" y="280"/>
                      </a:lnTo>
                      <a:lnTo>
                        <a:pt x="137" y="280"/>
                      </a:lnTo>
                      <a:lnTo>
                        <a:pt x="131" y="274"/>
                      </a:lnTo>
                      <a:lnTo>
                        <a:pt x="131" y="268"/>
                      </a:lnTo>
                      <a:lnTo>
                        <a:pt x="131" y="262"/>
                      </a:lnTo>
                      <a:lnTo>
                        <a:pt x="137" y="262"/>
                      </a:lnTo>
                      <a:lnTo>
                        <a:pt x="143" y="262"/>
                      </a:lnTo>
                      <a:lnTo>
                        <a:pt x="149" y="262"/>
                      </a:lnTo>
                      <a:lnTo>
                        <a:pt x="155" y="262"/>
                      </a:lnTo>
                      <a:lnTo>
                        <a:pt x="155" y="256"/>
                      </a:lnTo>
                      <a:lnTo>
                        <a:pt x="149" y="250"/>
                      </a:lnTo>
                      <a:lnTo>
                        <a:pt x="149" y="244"/>
                      </a:lnTo>
                      <a:lnTo>
                        <a:pt x="149" y="238"/>
                      </a:lnTo>
                      <a:lnTo>
                        <a:pt x="143" y="238"/>
                      </a:lnTo>
                      <a:lnTo>
                        <a:pt x="143" y="232"/>
                      </a:lnTo>
                      <a:lnTo>
                        <a:pt x="149" y="232"/>
                      </a:lnTo>
                      <a:lnTo>
                        <a:pt x="149" y="226"/>
                      </a:lnTo>
                      <a:lnTo>
                        <a:pt x="149" y="220"/>
                      </a:lnTo>
                      <a:lnTo>
                        <a:pt x="155" y="220"/>
                      </a:lnTo>
                      <a:lnTo>
                        <a:pt x="161" y="220"/>
                      </a:lnTo>
                      <a:lnTo>
                        <a:pt x="155" y="226"/>
                      </a:lnTo>
                      <a:lnTo>
                        <a:pt x="155" y="232"/>
                      </a:lnTo>
                      <a:lnTo>
                        <a:pt x="161" y="232"/>
                      </a:lnTo>
                      <a:lnTo>
                        <a:pt x="161" y="238"/>
                      </a:lnTo>
                      <a:lnTo>
                        <a:pt x="161" y="232"/>
                      </a:lnTo>
                      <a:lnTo>
                        <a:pt x="167" y="232"/>
                      </a:lnTo>
                      <a:lnTo>
                        <a:pt x="167" y="226"/>
                      </a:lnTo>
                      <a:lnTo>
                        <a:pt x="173" y="220"/>
                      </a:lnTo>
                      <a:lnTo>
                        <a:pt x="185" y="220"/>
                      </a:lnTo>
                      <a:lnTo>
                        <a:pt x="203" y="215"/>
                      </a:lnTo>
                      <a:lnTo>
                        <a:pt x="221" y="215"/>
                      </a:lnTo>
                      <a:lnTo>
                        <a:pt x="233" y="215"/>
                      </a:lnTo>
                      <a:lnTo>
                        <a:pt x="257" y="215"/>
                      </a:lnTo>
                      <a:lnTo>
                        <a:pt x="275" y="215"/>
                      </a:lnTo>
                      <a:lnTo>
                        <a:pt x="287" y="209"/>
                      </a:lnTo>
                      <a:lnTo>
                        <a:pt x="298" y="209"/>
                      </a:lnTo>
                      <a:lnTo>
                        <a:pt x="304" y="209"/>
                      </a:lnTo>
                      <a:lnTo>
                        <a:pt x="370" y="203"/>
                      </a:lnTo>
                      <a:lnTo>
                        <a:pt x="376" y="203"/>
                      </a:lnTo>
                      <a:lnTo>
                        <a:pt x="418" y="203"/>
                      </a:lnTo>
                      <a:lnTo>
                        <a:pt x="454" y="197"/>
                      </a:lnTo>
                      <a:lnTo>
                        <a:pt x="471" y="197"/>
                      </a:lnTo>
                      <a:lnTo>
                        <a:pt x="477" y="197"/>
                      </a:lnTo>
                      <a:lnTo>
                        <a:pt x="477" y="191"/>
                      </a:lnTo>
                      <a:lnTo>
                        <a:pt x="477" y="185"/>
                      </a:lnTo>
                      <a:lnTo>
                        <a:pt x="477" y="179"/>
                      </a:lnTo>
                      <a:lnTo>
                        <a:pt x="477" y="173"/>
                      </a:lnTo>
                      <a:lnTo>
                        <a:pt x="471" y="167"/>
                      </a:lnTo>
                      <a:lnTo>
                        <a:pt x="471" y="161"/>
                      </a:lnTo>
                      <a:lnTo>
                        <a:pt x="471" y="155"/>
                      </a:lnTo>
                      <a:lnTo>
                        <a:pt x="466" y="149"/>
                      </a:lnTo>
                      <a:lnTo>
                        <a:pt x="513" y="143"/>
                      </a:lnTo>
                      <a:lnTo>
                        <a:pt x="513" y="155"/>
                      </a:lnTo>
                      <a:lnTo>
                        <a:pt x="549" y="149"/>
                      </a:lnTo>
                      <a:lnTo>
                        <a:pt x="561" y="149"/>
                      </a:lnTo>
                      <a:lnTo>
                        <a:pt x="627" y="143"/>
                      </a:lnTo>
                      <a:lnTo>
                        <a:pt x="680" y="137"/>
                      </a:lnTo>
                      <a:lnTo>
                        <a:pt x="686" y="137"/>
                      </a:lnTo>
                      <a:lnTo>
                        <a:pt x="692" y="137"/>
                      </a:lnTo>
                      <a:lnTo>
                        <a:pt x="752" y="131"/>
                      </a:lnTo>
                      <a:lnTo>
                        <a:pt x="758" y="131"/>
                      </a:lnTo>
                      <a:lnTo>
                        <a:pt x="812" y="119"/>
                      </a:lnTo>
                      <a:lnTo>
                        <a:pt x="835" y="119"/>
                      </a:lnTo>
                      <a:lnTo>
                        <a:pt x="883" y="119"/>
                      </a:lnTo>
                      <a:lnTo>
                        <a:pt x="931" y="113"/>
                      </a:lnTo>
                      <a:lnTo>
                        <a:pt x="973" y="113"/>
                      </a:lnTo>
                      <a:lnTo>
                        <a:pt x="1038" y="107"/>
                      </a:lnTo>
                      <a:lnTo>
                        <a:pt x="1044" y="107"/>
                      </a:lnTo>
                      <a:lnTo>
                        <a:pt x="1050" y="107"/>
                      </a:lnTo>
                      <a:lnTo>
                        <a:pt x="1068" y="101"/>
                      </a:lnTo>
                      <a:lnTo>
                        <a:pt x="1080" y="101"/>
                      </a:lnTo>
                      <a:lnTo>
                        <a:pt x="1086" y="101"/>
                      </a:lnTo>
                      <a:lnTo>
                        <a:pt x="1104" y="101"/>
                      </a:lnTo>
                      <a:lnTo>
                        <a:pt x="1128" y="95"/>
                      </a:lnTo>
                      <a:lnTo>
                        <a:pt x="1140" y="95"/>
                      </a:lnTo>
                      <a:lnTo>
                        <a:pt x="1146" y="95"/>
                      </a:lnTo>
                      <a:lnTo>
                        <a:pt x="1169" y="95"/>
                      </a:lnTo>
                      <a:lnTo>
                        <a:pt x="1187" y="95"/>
                      </a:lnTo>
                      <a:lnTo>
                        <a:pt x="1193" y="95"/>
                      </a:lnTo>
                      <a:lnTo>
                        <a:pt x="1313" y="83"/>
                      </a:lnTo>
                      <a:lnTo>
                        <a:pt x="1366" y="77"/>
                      </a:lnTo>
                      <a:lnTo>
                        <a:pt x="1384" y="77"/>
                      </a:lnTo>
                      <a:lnTo>
                        <a:pt x="1438" y="71"/>
                      </a:lnTo>
                      <a:lnTo>
                        <a:pt x="1438" y="6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263"/>
                <p:cNvSpPr/>
                <p:nvPr/>
              </p:nvSpPr>
              <p:spPr>
                <a:xfrm>
                  <a:off x="8045280" y="5433840"/>
                  <a:ext cx="576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264"/>
                <p:cNvSpPr/>
                <p:nvPr/>
              </p:nvSpPr>
              <p:spPr>
                <a:xfrm>
                  <a:off x="7943400" y="55213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265"/>
                <p:cNvSpPr/>
                <p:nvPr/>
              </p:nvSpPr>
              <p:spPr>
                <a:xfrm>
                  <a:off x="7931160" y="55213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266"/>
                <p:cNvSpPr/>
                <p:nvPr/>
              </p:nvSpPr>
              <p:spPr>
                <a:xfrm>
                  <a:off x="8039160" y="5533200"/>
                  <a:ext cx="46800" cy="464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47" h="48">
                      <a:moveTo>
                        <a:pt x="6" y="36"/>
                      </a:moveTo>
                      <a:lnTo>
                        <a:pt x="12" y="36"/>
                      </a:lnTo>
                      <a:lnTo>
                        <a:pt x="12" y="30"/>
                      </a:lnTo>
                      <a:lnTo>
                        <a:pt x="18" y="30"/>
                      </a:lnTo>
                      <a:lnTo>
                        <a:pt x="18" y="24"/>
                      </a:lnTo>
                      <a:lnTo>
                        <a:pt x="24" y="24"/>
                      </a:lnTo>
                      <a:lnTo>
                        <a:pt x="24" y="18"/>
                      </a:lnTo>
                      <a:lnTo>
                        <a:pt x="29" y="18"/>
                      </a:lnTo>
                      <a:lnTo>
                        <a:pt x="29" y="12"/>
                      </a:lnTo>
                      <a:lnTo>
                        <a:pt x="35" y="12"/>
                      </a:lnTo>
                      <a:lnTo>
                        <a:pt x="41" y="12"/>
                      </a:lnTo>
                      <a:lnTo>
                        <a:pt x="41" y="6"/>
                      </a:lnTo>
                      <a:lnTo>
                        <a:pt x="47" y="6"/>
                      </a:lnTo>
                      <a:lnTo>
                        <a:pt x="47" y="0"/>
                      </a:lnTo>
                      <a:lnTo>
                        <a:pt x="47" y="6"/>
                      </a:lnTo>
                      <a:lnTo>
                        <a:pt x="41" y="12"/>
                      </a:lnTo>
                      <a:lnTo>
                        <a:pt x="35" y="12"/>
                      </a:lnTo>
                      <a:lnTo>
                        <a:pt x="35" y="18"/>
                      </a:lnTo>
                      <a:lnTo>
                        <a:pt x="29" y="24"/>
                      </a:lnTo>
                      <a:lnTo>
                        <a:pt x="24" y="24"/>
                      </a:lnTo>
                      <a:lnTo>
                        <a:pt x="18" y="30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6" y="42"/>
                      </a:lnTo>
                      <a:lnTo>
                        <a:pt x="6" y="48"/>
                      </a:ln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3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267"/>
                <p:cNvSpPr/>
                <p:nvPr/>
              </p:nvSpPr>
              <p:spPr>
                <a:xfrm>
                  <a:off x="8027280" y="5573880"/>
                  <a:ext cx="612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268"/>
                <p:cNvSpPr/>
                <p:nvPr/>
              </p:nvSpPr>
              <p:spPr>
                <a:xfrm>
                  <a:off x="8021160" y="558000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6" y="12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269"/>
                <p:cNvSpPr/>
                <p:nvPr/>
              </p:nvSpPr>
              <p:spPr>
                <a:xfrm>
                  <a:off x="4972680" y="5585400"/>
                  <a:ext cx="23760" cy="162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4" h="17">
                      <a:moveTo>
                        <a:pt x="24" y="17"/>
                      </a:moveTo>
                      <a:lnTo>
                        <a:pt x="18" y="17"/>
                      </a:lnTo>
                      <a:lnTo>
                        <a:pt x="12" y="17"/>
                      </a:lnTo>
                      <a:lnTo>
                        <a:pt x="6" y="17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24" y="17"/>
                      </a:lnTo>
                      <a:lnTo>
                        <a:pt x="18" y="17"/>
                      </a:lnTo>
                      <a:lnTo>
                        <a:pt x="24" y="1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270"/>
                <p:cNvSpPr/>
                <p:nvPr/>
              </p:nvSpPr>
              <p:spPr>
                <a:xfrm>
                  <a:off x="8015040" y="560196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271"/>
                <p:cNvSpPr/>
                <p:nvPr/>
              </p:nvSpPr>
              <p:spPr>
                <a:xfrm>
                  <a:off x="7961040" y="560196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272"/>
                <p:cNvSpPr/>
                <p:nvPr/>
              </p:nvSpPr>
              <p:spPr>
                <a:xfrm>
                  <a:off x="8003160" y="5608080"/>
                  <a:ext cx="612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73"/>
                <p:cNvSpPr/>
                <p:nvPr/>
              </p:nvSpPr>
              <p:spPr>
                <a:xfrm>
                  <a:off x="7997040" y="56080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74"/>
                <p:cNvSpPr/>
                <p:nvPr/>
              </p:nvSpPr>
              <p:spPr>
                <a:xfrm>
                  <a:off x="8003160" y="561384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75"/>
                <p:cNvSpPr/>
                <p:nvPr/>
              </p:nvSpPr>
              <p:spPr>
                <a:xfrm>
                  <a:off x="7985160" y="561384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276"/>
                <p:cNvSpPr/>
                <p:nvPr/>
              </p:nvSpPr>
              <p:spPr>
                <a:xfrm>
                  <a:off x="8003160" y="561384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277"/>
                <p:cNvSpPr/>
                <p:nvPr/>
              </p:nvSpPr>
              <p:spPr>
                <a:xfrm>
                  <a:off x="7991280" y="5625360"/>
                  <a:ext cx="11520" cy="172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6" y="6"/>
                      </a:move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278"/>
                <p:cNvSpPr/>
                <p:nvPr/>
              </p:nvSpPr>
              <p:spPr>
                <a:xfrm>
                  <a:off x="7985160" y="563724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279"/>
                <p:cNvSpPr/>
                <p:nvPr/>
              </p:nvSpPr>
              <p:spPr>
                <a:xfrm>
                  <a:off x="7949160" y="5643000"/>
                  <a:ext cx="42120" cy="93240"/>
                </a:xfrm>
                <a:custGeom>
                  <a:avLst/>
                  <a:gdLst>
                    <a:gd name="textAreaLeft" fmla="*/ 0 w 42120"/>
                    <a:gd name="textAreaRight" fmla="*/ 42120 w 4212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42" h="96">
                      <a:moveTo>
                        <a:pt x="18" y="42"/>
                      </a:moveTo>
                      <a:lnTo>
                        <a:pt x="18" y="36"/>
                      </a:lnTo>
                      <a:lnTo>
                        <a:pt x="18" y="42"/>
                      </a:lnTo>
                      <a:lnTo>
                        <a:pt x="18" y="36"/>
                      </a:lnTo>
                      <a:lnTo>
                        <a:pt x="24" y="36"/>
                      </a:lnTo>
                      <a:lnTo>
                        <a:pt x="24" y="30"/>
                      </a:lnTo>
                      <a:lnTo>
                        <a:pt x="24" y="24"/>
                      </a:lnTo>
                      <a:lnTo>
                        <a:pt x="30" y="24"/>
                      </a:lnTo>
                      <a:lnTo>
                        <a:pt x="30" y="18"/>
                      </a:lnTo>
                      <a:lnTo>
                        <a:pt x="30" y="12"/>
                      </a:lnTo>
                      <a:lnTo>
                        <a:pt x="36" y="12"/>
                      </a:lnTo>
                      <a:lnTo>
                        <a:pt x="36" y="6"/>
                      </a:lnTo>
                      <a:lnTo>
                        <a:pt x="42" y="0"/>
                      </a:lnTo>
                      <a:lnTo>
                        <a:pt x="42" y="6"/>
                      </a:lnTo>
                      <a:lnTo>
                        <a:pt x="36" y="12"/>
                      </a:lnTo>
                      <a:lnTo>
                        <a:pt x="30" y="18"/>
                      </a:lnTo>
                      <a:lnTo>
                        <a:pt x="30" y="24"/>
                      </a:lnTo>
                      <a:lnTo>
                        <a:pt x="24" y="30"/>
                      </a:lnTo>
                      <a:lnTo>
                        <a:pt x="24" y="36"/>
                      </a:lnTo>
                      <a:lnTo>
                        <a:pt x="18" y="48"/>
                      </a:lnTo>
                      <a:lnTo>
                        <a:pt x="18" y="54"/>
                      </a:lnTo>
                      <a:lnTo>
                        <a:pt x="12" y="60"/>
                      </a:lnTo>
                      <a:lnTo>
                        <a:pt x="12" y="66"/>
                      </a:lnTo>
                      <a:lnTo>
                        <a:pt x="6" y="72"/>
                      </a:lnTo>
                      <a:lnTo>
                        <a:pt x="6" y="78"/>
                      </a:lnTo>
                      <a:lnTo>
                        <a:pt x="0" y="84"/>
                      </a:lnTo>
                      <a:lnTo>
                        <a:pt x="0" y="90"/>
                      </a:lnTo>
                      <a:lnTo>
                        <a:pt x="0" y="96"/>
                      </a:lnTo>
                      <a:lnTo>
                        <a:pt x="0" y="90"/>
                      </a:lnTo>
                      <a:lnTo>
                        <a:pt x="0" y="84"/>
                      </a:lnTo>
                      <a:lnTo>
                        <a:pt x="0" y="78"/>
                      </a:lnTo>
                      <a:lnTo>
                        <a:pt x="6" y="78"/>
                      </a:lnTo>
                      <a:lnTo>
                        <a:pt x="6" y="72"/>
                      </a:lnTo>
                      <a:lnTo>
                        <a:pt x="6" y="66"/>
                      </a:ln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2" y="54"/>
                      </a:lnTo>
                      <a:lnTo>
                        <a:pt x="12" y="48"/>
                      </a:lnTo>
                      <a:lnTo>
                        <a:pt x="18" y="48"/>
                      </a:lnTo>
                      <a:lnTo>
                        <a:pt x="18" y="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280"/>
                <p:cNvSpPr/>
                <p:nvPr/>
              </p:nvSpPr>
              <p:spPr>
                <a:xfrm>
                  <a:off x="7967160" y="567216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281"/>
                <p:cNvSpPr/>
                <p:nvPr/>
              </p:nvSpPr>
              <p:spPr>
                <a:xfrm>
                  <a:off x="7937280" y="570132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282"/>
                <p:cNvSpPr/>
                <p:nvPr/>
              </p:nvSpPr>
              <p:spPr>
                <a:xfrm>
                  <a:off x="7919280" y="5712840"/>
                  <a:ext cx="29880" cy="5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0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283"/>
                <p:cNvSpPr/>
                <p:nvPr/>
              </p:nvSpPr>
              <p:spPr>
                <a:xfrm>
                  <a:off x="7824240" y="5712840"/>
                  <a:ext cx="88920" cy="288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89" h="30">
                      <a:moveTo>
                        <a:pt x="60" y="0"/>
                      </a:moveTo>
                      <a:lnTo>
                        <a:pt x="66" y="0"/>
                      </a:lnTo>
                      <a:lnTo>
                        <a:pt x="71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83" y="0"/>
                      </a:lnTo>
                      <a:lnTo>
                        <a:pt x="77" y="0"/>
                      </a:lnTo>
                      <a:lnTo>
                        <a:pt x="71" y="0"/>
                      </a:lnTo>
                      <a:lnTo>
                        <a:pt x="71" y="6"/>
                      </a:lnTo>
                      <a:lnTo>
                        <a:pt x="66" y="6"/>
                      </a:lnTo>
                      <a:lnTo>
                        <a:pt x="60" y="6"/>
                      </a:lnTo>
                      <a:lnTo>
                        <a:pt x="54" y="6"/>
                      </a:lnTo>
                      <a:lnTo>
                        <a:pt x="48" y="6"/>
                      </a:lnTo>
                      <a:lnTo>
                        <a:pt x="48" y="12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24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24" y="18"/>
                      </a:lnTo>
                      <a:lnTo>
                        <a:pt x="30" y="12"/>
                      </a:lnTo>
                      <a:lnTo>
                        <a:pt x="36" y="12"/>
                      </a:lnTo>
                      <a:lnTo>
                        <a:pt x="42" y="6"/>
                      </a:lnTo>
                      <a:lnTo>
                        <a:pt x="48" y="6"/>
                      </a:lnTo>
                      <a:lnTo>
                        <a:pt x="54" y="6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284"/>
                <p:cNvSpPr/>
                <p:nvPr/>
              </p:nvSpPr>
              <p:spPr>
                <a:xfrm>
                  <a:off x="7806240" y="574200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285"/>
                <p:cNvSpPr/>
                <p:nvPr/>
              </p:nvSpPr>
              <p:spPr>
                <a:xfrm>
                  <a:off x="7806240" y="574200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12" y="6"/>
                      </a:move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Freeform 286"/>
                <p:cNvSpPr/>
                <p:nvPr/>
              </p:nvSpPr>
              <p:spPr>
                <a:xfrm>
                  <a:off x="7800120" y="575352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287"/>
                <p:cNvSpPr/>
                <p:nvPr/>
              </p:nvSpPr>
              <p:spPr>
                <a:xfrm>
                  <a:off x="7776000" y="5765400"/>
                  <a:ext cx="18000" cy="162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12" y="6"/>
                      </a:move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2" y="6"/>
                      </a:lnTo>
                      <a:lnTo>
                        <a:pt x="12" y="11"/>
                      </a:lnTo>
                      <a:lnTo>
                        <a:pt x="6" y="11"/>
                      </a:lnTo>
                      <a:lnTo>
                        <a:pt x="6" y="17"/>
                      </a:lnTo>
                      <a:lnTo>
                        <a:pt x="0" y="17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288"/>
                <p:cNvSpPr/>
                <p:nvPr/>
              </p:nvSpPr>
              <p:spPr>
                <a:xfrm>
                  <a:off x="7717320" y="5781960"/>
                  <a:ext cx="58680" cy="583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59" h="60">
                      <a:moveTo>
                        <a:pt x="29" y="24"/>
                      </a:moveTo>
                      <a:lnTo>
                        <a:pt x="35" y="24"/>
                      </a:lnTo>
                      <a:lnTo>
                        <a:pt x="35" y="18"/>
                      </a:lnTo>
                      <a:lnTo>
                        <a:pt x="41" y="18"/>
                      </a:lnTo>
                      <a:lnTo>
                        <a:pt x="41" y="12"/>
                      </a:lnTo>
                      <a:lnTo>
                        <a:pt x="47" y="12"/>
                      </a:lnTo>
                      <a:lnTo>
                        <a:pt x="47" y="6"/>
                      </a:lnTo>
                      <a:lnTo>
                        <a:pt x="53" y="6"/>
                      </a:lnTo>
                      <a:lnTo>
                        <a:pt x="53" y="0"/>
                      </a:lnTo>
                      <a:lnTo>
                        <a:pt x="59" y="0"/>
                      </a:lnTo>
                      <a:lnTo>
                        <a:pt x="53" y="6"/>
                      </a:lnTo>
                      <a:lnTo>
                        <a:pt x="47" y="12"/>
                      </a:lnTo>
                      <a:lnTo>
                        <a:pt x="41" y="18"/>
                      </a:lnTo>
                      <a:lnTo>
                        <a:pt x="35" y="18"/>
                      </a:lnTo>
                      <a:lnTo>
                        <a:pt x="35" y="24"/>
                      </a:lnTo>
                      <a:lnTo>
                        <a:pt x="29" y="24"/>
                      </a:lnTo>
                      <a:lnTo>
                        <a:pt x="29" y="30"/>
                      </a:lnTo>
                      <a:lnTo>
                        <a:pt x="23" y="30"/>
                      </a:lnTo>
                      <a:lnTo>
                        <a:pt x="23" y="36"/>
                      </a:lnTo>
                      <a:lnTo>
                        <a:pt x="17" y="36"/>
                      </a:lnTo>
                      <a:lnTo>
                        <a:pt x="17" y="42"/>
                      </a:lnTo>
                      <a:lnTo>
                        <a:pt x="11" y="48"/>
                      </a:lnTo>
                      <a:lnTo>
                        <a:pt x="11" y="54"/>
                      </a:lnTo>
                      <a:lnTo>
                        <a:pt x="5" y="54"/>
                      </a:lnTo>
                      <a:lnTo>
                        <a:pt x="5" y="60"/>
                      </a:lnTo>
                      <a:lnTo>
                        <a:pt x="0" y="60"/>
                      </a:lnTo>
                      <a:lnTo>
                        <a:pt x="5" y="54"/>
                      </a:lnTo>
                      <a:lnTo>
                        <a:pt x="11" y="48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6"/>
                      </a:lnTo>
                      <a:lnTo>
                        <a:pt x="23" y="36"/>
                      </a:lnTo>
                      <a:lnTo>
                        <a:pt x="23" y="30"/>
                      </a:lnTo>
                      <a:lnTo>
                        <a:pt x="29" y="30"/>
                      </a:lnTo>
                      <a:lnTo>
                        <a:pt x="29" y="2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289"/>
                <p:cNvSpPr/>
                <p:nvPr/>
              </p:nvSpPr>
              <p:spPr>
                <a:xfrm>
                  <a:off x="7717320" y="5828760"/>
                  <a:ext cx="4680" cy="54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5" h="6">
                      <a:moveTo>
                        <a:pt x="0" y="6"/>
                      </a:move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290"/>
                <p:cNvSpPr/>
                <p:nvPr/>
              </p:nvSpPr>
              <p:spPr>
                <a:xfrm>
                  <a:off x="7711200" y="584028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291"/>
                <p:cNvSpPr/>
                <p:nvPr/>
              </p:nvSpPr>
              <p:spPr>
                <a:xfrm>
                  <a:off x="7705080" y="5846040"/>
                  <a:ext cx="612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292"/>
                <p:cNvSpPr/>
                <p:nvPr/>
              </p:nvSpPr>
              <p:spPr>
                <a:xfrm>
                  <a:off x="7705080" y="585180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293"/>
                <p:cNvSpPr/>
                <p:nvPr/>
              </p:nvSpPr>
              <p:spPr>
                <a:xfrm>
                  <a:off x="7699320" y="585756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294"/>
                <p:cNvSpPr/>
                <p:nvPr/>
              </p:nvSpPr>
              <p:spPr>
                <a:xfrm>
                  <a:off x="7693200" y="586332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6" y="0"/>
                      </a:move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295"/>
                <p:cNvSpPr/>
                <p:nvPr/>
              </p:nvSpPr>
              <p:spPr>
                <a:xfrm>
                  <a:off x="7687080" y="5880960"/>
                  <a:ext cx="576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296"/>
                <p:cNvSpPr/>
                <p:nvPr/>
              </p:nvSpPr>
              <p:spPr>
                <a:xfrm>
                  <a:off x="7687080" y="58867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297"/>
                <p:cNvSpPr/>
                <p:nvPr/>
              </p:nvSpPr>
              <p:spPr>
                <a:xfrm>
                  <a:off x="7680960" y="5898600"/>
                  <a:ext cx="6120" cy="288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6" h="30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298"/>
                <p:cNvSpPr/>
                <p:nvPr/>
              </p:nvSpPr>
              <p:spPr>
                <a:xfrm>
                  <a:off x="7675200" y="592740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299"/>
                <p:cNvSpPr/>
                <p:nvPr/>
              </p:nvSpPr>
              <p:spPr>
                <a:xfrm>
                  <a:off x="7669440" y="5933520"/>
                  <a:ext cx="11520" cy="3960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2" h="41">
                      <a:moveTo>
                        <a:pt x="6" y="0"/>
                      </a:move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6" y="29"/>
                      </a:lnTo>
                      <a:lnTo>
                        <a:pt x="6" y="35"/>
                      </a:lnTo>
                      <a:lnTo>
                        <a:pt x="6" y="41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6" y="23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300"/>
                <p:cNvSpPr/>
                <p:nvPr/>
              </p:nvSpPr>
              <p:spPr>
                <a:xfrm>
                  <a:off x="7657200" y="597348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6" y="18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6" y="18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301"/>
                <p:cNvSpPr/>
                <p:nvPr/>
              </p:nvSpPr>
              <p:spPr>
                <a:xfrm>
                  <a:off x="7555320" y="5996880"/>
                  <a:ext cx="17640" cy="111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302"/>
                <p:cNvSpPr/>
                <p:nvPr/>
              </p:nvSpPr>
              <p:spPr>
                <a:xfrm>
                  <a:off x="7549200" y="6002640"/>
                  <a:ext cx="6120" cy="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303"/>
                <p:cNvSpPr/>
                <p:nvPr/>
              </p:nvSpPr>
              <p:spPr>
                <a:xfrm>
                  <a:off x="7126200" y="3805560"/>
                  <a:ext cx="17640" cy="5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304"/>
                <p:cNvSpPr/>
                <p:nvPr/>
              </p:nvSpPr>
              <p:spPr>
                <a:xfrm>
                  <a:off x="7084440" y="379404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305"/>
                <p:cNvSpPr/>
                <p:nvPr/>
              </p:nvSpPr>
              <p:spPr>
                <a:xfrm>
                  <a:off x="7096320" y="37994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3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306"/>
                <p:cNvSpPr/>
                <p:nvPr/>
              </p:nvSpPr>
              <p:spPr>
                <a:xfrm>
                  <a:off x="7144200" y="380556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307"/>
                <p:cNvSpPr/>
                <p:nvPr/>
              </p:nvSpPr>
              <p:spPr>
                <a:xfrm>
                  <a:off x="7054200" y="379404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308"/>
                <p:cNvSpPr/>
                <p:nvPr/>
              </p:nvSpPr>
              <p:spPr>
                <a:xfrm>
                  <a:off x="7048080" y="381708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09"/>
                <p:cNvSpPr/>
                <p:nvPr/>
              </p:nvSpPr>
              <p:spPr>
                <a:xfrm flipV="1">
                  <a:off x="7048080" y="3834360"/>
                  <a:ext cx="1080" cy="104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10"/>
                <p:cNvSpPr/>
                <p:nvPr/>
              </p:nvSpPr>
              <p:spPr>
                <a:xfrm flipV="1">
                  <a:off x="7048080" y="3845160"/>
                  <a:ext cx="108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311"/>
                <p:cNvSpPr/>
                <p:nvPr/>
              </p:nvSpPr>
              <p:spPr>
                <a:xfrm>
                  <a:off x="7156080" y="3817080"/>
                  <a:ext cx="6120" cy="338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6" h="35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6" y="35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312"/>
                <p:cNvSpPr/>
                <p:nvPr/>
              </p:nvSpPr>
              <p:spPr>
                <a:xfrm flipV="1">
                  <a:off x="7048080" y="3851280"/>
                  <a:ext cx="1080" cy="115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13"/>
                <p:cNvSpPr/>
                <p:nvPr/>
              </p:nvSpPr>
              <p:spPr>
                <a:xfrm flipV="1">
                  <a:off x="7042320" y="3862440"/>
                  <a:ext cx="576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314"/>
                <p:cNvSpPr/>
                <p:nvPr/>
              </p:nvSpPr>
              <p:spPr>
                <a:xfrm flipV="1">
                  <a:off x="7042320" y="3868560"/>
                  <a:ext cx="720" cy="115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315"/>
                <p:cNvSpPr/>
                <p:nvPr/>
              </p:nvSpPr>
              <p:spPr>
                <a:xfrm>
                  <a:off x="7162200" y="3839400"/>
                  <a:ext cx="106920" cy="406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07" h="4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24" y="36"/>
                      </a:lnTo>
                      <a:lnTo>
                        <a:pt x="30" y="36"/>
                      </a:lnTo>
                      <a:lnTo>
                        <a:pt x="36" y="36"/>
                      </a:lnTo>
                      <a:lnTo>
                        <a:pt x="41" y="36"/>
                      </a:lnTo>
                      <a:lnTo>
                        <a:pt x="47" y="36"/>
                      </a:lnTo>
                      <a:lnTo>
                        <a:pt x="53" y="36"/>
                      </a:lnTo>
                      <a:lnTo>
                        <a:pt x="59" y="36"/>
                      </a:lnTo>
                      <a:lnTo>
                        <a:pt x="59" y="42"/>
                      </a:lnTo>
                      <a:lnTo>
                        <a:pt x="65" y="42"/>
                      </a:lnTo>
                      <a:lnTo>
                        <a:pt x="71" y="42"/>
                      </a:lnTo>
                      <a:lnTo>
                        <a:pt x="71" y="36"/>
                      </a:lnTo>
                      <a:lnTo>
                        <a:pt x="77" y="36"/>
                      </a:lnTo>
                      <a:lnTo>
                        <a:pt x="77" y="30"/>
                      </a:lnTo>
                      <a:lnTo>
                        <a:pt x="77" y="24"/>
                      </a:lnTo>
                      <a:lnTo>
                        <a:pt x="83" y="24"/>
                      </a:lnTo>
                      <a:lnTo>
                        <a:pt x="83" y="18"/>
                      </a:lnTo>
                      <a:lnTo>
                        <a:pt x="89" y="18"/>
                      </a:lnTo>
                      <a:lnTo>
                        <a:pt x="89" y="12"/>
                      </a:lnTo>
                      <a:lnTo>
                        <a:pt x="95" y="12"/>
                      </a:lnTo>
                      <a:lnTo>
                        <a:pt x="101" y="12"/>
                      </a:lnTo>
                      <a:lnTo>
                        <a:pt x="107" y="12"/>
                      </a:lnTo>
                      <a:lnTo>
                        <a:pt x="107" y="6"/>
                      </a:lnTo>
                      <a:lnTo>
                        <a:pt x="101" y="6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316"/>
                <p:cNvSpPr/>
                <p:nvPr/>
              </p:nvSpPr>
              <p:spPr>
                <a:xfrm>
                  <a:off x="7036200" y="388008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Freeform 317"/>
                <p:cNvSpPr/>
                <p:nvPr/>
              </p:nvSpPr>
              <p:spPr>
                <a:xfrm>
                  <a:off x="7007040" y="3886200"/>
                  <a:ext cx="28800" cy="1152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9" h="12">
                      <a:moveTo>
                        <a:pt x="0" y="6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23" y="0"/>
                      </a:lnTo>
                      <a:lnTo>
                        <a:pt x="23" y="6"/>
                      </a:lnTo>
                      <a:lnTo>
                        <a:pt x="29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Freeform 318"/>
                <p:cNvSpPr/>
                <p:nvPr/>
              </p:nvSpPr>
              <p:spPr>
                <a:xfrm>
                  <a:off x="6989400" y="3891960"/>
                  <a:ext cx="17640" cy="57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Freeform 319"/>
                <p:cNvSpPr/>
                <p:nvPr/>
              </p:nvSpPr>
              <p:spPr>
                <a:xfrm>
                  <a:off x="6983280" y="389772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Freeform 320"/>
                <p:cNvSpPr/>
                <p:nvPr/>
              </p:nvSpPr>
              <p:spPr>
                <a:xfrm>
                  <a:off x="6959520" y="3903480"/>
                  <a:ext cx="23760" cy="99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99000"/>
                    <a:gd name="textAreaBottom" fmla="*/ 99360 h 99000"/>
                  </a:gdLst>
                  <a:ahLst/>
                  <a:rect l="textAreaLeft" t="textAreaTop" r="textAreaRight" b="textAreaBottom"/>
                  <a:pathLst>
                    <a:path w="24" h="102">
                      <a:moveTo>
                        <a:pt x="6" y="102"/>
                      </a:moveTo>
                      <a:lnTo>
                        <a:pt x="0" y="102"/>
                      </a:lnTo>
                      <a:lnTo>
                        <a:pt x="0" y="96"/>
                      </a:lnTo>
                      <a:lnTo>
                        <a:pt x="6" y="96"/>
                      </a:lnTo>
                      <a:lnTo>
                        <a:pt x="6" y="90"/>
                      </a:lnTo>
                      <a:lnTo>
                        <a:pt x="6" y="84"/>
                      </a:lnTo>
                      <a:lnTo>
                        <a:pt x="6" y="78"/>
                      </a:lnTo>
                      <a:lnTo>
                        <a:pt x="12" y="78"/>
                      </a:lnTo>
                      <a:lnTo>
                        <a:pt x="12" y="72"/>
                      </a:lnTo>
                      <a:lnTo>
                        <a:pt x="12" y="66"/>
                      </a:lnTo>
                      <a:lnTo>
                        <a:pt x="12" y="60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8" y="24"/>
                      </a:lnTo>
                      <a:lnTo>
                        <a:pt x="24" y="24"/>
                      </a:lnTo>
                      <a:lnTo>
                        <a:pt x="24" y="18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321"/>
                <p:cNvSpPr/>
                <p:nvPr/>
              </p:nvSpPr>
              <p:spPr>
                <a:xfrm>
                  <a:off x="6911280" y="4002840"/>
                  <a:ext cx="53640" cy="2808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4" h="29">
                      <a:moveTo>
                        <a:pt x="0" y="23"/>
                      </a:moveTo>
                      <a:lnTo>
                        <a:pt x="6" y="23"/>
                      </a:lnTo>
                      <a:lnTo>
                        <a:pt x="6" y="29"/>
                      </a:lnTo>
                      <a:lnTo>
                        <a:pt x="12" y="23"/>
                      </a:lnTo>
                      <a:lnTo>
                        <a:pt x="12" y="17"/>
                      </a:lnTo>
                      <a:lnTo>
                        <a:pt x="18" y="17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24" y="11"/>
                      </a:lnTo>
                      <a:lnTo>
                        <a:pt x="24" y="6"/>
                      </a:lnTo>
                      <a:lnTo>
                        <a:pt x="24" y="11"/>
                      </a:lnTo>
                      <a:lnTo>
                        <a:pt x="30" y="11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2" y="6"/>
                      </a:lnTo>
                      <a:lnTo>
                        <a:pt x="48" y="6"/>
                      </a:lnTo>
                      <a:lnTo>
                        <a:pt x="48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Freeform 322"/>
                <p:cNvSpPr/>
                <p:nvPr/>
              </p:nvSpPr>
              <p:spPr>
                <a:xfrm>
                  <a:off x="6893280" y="402516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Freeform 323"/>
                <p:cNvSpPr/>
                <p:nvPr/>
              </p:nvSpPr>
              <p:spPr>
                <a:xfrm>
                  <a:off x="6893280" y="403668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12" y="18"/>
                      </a:move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Freeform 324"/>
                <p:cNvSpPr/>
                <p:nvPr/>
              </p:nvSpPr>
              <p:spPr>
                <a:xfrm>
                  <a:off x="6893280" y="405396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Freeform 325"/>
                <p:cNvSpPr/>
                <p:nvPr/>
              </p:nvSpPr>
              <p:spPr>
                <a:xfrm>
                  <a:off x="6887160" y="4053960"/>
                  <a:ext cx="47880" cy="525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48" h="54">
                      <a:moveTo>
                        <a:pt x="48" y="54"/>
                      </a:moveTo>
                      <a:lnTo>
                        <a:pt x="48" y="48"/>
                      </a:lnTo>
                      <a:lnTo>
                        <a:pt x="42" y="48"/>
                      </a:lnTo>
                      <a:lnTo>
                        <a:pt x="48" y="48"/>
                      </a:ln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6" y="42"/>
                      </a:lnTo>
                      <a:lnTo>
                        <a:pt x="36" y="36"/>
                      </a:lnTo>
                      <a:lnTo>
                        <a:pt x="36" y="30"/>
                      </a:lnTo>
                      <a:lnTo>
                        <a:pt x="30" y="30"/>
                      </a:lnTo>
                      <a:lnTo>
                        <a:pt x="36" y="30"/>
                      </a:lnTo>
                      <a:lnTo>
                        <a:pt x="36" y="24"/>
                      </a:lnTo>
                      <a:lnTo>
                        <a:pt x="30" y="24"/>
                      </a:lnTo>
                      <a:lnTo>
                        <a:pt x="30" y="30"/>
                      </a:lnTo>
                      <a:lnTo>
                        <a:pt x="24" y="30"/>
                      </a:lnTo>
                      <a:lnTo>
                        <a:pt x="24" y="24"/>
                      </a:lnTo>
                      <a:lnTo>
                        <a:pt x="24" y="30"/>
                      </a:lnTo>
                      <a:lnTo>
                        <a:pt x="24" y="24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326"/>
                <p:cNvSpPr/>
                <p:nvPr/>
              </p:nvSpPr>
              <p:spPr>
                <a:xfrm>
                  <a:off x="6935400" y="4106880"/>
                  <a:ext cx="29880" cy="345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0" h="36">
                      <a:moveTo>
                        <a:pt x="30" y="36"/>
                      </a:moveTo>
                      <a:lnTo>
                        <a:pt x="24" y="36"/>
                      </a:lnTo>
                      <a:lnTo>
                        <a:pt x="18" y="36"/>
                      </a:lnTo>
                      <a:lnTo>
                        <a:pt x="24" y="30"/>
                      </a:lnTo>
                      <a:lnTo>
                        <a:pt x="18" y="30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327"/>
                <p:cNvSpPr/>
                <p:nvPr/>
              </p:nvSpPr>
              <p:spPr>
                <a:xfrm>
                  <a:off x="6965280" y="414144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24" y="6"/>
                      </a:move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328"/>
                <p:cNvSpPr/>
                <p:nvPr/>
              </p:nvSpPr>
              <p:spPr>
                <a:xfrm>
                  <a:off x="6798240" y="4176720"/>
                  <a:ext cx="17640" cy="223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8" h="23">
                      <a:moveTo>
                        <a:pt x="18" y="23"/>
                      </a:moveTo>
                      <a:lnTo>
                        <a:pt x="18" y="17"/>
                      </a:lnTo>
                      <a:lnTo>
                        <a:pt x="12" y="17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Freeform 329"/>
                <p:cNvSpPr/>
                <p:nvPr/>
              </p:nvSpPr>
              <p:spPr>
                <a:xfrm>
                  <a:off x="6977160" y="4147560"/>
                  <a:ext cx="11880" cy="514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2" h="53">
                      <a:moveTo>
                        <a:pt x="0" y="53"/>
                      </a:moveTo>
                      <a:lnTo>
                        <a:pt x="6" y="53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Freeform 330"/>
                <p:cNvSpPr/>
                <p:nvPr/>
              </p:nvSpPr>
              <p:spPr>
                <a:xfrm>
                  <a:off x="6959520" y="4199040"/>
                  <a:ext cx="17640" cy="230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Freeform 331"/>
                <p:cNvSpPr/>
                <p:nvPr/>
              </p:nvSpPr>
              <p:spPr>
                <a:xfrm>
                  <a:off x="6953040" y="422208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Freeform 332"/>
                <p:cNvSpPr/>
                <p:nvPr/>
              </p:nvSpPr>
              <p:spPr>
                <a:xfrm>
                  <a:off x="6816240" y="4199040"/>
                  <a:ext cx="11880" cy="40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2" h="42">
                      <a:moveTo>
                        <a:pt x="12" y="42"/>
                      </a:move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333"/>
                <p:cNvSpPr/>
                <p:nvPr/>
              </p:nvSpPr>
              <p:spPr>
                <a:xfrm>
                  <a:off x="6816240" y="423972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Freeform 334"/>
                <p:cNvSpPr/>
                <p:nvPr/>
              </p:nvSpPr>
              <p:spPr>
                <a:xfrm>
                  <a:off x="6786360" y="4251600"/>
                  <a:ext cx="29880" cy="172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0" h="18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335"/>
                <p:cNvSpPr/>
                <p:nvPr/>
              </p:nvSpPr>
              <p:spPr>
                <a:xfrm>
                  <a:off x="6756480" y="426312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336"/>
                <p:cNvSpPr/>
                <p:nvPr/>
              </p:nvSpPr>
              <p:spPr>
                <a:xfrm>
                  <a:off x="6828120" y="4239720"/>
                  <a:ext cx="64800" cy="579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65" h="6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8" y="30"/>
                      </a:lnTo>
                      <a:lnTo>
                        <a:pt x="18" y="36"/>
                      </a:lnTo>
                      <a:lnTo>
                        <a:pt x="24" y="36"/>
                      </a:lnTo>
                      <a:lnTo>
                        <a:pt x="24" y="42"/>
                      </a:lnTo>
                      <a:lnTo>
                        <a:pt x="29" y="42"/>
                      </a:lnTo>
                      <a:lnTo>
                        <a:pt x="29" y="48"/>
                      </a:lnTo>
                      <a:lnTo>
                        <a:pt x="35" y="48"/>
                      </a:lnTo>
                      <a:lnTo>
                        <a:pt x="41" y="48"/>
                      </a:lnTo>
                      <a:lnTo>
                        <a:pt x="47" y="48"/>
                      </a:lnTo>
                      <a:lnTo>
                        <a:pt x="53" y="48"/>
                      </a:lnTo>
                      <a:lnTo>
                        <a:pt x="53" y="54"/>
                      </a:lnTo>
                      <a:lnTo>
                        <a:pt x="59" y="54"/>
                      </a:lnTo>
                      <a:lnTo>
                        <a:pt x="65" y="54"/>
                      </a:lnTo>
                      <a:lnTo>
                        <a:pt x="65" y="6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337"/>
                <p:cNvSpPr/>
                <p:nvPr/>
              </p:nvSpPr>
              <p:spPr>
                <a:xfrm>
                  <a:off x="6899400" y="4228200"/>
                  <a:ext cx="53640" cy="6984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54" h="72">
                      <a:moveTo>
                        <a:pt x="0" y="72"/>
                      </a:moveTo>
                      <a:lnTo>
                        <a:pt x="6" y="72"/>
                      </a:lnTo>
                      <a:lnTo>
                        <a:pt x="6" y="66"/>
                      </a:ln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60"/>
                      </a:lnTo>
                      <a:lnTo>
                        <a:pt x="24" y="60"/>
                      </a:lnTo>
                      <a:lnTo>
                        <a:pt x="30" y="60"/>
                      </a:lnTo>
                      <a:lnTo>
                        <a:pt x="30" y="54"/>
                      </a:lnTo>
                      <a:lnTo>
                        <a:pt x="30" y="48"/>
                      </a:lnTo>
                      <a:lnTo>
                        <a:pt x="30" y="42"/>
                      </a:lnTo>
                      <a:lnTo>
                        <a:pt x="36" y="42"/>
                      </a:lnTo>
                      <a:lnTo>
                        <a:pt x="42" y="42"/>
                      </a:lnTo>
                      <a:lnTo>
                        <a:pt x="42" y="36"/>
                      </a:lnTo>
                      <a:lnTo>
                        <a:pt x="48" y="36"/>
                      </a:lnTo>
                      <a:lnTo>
                        <a:pt x="42" y="36"/>
                      </a:lnTo>
                      <a:lnTo>
                        <a:pt x="42" y="30"/>
                      </a:lnTo>
                      <a:lnTo>
                        <a:pt x="42" y="24"/>
                      </a:lnTo>
                      <a:lnTo>
                        <a:pt x="48" y="24"/>
                      </a:lnTo>
                      <a:lnTo>
                        <a:pt x="48" y="18"/>
                      </a:lnTo>
                      <a:lnTo>
                        <a:pt x="54" y="18"/>
                      </a:lnTo>
                      <a:lnTo>
                        <a:pt x="54" y="12"/>
                      </a:lnTo>
                      <a:lnTo>
                        <a:pt x="54" y="6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338"/>
                <p:cNvSpPr/>
                <p:nvPr/>
              </p:nvSpPr>
              <p:spPr>
                <a:xfrm>
                  <a:off x="6893280" y="429804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39"/>
                <p:cNvSpPr/>
                <p:nvPr/>
              </p:nvSpPr>
              <p:spPr>
                <a:xfrm>
                  <a:off x="6899400" y="429804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40"/>
                <p:cNvSpPr/>
                <p:nvPr/>
              </p:nvSpPr>
              <p:spPr>
                <a:xfrm>
                  <a:off x="6917040" y="430416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4" h="1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41"/>
                <p:cNvSpPr/>
                <p:nvPr/>
              </p:nvSpPr>
              <p:spPr>
                <a:xfrm>
                  <a:off x="5736600" y="4344840"/>
                  <a:ext cx="35640" cy="1152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6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3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42"/>
                <p:cNvSpPr/>
                <p:nvPr/>
              </p:nvSpPr>
              <p:spPr>
                <a:xfrm>
                  <a:off x="5694120" y="4339080"/>
                  <a:ext cx="42120" cy="17280"/>
                </a:xfrm>
                <a:custGeom>
                  <a:avLst/>
                  <a:gdLst>
                    <a:gd name="textAreaLeft" fmla="*/ 0 w 42120"/>
                    <a:gd name="textAreaRight" fmla="*/ 42120 w 42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42" h="18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  <a:lnTo>
                        <a:pt x="30" y="6"/>
                      </a:lnTo>
                      <a:lnTo>
                        <a:pt x="36" y="0"/>
                      </a:lnTo>
                      <a:lnTo>
                        <a:pt x="36" y="6"/>
                      </a:lnTo>
                      <a:lnTo>
                        <a:pt x="36" y="0"/>
                      </a:lnTo>
                      <a:lnTo>
                        <a:pt x="4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43"/>
                <p:cNvSpPr/>
                <p:nvPr/>
              </p:nvSpPr>
              <p:spPr>
                <a:xfrm>
                  <a:off x="6917040" y="4321440"/>
                  <a:ext cx="18000" cy="406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8" h="42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6" y="30"/>
                      </a:lnTo>
                      <a:lnTo>
                        <a:pt x="0" y="30"/>
                      </a:lnTo>
                      <a:lnTo>
                        <a:pt x="0" y="36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44"/>
                <p:cNvSpPr/>
                <p:nvPr/>
              </p:nvSpPr>
              <p:spPr>
                <a:xfrm>
                  <a:off x="6756480" y="4286520"/>
                  <a:ext cx="23760" cy="75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24" h="78">
                      <a:moveTo>
                        <a:pt x="24" y="78"/>
                      </a:moveTo>
                      <a:lnTo>
                        <a:pt x="24" y="72"/>
                      </a:lnTo>
                      <a:lnTo>
                        <a:pt x="24" y="66"/>
                      </a:lnTo>
                      <a:lnTo>
                        <a:pt x="24" y="60"/>
                      </a:lnTo>
                      <a:lnTo>
                        <a:pt x="24" y="54"/>
                      </a:lnTo>
                      <a:lnTo>
                        <a:pt x="18" y="54"/>
                      </a:lnTo>
                      <a:lnTo>
                        <a:pt x="18" y="48"/>
                      </a:lnTo>
                      <a:lnTo>
                        <a:pt x="18" y="42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45"/>
                <p:cNvSpPr/>
                <p:nvPr/>
              </p:nvSpPr>
              <p:spPr>
                <a:xfrm>
                  <a:off x="6917040" y="436212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346"/>
                <p:cNvSpPr/>
                <p:nvPr/>
              </p:nvSpPr>
              <p:spPr>
                <a:xfrm flipV="1">
                  <a:off x="6780240" y="4361760"/>
                  <a:ext cx="1080" cy="46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347"/>
                <p:cNvSpPr/>
                <p:nvPr/>
              </p:nvSpPr>
              <p:spPr>
                <a:xfrm>
                  <a:off x="6201360" y="43671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30" y="12"/>
                      </a:move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48"/>
                <p:cNvSpPr/>
                <p:nvPr/>
              </p:nvSpPr>
              <p:spPr>
                <a:xfrm>
                  <a:off x="5635440" y="4356360"/>
                  <a:ext cx="58680" cy="2808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9" h="29">
                      <a:moveTo>
                        <a:pt x="0" y="29"/>
                      </a:moveTo>
                      <a:lnTo>
                        <a:pt x="6" y="29"/>
                      </a:lnTo>
                      <a:lnTo>
                        <a:pt x="12" y="29"/>
                      </a:lnTo>
                      <a:lnTo>
                        <a:pt x="12" y="23"/>
                      </a:lnTo>
                      <a:lnTo>
                        <a:pt x="17" y="23"/>
                      </a:lnTo>
                      <a:lnTo>
                        <a:pt x="23" y="23"/>
                      </a:lnTo>
                      <a:lnTo>
                        <a:pt x="23" y="17"/>
                      </a:lnTo>
                      <a:lnTo>
                        <a:pt x="29" y="17"/>
                      </a:lnTo>
                      <a:lnTo>
                        <a:pt x="35" y="17"/>
                      </a:lnTo>
                      <a:lnTo>
                        <a:pt x="35" y="11"/>
                      </a:lnTo>
                      <a:lnTo>
                        <a:pt x="41" y="11"/>
                      </a:lnTo>
                      <a:lnTo>
                        <a:pt x="47" y="11"/>
                      </a:lnTo>
                      <a:lnTo>
                        <a:pt x="47" y="6"/>
                      </a:lnTo>
                      <a:lnTo>
                        <a:pt x="53" y="6"/>
                      </a:lnTo>
                      <a:lnTo>
                        <a:pt x="53" y="0"/>
                      </a:lnTo>
                      <a:lnTo>
                        <a:pt x="59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49"/>
                <p:cNvSpPr/>
                <p:nvPr/>
              </p:nvSpPr>
              <p:spPr>
                <a:xfrm>
                  <a:off x="6076440" y="4350600"/>
                  <a:ext cx="124920" cy="3384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25" h="35">
                      <a:moveTo>
                        <a:pt x="125" y="23"/>
                      </a:moveTo>
                      <a:lnTo>
                        <a:pt x="125" y="17"/>
                      </a:lnTo>
                      <a:lnTo>
                        <a:pt x="119" y="17"/>
                      </a:lnTo>
                      <a:lnTo>
                        <a:pt x="113" y="17"/>
                      </a:lnTo>
                      <a:lnTo>
                        <a:pt x="113" y="23"/>
                      </a:lnTo>
                      <a:lnTo>
                        <a:pt x="113" y="17"/>
                      </a:lnTo>
                      <a:lnTo>
                        <a:pt x="107" y="17"/>
                      </a:lnTo>
                      <a:lnTo>
                        <a:pt x="107" y="12"/>
                      </a:lnTo>
                      <a:lnTo>
                        <a:pt x="101" y="12"/>
                      </a:lnTo>
                      <a:lnTo>
                        <a:pt x="95" y="12"/>
                      </a:lnTo>
                      <a:lnTo>
                        <a:pt x="90" y="12"/>
                      </a:lnTo>
                      <a:lnTo>
                        <a:pt x="84" y="12"/>
                      </a:lnTo>
                      <a:lnTo>
                        <a:pt x="78" y="12"/>
                      </a:lnTo>
                      <a:lnTo>
                        <a:pt x="78" y="6"/>
                      </a:lnTo>
                      <a:lnTo>
                        <a:pt x="72" y="6"/>
                      </a:lnTo>
                      <a:lnTo>
                        <a:pt x="66" y="6"/>
                      </a:lnTo>
                      <a:lnTo>
                        <a:pt x="60" y="6"/>
                      </a:lnTo>
                      <a:lnTo>
                        <a:pt x="54" y="6"/>
                      </a:lnTo>
                      <a:lnTo>
                        <a:pt x="48" y="6"/>
                      </a:ln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0" y="0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24" y="17"/>
                      </a:lnTo>
                      <a:lnTo>
                        <a:pt x="24" y="23"/>
                      </a:lnTo>
                      <a:lnTo>
                        <a:pt x="18" y="23"/>
                      </a:lnTo>
                      <a:lnTo>
                        <a:pt x="18" y="29"/>
                      </a:lnTo>
                      <a:lnTo>
                        <a:pt x="24" y="29"/>
                      </a:lnTo>
                      <a:lnTo>
                        <a:pt x="24" y="35"/>
                      </a:lnTo>
                      <a:lnTo>
                        <a:pt x="18" y="35"/>
                      </a:lnTo>
                      <a:lnTo>
                        <a:pt x="12" y="35"/>
                      </a:lnTo>
                      <a:lnTo>
                        <a:pt x="12" y="29"/>
                      </a:lnTo>
                      <a:lnTo>
                        <a:pt x="6" y="29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50"/>
                <p:cNvSpPr/>
                <p:nvPr/>
              </p:nvSpPr>
              <p:spPr>
                <a:xfrm>
                  <a:off x="6768360" y="436716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51"/>
                <p:cNvSpPr/>
                <p:nvPr/>
              </p:nvSpPr>
              <p:spPr>
                <a:xfrm>
                  <a:off x="5593320" y="4384800"/>
                  <a:ext cx="41760" cy="54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42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52"/>
                <p:cNvSpPr/>
                <p:nvPr/>
              </p:nvSpPr>
              <p:spPr>
                <a:xfrm>
                  <a:off x="5563440" y="4390200"/>
                  <a:ext cx="29880" cy="57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30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53"/>
                <p:cNvSpPr/>
                <p:nvPr/>
              </p:nvSpPr>
              <p:spPr>
                <a:xfrm>
                  <a:off x="6929280" y="4362120"/>
                  <a:ext cx="18000" cy="3384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8" h="35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6" y="17"/>
                      </a:lnTo>
                      <a:lnTo>
                        <a:pt x="12" y="17"/>
                      </a:lnTo>
                      <a:lnTo>
                        <a:pt x="18" y="17"/>
                      </a:lnTo>
                      <a:lnTo>
                        <a:pt x="18" y="23"/>
                      </a:lnTo>
                      <a:lnTo>
                        <a:pt x="18" y="29"/>
                      </a:lnTo>
                      <a:lnTo>
                        <a:pt x="12" y="29"/>
                      </a:lnTo>
                      <a:lnTo>
                        <a:pt x="6" y="35"/>
                      </a:lnTo>
                      <a:lnTo>
                        <a:pt x="12" y="35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54"/>
                <p:cNvSpPr/>
                <p:nvPr/>
              </p:nvSpPr>
              <p:spPr>
                <a:xfrm>
                  <a:off x="5772240" y="4350600"/>
                  <a:ext cx="88920" cy="5148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89" h="53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36" y="12"/>
                      </a:lnTo>
                      <a:lnTo>
                        <a:pt x="36" y="17"/>
                      </a:lnTo>
                      <a:lnTo>
                        <a:pt x="42" y="17"/>
                      </a:lnTo>
                      <a:lnTo>
                        <a:pt x="42" y="23"/>
                      </a:lnTo>
                      <a:lnTo>
                        <a:pt x="48" y="23"/>
                      </a:lnTo>
                      <a:lnTo>
                        <a:pt x="53" y="23"/>
                      </a:lnTo>
                      <a:lnTo>
                        <a:pt x="59" y="23"/>
                      </a:lnTo>
                      <a:lnTo>
                        <a:pt x="59" y="29"/>
                      </a:lnTo>
                      <a:lnTo>
                        <a:pt x="65" y="29"/>
                      </a:lnTo>
                      <a:lnTo>
                        <a:pt x="65" y="35"/>
                      </a:lnTo>
                      <a:lnTo>
                        <a:pt x="71" y="35"/>
                      </a:lnTo>
                      <a:lnTo>
                        <a:pt x="71" y="41"/>
                      </a:lnTo>
                      <a:lnTo>
                        <a:pt x="71" y="47"/>
                      </a:lnTo>
                      <a:lnTo>
                        <a:pt x="77" y="47"/>
                      </a:lnTo>
                      <a:lnTo>
                        <a:pt x="83" y="47"/>
                      </a:lnTo>
                      <a:lnTo>
                        <a:pt x="89" y="47"/>
                      </a:lnTo>
                      <a:lnTo>
                        <a:pt x="89" y="53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355"/>
                <p:cNvSpPr/>
                <p:nvPr/>
              </p:nvSpPr>
              <p:spPr>
                <a:xfrm>
                  <a:off x="6941160" y="439632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356"/>
                <p:cNvSpPr/>
                <p:nvPr/>
              </p:nvSpPr>
              <p:spPr>
                <a:xfrm>
                  <a:off x="5861520" y="4402080"/>
                  <a:ext cx="41760" cy="5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357"/>
                <p:cNvSpPr/>
                <p:nvPr/>
              </p:nvSpPr>
              <p:spPr>
                <a:xfrm>
                  <a:off x="5521320" y="4390200"/>
                  <a:ext cx="42120" cy="23040"/>
                </a:xfrm>
                <a:custGeom>
                  <a:avLst/>
                  <a:gdLst>
                    <a:gd name="textAreaLeft" fmla="*/ 0 w 42120"/>
                    <a:gd name="textAreaRight" fmla="*/ 42120 w 421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2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2" y="6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358"/>
                <p:cNvSpPr/>
                <p:nvPr/>
              </p:nvSpPr>
              <p:spPr>
                <a:xfrm>
                  <a:off x="6923160" y="440208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24" y="0"/>
                      </a:move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359"/>
                <p:cNvSpPr/>
                <p:nvPr/>
              </p:nvSpPr>
              <p:spPr>
                <a:xfrm>
                  <a:off x="6762240" y="4390200"/>
                  <a:ext cx="5760" cy="349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6" h="36">
                      <a:moveTo>
                        <a:pt x="0" y="36"/>
                      </a:move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360"/>
                <p:cNvSpPr/>
                <p:nvPr/>
              </p:nvSpPr>
              <p:spPr>
                <a:xfrm>
                  <a:off x="6082200" y="441360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61"/>
                <p:cNvSpPr/>
                <p:nvPr/>
              </p:nvSpPr>
              <p:spPr>
                <a:xfrm flipH="1">
                  <a:off x="6762240" y="442548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362"/>
                <p:cNvSpPr/>
                <p:nvPr/>
              </p:nvSpPr>
              <p:spPr>
                <a:xfrm>
                  <a:off x="6917040" y="442548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363"/>
                <p:cNvSpPr/>
                <p:nvPr/>
              </p:nvSpPr>
              <p:spPr>
                <a:xfrm>
                  <a:off x="6511320" y="4402080"/>
                  <a:ext cx="6120" cy="349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6" h="36">
                      <a:moveTo>
                        <a:pt x="0" y="36"/>
                      </a:move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64"/>
                <p:cNvSpPr/>
                <p:nvPr/>
              </p:nvSpPr>
              <p:spPr>
                <a:xfrm>
                  <a:off x="6768360" y="4425480"/>
                  <a:ext cx="1080" cy="172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365"/>
                <p:cNvSpPr/>
                <p:nvPr/>
              </p:nvSpPr>
              <p:spPr>
                <a:xfrm>
                  <a:off x="5497560" y="4413600"/>
                  <a:ext cx="23760" cy="349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4" h="36">
                      <a:moveTo>
                        <a:pt x="0" y="36"/>
                      </a:move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366"/>
                <p:cNvSpPr/>
                <p:nvPr/>
              </p:nvSpPr>
              <p:spPr>
                <a:xfrm>
                  <a:off x="6935400" y="443700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67"/>
                <p:cNvSpPr/>
                <p:nvPr/>
              </p:nvSpPr>
              <p:spPr>
                <a:xfrm>
                  <a:off x="6494400" y="4437000"/>
                  <a:ext cx="16920" cy="115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7" y="6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68"/>
                <p:cNvSpPr/>
                <p:nvPr/>
              </p:nvSpPr>
              <p:spPr>
                <a:xfrm>
                  <a:off x="6231240" y="4378680"/>
                  <a:ext cx="18000" cy="6984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18" h="72">
                      <a:moveTo>
                        <a:pt x="18" y="72"/>
                      </a:moveTo>
                      <a:lnTo>
                        <a:pt x="18" y="66"/>
                      </a:lnTo>
                      <a:lnTo>
                        <a:pt x="18" y="60"/>
                      </a:lnTo>
                      <a:lnTo>
                        <a:pt x="12" y="60"/>
                      </a:lnTo>
                      <a:lnTo>
                        <a:pt x="12" y="54"/>
                      </a:lnTo>
                      <a:lnTo>
                        <a:pt x="12" y="48"/>
                      </a:lnTo>
                      <a:lnTo>
                        <a:pt x="12" y="42"/>
                      </a:ln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69"/>
                <p:cNvSpPr/>
                <p:nvPr/>
              </p:nvSpPr>
              <p:spPr>
                <a:xfrm>
                  <a:off x="5903280" y="4407840"/>
                  <a:ext cx="41760" cy="4644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42" h="4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30"/>
                      </a:lnTo>
                      <a:lnTo>
                        <a:pt x="0" y="36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18" y="42"/>
                      </a:lnTo>
                      <a:lnTo>
                        <a:pt x="24" y="42"/>
                      </a:lnTo>
                      <a:lnTo>
                        <a:pt x="24" y="48"/>
                      </a:lnTo>
                      <a:lnTo>
                        <a:pt x="30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2" y="42"/>
                      </a:lnTo>
                      <a:lnTo>
                        <a:pt x="42" y="4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370"/>
                <p:cNvSpPr/>
                <p:nvPr/>
              </p:nvSpPr>
              <p:spPr>
                <a:xfrm>
                  <a:off x="6941160" y="4448880"/>
                  <a:ext cx="1080" cy="11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371"/>
                <p:cNvSpPr/>
                <p:nvPr/>
              </p:nvSpPr>
              <p:spPr>
                <a:xfrm>
                  <a:off x="6494400" y="444888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12" y="18"/>
                      </a:move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372"/>
                <p:cNvSpPr/>
                <p:nvPr/>
              </p:nvSpPr>
              <p:spPr>
                <a:xfrm>
                  <a:off x="6040440" y="4425480"/>
                  <a:ext cx="47880" cy="40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48" h="42">
                      <a:moveTo>
                        <a:pt x="0" y="42"/>
                      </a:move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24" y="24"/>
                      </a:lnTo>
                      <a:lnTo>
                        <a:pt x="24" y="30"/>
                      </a:lnTo>
                      <a:lnTo>
                        <a:pt x="30" y="30"/>
                      </a:lnTo>
                      <a:lnTo>
                        <a:pt x="36" y="30"/>
                      </a:lnTo>
                      <a:lnTo>
                        <a:pt x="42" y="30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2" y="24"/>
                      </a:lnTo>
                      <a:lnTo>
                        <a:pt x="42" y="18"/>
                      </a:lnTo>
                      <a:lnTo>
                        <a:pt x="42" y="12"/>
                      </a:lnTo>
                      <a:lnTo>
                        <a:pt x="42" y="6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373"/>
                <p:cNvSpPr/>
                <p:nvPr/>
              </p:nvSpPr>
              <p:spPr>
                <a:xfrm>
                  <a:off x="5479200" y="444888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74"/>
                <p:cNvSpPr/>
                <p:nvPr/>
              </p:nvSpPr>
              <p:spPr>
                <a:xfrm>
                  <a:off x="6762240" y="4442760"/>
                  <a:ext cx="5760" cy="230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6" h="24">
                      <a:moveTo>
                        <a:pt x="6" y="24"/>
                      </a:move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75"/>
                <p:cNvSpPr/>
                <p:nvPr/>
              </p:nvSpPr>
              <p:spPr>
                <a:xfrm>
                  <a:off x="6941160" y="446040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76"/>
                <p:cNvSpPr/>
                <p:nvPr/>
              </p:nvSpPr>
              <p:spPr>
                <a:xfrm>
                  <a:off x="5468400" y="4466160"/>
                  <a:ext cx="10800" cy="115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1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77"/>
                <p:cNvSpPr/>
                <p:nvPr/>
              </p:nvSpPr>
              <p:spPr>
                <a:xfrm>
                  <a:off x="6941160" y="447228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78"/>
                <p:cNvSpPr/>
                <p:nvPr/>
              </p:nvSpPr>
              <p:spPr>
                <a:xfrm>
                  <a:off x="6416280" y="4477680"/>
                  <a:ext cx="29880" cy="57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30" h="6">
                      <a:moveTo>
                        <a:pt x="30" y="0"/>
                      </a:moveTo>
                      <a:lnTo>
                        <a:pt x="24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79"/>
                <p:cNvSpPr/>
                <p:nvPr/>
              </p:nvSpPr>
              <p:spPr>
                <a:xfrm>
                  <a:off x="6947280" y="447768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80"/>
                <p:cNvSpPr/>
                <p:nvPr/>
              </p:nvSpPr>
              <p:spPr>
                <a:xfrm>
                  <a:off x="6756480" y="4466160"/>
                  <a:ext cx="11520" cy="172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81"/>
                <p:cNvSpPr/>
                <p:nvPr/>
              </p:nvSpPr>
              <p:spPr>
                <a:xfrm>
                  <a:off x="6446160" y="4472280"/>
                  <a:ext cx="36000" cy="17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36" y="18"/>
                      </a:move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2"/>
                <p:cNvSpPr/>
                <p:nvPr/>
              </p:nvSpPr>
              <p:spPr>
                <a:xfrm>
                  <a:off x="6022440" y="4466160"/>
                  <a:ext cx="17640" cy="288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0" y="30"/>
                      </a:move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83"/>
                <p:cNvSpPr/>
                <p:nvPr/>
              </p:nvSpPr>
              <p:spPr>
                <a:xfrm>
                  <a:off x="6756480" y="4483800"/>
                  <a:ext cx="720" cy="1116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384"/>
                <p:cNvSpPr/>
                <p:nvPr/>
              </p:nvSpPr>
              <p:spPr>
                <a:xfrm>
                  <a:off x="6500520" y="4466160"/>
                  <a:ext cx="5760" cy="349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6" h="36">
                      <a:moveTo>
                        <a:pt x="0" y="36"/>
                      </a:move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385"/>
                <p:cNvSpPr/>
                <p:nvPr/>
              </p:nvSpPr>
              <p:spPr>
                <a:xfrm>
                  <a:off x="6482160" y="448956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18" y="12"/>
                      </a:move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386"/>
                <p:cNvSpPr/>
                <p:nvPr/>
              </p:nvSpPr>
              <p:spPr>
                <a:xfrm>
                  <a:off x="5450400" y="4477680"/>
                  <a:ext cx="18000" cy="2304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Line 387"/>
                <p:cNvSpPr/>
                <p:nvPr/>
              </p:nvSpPr>
              <p:spPr>
                <a:xfrm flipV="1">
                  <a:off x="6756480" y="4495320"/>
                  <a:ext cx="72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388"/>
                <p:cNvSpPr/>
                <p:nvPr/>
              </p:nvSpPr>
              <p:spPr>
                <a:xfrm>
                  <a:off x="6935400" y="4483800"/>
                  <a:ext cx="17640" cy="288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18" y="0"/>
                      </a:move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389"/>
                <p:cNvSpPr/>
                <p:nvPr/>
              </p:nvSpPr>
              <p:spPr>
                <a:xfrm>
                  <a:off x="6750360" y="450108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390"/>
                <p:cNvSpPr/>
                <p:nvPr/>
              </p:nvSpPr>
              <p:spPr>
                <a:xfrm>
                  <a:off x="6500520" y="450108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12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391"/>
                <p:cNvSpPr/>
                <p:nvPr/>
              </p:nvSpPr>
              <p:spPr>
                <a:xfrm>
                  <a:off x="6935400" y="451296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392"/>
                <p:cNvSpPr/>
                <p:nvPr/>
              </p:nvSpPr>
              <p:spPr>
                <a:xfrm>
                  <a:off x="6506280" y="4512960"/>
                  <a:ext cx="4680" cy="54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5" h="6">
                      <a:moveTo>
                        <a:pt x="5" y="6"/>
                      </a:move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393"/>
                <p:cNvSpPr/>
                <p:nvPr/>
              </p:nvSpPr>
              <p:spPr>
                <a:xfrm>
                  <a:off x="6511320" y="4518720"/>
                  <a:ext cx="17640" cy="10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8" h="1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394"/>
                <p:cNvSpPr/>
                <p:nvPr/>
              </p:nvSpPr>
              <p:spPr>
                <a:xfrm>
                  <a:off x="5414400" y="4495320"/>
                  <a:ext cx="35640" cy="230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6" h="24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395"/>
                <p:cNvSpPr/>
                <p:nvPr/>
              </p:nvSpPr>
              <p:spPr>
                <a:xfrm>
                  <a:off x="6249240" y="4448880"/>
                  <a:ext cx="41760" cy="756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42" h="78">
                      <a:moveTo>
                        <a:pt x="42" y="78"/>
                      </a:moveTo>
                      <a:lnTo>
                        <a:pt x="36" y="78"/>
                      </a:lnTo>
                      <a:lnTo>
                        <a:pt x="30" y="78"/>
                      </a:lnTo>
                      <a:lnTo>
                        <a:pt x="30" y="72"/>
                      </a:lnTo>
                      <a:lnTo>
                        <a:pt x="24" y="72"/>
                      </a:lnTo>
                      <a:lnTo>
                        <a:pt x="24" y="66"/>
                      </a:lnTo>
                      <a:lnTo>
                        <a:pt x="24" y="60"/>
                      </a:lnTo>
                      <a:lnTo>
                        <a:pt x="18" y="60"/>
                      </a:lnTo>
                      <a:lnTo>
                        <a:pt x="18" y="54"/>
                      </a:lnTo>
                      <a:lnTo>
                        <a:pt x="18" y="48"/>
                      </a:lnTo>
                      <a:lnTo>
                        <a:pt x="18" y="42"/>
                      </a:lnTo>
                      <a:lnTo>
                        <a:pt x="18" y="36"/>
                      </a:lnTo>
                      <a:lnTo>
                        <a:pt x="12" y="36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396"/>
                <p:cNvSpPr/>
                <p:nvPr/>
              </p:nvSpPr>
              <p:spPr>
                <a:xfrm>
                  <a:off x="6947280" y="4518720"/>
                  <a:ext cx="72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397"/>
                <p:cNvSpPr/>
                <p:nvPr/>
              </p:nvSpPr>
              <p:spPr>
                <a:xfrm>
                  <a:off x="6022440" y="4495320"/>
                  <a:ext cx="11880" cy="291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2" h="30">
                      <a:moveTo>
                        <a:pt x="12" y="30"/>
                      </a:move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398"/>
                <p:cNvSpPr/>
                <p:nvPr/>
              </p:nvSpPr>
              <p:spPr>
                <a:xfrm>
                  <a:off x="6947280" y="4524480"/>
                  <a:ext cx="72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399"/>
                <p:cNvSpPr/>
                <p:nvPr/>
              </p:nvSpPr>
              <p:spPr>
                <a:xfrm>
                  <a:off x="5390280" y="451872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4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Line 400"/>
                <p:cNvSpPr/>
                <p:nvPr/>
              </p:nvSpPr>
              <p:spPr>
                <a:xfrm>
                  <a:off x="6929280" y="4536360"/>
                  <a:ext cx="1080" cy="46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401"/>
                <p:cNvSpPr/>
                <p:nvPr/>
              </p:nvSpPr>
              <p:spPr>
                <a:xfrm>
                  <a:off x="6929280" y="4530240"/>
                  <a:ext cx="18000" cy="1044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18" h="11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1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402"/>
                <p:cNvSpPr/>
                <p:nvPr/>
              </p:nvSpPr>
              <p:spPr>
                <a:xfrm>
                  <a:off x="5384160" y="4536360"/>
                  <a:ext cx="6120" cy="104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6" h="11">
                      <a:moveTo>
                        <a:pt x="0" y="11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Line 403"/>
                <p:cNvSpPr/>
                <p:nvPr/>
              </p:nvSpPr>
              <p:spPr>
                <a:xfrm>
                  <a:off x="5378400" y="454680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04"/>
                <p:cNvSpPr/>
                <p:nvPr/>
              </p:nvSpPr>
              <p:spPr>
                <a:xfrm>
                  <a:off x="6750360" y="4512960"/>
                  <a:ext cx="11880" cy="338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2" h="35">
                      <a:moveTo>
                        <a:pt x="6" y="35"/>
                      </a:moveTo>
                      <a:lnTo>
                        <a:pt x="6" y="29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405"/>
                <p:cNvSpPr/>
                <p:nvPr/>
              </p:nvSpPr>
              <p:spPr>
                <a:xfrm>
                  <a:off x="6923160" y="454104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406"/>
                <p:cNvSpPr/>
                <p:nvPr/>
              </p:nvSpPr>
              <p:spPr>
                <a:xfrm>
                  <a:off x="6917040" y="454680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07"/>
                <p:cNvSpPr/>
                <p:nvPr/>
              </p:nvSpPr>
              <p:spPr>
                <a:xfrm>
                  <a:off x="6034320" y="4524480"/>
                  <a:ext cx="17640" cy="280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8" h="29">
                      <a:moveTo>
                        <a:pt x="18" y="29"/>
                      </a:moveTo>
                      <a:lnTo>
                        <a:pt x="12" y="29"/>
                      </a:lnTo>
                      <a:lnTo>
                        <a:pt x="12" y="23"/>
                      </a:lnTo>
                      <a:lnTo>
                        <a:pt x="6" y="23"/>
                      </a:lnTo>
                      <a:lnTo>
                        <a:pt x="6" y="17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408"/>
                <p:cNvSpPr/>
                <p:nvPr/>
              </p:nvSpPr>
              <p:spPr>
                <a:xfrm>
                  <a:off x="6917040" y="4552920"/>
                  <a:ext cx="108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409"/>
                <p:cNvSpPr/>
                <p:nvPr/>
              </p:nvSpPr>
              <p:spPr>
                <a:xfrm>
                  <a:off x="6291360" y="4524480"/>
                  <a:ext cx="5760" cy="396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41">
                      <a:moveTo>
                        <a:pt x="6" y="41"/>
                      </a:move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6" y="17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Group 410"/>
              <p:cNvGrpSpPr/>
              <p:nvPr/>
            </p:nvGrpSpPr>
            <p:grpSpPr>
              <a:xfrm>
                <a:off x="5330520" y="4518720"/>
                <a:ext cx="1593000" cy="410760"/>
                <a:chOff x="5330520" y="4518720"/>
                <a:chExt cx="1593000" cy="410760"/>
              </a:xfrm>
            </p:grpSpPr>
            <p:sp>
              <p:nvSpPr>
                <p:cNvPr id="556" name="Freeform 411"/>
                <p:cNvSpPr/>
                <p:nvPr/>
              </p:nvSpPr>
              <p:spPr>
                <a:xfrm>
                  <a:off x="6911280" y="455832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412"/>
                <p:cNvSpPr/>
                <p:nvPr/>
              </p:nvSpPr>
              <p:spPr>
                <a:xfrm>
                  <a:off x="6350400" y="456444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24" y="6"/>
                      </a:move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Line 413"/>
                <p:cNvSpPr/>
                <p:nvPr/>
              </p:nvSpPr>
              <p:spPr>
                <a:xfrm>
                  <a:off x="6154560" y="457596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414"/>
                <p:cNvSpPr/>
                <p:nvPr/>
              </p:nvSpPr>
              <p:spPr>
                <a:xfrm>
                  <a:off x="6374520" y="457020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12" y="12"/>
                      </a:move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415"/>
                <p:cNvSpPr/>
                <p:nvPr/>
              </p:nvSpPr>
              <p:spPr>
                <a:xfrm>
                  <a:off x="6160320" y="4575960"/>
                  <a:ext cx="10800" cy="5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416"/>
                <p:cNvSpPr/>
                <p:nvPr/>
              </p:nvSpPr>
              <p:spPr>
                <a:xfrm>
                  <a:off x="6583680" y="458172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Freeform 417"/>
                <p:cNvSpPr/>
                <p:nvPr/>
              </p:nvSpPr>
              <p:spPr>
                <a:xfrm>
                  <a:off x="6130440" y="4575960"/>
                  <a:ext cx="23760" cy="11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Freeform 418"/>
                <p:cNvSpPr/>
                <p:nvPr/>
              </p:nvSpPr>
              <p:spPr>
                <a:xfrm>
                  <a:off x="6386400" y="458172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12" y="12"/>
                      </a:move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19"/>
                <p:cNvSpPr/>
                <p:nvPr/>
              </p:nvSpPr>
              <p:spPr>
                <a:xfrm>
                  <a:off x="6589440" y="458748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20"/>
                <p:cNvSpPr/>
                <p:nvPr/>
              </p:nvSpPr>
              <p:spPr>
                <a:xfrm>
                  <a:off x="6595560" y="45874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30" y="6"/>
                      </a:move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21"/>
                <p:cNvSpPr/>
                <p:nvPr/>
              </p:nvSpPr>
              <p:spPr>
                <a:xfrm>
                  <a:off x="6529320" y="4518720"/>
                  <a:ext cx="36000" cy="8064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6" h="83">
                      <a:moveTo>
                        <a:pt x="36" y="83"/>
                      </a:moveTo>
                      <a:lnTo>
                        <a:pt x="36" y="77"/>
                      </a:lnTo>
                      <a:lnTo>
                        <a:pt x="36" y="71"/>
                      </a:lnTo>
                      <a:lnTo>
                        <a:pt x="30" y="71"/>
                      </a:lnTo>
                      <a:lnTo>
                        <a:pt x="30" y="65"/>
                      </a:lnTo>
                      <a:lnTo>
                        <a:pt x="24" y="65"/>
                      </a:lnTo>
                      <a:lnTo>
                        <a:pt x="24" y="59"/>
                      </a:lnTo>
                      <a:lnTo>
                        <a:pt x="18" y="59"/>
                      </a:lnTo>
                      <a:lnTo>
                        <a:pt x="18" y="53"/>
                      </a:lnTo>
                      <a:lnTo>
                        <a:pt x="12" y="53"/>
                      </a:lnTo>
                      <a:lnTo>
                        <a:pt x="12" y="47"/>
                      </a:lnTo>
                      <a:lnTo>
                        <a:pt x="6" y="47"/>
                      </a:lnTo>
                      <a:lnTo>
                        <a:pt x="6" y="41"/>
                      </a:lnTo>
                      <a:lnTo>
                        <a:pt x="6" y="35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6" y="23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22"/>
                <p:cNvSpPr/>
                <p:nvPr/>
              </p:nvSpPr>
              <p:spPr>
                <a:xfrm>
                  <a:off x="6297480" y="4564440"/>
                  <a:ext cx="11880" cy="345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12" h="36">
                      <a:moveTo>
                        <a:pt x="12" y="36"/>
                      </a:move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23"/>
                <p:cNvSpPr/>
                <p:nvPr/>
              </p:nvSpPr>
              <p:spPr>
                <a:xfrm>
                  <a:off x="6106320" y="458748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Line 424"/>
                <p:cNvSpPr/>
                <p:nvPr/>
              </p:nvSpPr>
              <p:spPr>
                <a:xfrm flipV="1">
                  <a:off x="6398640" y="4593240"/>
                  <a:ext cx="72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25"/>
                <p:cNvSpPr/>
                <p:nvPr/>
              </p:nvSpPr>
              <p:spPr>
                <a:xfrm>
                  <a:off x="6046560" y="4552560"/>
                  <a:ext cx="11880" cy="522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2" h="54">
                      <a:moveTo>
                        <a:pt x="0" y="54"/>
                      </a:move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2" y="42"/>
                      </a:lnTo>
                      <a:lnTo>
                        <a:pt x="6" y="42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426"/>
                <p:cNvSpPr/>
                <p:nvPr/>
              </p:nvSpPr>
              <p:spPr>
                <a:xfrm>
                  <a:off x="6565320" y="458748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Freeform 427"/>
                <p:cNvSpPr/>
                <p:nvPr/>
              </p:nvSpPr>
              <p:spPr>
                <a:xfrm>
                  <a:off x="6625440" y="459360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6" y="12"/>
                      </a:move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Line 428"/>
                <p:cNvSpPr/>
                <p:nvPr/>
              </p:nvSpPr>
              <p:spPr>
                <a:xfrm flipH="1">
                  <a:off x="6046560" y="460512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429"/>
                <p:cNvSpPr/>
                <p:nvPr/>
              </p:nvSpPr>
              <p:spPr>
                <a:xfrm>
                  <a:off x="6398640" y="459936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12"/>
                      </a:move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430"/>
                <p:cNvSpPr/>
                <p:nvPr/>
              </p:nvSpPr>
              <p:spPr>
                <a:xfrm>
                  <a:off x="6106320" y="4599360"/>
                  <a:ext cx="1080" cy="11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431"/>
                <p:cNvSpPr/>
                <p:nvPr/>
              </p:nvSpPr>
              <p:spPr>
                <a:xfrm>
                  <a:off x="6046560" y="460512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432"/>
                <p:cNvSpPr/>
                <p:nvPr/>
              </p:nvSpPr>
              <p:spPr>
                <a:xfrm>
                  <a:off x="6309360" y="459936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6" y="18"/>
                      </a:move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433"/>
                <p:cNvSpPr/>
                <p:nvPr/>
              </p:nvSpPr>
              <p:spPr>
                <a:xfrm>
                  <a:off x="6100560" y="461088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434"/>
                <p:cNvSpPr/>
                <p:nvPr/>
              </p:nvSpPr>
              <p:spPr>
                <a:xfrm>
                  <a:off x="6696360" y="4546800"/>
                  <a:ext cx="59760" cy="7560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0" h="78">
                      <a:moveTo>
                        <a:pt x="0" y="78"/>
                      </a:moveTo>
                      <a:lnTo>
                        <a:pt x="0" y="72"/>
                      </a:lnTo>
                      <a:lnTo>
                        <a:pt x="0" y="66"/>
                      </a:lnTo>
                      <a:lnTo>
                        <a:pt x="6" y="66"/>
                      </a:ln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2" y="54"/>
                      </a:lnTo>
                      <a:lnTo>
                        <a:pt x="18" y="54"/>
                      </a:lnTo>
                      <a:lnTo>
                        <a:pt x="18" y="48"/>
                      </a:lnTo>
                      <a:lnTo>
                        <a:pt x="18" y="42"/>
                      </a:lnTo>
                      <a:lnTo>
                        <a:pt x="24" y="42"/>
                      </a:lnTo>
                      <a:lnTo>
                        <a:pt x="24" y="36"/>
                      </a:lnTo>
                      <a:lnTo>
                        <a:pt x="30" y="36"/>
                      </a:lnTo>
                      <a:lnTo>
                        <a:pt x="30" y="30"/>
                      </a:lnTo>
                      <a:lnTo>
                        <a:pt x="30" y="24"/>
                      </a:lnTo>
                      <a:lnTo>
                        <a:pt x="36" y="24"/>
                      </a:lnTo>
                      <a:lnTo>
                        <a:pt x="36" y="18"/>
                      </a:lnTo>
                      <a:lnTo>
                        <a:pt x="42" y="18"/>
                      </a:lnTo>
                      <a:lnTo>
                        <a:pt x="42" y="12"/>
                      </a:lnTo>
                      <a:lnTo>
                        <a:pt x="48" y="12"/>
                      </a:lnTo>
                      <a:lnTo>
                        <a:pt x="48" y="6"/>
                      </a:lnTo>
                      <a:lnTo>
                        <a:pt x="54" y="6"/>
                      </a:lnTo>
                      <a:lnTo>
                        <a:pt x="60" y="6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435"/>
                <p:cNvSpPr/>
                <p:nvPr/>
              </p:nvSpPr>
              <p:spPr>
                <a:xfrm>
                  <a:off x="6404400" y="46108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30" y="12"/>
                      </a:move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436"/>
                <p:cNvSpPr/>
                <p:nvPr/>
              </p:nvSpPr>
              <p:spPr>
                <a:xfrm>
                  <a:off x="6088320" y="461700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437"/>
                <p:cNvSpPr/>
                <p:nvPr/>
              </p:nvSpPr>
              <p:spPr>
                <a:xfrm>
                  <a:off x="6684480" y="462240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438"/>
                <p:cNvSpPr/>
                <p:nvPr/>
              </p:nvSpPr>
              <p:spPr>
                <a:xfrm>
                  <a:off x="6631200" y="460512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12" y="24"/>
                      </a:move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439"/>
                <p:cNvSpPr/>
                <p:nvPr/>
              </p:nvSpPr>
              <p:spPr>
                <a:xfrm>
                  <a:off x="5354280" y="4546800"/>
                  <a:ext cx="23760" cy="817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4" h="84">
                      <a:moveTo>
                        <a:pt x="6" y="84"/>
                      </a:moveTo>
                      <a:lnTo>
                        <a:pt x="6" y="78"/>
                      </a:lnTo>
                      <a:lnTo>
                        <a:pt x="6" y="72"/>
                      </a:lnTo>
                      <a:lnTo>
                        <a:pt x="0" y="72"/>
                      </a:lnTo>
                      <a:lnTo>
                        <a:pt x="0" y="66"/>
                      </a:lnTo>
                      <a:lnTo>
                        <a:pt x="6" y="66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440"/>
                <p:cNvSpPr/>
                <p:nvPr/>
              </p:nvSpPr>
              <p:spPr>
                <a:xfrm>
                  <a:off x="6434640" y="4622400"/>
                  <a:ext cx="11520" cy="57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12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441"/>
                <p:cNvSpPr/>
                <p:nvPr/>
              </p:nvSpPr>
              <p:spPr>
                <a:xfrm flipV="1">
                  <a:off x="5360400" y="4628160"/>
                  <a:ext cx="72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442"/>
                <p:cNvSpPr/>
                <p:nvPr/>
              </p:nvSpPr>
              <p:spPr>
                <a:xfrm>
                  <a:off x="6637680" y="462852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443"/>
                <p:cNvSpPr/>
                <p:nvPr/>
              </p:nvSpPr>
              <p:spPr>
                <a:xfrm>
                  <a:off x="6309360" y="461700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444"/>
                <p:cNvSpPr/>
                <p:nvPr/>
              </p:nvSpPr>
              <p:spPr>
                <a:xfrm>
                  <a:off x="6643440" y="462852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445"/>
                <p:cNvSpPr/>
                <p:nvPr/>
              </p:nvSpPr>
              <p:spPr>
                <a:xfrm>
                  <a:off x="6673320" y="4628520"/>
                  <a:ext cx="10800" cy="5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1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446"/>
                <p:cNvSpPr/>
                <p:nvPr/>
              </p:nvSpPr>
              <p:spPr>
                <a:xfrm>
                  <a:off x="6034320" y="4610880"/>
                  <a:ext cx="17640" cy="291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0" y="30"/>
                      </a:move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447"/>
                <p:cNvSpPr/>
                <p:nvPr/>
              </p:nvSpPr>
              <p:spPr>
                <a:xfrm>
                  <a:off x="6661440" y="4634280"/>
                  <a:ext cx="11520" cy="11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448"/>
                <p:cNvSpPr/>
                <p:nvPr/>
              </p:nvSpPr>
              <p:spPr>
                <a:xfrm>
                  <a:off x="6655320" y="463428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449"/>
                <p:cNvSpPr/>
                <p:nvPr/>
              </p:nvSpPr>
              <p:spPr>
                <a:xfrm>
                  <a:off x="6309360" y="4634280"/>
                  <a:ext cx="1080" cy="11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Line 450"/>
                <p:cNvSpPr/>
                <p:nvPr/>
              </p:nvSpPr>
              <p:spPr>
                <a:xfrm flipH="1">
                  <a:off x="6309000" y="4645800"/>
                  <a:ext cx="612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451"/>
                <p:cNvSpPr/>
                <p:nvPr/>
              </p:nvSpPr>
              <p:spPr>
                <a:xfrm>
                  <a:off x="6446160" y="4628520"/>
                  <a:ext cx="42120" cy="17280"/>
                </a:xfrm>
                <a:custGeom>
                  <a:avLst/>
                  <a:gdLst>
                    <a:gd name="textAreaLeft" fmla="*/ 0 w 42120"/>
                    <a:gd name="textAreaRight" fmla="*/ 42120 w 42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42" h="18">
                      <a:moveTo>
                        <a:pt x="42" y="18"/>
                      </a:moveTo>
                      <a:lnTo>
                        <a:pt x="36" y="18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30" y="6"/>
                      </a:lnTo>
                      <a:lnTo>
                        <a:pt x="30" y="12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452"/>
                <p:cNvSpPr/>
                <p:nvPr/>
              </p:nvSpPr>
              <p:spPr>
                <a:xfrm>
                  <a:off x="5360400" y="4634280"/>
                  <a:ext cx="11520" cy="11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12" y="12"/>
                      </a:move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453"/>
                <p:cNvSpPr/>
                <p:nvPr/>
              </p:nvSpPr>
              <p:spPr>
                <a:xfrm>
                  <a:off x="6488640" y="464580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12" y="6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454"/>
                <p:cNvSpPr/>
                <p:nvPr/>
              </p:nvSpPr>
              <p:spPr>
                <a:xfrm>
                  <a:off x="5372280" y="464580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12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455"/>
                <p:cNvSpPr/>
                <p:nvPr/>
              </p:nvSpPr>
              <p:spPr>
                <a:xfrm>
                  <a:off x="6315480" y="4645800"/>
                  <a:ext cx="720" cy="115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Line 456"/>
                <p:cNvSpPr/>
                <p:nvPr/>
              </p:nvSpPr>
              <p:spPr>
                <a:xfrm flipV="1">
                  <a:off x="6315480" y="4657320"/>
                  <a:ext cx="72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457"/>
                <p:cNvSpPr/>
                <p:nvPr/>
              </p:nvSpPr>
              <p:spPr>
                <a:xfrm>
                  <a:off x="6625440" y="4634280"/>
                  <a:ext cx="11880" cy="349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2" h="36">
                      <a:moveTo>
                        <a:pt x="0" y="36"/>
                      </a:move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458"/>
                <p:cNvSpPr/>
                <p:nvPr/>
              </p:nvSpPr>
              <p:spPr>
                <a:xfrm>
                  <a:off x="6500520" y="4651560"/>
                  <a:ext cx="5760" cy="17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Line 459"/>
                <p:cNvSpPr/>
                <p:nvPr/>
              </p:nvSpPr>
              <p:spPr>
                <a:xfrm>
                  <a:off x="6625440" y="466920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460"/>
                <p:cNvSpPr/>
                <p:nvPr/>
              </p:nvSpPr>
              <p:spPr>
                <a:xfrm>
                  <a:off x="6022440" y="4640040"/>
                  <a:ext cx="11880" cy="345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12" h="36">
                      <a:moveTo>
                        <a:pt x="0" y="36"/>
                      </a:move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461"/>
                <p:cNvSpPr/>
                <p:nvPr/>
              </p:nvSpPr>
              <p:spPr>
                <a:xfrm>
                  <a:off x="6500520" y="4663440"/>
                  <a:ext cx="52560" cy="115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53" h="12">
                      <a:moveTo>
                        <a:pt x="53" y="0"/>
                      </a:moveTo>
                      <a:lnTo>
                        <a:pt x="53" y="6"/>
                      </a:lnTo>
                      <a:lnTo>
                        <a:pt x="47" y="6"/>
                      </a:lnTo>
                      <a:lnTo>
                        <a:pt x="47" y="12"/>
                      </a:lnTo>
                      <a:lnTo>
                        <a:pt x="41" y="12"/>
                      </a:lnTo>
                      <a:lnTo>
                        <a:pt x="41" y="6"/>
                      </a:lnTo>
                      <a:lnTo>
                        <a:pt x="35" y="6"/>
                      </a:lnTo>
                      <a:lnTo>
                        <a:pt x="29" y="6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23" y="6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462"/>
                <p:cNvSpPr/>
                <p:nvPr/>
              </p:nvSpPr>
              <p:spPr>
                <a:xfrm>
                  <a:off x="6595560" y="4669200"/>
                  <a:ext cx="29880" cy="5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0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463"/>
                <p:cNvSpPr/>
                <p:nvPr/>
              </p:nvSpPr>
              <p:spPr>
                <a:xfrm>
                  <a:off x="5372280" y="4657680"/>
                  <a:ext cx="6120" cy="23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6" h="24">
                      <a:moveTo>
                        <a:pt x="6" y="24"/>
                      </a:move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464"/>
                <p:cNvSpPr/>
                <p:nvPr/>
              </p:nvSpPr>
              <p:spPr>
                <a:xfrm>
                  <a:off x="6076440" y="4622400"/>
                  <a:ext cx="17640" cy="583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8" h="60">
                      <a:moveTo>
                        <a:pt x="0" y="60"/>
                      </a:moveTo>
                      <a:lnTo>
                        <a:pt x="0" y="54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2" y="42"/>
                      </a:lnTo>
                      <a:lnTo>
                        <a:pt x="18" y="42"/>
                      </a:lnTo>
                      <a:lnTo>
                        <a:pt x="18" y="36"/>
                      </a:lnTo>
                      <a:lnTo>
                        <a:pt x="12" y="36"/>
                      </a:lnTo>
                      <a:lnTo>
                        <a:pt x="12" y="30"/>
                      </a:lnTo>
                      <a:lnTo>
                        <a:pt x="18" y="30"/>
                      </a:lnTo>
                      <a:lnTo>
                        <a:pt x="18" y="24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465"/>
                <p:cNvSpPr/>
                <p:nvPr/>
              </p:nvSpPr>
              <p:spPr>
                <a:xfrm>
                  <a:off x="6631200" y="466920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466"/>
                <p:cNvSpPr/>
                <p:nvPr/>
              </p:nvSpPr>
              <p:spPr>
                <a:xfrm>
                  <a:off x="6637680" y="468108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Line 467"/>
                <p:cNvSpPr/>
                <p:nvPr/>
              </p:nvSpPr>
              <p:spPr>
                <a:xfrm>
                  <a:off x="6649560" y="468684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468"/>
                <p:cNvSpPr/>
                <p:nvPr/>
              </p:nvSpPr>
              <p:spPr>
                <a:xfrm>
                  <a:off x="6004440" y="4669200"/>
                  <a:ext cx="18000" cy="2304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18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469"/>
                <p:cNvSpPr/>
                <p:nvPr/>
              </p:nvSpPr>
              <p:spPr>
                <a:xfrm>
                  <a:off x="6589440" y="467496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70"/>
                <p:cNvSpPr/>
                <p:nvPr/>
              </p:nvSpPr>
              <p:spPr>
                <a:xfrm>
                  <a:off x="6553440" y="4663440"/>
                  <a:ext cx="36000" cy="349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6" h="36">
                      <a:moveTo>
                        <a:pt x="36" y="36"/>
                      </a:moveTo>
                      <a:lnTo>
                        <a:pt x="36" y="30"/>
                      </a:lnTo>
                      <a:lnTo>
                        <a:pt x="30" y="30"/>
                      </a:lnTo>
                      <a:lnTo>
                        <a:pt x="24" y="30"/>
                      </a:lnTo>
                      <a:lnTo>
                        <a:pt x="24" y="24"/>
                      </a:lnTo>
                      <a:lnTo>
                        <a:pt x="24" y="18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71"/>
                <p:cNvSpPr/>
                <p:nvPr/>
              </p:nvSpPr>
              <p:spPr>
                <a:xfrm>
                  <a:off x="6649560" y="468684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72"/>
                <p:cNvSpPr/>
                <p:nvPr/>
              </p:nvSpPr>
              <p:spPr>
                <a:xfrm>
                  <a:off x="6655320" y="469836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73"/>
                <p:cNvSpPr/>
                <p:nvPr/>
              </p:nvSpPr>
              <p:spPr>
                <a:xfrm>
                  <a:off x="6315480" y="4663440"/>
                  <a:ext cx="22680" cy="3492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18" y="36"/>
                      </a:moveTo>
                      <a:lnTo>
                        <a:pt x="23" y="36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Line 474"/>
                <p:cNvSpPr/>
                <p:nvPr/>
              </p:nvSpPr>
              <p:spPr>
                <a:xfrm flipV="1">
                  <a:off x="6333480" y="4698360"/>
                  <a:ext cx="108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Line 475"/>
                <p:cNvSpPr/>
                <p:nvPr/>
              </p:nvSpPr>
              <p:spPr>
                <a:xfrm flipV="1">
                  <a:off x="6589440" y="4698360"/>
                  <a:ext cx="72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76"/>
                <p:cNvSpPr/>
                <p:nvPr/>
              </p:nvSpPr>
              <p:spPr>
                <a:xfrm>
                  <a:off x="5987160" y="4692600"/>
                  <a:ext cx="23040" cy="1728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3" h="18">
                      <a:moveTo>
                        <a:pt x="0" y="18"/>
                      </a:move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11" y="18"/>
                      </a:lnTo>
                      <a:lnTo>
                        <a:pt x="11" y="12"/>
                      </a:lnTo>
                      <a:lnTo>
                        <a:pt x="17" y="12"/>
                      </a:lnTo>
                      <a:lnTo>
                        <a:pt x="23" y="12"/>
                      </a:lnTo>
                      <a:lnTo>
                        <a:pt x="23" y="6"/>
                      </a:lnTo>
                      <a:lnTo>
                        <a:pt x="23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477"/>
                <p:cNvSpPr/>
                <p:nvPr/>
              </p:nvSpPr>
              <p:spPr>
                <a:xfrm>
                  <a:off x="6333480" y="4704480"/>
                  <a:ext cx="4680" cy="54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5" h="6">
                      <a:moveTo>
                        <a:pt x="5" y="6"/>
                      </a:move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478"/>
                <p:cNvSpPr/>
                <p:nvPr/>
              </p:nvSpPr>
              <p:spPr>
                <a:xfrm>
                  <a:off x="6667560" y="4698360"/>
                  <a:ext cx="5760" cy="17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479"/>
                <p:cNvSpPr/>
                <p:nvPr/>
              </p:nvSpPr>
              <p:spPr>
                <a:xfrm>
                  <a:off x="6052320" y="4716000"/>
                  <a:ext cx="6120" cy="46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480"/>
                <p:cNvSpPr/>
                <p:nvPr/>
              </p:nvSpPr>
              <p:spPr>
                <a:xfrm>
                  <a:off x="6076440" y="4681080"/>
                  <a:ext cx="5760" cy="396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41">
                      <a:moveTo>
                        <a:pt x="0" y="41"/>
                      </a:move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481"/>
                <p:cNvSpPr/>
                <p:nvPr/>
              </p:nvSpPr>
              <p:spPr>
                <a:xfrm>
                  <a:off x="6058440" y="4716000"/>
                  <a:ext cx="17640" cy="4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8" h="5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5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482"/>
                <p:cNvSpPr/>
                <p:nvPr/>
              </p:nvSpPr>
              <p:spPr>
                <a:xfrm>
                  <a:off x="6338520" y="4710240"/>
                  <a:ext cx="11880" cy="104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12" h="11">
                      <a:moveTo>
                        <a:pt x="12" y="11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Freeform 483"/>
                <p:cNvSpPr/>
                <p:nvPr/>
              </p:nvSpPr>
              <p:spPr>
                <a:xfrm>
                  <a:off x="6589440" y="4704480"/>
                  <a:ext cx="6120" cy="162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" h="17">
                      <a:moveTo>
                        <a:pt x="6" y="17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Freeform 484"/>
                <p:cNvSpPr/>
                <p:nvPr/>
              </p:nvSpPr>
              <p:spPr>
                <a:xfrm>
                  <a:off x="5372280" y="4681080"/>
                  <a:ext cx="6120" cy="396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41">
                      <a:moveTo>
                        <a:pt x="6" y="41"/>
                      </a:move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485"/>
                <p:cNvSpPr/>
                <p:nvPr/>
              </p:nvSpPr>
              <p:spPr>
                <a:xfrm>
                  <a:off x="5855400" y="4716000"/>
                  <a:ext cx="29880" cy="104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30" h="11">
                      <a:moveTo>
                        <a:pt x="30" y="11"/>
                      </a:moveTo>
                      <a:lnTo>
                        <a:pt x="30" y="5"/>
                      </a:lnTo>
                      <a:lnTo>
                        <a:pt x="24" y="5"/>
                      </a:lnTo>
                      <a:lnTo>
                        <a:pt x="18" y="5"/>
                      </a:lnTo>
                      <a:lnTo>
                        <a:pt x="18" y="0"/>
                      </a:lnTo>
                      <a:lnTo>
                        <a:pt x="18" y="5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486"/>
                <p:cNvSpPr/>
                <p:nvPr/>
              </p:nvSpPr>
              <p:spPr>
                <a:xfrm>
                  <a:off x="6667560" y="4716000"/>
                  <a:ext cx="5760" cy="104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6" h="11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487"/>
                <p:cNvSpPr/>
                <p:nvPr/>
              </p:nvSpPr>
              <p:spPr>
                <a:xfrm>
                  <a:off x="6350400" y="472104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Freeform 488"/>
                <p:cNvSpPr/>
                <p:nvPr/>
              </p:nvSpPr>
              <p:spPr>
                <a:xfrm>
                  <a:off x="6577560" y="4721040"/>
                  <a:ext cx="18000" cy="5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489"/>
                <p:cNvSpPr/>
                <p:nvPr/>
              </p:nvSpPr>
              <p:spPr>
                <a:xfrm>
                  <a:off x="5378400" y="4721040"/>
                  <a:ext cx="720" cy="1116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Line 490"/>
                <p:cNvSpPr/>
                <p:nvPr/>
              </p:nvSpPr>
              <p:spPr>
                <a:xfrm>
                  <a:off x="6774480" y="473220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491"/>
                <p:cNvSpPr/>
                <p:nvPr/>
              </p:nvSpPr>
              <p:spPr>
                <a:xfrm>
                  <a:off x="6780240" y="4732200"/>
                  <a:ext cx="29880" cy="57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30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492"/>
                <p:cNvSpPr/>
                <p:nvPr/>
              </p:nvSpPr>
              <p:spPr>
                <a:xfrm>
                  <a:off x="5885640" y="472644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18" y="12"/>
                      </a:move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493"/>
                <p:cNvSpPr/>
                <p:nvPr/>
              </p:nvSpPr>
              <p:spPr>
                <a:xfrm>
                  <a:off x="6350400" y="472644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494"/>
                <p:cNvSpPr/>
                <p:nvPr/>
              </p:nvSpPr>
              <p:spPr>
                <a:xfrm>
                  <a:off x="5975640" y="4710240"/>
                  <a:ext cx="11520" cy="280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2" h="29">
                      <a:moveTo>
                        <a:pt x="0" y="29"/>
                      </a:moveTo>
                      <a:lnTo>
                        <a:pt x="0" y="23"/>
                      </a:lnTo>
                      <a:lnTo>
                        <a:pt x="6" y="23"/>
                      </a:lnTo>
                      <a:lnTo>
                        <a:pt x="6" y="17"/>
                      </a:lnTo>
                      <a:lnTo>
                        <a:pt x="12" y="17"/>
                      </a:lnTo>
                      <a:lnTo>
                        <a:pt x="12" y="11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Freeform 495"/>
                <p:cNvSpPr/>
                <p:nvPr/>
              </p:nvSpPr>
              <p:spPr>
                <a:xfrm>
                  <a:off x="6762600" y="473220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Freeform 496"/>
                <p:cNvSpPr/>
                <p:nvPr/>
              </p:nvSpPr>
              <p:spPr>
                <a:xfrm>
                  <a:off x="6673320" y="4726440"/>
                  <a:ext cx="16920" cy="172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12"/>
                      </a:lnTo>
                      <a:lnTo>
                        <a:pt x="11" y="6"/>
                      </a:lnTo>
                      <a:lnTo>
                        <a:pt x="11" y="12"/>
                      </a:lnTo>
                      <a:lnTo>
                        <a:pt x="11" y="18"/>
                      </a:lnTo>
                      <a:lnTo>
                        <a:pt x="11" y="12"/>
                      </a:lnTo>
                      <a:lnTo>
                        <a:pt x="11" y="18"/>
                      </a:lnTo>
                      <a:lnTo>
                        <a:pt x="17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497"/>
                <p:cNvSpPr/>
                <p:nvPr/>
              </p:nvSpPr>
              <p:spPr>
                <a:xfrm>
                  <a:off x="6696360" y="473220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24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498"/>
                <p:cNvSpPr/>
                <p:nvPr/>
              </p:nvSpPr>
              <p:spPr>
                <a:xfrm>
                  <a:off x="6690240" y="473832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499"/>
                <p:cNvSpPr/>
                <p:nvPr/>
              </p:nvSpPr>
              <p:spPr>
                <a:xfrm>
                  <a:off x="6810480" y="473832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24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Freeform 500"/>
                <p:cNvSpPr/>
                <p:nvPr/>
              </p:nvSpPr>
              <p:spPr>
                <a:xfrm>
                  <a:off x="6750360" y="473832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501"/>
                <p:cNvSpPr/>
                <p:nvPr/>
              </p:nvSpPr>
              <p:spPr>
                <a:xfrm>
                  <a:off x="6720480" y="4738320"/>
                  <a:ext cx="29880" cy="172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0" h="1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24" y="18"/>
                      </a:lnTo>
                      <a:lnTo>
                        <a:pt x="30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502"/>
                <p:cNvSpPr/>
                <p:nvPr/>
              </p:nvSpPr>
              <p:spPr>
                <a:xfrm>
                  <a:off x="6529320" y="474408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503"/>
                <p:cNvSpPr/>
                <p:nvPr/>
              </p:nvSpPr>
              <p:spPr>
                <a:xfrm>
                  <a:off x="6577560" y="4726440"/>
                  <a:ext cx="18000" cy="349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8" h="36">
                      <a:moveTo>
                        <a:pt x="18" y="36"/>
                      </a:move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504"/>
                <p:cNvSpPr/>
                <p:nvPr/>
              </p:nvSpPr>
              <p:spPr>
                <a:xfrm>
                  <a:off x="6327360" y="4738320"/>
                  <a:ext cx="22680" cy="230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3" h="24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1" y="12"/>
                      </a:lnTo>
                      <a:lnTo>
                        <a:pt x="11" y="6"/>
                      </a:lnTo>
                      <a:lnTo>
                        <a:pt x="17" y="6"/>
                      </a:ln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23" y="6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505"/>
                <p:cNvSpPr/>
                <p:nvPr/>
              </p:nvSpPr>
              <p:spPr>
                <a:xfrm>
                  <a:off x="6321240" y="4761720"/>
                  <a:ext cx="612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Freeform 506"/>
                <p:cNvSpPr/>
                <p:nvPr/>
              </p:nvSpPr>
              <p:spPr>
                <a:xfrm>
                  <a:off x="5372280" y="4732200"/>
                  <a:ext cx="6120" cy="349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6" h="36">
                      <a:moveTo>
                        <a:pt x="0" y="36"/>
                      </a:move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507"/>
                <p:cNvSpPr/>
                <p:nvPr/>
              </p:nvSpPr>
              <p:spPr>
                <a:xfrm>
                  <a:off x="5957280" y="4738320"/>
                  <a:ext cx="18000" cy="349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8" h="36">
                      <a:moveTo>
                        <a:pt x="6" y="36"/>
                      </a:moveTo>
                      <a:lnTo>
                        <a:pt x="6" y="30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508"/>
                <p:cNvSpPr/>
                <p:nvPr/>
              </p:nvSpPr>
              <p:spPr>
                <a:xfrm>
                  <a:off x="6887520" y="4749840"/>
                  <a:ext cx="36000" cy="2304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6" h="24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30" y="24"/>
                      </a:lnTo>
                      <a:lnTo>
                        <a:pt x="36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509"/>
                <p:cNvSpPr/>
                <p:nvPr/>
              </p:nvSpPr>
              <p:spPr>
                <a:xfrm>
                  <a:off x="6315480" y="476172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Freeform 510"/>
                <p:cNvSpPr/>
                <p:nvPr/>
              </p:nvSpPr>
              <p:spPr>
                <a:xfrm>
                  <a:off x="6881400" y="476748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Freeform 511"/>
                <p:cNvSpPr/>
                <p:nvPr/>
              </p:nvSpPr>
              <p:spPr>
                <a:xfrm>
                  <a:off x="6834240" y="4749840"/>
                  <a:ext cx="47160" cy="2880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47" h="3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23" y="12"/>
                      </a:lnTo>
                      <a:lnTo>
                        <a:pt x="18" y="12"/>
                      </a:lnTo>
                      <a:lnTo>
                        <a:pt x="23" y="12"/>
                      </a:lnTo>
                      <a:lnTo>
                        <a:pt x="23" y="18"/>
                      </a:lnTo>
                      <a:lnTo>
                        <a:pt x="29" y="18"/>
                      </a:lnTo>
                      <a:lnTo>
                        <a:pt x="29" y="24"/>
                      </a:lnTo>
                      <a:lnTo>
                        <a:pt x="35" y="24"/>
                      </a:lnTo>
                      <a:lnTo>
                        <a:pt x="35" y="30"/>
                      </a:lnTo>
                      <a:lnTo>
                        <a:pt x="41" y="30"/>
                      </a:lnTo>
                      <a:lnTo>
                        <a:pt x="41" y="24"/>
                      </a:lnTo>
                      <a:lnTo>
                        <a:pt x="47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512"/>
                <p:cNvSpPr/>
                <p:nvPr/>
              </p:nvSpPr>
              <p:spPr>
                <a:xfrm>
                  <a:off x="6040440" y="4721040"/>
                  <a:ext cx="11880" cy="579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12" h="60">
                      <a:moveTo>
                        <a:pt x="6" y="60"/>
                      </a:move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2" y="42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513"/>
                <p:cNvSpPr/>
                <p:nvPr/>
              </p:nvSpPr>
              <p:spPr>
                <a:xfrm>
                  <a:off x="5903280" y="4738320"/>
                  <a:ext cx="36000" cy="406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36" h="42">
                      <a:moveTo>
                        <a:pt x="36" y="42"/>
                      </a:moveTo>
                      <a:lnTo>
                        <a:pt x="36" y="36"/>
                      </a:lnTo>
                      <a:lnTo>
                        <a:pt x="36" y="30"/>
                      </a:lnTo>
                      <a:lnTo>
                        <a:pt x="30" y="24"/>
                      </a:lnTo>
                      <a:lnTo>
                        <a:pt x="30" y="18"/>
                      </a:lnTo>
                      <a:lnTo>
                        <a:pt x="24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514"/>
                <p:cNvSpPr/>
                <p:nvPr/>
              </p:nvSpPr>
              <p:spPr>
                <a:xfrm>
                  <a:off x="6577560" y="476172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Freeform 515"/>
                <p:cNvSpPr/>
                <p:nvPr/>
              </p:nvSpPr>
              <p:spPr>
                <a:xfrm>
                  <a:off x="6315480" y="477324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Freeform 516"/>
                <p:cNvSpPr/>
                <p:nvPr/>
              </p:nvSpPr>
              <p:spPr>
                <a:xfrm>
                  <a:off x="5360400" y="4767480"/>
                  <a:ext cx="11520" cy="172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Freeform 517"/>
                <p:cNvSpPr/>
                <p:nvPr/>
              </p:nvSpPr>
              <p:spPr>
                <a:xfrm>
                  <a:off x="6517440" y="4761720"/>
                  <a:ext cx="11520" cy="230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Freeform 518"/>
                <p:cNvSpPr/>
                <p:nvPr/>
              </p:nvSpPr>
              <p:spPr>
                <a:xfrm>
                  <a:off x="6571440" y="477900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Freeform 519"/>
                <p:cNvSpPr/>
                <p:nvPr/>
              </p:nvSpPr>
              <p:spPr>
                <a:xfrm>
                  <a:off x="6547320" y="4755600"/>
                  <a:ext cx="23760" cy="291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24" h="3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2" y="24"/>
                      </a:lnTo>
                      <a:lnTo>
                        <a:pt x="12" y="30"/>
                      </a:lnTo>
                      <a:lnTo>
                        <a:pt x="18" y="30"/>
                      </a:lnTo>
                      <a:lnTo>
                        <a:pt x="24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Line 520"/>
                <p:cNvSpPr/>
                <p:nvPr/>
              </p:nvSpPr>
              <p:spPr>
                <a:xfrm flipH="1" flipV="1">
                  <a:off x="5939640" y="4779000"/>
                  <a:ext cx="576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Freeform 521"/>
                <p:cNvSpPr/>
                <p:nvPr/>
              </p:nvSpPr>
              <p:spPr>
                <a:xfrm>
                  <a:off x="5945400" y="477324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Line 522"/>
                <p:cNvSpPr/>
                <p:nvPr/>
              </p:nvSpPr>
              <p:spPr>
                <a:xfrm flipV="1">
                  <a:off x="6517440" y="4784760"/>
                  <a:ext cx="72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Freeform 523"/>
                <p:cNvSpPr/>
                <p:nvPr/>
              </p:nvSpPr>
              <p:spPr>
                <a:xfrm>
                  <a:off x="6321240" y="4779000"/>
                  <a:ext cx="1080" cy="172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Freeform 524"/>
                <p:cNvSpPr/>
                <p:nvPr/>
              </p:nvSpPr>
              <p:spPr>
                <a:xfrm>
                  <a:off x="5342400" y="478512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525"/>
                <p:cNvSpPr/>
                <p:nvPr/>
              </p:nvSpPr>
              <p:spPr>
                <a:xfrm>
                  <a:off x="5998320" y="479664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526"/>
                <p:cNvSpPr/>
                <p:nvPr/>
              </p:nvSpPr>
              <p:spPr>
                <a:xfrm>
                  <a:off x="5939640" y="4785120"/>
                  <a:ext cx="5760" cy="17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Freeform 527"/>
                <p:cNvSpPr/>
                <p:nvPr/>
              </p:nvSpPr>
              <p:spPr>
                <a:xfrm>
                  <a:off x="6022440" y="477900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Freeform 528"/>
                <p:cNvSpPr/>
                <p:nvPr/>
              </p:nvSpPr>
              <p:spPr>
                <a:xfrm>
                  <a:off x="6004440" y="479088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529"/>
                <p:cNvSpPr/>
                <p:nvPr/>
              </p:nvSpPr>
              <p:spPr>
                <a:xfrm>
                  <a:off x="6517440" y="4790880"/>
                  <a:ext cx="720" cy="115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530"/>
                <p:cNvSpPr/>
                <p:nvPr/>
              </p:nvSpPr>
              <p:spPr>
                <a:xfrm>
                  <a:off x="6321240" y="4796640"/>
                  <a:ext cx="6120" cy="111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12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531"/>
                <p:cNvSpPr/>
                <p:nvPr/>
              </p:nvSpPr>
              <p:spPr>
                <a:xfrm>
                  <a:off x="5939640" y="4790880"/>
                  <a:ext cx="58680" cy="1728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59" h="18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12"/>
                      </a:lnTo>
                      <a:lnTo>
                        <a:pt x="36" y="12"/>
                      </a:lnTo>
                      <a:lnTo>
                        <a:pt x="42" y="12"/>
                      </a:lnTo>
                      <a:lnTo>
                        <a:pt x="42" y="18"/>
                      </a:lnTo>
                      <a:lnTo>
                        <a:pt x="48" y="18"/>
                      </a:lnTo>
                      <a:lnTo>
                        <a:pt x="48" y="12"/>
                      </a:lnTo>
                      <a:lnTo>
                        <a:pt x="54" y="12"/>
                      </a:lnTo>
                      <a:lnTo>
                        <a:pt x="54" y="6"/>
                      </a:lnTo>
                      <a:lnTo>
                        <a:pt x="59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532"/>
                <p:cNvSpPr/>
                <p:nvPr/>
              </p:nvSpPr>
              <p:spPr>
                <a:xfrm flipH="1">
                  <a:off x="6327360" y="480816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Freeform 533"/>
                <p:cNvSpPr/>
                <p:nvPr/>
              </p:nvSpPr>
              <p:spPr>
                <a:xfrm>
                  <a:off x="5927400" y="480240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534"/>
                <p:cNvSpPr/>
                <p:nvPr/>
              </p:nvSpPr>
              <p:spPr>
                <a:xfrm>
                  <a:off x="6506280" y="4802400"/>
                  <a:ext cx="10800" cy="115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1" h="12">
                      <a:moveTo>
                        <a:pt x="0" y="12"/>
                      </a:moveTo>
                      <a:lnTo>
                        <a:pt x="5" y="12"/>
                      </a:lnTo>
                      <a:lnTo>
                        <a:pt x="5" y="6"/>
                      </a:lnTo>
                      <a:lnTo>
                        <a:pt x="11" y="6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535"/>
                <p:cNvSpPr/>
                <p:nvPr/>
              </p:nvSpPr>
              <p:spPr>
                <a:xfrm>
                  <a:off x="6517440" y="4802400"/>
                  <a:ext cx="35640" cy="1152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6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Line 536"/>
                <p:cNvSpPr/>
                <p:nvPr/>
              </p:nvSpPr>
              <p:spPr>
                <a:xfrm flipV="1">
                  <a:off x="5927400" y="4813560"/>
                  <a:ext cx="72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Freeform 537"/>
                <p:cNvSpPr/>
                <p:nvPr/>
              </p:nvSpPr>
              <p:spPr>
                <a:xfrm>
                  <a:off x="6553440" y="481392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Freeform 538"/>
                <p:cNvSpPr/>
                <p:nvPr/>
              </p:nvSpPr>
              <p:spPr>
                <a:xfrm>
                  <a:off x="6327360" y="480816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1" h="18">
                      <a:moveTo>
                        <a:pt x="11" y="18"/>
                      </a:move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539"/>
                <p:cNvSpPr/>
                <p:nvPr/>
              </p:nvSpPr>
              <p:spPr>
                <a:xfrm flipV="1">
                  <a:off x="5927400" y="4819680"/>
                  <a:ext cx="72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540"/>
                <p:cNvSpPr/>
                <p:nvPr/>
              </p:nvSpPr>
              <p:spPr>
                <a:xfrm>
                  <a:off x="6022440" y="480240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30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541"/>
                <p:cNvSpPr/>
                <p:nvPr/>
              </p:nvSpPr>
              <p:spPr>
                <a:xfrm>
                  <a:off x="6333480" y="4825800"/>
                  <a:ext cx="468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542"/>
                <p:cNvSpPr/>
                <p:nvPr/>
              </p:nvSpPr>
              <p:spPr>
                <a:xfrm>
                  <a:off x="6052320" y="482580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Freeform 543"/>
                <p:cNvSpPr/>
                <p:nvPr/>
              </p:nvSpPr>
              <p:spPr>
                <a:xfrm>
                  <a:off x="6506280" y="4813920"/>
                  <a:ext cx="4680" cy="1728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5" h="18">
                      <a:moveTo>
                        <a:pt x="5" y="18"/>
                      </a:move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544"/>
                <p:cNvSpPr/>
                <p:nvPr/>
              </p:nvSpPr>
              <p:spPr>
                <a:xfrm>
                  <a:off x="6559560" y="4819680"/>
                  <a:ext cx="5760" cy="230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6" h="2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Freeform 545"/>
                <p:cNvSpPr/>
                <p:nvPr/>
              </p:nvSpPr>
              <p:spPr>
                <a:xfrm>
                  <a:off x="5336640" y="4796640"/>
                  <a:ext cx="11880" cy="464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" h="48">
                      <a:moveTo>
                        <a:pt x="0" y="48"/>
                      </a:move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12" y="36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546"/>
                <p:cNvSpPr/>
                <p:nvPr/>
              </p:nvSpPr>
              <p:spPr>
                <a:xfrm>
                  <a:off x="6333480" y="4825800"/>
                  <a:ext cx="4680" cy="1728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5" h="18">
                      <a:moveTo>
                        <a:pt x="5" y="18"/>
                      </a:move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547"/>
                <p:cNvSpPr/>
                <p:nvPr/>
              </p:nvSpPr>
              <p:spPr>
                <a:xfrm>
                  <a:off x="6058440" y="4831560"/>
                  <a:ext cx="11520" cy="11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548"/>
                <p:cNvSpPr/>
                <p:nvPr/>
              </p:nvSpPr>
              <p:spPr>
                <a:xfrm>
                  <a:off x="6350400" y="484308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549"/>
                <p:cNvSpPr/>
                <p:nvPr/>
              </p:nvSpPr>
              <p:spPr>
                <a:xfrm>
                  <a:off x="6362280" y="484308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Freeform 550"/>
                <p:cNvSpPr/>
                <p:nvPr/>
              </p:nvSpPr>
              <p:spPr>
                <a:xfrm>
                  <a:off x="5927400" y="4825800"/>
                  <a:ext cx="11880" cy="288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2" h="30">
                      <a:moveTo>
                        <a:pt x="6" y="30"/>
                      </a:move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551"/>
                <p:cNvSpPr/>
                <p:nvPr/>
              </p:nvSpPr>
              <p:spPr>
                <a:xfrm>
                  <a:off x="6338520" y="4843080"/>
                  <a:ext cx="1080" cy="11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552"/>
                <p:cNvSpPr/>
                <p:nvPr/>
              </p:nvSpPr>
              <p:spPr>
                <a:xfrm>
                  <a:off x="6338520" y="485496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553"/>
                <p:cNvSpPr/>
                <p:nvPr/>
              </p:nvSpPr>
              <p:spPr>
                <a:xfrm>
                  <a:off x="6511320" y="483156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12" y="24"/>
                      </a:move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Freeform 554"/>
                <p:cNvSpPr/>
                <p:nvPr/>
              </p:nvSpPr>
              <p:spPr>
                <a:xfrm>
                  <a:off x="5933520" y="4854960"/>
                  <a:ext cx="18000" cy="5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18" y="6"/>
                      </a:move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Freeform 555"/>
                <p:cNvSpPr/>
                <p:nvPr/>
              </p:nvSpPr>
              <p:spPr>
                <a:xfrm>
                  <a:off x="6004440" y="4796640"/>
                  <a:ext cx="23760" cy="640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24" h="6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12" y="36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24" y="36"/>
                      </a:lnTo>
                      <a:lnTo>
                        <a:pt x="18" y="36"/>
                      </a:lnTo>
                      <a:lnTo>
                        <a:pt x="18" y="42"/>
                      </a:lnTo>
                      <a:lnTo>
                        <a:pt x="18" y="48"/>
                      </a:lnTo>
                      <a:lnTo>
                        <a:pt x="18" y="54"/>
                      </a:lnTo>
                      <a:lnTo>
                        <a:pt x="24" y="54"/>
                      </a:lnTo>
                      <a:lnTo>
                        <a:pt x="24" y="60"/>
                      </a:lnTo>
                      <a:lnTo>
                        <a:pt x="18" y="60"/>
                      </a:lnTo>
                      <a:lnTo>
                        <a:pt x="18" y="66"/>
                      </a:lnTo>
                      <a:lnTo>
                        <a:pt x="24" y="66"/>
                      </a:lnTo>
                      <a:lnTo>
                        <a:pt x="18" y="6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556"/>
                <p:cNvSpPr/>
                <p:nvPr/>
              </p:nvSpPr>
              <p:spPr>
                <a:xfrm>
                  <a:off x="5330520" y="484308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12" y="18"/>
                      </a:move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557"/>
                <p:cNvSpPr/>
                <p:nvPr/>
              </p:nvSpPr>
              <p:spPr>
                <a:xfrm>
                  <a:off x="6333480" y="4854960"/>
                  <a:ext cx="4680" cy="1152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5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558"/>
                <p:cNvSpPr/>
                <p:nvPr/>
              </p:nvSpPr>
              <p:spPr>
                <a:xfrm>
                  <a:off x="6523560" y="4854960"/>
                  <a:ext cx="720" cy="115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559"/>
                <p:cNvSpPr/>
                <p:nvPr/>
              </p:nvSpPr>
              <p:spPr>
                <a:xfrm>
                  <a:off x="6130440" y="486648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Freeform 560"/>
                <p:cNvSpPr/>
                <p:nvPr/>
              </p:nvSpPr>
              <p:spPr>
                <a:xfrm>
                  <a:off x="5951520" y="4860720"/>
                  <a:ext cx="5760" cy="111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561"/>
                <p:cNvSpPr/>
                <p:nvPr/>
              </p:nvSpPr>
              <p:spPr>
                <a:xfrm>
                  <a:off x="6327360" y="48664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562"/>
                <p:cNvSpPr/>
                <p:nvPr/>
              </p:nvSpPr>
              <p:spPr>
                <a:xfrm>
                  <a:off x="6136200" y="486648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Freeform 563"/>
                <p:cNvSpPr/>
                <p:nvPr/>
              </p:nvSpPr>
              <p:spPr>
                <a:xfrm>
                  <a:off x="6517440" y="48664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Freeform 564"/>
                <p:cNvSpPr/>
                <p:nvPr/>
              </p:nvSpPr>
              <p:spPr>
                <a:xfrm>
                  <a:off x="6142320" y="487224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Freeform 565"/>
                <p:cNvSpPr/>
                <p:nvPr/>
              </p:nvSpPr>
              <p:spPr>
                <a:xfrm>
                  <a:off x="6070320" y="4843080"/>
                  <a:ext cx="29880" cy="288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0" h="30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2" y="30"/>
                      </a:ln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Line 566"/>
                <p:cNvSpPr/>
                <p:nvPr/>
              </p:nvSpPr>
              <p:spPr>
                <a:xfrm>
                  <a:off x="6100560" y="487224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567"/>
                <p:cNvSpPr/>
                <p:nvPr/>
              </p:nvSpPr>
              <p:spPr>
                <a:xfrm>
                  <a:off x="6022440" y="4860720"/>
                  <a:ext cx="11880" cy="111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568"/>
                <p:cNvSpPr/>
                <p:nvPr/>
              </p:nvSpPr>
              <p:spPr>
                <a:xfrm>
                  <a:off x="6559560" y="4843080"/>
                  <a:ext cx="11880" cy="288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2" h="30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12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Freeform 569"/>
                <p:cNvSpPr/>
                <p:nvPr/>
              </p:nvSpPr>
              <p:spPr>
                <a:xfrm>
                  <a:off x="6106320" y="4866480"/>
                  <a:ext cx="23760" cy="54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4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Freeform 570"/>
                <p:cNvSpPr/>
                <p:nvPr/>
              </p:nvSpPr>
              <p:spPr>
                <a:xfrm>
                  <a:off x="6154560" y="487224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Freeform 571"/>
                <p:cNvSpPr/>
                <p:nvPr/>
              </p:nvSpPr>
              <p:spPr>
                <a:xfrm>
                  <a:off x="6315480" y="487224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572"/>
                <p:cNvSpPr/>
                <p:nvPr/>
              </p:nvSpPr>
              <p:spPr>
                <a:xfrm>
                  <a:off x="6160320" y="4878360"/>
                  <a:ext cx="108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Freeform 573"/>
                <p:cNvSpPr/>
                <p:nvPr/>
              </p:nvSpPr>
              <p:spPr>
                <a:xfrm>
                  <a:off x="6368400" y="4854960"/>
                  <a:ext cx="5760" cy="288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6" h="30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574"/>
                <p:cNvSpPr/>
                <p:nvPr/>
              </p:nvSpPr>
              <p:spPr>
                <a:xfrm>
                  <a:off x="6160320" y="4884120"/>
                  <a:ext cx="612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Freeform 575"/>
                <p:cNvSpPr/>
                <p:nvPr/>
              </p:nvSpPr>
              <p:spPr>
                <a:xfrm>
                  <a:off x="6166440" y="4884120"/>
                  <a:ext cx="4680" cy="57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5" h="6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Freeform 576"/>
                <p:cNvSpPr/>
                <p:nvPr/>
              </p:nvSpPr>
              <p:spPr>
                <a:xfrm>
                  <a:off x="6243480" y="4884120"/>
                  <a:ext cx="23760" cy="57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4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Freeform 577"/>
                <p:cNvSpPr/>
                <p:nvPr/>
              </p:nvSpPr>
              <p:spPr>
                <a:xfrm>
                  <a:off x="6571440" y="4872240"/>
                  <a:ext cx="29880" cy="172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0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Freeform 578"/>
                <p:cNvSpPr/>
                <p:nvPr/>
              </p:nvSpPr>
              <p:spPr>
                <a:xfrm>
                  <a:off x="6309360" y="487836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579"/>
                <p:cNvSpPr/>
                <p:nvPr/>
              </p:nvSpPr>
              <p:spPr>
                <a:xfrm>
                  <a:off x="6374520" y="4884120"/>
                  <a:ext cx="576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Freeform 580"/>
                <p:cNvSpPr/>
                <p:nvPr/>
              </p:nvSpPr>
              <p:spPr>
                <a:xfrm>
                  <a:off x="6291360" y="4889880"/>
                  <a:ext cx="17640" cy="4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8" h="5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Freeform 581"/>
                <p:cNvSpPr/>
                <p:nvPr/>
              </p:nvSpPr>
              <p:spPr>
                <a:xfrm>
                  <a:off x="6034320" y="4872240"/>
                  <a:ext cx="23760" cy="223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4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24" y="18"/>
                      </a:lnTo>
                      <a:lnTo>
                        <a:pt x="18" y="18"/>
                      </a:lnTo>
                      <a:lnTo>
                        <a:pt x="18" y="23"/>
                      </a:lnTo>
                      <a:lnTo>
                        <a:pt x="24" y="23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Freeform 582"/>
                <p:cNvSpPr/>
                <p:nvPr/>
              </p:nvSpPr>
              <p:spPr>
                <a:xfrm>
                  <a:off x="6267240" y="4889880"/>
                  <a:ext cx="11880" cy="4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2" h="5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5"/>
                      </a:lnTo>
                      <a:lnTo>
                        <a:pt x="12" y="5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Freeform 583"/>
                <p:cNvSpPr/>
                <p:nvPr/>
              </p:nvSpPr>
              <p:spPr>
                <a:xfrm>
                  <a:off x="5921280" y="487224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30" h="23">
                      <a:moveTo>
                        <a:pt x="0" y="23"/>
                      </a:moveTo>
                      <a:lnTo>
                        <a:pt x="6" y="23"/>
                      </a:lnTo>
                      <a:lnTo>
                        <a:pt x="12" y="23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24" y="18"/>
                      </a:lnTo>
                      <a:lnTo>
                        <a:pt x="30" y="18"/>
                      </a:lnTo>
                      <a:lnTo>
                        <a:pt x="30" y="12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Freeform 584"/>
                <p:cNvSpPr/>
                <p:nvPr/>
              </p:nvSpPr>
              <p:spPr>
                <a:xfrm>
                  <a:off x="6380280" y="4889880"/>
                  <a:ext cx="29880" cy="104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30" h="11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6" y="5"/>
                      </a:lnTo>
                      <a:lnTo>
                        <a:pt x="12" y="5"/>
                      </a:lnTo>
                      <a:lnTo>
                        <a:pt x="18" y="5"/>
                      </a:lnTo>
                      <a:lnTo>
                        <a:pt x="24" y="5"/>
                      </a:lnTo>
                      <a:lnTo>
                        <a:pt x="30" y="5"/>
                      </a:lnTo>
                      <a:lnTo>
                        <a:pt x="30" y="11"/>
                      </a:lnTo>
                      <a:lnTo>
                        <a:pt x="30" y="5"/>
                      </a:lnTo>
                      <a:lnTo>
                        <a:pt x="30" y="11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Freeform 585"/>
                <p:cNvSpPr/>
                <p:nvPr/>
              </p:nvSpPr>
              <p:spPr>
                <a:xfrm>
                  <a:off x="6279480" y="4889880"/>
                  <a:ext cx="11880" cy="104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12" h="11">
                      <a:moveTo>
                        <a:pt x="0" y="5"/>
                      </a:move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12" y="5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Freeform 586"/>
                <p:cNvSpPr/>
                <p:nvPr/>
              </p:nvSpPr>
              <p:spPr>
                <a:xfrm>
                  <a:off x="6201360" y="4878360"/>
                  <a:ext cx="41760" cy="219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42" h="23">
                      <a:moveTo>
                        <a:pt x="0" y="23"/>
                      </a:moveTo>
                      <a:lnTo>
                        <a:pt x="6" y="23"/>
                      </a:lnTo>
                      <a:lnTo>
                        <a:pt x="6" y="17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36" y="6"/>
                      </a:lnTo>
                      <a:lnTo>
                        <a:pt x="4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Freeform 587"/>
                <p:cNvSpPr/>
                <p:nvPr/>
              </p:nvSpPr>
              <p:spPr>
                <a:xfrm>
                  <a:off x="6171480" y="4889880"/>
                  <a:ext cx="29880" cy="104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30" h="1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24" y="11"/>
                      </a:lnTo>
                      <a:lnTo>
                        <a:pt x="30" y="11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588"/>
                <p:cNvSpPr/>
                <p:nvPr/>
              </p:nvSpPr>
              <p:spPr>
                <a:xfrm>
                  <a:off x="6058440" y="4894920"/>
                  <a:ext cx="720" cy="115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Freeform 589"/>
                <p:cNvSpPr/>
                <p:nvPr/>
              </p:nvSpPr>
              <p:spPr>
                <a:xfrm>
                  <a:off x="6374520" y="4889880"/>
                  <a:ext cx="5760" cy="16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" h="17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Freeform 590"/>
                <p:cNvSpPr/>
                <p:nvPr/>
              </p:nvSpPr>
              <p:spPr>
                <a:xfrm>
                  <a:off x="6500520" y="4872240"/>
                  <a:ext cx="16920" cy="338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7" h="35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Freeform 591"/>
                <p:cNvSpPr/>
                <p:nvPr/>
              </p:nvSpPr>
              <p:spPr>
                <a:xfrm>
                  <a:off x="5342400" y="4860720"/>
                  <a:ext cx="23760" cy="45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5360"/>
                    <a:gd name="textAreaBottom" fmla="*/ 45360 h 45360"/>
                  </a:gdLst>
                  <a:ahLst/>
                  <a:rect l="textAreaLeft" t="textAreaTop" r="textAreaRight" b="textAreaBottom"/>
                  <a:pathLst>
                    <a:path w="24" h="47">
                      <a:moveTo>
                        <a:pt x="24" y="47"/>
                      </a:moveTo>
                      <a:lnTo>
                        <a:pt x="24" y="41"/>
                      </a:lnTo>
                      <a:lnTo>
                        <a:pt x="18" y="41"/>
                      </a:lnTo>
                      <a:lnTo>
                        <a:pt x="18" y="35"/>
                      </a:lnTo>
                      <a:lnTo>
                        <a:pt x="18" y="41"/>
                      </a:lnTo>
                      <a:lnTo>
                        <a:pt x="18" y="35"/>
                      </a:lnTo>
                      <a:lnTo>
                        <a:pt x="12" y="35"/>
                      </a:lnTo>
                      <a:lnTo>
                        <a:pt x="12" y="30"/>
                      </a:lnTo>
                      <a:lnTo>
                        <a:pt x="6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Freeform 592"/>
                <p:cNvSpPr/>
                <p:nvPr/>
              </p:nvSpPr>
              <p:spPr>
                <a:xfrm>
                  <a:off x="6410520" y="490032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Freeform 593"/>
                <p:cNvSpPr/>
                <p:nvPr/>
              </p:nvSpPr>
              <p:spPr>
                <a:xfrm>
                  <a:off x="6374520" y="490644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Freeform 594"/>
                <p:cNvSpPr/>
                <p:nvPr/>
              </p:nvSpPr>
              <p:spPr>
                <a:xfrm>
                  <a:off x="6595560" y="4889880"/>
                  <a:ext cx="5760" cy="219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6" h="23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6" y="17"/>
                      </a:lnTo>
                      <a:lnTo>
                        <a:pt x="6" y="23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Freeform 595"/>
                <p:cNvSpPr/>
                <p:nvPr/>
              </p:nvSpPr>
              <p:spPr>
                <a:xfrm>
                  <a:off x="5891400" y="4894920"/>
                  <a:ext cx="29880" cy="172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0" h="18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Freeform 596"/>
                <p:cNvSpPr/>
                <p:nvPr/>
              </p:nvSpPr>
              <p:spPr>
                <a:xfrm>
                  <a:off x="6631200" y="4912200"/>
                  <a:ext cx="18000" cy="5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Freeform 597"/>
                <p:cNvSpPr/>
                <p:nvPr/>
              </p:nvSpPr>
              <p:spPr>
                <a:xfrm>
                  <a:off x="6482520" y="490644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Freeform 598"/>
                <p:cNvSpPr/>
                <p:nvPr/>
              </p:nvSpPr>
              <p:spPr>
                <a:xfrm>
                  <a:off x="6601320" y="4912200"/>
                  <a:ext cx="29880" cy="57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30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599"/>
                <p:cNvSpPr/>
                <p:nvPr/>
              </p:nvSpPr>
              <p:spPr>
                <a:xfrm>
                  <a:off x="6422400" y="491220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Line 600"/>
                <p:cNvSpPr/>
                <p:nvPr/>
              </p:nvSpPr>
              <p:spPr>
                <a:xfrm>
                  <a:off x="6434640" y="4917960"/>
                  <a:ext cx="72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Freeform 601"/>
                <p:cNvSpPr/>
                <p:nvPr/>
              </p:nvSpPr>
              <p:spPr>
                <a:xfrm>
                  <a:off x="6470280" y="491796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602"/>
                <p:cNvSpPr/>
                <p:nvPr/>
              </p:nvSpPr>
              <p:spPr>
                <a:xfrm>
                  <a:off x="6482520" y="4917960"/>
                  <a:ext cx="23760" cy="54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4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603"/>
                <p:cNvSpPr/>
                <p:nvPr/>
              </p:nvSpPr>
              <p:spPr>
                <a:xfrm>
                  <a:off x="5855400" y="491796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Line 604"/>
                <p:cNvSpPr/>
                <p:nvPr/>
              </p:nvSpPr>
              <p:spPr>
                <a:xfrm>
                  <a:off x="5867280" y="4923720"/>
                  <a:ext cx="612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605"/>
                <p:cNvSpPr/>
                <p:nvPr/>
              </p:nvSpPr>
              <p:spPr>
                <a:xfrm>
                  <a:off x="5873400" y="491220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606"/>
                <p:cNvSpPr/>
                <p:nvPr/>
              </p:nvSpPr>
              <p:spPr>
                <a:xfrm>
                  <a:off x="6649560" y="4917960"/>
                  <a:ext cx="17640" cy="5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8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Freeform 607"/>
                <p:cNvSpPr/>
                <p:nvPr/>
              </p:nvSpPr>
              <p:spPr>
                <a:xfrm>
                  <a:off x="6464520" y="49237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Freeform 608"/>
                <p:cNvSpPr/>
                <p:nvPr/>
              </p:nvSpPr>
              <p:spPr>
                <a:xfrm>
                  <a:off x="6434640" y="49237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609"/>
                <p:cNvSpPr/>
                <p:nvPr/>
              </p:nvSpPr>
              <p:spPr>
                <a:xfrm>
                  <a:off x="6380280" y="491220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610"/>
                <p:cNvSpPr/>
                <p:nvPr/>
              </p:nvSpPr>
              <p:spPr>
                <a:xfrm>
                  <a:off x="6058440" y="490644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24" y="18"/>
                      </a:lnTo>
                      <a:lnTo>
                        <a:pt x="24" y="24"/>
                      </a:lnTo>
                      <a:lnTo>
                        <a:pt x="30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Group 611"/>
              <p:cNvGrpSpPr/>
              <p:nvPr/>
            </p:nvGrpSpPr>
            <p:grpSpPr>
              <a:xfrm>
                <a:off x="5122440" y="4906440"/>
                <a:ext cx="1627560" cy="457920"/>
                <a:chOff x="5122440" y="4906440"/>
                <a:chExt cx="1627560" cy="457920"/>
              </a:xfrm>
            </p:grpSpPr>
            <p:sp>
              <p:nvSpPr>
                <p:cNvPr id="757" name="Freeform 612"/>
                <p:cNvSpPr/>
                <p:nvPr/>
              </p:nvSpPr>
              <p:spPr>
                <a:xfrm>
                  <a:off x="6374160" y="49294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613"/>
                <p:cNvSpPr/>
                <p:nvPr/>
              </p:nvSpPr>
              <p:spPr>
                <a:xfrm>
                  <a:off x="6452280" y="492948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Freeform 614"/>
                <p:cNvSpPr/>
                <p:nvPr/>
              </p:nvSpPr>
              <p:spPr>
                <a:xfrm>
                  <a:off x="6440400" y="492948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Freeform 615"/>
                <p:cNvSpPr/>
                <p:nvPr/>
              </p:nvSpPr>
              <p:spPr>
                <a:xfrm>
                  <a:off x="6374160" y="4929480"/>
                  <a:ext cx="720" cy="115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Freeform 616"/>
                <p:cNvSpPr/>
                <p:nvPr/>
              </p:nvSpPr>
              <p:spPr>
                <a:xfrm>
                  <a:off x="6667200" y="4923720"/>
                  <a:ext cx="720" cy="2304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" h="2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Line 617"/>
                <p:cNvSpPr/>
                <p:nvPr/>
              </p:nvSpPr>
              <p:spPr>
                <a:xfrm>
                  <a:off x="6374160" y="4941360"/>
                  <a:ext cx="72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Freeform 618"/>
                <p:cNvSpPr/>
                <p:nvPr/>
              </p:nvSpPr>
              <p:spPr>
                <a:xfrm>
                  <a:off x="6088320" y="4929480"/>
                  <a:ext cx="5760" cy="17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6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Freeform 619"/>
                <p:cNvSpPr/>
                <p:nvPr/>
              </p:nvSpPr>
              <p:spPr>
                <a:xfrm>
                  <a:off x="5873400" y="492372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24" y="18"/>
                      </a:lnTo>
                      <a:lnTo>
                        <a:pt x="24" y="24"/>
                      </a:lnTo>
                      <a:lnTo>
                        <a:pt x="30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620"/>
                <p:cNvSpPr/>
                <p:nvPr/>
              </p:nvSpPr>
              <p:spPr>
                <a:xfrm>
                  <a:off x="6440400" y="4929480"/>
                  <a:ext cx="720" cy="1728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Freeform 621"/>
                <p:cNvSpPr/>
                <p:nvPr/>
              </p:nvSpPr>
              <p:spPr>
                <a:xfrm>
                  <a:off x="6667200" y="4947120"/>
                  <a:ext cx="11880" cy="7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622"/>
                <p:cNvSpPr/>
                <p:nvPr/>
              </p:nvSpPr>
              <p:spPr>
                <a:xfrm>
                  <a:off x="5360400" y="4906440"/>
                  <a:ext cx="17640" cy="464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8" h="48">
                      <a:moveTo>
                        <a:pt x="18" y="48"/>
                      </a:moveTo>
                      <a:lnTo>
                        <a:pt x="12" y="48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Freeform 623"/>
                <p:cNvSpPr/>
                <p:nvPr/>
              </p:nvSpPr>
              <p:spPr>
                <a:xfrm>
                  <a:off x="6708240" y="4947120"/>
                  <a:ext cx="17640" cy="5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Freeform 624"/>
                <p:cNvSpPr/>
                <p:nvPr/>
              </p:nvSpPr>
              <p:spPr>
                <a:xfrm>
                  <a:off x="6368400" y="494712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Freeform 625"/>
                <p:cNvSpPr/>
                <p:nvPr/>
              </p:nvSpPr>
              <p:spPr>
                <a:xfrm>
                  <a:off x="6684480" y="4947120"/>
                  <a:ext cx="23760" cy="54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4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Freeform 626"/>
                <p:cNvSpPr/>
                <p:nvPr/>
              </p:nvSpPr>
              <p:spPr>
                <a:xfrm>
                  <a:off x="5814360" y="4911840"/>
                  <a:ext cx="40680" cy="40680"/>
                </a:xfrm>
                <a:custGeom>
                  <a:avLst/>
                  <a:gdLst>
                    <a:gd name="textAreaLeft" fmla="*/ 0 w 40680"/>
                    <a:gd name="textAreaRight" fmla="*/ 40680 w 4068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41" h="42">
                      <a:moveTo>
                        <a:pt x="11" y="42"/>
                      </a:move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7" y="6"/>
                      </a:lnTo>
                      <a:lnTo>
                        <a:pt x="23" y="6"/>
                      </a:lnTo>
                      <a:lnTo>
                        <a:pt x="29" y="6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1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Freeform 627"/>
                <p:cNvSpPr/>
                <p:nvPr/>
              </p:nvSpPr>
              <p:spPr>
                <a:xfrm>
                  <a:off x="6679440" y="4947120"/>
                  <a:ext cx="4680" cy="54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5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Freeform 628"/>
                <p:cNvSpPr/>
                <p:nvPr/>
              </p:nvSpPr>
              <p:spPr>
                <a:xfrm>
                  <a:off x="5903280" y="494712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629"/>
                <p:cNvSpPr/>
                <p:nvPr/>
              </p:nvSpPr>
              <p:spPr>
                <a:xfrm>
                  <a:off x="6440400" y="494712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Freeform 630"/>
                <p:cNvSpPr/>
                <p:nvPr/>
              </p:nvSpPr>
              <p:spPr>
                <a:xfrm>
                  <a:off x="6368400" y="495288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Freeform 631"/>
                <p:cNvSpPr/>
                <p:nvPr/>
              </p:nvSpPr>
              <p:spPr>
                <a:xfrm>
                  <a:off x="6094080" y="494712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24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Freeform 632"/>
                <p:cNvSpPr/>
                <p:nvPr/>
              </p:nvSpPr>
              <p:spPr>
                <a:xfrm>
                  <a:off x="6726240" y="495288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Line 633"/>
                <p:cNvSpPr/>
                <p:nvPr/>
              </p:nvSpPr>
              <p:spPr>
                <a:xfrm>
                  <a:off x="6732360" y="496440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634"/>
                <p:cNvSpPr/>
                <p:nvPr/>
              </p:nvSpPr>
              <p:spPr>
                <a:xfrm>
                  <a:off x="6738120" y="495288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Freeform 635"/>
                <p:cNvSpPr/>
                <p:nvPr/>
              </p:nvSpPr>
              <p:spPr>
                <a:xfrm>
                  <a:off x="6446160" y="495864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Freeform 636"/>
                <p:cNvSpPr/>
                <p:nvPr/>
              </p:nvSpPr>
              <p:spPr>
                <a:xfrm>
                  <a:off x="6500520" y="4917960"/>
                  <a:ext cx="34920" cy="522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5" h="54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11" y="12"/>
                      </a:lnTo>
                      <a:lnTo>
                        <a:pt x="11" y="18"/>
                      </a:lnTo>
                      <a:lnTo>
                        <a:pt x="17" y="18"/>
                      </a:lnTo>
                      <a:lnTo>
                        <a:pt x="17" y="12"/>
                      </a:lnTo>
                      <a:lnTo>
                        <a:pt x="23" y="12"/>
                      </a:lnTo>
                      <a:lnTo>
                        <a:pt x="23" y="18"/>
                      </a:lnTo>
                      <a:lnTo>
                        <a:pt x="23" y="24"/>
                      </a:lnTo>
                      <a:lnTo>
                        <a:pt x="23" y="30"/>
                      </a:lnTo>
                      <a:lnTo>
                        <a:pt x="29" y="30"/>
                      </a:lnTo>
                      <a:lnTo>
                        <a:pt x="29" y="36"/>
                      </a:lnTo>
                      <a:lnTo>
                        <a:pt x="29" y="42"/>
                      </a:lnTo>
                      <a:lnTo>
                        <a:pt x="35" y="42"/>
                      </a:lnTo>
                      <a:lnTo>
                        <a:pt x="35" y="48"/>
                      </a:lnTo>
                      <a:lnTo>
                        <a:pt x="29" y="48"/>
                      </a:lnTo>
                      <a:lnTo>
                        <a:pt x="29" y="5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Freeform 637"/>
                <p:cNvSpPr/>
                <p:nvPr/>
              </p:nvSpPr>
              <p:spPr>
                <a:xfrm>
                  <a:off x="5909040" y="495864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Freeform 638"/>
                <p:cNvSpPr/>
                <p:nvPr/>
              </p:nvSpPr>
              <p:spPr>
                <a:xfrm>
                  <a:off x="6362280" y="495864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Freeform 639"/>
                <p:cNvSpPr/>
                <p:nvPr/>
              </p:nvSpPr>
              <p:spPr>
                <a:xfrm>
                  <a:off x="6446160" y="497052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Freeform 640"/>
                <p:cNvSpPr/>
                <p:nvPr/>
              </p:nvSpPr>
              <p:spPr>
                <a:xfrm>
                  <a:off x="6118200" y="4958640"/>
                  <a:ext cx="36000" cy="2304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6" h="2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36" y="18"/>
                      </a:lnTo>
                      <a:lnTo>
                        <a:pt x="30" y="18"/>
                      </a:lnTo>
                      <a:lnTo>
                        <a:pt x="30" y="24"/>
                      </a:lnTo>
                      <a:lnTo>
                        <a:pt x="36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Freeform 641"/>
                <p:cNvSpPr/>
                <p:nvPr/>
              </p:nvSpPr>
              <p:spPr>
                <a:xfrm>
                  <a:off x="6356520" y="497052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12" y="0"/>
                      </a:move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Line 642"/>
                <p:cNvSpPr/>
                <p:nvPr/>
              </p:nvSpPr>
              <p:spPr>
                <a:xfrm>
                  <a:off x="6356520" y="498204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Freeform 643"/>
                <p:cNvSpPr/>
                <p:nvPr/>
              </p:nvSpPr>
              <p:spPr>
                <a:xfrm>
                  <a:off x="6529320" y="497052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Freeform 644"/>
                <p:cNvSpPr/>
                <p:nvPr/>
              </p:nvSpPr>
              <p:spPr>
                <a:xfrm>
                  <a:off x="5915160" y="4964400"/>
                  <a:ext cx="17640" cy="230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Freeform 645"/>
                <p:cNvSpPr/>
                <p:nvPr/>
              </p:nvSpPr>
              <p:spPr>
                <a:xfrm>
                  <a:off x="6440400" y="497592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646"/>
                <p:cNvSpPr/>
                <p:nvPr/>
              </p:nvSpPr>
              <p:spPr>
                <a:xfrm>
                  <a:off x="5354280" y="4952880"/>
                  <a:ext cx="23760" cy="349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4" h="36">
                      <a:moveTo>
                        <a:pt x="0" y="36"/>
                      </a:move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647"/>
                <p:cNvSpPr/>
                <p:nvPr/>
              </p:nvSpPr>
              <p:spPr>
                <a:xfrm>
                  <a:off x="5933160" y="498204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Freeform 648"/>
                <p:cNvSpPr/>
                <p:nvPr/>
              </p:nvSpPr>
              <p:spPr>
                <a:xfrm>
                  <a:off x="5939280" y="498204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649"/>
                <p:cNvSpPr/>
                <p:nvPr/>
              </p:nvSpPr>
              <p:spPr>
                <a:xfrm>
                  <a:off x="6446160" y="4987800"/>
                  <a:ext cx="108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Freeform 650"/>
                <p:cNvSpPr/>
                <p:nvPr/>
              </p:nvSpPr>
              <p:spPr>
                <a:xfrm>
                  <a:off x="6154200" y="4982040"/>
                  <a:ext cx="28800" cy="172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9" h="1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23" y="6"/>
                      </a:lnTo>
                      <a:lnTo>
                        <a:pt x="23" y="12"/>
                      </a:lnTo>
                      <a:lnTo>
                        <a:pt x="23" y="6"/>
                      </a:lnTo>
                      <a:lnTo>
                        <a:pt x="23" y="12"/>
                      </a:lnTo>
                      <a:lnTo>
                        <a:pt x="17" y="12"/>
                      </a:lnTo>
                      <a:lnTo>
                        <a:pt x="17" y="18"/>
                      </a:lnTo>
                      <a:lnTo>
                        <a:pt x="23" y="18"/>
                      </a:lnTo>
                      <a:lnTo>
                        <a:pt x="23" y="12"/>
                      </a:lnTo>
                      <a:lnTo>
                        <a:pt x="29" y="12"/>
                      </a:lnTo>
                      <a:lnTo>
                        <a:pt x="29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Freeform 651"/>
                <p:cNvSpPr/>
                <p:nvPr/>
              </p:nvSpPr>
              <p:spPr>
                <a:xfrm>
                  <a:off x="6535440" y="4987800"/>
                  <a:ext cx="17640" cy="172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Freeform 652"/>
                <p:cNvSpPr/>
                <p:nvPr/>
              </p:nvSpPr>
              <p:spPr>
                <a:xfrm>
                  <a:off x="5790240" y="4952880"/>
                  <a:ext cx="41040" cy="525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41" h="54">
                      <a:moveTo>
                        <a:pt x="0" y="54"/>
                      </a:move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8"/>
                      </a:lnTo>
                      <a:lnTo>
                        <a:pt x="18" y="42"/>
                      </a:lnTo>
                      <a:lnTo>
                        <a:pt x="24" y="42"/>
                      </a:lnTo>
                      <a:lnTo>
                        <a:pt x="24" y="36"/>
                      </a:lnTo>
                      <a:lnTo>
                        <a:pt x="30" y="30"/>
                      </a:lnTo>
                      <a:lnTo>
                        <a:pt x="30" y="24"/>
                      </a:lnTo>
                      <a:lnTo>
                        <a:pt x="35" y="24"/>
                      </a:lnTo>
                      <a:lnTo>
                        <a:pt x="35" y="18"/>
                      </a:lnTo>
                      <a:lnTo>
                        <a:pt x="41" y="18"/>
                      </a:lnTo>
                      <a:lnTo>
                        <a:pt x="41" y="12"/>
                      </a:lnTo>
                      <a:lnTo>
                        <a:pt x="35" y="12"/>
                      </a:lnTo>
                      <a:lnTo>
                        <a:pt x="35" y="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Freeform 653"/>
                <p:cNvSpPr/>
                <p:nvPr/>
              </p:nvSpPr>
              <p:spPr>
                <a:xfrm>
                  <a:off x="6183360" y="49935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Freeform 654"/>
                <p:cNvSpPr/>
                <p:nvPr/>
              </p:nvSpPr>
              <p:spPr>
                <a:xfrm>
                  <a:off x="6440400" y="499356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12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Freeform 655"/>
                <p:cNvSpPr/>
                <p:nvPr/>
              </p:nvSpPr>
              <p:spPr>
                <a:xfrm>
                  <a:off x="6344280" y="4982040"/>
                  <a:ext cx="17640" cy="288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18" y="0"/>
                      </a:move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Freeform 656"/>
                <p:cNvSpPr/>
                <p:nvPr/>
              </p:nvSpPr>
              <p:spPr>
                <a:xfrm>
                  <a:off x="6207480" y="500544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Freeform 657"/>
                <p:cNvSpPr/>
                <p:nvPr/>
              </p:nvSpPr>
              <p:spPr>
                <a:xfrm>
                  <a:off x="5342400" y="4987800"/>
                  <a:ext cx="11880" cy="291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2" h="30">
                      <a:moveTo>
                        <a:pt x="0" y="30"/>
                      </a:move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Freeform 658"/>
                <p:cNvSpPr/>
                <p:nvPr/>
              </p:nvSpPr>
              <p:spPr>
                <a:xfrm>
                  <a:off x="5945400" y="499356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12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Freeform 659"/>
                <p:cNvSpPr/>
                <p:nvPr/>
              </p:nvSpPr>
              <p:spPr>
                <a:xfrm>
                  <a:off x="6344280" y="501120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Freeform 660"/>
                <p:cNvSpPr/>
                <p:nvPr/>
              </p:nvSpPr>
              <p:spPr>
                <a:xfrm>
                  <a:off x="6547320" y="5005440"/>
                  <a:ext cx="5760" cy="17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661"/>
                <p:cNvSpPr/>
                <p:nvPr/>
              </p:nvSpPr>
              <p:spPr>
                <a:xfrm>
                  <a:off x="5342400" y="501696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6" y="6"/>
                      </a:move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Line 662"/>
                <p:cNvSpPr/>
                <p:nvPr/>
              </p:nvSpPr>
              <p:spPr>
                <a:xfrm flipH="1">
                  <a:off x="6344280" y="502272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Line 663"/>
                <p:cNvSpPr/>
                <p:nvPr/>
              </p:nvSpPr>
              <p:spPr>
                <a:xfrm flipH="1">
                  <a:off x="6337800" y="5022720"/>
                  <a:ext cx="612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Freeform 664"/>
                <p:cNvSpPr/>
                <p:nvPr/>
              </p:nvSpPr>
              <p:spPr>
                <a:xfrm>
                  <a:off x="5784120" y="5005440"/>
                  <a:ext cx="6120" cy="288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6" h="30">
                      <a:moveTo>
                        <a:pt x="0" y="30"/>
                      </a:move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Freeform 665"/>
                <p:cNvSpPr/>
                <p:nvPr/>
              </p:nvSpPr>
              <p:spPr>
                <a:xfrm>
                  <a:off x="6553080" y="501696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4" h="1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24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Freeform 666"/>
                <p:cNvSpPr/>
                <p:nvPr/>
              </p:nvSpPr>
              <p:spPr>
                <a:xfrm>
                  <a:off x="6207480" y="501696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24" y="18"/>
                      </a:lnTo>
                      <a:lnTo>
                        <a:pt x="24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Freeform 667"/>
                <p:cNvSpPr/>
                <p:nvPr/>
              </p:nvSpPr>
              <p:spPr>
                <a:xfrm>
                  <a:off x="6231240" y="502848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Freeform 668"/>
                <p:cNvSpPr/>
                <p:nvPr/>
              </p:nvSpPr>
              <p:spPr>
                <a:xfrm>
                  <a:off x="6237360" y="502848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Freeform 669"/>
                <p:cNvSpPr/>
                <p:nvPr/>
              </p:nvSpPr>
              <p:spPr>
                <a:xfrm>
                  <a:off x="5951520" y="5016960"/>
                  <a:ext cx="5760" cy="288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6" h="30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3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Freeform 670"/>
                <p:cNvSpPr/>
                <p:nvPr/>
              </p:nvSpPr>
              <p:spPr>
                <a:xfrm>
                  <a:off x="6321240" y="5022720"/>
                  <a:ext cx="16920" cy="288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7" h="30">
                      <a:moveTo>
                        <a:pt x="17" y="0"/>
                      </a:moveTo>
                      <a:lnTo>
                        <a:pt x="17" y="6"/>
                      </a:lnTo>
                      <a:lnTo>
                        <a:pt x="17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Freeform 671"/>
                <p:cNvSpPr/>
                <p:nvPr/>
              </p:nvSpPr>
              <p:spPr>
                <a:xfrm>
                  <a:off x="5330160" y="5022720"/>
                  <a:ext cx="18000" cy="288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0" y="30"/>
                      </a:move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Freeform 672"/>
                <p:cNvSpPr/>
                <p:nvPr/>
              </p:nvSpPr>
              <p:spPr>
                <a:xfrm>
                  <a:off x="6249240" y="504036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673"/>
                <p:cNvSpPr/>
                <p:nvPr/>
              </p:nvSpPr>
              <p:spPr>
                <a:xfrm>
                  <a:off x="5754240" y="503460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30" y="6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674"/>
                <p:cNvSpPr/>
                <p:nvPr/>
              </p:nvSpPr>
              <p:spPr>
                <a:xfrm>
                  <a:off x="6261480" y="505188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Line 675"/>
                <p:cNvSpPr/>
                <p:nvPr/>
              </p:nvSpPr>
              <p:spPr>
                <a:xfrm flipV="1">
                  <a:off x="5330160" y="5051880"/>
                  <a:ext cx="108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Freeform 676"/>
                <p:cNvSpPr/>
                <p:nvPr/>
              </p:nvSpPr>
              <p:spPr>
                <a:xfrm>
                  <a:off x="6267240" y="505764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Freeform 677"/>
                <p:cNvSpPr/>
                <p:nvPr/>
              </p:nvSpPr>
              <p:spPr>
                <a:xfrm>
                  <a:off x="5957280" y="504612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678"/>
                <p:cNvSpPr/>
                <p:nvPr/>
              </p:nvSpPr>
              <p:spPr>
                <a:xfrm>
                  <a:off x="6577200" y="5028480"/>
                  <a:ext cx="18000" cy="349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8" h="3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2" y="30"/>
                      </a:lnTo>
                      <a:lnTo>
                        <a:pt x="18" y="30"/>
                      </a:lnTo>
                      <a:lnTo>
                        <a:pt x="12" y="30"/>
                      </a:lnTo>
                      <a:lnTo>
                        <a:pt x="12" y="3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Line 679"/>
                <p:cNvSpPr/>
                <p:nvPr/>
              </p:nvSpPr>
              <p:spPr>
                <a:xfrm>
                  <a:off x="6589440" y="5063400"/>
                  <a:ext cx="612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80"/>
                <p:cNvSpPr/>
                <p:nvPr/>
              </p:nvSpPr>
              <p:spPr>
                <a:xfrm>
                  <a:off x="6273360" y="505764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Freeform 681"/>
                <p:cNvSpPr/>
                <p:nvPr/>
              </p:nvSpPr>
              <p:spPr>
                <a:xfrm>
                  <a:off x="5318280" y="5057640"/>
                  <a:ext cx="11880" cy="162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2" h="17">
                      <a:moveTo>
                        <a:pt x="0" y="17"/>
                      </a:move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Freeform 682"/>
                <p:cNvSpPr/>
                <p:nvPr/>
              </p:nvSpPr>
              <p:spPr>
                <a:xfrm>
                  <a:off x="6279120" y="5069520"/>
                  <a:ext cx="6120" cy="46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6" h="5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Freeform 683"/>
                <p:cNvSpPr/>
                <p:nvPr/>
              </p:nvSpPr>
              <p:spPr>
                <a:xfrm>
                  <a:off x="6595560" y="5063400"/>
                  <a:ext cx="11520" cy="104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12" h="1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1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Line 684"/>
                <p:cNvSpPr/>
                <p:nvPr/>
              </p:nvSpPr>
              <p:spPr>
                <a:xfrm>
                  <a:off x="6285240" y="507420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685"/>
                <p:cNvSpPr/>
                <p:nvPr/>
              </p:nvSpPr>
              <p:spPr>
                <a:xfrm>
                  <a:off x="6291360" y="507420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Line 686"/>
                <p:cNvSpPr/>
                <p:nvPr/>
              </p:nvSpPr>
              <p:spPr>
                <a:xfrm flipH="1">
                  <a:off x="6291360" y="507996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687"/>
                <p:cNvSpPr/>
                <p:nvPr/>
              </p:nvSpPr>
              <p:spPr>
                <a:xfrm>
                  <a:off x="6303240" y="507420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Line 688"/>
                <p:cNvSpPr/>
                <p:nvPr/>
              </p:nvSpPr>
              <p:spPr>
                <a:xfrm flipH="1" flipV="1">
                  <a:off x="6291360" y="5079960"/>
                  <a:ext cx="576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689"/>
                <p:cNvSpPr/>
                <p:nvPr/>
              </p:nvSpPr>
              <p:spPr>
                <a:xfrm>
                  <a:off x="6601320" y="507420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690"/>
                <p:cNvSpPr/>
                <p:nvPr/>
              </p:nvSpPr>
              <p:spPr>
                <a:xfrm>
                  <a:off x="6297120" y="507420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691"/>
                <p:cNvSpPr/>
                <p:nvPr/>
              </p:nvSpPr>
              <p:spPr>
                <a:xfrm>
                  <a:off x="6607080" y="508608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Line 692"/>
                <p:cNvSpPr/>
                <p:nvPr/>
              </p:nvSpPr>
              <p:spPr>
                <a:xfrm>
                  <a:off x="6619320" y="5091840"/>
                  <a:ext cx="612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693"/>
                <p:cNvSpPr/>
                <p:nvPr/>
              </p:nvSpPr>
              <p:spPr>
                <a:xfrm>
                  <a:off x="6309360" y="5074200"/>
                  <a:ext cx="28800" cy="230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9" h="2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24" y="18"/>
                      </a:lnTo>
                      <a:lnTo>
                        <a:pt x="29" y="18"/>
                      </a:lnTo>
                      <a:lnTo>
                        <a:pt x="29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694"/>
                <p:cNvSpPr/>
                <p:nvPr/>
              </p:nvSpPr>
              <p:spPr>
                <a:xfrm>
                  <a:off x="5283360" y="5074200"/>
                  <a:ext cx="34920" cy="288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5" h="30">
                      <a:moveTo>
                        <a:pt x="0" y="24"/>
                      </a:move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23" y="12"/>
                      </a:lnTo>
                      <a:lnTo>
                        <a:pt x="23" y="6"/>
                      </a:lnTo>
                      <a:lnTo>
                        <a:pt x="23" y="12"/>
                      </a:lnTo>
                      <a:lnTo>
                        <a:pt x="23" y="18"/>
                      </a:lnTo>
                      <a:lnTo>
                        <a:pt x="29" y="18"/>
                      </a:lnTo>
                      <a:lnTo>
                        <a:pt x="29" y="12"/>
                      </a:lnTo>
                      <a:lnTo>
                        <a:pt x="29" y="6"/>
                      </a:lnTo>
                      <a:lnTo>
                        <a:pt x="29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Freeform 695"/>
                <p:cNvSpPr/>
                <p:nvPr/>
              </p:nvSpPr>
              <p:spPr>
                <a:xfrm>
                  <a:off x="5641200" y="5086080"/>
                  <a:ext cx="16920" cy="172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12"/>
                      </a:lnTo>
                      <a:lnTo>
                        <a:pt x="17" y="12"/>
                      </a:lnTo>
                      <a:lnTo>
                        <a:pt x="11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Freeform 696"/>
                <p:cNvSpPr/>
                <p:nvPr/>
              </p:nvSpPr>
              <p:spPr>
                <a:xfrm>
                  <a:off x="6625440" y="5091840"/>
                  <a:ext cx="5760" cy="17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697"/>
                <p:cNvSpPr/>
                <p:nvPr/>
              </p:nvSpPr>
              <p:spPr>
                <a:xfrm>
                  <a:off x="5623200" y="508608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24" y="18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Line 698"/>
                <p:cNvSpPr/>
                <p:nvPr/>
              </p:nvSpPr>
              <p:spPr>
                <a:xfrm flipV="1">
                  <a:off x="5873400" y="5109120"/>
                  <a:ext cx="72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699"/>
                <p:cNvSpPr/>
                <p:nvPr/>
              </p:nvSpPr>
              <p:spPr>
                <a:xfrm>
                  <a:off x="5861160" y="510912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700"/>
                <p:cNvSpPr/>
                <p:nvPr/>
              </p:nvSpPr>
              <p:spPr>
                <a:xfrm>
                  <a:off x="6338160" y="509760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6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701"/>
                <p:cNvSpPr/>
                <p:nvPr/>
              </p:nvSpPr>
              <p:spPr>
                <a:xfrm>
                  <a:off x="6744240" y="51091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702"/>
                <p:cNvSpPr/>
                <p:nvPr/>
              </p:nvSpPr>
              <p:spPr>
                <a:xfrm>
                  <a:off x="5837400" y="5109120"/>
                  <a:ext cx="23760" cy="57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4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Freeform 703"/>
                <p:cNvSpPr/>
                <p:nvPr/>
              </p:nvSpPr>
              <p:spPr>
                <a:xfrm>
                  <a:off x="5897520" y="5103360"/>
                  <a:ext cx="47520" cy="1728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48" h="18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36" y="6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Freeform 704"/>
                <p:cNvSpPr/>
                <p:nvPr/>
              </p:nvSpPr>
              <p:spPr>
                <a:xfrm>
                  <a:off x="5963400" y="5063400"/>
                  <a:ext cx="17640" cy="572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8" h="59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6" y="17"/>
                      </a:lnTo>
                      <a:lnTo>
                        <a:pt x="6" y="11"/>
                      </a:lnTo>
                      <a:lnTo>
                        <a:pt x="6" y="17"/>
                      </a:lnTo>
                      <a:lnTo>
                        <a:pt x="6" y="23"/>
                      </a:lnTo>
                      <a:lnTo>
                        <a:pt x="6" y="29"/>
                      </a:lnTo>
                      <a:lnTo>
                        <a:pt x="6" y="35"/>
                      </a:lnTo>
                      <a:lnTo>
                        <a:pt x="12" y="35"/>
                      </a:lnTo>
                      <a:lnTo>
                        <a:pt x="12" y="41"/>
                      </a:lnTo>
                      <a:lnTo>
                        <a:pt x="12" y="47"/>
                      </a:lnTo>
                      <a:lnTo>
                        <a:pt x="18" y="47"/>
                      </a:lnTo>
                      <a:lnTo>
                        <a:pt x="18" y="53"/>
                      </a:lnTo>
                      <a:lnTo>
                        <a:pt x="12" y="53"/>
                      </a:lnTo>
                      <a:lnTo>
                        <a:pt x="18" y="53"/>
                      </a:lnTo>
                      <a:lnTo>
                        <a:pt x="18" y="59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705"/>
                <p:cNvSpPr/>
                <p:nvPr/>
              </p:nvSpPr>
              <p:spPr>
                <a:xfrm>
                  <a:off x="6082200" y="5109120"/>
                  <a:ext cx="18000" cy="11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12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706"/>
                <p:cNvSpPr/>
                <p:nvPr/>
              </p:nvSpPr>
              <p:spPr>
                <a:xfrm>
                  <a:off x="6738120" y="511524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707"/>
                <p:cNvSpPr/>
                <p:nvPr/>
              </p:nvSpPr>
              <p:spPr>
                <a:xfrm>
                  <a:off x="5873400" y="510912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708"/>
                <p:cNvSpPr/>
                <p:nvPr/>
              </p:nvSpPr>
              <p:spPr>
                <a:xfrm>
                  <a:off x="5814360" y="5115240"/>
                  <a:ext cx="22680" cy="540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Line 709"/>
                <p:cNvSpPr/>
                <p:nvPr/>
              </p:nvSpPr>
              <p:spPr>
                <a:xfrm>
                  <a:off x="6100200" y="512100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710"/>
                <p:cNvSpPr/>
                <p:nvPr/>
              </p:nvSpPr>
              <p:spPr>
                <a:xfrm>
                  <a:off x="6106320" y="512100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711"/>
                <p:cNvSpPr/>
                <p:nvPr/>
              </p:nvSpPr>
              <p:spPr>
                <a:xfrm>
                  <a:off x="6118200" y="512100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712"/>
                <p:cNvSpPr/>
                <p:nvPr/>
              </p:nvSpPr>
              <p:spPr>
                <a:xfrm>
                  <a:off x="5790240" y="5121000"/>
                  <a:ext cx="23760" cy="10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24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Line 713"/>
                <p:cNvSpPr/>
                <p:nvPr/>
              </p:nvSpPr>
              <p:spPr>
                <a:xfrm flipV="1">
                  <a:off x="6732360" y="5114880"/>
                  <a:ext cx="576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714"/>
                <p:cNvSpPr/>
                <p:nvPr/>
              </p:nvSpPr>
              <p:spPr>
                <a:xfrm>
                  <a:off x="6720480" y="512100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715"/>
                <p:cNvSpPr/>
                <p:nvPr/>
              </p:nvSpPr>
              <p:spPr>
                <a:xfrm>
                  <a:off x="6625440" y="5109120"/>
                  <a:ext cx="5760" cy="17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6" h="18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716"/>
                <p:cNvSpPr/>
                <p:nvPr/>
              </p:nvSpPr>
              <p:spPr>
                <a:xfrm>
                  <a:off x="6673320" y="5121000"/>
                  <a:ext cx="28800" cy="576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9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3" y="6"/>
                      </a:lnTo>
                      <a:lnTo>
                        <a:pt x="23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Line 717"/>
                <p:cNvSpPr/>
                <p:nvPr/>
              </p:nvSpPr>
              <p:spPr>
                <a:xfrm>
                  <a:off x="6702120" y="5121000"/>
                  <a:ext cx="108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Freeform 718"/>
                <p:cNvSpPr/>
                <p:nvPr/>
              </p:nvSpPr>
              <p:spPr>
                <a:xfrm>
                  <a:off x="6702120" y="5121000"/>
                  <a:ext cx="18000" cy="5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Freeform 719"/>
                <p:cNvSpPr/>
                <p:nvPr/>
              </p:nvSpPr>
              <p:spPr>
                <a:xfrm>
                  <a:off x="5283360" y="5097600"/>
                  <a:ext cx="17640" cy="288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18" y="24"/>
                      </a:move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Freeform 720"/>
                <p:cNvSpPr/>
                <p:nvPr/>
              </p:nvSpPr>
              <p:spPr>
                <a:xfrm>
                  <a:off x="6344280" y="511524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721"/>
                <p:cNvSpPr/>
                <p:nvPr/>
              </p:nvSpPr>
              <p:spPr>
                <a:xfrm>
                  <a:off x="6661440" y="5121000"/>
                  <a:ext cx="11520" cy="57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722"/>
                <p:cNvSpPr/>
                <p:nvPr/>
              </p:nvSpPr>
              <p:spPr>
                <a:xfrm>
                  <a:off x="6637320" y="5121000"/>
                  <a:ext cx="23760" cy="57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4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Freeform 723"/>
                <p:cNvSpPr/>
                <p:nvPr/>
              </p:nvSpPr>
              <p:spPr>
                <a:xfrm>
                  <a:off x="6130440" y="5121000"/>
                  <a:ext cx="11880" cy="5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Freeform 724"/>
                <p:cNvSpPr/>
                <p:nvPr/>
              </p:nvSpPr>
              <p:spPr>
                <a:xfrm>
                  <a:off x="5730120" y="5051880"/>
                  <a:ext cx="23760" cy="748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" h="77">
                      <a:moveTo>
                        <a:pt x="0" y="77"/>
                      </a:moveTo>
                      <a:lnTo>
                        <a:pt x="6" y="77"/>
                      </a:lnTo>
                      <a:lnTo>
                        <a:pt x="6" y="71"/>
                      </a:lnTo>
                      <a:lnTo>
                        <a:pt x="6" y="65"/>
                      </a:lnTo>
                      <a:lnTo>
                        <a:pt x="6" y="59"/>
                      </a:lnTo>
                      <a:lnTo>
                        <a:pt x="6" y="53"/>
                      </a:lnTo>
                      <a:lnTo>
                        <a:pt x="6" y="47"/>
                      </a:lnTo>
                      <a:lnTo>
                        <a:pt x="6" y="41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6" y="23"/>
                      </a:lnTo>
                      <a:lnTo>
                        <a:pt x="12" y="23"/>
                      </a:lnTo>
                      <a:lnTo>
                        <a:pt x="12" y="18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Freeform 725"/>
                <p:cNvSpPr/>
                <p:nvPr/>
              </p:nvSpPr>
              <p:spPr>
                <a:xfrm>
                  <a:off x="6625440" y="5126760"/>
                  <a:ext cx="11880" cy="7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Line 726"/>
                <p:cNvSpPr/>
                <p:nvPr/>
              </p:nvSpPr>
              <p:spPr>
                <a:xfrm>
                  <a:off x="5730120" y="5126760"/>
                  <a:ext cx="108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727"/>
                <p:cNvSpPr/>
                <p:nvPr/>
              </p:nvSpPr>
              <p:spPr>
                <a:xfrm>
                  <a:off x="5605200" y="5103360"/>
                  <a:ext cx="17640" cy="288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0" y="30"/>
                      </a:moveTo>
                      <a:lnTo>
                        <a:pt x="0" y="24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728"/>
                <p:cNvSpPr/>
                <p:nvPr/>
              </p:nvSpPr>
              <p:spPr>
                <a:xfrm>
                  <a:off x="5652360" y="5103360"/>
                  <a:ext cx="23760" cy="288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4" h="30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24" y="24"/>
                      </a:lnTo>
                      <a:lnTo>
                        <a:pt x="24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729"/>
                <p:cNvSpPr/>
                <p:nvPr/>
              </p:nvSpPr>
              <p:spPr>
                <a:xfrm>
                  <a:off x="6064200" y="512100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Freeform 730"/>
                <p:cNvSpPr/>
                <p:nvPr/>
              </p:nvSpPr>
              <p:spPr>
                <a:xfrm>
                  <a:off x="5712480" y="512676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Freeform 731"/>
                <p:cNvSpPr/>
                <p:nvPr/>
              </p:nvSpPr>
              <p:spPr>
                <a:xfrm>
                  <a:off x="5676120" y="5126760"/>
                  <a:ext cx="36000" cy="17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36" y="18"/>
                      </a:lnTo>
                      <a:lnTo>
                        <a:pt x="36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732"/>
                <p:cNvSpPr/>
                <p:nvPr/>
              </p:nvSpPr>
              <p:spPr>
                <a:xfrm>
                  <a:off x="5730120" y="513252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733"/>
                <p:cNvSpPr/>
                <p:nvPr/>
              </p:nvSpPr>
              <p:spPr>
                <a:xfrm>
                  <a:off x="5605200" y="5132520"/>
                  <a:ext cx="720" cy="1728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734"/>
                <p:cNvSpPr/>
                <p:nvPr/>
              </p:nvSpPr>
              <p:spPr>
                <a:xfrm>
                  <a:off x="5760360" y="5121000"/>
                  <a:ext cx="29880" cy="29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0" h="30">
                      <a:moveTo>
                        <a:pt x="0" y="30"/>
                      </a:moveTo>
                      <a:lnTo>
                        <a:pt x="0" y="24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24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735"/>
                <p:cNvSpPr/>
                <p:nvPr/>
              </p:nvSpPr>
              <p:spPr>
                <a:xfrm>
                  <a:off x="5742360" y="5138280"/>
                  <a:ext cx="17640" cy="11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736"/>
                <p:cNvSpPr/>
                <p:nvPr/>
              </p:nvSpPr>
              <p:spPr>
                <a:xfrm>
                  <a:off x="6052320" y="513252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6" y="18"/>
                      </a:move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Freeform 737"/>
                <p:cNvSpPr/>
                <p:nvPr/>
              </p:nvSpPr>
              <p:spPr>
                <a:xfrm>
                  <a:off x="5975280" y="5121000"/>
                  <a:ext cx="34920" cy="29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5" h="30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23" y="18"/>
                      </a:lnTo>
                      <a:lnTo>
                        <a:pt x="29" y="18"/>
                      </a:lnTo>
                      <a:lnTo>
                        <a:pt x="35" y="18"/>
                      </a:lnTo>
                      <a:lnTo>
                        <a:pt x="29" y="18"/>
                      </a:lnTo>
                      <a:lnTo>
                        <a:pt x="29" y="24"/>
                      </a:lnTo>
                      <a:lnTo>
                        <a:pt x="29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Freeform 738"/>
                <p:cNvSpPr/>
                <p:nvPr/>
              </p:nvSpPr>
              <p:spPr>
                <a:xfrm>
                  <a:off x="6130440" y="5126760"/>
                  <a:ext cx="17640" cy="230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Freeform 739"/>
                <p:cNvSpPr/>
                <p:nvPr/>
              </p:nvSpPr>
              <p:spPr>
                <a:xfrm>
                  <a:off x="6046560" y="515016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Freeform 740"/>
                <p:cNvSpPr/>
                <p:nvPr/>
              </p:nvSpPr>
              <p:spPr>
                <a:xfrm>
                  <a:off x="6004080" y="514404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4" h="1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24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Freeform 741"/>
                <p:cNvSpPr/>
                <p:nvPr/>
              </p:nvSpPr>
              <p:spPr>
                <a:xfrm>
                  <a:off x="5605200" y="515016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Freeform 742"/>
                <p:cNvSpPr/>
                <p:nvPr/>
              </p:nvSpPr>
              <p:spPr>
                <a:xfrm>
                  <a:off x="6148080" y="5144040"/>
                  <a:ext cx="23040" cy="1728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3" h="18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8"/>
                      </a:lnTo>
                      <a:lnTo>
                        <a:pt x="23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Freeform 743"/>
                <p:cNvSpPr/>
                <p:nvPr/>
              </p:nvSpPr>
              <p:spPr>
                <a:xfrm>
                  <a:off x="5599080" y="516168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744"/>
                <p:cNvSpPr/>
                <p:nvPr/>
              </p:nvSpPr>
              <p:spPr>
                <a:xfrm>
                  <a:off x="6040440" y="5155920"/>
                  <a:ext cx="6120" cy="115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Freeform 745"/>
                <p:cNvSpPr/>
                <p:nvPr/>
              </p:nvSpPr>
              <p:spPr>
                <a:xfrm>
                  <a:off x="6171480" y="51616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Freeform 746"/>
                <p:cNvSpPr/>
                <p:nvPr/>
              </p:nvSpPr>
              <p:spPr>
                <a:xfrm>
                  <a:off x="6177240" y="5167440"/>
                  <a:ext cx="11880" cy="7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Freeform 747"/>
                <p:cNvSpPr/>
                <p:nvPr/>
              </p:nvSpPr>
              <p:spPr>
                <a:xfrm>
                  <a:off x="6028200" y="516168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Freeform 748"/>
                <p:cNvSpPr/>
                <p:nvPr/>
              </p:nvSpPr>
              <p:spPr>
                <a:xfrm>
                  <a:off x="5509440" y="515016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Freeform 749"/>
                <p:cNvSpPr/>
                <p:nvPr/>
              </p:nvSpPr>
              <p:spPr>
                <a:xfrm>
                  <a:off x="5277240" y="5121000"/>
                  <a:ext cx="23760" cy="522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4" h="54">
                      <a:moveTo>
                        <a:pt x="6" y="54"/>
                      </a:move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6" y="36"/>
                      </a:lnTo>
                      <a:lnTo>
                        <a:pt x="12" y="36"/>
                      </a:lnTo>
                      <a:lnTo>
                        <a:pt x="12" y="30"/>
                      </a:lnTo>
                      <a:lnTo>
                        <a:pt x="18" y="30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Freeform 750"/>
                <p:cNvSpPr/>
                <p:nvPr/>
              </p:nvSpPr>
              <p:spPr>
                <a:xfrm>
                  <a:off x="5420160" y="5179320"/>
                  <a:ext cx="6120" cy="54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Freeform 751"/>
                <p:cNvSpPr/>
                <p:nvPr/>
              </p:nvSpPr>
              <p:spPr>
                <a:xfrm>
                  <a:off x="6189120" y="516744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Freeform 752"/>
                <p:cNvSpPr/>
                <p:nvPr/>
              </p:nvSpPr>
              <p:spPr>
                <a:xfrm>
                  <a:off x="6362280" y="5121000"/>
                  <a:ext cx="41760" cy="6408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42" h="6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8" y="24"/>
                      </a:lnTo>
                      <a:lnTo>
                        <a:pt x="18" y="30"/>
                      </a:lnTo>
                      <a:lnTo>
                        <a:pt x="18" y="36"/>
                      </a:lnTo>
                      <a:lnTo>
                        <a:pt x="24" y="36"/>
                      </a:lnTo>
                      <a:lnTo>
                        <a:pt x="24" y="30"/>
                      </a:lnTo>
                      <a:lnTo>
                        <a:pt x="24" y="36"/>
                      </a:lnTo>
                      <a:lnTo>
                        <a:pt x="24" y="42"/>
                      </a:lnTo>
                      <a:lnTo>
                        <a:pt x="24" y="36"/>
                      </a:lnTo>
                      <a:lnTo>
                        <a:pt x="24" y="42"/>
                      </a:lnTo>
                      <a:lnTo>
                        <a:pt x="30" y="42"/>
                      </a:lnTo>
                      <a:lnTo>
                        <a:pt x="36" y="42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42" y="60"/>
                      </a:lnTo>
                      <a:lnTo>
                        <a:pt x="42" y="66"/>
                      </a:lnTo>
                      <a:lnTo>
                        <a:pt x="36" y="66"/>
                      </a:lnTo>
                      <a:lnTo>
                        <a:pt x="42" y="6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Freeform 753"/>
                <p:cNvSpPr/>
                <p:nvPr/>
              </p:nvSpPr>
              <p:spPr>
                <a:xfrm>
                  <a:off x="5396040" y="5179320"/>
                  <a:ext cx="23760" cy="54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4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754"/>
                <p:cNvSpPr/>
                <p:nvPr/>
              </p:nvSpPr>
              <p:spPr>
                <a:xfrm>
                  <a:off x="5372280" y="516744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8" y="18"/>
                      </a:lnTo>
                      <a:lnTo>
                        <a:pt x="24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Freeform 755"/>
                <p:cNvSpPr/>
                <p:nvPr/>
              </p:nvSpPr>
              <p:spPr>
                <a:xfrm>
                  <a:off x="5587560" y="5167440"/>
                  <a:ext cx="11520" cy="230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Freeform 756"/>
                <p:cNvSpPr/>
                <p:nvPr/>
              </p:nvSpPr>
              <p:spPr>
                <a:xfrm>
                  <a:off x="5539320" y="5150160"/>
                  <a:ext cx="47880" cy="40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48" h="4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24" y="24"/>
                      </a:lnTo>
                      <a:lnTo>
                        <a:pt x="30" y="24"/>
                      </a:lnTo>
                      <a:lnTo>
                        <a:pt x="36" y="24"/>
                      </a:lnTo>
                      <a:lnTo>
                        <a:pt x="36" y="18"/>
                      </a:lnTo>
                      <a:lnTo>
                        <a:pt x="42" y="18"/>
                      </a:lnTo>
                      <a:lnTo>
                        <a:pt x="42" y="24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8" y="4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Freeform 757"/>
                <p:cNvSpPr/>
                <p:nvPr/>
              </p:nvSpPr>
              <p:spPr>
                <a:xfrm>
                  <a:off x="5497200" y="517320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Freeform 758"/>
                <p:cNvSpPr/>
                <p:nvPr/>
              </p:nvSpPr>
              <p:spPr>
                <a:xfrm>
                  <a:off x="6195240" y="517932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4" h="1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24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Freeform 759"/>
                <p:cNvSpPr/>
                <p:nvPr/>
              </p:nvSpPr>
              <p:spPr>
                <a:xfrm>
                  <a:off x="6219360" y="5190840"/>
                  <a:ext cx="11880" cy="54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Freeform 760"/>
                <p:cNvSpPr/>
                <p:nvPr/>
              </p:nvSpPr>
              <p:spPr>
                <a:xfrm>
                  <a:off x="5312160" y="5190840"/>
                  <a:ext cx="41760" cy="115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42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36" y="0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Freeform 761"/>
                <p:cNvSpPr/>
                <p:nvPr/>
              </p:nvSpPr>
              <p:spPr>
                <a:xfrm>
                  <a:off x="5271120" y="5173200"/>
                  <a:ext cx="17640" cy="291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8" h="30">
                      <a:moveTo>
                        <a:pt x="0" y="30"/>
                      </a:moveTo>
                      <a:lnTo>
                        <a:pt x="0" y="24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12" y="30"/>
                      </a:lnTo>
                      <a:lnTo>
                        <a:pt x="18" y="30"/>
                      </a:lnTo>
                      <a:lnTo>
                        <a:pt x="18" y="24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Freeform 762"/>
                <p:cNvSpPr/>
                <p:nvPr/>
              </p:nvSpPr>
              <p:spPr>
                <a:xfrm>
                  <a:off x="5396040" y="518508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24" y="18"/>
                      </a:lnTo>
                      <a:lnTo>
                        <a:pt x="24" y="24"/>
                      </a:lnTo>
                      <a:lnTo>
                        <a:pt x="30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Freeform 763"/>
                <p:cNvSpPr/>
                <p:nvPr/>
              </p:nvSpPr>
              <p:spPr>
                <a:xfrm>
                  <a:off x="5354280" y="5167440"/>
                  <a:ext cx="23760" cy="464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4" h="48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6" y="36"/>
                      </a:lnTo>
                      <a:lnTo>
                        <a:pt x="6" y="42"/>
                      </a:ln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2" y="42"/>
                      </a:lnTo>
                      <a:lnTo>
                        <a:pt x="18" y="42"/>
                      </a:lnTo>
                      <a:lnTo>
                        <a:pt x="24" y="42"/>
                      </a:lnTo>
                      <a:lnTo>
                        <a:pt x="24" y="36"/>
                      </a:lnTo>
                      <a:lnTo>
                        <a:pt x="24" y="30"/>
                      </a:lnTo>
                      <a:lnTo>
                        <a:pt x="24" y="24"/>
                      </a:lnTo>
                      <a:lnTo>
                        <a:pt x="18" y="24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Freeform 764"/>
                <p:cNvSpPr/>
                <p:nvPr/>
              </p:nvSpPr>
              <p:spPr>
                <a:xfrm>
                  <a:off x="5945400" y="5103360"/>
                  <a:ext cx="36000" cy="1105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36" h="11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8" y="24"/>
                      </a:lnTo>
                      <a:lnTo>
                        <a:pt x="18" y="30"/>
                      </a:lnTo>
                      <a:lnTo>
                        <a:pt x="18" y="36"/>
                      </a:lnTo>
                      <a:lnTo>
                        <a:pt x="24" y="36"/>
                      </a:lnTo>
                      <a:lnTo>
                        <a:pt x="24" y="42"/>
                      </a:lnTo>
                      <a:lnTo>
                        <a:pt x="18" y="42"/>
                      </a:lnTo>
                      <a:lnTo>
                        <a:pt x="18" y="48"/>
                      </a:lnTo>
                      <a:lnTo>
                        <a:pt x="24" y="48"/>
                      </a:lnTo>
                      <a:lnTo>
                        <a:pt x="24" y="54"/>
                      </a:lnTo>
                      <a:lnTo>
                        <a:pt x="24" y="60"/>
                      </a:lnTo>
                      <a:lnTo>
                        <a:pt x="24" y="66"/>
                      </a:lnTo>
                      <a:lnTo>
                        <a:pt x="30" y="66"/>
                      </a:lnTo>
                      <a:lnTo>
                        <a:pt x="30" y="72"/>
                      </a:lnTo>
                      <a:lnTo>
                        <a:pt x="30" y="78"/>
                      </a:lnTo>
                      <a:lnTo>
                        <a:pt x="30" y="84"/>
                      </a:lnTo>
                      <a:lnTo>
                        <a:pt x="30" y="90"/>
                      </a:lnTo>
                      <a:lnTo>
                        <a:pt x="30" y="96"/>
                      </a:lnTo>
                      <a:lnTo>
                        <a:pt x="30" y="102"/>
                      </a:lnTo>
                      <a:lnTo>
                        <a:pt x="36" y="102"/>
                      </a:lnTo>
                      <a:lnTo>
                        <a:pt x="36" y="108"/>
                      </a:lnTo>
                      <a:lnTo>
                        <a:pt x="36" y="11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Freeform 765"/>
                <p:cNvSpPr/>
                <p:nvPr/>
              </p:nvSpPr>
              <p:spPr>
                <a:xfrm>
                  <a:off x="5426280" y="5185080"/>
                  <a:ext cx="70920" cy="2916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3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30" y="12"/>
                      </a:lnTo>
                      <a:lnTo>
                        <a:pt x="30" y="18"/>
                      </a:lnTo>
                      <a:lnTo>
                        <a:pt x="36" y="18"/>
                      </a:lnTo>
                      <a:lnTo>
                        <a:pt x="36" y="12"/>
                      </a:lnTo>
                      <a:lnTo>
                        <a:pt x="42" y="12"/>
                      </a:lnTo>
                      <a:lnTo>
                        <a:pt x="42" y="18"/>
                      </a:lnTo>
                      <a:lnTo>
                        <a:pt x="42" y="12"/>
                      </a:lnTo>
                      <a:lnTo>
                        <a:pt x="48" y="12"/>
                      </a:lnTo>
                      <a:lnTo>
                        <a:pt x="48" y="18"/>
                      </a:lnTo>
                      <a:lnTo>
                        <a:pt x="48" y="24"/>
                      </a:lnTo>
                      <a:lnTo>
                        <a:pt x="53" y="24"/>
                      </a:lnTo>
                      <a:lnTo>
                        <a:pt x="53" y="30"/>
                      </a:lnTo>
                      <a:lnTo>
                        <a:pt x="59" y="30"/>
                      </a:lnTo>
                      <a:lnTo>
                        <a:pt x="65" y="30"/>
                      </a:lnTo>
                      <a:lnTo>
                        <a:pt x="65" y="24"/>
                      </a:lnTo>
                      <a:lnTo>
                        <a:pt x="71" y="24"/>
                      </a:lnTo>
                      <a:lnTo>
                        <a:pt x="71" y="18"/>
                      </a:lnTo>
                      <a:lnTo>
                        <a:pt x="71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Freeform 766"/>
                <p:cNvSpPr/>
                <p:nvPr/>
              </p:nvSpPr>
              <p:spPr>
                <a:xfrm>
                  <a:off x="5271120" y="5202720"/>
                  <a:ext cx="11880" cy="230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12" y="24"/>
                      </a:move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6" y="24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Freeform 767"/>
                <p:cNvSpPr/>
                <p:nvPr/>
              </p:nvSpPr>
              <p:spPr>
                <a:xfrm>
                  <a:off x="5301360" y="5190840"/>
                  <a:ext cx="10800" cy="349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1" h="36">
                      <a:moveTo>
                        <a:pt x="0" y="36"/>
                      </a:moveTo>
                      <a:lnTo>
                        <a:pt x="5" y="36"/>
                      </a:lnTo>
                      <a:lnTo>
                        <a:pt x="0" y="36"/>
                      </a:lnTo>
                      <a:lnTo>
                        <a:pt x="5" y="36"/>
                      </a:lnTo>
                      <a:lnTo>
                        <a:pt x="0" y="36"/>
                      </a:lnTo>
                      <a:lnTo>
                        <a:pt x="5" y="36"/>
                      </a:lnTo>
                      <a:lnTo>
                        <a:pt x="5" y="30"/>
                      </a:lnTo>
                      <a:lnTo>
                        <a:pt x="11" y="30"/>
                      </a:lnTo>
                      <a:lnTo>
                        <a:pt x="11" y="24"/>
                      </a:lnTo>
                      <a:lnTo>
                        <a:pt x="5" y="24"/>
                      </a:lnTo>
                      <a:lnTo>
                        <a:pt x="5" y="18"/>
                      </a:lnTo>
                      <a:lnTo>
                        <a:pt x="5" y="12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Freeform 768"/>
                <p:cNvSpPr/>
                <p:nvPr/>
              </p:nvSpPr>
              <p:spPr>
                <a:xfrm>
                  <a:off x="5426280" y="520812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Line 769"/>
                <p:cNvSpPr/>
                <p:nvPr/>
              </p:nvSpPr>
              <p:spPr>
                <a:xfrm flipV="1">
                  <a:off x="5301360" y="5225400"/>
                  <a:ext cx="1080" cy="540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770"/>
                <p:cNvSpPr/>
                <p:nvPr/>
              </p:nvSpPr>
              <p:spPr>
                <a:xfrm>
                  <a:off x="5283360" y="5225760"/>
                  <a:ext cx="17640" cy="5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771"/>
                <p:cNvSpPr/>
                <p:nvPr/>
              </p:nvSpPr>
              <p:spPr>
                <a:xfrm>
                  <a:off x="5122440" y="5225760"/>
                  <a:ext cx="16920" cy="115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17" y="0"/>
                      </a:moveTo>
                      <a:lnTo>
                        <a:pt x="11" y="0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Freeform 772"/>
                <p:cNvSpPr/>
                <p:nvPr/>
              </p:nvSpPr>
              <p:spPr>
                <a:xfrm>
                  <a:off x="5139360" y="5225760"/>
                  <a:ext cx="36000" cy="17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36" y="18"/>
                      </a:moveTo>
                      <a:lnTo>
                        <a:pt x="30" y="12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Freeform 773"/>
                <p:cNvSpPr/>
                <p:nvPr/>
              </p:nvSpPr>
              <p:spPr>
                <a:xfrm>
                  <a:off x="5193360" y="52480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0" h="12">
                      <a:moveTo>
                        <a:pt x="30" y="0"/>
                      </a:move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Freeform 774"/>
                <p:cNvSpPr/>
                <p:nvPr/>
              </p:nvSpPr>
              <p:spPr>
                <a:xfrm>
                  <a:off x="5175360" y="5243400"/>
                  <a:ext cx="17640" cy="16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8" h="17">
                      <a:moveTo>
                        <a:pt x="18" y="17"/>
                      </a:moveTo>
                      <a:lnTo>
                        <a:pt x="12" y="17"/>
                      </a:lnTo>
                      <a:lnTo>
                        <a:pt x="12" y="11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Freeform 775"/>
                <p:cNvSpPr/>
                <p:nvPr/>
              </p:nvSpPr>
              <p:spPr>
                <a:xfrm>
                  <a:off x="5223240" y="5248080"/>
                  <a:ext cx="18000" cy="172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18" y="18"/>
                      </a:move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Freeform 776"/>
                <p:cNvSpPr/>
                <p:nvPr/>
              </p:nvSpPr>
              <p:spPr>
                <a:xfrm>
                  <a:off x="5402160" y="5231520"/>
                  <a:ext cx="35640" cy="396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36" h="41">
                      <a:moveTo>
                        <a:pt x="36" y="0"/>
                      </a:move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18" y="12"/>
                      </a:lnTo>
                      <a:lnTo>
                        <a:pt x="18" y="17"/>
                      </a:lnTo>
                      <a:lnTo>
                        <a:pt x="12" y="17"/>
                      </a:lnTo>
                      <a:lnTo>
                        <a:pt x="6" y="17"/>
                      </a:lnTo>
                      <a:lnTo>
                        <a:pt x="6" y="23"/>
                      </a:lnTo>
                      <a:lnTo>
                        <a:pt x="0" y="23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6" y="41"/>
                      </a:lnTo>
                      <a:lnTo>
                        <a:pt x="12" y="41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Freeform 777"/>
                <p:cNvSpPr/>
                <p:nvPr/>
              </p:nvSpPr>
              <p:spPr>
                <a:xfrm>
                  <a:off x="5414400" y="527148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4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Freeform 778"/>
                <p:cNvSpPr/>
                <p:nvPr/>
              </p:nvSpPr>
              <p:spPr>
                <a:xfrm>
                  <a:off x="5259240" y="5225760"/>
                  <a:ext cx="23760" cy="63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4" h="65">
                      <a:moveTo>
                        <a:pt x="12" y="65"/>
                      </a:moveTo>
                      <a:lnTo>
                        <a:pt x="12" y="59"/>
                      </a:lnTo>
                      <a:lnTo>
                        <a:pt x="6" y="59"/>
                      </a:lnTo>
                      <a:lnTo>
                        <a:pt x="6" y="53"/>
                      </a:lnTo>
                      <a:lnTo>
                        <a:pt x="0" y="53"/>
                      </a:lnTo>
                      <a:lnTo>
                        <a:pt x="0" y="47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6" y="35"/>
                      </a:ln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6" y="23"/>
                      </a:lnTo>
                      <a:lnTo>
                        <a:pt x="12" y="23"/>
                      </a:lnTo>
                      <a:lnTo>
                        <a:pt x="18" y="23"/>
                      </a:lnTo>
                      <a:lnTo>
                        <a:pt x="18" y="18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Freeform 779"/>
                <p:cNvSpPr/>
                <p:nvPr/>
              </p:nvSpPr>
              <p:spPr>
                <a:xfrm>
                  <a:off x="5241240" y="5265720"/>
                  <a:ext cx="17640" cy="230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18" y="24"/>
                      </a:moveTo>
                      <a:lnTo>
                        <a:pt x="18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Freeform 780"/>
                <p:cNvSpPr/>
                <p:nvPr/>
              </p:nvSpPr>
              <p:spPr>
                <a:xfrm>
                  <a:off x="5259240" y="5288760"/>
                  <a:ext cx="11880" cy="10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Freeform 781"/>
                <p:cNvSpPr/>
                <p:nvPr/>
              </p:nvSpPr>
              <p:spPr>
                <a:xfrm>
                  <a:off x="5438160" y="5277240"/>
                  <a:ext cx="47160" cy="1728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47" h="1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12"/>
                      </a:lnTo>
                      <a:lnTo>
                        <a:pt x="36" y="12"/>
                      </a:lnTo>
                      <a:lnTo>
                        <a:pt x="41" y="12"/>
                      </a:lnTo>
                      <a:lnTo>
                        <a:pt x="41" y="18"/>
                      </a:lnTo>
                      <a:lnTo>
                        <a:pt x="47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Line 782"/>
                <p:cNvSpPr/>
                <p:nvPr/>
              </p:nvSpPr>
              <p:spPr>
                <a:xfrm>
                  <a:off x="5963400" y="5294880"/>
                  <a:ext cx="576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Freeform 783"/>
                <p:cNvSpPr/>
                <p:nvPr/>
              </p:nvSpPr>
              <p:spPr>
                <a:xfrm>
                  <a:off x="5969160" y="5243400"/>
                  <a:ext cx="58680" cy="5148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59" h="53">
                      <a:moveTo>
                        <a:pt x="0" y="53"/>
                      </a:move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12" y="47"/>
                      </a:lnTo>
                      <a:lnTo>
                        <a:pt x="12" y="41"/>
                      </a:lnTo>
                      <a:lnTo>
                        <a:pt x="18" y="41"/>
                      </a:lnTo>
                      <a:lnTo>
                        <a:pt x="18" y="35"/>
                      </a:lnTo>
                      <a:lnTo>
                        <a:pt x="24" y="35"/>
                      </a:lnTo>
                      <a:lnTo>
                        <a:pt x="29" y="35"/>
                      </a:lnTo>
                      <a:lnTo>
                        <a:pt x="29" y="29"/>
                      </a:lnTo>
                      <a:lnTo>
                        <a:pt x="29" y="23"/>
                      </a:lnTo>
                      <a:lnTo>
                        <a:pt x="35" y="23"/>
                      </a:lnTo>
                      <a:lnTo>
                        <a:pt x="35" y="17"/>
                      </a:lnTo>
                      <a:lnTo>
                        <a:pt x="41" y="17"/>
                      </a:lnTo>
                      <a:lnTo>
                        <a:pt x="41" y="11"/>
                      </a:lnTo>
                      <a:lnTo>
                        <a:pt x="47" y="11"/>
                      </a:lnTo>
                      <a:lnTo>
                        <a:pt x="47" y="5"/>
                      </a:lnTo>
                      <a:lnTo>
                        <a:pt x="53" y="5"/>
                      </a:lnTo>
                      <a:lnTo>
                        <a:pt x="53" y="0"/>
                      </a:lnTo>
                      <a:lnTo>
                        <a:pt x="53" y="5"/>
                      </a:lnTo>
                      <a:lnTo>
                        <a:pt x="59" y="5"/>
                      </a:lnTo>
                      <a:lnTo>
                        <a:pt x="59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Freeform 784"/>
                <p:cNvSpPr/>
                <p:nvPr/>
              </p:nvSpPr>
              <p:spPr>
                <a:xfrm>
                  <a:off x="5271120" y="528876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12" y="18"/>
                      </a:move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Freeform 785"/>
                <p:cNvSpPr/>
                <p:nvPr/>
              </p:nvSpPr>
              <p:spPr>
                <a:xfrm>
                  <a:off x="5277240" y="5306400"/>
                  <a:ext cx="5760" cy="11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Freeform 786"/>
                <p:cNvSpPr/>
                <p:nvPr/>
              </p:nvSpPr>
              <p:spPr>
                <a:xfrm>
                  <a:off x="5808240" y="531216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Freeform 787"/>
                <p:cNvSpPr/>
                <p:nvPr/>
              </p:nvSpPr>
              <p:spPr>
                <a:xfrm>
                  <a:off x="5796360" y="5306400"/>
                  <a:ext cx="11880" cy="115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Freeform 788"/>
                <p:cNvSpPr/>
                <p:nvPr/>
              </p:nvSpPr>
              <p:spPr>
                <a:xfrm>
                  <a:off x="5963400" y="5294880"/>
                  <a:ext cx="5760" cy="230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6" h="24">
                      <a:moveTo>
                        <a:pt x="0" y="24"/>
                      </a:move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Freeform 789"/>
                <p:cNvSpPr/>
                <p:nvPr/>
              </p:nvSpPr>
              <p:spPr>
                <a:xfrm>
                  <a:off x="5814360" y="5312160"/>
                  <a:ext cx="16920" cy="57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7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Freeform 790"/>
                <p:cNvSpPr/>
                <p:nvPr/>
              </p:nvSpPr>
              <p:spPr>
                <a:xfrm>
                  <a:off x="5247360" y="5318280"/>
                  <a:ext cx="29880" cy="5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0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Freeform 791"/>
                <p:cNvSpPr/>
                <p:nvPr/>
              </p:nvSpPr>
              <p:spPr>
                <a:xfrm>
                  <a:off x="5283360" y="5294880"/>
                  <a:ext cx="28800" cy="288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9" h="30">
                      <a:moveTo>
                        <a:pt x="0" y="12"/>
                      </a:move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12"/>
                      </a:lnTo>
                      <a:lnTo>
                        <a:pt x="23" y="12"/>
                      </a:lnTo>
                      <a:lnTo>
                        <a:pt x="23" y="18"/>
                      </a:lnTo>
                      <a:lnTo>
                        <a:pt x="18" y="18"/>
                      </a:lnTo>
                      <a:lnTo>
                        <a:pt x="23" y="18"/>
                      </a:lnTo>
                      <a:lnTo>
                        <a:pt x="29" y="18"/>
                      </a:lnTo>
                      <a:lnTo>
                        <a:pt x="29" y="24"/>
                      </a:lnTo>
                      <a:lnTo>
                        <a:pt x="29" y="3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Freeform 792"/>
                <p:cNvSpPr/>
                <p:nvPr/>
              </p:nvSpPr>
              <p:spPr>
                <a:xfrm>
                  <a:off x="5885280" y="5318280"/>
                  <a:ext cx="17640" cy="111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18" h="1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12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Freeform 793"/>
                <p:cNvSpPr/>
                <p:nvPr/>
              </p:nvSpPr>
              <p:spPr>
                <a:xfrm>
                  <a:off x="5849280" y="5312160"/>
                  <a:ext cx="36000" cy="17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24" y="18"/>
                      </a:lnTo>
                      <a:lnTo>
                        <a:pt x="24" y="12"/>
                      </a:lnTo>
                      <a:lnTo>
                        <a:pt x="30" y="18"/>
                      </a:lnTo>
                      <a:lnTo>
                        <a:pt x="30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2"/>
                      </a:lnTo>
                      <a:lnTo>
                        <a:pt x="24" y="6"/>
                      </a:lnTo>
                      <a:lnTo>
                        <a:pt x="30" y="6"/>
                      </a:lnTo>
                      <a:lnTo>
                        <a:pt x="30" y="12"/>
                      </a:lnTo>
                      <a:lnTo>
                        <a:pt x="36" y="12"/>
                      </a:lnTo>
                      <a:lnTo>
                        <a:pt x="3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Freeform 794"/>
                <p:cNvSpPr/>
                <p:nvPr/>
              </p:nvSpPr>
              <p:spPr>
                <a:xfrm>
                  <a:off x="5825160" y="531216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4" h="18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24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Freeform 795"/>
                <p:cNvSpPr/>
                <p:nvPr/>
              </p:nvSpPr>
              <p:spPr>
                <a:xfrm>
                  <a:off x="5229360" y="5324040"/>
                  <a:ext cx="17640" cy="5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796"/>
                <p:cNvSpPr/>
                <p:nvPr/>
              </p:nvSpPr>
              <p:spPr>
                <a:xfrm>
                  <a:off x="5903280" y="5329800"/>
                  <a:ext cx="5760" cy="10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Freeform 797"/>
                <p:cNvSpPr/>
                <p:nvPr/>
              </p:nvSpPr>
              <p:spPr>
                <a:xfrm>
                  <a:off x="5312160" y="532404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Line 798"/>
                <p:cNvSpPr/>
                <p:nvPr/>
              </p:nvSpPr>
              <p:spPr>
                <a:xfrm>
                  <a:off x="5909040" y="5329800"/>
                  <a:ext cx="1080" cy="57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Freeform 799"/>
                <p:cNvSpPr/>
                <p:nvPr/>
              </p:nvSpPr>
              <p:spPr>
                <a:xfrm>
                  <a:off x="5915160" y="5318280"/>
                  <a:ext cx="47880" cy="172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48" h="18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30" y="12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2" y="6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Line 800"/>
                <p:cNvSpPr/>
                <p:nvPr/>
              </p:nvSpPr>
              <p:spPr>
                <a:xfrm>
                  <a:off x="5909040" y="5335560"/>
                  <a:ext cx="6120" cy="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Freeform 801"/>
                <p:cNvSpPr/>
                <p:nvPr/>
              </p:nvSpPr>
              <p:spPr>
                <a:xfrm>
                  <a:off x="5223240" y="5329800"/>
                  <a:ext cx="6120" cy="57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Freeform 802"/>
                <p:cNvSpPr/>
                <p:nvPr/>
              </p:nvSpPr>
              <p:spPr>
                <a:xfrm>
                  <a:off x="5205240" y="5335560"/>
                  <a:ext cx="17640" cy="5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Freeform 803"/>
                <p:cNvSpPr/>
                <p:nvPr/>
              </p:nvSpPr>
              <p:spPr>
                <a:xfrm>
                  <a:off x="5485320" y="5294880"/>
                  <a:ext cx="35640" cy="464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2" y="24"/>
                      </a:lnTo>
                      <a:lnTo>
                        <a:pt x="12" y="30"/>
                      </a:lnTo>
                      <a:lnTo>
                        <a:pt x="6" y="30"/>
                      </a:lnTo>
                      <a:lnTo>
                        <a:pt x="6" y="36"/>
                      </a:lnTo>
                      <a:lnTo>
                        <a:pt x="6" y="42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30"/>
                      </a:lnTo>
                      <a:lnTo>
                        <a:pt x="30" y="36"/>
                      </a:lnTo>
                      <a:lnTo>
                        <a:pt x="36" y="36"/>
                      </a:lnTo>
                      <a:lnTo>
                        <a:pt x="36" y="42"/>
                      </a:lnTo>
                      <a:lnTo>
                        <a:pt x="36" y="4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Freeform 804"/>
                <p:cNvSpPr/>
                <p:nvPr/>
              </p:nvSpPr>
              <p:spPr>
                <a:xfrm>
                  <a:off x="5318280" y="532404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4" h="18">
                      <a:moveTo>
                        <a:pt x="0" y="6"/>
                      </a:move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2" y="6"/>
                      </a:lnTo>
                      <a:lnTo>
                        <a:pt x="12" y="12"/>
                      </a:lnTo>
                      <a:lnTo>
                        <a:pt x="18" y="12"/>
                      </a:lnTo>
                      <a:lnTo>
                        <a:pt x="24" y="12"/>
                      </a:lnTo>
                      <a:lnTo>
                        <a:pt x="24" y="18"/>
                      </a:lnTo>
                      <a:lnTo>
                        <a:pt x="18" y="18"/>
                      </a:lnTo>
                      <a:lnTo>
                        <a:pt x="24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805"/>
                <p:cNvSpPr/>
                <p:nvPr/>
              </p:nvSpPr>
              <p:spPr>
                <a:xfrm>
                  <a:off x="5193360" y="533556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0" y="18"/>
                      </a:move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Freeform 806"/>
                <p:cNvSpPr/>
                <p:nvPr/>
              </p:nvSpPr>
              <p:spPr>
                <a:xfrm>
                  <a:off x="5575320" y="533556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24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Freeform 807"/>
                <p:cNvSpPr/>
                <p:nvPr/>
              </p:nvSpPr>
              <p:spPr>
                <a:xfrm>
                  <a:off x="5563440" y="5329800"/>
                  <a:ext cx="11880" cy="291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12" h="30">
                      <a:moveTo>
                        <a:pt x="6" y="30"/>
                      </a:moveTo>
                      <a:lnTo>
                        <a:pt x="12" y="30"/>
                      </a:lnTo>
                      <a:lnTo>
                        <a:pt x="12" y="24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808"/>
                <p:cNvSpPr/>
                <p:nvPr/>
              </p:nvSpPr>
              <p:spPr>
                <a:xfrm>
                  <a:off x="5688360" y="5306400"/>
                  <a:ext cx="113760" cy="5220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4" h="54">
                      <a:moveTo>
                        <a:pt x="0" y="42"/>
                      </a:moveTo>
                      <a:lnTo>
                        <a:pt x="0" y="48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8"/>
                      </a:lnTo>
                      <a:lnTo>
                        <a:pt x="18" y="54"/>
                      </a:lnTo>
                      <a:lnTo>
                        <a:pt x="24" y="54"/>
                      </a:lnTo>
                      <a:lnTo>
                        <a:pt x="18" y="54"/>
                      </a:lnTo>
                      <a:lnTo>
                        <a:pt x="18" y="48"/>
                      </a:lnTo>
                      <a:lnTo>
                        <a:pt x="24" y="48"/>
                      </a:lnTo>
                      <a:lnTo>
                        <a:pt x="30" y="48"/>
                      </a:lnTo>
                      <a:lnTo>
                        <a:pt x="30" y="42"/>
                      </a:lnTo>
                      <a:lnTo>
                        <a:pt x="30" y="36"/>
                      </a:lnTo>
                      <a:lnTo>
                        <a:pt x="36" y="36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36"/>
                      </a:lnTo>
                      <a:lnTo>
                        <a:pt x="42" y="30"/>
                      </a:lnTo>
                      <a:lnTo>
                        <a:pt x="48" y="30"/>
                      </a:lnTo>
                      <a:lnTo>
                        <a:pt x="54" y="30"/>
                      </a:lnTo>
                      <a:lnTo>
                        <a:pt x="60" y="30"/>
                      </a:lnTo>
                      <a:lnTo>
                        <a:pt x="66" y="30"/>
                      </a:lnTo>
                      <a:lnTo>
                        <a:pt x="60" y="30"/>
                      </a:lnTo>
                      <a:lnTo>
                        <a:pt x="60" y="24"/>
                      </a:lnTo>
                      <a:lnTo>
                        <a:pt x="66" y="24"/>
                      </a:lnTo>
                      <a:lnTo>
                        <a:pt x="66" y="30"/>
                      </a:ln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78" y="24"/>
                      </a:lnTo>
                      <a:lnTo>
                        <a:pt x="78" y="18"/>
                      </a:lnTo>
                      <a:lnTo>
                        <a:pt x="84" y="18"/>
                      </a:lnTo>
                      <a:lnTo>
                        <a:pt x="84" y="12"/>
                      </a:lnTo>
                      <a:lnTo>
                        <a:pt x="90" y="12"/>
                      </a:lnTo>
                      <a:lnTo>
                        <a:pt x="90" y="6"/>
                      </a:lnTo>
                      <a:lnTo>
                        <a:pt x="96" y="6"/>
                      </a:lnTo>
                      <a:lnTo>
                        <a:pt x="96" y="12"/>
                      </a:lnTo>
                      <a:lnTo>
                        <a:pt x="102" y="12"/>
                      </a:lnTo>
                      <a:lnTo>
                        <a:pt x="102" y="6"/>
                      </a:lnTo>
                      <a:lnTo>
                        <a:pt x="102" y="0"/>
                      </a:lnTo>
                      <a:lnTo>
                        <a:pt x="102" y="6"/>
                      </a:lnTo>
                      <a:lnTo>
                        <a:pt x="108" y="6"/>
                      </a:lnTo>
                      <a:lnTo>
                        <a:pt x="108" y="12"/>
                      </a:lnTo>
                      <a:lnTo>
                        <a:pt x="114" y="12"/>
                      </a:lnTo>
                      <a:lnTo>
                        <a:pt x="114" y="6"/>
                      </a:lnTo>
                      <a:lnTo>
                        <a:pt x="108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Freeform 809"/>
                <p:cNvSpPr/>
                <p:nvPr/>
              </p:nvSpPr>
              <p:spPr>
                <a:xfrm>
                  <a:off x="5336280" y="5341320"/>
                  <a:ext cx="11880" cy="172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18">
                      <a:moveTo>
                        <a:pt x="6" y="0"/>
                      </a:moveTo>
                      <a:lnTo>
                        <a:pt x="6" y="6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6" y="18"/>
                      </a:lnTo>
                      <a:lnTo>
                        <a:pt x="12" y="18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Freeform 810"/>
                <p:cNvSpPr/>
                <p:nvPr/>
              </p:nvSpPr>
              <p:spPr>
                <a:xfrm>
                  <a:off x="5521320" y="5341320"/>
                  <a:ext cx="23760" cy="23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24" y="18"/>
                      </a:lnTo>
                      <a:lnTo>
                        <a:pt x="24" y="24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Freeform 811"/>
                <p:cNvSpPr/>
                <p:nvPr/>
              </p:nvSpPr>
              <p:spPr>
                <a:xfrm>
                  <a:off x="5545080" y="5352840"/>
                  <a:ext cx="23760" cy="11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"/>
                      </a:lnTo>
                    </a:path>
                  </a:pathLst>
                </a:custGeom>
                <a:noFill/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7" name="Freeform 812"/>
              <p:cNvSpPr/>
              <p:nvPr/>
            </p:nvSpPr>
            <p:spPr>
              <a:xfrm>
                <a:off x="5599440" y="5353200"/>
                <a:ext cx="6120" cy="11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6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8" name="Freeform 813"/>
              <p:cNvSpPr/>
              <p:nvPr/>
            </p:nvSpPr>
            <p:spPr>
              <a:xfrm>
                <a:off x="5605560" y="5365080"/>
                <a:ext cx="23760" cy="1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4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9" name="Freeform 814"/>
              <p:cNvSpPr/>
              <p:nvPr/>
            </p:nvSpPr>
            <p:spPr>
              <a:xfrm>
                <a:off x="5629680" y="5359320"/>
                <a:ext cx="11880" cy="5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0" name="Freeform 815"/>
              <p:cNvSpPr/>
              <p:nvPr/>
            </p:nvSpPr>
            <p:spPr>
              <a:xfrm>
                <a:off x="5652360" y="5347440"/>
                <a:ext cx="36000" cy="230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6" h="24">
                    <a:moveTo>
                      <a:pt x="0" y="18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1" name="Freeform 816"/>
              <p:cNvSpPr/>
              <p:nvPr/>
            </p:nvSpPr>
            <p:spPr>
              <a:xfrm>
                <a:off x="5641560" y="5365080"/>
                <a:ext cx="10800" cy="57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Freeform 817"/>
              <p:cNvSpPr/>
              <p:nvPr/>
            </p:nvSpPr>
            <p:spPr>
              <a:xfrm>
                <a:off x="6034680" y="5365080"/>
                <a:ext cx="17640" cy="11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12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3" name="Freeform 818"/>
              <p:cNvSpPr/>
              <p:nvPr/>
            </p:nvSpPr>
            <p:spPr>
              <a:xfrm>
                <a:off x="5193360" y="5353200"/>
                <a:ext cx="1080" cy="230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4" name="Freeform 819"/>
              <p:cNvSpPr/>
              <p:nvPr/>
            </p:nvSpPr>
            <p:spPr>
              <a:xfrm>
                <a:off x="6082560" y="5365080"/>
                <a:ext cx="18000" cy="115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5" name="Freeform 820"/>
              <p:cNvSpPr/>
              <p:nvPr/>
            </p:nvSpPr>
            <p:spPr>
              <a:xfrm>
                <a:off x="6100560" y="5370840"/>
                <a:ext cx="11880" cy="5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6" name="Freeform 821"/>
              <p:cNvSpPr/>
              <p:nvPr/>
            </p:nvSpPr>
            <p:spPr>
              <a:xfrm>
                <a:off x="6112440" y="5370840"/>
                <a:ext cx="11880" cy="5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7" name="Freeform 822"/>
              <p:cNvSpPr/>
              <p:nvPr/>
            </p:nvSpPr>
            <p:spPr>
              <a:xfrm>
                <a:off x="6052320" y="5365080"/>
                <a:ext cx="29880" cy="17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0" h="18"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8" name="Freeform 823"/>
              <p:cNvSpPr/>
              <p:nvPr/>
            </p:nvSpPr>
            <p:spPr>
              <a:xfrm>
                <a:off x="5348520" y="5359320"/>
                <a:ext cx="5760" cy="230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24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9" name="Freeform 824"/>
              <p:cNvSpPr/>
              <p:nvPr/>
            </p:nvSpPr>
            <p:spPr>
              <a:xfrm>
                <a:off x="5193360" y="5376600"/>
                <a:ext cx="6120" cy="11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12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0" name="Line 825"/>
              <p:cNvSpPr/>
              <p:nvPr/>
            </p:nvSpPr>
            <p:spPr>
              <a:xfrm flipH="1">
                <a:off x="6004080" y="5388480"/>
                <a:ext cx="6120" cy="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1" name="Line 826"/>
              <p:cNvSpPr/>
              <p:nvPr/>
            </p:nvSpPr>
            <p:spPr>
              <a:xfrm>
                <a:off x="6010560" y="5388480"/>
                <a:ext cx="5760" cy="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2" name="Line 827"/>
              <p:cNvSpPr/>
              <p:nvPr/>
            </p:nvSpPr>
            <p:spPr>
              <a:xfrm flipH="1">
                <a:off x="5998680" y="5388480"/>
                <a:ext cx="5760" cy="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3" name="Line 828"/>
              <p:cNvSpPr/>
              <p:nvPr/>
            </p:nvSpPr>
            <p:spPr>
              <a:xfrm flipH="1">
                <a:off x="5993280" y="5388480"/>
                <a:ext cx="4680" cy="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4" name="Freeform 829"/>
              <p:cNvSpPr/>
              <p:nvPr/>
            </p:nvSpPr>
            <p:spPr>
              <a:xfrm>
                <a:off x="6016320" y="5376600"/>
                <a:ext cx="18000" cy="115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5" name="Line 830"/>
              <p:cNvSpPr/>
              <p:nvPr/>
            </p:nvSpPr>
            <p:spPr>
              <a:xfrm flipH="1">
                <a:off x="5987160" y="5388480"/>
                <a:ext cx="6120" cy="5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6" name="Line 831"/>
              <p:cNvSpPr/>
              <p:nvPr/>
            </p:nvSpPr>
            <p:spPr>
              <a:xfrm flipH="1">
                <a:off x="5981400" y="5394240"/>
                <a:ext cx="576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7" name="Line 832"/>
              <p:cNvSpPr/>
              <p:nvPr/>
            </p:nvSpPr>
            <p:spPr>
              <a:xfrm flipH="1">
                <a:off x="5969160" y="5394240"/>
                <a:ext cx="1188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8" name="Freeform 833"/>
              <p:cNvSpPr/>
              <p:nvPr/>
            </p:nvSpPr>
            <p:spPr>
              <a:xfrm>
                <a:off x="5354640" y="538272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79" name="Freeform 834"/>
              <p:cNvSpPr/>
              <p:nvPr/>
            </p:nvSpPr>
            <p:spPr>
              <a:xfrm>
                <a:off x="6219360" y="5388480"/>
                <a:ext cx="11880" cy="5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0" name="Freeform 835"/>
              <p:cNvSpPr/>
              <p:nvPr/>
            </p:nvSpPr>
            <p:spPr>
              <a:xfrm>
                <a:off x="5241600" y="5394240"/>
                <a:ext cx="17640" cy="57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1" name="Freeform 836"/>
              <p:cNvSpPr/>
              <p:nvPr/>
            </p:nvSpPr>
            <p:spPr>
              <a:xfrm>
                <a:off x="6297480" y="5370840"/>
                <a:ext cx="41040" cy="28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30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1" y="6"/>
                    </a:lnTo>
                    <a:lnTo>
                      <a:pt x="41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2" name="Freeform 837"/>
              <p:cNvSpPr/>
              <p:nvPr/>
            </p:nvSpPr>
            <p:spPr>
              <a:xfrm>
                <a:off x="6201360" y="5388480"/>
                <a:ext cx="17640" cy="11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12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3" name="Freeform 838"/>
              <p:cNvSpPr/>
              <p:nvPr/>
            </p:nvSpPr>
            <p:spPr>
              <a:xfrm>
                <a:off x="6231240" y="5394240"/>
                <a:ext cx="18000" cy="115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4" name="Freeform 839"/>
              <p:cNvSpPr/>
              <p:nvPr/>
            </p:nvSpPr>
            <p:spPr>
              <a:xfrm>
                <a:off x="5259600" y="5394240"/>
                <a:ext cx="6120" cy="11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5" name="Freeform 840"/>
              <p:cNvSpPr/>
              <p:nvPr/>
            </p:nvSpPr>
            <p:spPr>
              <a:xfrm>
                <a:off x="5092560" y="5400000"/>
                <a:ext cx="35640" cy="5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6" h="6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6" name="Freeform 841"/>
              <p:cNvSpPr/>
              <p:nvPr/>
            </p:nvSpPr>
            <p:spPr>
              <a:xfrm>
                <a:off x="6285600" y="5400000"/>
                <a:ext cx="11520" cy="5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7" name="Freeform 842"/>
              <p:cNvSpPr/>
              <p:nvPr/>
            </p:nvSpPr>
            <p:spPr>
              <a:xfrm>
                <a:off x="6249600" y="5400000"/>
                <a:ext cx="11880" cy="115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8" name="Freeform 843"/>
              <p:cNvSpPr/>
              <p:nvPr/>
            </p:nvSpPr>
            <p:spPr>
              <a:xfrm>
                <a:off x="5217480" y="5394240"/>
                <a:ext cx="23760" cy="172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0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89" name="Freeform 844"/>
              <p:cNvSpPr/>
              <p:nvPr/>
            </p:nvSpPr>
            <p:spPr>
              <a:xfrm>
                <a:off x="5199480" y="5388480"/>
                <a:ext cx="17640" cy="23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0" name="Freeform 845"/>
              <p:cNvSpPr/>
              <p:nvPr/>
            </p:nvSpPr>
            <p:spPr>
              <a:xfrm>
                <a:off x="6201360" y="5400000"/>
                <a:ext cx="6120" cy="11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12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1" name="Freeform 846"/>
              <p:cNvSpPr/>
              <p:nvPr/>
            </p:nvSpPr>
            <p:spPr>
              <a:xfrm>
                <a:off x="5963760" y="5394240"/>
                <a:ext cx="5760" cy="172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2" name="Line 847"/>
              <p:cNvSpPr/>
              <p:nvPr/>
            </p:nvSpPr>
            <p:spPr>
              <a:xfrm>
                <a:off x="6261480" y="5411880"/>
                <a:ext cx="5760" cy="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3" name="Freeform 848"/>
              <p:cNvSpPr/>
              <p:nvPr/>
            </p:nvSpPr>
            <p:spPr>
              <a:xfrm>
                <a:off x="5128560" y="5405760"/>
                <a:ext cx="16920" cy="11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0" y="0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4" name="Line 849"/>
              <p:cNvSpPr/>
              <p:nvPr/>
            </p:nvSpPr>
            <p:spPr>
              <a:xfrm>
                <a:off x="5145480" y="5417280"/>
                <a:ext cx="612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5" name="Line 850"/>
              <p:cNvSpPr/>
              <p:nvPr/>
            </p:nvSpPr>
            <p:spPr>
              <a:xfrm>
                <a:off x="5151600" y="5417280"/>
                <a:ext cx="576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6" name="Freeform 851"/>
              <p:cNvSpPr/>
              <p:nvPr/>
            </p:nvSpPr>
            <p:spPr>
              <a:xfrm>
                <a:off x="6118560" y="5376600"/>
                <a:ext cx="6120" cy="40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" h="42">
                    <a:moveTo>
                      <a:pt x="6" y="0"/>
                    </a:moveTo>
                    <a:lnTo>
                      <a:pt x="6" y="6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7" name="Freeform 852"/>
              <p:cNvSpPr/>
              <p:nvPr/>
            </p:nvSpPr>
            <p:spPr>
              <a:xfrm>
                <a:off x="6267600" y="5411880"/>
                <a:ext cx="11880" cy="5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8" name="Freeform 853"/>
              <p:cNvSpPr/>
              <p:nvPr/>
            </p:nvSpPr>
            <p:spPr>
              <a:xfrm>
                <a:off x="6279480" y="5405760"/>
                <a:ext cx="6120" cy="11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9" name="Freeform 854"/>
              <p:cNvSpPr/>
              <p:nvPr/>
            </p:nvSpPr>
            <p:spPr>
              <a:xfrm>
                <a:off x="5939640" y="5411880"/>
                <a:ext cx="23760" cy="10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6"/>
                    </a:moveTo>
                    <a:lnTo>
                      <a:pt x="6" y="6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0" name="Freeform 855"/>
              <p:cNvSpPr/>
              <p:nvPr/>
            </p:nvSpPr>
            <p:spPr>
              <a:xfrm>
                <a:off x="5068440" y="5400000"/>
                <a:ext cx="23760" cy="219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1" name="Line 856"/>
              <p:cNvSpPr/>
              <p:nvPr/>
            </p:nvSpPr>
            <p:spPr>
              <a:xfrm>
                <a:off x="6118560" y="5417280"/>
                <a:ext cx="1080" cy="46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2" name="Freeform 857"/>
              <p:cNvSpPr/>
              <p:nvPr/>
            </p:nvSpPr>
            <p:spPr>
              <a:xfrm>
                <a:off x="6189480" y="5411880"/>
                <a:ext cx="18000" cy="1044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6" y="11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3" name="Freeform 858"/>
              <p:cNvSpPr/>
              <p:nvPr/>
            </p:nvSpPr>
            <p:spPr>
              <a:xfrm>
                <a:off x="6136560" y="5417280"/>
                <a:ext cx="23760" cy="10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11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5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4" name="Freeform 859"/>
              <p:cNvSpPr/>
              <p:nvPr/>
            </p:nvSpPr>
            <p:spPr>
              <a:xfrm>
                <a:off x="6118560" y="5422320"/>
                <a:ext cx="17640" cy="57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5" name="Freeform 860"/>
              <p:cNvSpPr/>
              <p:nvPr/>
            </p:nvSpPr>
            <p:spPr>
              <a:xfrm>
                <a:off x="6183720" y="5422320"/>
                <a:ext cx="11880" cy="57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6" name="Freeform 861"/>
              <p:cNvSpPr/>
              <p:nvPr/>
            </p:nvSpPr>
            <p:spPr>
              <a:xfrm>
                <a:off x="6160320" y="5422320"/>
                <a:ext cx="6120" cy="57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7" name="Freeform 862"/>
              <p:cNvSpPr/>
              <p:nvPr/>
            </p:nvSpPr>
            <p:spPr>
              <a:xfrm>
                <a:off x="6166440" y="5422320"/>
                <a:ext cx="16920" cy="11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0" y="6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8" name="Freeform 863"/>
              <p:cNvSpPr/>
              <p:nvPr/>
            </p:nvSpPr>
            <p:spPr>
              <a:xfrm>
                <a:off x="5157360" y="5417280"/>
                <a:ext cx="29880" cy="16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0" h="17">
                    <a:moveTo>
                      <a:pt x="0" y="0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30" y="17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9" name="Freeform 864"/>
              <p:cNvSpPr/>
              <p:nvPr/>
            </p:nvSpPr>
            <p:spPr>
              <a:xfrm>
                <a:off x="5378400" y="5394240"/>
                <a:ext cx="36000" cy="39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30" y="29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36" y="29"/>
                    </a:lnTo>
                    <a:lnTo>
                      <a:pt x="36" y="35"/>
                    </a:lnTo>
                    <a:lnTo>
                      <a:pt x="36" y="41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0" name="Freeform 865"/>
              <p:cNvSpPr/>
              <p:nvPr/>
            </p:nvSpPr>
            <p:spPr>
              <a:xfrm>
                <a:off x="5903640" y="5411880"/>
                <a:ext cx="41760" cy="219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2" h="23">
                    <a:moveTo>
                      <a:pt x="0" y="11"/>
                    </a:moveTo>
                    <a:lnTo>
                      <a:pt x="6" y="17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1" name="Freeform 866"/>
              <p:cNvSpPr/>
              <p:nvPr/>
            </p:nvSpPr>
            <p:spPr>
              <a:xfrm>
                <a:off x="5187600" y="541188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23">
                    <a:moveTo>
                      <a:pt x="0" y="23"/>
                    </a:moveTo>
                    <a:lnTo>
                      <a:pt x="6" y="23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2" name="Freeform 867"/>
              <p:cNvSpPr/>
              <p:nvPr/>
            </p:nvSpPr>
            <p:spPr>
              <a:xfrm>
                <a:off x="5259600" y="5405760"/>
                <a:ext cx="1080" cy="338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" h="35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5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3" name="Freeform 868"/>
              <p:cNvSpPr/>
              <p:nvPr/>
            </p:nvSpPr>
            <p:spPr>
              <a:xfrm>
                <a:off x="5050800" y="5422320"/>
                <a:ext cx="17640" cy="23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4" name="Freeform 869"/>
              <p:cNvSpPr/>
              <p:nvPr/>
            </p:nvSpPr>
            <p:spPr>
              <a:xfrm>
                <a:off x="5259600" y="5428080"/>
                <a:ext cx="41760" cy="172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42" h="18">
                    <a:moveTo>
                      <a:pt x="0" y="12"/>
                    </a:moveTo>
                    <a:lnTo>
                      <a:pt x="6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5" name="Freeform 870"/>
              <p:cNvSpPr/>
              <p:nvPr/>
            </p:nvSpPr>
            <p:spPr>
              <a:xfrm>
                <a:off x="5885640" y="5422320"/>
                <a:ext cx="17640" cy="3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8" h="36">
                    <a:moveTo>
                      <a:pt x="0" y="30"/>
                    </a:moveTo>
                    <a:lnTo>
                      <a:pt x="6" y="30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6" name="Freeform 871"/>
              <p:cNvSpPr/>
              <p:nvPr/>
            </p:nvSpPr>
            <p:spPr>
              <a:xfrm>
                <a:off x="5050800" y="5445720"/>
                <a:ext cx="11520" cy="172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18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7" name="Freeform 872"/>
              <p:cNvSpPr/>
              <p:nvPr/>
            </p:nvSpPr>
            <p:spPr>
              <a:xfrm>
                <a:off x="5849640" y="5469120"/>
                <a:ext cx="11880" cy="5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6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8" name="Freeform 873"/>
              <p:cNvSpPr/>
              <p:nvPr/>
            </p:nvSpPr>
            <p:spPr>
              <a:xfrm>
                <a:off x="5861520" y="5451480"/>
                <a:ext cx="23760" cy="23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9" name="Freeform 874"/>
              <p:cNvSpPr/>
              <p:nvPr/>
            </p:nvSpPr>
            <p:spPr>
              <a:xfrm>
                <a:off x="5301360" y="5439960"/>
                <a:ext cx="16920" cy="40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7" h="42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11" y="30"/>
                    </a:lnTo>
                    <a:lnTo>
                      <a:pt x="11" y="36"/>
                    </a:lnTo>
                    <a:lnTo>
                      <a:pt x="17" y="36"/>
                    </a:lnTo>
                    <a:lnTo>
                      <a:pt x="17" y="4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0" name="Freeform 875"/>
              <p:cNvSpPr/>
              <p:nvPr/>
            </p:nvSpPr>
            <p:spPr>
              <a:xfrm>
                <a:off x="5855400" y="5474880"/>
                <a:ext cx="18000" cy="172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18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1" name="Freeform 876"/>
              <p:cNvSpPr/>
              <p:nvPr/>
            </p:nvSpPr>
            <p:spPr>
              <a:xfrm>
                <a:off x="5867280" y="5492520"/>
                <a:ext cx="6120" cy="17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0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2" name="Freeform 877"/>
              <p:cNvSpPr/>
              <p:nvPr/>
            </p:nvSpPr>
            <p:spPr>
              <a:xfrm>
                <a:off x="5861520" y="5509800"/>
                <a:ext cx="5760" cy="172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3" name="Freeform 878"/>
              <p:cNvSpPr/>
              <p:nvPr/>
            </p:nvSpPr>
            <p:spPr>
              <a:xfrm>
                <a:off x="5855400" y="55274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6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4" name="Freeform 879"/>
              <p:cNvSpPr/>
              <p:nvPr/>
            </p:nvSpPr>
            <p:spPr>
              <a:xfrm>
                <a:off x="5849640" y="5533200"/>
                <a:ext cx="11880" cy="7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5" name="Freeform 880"/>
              <p:cNvSpPr/>
              <p:nvPr/>
            </p:nvSpPr>
            <p:spPr>
              <a:xfrm>
                <a:off x="5318280" y="5480640"/>
                <a:ext cx="23760" cy="64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24" h="66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24" y="6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6" name="Freeform 881"/>
              <p:cNvSpPr/>
              <p:nvPr/>
            </p:nvSpPr>
            <p:spPr>
              <a:xfrm>
                <a:off x="5843520" y="5533200"/>
                <a:ext cx="11880" cy="288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7" name="Freeform 882"/>
              <p:cNvSpPr/>
              <p:nvPr/>
            </p:nvSpPr>
            <p:spPr>
              <a:xfrm>
                <a:off x="5837400" y="5556600"/>
                <a:ext cx="5760" cy="54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8" name="Freeform 883"/>
              <p:cNvSpPr/>
              <p:nvPr/>
            </p:nvSpPr>
            <p:spPr>
              <a:xfrm>
                <a:off x="5462280" y="5556600"/>
                <a:ext cx="16920" cy="172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7" y="18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29" name="Line 884"/>
              <p:cNvSpPr/>
              <p:nvPr/>
            </p:nvSpPr>
            <p:spPr>
              <a:xfrm flipH="1" flipV="1">
                <a:off x="5342040" y="5544720"/>
                <a:ext cx="29880" cy="28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0" name="Freeform 885"/>
              <p:cNvSpPr/>
              <p:nvPr/>
            </p:nvSpPr>
            <p:spPr>
              <a:xfrm>
                <a:off x="5820480" y="5556600"/>
                <a:ext cx="16920" cy="230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7" h="24">
                    <a:moveTo>
                      <a:pt x="0" y="24"/>
                    </a:move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1" name="Line 886"/>
              <p:cNvSpPr/>
              <p:nvPr/>
            </p:nvSpPr>
            <p:spPr>
              <a:xfrm flipH="1" flipV="1">
                <a:off x="5371920" y="5573880"/>
                <a:ext cx="11880" cy="5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2" name="Freeform 887"/>
              <p:cNvSpPr/>
              <p:nvPr/>
            </p:nvSpPr>
            <p:spPr>
              <a:xfrm>
                <a:off x="5730480" y="5580000"/>
                <a:ext cx="23760" cy="540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0" y="0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3" name="Line 888"/>
              <p:cNvSpPr/>
              <p:nvPr/>
            </p:nvSpPr>
            <p:spPr>
              <a:xfrm flipV="1">
                <a:off x="5384520" y="5579640"/>
                <a:ext cx="1080" cy="5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4" name="Freeform 889"/>
              <p:cNvSpPr/>
              <p:nvPr/>
            </p:nvSpPr>
            <p:spPr>
              <a:xfrm>
                <a:off x="5820480" y="5580000"/>
                <a:ext cx="4680" cy="5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0" y="6"/>
                    </a:move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5" name="Line 890"/>
              <p:cNvSpPr/>
              <p:nvPr/>
            </p:nvSpPr>
            <p:spPr>
              <a:xfrm flipH="1" flipV="1">
                <a:off x="5384160" y="5585400"/>
                <a:ext cx="6120" cy="5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6" name="Line 891"/>
              <p:cNvSpPr/>
              <p:nvPr/>
            </p:nvSpPr>
            <p:spPr>
              <a:xfrm flipH="1">
                <a:off x="5390640" y="5591520"/>
                <a:ext cx="5760" cy="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7" name="Freeform 892"/>
              <p:cNvSpPr/>
              <p:nvPr/>
            </p:nvSpPr>
            <p:spPr>
              <a:xfrm>
                <a:off x="5414760" y="5556600"/>
                <a:ext cx="47520" cy="34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8" h="36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8" name="Freeform 893"/>
              <p:cNvSpPr/>
              <p:nvPr/>
            </p:nvSpPr>
            <p:spPr>
              <a:xfrm>
                <a:off x="5712480" y="5580000"/>
                <a:ext cx="17640" cy="17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0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39" name="Line 894"/>
              <p:cNvSpPr/>
              <p:nvPr/>
            </p:nvSpPr>
            <p:spPr>
              <a:xfrm flipV="1">
                <a:off x="5688360" y="5585400"/>
                <a:ext cx="720" cy="11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0" name="Line 895"/>
              <p:cNvSpPr/>
              <p:nvPr/>
            </p:nvSpPr>
            <p:spPr>
              <a:xfrm flipV="1">
                <a:off x="5396400" y="5591160"/>
                <a:ext cx="1080" cy="5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1" name="Freeform 896"/>
              <p:cNvSpPr/>
              <p:nvPr/>
            </p:nvSpPr>
            <p:spPr>
              <a:xfrm>
                <a:off x="5664600" y="5585400"/>
                <a:ext cx="23760" cy="11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12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2" name="Freeform 897"/>
              <p:cNvSpPr/>
              <p:nvPr/>
            </p:nvSpPr>
            <p:spPr>
              <a:xfrm>
                <a:off x="5694480" y="5585400"/>
                <a:ext cx="18000" cy="115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3" name="Line 898"/>
              <p:cNvSpPr/>
              <p:nvPr/>
            </p:nvSpPr>
            <p:spPr>
              <a:xfrm>
                <a:off x="5658480" y="5597280"/>
                <a:ext cx="576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4" name="Line 899"/>
              <p:cNvSpPr/>
              <p:nvPr/>
            </p:nvSpPr>
            <p:spPr>
              <a:xfrm flipH="1">
                <a:off x="5396040" y="5597280"/>
                <a:ext cx="612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5" name="Freeform 900"/>
              <p:cNvSpPr/>
              <p:nvPr/>
            </p:nvSpPr>
            <p:spPr>
              <a:xfrm>
                <a:off x="5474520" y="5573880"/>
                <a:ext cx="16920" cy="230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7" h="24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18"/>
                    </a:lnTo>
                    <a:lnTo>
                      <a:pt x="11" y="24"/>
                    </a:lnTo>
                    <a:lnTo>
                      <a:pt x="17" y="24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6" name="Freeform 901"/>
              <p:cNvSpPr/>
              <p:nvPr/>
            </p:nvSpPr>
            <p:spPr>
              <a:xfrm>
                <a:off x="5402520" y="5591520"/>
                <a:ext cx="11880" cy="104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0" y="6"/>
                    </a:move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7" name="Freeform 902"/>
              <p:cNvSpPr/>
              <p:nvPr/>
            </p:nvSpPr>
            <p:spPr>
              <a:xfrm>
                <a:off x="5688360" y="5597280"/>
                <a:ext cx="5760" cy="46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0" y="5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8" name="Line 903"/>
              <p:cNvSpPr/>
              <p:nvPr/>
            </p:nvSpPr>
            <p:spPr>
              <a:xfrm>
                <a:off x="5688360" y="5597280"/>
                <a:ext cx="720" cy="46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49" name="Line 904"/>
              <p:cNvSpPr/>
              <p:nvPr/>
            </p:nvSpPr>
            <p:spPr>
              <a:xfrm>
                <a:off x="5491440" y="5597280"/>
                <a:ext cx="1080" cy="46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0" name="Freeform 905"/>
              <p:cNvSpPr/>
              <p:nvPr/>
            </p:nvSpPr>
            <p:spPr>
              <a:xfrm>
                <a:off x="5790600" y="55800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23">
                    <a:moveTo>
                      <a:pt x="0" y="12"/>
                    </a:moveTo>
                    <a:lnTo>
                      <a:pt x="0" y="18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1" name="Freeform 906"/>
              <p:cNvSpPr/>
              <p:nvPr/>
            </p:nvSpPr>
            <p:spPr>
              <a:xfrm>
                <a:off x="5754600" y="5591520"/>
                <a:ext cx="11880" cy="104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0" y="11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2" name="Freeform 907"/>
              <p:cNvSpPr/>
              <p:nvPr/>
            </p:nvSpPr>
            <p:spPr>
              <a:xfrm>
                <a:off x="5748480" y="5585400"/>
                <a:ext cx="5760" cy="162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" h="17">
                    <a:moveTo>
                      <a:pt x="6" y="0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6" y="17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3" name="Freeform 908"/>
              <p:cNvSpPr/>
              <p:nvPr/>
            </p:nvSpPr>
            <p:spPr>
              <a:xfrm>
                <a:off x="5784480" y="5585400"/>
                <a:ext cx="6120" cy="16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" h="17">
                    <a:moveTo>
                      <a:pt x="0" y="17"/>
                    </a:move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4" name="Freeform 909"/>
              <p:cNvSpPr/>
              <p:nvPr/>
            </p:nvSpPr>
            <p:spPr>
              <a:xfrm>
                <a:off x="5766480" y="5591520"/>
                <a:ext cx="17640" cy="104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0" y="0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5" name="Freeform 910"/>
              <p:cNvSpPr/>
              <p:nvPr/>
            </p:nvSpPr>
            <p:spPr>
              <a:xfrm>
                <a:off x="5658480" y="5597280"/>
                <a:ext cx="720" cy="10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1" h="11">
                    <a:moveTo>
                      <a:pt x="0" y="11"/>
                    </a:move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6" name="Freeform 911"/>
              <p:cNvSpPr/>
              <p:nvPr/>
            </p:nvSpPr>
            <p:spPr>
              <a:xfrm>
                <a:off x="5491440" y="5601960"/>
                <a:ext cx="11880" cy="115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7" name="Freeform 912"/>
              <p:cNvSpPr/>
              <p:nvPr/>
            </p:nvSpPr>
            <p:spPr>
              <a:xfrm>
                <a:off x="5503320" y="5613840"/>
                <a:ext cx="11880" cy="7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8" name="Line 913"/>
              <p:cNvSpPr/>
              <p:nvPr/>
            </p:nvSpPr>
            <p:spPr>
              <a:xfrm>
                <a:off x="5515560" y="5613840"/>
                <a:ext cx="720" cy="5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59" name="Freeform 914"/>
              <p:cNvSpPr/>
              <p:nvPr/>
            </p:nvSpPr>
            <p:spPr>
              <a:xfrm>
                <a:off x="5623560" y="5608080"/>
                <a:ext cx="11880" cy="115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60" name="Freeform 915"/>
              <p:cNvSpPr/>
              <p:nvPr/>
            </p:nvSpPr>
            <p:spPr>
              <a:xfrm>
                <a:off x="5635440" y="5597280"/>
                <a:ext cx="23040" cy="223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23"/>
                    </a:move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2" y="5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3" y="11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61" name="Freeform 916"/>
              <p:cNvSpPr/>
              <p:nvPr/>
            </p:nvSpPr>
            <p:spPr>
              <a:xfrm>
                <a:off x="5515560" y="561960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62" name="Line 917"/>
              <p:cNvSpPr/>
              <p:nvPr/>
            </p:nvSpPr>
            <p:spPr>
              <a:xfrm>
                <a:off x="5539680" y="5631120"/>
                <a:ext cx="576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63" name="Freeform 918"/>
              <p:cNvSpPr/>
              <p:nvPr/>
            </p:nvSpPr>
            <p:spPr>
              <a:xfrm>
                <a:off x="5617440" y="5608080"/>
                <a:ext cx="11880" cy="288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6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64" name="Freeform 919"/>
              <p:cNvSpPr/>
              <p:nvPr/>
            </p:nvSpPr>
            <p:spPr>
              <a:xfrm>
                <a:off x="5611320" y="5619600"/>
                <a:ext cx="11880" cy="230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6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18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65" name="Freeform 920"/>
              <p:cNvSpPr/>
              <p:nvPr/>
            </p:nvSpPr>
            <p:spPr>
              <a:xfrm>
                <a:off x="5581440" y="5637240"/>
                <a:ext cx="36000" cy="115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6" h="12">
                    <a:moveTo>
                      <a:pt x="0" y="6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66" name="Freeform 921"/>
              <p:cNvSpPr/>
              <p:nvPr/>
            </p:nvSpPr>
            <p:spPr>
              <a:xfrm>
                <a:off x="5545440" y="5631120"/>
                <a:ext cx="36000" cy="230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6" h="24">
                    <a:moveTo>
                      <a:pt x="0" y="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Ohio Riv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068" name="Picture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962520" cy="274176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4"/>
          <p:cNvSpPr/>
          <p:nvPr/>
        </p:nvSpPr>
        <p:spPr>
          <a:xfrm>
            <a:off x="762120" y="4800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ittsburgh, Pennsylvan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070" name="Picture 5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49800" cy="277956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6"/>
          <p:cNvSpPr/>
          <p:nvPr/>
        </p:nvSpPr>
        <p:spPr>
          <a:xfrm>
            <a:off x="4800600" y="6172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ducah, Kentuck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ic Pollution Proble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900s- Low dissolved oxyge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920s- Phenol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→ taste &amp; odor problem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1930s- gastroenteritis outbreak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SANCO’s Beginn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934- Cincinnati Cleanup Campaig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936- Congress authorizes Compact negotiation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939- Compact approved by IN, WV, OH, NY, I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940- Compact approved by Congress, K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948- Compact is sign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ssion of ORSAN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rect action and coordination of state activities to improve water quality in the Ohio River Basi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astes discharged in one state shall not “injuriously affect” the waters of another sta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pact authorizes Commission to adopt rules, regulations and stand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2"/>
          <p:cNvSpPr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Georgia"/>
              </a:rPr>
              <a:t>Commission Structu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2971800" y="1828800"/>
            <a:ext cx="3809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3 Commissioners per State = 24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3 Federal Commissioners = 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Total Commissioners = 27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0" name="Line 4"/>
          <p:cNvSpPr/>
          <p:nvPr/>
        </p:nvSpPr>
        <p:spPr>
          <a:xfrm>
            <a:off x="3962520" y="2971800"/>
            <a:ext cx="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1" name="Line 7"/>
          <p:cNvSpPr/>
          <p:nvPr/>
        </p:nvSpPr>
        <p:spPr>
          <a:xfrm>
            <a:off x="5867280" y="2971800"/>
            <a:ext cx="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2" name="Rectangle 9"/>
          <p:cNvSpPr/>
          <p:nvPr/>
        </p:nvSpPr>
        <p:spPr>
          <a:xfrm>
            <a:off x="2057400" y="327672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Stand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Committe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3" name="Rectangle 11"/>
          <p:cNvSpPr/>
          <p:nvPr/>
        </p:nvSpPr>
        <p:spPr>
          <a:xfrm>
            <a:off x="5715000" y="3276720"/>
            <a:ext cx="1676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Advisor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Committe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4" name="Line 12"/>
          <p:cNvSpPr/>
          <p:nvPr/>
        </p:nvSpPr>
        <p:spPr>
          <a:xfrm>
            <a:off x="4800600" y="2971800"/>
            <a:ext cx="0" cy="16002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5" name="Rectangle 13"/>
          <p:cNvSpPr/>
          <p:nvPr/>
        </p:nvSpPr>
        <p:spPr>
          <a:xfrm>
            <a:off x="3429000" y="4572000"/>
            <a:ext cx="2819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ORSANCO Staff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6" name="Line 14"/>
          <p:cNvSpPr/>
          <p:nvPr/>
        </p:nvSpPr>
        <p:spPr>
          <a:xfrm>
            <a:off x="4800600" y="5181480"/>
            <a:ext cx="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7" name="Rectangle 15"/>
          <p:cNvSpPr/>
          <p:nvPr/>
        </p:nvSpPr>
        <p:spPr>
          <a:xfrm>
            <a:off x="3962520" y="5562720"/>
            <a:ext cx="1752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Technic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8" name="Rectangle 16"/>
          <p:cNvSpPr/>
          <p:nvPr/>
        </p:nvSpPr>
        <p:spPr>
          <a:xfrm>
            <a:off x="1981080" y="556272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Administrativ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9" name="Line 17"/>
          <p:cNvSpPr/>
          <p:nvPr/>
        </p:nvSpPr>
        <p:spPr>
          <a:xfrm flipH="1">
            <a:off x="3276360" y="5181480"/>
            <a:ext cx="15228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90" name="Rectangle 18"/>
          <p:cNvSpPr/>
          <p:nvPr/>
        </p:nvSpPr>
        <p:spPr>
          <a:xfrm>
            <a:off x="5943600" y="556272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Publ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Georgia"/>
              </a:rPr>
              <a:t>Informatio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91" name="Line 19"/>
          <p:cNvSpPr/>
          <p:nvPr/>
        </p:nvSpPr>
        <p:spPr>
          <a:xfrm>
            <a:off x="6248520" y="5181480"/>
            <a:ext cx="22860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SANCO Fund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tate shares established in the Compac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ederal 106 gra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rected penalt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ributions support certain program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ants for specific stud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5:33:38Z</dcterms:created>
  <dc:creator>peter</dc:creator>
  <dc:description/>
  <dc:language>en-US</dc:language>
  <cp:lastModifiedBy>jklear</cp:lastModifiedBy>
  <dcterms:modified xsi:type="dcterms:W3CDTF">2013-07-22T15:16:37Z</dcterms:modified>
  <cp:revision>30</cp:revision>
  <dc:subject/>
  <dc:title>PowerPoint Presentation</dc:title>
</cp:coreProperties>
</file>