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98D2F-A8A2-427B-9D93-28D439C9D1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7210E4-F8F7-479F-ACD5-913EA52CB9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:  1.  The $1.53 B represents the cost of BNR at all 130 facilities.  The amount shows that there is a serious financial commitment.  This cost is spread over ~20 years.  Accuracy is within ~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n instantaneous cost, rather, the cost is spread over ti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This approach is practical for activated sludge facilities, with an added cost of ~$8/month; not feasible, for example, for aerated lagoon systems.  Feasibility is determined by not more than 2% of median household in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Will consider the need to implement on a case-by-case basis:  there is no requirement for implem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7CAAB7-9862-4FC8-9E48-E14F27E026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C4D61E-F0FE-468A-9EF5-45E4F23CD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4239-C5D5-4947-B083-C7216970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E6BE-6116-418C-9501-EAF24CA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7C9A-A167-4921-8A3A-3A858A0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3409-6282-43F9-9D40-57AC18F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1C85-41F8-42A0-8950-7E6F5098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68288-A9D8-4E88-A176-39EB3F8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312FB-CD72-42A4-8747-D304EB7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A4DC-1048-40C6-B25F-5D03449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F6C3-8603-4F26-AB7D-ACCB2818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370D9-D1FA-42DA-8390-6D9D1093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154F-14DE-479D-8A15-AE0524CB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6074C-2D31-4C69-94DD-FD11FC9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FC98B-F7C3-4ACD-ADF6-20213DB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DFB9-143D-4414-A96B-456642CE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879B-A990-4506-8D70-E455E5A9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1929-F3F1-4173-AF0C-BF025DA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D216-6FFF-4DF8-B2CF-ACAD737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C3EC-1DFD-4EA5-8229-00C9DEE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8F92-9744-467D-BBBB-3202B78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28847-3BB8-49D6-9EF3-DE93285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BBEB-D893-40B2-AED4-DE8B882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5A6A9-0733-4456-892A-B815CEF1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89F22-11B3-4243-AE92-4039B6F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DDD2A-2288-4948-85EC-2A410213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BC0A-1306-4F5F-83A8-35AF1406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7131E-FFAF-4695-BBCE-46B4BB1B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EF618-5017-464F-9DAF-61A592FC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C6C5D-5C9B-4DBF-95F4-D0AC6C9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1BD1A-DB0B-4624-BDE8-1791A25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1306D-9986-4A9F-BA9D-E32D405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D5F5E-7F16-408C-B96F-37C0FBD4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4A331-1290-41C5-8683-D997FE6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BD493-27B2-4CE0-9123-21771D3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B329F-8B36-4CB1-A383-D2004101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2272-2E17-4BA4-A1D0-AAFD4FAA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72E18-4AD1-42CB-8C3E-81F1527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8DC76-E386-4908-BBDC-176138F1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9233-289E-4721-9A00-A73BAE1D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CF942-9908-4A21-95CB-CFB651D6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E98F-CC24-4982-ADA4-056E94F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09D30-7FD3-4B81-8C29-CD10405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36B5B-C0A0-4B7A-A820-3B3782C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A5C55-9F72-4E02-9114-A39585A5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9FFDB-C6F5-4C0E-8AD8-035B1533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7166-C156-45A6-B1D0-F53772A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A970-5996-4CED-A524-BC622AC9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D55BC-A64B-429E-A337-6661C82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B3DBF-5AEF-4CEC-B718-22B2441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1DAB-9A82-49F5-AE9A-4B22941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CD24-6591-4A1B-931A-D0AB22F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22F1-85ED-44BD-BC20-ADA23D0A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F1BFD-23B9-4E41-9CEA-8D979D9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B2664-9C0B-462B-B918-5FD1743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07405-63A9-4E87-9AF0-879AD09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F86F-C951-4EA1-8CED-B34725EC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66A52-337E-420F-99D0-33A02584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F010-0C99-41F6-A7D8-E226D8D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416-14C3-4916-BB42-A02F844E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9D4-FAE4-4579-B4DB-D508840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829-3588-4EA0-A626-761D8F3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CC9-F466-484C-86CF-A0566F7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9A0-A606-4582-885C-8DC0BEA5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AF9-0870-4EA1-B573-6F7D446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D81-04B3-4F5E-95CE-8105399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680-7972-4E9F-A5EA-881643F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765-A812-4A49-9F06-005AFED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F9E-9AF2-4648-95FF-F9B24360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136-52B0-48D4-BCF9-0A2EB1AD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410-4828-46CC-8679-D090C9ED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BEF6-A336-4404-971A-B55963ED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38E-31C9-4F1F-A15C-6B1CD680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D50E-7B4D-4A07-84A8-1B83A7C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256-9943-4A12-AF33-B81AD32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F54-D64F-4667-9835-BFC5AAAD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2B33-2A03-4D6C-A430-B4AE699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D50-D81D-44F8-9529-11A306C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891-4C8B-4658-A5AE-6FC1860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FDC5-A37D-487A-99CB-9500E5B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8E3-047C-4F2A-A519-0581028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834-B68B-4B8B-B273-D76F738F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16DF-8F50-44AC-BAD2-F9ACF1E7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DF30-0828-4338-AE8D-0FE26A0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FAB2-60F0-4D3E-916F-67CFD40A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2526-FAAF-4E13-8FB3-43764C0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D891-61D7-41A9-A1C3-DFFAA42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F5D8-92F0-44FD-8144-8B6CEC35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1858-D45F-4F54-8AFA-931977D2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84F6-963A-4C3B-BADD-A509568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3EF9-E58F-4673-A30C-C232B1F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5E03-A398-4DAF-BBC3-99CDE8E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888E-9C3A-4BD1-917A-F11BABB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3C45-31BA-422A-B475-D4A82CA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091B-2D4E-4528-AE18-6BAFEEF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A9CC-5C83-4C80-98FF-BC7646FA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C6F8-6352-454A-AF3A-B08A022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1275-96C1-4D0A-9ACB-8A3C19B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413A-9E04-4FB1-9D96-B5B4251C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7A1E-F78E-4136-A45B-80B4042A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F4A6-21C4-4462-9B45-ECA50D3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4825-3696-4B4C-BC35-35F167F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196A-AF5B-40A5-ADF7-9858C83F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3ED6-12BE-4A41-A184-BBD4A99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DB35-5D5C-47F1-9521-94FE177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3F33-04A9-4A7A-8AD1-CF7690FC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EA2A-B126-4BBF-B7A9-6F62B74B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CDF7-A2FF-478B-8631-919490A4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7A2D-E9BB-47F8-A683-BE51BAF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2B92-1FD7-4A2A-AB0E-93C32889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4ECE-6AAA-4261-A825-A3F31D2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EEE6-06DB-4860-8ADB-45E58D3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D073-B959-4634-9A4D-3B88B67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5588-9A96-4B84-9C98-83F0567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2A2E-AE63-4617-B0FC-DB9D7EB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6283-1BDC-4A9B-9FFF-A93D416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D44B-3F36-4DDA-A46D-CE619FD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A1FB-4443-4D25-8F23-B7A0CD38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9D9C-8342-4534-924B-E8B5C988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C137-DEE0-483F-9F0E-596FDB4B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1532-1595-4F5F-94A4-69BF2B3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9AFC-F567-434D-9F3A-4CE100BF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99FE-442C-46CE-B735-45DCB12A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55ECB-7C69-4DA5-801D-0FAF6A1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21F1F-9CB1-4E77-98D6-B863AB0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5EE9-E8FC-4B45-8000-BE54CDD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967D-9897-40E5-803D-0383AAB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5255-98E1-4C07-BD4B-DA478D8B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7668-CD63-45C4-A37A-0F9CDB3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F674-1D05-4EFA-B540-816DCADB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077E-DE86-404E-BF63-4B286708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8494D-7730-49EC-93C4-CD9145E8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2C2C9-F4A2-4740-96CE-A5AA11F1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5F7F-6419-41AD-AD0C-04107D7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egtempCover"/>
          <p:cNvPicPr/>
          <p:nvPr/>
        </p:nvPicPr>
        <p:blipFill>
          <a:blip r:embed="rId2"/>
          <a:stretch/>
        </p:blipFill>
        <p:spPr>
          <a:xfrm>
            <a:off x="223920" y="2550960"/>
            <a:ext cx="8691480" cy="1852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NR_logo"/>
          <p:cNvPicPr/>
          <p:nvPr/>
        </p:nvPicPr>
        <p:blipFill>
          <a:blip r:embed="rId3"/>
          <a:stretch/>
        </p:blipFill>
        <p:spPr>
          <a:xfrm>
            <a:off x="3913200" y="1371600"/>
            <a:ext cx="131616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1706-2157-4188-8A2A-236730EF30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1594-412E-4F7D-8392-B22492A1EC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EBB8-C9A0-4F00-B6FA-86FD389938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97E-1600-4044-9DB2-57CE10CC85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pic>
        <p:nvPicPr>
          <p:cNvPr id="40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07F-587F-4F55-A59C-9C6AB8796D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ooter_graphic.png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B89D-D9EA-4F47-9557-492D32253B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707-D05C-441D-AE24-18800F65AD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FC6-F670-450B-824A-9D9A9765F4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B31-18E6-4E19-A92F-8EF71C3BC4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391-FF3C-451A-8DE6-8E70966C8A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footer_graphic.png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5f61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707-6EE4-4B7C-BA45-25F0DD5200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utrientstrategy.iastate.edu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adam.schnieders@dnr.iowa.gov" TargetMode="External"/><Relationship Id="rId3" Type="http://schemas.openxmlformats.org/officeDocument/2006/relationships/hyperlink" Target="mailto:John.olson@dnr.iowa.gov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Implementation Details</a:t>
            </a: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Submit feasibility and planning study within two year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DNR reviews study 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Negotiate Construction schedule 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Amend permit to incorporate the schedule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Limits incorporated in permit following one year performance evaluatio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Benefit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Regulatory certainty – 10 year assurance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Economic Consideration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Ability to fine tune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Annual average permit limit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Numeric Nutrient Criteria to be assessed long term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Cost and Affordability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144360" y="1371600"/>
            <a:ext cx="8847360" cy="2043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7086600" y="3581280"/>
            <a:ext cx="18288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tal Present Worth 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.53 ($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tal Capital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.00 ($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52280" y="3505320"/>
          <a:ext cx="6934320" cy="3551040"/>
        </p:xfrm>
        <a:graphic>
          <a:graphicData uri="http://schemas.openxmlformats.org/drawingml/2006/table">
            <a:tbl>
              <a:tblPr/>
              <a:tblGrid>
                <a:gridCol w="1303560"/>
                <a:gridCol w="680760"/>
                <a:gridCol w="793800"/>
                <a:gridCol w="795600"/>
                <a:gridCol w="920520"/>
                <a:gridCol w="879480"/>
                <a:gridCol w="879480"/>
                <a:gridCol w="681120"/>
              </a:tblGrid>
              <a:tr h="42876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ted Costs for BNR Improvements for all Industries with Biological Treatment (Target Effluent TN = 10 mg/L, Target Effluent TP = 1 mg/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Fac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 Design  Flow (MG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apital Cost ($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nnual O&amp;M Cost ($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esent Worth Cost ($M)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nnual Cost ($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/1,000 gallons Treated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ated Slu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Fi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ated Lag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ounded Rectangle 5"/>
          <p:cNvSpPr/>
          <p:nvPr/>
        </p:nvSpPr>
        <p:spPr>
          <a:xfrm>
            <a:off x="7086600" y="1905120"/>
            <a:ext cx="1905120" cy="1218960"/>
          </a:xfrm>
          <a:prstGeom prst="roundRect">
            <a:avLst>
              <a:gd name="adj" fmla="val 16667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7"/>
          <p:cNvSpPr/>
          <p:nvPr/>
        </p:nvSpPr>
        <p:spPr>
          <a:xfrm>
            <a:off x="7086600" y="3429000"/>
            <a:ext cx="1752480" cy="205740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057400"/>
              <a:gd name="textAreaBottom" fmla="*/ 1972080 h 2057400"/>
            </a:gdLst>
            <a:ahLst/>
            <a:rect l="textAreaLeft" t="textAreaTop" r="textAreaRight" b="textAreaBottom"/>
            <a:pathLst>
              <a:path w="21600" h="25357">
                <a:moveTo>
                  <a:pt x="3600" y="0"/>
                </a:moveTo>
                <a:arcTo wR="3600" hR="3600" stAng="16200000" swAng="-5400000"/>
                <a:lnTo>
                  <a:pt x="0" y="21757"/>
                </a:lnTo>
                <a:arcTo wR="3600" hR="3600" stAng="10800000" swAng="-5400000"/>
                <a:lnTo>
                  <a:pt x="18000" y="25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Status: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4 public meetings held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Public comment period closed January 18, 2013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1,700+ comments received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Reviewed comments and made improvements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Document final as of May 29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Documents and public comments can be accessed at: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utrientstrategy.iastate.ed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Questions?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pic>
        <p:nvPicPr>
          <p:cNvPr id="578" name="Picture 2" descr="Albany Bridge_009_edited-10"/>
          <p:cNvPicPr/>
          <p:nvPr/>
        </p:nvPicPr>
        <p:blipFill>
          <a:blip r:embed="rId1"/>
          <a:stretch/>
        </p:blipFill>
        <p:spPr>
          <a:xfrm>
            <a:off x="533520" y="1325520"/>
            <a:ext cx="5790960" cy="46324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6477120" y="4800600"/>
            <a:ext cx="26668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dam Schnie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515.281.7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dam.schnieders@dnr.iowa.go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6477120" y="373392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O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John.olson@dnr.iow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15-281-89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6e8f"/>
                </a:solidFill>
                <a:latin typeface="Calibri"/>
              </a:rPr>
              <a:t>Iowa Nutrient Reduction Strategy:</a:t>
            </a:r>
            <a:br>
              <a:rPr sz="4000"/>
            </a:br>
            <a:r>
              <a:rPr b="0" lang="en-US" sz="4000" spc="-1" strike="noStrike">
                <a:solidFill>
                  <a:srgbClr val="3a6e8f"/>
                </a:solidFill>
                <a:latin typeface="Calibri"/>
              </a:rPr>
              <a:t>Point Source Reductions</a:t>
            </a:r>
            <a:endParaRPr b="0" lang="en-US" sz="40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Excerpts from a presentation prepared by 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Adam Schnieders,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NPDES Program Supervisor,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Iowa Department of Natural Resources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April 2013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PS and NPS Common Threads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Acknowledgement of the problem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Recognition that traditional approaches are not workable (e.g. cost, technically)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Willingness to want to do something now to make progress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Needs to be practical in its implementation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Iowa Strategy General Approach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Achieve nutrient load reductions through technology-based actions, while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2) Continuing to assess and evaluate nutrient water quality standards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Point Source Strategy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In Iowa point sources contribute 8% of the TN and 20% of the TP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Point sources can have greater impacts at </a:t>
            </a:r>
            <a:r>
              <a:rPr b="0" lang="en-US" sz="2200" spc="-1" strike="noStrike" u="sng">
                <a:solidFill>
                  <a:srgbClr val="5f6161"/>
                </a:solidFill>
                <a:uFillTx/>
                <a:latin typeface="Calibri"/>
              </a:rPr>
              <a:t>low flows</a:t>
            </a: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 and </a:t>
            </a:r>
            <a:r>
              <a:rPr b="0" lang="en-US" sz="2200" spc="-1" strike="noStrike" u="sng">
                <a:solidFill>
                  <a:srgbClr val="5f6161"/>
                </a:solidFill>
                <a:uFillTx/>
                <a:latin typeface="Calibri"/>
              </a:rPr>
              <a:t>certain watersheds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Similar to Kansas approach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Working closely with CWA regulated community 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Use existing rules (Chapter 567 IAC Chapter 62)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Use technology-based limits in lieu of nutrient criteria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Limits based on the </a:t>
            </a:r>
            <a:r>
              <a:rPr b="0" lang="en-US" sz="2200" spc="-1" strike="noStrike" u="sng">
                <a:solidFill>
                  <a:srgbClr val="5f6161"/>
                </a:solidFill>
                <a:uFillTx/>
                <a:latin typeface="Calibri"/>
              </a:rPr>
              <a:t>effect of the pollutant</a:t>
            </a: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 in the water and </a:t>
            </a:r>
            <a:r>
              <a:rPr b="0" lang="en-US" sz="2200" spc="-1" strike="noStrike" u="sng">
                <a:solidFill>
                  <a:srgbClr val="5f6161"/>
                </a:solidFill>
                <a:uFillTx/>
                <a:latin typeface="Calibri"/>
              </a:rPr>
              <a:t>feasibility</a:t>
            </a: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  and </a:t>
            </a:r>
            <a:r>
              <a:rPr b="0" lang="en-US" sz="2200" spc="-1" strike="noStrike" u="sng">
                <a:solidFill>
                  <a:srgbClr val="5f6161"/>
                </a:solidFill>
                <a:uFillTx/>
                <a:latin typeface="Calibri"/>
              </a:rPr>
              <a:t>reasonableness</a:t>
            </a:r>
            <a:r>
              <a:rPr b="0" lang="en-US" sz="2200" spc="-1" strike="noStrike">
                <a:solidFill>
                  <a:srgbClr val="5f6161"/>
                </a:solidFill>
                <a:latin typeface="Calibri"/>
              </a:rPr>
              <a:t> of treating such pollutant</a:t>
            </a: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Point Source Strategy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Focus on: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161"/>
                </a:solidFill>
                <a:latin typeface="Calibri"/>
              </a:rPr>
              <a:t>102</a:t>
            </a: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 major municipal wastewater treatment plants 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161"/>
                </a:solidFill>
                <a:latin typeface="Calibri"/>
              </a:rPr>
              <a:t>28</a:t>
            </a: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 major industries (10 of which have nutrients) 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161"/>
                </a:solidFill>
                <a:latin typeface="Calibri"/>
              </a:rPr>
              <a:t>18</a:t>
            </a: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 minor industries with biological treatment for process waste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161"/>
                </a:solidFill>
                <a:latin typeface="Calibri"/>
              </a:rPr>
              <a:t>Total of 148 (130 expected to have sig. nutrient loads)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Treat more than 1 million gallons of wastewater a day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Handle 80 percent of all municipal wastewater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161"/>
                </a:solidFill>
                <a:latin typeface="Calibri"/>
              </a:rPr>
              <a:t>Provide wastewater treatment for 55-60 percent of Iowa’s population</a:t>
            </a:r>
            <a:endParaRPr b="0" lang="en-US" sz="2400" spc="-1" strike="noStrike">
              <a:solidFill>
                <a:srgbClr val="5f61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Strategy vs. Numeric Criteria Permit Limits</a:t>
            </a: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5f61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85800" y="1371600"/>
          <a:ext cx="8229600" cy="4081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16040"/>
                <a:gridCol w="1676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Effluent  Concentration without nutrient removal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ic Nutrient Criteria (WQ-based)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 of Technology (WQ-based)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Tech-Based Limits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hospho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to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itro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to 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At the 130 wastewater treatment plants included in the strategy: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Assume 25 mg/L total nitrogen (TN) and 4 mg/L total phosphorus (TP) discharge concentration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Use annual average flows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Use Biological Nutrient Removal technology limits (10 mg/L TN and 1 mg/L TP)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Currently Point Source Facility Loading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18,300 tons/yr T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2,900 tons/yr TP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After implementatio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7,300 tons/yr T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730 tons/yr TP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343400" y="4343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/3 to 3/4 reduction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6e8f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3a6e8f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At the watershed level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5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Using GIS (Geographic Information System) with ambient data (132 samples from 58 sites over 11-year period) – aka - the 2012 Nutrient Budget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Point Source State-wide Loading Currently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~ 8 percent T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~ 20 percent TP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5f6161"/>
                </a:solidFill>
                <a:latin typeface="Calibri"/>
              </a:rPr>
              <a:t>State-wide Load Reduction after Implementatio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~ 4 percent overall TN load reductio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f6161"/>
                </a:solidFill>
                <a:latin typeface="Calibri"/>
              </a:rPr>
              <a:t>~ 16 percent overall TP load reduction</a:t>
            </a:r>
            <a:endParaRPr b="0" lang="en-US" sz="1800" spc="-1" strike="noStrike">
              <a:solidFill>
                <a:srgbClr val="5f6161"/>
              </a:solidFill>
              <a:latin typeface="Calibri"/>
            </a:endParaRPr>
          </a:p>
        </p:txBody>
      </p:sp>
      <p:graphicFrame>
        <p:nvGraphicFramePr>
          <p:cNvPr id="565" name="Object 5"/>
          <p:cNvGraphicFramePr/>
          <p:nvPr/>
        </p:nvGraphicFramePr>
        <p:xfrm>
          <a:off x="5181480" y="2133720"/>
          <a:ext cx="3429000" cy="22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342900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9:50:17Z</dcterms:created>
  <dc:creator>Jessie Brown</dc:creator>
  <dc:description/>
  <dc:language>en-US</dc:language>
  <cp:lastModifiedBy>Nat Kale</cp:lastModifiedBy>
  <dcterms:modified xsi:type="dcterms:W3CDTF">2013-06-05T12:31:12Z</dcterms:modified>
  <cp:revision>83</cp:revision>
  <dc:subject/>
  <dc:title>Slide 1</dc:title>
</cp:coreProperties>
</file>