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C95-8256-4248-ABD2-AD628365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FED-6D55-48F7-8128-52F4AD2C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D32-E721-4356-861D-DD61C5E8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FC6-F75B-4F30-B00B-C92C0527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6E4-B847-447D-9CA3-EF10055F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E1B-D2BC-4A17-9403-54D41CDC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1DD-FFE5-4674-8E98-59B6B4F7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A6F-8CFB-4FF6-978A-ACFD3FF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9D2-16B4-4BD4-9ECD-491EB05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7BC-8396-4C74-A7AB-49AEFED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78B-57D1-4D10-AEF2-760BBCF7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BE3-A7F7-4539-B50F-607B157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9618-1E6B-47E7-BF9F-1F5D25487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lls/Incident Manag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itoring, Mapping and Contingency Plan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Jerry Schulte, 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Source Water Protection and Emergency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RSANCO and UMBRA Joint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Technical/Water Quality S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June 5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S Analytical Equi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C/Mass Sp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DSC_3347a.JPG"/>
          <p:cNvPicPr/>
          <p:nvPr/>
        </p:nvPicPr>
        <p:blipFill>
          <a:blip r:embed="rId1"/>
          <a:stretch/>
        </p:blipFill>
        <p:spPr>
          <a:xfrm>
            <a:off x="228600" y="2587680"/>
            <a:ext cx="86551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S Analytical Equi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DSC_3019a.JPG"/>
          <p:cNvPicPr/>
          <p:nvPr/>
        </p:nvPicPr>
        <p:blipFill>
          <a:blip r:embed="rId1"/>
          <a:stretch/>
        </p:blipFill>
        <p:spPr>
          <a:xfrm>
            <a:off x="2971800" y="1447920"/>
            <a:ext cx="511668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228600" y="143676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ICON CMS 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Chromatograph with argon ionization detector 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ous flow  purge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S Analytical Equi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5" descr="DSC_3020a.JPG"/>
          <p:cNvPicPr/>
          <p:nvPr/>
        </p:nvPicPr>
        <p:blipFill>
          <a:blip r:embed="rId1"/>
          <a:stretch/>
        </p:blipFill>
        <p:spPr>
          <a:xfrm>
            <a:off x="960480" y="1447920"/>
            <a:ext cx="70405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S - System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and analyze four samples of untreated river water every 24 hours (blank, ccv, ra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ions exceeding 2ug/L prompt ORSANCO notification by op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tection is verified by operator and ORSANCO ODS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fications to drinking water utilities, NRC and state emergency response agencie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s Identified by the 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re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modichlorometh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mo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bon Tetrachlo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loro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bromochlorometh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1 Dichloroetha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2 Dichloroeth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1 Dichloroethyle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2 Dichloroprop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ylene Chlori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trachloroethy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1,1 Trichloroetha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chloroethy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chlorofluorometha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lorobenze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ylbenz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2 Dichlorobenze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3 Dichlorobenz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504720"/>
                <a:tab algn="l" pos="809640"/>
                <a:tab algn="l" pos="1114560"/>
                <a:tab algn="l" pos="1600200"/>
                <a:tab algn="l" pos="1724040"/>
                <a:tab algn="l" pos="2028960"/>
                <a:tab algn="l" pos="2273400"/>
                <a:tab algn="l" pos="2333520"/>
                <a:tab algn="l" pos="2638440"/>
                <a:tab algn="l" pos="2943360"/>
                <a:tab algn="l" pos="3247920"/>
                <a:tab algn="l" pos="3492360"/>
                <a:tab algn="l" pos="3552840"/>
                <a:tab algn="l" pos="3857760"/>
                <a:tab algn="l" pos="4162320"/>
                <a:tab algn="l" pos="4467240"/>
                <a:tab algn="l" pos="4711680"/>
                <a:tab algn="l" pos="4772160"/>
                <a:tab algn="l" pos="5076720"/>
                <a:tab algn="l" pos="5381640"/>
                <a:tab algn="l" pos="5565600"/>
                <a:tab algn="l" pos="5686560"/>
                <a:tab algn="l" pos="5991120"/>
                <a:tab algn="l" pos="62960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23960"/>
                <a:tab algn="l" pos="103628880"/>
                <a:tab algn="l" pos="103933800"/>
                <a:tab algn="l" pos="10398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4 Dichlorobenze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lu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108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990720" y="5867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O 160 ug/l, MCL FOR TOLUENE 1,000 u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S Spill Dete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3520" y="268200"/>
            <a:ext cx="81532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ganics Detection System – Why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ganics Detection System – Why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762120" y="1828800"/>
          <a:ext cx="76960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696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5"/>
          <p:cNvSpPr/>
          <p:nvPr/>
        </p:nvSpPr>
        <p:spPr>
          <a:xfrm>
            <a:off x="990720" y="5867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O 1000 ug/l, MCL FOR PERC 5 u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152280" y="457200"/>
          <a:ext cx="883944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839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cover 2013 agency.jpg"/>
          <p:cNvPicPr/>
          <p:nvPr/>
        </p:nvPicPr>
        <p:blipFill>
          <a:blip r:embed="rId1"/>
          <a:stretch/>
        </p:blipFill>
        <p:spPr>
          <a:xfrm>
            <a:off x="2133720" y="246240"/>
            <a:ext cx="487656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4479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CEDURE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ILL NOTIFICA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ATE AGENCIE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EDERAL AGENCIE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ATIONAL RESPONSE CENTER 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.S. EP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.S. COAST GUAR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.S. ARMY CORPS OF ENGINEERS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MERGENCY RESPONSE COORDINATORS WORKGROUP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DS QUICK REFERENC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HIO RIVER DRINKING WATER INTAKE CONTACT INFORMATION                       11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BUTARY DRINKING WATER INTAKE CONTACT INFORMATION                       17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VER MILE POINTS OF COUNTIES BORDERING THE OHIO RIVER               2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4724280" y="1447920"/>
            <a:ext cx="3962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HIO RIVER MAIN STEM NAVIGATION SYSTEM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HIO RIVER LOCKS AND DAM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EGHENY, MONONGAHELA, AND KANAWHA RIVER LOCKS AND DAM    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BUTARIES TO THE OHIO RIVER                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DUSTRIAL FACILITIES                                  2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S OF CHEMICAL AND ENVIRONMENTAL DATA                         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VER HYDROLOGIC INFORMATION    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VER STAGE INFORMA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EMTRE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VERSION FACTORS                                   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HIO RIVER MILE POINT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HIO RIVER COUNTIES, DRINKING WATER INTAKES AND LOCKS &amp; DAMS (0.0-490.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HIO RIVER COUNTIES, DRINKING WATER INTAKES AND LOCKS &amp; DAMS (460.0-981.3)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cy Response Dire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r25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hio Ri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2 Public Drinking Water Su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&gt;5 millio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ill Coordination Work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pper Ohio River Focus Gro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ency Response, water quality, SID, 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deral,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incinnati Sub-area Focus Gro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ident Action Plan and Tactical Response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deral, state, local, indus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eat Rivers Spills Communication Gro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io, Mississippi and Tennessee Ri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deral,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untington Area Tri-State Spills Communication Gro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deral, state, local, indus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6640" y="29340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SANCO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ourc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W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ter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tecti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ogram Integ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1438200" y="1600200"/>
            <a:ext cx="6248520" cy="5029200"/>
            <a:chOff x="1438200" y="1600200"/>
            <a:chExt cx="6248520" cy="5029200"/>
          </a:xfrm>
        </p:grpSpPr>
        <p:sp>
          <p:nvSpPr>
            <p:cNvPr id="48" name="Oval 4"/>
            <p:cNvSpPr/>
            <p:nvPr/>
          </p:nvSpPr>
          <p:spPr>
            <a:xfrm>
              <a:off x="2838600" y="3200400"/>
              <a:ext cx="3429000" cy="34290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val 5"/>
            <p:cNvSpPr/>
            <p:nvPr/>
          </p:nvSpPr>
          <p:spPr>
            <a:xfrm>
              <a:off x="4257720" y="1600200"/>
              <a:ext cx="3429000" cy="342900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6"/>
            <p:cNvSpPr/>
            <p:nvPr/>
          </p:nvSpPr>
          <p:spPr>
            <a:xfrm>
              <a:off x="1438200" y="1600200"/>
              <a:ext cx="3429000" cy="3429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2057400" y="2666880"/>
              <a:ext cx="21337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WATER QUALITY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MONITORING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4255920" y="3200400"/>
              <a:ext cx="609840" cy="10904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w="384" h="687">
                  <a:moveTo>
                    <a:pt x="382" y="18"/>
                  </a:moveTo>
                  <a:lnTo>
                    <a:pt x="328" y="9"/>
                  </a:lnTo>
                  <a:lnTo>
                    <a:pt x="279" y="3"/>
                  </a:lnTo>
                  <a:lnTo>
                    <a:pt x="232" y="0"/>
                  </a:lnTo>
                  <a:lnTo>
                    <a:pt x="201" y="0"/>
                  </a:lnTo>
                  <a:lnTo>
                    <a:pt x="168" y="0"/>
                  </a:lnTo>
                  <a:lnTo>
                    <a:pt x="150" y="2"/>
                  </a:lnTo>
                  <a:lnTo>
                    <a:pt x="118" y="2"/>
                  </a:lnTo>
                  <a:lnTo>
                    <a:pt x="90" y="5"/>
                  </a:lnTo>
                  <a:lnTo>
                    <a:pt x="55" y="8"/>
                  </a:lnTo>
                  <a:lnTo>
                    <a:pt x="24" y="12"/>
                  </a:lnTo>
                  <a:lnTo>
                    <a:pt x="1" y="15"/>
                  </a:lnTo>
                  <a:lnTo>
                    <a:pt x="0" y="48"/>
                  </a:lnTo>
                  <a:lnTo>
                    <a:pt x="0" y="86"/>
                  </a:lnTo>
                  <a:lnTo>
                    <a:pt x="1" y="110"/>
                  </a:lnTo>
                  <a:lnTo>
                    <a:pt x="3" y="137"/>
                  </a:lnTo>
                  <a:lnTo>
                    <a:pt x="4" y="167"/>
                  </a:lnTo>
                  <a:lnTo>
                    <a:pt x="7" y="201"/>
                  </a:lnTo>
                  <a:lnTo>
                    <a:pt x="13" y="240"/>
                  </a:lnTo>
                  <a:lnTo>
                    <a:pt x="25" y="305"/>
                  </a:lnTo>
                  <a:lnTo>
                    <a:pt x="36" y="350"/>
                  </a:lnTo>
                  <a:lnTo>
                    <a:pt x="57" y="419"/>
                  </a:lnTo>
                  <a:lnTo>
                    <a:pt x="87" y="500"/>
                  </a:lnTo>
                  <a:lnTo>
                    <a:pt x="120" y="564"/>
                  </a:lnTo>
                  <a:lnTo>
                    <a:pt x="148" y="618"/>
                  </a:lnTo>
                  <a:lnTo>
                    <a:pt x="172" y="656"/>
                  </a:lnTo>
                  <a:lnTo>
                    <a:pt x="192" y="687"/>
                  </a:lnTo>
                  <a:lnTo>
                    <a:pt x="222" y="645"/>
                  </a:lnTo>
                  <a:lnTo>
                    <a:pt x="246" y="600"/>
                  </a:lnTo>
                  <a:lnTo>
                    <a:pt x="264" y="569"/>
                  </a:lnTo>
                  <a:lnTo>
                    <a:pt x="282" y="533"/>
                  </a:lnTo>
                  <a:lnTo>
                    <a:pt x="297" y="497"/>
                  </a:lnTo>
                  <a:lnTo>
                    <a:pt x="318" y="447"/>
                  </a:lnTo>
                  <a:lnTo>
                    <a:pt x="333" y="402"/>
                  </a:lnTo>
                  <a:lnTo>
                    <a:pt x="348" y="353"/>
                  </a:lnTo>
                  <a:lnTo>
                    <a:pt x="357" y="312"/>
                  </a:lnTo>
                  <a:lnTo>
                    <a:pt x="367" y="269"/>
                  </a:lnTo>
                  <a:lnTo>
                    <a:pt x="378" y="200"/>
                  </a:lnTo>
                  <a:lnTo>
                    <a:pt x="382" y="138"/>
                  </a:lnTo>
                  <a:lnTo>
                    <a:pt x="384" y="84"/>
                  </a:lnTo>
                  <a:lnTo>
                    <a:pt x="384" y="44"/>
                  </a:lnTo>
                  <a:lnTo>
                    <a:pt x="382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4808520" y="2668680"/>
              <a:ext cx="243036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INTER-AGENCY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COMMUNICATION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3505320" y="5013360"/>
              <a:ext cx="213336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EMERGENCY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RESPONS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4334040" y="3171960"/>
              <a:ext cx="457200" cy="10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SANCO Monitoring Progra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issolved/Total Recover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trien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utrient Criteria Develop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MD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a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Recreation and Drinking Water Protec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ish, bugs, mussels, fish tiss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sticid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trazi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atile Organic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rganics Detection Syste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mendous Inter-agency communication due to committee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mainstem state environmental quality ag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EPAs, health, emergency response, fish management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USEPA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FWS, USGS, USACE, USC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SANCO Communication Progra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5050">
              <a:alpha val="51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ORSANCO Emergency Response Progra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ll communicatio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ed by ORSANCO staf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 NRC Spill Reports for all coun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Ohio River and major tributaries 24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necessary ones to ut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utilities needs during spill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of travel calc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s of in-stream concent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collection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6640" y="29340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SANCO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ourc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W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ter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tecti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ogram Integ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1438200" y="1600200"/>
            <a:ext cx="6248520" cy="5029200"/>
            <a:chOff x="1438200" y="1600200"/>
            <a:chExt cx="6248520" cy="5029200"/>
          </a:xfrm>
        </p:grpSpPr>
        <p:sp>
          <p:nvSpPr>
            <p:cNvPr id="64" name="Oval 4"/>
            <p:cNvSpPr/>
            <p:nvPr/>
          </p:nvSpPr>
          <p:spPr>
            <a:xfrm>
              <a:off x="2838600" y="3200400"/>
              <a:ext cx="3429000" cy="34290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val 5"/>
            <p:cNvSpPr/>
            <p:nvPr/>
          </p:nvSpPr>
          <p:spPr>
            <a:xfrm>
              <a:off x="4257720" y="1600200"/>
              <a:ext cx="3429000" cy="342900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6"/>
            <p:cNvSpPr/>
            <p:nvPr/>
          </p:nvSpPr>
          <p:spPr>
            <a:xfrm>
              <a:off x="1438200" y="1600200"/>
              <a:ext cx="3429000" cy="3429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7"/>
            <p:cNvSpPr/>
            <p:nvPr/>
          </p:nvSpPr>
          <p:spPr>
            <a:xfrm>
              <a:off x="2057400" y="2666880"/>
              <a:ext cx="21337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WATER QUALITY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MONITORING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8"/>
            <p:cNvSpPr/>
            <p:nvPr/>
          </p:nvSpPr>
          <p:spPr>
            <a:xfrm>
              <a:off x="4255920" y="3200400"/>
              <a:ext cx="609840" cy="10904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w="384" h="687">
                  <a:moveTo>
                    <a:pt x="382" y="18"/>
                  </a:moveTo>
                  <a:lnTo>
                    <a:pt x="328" y="9"/>
                  </a:lnTo>
                  <a:lnTo>
                    <a:pt x="279" y="3"/>
                  </a:lnTo>
                  <a:lnTo>
                    <a:pt x="232" y="0"/>
                  </a:lnTo>
                  <a:lnTo>
                    <a:pt x="201" y="0"/>
                  </a:lnTo>
                  <a:lnTo>
                    <a:pt x="168" y="0"/>
                  </a:lnTo>
                  <a:lnTo>
                    <a:pt x="150" y="2"/>
                  </a:lnTo>
                  <a:lnTo>
                    <a:pt x="118" y="2"/>
                  </a:lnTo>
                  <a:lnTo>
                    <a:pt x="90" y="5"/>
                  </a:lnTo>
                  <a:lnTo>
                    <a:pt x="55" y="8"/>
                  </a:lnTo>
                  <a:lnTo>
                    <a:pt x="24" y="12"/>
                  </a:lnTo>
                  <a:lnTo>
                    <a:pt x="1" y="15"/>
                  </a:lnTo>
                  <a:lnTo>
                    <a:pt x="0" y="48"/>
                  </a:lnTo>
                  <a:lnTo>
                    <a:pt x="0" y="86"/>
                  </a:lnTo>
                  <a:lnTo>
                    <a:pt x="1" y="110"/>
                  </a:lnTo>
                  <a:lnTo>
                    <a:pt x="3" y="137"/>
                  </a:lnTo>
                  <a:lnTo>
                    <a:pt x="4" y="167"/>
                  </a:lnTo>
                  <a:lnTo>
                    <a:pt x="7" y="201"/>
                  </a:lnTo>
                  <a:lnTo>
                    <a:pt x="13" y="240"/>
                  </a:lnTo>
                  <a:lnTo>
                    <a:pt x="25" y="305"/>
                  </a:lnTo>
                  <a:lnTo>
                    <a:pt x="36" y="350"/>
                  </a:lnTo>
                  <a:lnTo>
                    <a:pt x="57" y="419"/>
                  </a:lnTo>
                  <a:lnTo>
                    <a:pt x="87" y="500"/>
                  </a:lnTo>
                  <a:lnTo>
                    <a:pt x="120" y="564"/>
                  </a:lnTo>
                  <a:lnTo>
                    <a:pt x="148" y="618"/>
                  </a:lnTo>
                  <a:lnTo>
                    <a:pt x="172" y="656"/>
                  </a:lnTo>
                  <a:lnTo>
                    <a:pt x="192" y="687"/>
                  </a:lnTo>
                  <a:lnTo>
                    <a:pt x="222" y="645"/>
                  </a:lnTo>
                  <a:lnTo>
                    <a:pt x="246" y="600"/>
                  </a:lnTo>
                  <a:lnTo>
                    <a:pt x="264" y="569"/>
                  </a:lnTo>
                  <a:lnTo>
                    <a:pt x="282" y="533"/>
                  </a:lnTo>
                  <a:lnTo>
                    <a:pt x="297" y="497"/>
                  </a:lnTo>
                  <a:lnTo>
                    <a:pt x="318" y="447"/>
                  </a:lnTo>
                  <a:lnTo>
                    <a:pt x="333" y="402"/>
                  </a:lnTo>
                  <a:lnTo>
                    <a:pt x="348" y="353"/>
                  </a:lnTo>
                  <a:lnTo>
                    <a:pt x="357" y="312"/>
                  </a:lnTo>
                  <a:lnTo>
                    <a:pt x="367" y="269"/>
                  </a:lnTo>
                  <a:lnTo>
                    <a:pt x="378" y="200"/>
                  </a:lnTo>
                  <a:lnTo>
                    <a:pt x="382" y="138"/>
                  </a:lnTo>
                  <a:lnTo>
                    <a:pt x="384" y="84"/>
                  </a:lnTo>
                  <a:lnTo>
                    <a:pt x="384" y="44"/>
                  </a:lnTo>
                  <a:lnTo>
                    <a:pt x="382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4808520" y="2668680"/>
              <a:ext cx="243036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INTER-AGENCY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COMMUNICATION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3505320" y="5013360"/>
              <a:ext cx="213336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EMERGENCY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RESPONS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4334040" y="3171960"/>
              <a:ext cx="457200" cy="10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cs Detection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1978 after Carbon Tetrachloride released into the Kanawha River contaminated water supply systems in Huntington, Portsmouth, Cincinn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assistance from utilities, ORSANCO and U.S.EPA to establish seven monitoring st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1985 13 ODS stations were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ly 16 stations spanning over 1000 miles of navigable waters from Pittsburgh to Paduc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3240" y="1440"/>
          <a:ext cx="9137520" cy="6855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3752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17:32:31Z</dcterms:created>
  <dc:creator>jerry</dc:creator>
  <dc:description/>
  <dc:language>en-US</dc:language>
  <cp:lastModifiedBy>jklear</cp:lastModifiedBy>
  <dcterms:modified xsi:type="dcterms:W3CDTF">2013-07-22T15:15:28Z</dcterms:modified>
  <cp:revision>23</cp:revision>
  <dc:subject/>
  <dc:title>Spills/Incident Management Monitoring, Mapping and Contingency Planning</dc:title>
</cp:coreProperties>
</file>