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86B0-7BA2-497C-98C1-50BC9A6E4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= Fl-, NO2, Br-, NO3, PO4, Li, NH3, K+, 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4402-1068-434F-9D13-A8BB8A80B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1BA-38AF-46C2-AD51-0D57548F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60F-AAF9-473B-B7FA-3D37AFDE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81CBE-5517-4EA1-8D7F-88985946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29283-E3A1-41F4-87E1-C45EDD38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2E32B-44B2-4F4F-B245-C8105D9D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A73F9-A128-409D-B2CC-516AE5B2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4299F-3C95-4353-B594-99DD92C7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72A85-3ACD-4C74-AF49-2E9D0B4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BDC51-C311-47C1-A2BD-2A57F64F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9FEE8-F359-4082-8053-80A1120A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5B7E5-71B9-47AC-BDD3-08B0B9D7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4861C-DFC6-4737-B287-8413A984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81E-AB66-44DF-9DD1-BA46C3D8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B6207-9C02-406D-96DF-9C443760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92E60-C5CC-40A0-92D4-70432A4F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EB983-F83D-4D59-848F-C11A57F7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7CE72-597E-4EFC-BA29-8A91968E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D7517-E6A1-46BC-A14E-3816DAFD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D0C8E-D43C-4B93-925D-33E9C05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F8340-7A2F-4FB2-BE83-7EB0CA6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F5E20-44A0-4322-B84F-12E166E1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7BA7C-1BC0-4E75-B50D-3CFE052B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9C123-CD9D-4682-8764-3F13D4B9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1AD-DC7F-4156-B761-B66F8600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E00C8-1735-4C8E-8F68-38062592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E785D-F203-4573-A1BD-CB041D27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B3784-D6E2-41B8-887D-56EF947B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90275-F954-440B-9136-7292ED9D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1AD40-3210-4DEF-9F9E-BB2CF755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1AE11-7D97-442B-BDE2-57596392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14093-CA80-46FC-9D29-A297F76F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03C9C-A648-4C08-8B06-6962ECC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7FC32-AD0B-4995-A39A-142FA5E4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D4F50-746C-4BA4-8EE7-280CD4E7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2669-50AD-4301-ACBF-C3D1DC48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8354D-2EBC-41BE-9F92-1C68309C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301FA-E156-468C-A261-EB471B51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56A0-0374-4EAF-8114-FA1EA783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A127D-6A7B-4628-A2AB-75AFD3F8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24609-0AD5-4D76-88BC-450122B6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16E86A-74E8-44D1-80A7-151C37BF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7D654-6AA1-4B2D-B6F4-24A20A72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7C013-7A2B-47A3-9FE6-29E14554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E4FB2-FD2F-4716-96C8-8CEC0EE6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97A45-46BE-4003-B9FE-9E3741DC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939F-30F9-4BB8-9A51-EAB5DBDB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BD271-9AD6-4D27-A7D7-5B651DE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23D5A-35EB-4F4C-BEBA-C1DF3175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1EE05-9D32-4685-8B0F-75D2EA61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D2783-D03F-4754-8363-484EB5EE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763F9-86C0-4C1D-8414-B0525D11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BB45-1A38-4DD2-82D2-E0979C68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3CF3-87B3-4B9A-9B06-E360B6FF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3672-7CDC-465C-9DB0-E00D3E73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B0A4-F884-45AE-9C06-1EF45A94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721C-D1CD-4390-ABE8-892C8C3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9D1-34FB-407C-B885-2A1165AE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EAE8-0967-4B3A-8954-44CF6E90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87EA-E4D6-454F-8D93-FB767124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4628-2565-4958-A8E4-09515505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EBF4-FB4A-49BA-AB3E-D1045020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FD42-D1C2-4F11-8E79-92DEDB77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3EE7-D222-48A9-9FFE-36F3A866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C62F-D71E-4CC2-A19A-6033B830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2849-D503-481B-8053-7651C9F6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3963-4742-4D96-89D7-443366F0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C0CF8-DCA6-458D-82BF-765FE3C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3B7-C030-43C0-A559-7900552E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F2DF-CD7D-4BB2-93DF-1FCFA5BD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16F6-2533-4900-B42A-4EEC06CB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E2B4-B793-49F8-9988-FE96E755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EFDE-6F8C-42D4-A482-2AB4896C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9D1B-3DD4-4139-8EF3-F9124A69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E35E-85FC-4145-BCCD-39E01843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7DA9-12AE-4B42-B0F8-8F4CE860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EDA1-023F-41F2-B2AC-EBD92101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D15B-7F47-45D0-901A-AAB199D8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2239-0B6D-46C9-A363-87421D69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AD5-C24D-4AFA-BD8A-4E22172D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A0A2-8900-4912-85C3-43B5E540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45D7-2E39-424F-B8BB-72E85613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1133-D84A-4A07-AEBE-117A1F1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02E07-5CB4-43A0-92FE-758E2D8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0DA0-8381-42AA-8707-639C1B39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C212E-C4D9-4E97-85CE-0B977123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CBF0-8EFA-4A03-AEE4-6B95304F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636A-C1F8-4C9F-991C-EB9B31E4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99EC-98A0-473F-A3C5-83B2BD08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E11C-F8EF-47FB-8FB4-69C64BA5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4C9-84A7-4ACD-AA29-13CB8780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BB41C-1152-4784-AD3B-818352B6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B8865-048D-4390-905B-14C43A15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49F3A-C6D1-478C-9737-30C92577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02A0C-A8D1-4762-9761-983D693A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F9B20-05DC-4DEA-9680-F944D7CC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05A66-48AE-4CA0-8DD2-4C9DB0C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434E-9170-4F2F-8FCF-ABDE90E3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2F3E3-0BBF-477E-892C-441551A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93408-6ABC-4DDF-AB67-A23F9633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15D87-92A3-45A2-957C-69785028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D97-DA98-4D6A-87AF-614F27DB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02A7-76B0-406F-ABB6-9D424521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4720-A746-42D3-A8FC-D185D6EA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088B-8AB6-43AB-89DA-08C7BED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619C3-05B5-4D79-A618-E6D34826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BF86-E537-4AB7-9C5C-2CD70A1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913CA-8344-4E7D-8180-8F1B35F4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B014B-7BB2-4D01-8919-DEE3CEAB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B58A-4691-4818-A8DC-875632C3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41456-A695-4484-BD28-C5E8D3FA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EB657-B2D2-4076-BA82-39CEC59E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F60-8545-4691-9ABD-9C49E0B6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CC163-7448-44DB-B2C8-9FD8C2BC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1B20-1D07-4A73-BF8F-DD414AF0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93D32-D66D-40F7-B52C-3F97ABB2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18E4-B5A3-4E51-AD3B-78A99D15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ECFA-64DC-4D33-8619-1798718C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FA55E-7EC8-4EAD-9E20-EA413487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6C88-AAB9-4E3B-908D-176D3D07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D02C-6393-4EE3-ACE9-04B21A67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25FA1-B7FF-4628-A883-4E45403D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B1131-E5A4-44D4-B339-2220A59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083-19E2-4F0C-AD81-B5B8130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237A7-4A24-4250-8D36-1217DDA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86B4C-3FF8-4088-8BD8-BCBD317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2C7DF-A69C-4D33-8981-5D488335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ECA3D-F558-44EE-A1D6-3C093519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033CF-50EF-45D6-9F77-8FF283CA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8BD62-8A2E-4AA6-A239-D615F5D2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D8FBD-070F-43D7-BA9E-3D0B796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CD5CB-9FBE-4692-9BA9-F1BAFA9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75DEC-78DB-4B8C-AD9A-A81A9E5E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94464-35CB-497D-9257-F6D0D520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810-0570-4E21-B204-FCF14539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83AFD-AF33-42CF-9931-ADB2FF57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97FE7-1075-4A5B-9BEF-CBAA7BD3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8BF85-FE5E-4EF3-B0FA-7CB553F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F7C2-7447-4B9E-9017-02D67E96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B53E4-9F3D-49E4-AEB0-A6E7B38D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4D63A-A0D1-43FC-BFE4-B11F6804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DFF49-D611-4540-8F55-A846308B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5F2B8-8DC7-4A0E-B7D8-E806E249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724C2-9EAC-4939-8934-AE55DC49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1A147-AE57-4214-A256-44E22DB6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4B21-04BF-4EAC-82EF-712D9963A17F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EA99-4E73-4D85-95EB-72CE30F435C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4AF6-454F-4001-AD8D-083144089C8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C7BE-6908-4F4B-945C-F5CD78D0526A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9EF8-28C8-4EFA-B741-F06A1327A1D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3A6E-6FC1-4AE5-B9B3-A9A7499C968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6F09-88E5-461E-AB82-F949D595CE2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20F3-DA46-436D-AF6A-00D6CDA6C63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A1F7-DDD7-4D70-857F-058FBA08F85A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537A-D588-4BA9-A939-5B8D6CFCBED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95E5-C306-4CB1-B728-2708C7B8BE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F375-82C0-4E0B-BCDC-2DDE328FB6C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TECHNICAL COMMITTEE MEE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JUNE 4-5, 201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f81bd"/>
                </a:solidFill>
                <a:latin typeface="Georgia"/>
              </a:rPr>
              <a:t>Characterization of Dissolved Solids in the Ohio River</a:t>
            </a:r>
            <a:endParaRPr b="0" lang="en-US" sz="3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114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How does ionic composition vary spatially?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6327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ecreases from upstream to dow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Georgia"/>
              </a:rPr>
              <a:t>36% at mile 12 to 21% at mile 978</a:t>
            </a:r>
            <a:endParaRPr b="0" lang="en-US" sz="18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Georgia"/>
              </a:rPr>
              <a:t>Beaver R. 19%; Big Sandy 42%</a:t>
            </a:r>
            <a:endParaRPr b="0" lang="en-US" sz="18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oubles from 19% in Pittsburgh to 38% in Cair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lcium remains fairly consistent (13-16%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hows general decline from 14.5% at mile 137 to 8.8% at mile 792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Georgia"/>
              </a:rPr>
              <a:t>Big Sandy 4%; Beaver R. 19%</a:t>
            </a:r>
            <a:endParaRPr b="0" lang="en-US" sz="18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odium decreases moving downstr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Georgia"/>
              </a:rPr>
              <a:t>11% in Pittsburgh to 7% in Cairo</a:t>
            </a:r>
            <a:endParaRPr b="0" lang="en-US" sz="18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romide generally highest in upper riv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1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O:\Dionex Pictures\Dionex 1.jpg"/>
          <p:cNvPicPr/>
          <p:nvPr/>
        </p:nvPicPr>
        <p:blipFill>
          <a:blip r:embed="rId2"/>
          <a:stretch/>
        </p:blipFill>
        <p:spPr>
          <a:xfrm>
            <a:off x="6786720" y="2325600"/>
            <a:ext cx="1976400" cy="24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Chart 4" descr=""/>
          <p:cNvPicPr/>
          <p:nvPr/>
        </p:nvPicPr>
        <p:blipFill>
          <a:blip r:embed="rId1"/>
          <a:stretch/>
        </p:blipFill>
        <p:spPr>
          <a:xfrm>
            <a:off x="231840" y="281160"/>
            <a:ext cx="868032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Chart 3" descr=""/>
          <p:cNvPicPr/>
          <p:nvPr/>
        </p:nvPicPr>
        <p:blipFill>
          <a:blip r:embed="rId1"/>
          <a:stretch/>
        </p:blipFill>
        <p:spPr>
          <a:xfrm>
            <a:off x="231840" y="281160"/>
            <a:ext cx="868032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What is the relationship of TDS and conductivity in the Ohio River?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5271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ductivity sometimes used as surrogate for T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0.67 is commonly used to convert conductivity to T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ported conversion factors range from 0.5 to nearly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Georgia"/>
              </a:rPr>
              <a:t>Conv. factor depends on ionic composition</a:t>
            </a:r>
            <a:endParaRPr b="0" lang="en-US" sz="16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pared TDS to specific conductanc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hio River conversion factors ranged from 0.55 to 0.5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uld overestimate TDS by 20% using 0.67 conv. facto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7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pic>
        <p:nvPicPr>
          <p:cNvPr id="658" name="Chart 7" descr=""/>
          <p:cNvPicPr/>
          <p:nvPr/>
        </p:nvPicPr>
        <p:blipFill>
          <a:blip r:embed="rId2"/>
          <a:stretch/>
        </p:blipFill>
        <p:spPr>
          <a:xfrm>
            <a:off x="4413240" y="1596960"/>
            <a:ext cx="457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till to Com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914400" y="1828800"/>
            <a:ext cx="72388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ddress Study Objective #4:  Evaluate relationship between bromide in source water to THM formation in finished drinking wa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olicit comments on draft report from Technical Committee, River Users, Water Users, others(?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nal draft to be distributed with agenda for approval at October mee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1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Questions ?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Background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mission adopted 500 mg/L standard for TDS in June 201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ivers Users Program developed study to investigate TDS and major 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ter Users simultaneously proposed similar study for bromid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grated the two study plans for cost efficiencies and more robust data se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tudy Objective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aracterize ambient background levels of T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antify TDS constituent makeup to evaluate seasonal and spatial variabil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site-specific translators to convert conductivity to T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data to support possible development of an Ohio River bromide stream criter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ampling Desig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ekly samples collected at 16 si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lection sites located at water intak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Participants identified through the WUAC and PIAC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mpling conducted for 1-y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December, 2011 thru December 2012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alysis – In-house and contract lab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3" descr="O:\Dionex Pictures\DSC_1950.JPG"/>
          <p:cNvPicPr/>
          <p:nvPr/>
        </p:nvPicPr>
        <p:blipFill>
          <a:blip r:embed="rId1"/>
          <a:stretch/>
        </p:blipFill>
        <p:spPr>
          <a:xfrm>
            <a:off x="6350040" y="3684600"/>
            <a:ext cx="256536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4" name="Picture 4" descr="TDS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nalysis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6" name="Text Placeholder 3"/>
          <p:cNvSpPr/>
          <p:nvPr/>
        </p:nvSpPr>
        <p:spPr>
          <a:xfrm>
            <a:off x="533520" y="167652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ssolved Solids Analyt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33520" y="2361960"/>
            <a:ext cx="2666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od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otass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gnes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lc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ith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Content Placeholder 4"/>
          <p:cNvSpPr/>
          <p:nvPr/>
        </p:nvSpPr>
        <p:spPr>
          <a:xfrm>
            <a:off x="457200" y="5105520"/>
            <a:ext cx="404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icarbon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otal Dissolved Solid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Rounded Rectangle 7"/>
          <p:cNvSpPr/>
          <p:nvPr/>
        </p:nvSpPr>
        <p:spPr>
          <a:xfrm>
            <a:off x="304920" y="4876920"/>
            <a:ext cx="4419360" cy="1295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Rounded Rectangle 8"/>
          <p:cNvSpPr/>
          <p:nvPr/>
        </p:nvSpPr>
        <p:spPr>
          <a:xfrm>
            <a:off x="304920" y="2133720"/>
            <a:ext cx="4419360" cy="2590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Text Placeholder 5"/>
          <p:cNvSpPr/>
          <p:nvPr/>
        </p:nvSpPr>
        <p:spPr>
          <a:xfrm>
            <a:off x="5029200" y="1679400"/>
            <a:ext cx="39625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upplemental Paramet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025960" y="2403000"/>
            <a:ext cx="396576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nductiv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ream flow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Rounded Rectangle 11"/>
          <p:cNvSpPr/>
          <p:nvPr/>
        </p:nvSpPr>
        <p:spPr>
          <a:xfrm>
            <a:off x="4876920" y="2133720"/>
            <a:ext cx="3962160" cy="2590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Content Placeholder 4"/>
          <p:cNvSpPr/>
          <p:nvPr/>
        </p:nvSpPr>
        <p:spPr>
          <a:xfrm>
            <a:off x="2743200" y="2438280"/>
            <a:ext cx="228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lor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ulf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om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luor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13" descr="O:\Dionex Pictures\DSC_1930.JPG"/>
          <p:cNvPicPr/>
          <p:nvPr/>
        </p:nvPicPr>
        <p:blipFill>
          <a:blip r:embed="rId1"/>
          <a:stretch/>
        </p:blipFill>
        <p:spPr>
          <a:xfrm>
            <a:off x="5732640" y="4822920"/>
            <a:ext cx="2344680" cy="157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What do the results tell us about ambient levels of TDS?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257440" y="236232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ak concentration in Ohio River was 368 mg/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dian level ~200 mg/L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ghest levels on Muskingum and Big Sandy Riv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Georgia"/>
              </a:rPr>
              <a:t>584 mg/L and 579 mg/L respectively</a:t>
            </a:r>
            <a:endParaRPr b="0" lang="en-US" sz="16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west levels on Allegheny 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38" name="Group 5"/>
          <p:cNvGrpSpPr/>
          <p:nvPr/>
        </p:nvGrpSpPr>
        <p:grpSpPr>
          <a:xfrm>
            <a:off x="152280" y="1733400"/>
            <a:ext cx="5105520" cy="3829320"/>
            <a:chOff x="152280" y="1733400"/>
            <a:chExt cx="5105520" cy="3829320"/>
          </a:xfrm>
        </p:grpSpPr>
        <p:pic>
          <p:nvPicPr>
            <p:cNvPr id="639" name="Picture 3" descr=""/>
            <p:cNvPicPr/>
            <p:nvPr/>
          </p:nvPicPr>
          <p:blipFill>
            <a:blip r:embed="rId1"/>
            <a:stretch/>
          </p:blipFill>
          <p:spPr>
            <a:xfrm>
              <a:off x="152280" y="1733400"/>
              <a:ext cx="5105520" cy="38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Straight Connector 7"/>
            <p:cNvSpPr/>
            <p:nvPr/>
          </p:nvSpPr>
          <p:spPr>
            <a:xfrm>
              <a:off x="641520" y="2604960"/>
              <a:ext cx="3868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re there seasonal variations?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52712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ighest concentrations observed in late Aug./early Sep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ream flow is major driver of seasonal vari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ncentrations of TDS and most ions are inversely correlated with Q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ll Ohio River samples well below 500 mg/L std., even during low flow condi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426708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What are the major ions?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5337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 ions makeup 93% of TDS in Ohio Ri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Sulfate, bicarbonate, calcium, chloride, sodium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omide is typically &lt;0.05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lfate and chloride combined account for 43% of T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Content Placeholder 4" descr=""/>
          <p:cNvPicPr/>
          <p:nvPr/>
        </p:nvPicPr>
        <p:blipFill>
          <a:blip r:embed="rId1"/>
          <a:stretch/>
        </p:blipFill>
        <p:spPr>
          <a:xfrm>
            <a:off x="5450040" y="1596960"/>
            <a:ext cx="3700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12:18Z</dcterms:created>
  <dc:creator>jwisenall</dc:creator>
  <dc:description/>
  <dc:language>en-US</dc:language>
  <cp:lastModifiedBy>jklear</cp:lastModifiedBy>
  <dcterms:modified xsi:type="dcterms:W3CDTF">2013-07-22T14:23:06Z</dcterms:modified>
  <cp:revision>325</cp:revision>
  <dc:subject/>
  <dc:title>ORSANCO  Total Dissolved Solids Project</dc:title>
</cp:coreProperties>
</file>