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519-54F2-4D2B-ABD8-E95DD39B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C36-0FAA-4484-8694-722A2999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D30-3C28-4059-AC9A-AAB57C25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0BF-AF94-4F75-9B25-5AF46320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AE9-BB73-4D05-9C03-3337FA2F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0AA-00F6-46ED-863B-DCBD640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BB7-3306-4BDF-9EF9-CE4C43A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B45-7615-4BCC-A016-DAEBDE43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0CA-AC2A-4475-84E1-B74AC238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EEA-0B11-4B95-A65D-07E136C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76D-2076-4C3A-85EC-6C2BC53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42D-DE5B-408A-9D2D-E9AE1C2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73DA-530E-4FE4-8506-6902E6B71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S Replacement Strategy/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5M Apportionment based on Pop. Served – 7 year total con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523880"/>
          <a:ext cx="8686800" cy="5105520"/>
        </p:xfrm>
        <a:graphic>
          <a:graphicData uri="http://schemas.openxmlformats.org/drawingml/2006/table">
            <a:tbl>
              <a:tblPr/>
              <a:tblGrid>
                <a:gridCol w="2776680"/>
                <a:gridCol w="1153800"/>
                <a:gridCol w="825840"/>
                <a:gridCol w="2776320"/>
                <a:gridCol w="1154160"/>
              </a:tblGrid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 Water Company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3,472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uben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,249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innati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41,24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verpoo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799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9,108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hip of Robin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349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tsburgh Water &amp; S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29,676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nt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043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KY. Water Servic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3,74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key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899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nsville Water Pla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,117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 Water Works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9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ew Municipal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2,49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Follansbe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29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V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5,122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sville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6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and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8,780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l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6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547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4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uca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,748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rgis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4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eling Water Dept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,623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-American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43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smout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,111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land Borough Water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921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s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,68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Steel Drink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,31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,474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 Chem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er Poly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5M Apportionment based on Population Serv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hart 5" descr=""/>
          <p:cNvPicPr/>
          <p:nvPr/>
        </p:nvPicPr>
        <p:blipFill>
          <a:blip r:embed="rId1"/>
          <a:stretch/>
        </p:blipFill>
        <p:spPr>
          <a:xfrm>
            <a:off x="225360" y="1596960"/>
            <a:ext cx="87724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1.5M Apportionment on Pop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rved - per annum 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523880"/>
          <a:ext cx="8686800" cy="5105520"/>
        </p:xfrm>
        <a:graphic>
          <a:graphicData uri="http://schemas.openxmlformats.org/drawingml/2006/table">
            <a:tbl>
              <a:tblPr/>
              <a:tblGrid>
                <a:gridCol w="2776680"/>
                <a:gridCol w="1153800"/>
                <a:gridCol w="825840"/>
                <a:gridCol w="2776320"/>
                <a:gridCol w="1154160"/>
              </a:tblGrid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 Water Company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,24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uben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74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innati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8,659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verpoo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9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,936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hip of Robin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24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tsburgh Water &amp; S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,405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nt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3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KY. Water Servic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,124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key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nsville Water Pla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,936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 Water Works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9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ew Municipal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,749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Follansbe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V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937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sville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8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and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84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l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8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324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uca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62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rgis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eling Water Dept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87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-American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smout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9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land Borough Water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7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s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548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Steel Drink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93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62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 Chem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er Poly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1.5M Apportionment based on Pop. Served – 7 year total con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523880"/>
          <a:ext cx="8686800" cy="5105520"/>
        </p:xfrm>
        <a:graphic>
          <a:graphicData uri="http://schemas.openxmlformats.org/drawingml/2006/table">
            <a:tbl>
              <a:tblPr/>
              <a:tblGrid>
                <a:gridCol w="2776680"/>
                <a:gridCol w="1153800"/>
                <a:gridCol w="825840"/>
                <a:gridCol w="2776320"/>
                <a:gridCol w="1154160"/>
              </a:tblGrid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 Water Company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1,735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uben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124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innati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70,619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verpoo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899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4,553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hip of Robin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674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tsburgh Water &amp; S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4,837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nt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52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KY. Water Servic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1,87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key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449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nsville Water Pla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6,558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 Water Works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45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ew Municipal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,246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Follansbe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14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V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7,56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sville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53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and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,39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l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53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,27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7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uca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,374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rgis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7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eling Water Dept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,31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-American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7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smout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,555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land Borough Water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6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s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,84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Steel Drink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655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737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 Chem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2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er Poly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6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onal Use F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y 1¢ fee per consumer per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M consumers = $50,000/year x 7 years = $350,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14.3¢/person = $5M in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2¢/person = $2.5M in 7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3¢/person = $1.5M in 7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Funding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es and Penalties from spills/discharge issue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harge permit fe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00 NPDES Dis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.5M/600 discharges/7 years = $595/dis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5 M = $357/dis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artment of Homeland Security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ptive loss f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nts – Foundations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Foundation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ater Resource Gr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and Federal Gra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 item 106 pass-through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land Waterways Trust Fun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bor Maintenance Trust Fu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year or 28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term or long term perspectiv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petual need for O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regulatory environment require in futur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S analytes and response to industrial/manufacturing changes in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undant natural gas to spawn new industry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zer manufact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tics manufact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Proc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ission Dir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ways to fund next iteration of ODS system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thought to have system supported by all who benefi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nking water purvey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5M needed in 7 years for full replacement and upgrade of analytical, communications and data management systems based on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ortionments based on annual contributions required for 7 years to accrue $5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st Share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utilities share in equipment replacement cost pay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sh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 rate full amount based on population 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 rate half amount (50:50 split with Commission?) based on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“user fee” for all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l Apportionment Among All Drinking Water Utilities/Purvey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hart 3" descr=""/>
          <p:cNvPicPr/>
          <p:nvPr/>
        </p:nvPicPr>
        <p:blipFill>
          <a:blip r:embed="rId1"/>
          <a:stretch/>
        </p:blipFill>
        <p:spPr>
          <a:xfrm>
            <a:off x="4187880" y="1517760"/>
            <a:ext cx="4657680" cy="443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Municipal Ut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Industrial Purvey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5M/7 years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714,286/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714,286/33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1,645/facility/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151,515/facility over 7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743200" y="60958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 facilities provide water to 85% of Ohio River Water Consum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5M Apportionment based on Population Served – per annum 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523880"/>
          <a:ext cx="8686800" cy="5105520"/>
        </p:xfrm>
        <a:graphic>
          <a:graphicData uri="http://schemas.openxmlformats.org/drawingml/2006/table">
            <a:tbl>
              <a:tblPr/>
              <a:tblGrid>
                <a:gridCol w="2776680"/>
                <a:gridCol w="1153800"/>
                <a:gridCol w="825840"/>
                <a:gridCol w="2776320"/>
                <a:gridCol w="1154160"/>
              </a:tblGrid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 Water Company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,99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uben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99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innati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4,639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verpoo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799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9,74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hip of Robin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099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tsburgh Water &amp; S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5,621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nt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012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KY. Water Servic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2,497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key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99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nsville Water Pla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,747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 Water Works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9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ew Municipal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,998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Follansbe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79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V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5,749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sville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74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and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,937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l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74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3,299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2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uca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,499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rgis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2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eling Water Departme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,749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-American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2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smout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17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land Borough Water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48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s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194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Steel Drink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374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849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 Chem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er Poly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5M Apportionment based on Pop. Served – 7 year total con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523880"/>
          <a:ext cx="8686800" cy="5105520"/>
        </p:xfrm>
        <a:graphic>
          <a:graphicData uri="http://schemas.openxmlformats.org/drawingml/2006/table">
            <a:tbl>
              <a:tblPr/>
              <a:tblGrid>
                <a:gridCol w="2600280"/>
                <a:gridCol w="1330200"/>
                <a:gridCol w="825840"/>
                <a:gridCol w="2600280"/>
                <a:gridCol w="1330200"/>
              </a:tblGrid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 Water Company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126,944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uben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,498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innati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82,478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verpoo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,599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8,215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hip of Robin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,699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tsburgh Water &amp; S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59,352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nt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4,086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KY. Water Servic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67,48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key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799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nsville Water Pla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,23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 Water Works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982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ew Municipal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4,987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Follansbe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859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V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0,244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sville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12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and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7,561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l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12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3,095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287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uca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3,496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rgis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287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eling Water Dept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,246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-American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287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smout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,22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land Borough Water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84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s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,36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Steel Drink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2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,623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12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,948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 Chem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8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er Poly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5M Apportionment based on Population Serv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562720" y="5791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 systems contribute 85% of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5M Apportionment on Pop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rved - per annum 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523880"/>
          <a:ext cx="8686800" cy="5105520"/>
        </p:xfrm>
        <a:graphic>
          <a:graphicData uri="http://schemas.openxmlformats.org/drawingml/2006/table">
            <a:tbl>
              <a:tblPr/>
              <a:tblGrid>
                <a:gridCol w="2776680"/>
                <a:gridCol w="1153800"/>
                <a:gridCol w="825840"/>
                <a:gridCol w="2776320"/>
                <a:gridCol w="1154160"/>
              </a:tblGrid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isville Water Company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0,496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uben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49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innati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7,32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verpoo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99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,872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hip of Robin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49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tsburgh Water &amp; S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,810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nt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006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KY. Water Servic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,248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key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9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nsville Water Plant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,873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 Water Works Off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98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View Municipal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,499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of Follansbe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8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V-American Water Co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,874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sville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7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and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968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ll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7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649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gan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uca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249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rgis Water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eling Water Dept.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,37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linois-American Wa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smouth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587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land Borough Water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74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sville Water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97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Steel Drinking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own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187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3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rton Water Work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924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 Chem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er Poly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5:07:00Z</dcterms:created>
  <dc:creator>jerry</dc:creator>
  <dc:description/>
  <dc:language>en-US</dc:language>
  <cp:lastModifiedBy>jklear</cp:lastModifiedBy>
  <dcterms:modified xsi:type="dcterms:W3CDTF">2013-07-22T14:25:49Z</dcterms:modified>
  <cp:revision>53</cp:revision>
  <dc:subject/>
  <dc:title>ODS Replacement Options</dc:title>
</cp:coreProperties>
</file>