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A57-0DEC-47B6-B59C-6BA6FCAE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37C-7531-4A70-A48C-AC1F42C4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93A5B-3C2D-4201-BDCD-A102401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DC16D-8831-45E8-9A2A-6DD812A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C8A34-C1EA-4C38-A93F-CA4B2E2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75BA5-EB4A-4E91-870C-87F1CCA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714D6-144D-4F31-8BA5-4F210558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0AA18-1F5E-4CCB-8CB7-B3120CB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884DD-0DC9-4358-BA1F-B055A51A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46600-6AF6-42A4-B82F-B89EC5D3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A720D-5ABF-43C3-ADDA-0902CC9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7BD32-6628-4A7A-BF7D-696F2F7F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415-F620-4DAD-AA28-4E7C35CC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10C09-36C0-41C5-9F13-C9870A4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64361-2D12-4FEB-9863-9DE581C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D257D-6BBC-4D9B-9368-9F3A7039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FDD33-B86C-4EFE-83A0-209E81C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82CB3-1235-46D2-91A7-4812C65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0E259-3CF0-42B1-B70C-7943A94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97422-4F41-4F6C-BE70-E023AEF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36247-B720-4003-AC1C-46298E7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E364D-6A04-42F2-9DA9-F1D56A6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E7ABA-1C49-4F21-AE7A-FF078FF3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071-A491-43CC-987F-CD2262FF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68870-0A15-462B-9CAF-E3568C7E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39E0-2F0E-4311-862D-9823AF93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BCBB-0B95-4F56-990B-0DA672A1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A550A-90A6-4D63-8921-BE1994A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DA409-363A-416F-92E9-48563F5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82EA6-505E-466A-997C-BB4666D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42329-19C2-499F-A5AD-084838C4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4B648-9C75-4CF6-9786-C194D0A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68A40-2CF6-470A-81DC-525D1DC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E7459-47D7-4100-8946-190FBD5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B83D-E45E-492D-AD24-6E284E9E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E6A46-FA4B-40CF-8BC6-085A0592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368DE-6E3F-48C8-9BC0-30594BC5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4D2C-D742-42EA-8536-2FA60975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1D06F-0AE0-4A9C-8668-73F277D6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4DEE2-BF10-4182-8047-33C94A6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D584A-4105-40C9-8B30-CBC49B5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67CB5-1EA7-4881-A60D-924E1D57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26939-B31E-44E8-A8F7-F6060DFB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26B18-CE26-4670-9FB9-C51C1C58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EE628-FDB1-43A9-B423-259BA41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7165-CC8B-4F2C-914D-FD9B19F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8F7EF-B615-4DAB-9538-8E3D6A3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3FB34-7600-4559-A3F1-322EE5E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FF288-9A53-4087-B147-ADBE9ED0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33FFB-8F40-49F2-8661-423CBE08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10AB5-3C0B-402D-95B0-6994B777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ADF1-B6FD-492B-8965-9524BFC7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315C-42C2-43E4-9880-1BB4A5FA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DE39-CA35-4EBA-A0FC-DC66FF2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A590-BC64-4C98-9D35-E4EAB39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721-1FF4-4303-A82B-374085E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FC1-ABD4-4DB3-946B-7A5EF5E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B6AE-290C-4B10-B576-B0B49C4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D986-972E-4728-A3BD-860B0D6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4653-6367-49F9-B5E0-C9239E61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5BF-3B9F-4EC2-BC84-FB334EBB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C26A-3260-4947-AAD4-C557010C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DECF-2BAD-4370-A6B7-3DE7EB66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7DC1-8DC4-408A-93EA-D0EF10BC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49A7-61CF-4CD1-996B-4EB97FE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0323-EA7E-4811-A354-B945376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0C0C-E50F-41FF-90C7-1081F28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CDF-2777-4BBC-88A8-6F2E1B04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7B88-9C61-4390-B1A4-76B4A7CF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2A0F-AE0D-4D2F-AA9E-EDBBA31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57C7-F85E-49B0-8D2B-72C9FBC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C9A5-09F1-4E9C-B539-FD2D118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5457-F0F6-42C1-A1E7-8C78D2B5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77A4-0DE1-4286-A3CC-0A18DA4E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3CE5-61FC-4EF5-AA35-A0E3C89D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D1B1-CDF3-4F32-81B7-4957B0BE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BA68-206E-4CF4-866D-8BD3B10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CDF7-0C48-4A0A-A464-BD685549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352-861F-4677-A71D-1212B01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0602-221C-4062-8EEC-54FD570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B201-F11B-40F8-8B1E-78D2488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BD6B-3651-48AA-B151-2A0F4DC8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D6FD-FD4F-41DA-A505-D2DE6A0A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0C09-63B4-41B5-9A03-1742B13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C225-F551-4703-88D2-7B813E4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4E12-77D4-43F7-BD2C-E52D669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F4BC-9C08-4A96-8151-97D6AFE9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16ED-9AFE-48FF-BB37-5A578402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B0E8-20DF-4A3E-80CE-21F635C8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BCB-CFDB-4CD6-BC7D-74B5715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D768-54B9-4ECD-835B-F6A0A0C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FFE1-2C2E-4DE8-8B51-011E8A4F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5DF2-E55E-4381-BD9B-90793C2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3A3E-4E9E-40C3-AF23-39F76D4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B14D-5FE7-4D6C-AD76-65FF7B06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F066C-DB36-40D6-B898-0E021E6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288B-B80D-4FE3-938E-F348F2D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6BE4-3B7C-4CC9-B275-0EB8E43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F018C-3061-4DCF-831C-05EBB95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FDC8-FEB2-46B2-AE44-2C300F46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5BA-230D-46D5-8D79-5ACDB80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B4C5-C4AF-4895-8963-8FAA1B1E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7361-20B1-4301-963C-7CD01043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17A6-7DED-491E-BB9D-6785E52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E735-DD1F-4965-98BA-5A370F0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94616-3F65-4A06-82C9-2D4085CE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C438-4A8D-426F-875B-A006B39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F0A5-12B3-4A60-81DE-55D04A3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CC2A-41EA-4023-9D3A-99B9B51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AC9C-0305-478A-A9E9-8C53B05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A7E7-EE67-4DDB-A330-F832FCF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6F9-BE1E-4776-ABAD-ECA9A8F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9089-2F19-4773-B290-10CF85D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72079-1D9C-4F17-AE7E-EE5D03AF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D4543-5746-4993-A006-4FDE665B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4288-F4F9-4CD2-9E6F-E7DD6DC0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53937-F101-4ED2-A0E9-D879A9C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6707-D5A3-414C-A130-2DD5CC5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D3D1B-D4B7-4DDD-B4D5-2469C92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2C16-C42B-4817-93E7-E6B660F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4EDE5-4B63-46B2-9FEE-2100279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3AE7-EC24-45AF-BC5F-3391790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AF1-B02B-4B37-851E-9C5974F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39F1-11EE-488B-9C68-FA8613E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AE19-02C2-421D-92E2-62DBFDE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7B7F8-3E41-4479-88D7-83919C05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C067-6665-4520-B408-27218551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5533-7231-4DCD-B4EE-0055803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BD98-06EE-4E90-BE4A-9BDC56ED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4822-6DB7-40DD-9D8A-533BBDD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4A28-7C4E-4E6E-BD09-54DA928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74EC5-DB82-4B11-86C2-8E341A03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08134-1258-4374-8B0D-38A1D11E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03A-51AB-441F-9573-A4DAB3C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8283-EE0A-4DDD-9595-4EA640F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24841-9B3B-409D-B661-D15AD34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F96D-42B0-4268-B180-6BEE350C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C2798-1627-4FD3-A7BD-83BE644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D7796-2DFA-437F-AD2C-C11915D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0F1A-1180-4187-997A-CF6FED7D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24C2-F595-4A5A-9589-D6C5DA5A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3855-38D0-4491-80E8-A0FF4335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4613E-6745-4B72-B2F9-5869D622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0F555-AAB1-4F62-8D0D-8E0312F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232-D13B-43F5-B324-B30EC45FBD77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2B44-4FF8-46CD-9965-F1EEFFD95B47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826E-9E25-4C3A-9D7E-8980F45BFB7D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342B-B8CD-4734-9AED-33FF74AC36CA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BE5-121E-46B1-9DED-46075B3FDFFC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05A-A2DF-41C6-936A-86D617E5629D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F0D-07F5-4996-9F76-8A979798E6E6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486-B5C4-442A-99E1-056A02FB2AA3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104D-4411-4898-8C36-A3150EE5A66B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17F9-77FE-46B0-9079-4A070462EB70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76B0-813D-44E0-A407-E2B5FDD3AC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2AC8-147B-4593-870B-6260B00D6011}" type="slidenum">
              <a:rPr b="0" lang="en-US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Georgia"/>
              </a:rPr>
              <a:t>305(B) REPORT TO CONGR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232"/>
                </a:solidFill>
                <a:latin typeface="Georgi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b587c"/>
                </a:solidFill>
                <a:latin typeface="Georgia"/>
              </a:rPr>
              <a:t>Biennial Assessment of Ohio River Water Quality Conditions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3429000" y="4038480"/>
            <a:ext cx="2355840" cy="2160720"/>
            <a:chOff x="3429000" y="4038480"/>
            <a:chExt cx="2355840" cy="2160720"/>
          </a:xfrm>
        </p:grpSpPr>
        <p:pic>
          <p:nvPicPr>
            <p:cNvPr id="609" name="Picture 4" descr="Colored Logo ORSANCO.jpg"/>
            <p:cNvPicPr/>
            <p:nvPr/>
          </p:nvPicPr>
          <p:blipFill>
            <a:blip r:embed="rId1"/>
            <a:srcRect l="13509" t="21995" r="13521" b="0"/>
            <a:stretch/>
          </p:blipFill>
          <p:spPr>
            <a:xfrm>
              <a:off x="3429000" y="4038480"/>
              <a:ext cx="23490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Rectangle 5"/>
            <p:cNvSpPr/>
            <p:nvPr/>
          </p:nvSpPr>
          <p:spPr>
            <a:xfrm>
              <a:off x="5382360" y="4038480"/>
              <a:ext cx="40248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3429000" y="4038480"/>
              <a:ext cx="40248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etermining Impairment for Mercury in Fish Tissu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uring the 2012 305(b) Assessment, TEC directed staff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Utilize USEPA’s assessment methodology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Designate the Ohio River “unassessed” for mercury in fish tissue due to a lack of TL2 and TL3 fish tissue data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Collect additional fish tissue data to fill in missing data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Consider utilization of outside data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USEPA’s Methodology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sic concept is to generate an “average” concentration across the representative species and trophic levels consumed for comparison against the criterion for MeHg = 0.3 mg/K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al default consumption rate for freshwater &amp; estuarine fish is 17.5 grams/da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43040" indent="-343080">
              <a:spcBef>
                <a:spcPts val="499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8 g/d TL2 + 8.0 g/d TL3 + 5.7 g/d TL4 = 17.5 g/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343080" indent="-3430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The criterion was developed incorporating these consumption values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Methodology for Averaging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av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3.8*C</a:t>
            </a:r>
            <a:r>
              <a:rPr b="0" lang="en-US" sz="2700" spc="-1" strike="noStrike" u="sng" baseline="-25000">
                <a:solidFill>
                  <a:srgbClr val="000000"/>
                </a:solidFill>
                <a:uFillTx/>
                <a:latin typeface="Georgia"/>
              </a:rPr>
              <a:t>TL2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 + 8.0*C</a:t>
            </a:r>
            <a:r>
              <a:rPr b="0" lang="en-US" sz="2700" spc="-1" strike="noStrike" u="sng" baseline="-25000">
                <a:solidFill>
                  <a:srgbClr val="000000"/>
                </a:solidFill>
                <a:uFillTx/>
                <a:latin typeface="Georgia"/>
              </a:rPr>
              <a:t>TL3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 + 5.7*C</a:t>
            </a:r>
            <a:r>
              <a:rPr b="0" lang="en-US" sz="2700" spc="-1" strike="noStrike" u="sng" baseline="-25000">
                <a:solidFill>
                  <a:srgbClr val="000000"/>
                </a:solidFill>
                <a:uFillTx/>
                <a:latin typeface="Georgia"/>
              </a:rPr>
              <a:t>TL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7.5 g/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ke geometric mean of each species in a trophic level, then take a weighted arithmetic average of the geometric means; weighted by the number of samples in each spec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ttom line effect is that species having more samples get a greater “weighting” or influencing in the averaging methodolo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is basic concern with accepting outside dat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Effect due to Sample Siz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80880" y="934920"/>
          <a:ext cx="8077320" cy="2494080"/>
        </p:xfrm>
        <a:graphic>
          <a:graphicData uri="http://schemas.openxmlformats.org/drawingml/2006/table">
            <a:tbl>
              <a:tblPr/>
              <a:tblGrid>
                <a:gridCol w="2362320"/>
                <a:gridCol w="1258920"/>
                <a:gridCol w="1511280"/>
                <a:gridCol w="2944800"/>
              </a:tblGrid>
              <a:tr h="6426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rophi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o.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ometric Mean,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116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ite Crap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lueg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16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lue Cat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36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mallmouth Buffa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08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iped B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 txBox="1"/>
          <p:nvPr/>
        </p:nvSpPr>
        <p:spPr>
          <a:xfrm>
            <a:off x="456840" y="3657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TL3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5*0.35 + 20*0.25 + 5*0.30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= 0.275 mg/K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avg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3.8*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TL2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 + 8*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TL3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 + 5.7*C</a:t>
            </a:r>
            <a:r>
              <a:rPr b="0" lang="en-US" sz="2500" spc="-1" strike="noStrike" u="sng" baseline="-25000">
                <a:solidFill>
                  <a:srgbClr val="000000"/>
                </a:solidFill>
                <a:uFillTx/>
                <a:latin typeface="Georgia"/>
              </a:rPr>
              <a:t>TL4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7.5 g/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avg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=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Georgia"/>
              </a:rPr>
              <a:t>3.8*0.3 + 8*0.25 + 5.7*0.3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0.28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7.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Problems with Methodology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SANCO not in agreement with EPA-defined trophic leve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 many commonly consumed Trophic level 2 for Ohio Ri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ighting the averages by number of samples creates situation where numbers of samples collected for a particular species could affect the outcome of the assess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rein the concern with accepting outside data.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Possible Solution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species in each of the trophic levels that are commonly consumed for the Ohio Ri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ive equal weighting to each species in a trophic level regardless of number of samples for each spec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better information on commonly consumed species and size cla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guidance on use of size cla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Proceed with Recommendations?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9:37:45Z</dcterms:created>
  <dc:creator>jwisenall</dc:creator>
  <dc:description/>
  <dc:language>en-US</dc:language>
  <cp:lastModifiedBy>jklear</cp:lastModifiedBy>
  <dcterms:modified xsi:type="dcterms:W3CDTF">2013-07-22T14:21:35Z</dcterms:modified>
  <cp:revision>41</cp:revision>
  <dc:subject/>
  <dc:title>Slide 1</dc:title>
</cp:coreProperties>
</file>