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2B9D-D25C-4D2F-BEE7-8E6D1254B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8A5A-A5FC-4D96-AC39-8D73A2D4B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AF80-6531-4047-BA9D-736C0379D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949F-6A46-495F-B4AA-4D4829E8E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E2D4-3058-4817-9FD7-7CFE65AB6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B2B-BEB3-4880-B27D-4432A49E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E48-2BEB-4F2E-BC2A-9A6B0DF0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092-5188-4943-A80F-85DBDE4F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0E1-9D43-4CBE-AA9A-82BF41A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C6A0-94C3-47C0-9D85-36A4093D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C0B0-8879-4450-B12F-59F7CC7F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E66E-0729-4CCD-8A99-FBFECE66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DBCB-7FF9-4292-A8F4-554B4E94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BFF8-0288-4F4B-88D9-2969A85F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0A79-C525-49EB-B4D3-5648E2DC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EA62-D125-4995-8B2C-0F52E48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4EC-8CB2-48E0-881C-DA80B40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F655-AADC-47F2-A3FE-096A5849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B9D6-9C97-4C81-9303-23D72EA3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2E80-3C77-4404-8D13-A7839472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5F15-81BB-4C31-B66B-38230570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261B-0F2D-4EB4-904A-05FC85DD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135AE-5616-4F30-A827-C362F9EF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78C84-FEFE-40C0-9F1E-20229CCE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F79B5-EAB5-4DEC-913E-11A4969B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A41FB-2BDE-42D5-A3D7-17D8E251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41C34-C511-4588-8B65-6D74BC68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BBC-6CCE-4D4E-87B0-E2A02F41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3B744-D3EB-4506-A6E8-10526C15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B876B-5D2F-4AAF-9EFA-0CC5F96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FF770-82A8-46F1-AEDF-EF25A18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803E4-004D-4A2B-B659-DA1C4BAF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1C4CF-A1C7-459F-A04A-501781C4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5D027-7B4D-4115-9E46-116E44F7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008D8-6705-4153-AC3B-6BA38062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74ABF-2719-4C67-9587-F7DE01A9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C6847-1269-4C2E-AB88-3FF30870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0C5A8-FC61-4FF5-85FF-E1C34196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FD1-0C30-4337-A08D-CD6715E5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98D05-BD0C-4E4C-9A26-5A316664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58C25-69A9-4B63-B81B-071608C3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16076-A2AE-4E52-9CFD-02B47D49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2997D-0C94-4831-8A68-EC72AAC9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3F6E8-8131-48F7-BEBE-2C67B739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5A51C-EA2A-495B-9694-86BEB8F2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D540D-8BE9-4C49-B4EE-B93B8BFB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71D32-E050-4EBE-B1B8-3FEDE7B3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72942-5B0C-474D-93AD-3E4D6BE3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BBCED-4096-4EB3-9D49-A01C1AA7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CF6-E414-47F8-8608-BC1E512C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C2D8F-27AF-488C-85E6-29140B9C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EE77A-83F0-4911-A1F1-DE6A99EF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27AE7-B0A2-45EB-B2CF-696F48F2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0F7EE-CBC1-41C8-8932-9CA5C09C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1C59A-38BD-4ACF-9A77-E831AEA2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0676F-2071-4E97-AC47-794CE186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F7A6C-BC96-4122-806D-7697E45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70190-8939-4CD8-8892-CAF0FE88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3A930-45AC-4151-9F73-58397C3A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17611-1E6A-4414-86C0-07B7389F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4E6-6335-49BC-A7D7-A1047BE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ACB7B-EEAE-48F0-9052-3F860946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5168E-9F0F-45B5-BE11-D6363266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199F-B100-4888-B06C-7EDD2F4C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56D4C-9162-4F88-A78F-FEE15829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A70BE-50B0-4400-9F5D-5BE3287D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122A-BA83-40EE-8E3A-03BDD998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E7201-FE74-47B5-9916-7FC488D8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CB4AE-AC7F-418D-9755-241122D0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1F92-15FD-401A-B1D3-5EE8E042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B79B-3771-4EE2-873A-4A903FA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0A9-16A9-4931-B368-745D5026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C4E0-01CE-46F8-8C86-AEA6CF63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C3E1C-F528-4868-898B-65B4FF50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4D893-07A3-4B72-94E9-F99883F0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FA071-5224-4E8A-A971-BBC26267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6C999-B968-45C7-96EF-7825C7F9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61C1D-67EB-498A-B7E5-CEFC3C3E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34D14-F361-42D9-8124-D668C981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07357-CA0E-4839-B8EC-27E7C05E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53A8C-FBC5-4A6D-BED8-B5952BD8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7A611-3FB8-4B13-BA77-DE0072C1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2E8-A125-4350-A990-62FEBD4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0B693-E169-47D4-8E2F-C00FCB3C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64392-037E-444F-B63D-B01D7CC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CA5B4-5847-4BD3-A54E-6CF14C28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49EDD2-DB31-467A-8BE9-4C75AD42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B2BD1-17B1-4E92-A8F2-2EABAB87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59579-8A12-41AA-92E7-B755B0CD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F8BE-96C4-45EA-87EB-30D8EA3C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C3BF7-E82C-438E-ABBA-8A9DAA87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0AD8B-C462-4146-8A83-A4EED6A7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AB7C8-E0C7-4510-BD4E-87BCECA9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1BC-D708-4797-93A7-A0A4E442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F6C4F-B4D1-4DC1-957A-44792757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A7BA5-F1BE-4DE5-AAAE-82590366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18BB0-6D6B-41E6-83A8-8B56CD8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30994-75D8-4ECE-95E7-D764BED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03D04-0B31-447C-BC84-EE790A5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93FF9-14F3-4444-B81D-F647E3A8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5DC50-B534-47D3-B5BD-8B53EF91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9F46-3D05-44CD-805B-2E84241C1B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924E-71A9-4F31-99A1-69A9EDB818F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B9B1-76C2-4F6A-81EE-85B3A20C927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0BD5-B331-4B99-B908-47CDE70CB9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D9EB-9E53-4E3D-880F-6350DA50E6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84E-621B-4F8F-B769-124C41B92B02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6220-FE83-49AC-A6FD-C67A239F04C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6DD1-A458-4DE2-AE52-DB34A17811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GD MONITORING PROJEC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RSANCO Technical Committee Meeting June 4, 2013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Item 8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al online year 197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Generating capacity 1560 MW (2 Unit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rubbers online 2007 (Limestone Tray Type with gypsum recover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GD Chloride Purge Stream to clear pond discharged with 5.79 MGD non-cooling wat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al used is a mix of Northern Appalachian (Higher S, Hg) and Central Appalachian (Lower S, H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al online year 198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Generating capacity 1300 MW (1 Uni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rubber online 2007 (Limestone Spray Type no byproduct recover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GD Chloride Purge Stream 0.48 MGD, Treated in bioreactors and mixed with 4.31 MGD other non-cooling water from reclaim pond prior to dis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coal used is Appalachian (not specified N or S but reported lower sulfur content than other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 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al online year 195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Generating capacity 1200 MW (6 Unit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rubbers online May 2013 (Limestone Jet Bubbling with gypsum recover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GD Chloride Purge Stream will go to Bottom Ash pond with 20.5 MGD non-cooling wa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al used is 25% Western PRB (lower S, Hg), 75% Eastern/Cumberland (lower S, Hg). Will switch to 100% Illinois Basin (higher S, lower Hg) when current stock is g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457200" y="743040"/>
            <a:ext cx="3886200" cy="29145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394" name="Picture 4" descr=""/>
          <p:cNvPicPr/>
          <p:nvPr/>
        </p:nvPicPr>
        <p:blipFill>
          <a:blip r:embed="rId2"/>
          <a:stretch/>
        </p:blipFill>
        <p:spPr>
          <a:xfrm>
            <a:off x="4724280" y="743040"/>
            <a:ext cx="3886200" cy="29145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395" name="Picture 7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3886200" cy="2914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396" name="Picture 8" descr=""/>
          <p:cNvPicPr/>
          <p:nvPr/>
        </p:nvPicPr>
        <p:blipFill>
          <a:blip r:embed="rId4"/>
          <a:stretch/>
        </p:blipFill>
        <p:spPr>
          <a:xfrm>
            <a:off x="4724280" y="3772080"/>
            <a:ext cx="3886200" cy="2914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GD Wastewater Treatm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886200" cy="29145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399" name="Picture 6" descr=""/>
          <p:cNvPicPr/>
          <p:nvPr/>
        </p:nvPicPr>
        <p:blipFill>
          <a:blip r:embed="rId2"/>
          <a:stretch/>
        </p:blipFill>
        <p:spPr>
          <a:xfrm>
            <a:off x="4724280" y="762120"/>
            <a:ext cx="3886200" cy="29145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860640" cy="2895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01" name="Picture 3" descr=""/>
          <p:cNvPicPr/>
          <p:nvPr/>
        </p:nvPicPr>
        <p:blipFill>
          <a:blip r:embed="rId4"/>
          <a:stretch/>
        </p:blipFill>
        <p:spPr>
          <a:xfrm>
            <a:off x="4724280" y="3809880"/>
            <a:ext cx="3886200" cy="2914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inal Efflu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175200" cy="23814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404" name="Chart 6" descr=""/>
          <p:cNvPicPr/>
          <p:nvPr/>
        </p:nvPicPr>
        <p:blipFill>
          <a:blip r:embed="rId2"/>
          <a:stretch/>
        </p:blipFill>
        <p:spPr>
          <a:xfrm>
            <a:off x="225360" y="2664000"/>
            <a:ext cx="8315280" cy="39686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ethyl Mercury in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inal Discharg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sonal Dif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317840" cy="3238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4318200" cy="3238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o potential violations of 12ng/L total mercury in final effluent were observ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ethyl mercury concentrations consistent across raw intake, CPS, and Final Efflue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ioreactor treatment is effective for mercury, selenium, and bromid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udy average mass discharg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PS contain ~0.30g/day total mercu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nal Effluents contain ~0.05g/day total mercu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Results indicate internal discharge to ash ponds/clear water ponds captures 85% of mercury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5f55"/>
                </a:solidFill>
                <a:latin typeface="Tw Cen MT"/>
              </a:rPr>
              <a:t>FGD Monitoring Sampling Plan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5238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ur sample events (quarterly) at four coal-fired power generation facilit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alytical parameter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914400" y="3429000"/>
          <a:ext cx="7162920" cy="1920960"/>
        </p:xfrm>
        <a:graphic>
          <a:graphicData uri="http://schemas.openxmlformats.org/drawingml/2006/table">
            <a:tbl>
              <a:tblPr/>
              <a:tblGrid>
                <a:gridCol w="3581280"/>
                <a:gridCol w="358164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ltered total H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nfiltered total H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ltered methyl H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nfiltered methyl H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le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rom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solved Organic Carb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solved Sulf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lorophy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H/Specific  Conduc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GD Monitoring Results by Sample Sit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3" name="Picture 3" descr="2012-03-27_13-27-15_981.jpg"/>
          <p:cNvPicPr/>
          <p:nvPr/>
        </p:nvPicPr>
        <p:blipFill>
          <a:blip r:embed="rId1"/>
          <a:stretch/>
        </p:blipFill>
        <p:spPr>
          <a:xfrm>
            <a:off x="6553080" y="1676520"/>
            <a:ext cx="2390760" cy="4240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photo.JPG"/>
          <p:cNvPicPr/>
          <p:nvPr/>
        </p:nvPicPr>
        <p:blipFill>
          <a:blip r:embed="rId2"/>
          <a:stretch/>
        </p:blipFill>
        <p:spPr>
          <a:xfrm>
            <a:off x="3809880" y="3200400"/>
            <a:ext cx="2362320" cy="3162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DSC_4696.jpg"/>
          <p:cNvPicPr/>
          <p:nvPr/>
        </p:nvPicPr>
        <p:blipFill>
          <a:blip r:embed="rId3"/>
          <a:stretch/>
        </p:blipFill>
        <p:spPr>
          <a:xfrm>
            <a:off x="152280" y="1600200"/>
            <a:ext cx="3429000" cy="22716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9"/>
          <p:cNvSpPr/>
          <p:nvPr/>
        </p:nvSpPr>
        <p:spPr>
          <a:xfrm>
            <a:off x="762120" y="3962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aw Water Intak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Box 10"/>
          <p:cNvSpPr/>
          <p:nvPr/>
        </p:nvSpPr>
        <p:spPr>
          <a:xfrm>
            <a:off x="3809880" y="25146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hloride Purge Stream Internal Outfall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extBox 11"/>
          <p:cNvSpPr/>
          <p:nvPr/>
        </p:nvSpPr>
        <p:spPr>
          <a:xfrm>
            <a:off x="67816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inal Efflue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860640" cy="28958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3860640" cy="28958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371" name="Picture 3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3860640" cy="289548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372" name="Picture 4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3860640" cy="2895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962520" cy="29718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62520" cy="29718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3962520" cy="29718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pic>
        <p:nvPicPr>
          <p:cNvPr id="376" name="Picture 2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3962520" cy="2971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“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THERE IS NO TYPICAL FLUE GAS DESULFURIZATION SYSTEM” 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	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	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- </a:t>
            </a:r>
            <a:r>
              <a:rPr b="0" lang="en-US" sz="1800" spc="-1" strike="noStrike">
                <a:solidFill>
                  <a:srgbClr val="ebddc3"/>
                </a:solidFill>
                <a:latin typeface="Tw Cen MT"/>
              </a:rPr>
              <a:t>NORTH AMERICAN ELECTRIC RELIABILITY COUNCIL , 1991</a:t>
            </a:r>
            <a:br>
              <a:rPr sz="4000"/>
            </a:br>
            <a:endParaRPr b="0" lang="en-US" sz="1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8" name="Title 4"/>
          <p:cNvSpPr/>
          <p:nvPr/>
        </p:nvSpPr>
        <p:spPr>
          <a:xfrm>
            <a:off x="762120" y="3809880"/>
            <a:ext cx="77724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rcury behavior is difficult to estimate … it is recommended to measure mercury in all cases and not rely simply on engineering estimates.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Siemens Environmental Systems 2009</a:t>
            </a:r>
            <a:br>
              <a:rPr sz="26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Ohio River Scrubbed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enerating Capacit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Content Placeholder 5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3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Ohio River Scrubbed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enerating Capacit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5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3000" cy="4505400"/>
          </a:xfrm>
          <a:prstGeom prst="rect">
            <a:avLst/>
          </a:prstGeom>
          <a:ln w="0">
            <a:noFill/>
          </a:ln>
        </p:spPr>
      </p:pic>
      <p:sp>
        <p:nvSpPr>
          <p:cNvPr id="383" name="Oval 3"/>
          <p:cNvSpPr/>
          <p:nvPr/>
        </p:nvSpPr>
        <p:spPr>
          <a:xfrm rot="20836200">
            <a:off x="5218200" y="4965480"/>
            <a:ext cx="24429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Oval 4"/>
          <p:cNvSpPr/>
          <p:nvPr/>
        </p:nvSpPr>
        <p:spPr>
          <a:xfrm>
            <a:off x="7543800" y="3733920"/>
            <a:ext cx="838080" cy="1295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al online year 1967, 197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Generating capacity 1800 MW (3 Unit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rubbers online 2007, 2008, 2010 (Limestone Jet Bubbling no byproduct recover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GD Chloride Purge Stream discharge 0.32 MGD, mixed with 1,144 MGD cooling water prior to dis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coal used is North Appalachian (higher S, H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19:13:08Z</dcterms:created>
  <dc:creator>eben</dc:creator>
  <dc:description/>
  <dc:language>en-US</dc:language>
  <cp:lastModifiedBy>jklear</cp:lastModifiedBy>
  <dcterms:modified xsi:type="dcterms:W3CDTF">2013-07-22T14:24:59Z</dcterms:modified>
  <cp:revision>118</cp:revision>
  <dc:subject/>
  <dc:title>“There is no typical Flue Gas Desulfurization system”     - North American Electric Reliability Council , 1991</dc:title>
</cp:coreProperties>
</file>