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839E-6A48-4CFB-B427-20D799AED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6, the Ohio Department of Natural Resources and Kentucky Environmental and Public Protection Cabinet hosted a Ohio River Basin Water Resources Partnering Meeting that was titled a “Call to Action”. It was at that meeting that the idea for this Summit was bor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consensus regarding the value of working toward a more integrated view of water resources management through development and expansion of regional collabo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49A3-2BDF-489F-BA15-D89877240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conferences per year – except for 2013 – spring conference cancelled due to funding restrictions – next conference in Aug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ferences are usually follow a multi-day format with a series of invited speakers and breakout ses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82C5-636B-4E51-AC76-2ADCD50CD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F164-233D-4C46-89B9-1B2AD2079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E9A4-088A-4123-97CE-815B5816A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D52D-7434-4D04-A4CE-F54F596D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F48-7653-4961-9AE5-2E9BFAC8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F33-3A07-48B4-BF08-E7A41EB4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ED2-285C-4422-89A6-4760C7BE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9EF9-E5E3-4F46-8467-FEDF9B87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D915-35E4-4924-A3C4-59652623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6D7B-F9B4-4052-A632-0044DEEC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1DC2-65B2-4852-8605-9F5720BF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B60F-75D1-422F-9EA9-BB0B9C38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1FB6-778B-400A-B75F-E035AB1D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9148-0E89-431B-BF47-3AB92161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FF46-E9BC-4266-8848-0CB8A900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DBE4-23D7-4D5A-B2A2-A1DD937B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732F-D3EA-47A5-BA53-7FD2D3BB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A689-9E56-470D-B9E5-BC8FA3E8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44FD-2D38-438E-B9DE-A121AAF2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944E-53A8-4356-967B-F75621BF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6EB78-C3A2-4CE5-9FAB-09813FA0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D2367-725C-4FD1-A978-795EBBD9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E42E5-637E-4C0B-8EE3-936E6F3E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69CD0-0BC1-4CFA-8D0C-7AF5BA64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6EB73-729D-4DF5-A534-DE0A6B4E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935A-A30E-459C-8967-8BB32A1B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460FA-DDB3-4CBA-B8B1-32F28BA4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32FE7-617B-47D8-A427-3CA931A1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554C6-3932-4317-BBFC-EC1B63C4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6B131-0C05-4F37-B1F1-AB7CC8D9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2BB8A-7835-43E2-ADC6-7B9A2353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8B1D9-76F7-44CF-9C95-36E272F3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2EA14-8ADD-428B-94A4-B9AC375C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D3E3E-0412-4CD8-8198-0713BF46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6B1D8-922B-4C93-98A3-D90BC71D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415A7-C9AC-4E50-9973-CC49FAF1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EE9-6C9C-4ABA-9B13-6115507A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62127-2CF8-4D22-BEF7-24FB4D0B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DD325-79AA-42E6-9708-E3F6D474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68848-25A8-4DAD-AA8C-9B861708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0F4FB-1DA8-4996-B504-D3D4ACBB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BE533-1489-4306-A703-3E93AC31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29129-57B4-4F9D-A8DF-5FBDC923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1CAAC-4AA1-47F7-B2FD-10E15475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F518C-FA22-449F-8326-8338AD53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F742F-10DA-43BC-A0E9-387705E3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FD8B9-3394-4F56-864B-143E7D32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54AC-059E-44AA-B705-D4FC17BA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BC580-4BC4-4A6B-AA5C-066CC0A8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84189-EC3E-4567-A085-C803418F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BB670-756C-4D09-BD29-538B47F1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F4417-49D4-4202-9CC6-0B4B650E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A6D47-D468-4C11-82AF-4680CC72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12C99-EB11-455E-A651-32F80564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E0586-CB12-4A5B-BEF5-490D66D3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BF257-A05B-4C5C-949C-2F0D6524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6E641-1E52-49F0-86B1-454CAE6E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F6610-3F6A-404D-9459-D4A31B7B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8355-E9E1-410C-A552-FE133BF3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E16CB-0D2C-4B23-B15E-4CF2CA2A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F3755-3B67-4142-83F7-4C9E59D7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AE7DD-0A97-4979-A5A5-D2874FAE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ABF43-4201-4F3F-992A-83266CB8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18F5E-B850-4DBD-ADF4-F38D8BD2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C8A3E-E086-4472-AF04-7B2AD9E5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406D6-8F4F-44B9-8EAE-110B59A0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8DF3A-8C09-4862-ACFC-36B1A080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2E8E2-028C-4BE4-BB0B-FC2E416D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1BD2B-CBE2-46FC-A3DE-134F7CA5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000-63E3-4A07-B20C-3F3837E4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47E9A-E65A-416B-91A7-28F7BE96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30BF8-1CDA-4FFF-A28C-05A70CDA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E16A2-4898-4699-9F34-3CA978C4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F2A08-E9C1-4184-8632-8AA94305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902C4-45CF-48ED-ADF5-25F69BB0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2AA85-E409-4472-9729-7E76A456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187DC-C7EF-46C7-991A-82488B7F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CBAD8-D4A6-4D04-A2C1-C89A22B9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D9C53-E954-4B25-ABAB-E6992709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19F21-4858-4131-97E9-4CE3D563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5C1-229A-40A9-93AC-00ED836B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A12B0-8954-493E-A623-D26A90BB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B39EB-2B47-4289-8231-27519DC9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786B9-CB32-4649-913C-E74907FC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0C927-0332-436B-9B28-C2750B95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E2A4A-9CB4-414E-8F78-C70A86B6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3B3C-6E29-4F08-8EB7-123519CD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C42B-9CE1-40F0-A574-FAA24021C9A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061A-1A26-4E0A-AB9B-C8D709EEEAC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E50B-0BA0-45AA-A15E-4626703B220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B313-942D-4023-B381-03211044CC9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1EC4-CA2E-434A-A58C-D0F17ECEDDA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03CB-31AB-4ED7-AFA7-5D970C3432A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8B0C-2899-4E23-B67B-259E94686BC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hioriverbasin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ORBA Logo.PNG"/>
          <p:cNvPicPr/>
          <p:nvPr/>
        </p:nvPicPr>
        <p:blipFill>
          <a:blip r:embed="rId1"/>
          <a:stretch/>
        </p:blipFill>
        <p:spPr>
          <a:xfrm>
            <a:off x="2743200" y="1143000"/>
            <a:ext cx="3733920" cy="30481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3"/>
          <p:cNvSpPr/>
          <p:nvPr/>
        </p:nvSpPr>
        <p:spPr>
          <a:xfrm>
            <a:off x="609480" y="4343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Erich Emery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U.S. Army Corps of Engineers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733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e87"/>
                </a:solidFill>
                <a:latin typeface="Candara"/>
              </a:rPr>
              <a:t>QUESTIONS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2" name="Picture 2" descr="ORBA Logo.PNG"/>
          <p:cNvPicPr/>
          <p:nvPr/>
        </p:nvPicPr>
        <p:blipFill>
          <a:blip r:embed="rId1"/>
          <a:stretch/>
        </p:blipFill>
        <p:spPr>
          <a:xfrm>
            <a:off x="2666880" y="533520"/>
            <a:ext cx="35816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04560" y="25142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October 2009 – Ohio River Basin Summit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Co-Led by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US Environmental Protection Agency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US Army Corps of Engineers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The Ohio River Valley Water Sanitation Commission (ORSANCO)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The Ohio River Basin Water Resources Association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Purpose: Establishing a dialogue and raising awareness of common issues and priorities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ttendees: Over 100 stakeholders representing 43 different agencies and organizations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Participants agreed that gathering together to roundtable on water resource issues within the Ohio River Basin is necessary to promote a sustainable water resources futur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04920" y="24379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onferenc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October 2009 – Covington, KY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February 2010 – Columbus, OH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August 2010 – Charleston, WV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March 2011 – Indianapolis, I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September 2011 – Huntington,WV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March 2012 – Nashville, T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September 2012 – Pittsburgh, PA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73e87"/>
                </a:solidFill>
                <a:latin typeface="Candara"/>
              </a:rPr>
              <a:t>August 20-21, 2013 – Louisville, KY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04920" y="274320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USAC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Funded the first conference in 2009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ontinues to provide administrative support to the Steering Committee, assists in maintaining the web site and providing logistical support for conference execution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The Corps’ role will diminish as ORBA grow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onferences since 2009 have been supported by conference registration fee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uppor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28600" y="25142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Our </a:t>
            </a:r>
            <a:r>
              <a:rPr b="1" lang="en-US" sz="1900" spc="-1" strike="noStrike">
                <a:solidFill>
                  <a:srgbClr val="073e87"/>
                </a:solidFill>
                <a:latin typeface="Candara"/>
              </a:rPr>
              <a:t>Vision</a:t>
            </a: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 is to support and implement integrated management of the Basin’s resources to achieve sustainable economic growth, ecological integrity and public safety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Our </a:t>
            </a:r>
            <a:r>
              <a:rPr b="1" lang="en-US" sz="1900" spc="-1" strike="noStrike">
                <a:solidFill>
                  <a:srgbClr val="073e87"/>
                </a:solidFill>
                <a:latin typeface="Candara"/>
              </a:rPr>
              <a:t>Mission </a:t>
            </a: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is to form a successful collaboration that will recommend strategies and coordinate actions to address complex water resource challenges and priorities with a unified voice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Our </a:t>
            </a:r>
            <a:r>
              <a:rPr b="1" lang="en-US" sz="1900" spc="-1" strike="noStrike">
                <a:solidFill>
                  <a:srgbClr val="073e87"/>
                </a:solidFill>
                <a:latin typeface="Candara"/>
              </a:rPr>
              <a:t>Purpose</a:t>
            </a: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 is to communicate on water resources issues in the Basin with the goal of identifying key issues that resonate with the entire Alliance membership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Our </a:t>
            </a:r>
            <a:r>
              <a:rPr b="1" lang="en-US" sz="1900" spc="-1" strike="noStrike">
                <a:solidFill>
                  <a:srgbClr val="073e87"/>
                </a:solidFill>
                <a:latin typeface="Candara"/>
              </a:rPr>
              <a:t>Guiding Principles </a:t>
            </a: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are to include everyone, leverage our resources and authorities, capitalize on existing collaborations, and do not impede or infringe on the mission of any other organization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About ORB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228600" y="25909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e Ohio River Basin Alliance (ORBA) is </a:t>
            </a:r>
            <a:r>
              <a:rPr b="1" i="1" lang="en-US" sz="2400" spc="-1" strike="noStrike">
                <a:solidFill>
                  <a:srgbClr val="073e87"/>
                </a:solidFill>
                <a:latin typeface="Candara"/>
              </a:rPr>
              <a:t>evolving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from an event into an entity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Steering Committee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Standing Work Group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Guiding Principles, Vision, Mission and Purpose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Bylaws (recently approved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Administrative Procedures (being developed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tatu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75960" y="2453760"/>
            <a:ext cx="4190760" cy="42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ndara"/>
              </a:rPr>
              <a:t>Steering Committee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lvl="1" marL="558720" indent="-26496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arolyn Hefner, Chair, WVCA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58720" indent="-26496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Dave Bailey, EPRI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58720" indent="-26496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Marty Hettel, AEP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58720" indent="-26496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Kari Mackenbach, UR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58720" indent="-26496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Fred Nyhuis, Marath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58720" indent="-26496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Jerry Schulte, ORSANCO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58720" indent="-26496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Dr. Charles Somerville, MU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58720" indent="-26496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Mike Steinmaus, AEEP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58720" indent="-26496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343400" y="245700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ndara"/>
              </a:rPr>
              <a:t>Working Group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Water Availability &amp; Management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e87"/>
                </a:solidFill>
                <a:latin typeface="Candara"/>
              </a:rPr>
              <a:t>Erich Emery, US Army Corps of Engineers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Restoration &amp; Protect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e87"/>
                </a:solidFill>
                <a:latin typeface="Candara"/>
              </a:rPr>
              <a:t>John Stark, The Nature Conservancy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ustainable Growth &amp; Competitivenes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e87"/>
                </a:solidFill>
                <a:latin typeface="Candara"/>
              </a:rPr>
              <a:t>Dr. Harry Stone, Battelle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73e87"/>
                </a:solidFill>
                <a:latin typeface="Candara"/>
              </a:rPr>
              <a:t>Enterprise &amp; Infrastructure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e87"/>
                </a:solidFill>
                <a:latin typeface="Candara"/>
              </a:rPr>
              <a:t>Kari Mackenbach, URS Consultants, Inc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Organizational Structure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228600" y="2514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Provided a forum for discussion and voiced support for a USGS proposal to install a new stream gage on the Ohio River at Mariett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USACE Climate Change Adaptation Pilot Study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Funded by the Institute of Water Resource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ORBA Climate Change Working group established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One of 14 pilot projects underway across the U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Pilot will examine how climate change will impact the Ohio River Basin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This pilot study is the first study of its kind to look at climate change impacts to the Ohio Valley.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838080" y="457200"/>
            <a:ext cx="770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Recent Developments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973080" y="190512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The next Ohio River Basin Conference is August 20-21, 2013 in Louisville, Kentucky – details available on the ORBA website.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www.ohioriverbasin.org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    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0" name="Picture 6" descr="Louisville, KY : Louisville KY"/>
          <p:cNvPicPr/>
          <p:nvPr/>
        </p:nvPicPr>
        <p:blipFill>
          <a:blip r:embed="rId2"/>
          <a:stretch/>
        </p:blipFill>
        <p:spPr>
          <a:xfrm>
            <a:off x="4413240" y="3017880"/>
            <a:ext cx="580392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22:31:18Z</dcterms:created>
  <dc:creator>Mark Douglas Kessinger</dc:creator>
  <dc:description/>
  <dc:language>en-US</dc:language>
  <cp:lastModifiedBy>jklear</cp:lastModifiedBy>
  <cp:lastPrinted>2011-01-26T15:23:02Z</cp:lastPrinted>
  <dcterms:modified xsi:type="dcterms:W3CDTF">2013-07-22T15:14:58Z</dcterms:modified>
  <cp:revision>103</cp:revision>
  <dc:subject/>
  <dc:title>Ohio River Basin Alliance</dc:title>
</cp:coreProperties>
</file>