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2F3-F419-4B5A-A4BF-ACF82F26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FE7-3F99-451F-A1D3-313AB849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CD1-12B1-4B01-ACEA-E3523AE9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A8E-B089-4B4F-88FB-DA7032A4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DA4A-8118-4045-A1FD-0BB362A0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F373-AE14-48BC-B204-566481F5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5B11-9A08-43EA-95EA-E93BB9A1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6B57-F919-4F35-9017-DA8BC563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974C-F5A0-435D-B5FD-60EADF3D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F802-2127-45D2-9A5D-AFE538BB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1723-DA3D-497E-935F-04EBE3E6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5F1-DCA9-4DDE-9388-7E313D6B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9B9B-AADB-4D96-BEF4-3DFBE8E6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7240-B6BC-42EF-886B-46AE6613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78C3-7C0C-46AC-87E0-34801629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5F72-199E-4A84-840E-A60A0734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CC58-C9EA-4796-902A-62A43E8E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6BA-6ACC-4BD6-8B73-0CD1BAE3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22A-FB41-42AD-B497-E1DD748C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1C2-D04F-4238-A5C6-ABA28D08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D89-62C1-463A-9168-FDD7FD04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867-53FD-4DC5-9E19-32E5B1D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1B0-6CC8-467C-8BD9-1CD8D309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83C-77C2-4850-8EFB-3AAB80A7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853A-F5D7-4713-8B32-4770A4B4AA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9216-67EA-4FEF-AE01-31A0BFD697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692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llution Control Standards Committee Repor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) White Paper on Varia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2) Resolution on Elimination of Certain Mixing Z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3) Development of Streamlined Variance Proced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ite Paper on Varianc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irman Komoroski asked staff to develop white pap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onal for those not familiar with the entire variance iss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ission agenda attachm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ing for comments by TE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ite Paper 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kground on mixing zone prohib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rrent ORSANCO variance process and IN &amp; OH streamlined mercury vari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rrent situation &amp; potential future variance reques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equences to Ohio River discharg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tial remedi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liance schedules, enforcement orders, streamlined ORSANCO process, reevaluation of mercury criterion, reevaluation of mixing zone prohibition for BCCs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lution on Elimination of </a:t>
            </a: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ertain Mixing Z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280" y="194616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be presented for adoption by Commission at Thursday meet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ognizes Commission policy on enforcement – states take lead ro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t states’ enforcement orders or permit compliance schedules could be used in lieu of the Commission granting a varian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ird Option on Varia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C directed NPDES Subcommittee to develop streamlined variance procedu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PDES report will provide details on proposed streamlined varian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Variances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resolution were adopted and a streamlined variance procedure, this would result in 4 options for addressing variance need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) State-issued permit compliance schedu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) State enforcement or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) ORSANCO streamlined vari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) ORSANCO full variance procedu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EC Actions Need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endorsing white paper or provide comment on needed revis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endorsing resolu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20:15:52Z</dcterms:created>
  <dc:creator>peter</dc:creator>
  <dc:description/>
  <dc:language>en-US</dc:language>
  <cp:lastModifiedBy>jklear</cp:lastModifiedBy>
  <dcterms:modified xsi:type="dcterms:W3CDTF">2013-07-22T14:23:29Z</dcterms:modified>
  <cp:revision>356</cp:revision>
  <dc:subject/>
  <dc:title>ORSANCO Pollution Control Standards</dc:title>
</cp:coreProperties>
</file>