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34f77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012B-7D01-4374-9D96-FD572AFD04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8BB7-65A2-4EB2-9455-87F28C1DA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95B0-CC49-45A2-8529-3B140339BD63}" type="slidenum">
              <a:rPr b="0" lang="en-US" sz="1200" spc="-1" strike="noStrike">
                <a:solidFill>
                  <a:srgbClr val="234f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34f7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64AB-5D46-44AE-98A4-66BFF6C4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8421-5098-4FFC-81B8-F979A810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A2A4-D183-4FA3-9033-7B138840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5A9E-39FA-4361-8BD8-AA8DBA8D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CBDA-04FE-4EF0-8D0F-E005F65E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A688-0F09-4D63-961F-7671F694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00EF-A1E2-49D8-9706-1C853D25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FB4D-F598-406E-BA32-5B77F3FE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AE5C-F96C-425F-9826-BE5C0D51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E1A1-A95B-40B7-919C-02609A63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DA25-D04A-4EED-98FB-01F08A7D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1C25-CFDC-4A26-86DA-B904EB66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C6B8-4C57-4236-AB81-28D9F649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D3D8-E74D-4CE3-91A5-26220146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1456-BE38-40C0-AF33-1E6EC801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D858-28AD-4098-8041-E42FC0D9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0A51-1A05-495A-B76E-F7D5C3D7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B7B0-8607-4DF3-A31F-0DF62E23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BF6D-32B5-46A2-9D19-6FB3F191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6739-B952-4008-B46C-2E0D7973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C92A-9845-4862-95D1-7258D115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3CD4-2C2C-4137-A35D-1312B9F0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B3A8-74EF-4571-95B2-AFAE1060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5D59-9D74-43D1-98FD-4077067B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34f7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81a9e5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234f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234f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234f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4f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4f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0741-D2BA-4B31-8B45-45EE356E7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34f77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234f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4f77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81a9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4f77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4f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34f77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234f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4f77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81a9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4f77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4f77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34f7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81a9e5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234f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234f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234f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4f77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4f77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34f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C4AE-3C92-4FB9-84C1-EB0DCCAB6C89}" type="slidenum">
              <a:rPr b="0" lang="en-US" sz="1400" spc="-1" strike="noStrike">
                <a:solidFill>
                  <a:srgbClr val="234f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114264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34f77"/>
                </a:solidFill>
                <a:latin typeface="Garamond"/>
              </a:rPr>
              <a:t>Hydropower on the Upper Mississippi Riv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52280" y="3504960"/>
            <a:ext cx="8839440" cy="24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Development Activities and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Agency Coordin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Upper Mississippi River Basin Associ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June 5, 20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UMlogobluesmall"/>
          <p:cNvPicPr/>
          <p:nvPr/>
        </p:nvPicPr>
        <p:blipFill>
          <a:blip r:embed="rId1"/>
          <a:stretch/>
        </p:blipFill>
        <p:spPr>
          <a:xfrm>
            <a:off x="8001000" y="5715000"/>
            <a:ext cx="974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76304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4f77"/>
                </a:solidFill>
                <a:latin typeface="Arial"/>
              </a:rPr>
              <a:t>Development Trends &amp;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42920" y="1749600"/>
            <a:ext cx="89917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7760" indent="-347760">
              <a:spcBef>
                <a:spcPts val="601"/>
              </a:spcBef>
              <a:buClr>
                <a:srgbClr val="234f7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0s-1990s:  Substantial relicensing and new proposals</a:t>
            </a:r>
            <a:endParaRPr b="0" lang="en-US" sz="2400" spc="-1" strike="noStrike">
              <a:solidFill>
                <a:srgbClr val="234f7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81a9e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ny projects in basin were 30-50 years old</a:t>
            </a:r>
            <a:endParaRPr b="0" lang="en-US" sz="2100" spc="-1" strike="noStrike">
              <a:solidFill>
                <a:srgbClr val="234f7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81a9e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ederal incentives and energy cost projections</a:t>
            </a:r>
            <a:endParaRPr b="0" lang="en-US" sz="2100" spc="-1" strike="noStrike">
              <a:solidFill>
                <a:srgbClr val="234f7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34f7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0-2012:  Surge in new project proposals</a:t>
            </a:r>
            <a:endParaRPr b="0" lang="en-US" sz="2400" spc="-1" strike="noStrike">
              <a:solidFill>
                <a:srgbClr val="234f77"/>
              </a:solidFill>
              <a:latin typeface="Arial"/>
            </a:endParaRPr>
          </a:p>
          <a:p>
            <a:pPr lvl="2" marL="685800" indent="-228600">
              <a:lnSpc>
                <a:spcPct val="100000"/>
              </a:lnSpc>
              <a:spcBef>
                <a:spcPts val="524"/>
              </a:spcBef>
              <a:buClr>
                <a:srgbClr val="81a9e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ederal incentives</a:t>
            </a:r>
            <a:endParaRPr b="0" lang="en-US" sz="2100" spc="-1" strike="noStrike">
              <a:solidFill>
                <a:srgbClr val="234f77"/>
              </a:solidFill>
              <a:latin typeface="Arial"/>
            </a:endParaRPr>
          </a:p>
          <a:p>
            <a:pPr lvl="2" marL="685800" indent="-228600">
              <a:lnSpc>
                <a:spcPct val="100000"/>
              </a:lnSpc>
              <a:spcBef>
                <a:spcPts val="524"/>
              </a:spcBef>
              <a:buClr>
                <a:srgbClr val="81a9e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es’ renewable energy goals and consumer demand </a:t>
            </a:r>
            <a:endParaRPr b="0" lang="en-US" sz="2100" spc="-1" strike="noStrike">
              <a:solidFill>
                <a:srgbClr val="234f77"/>
              </a:solidFill>
              <a:latin typeface="Arial"/>
            </a:endParaRPr>
          </a:p>
          <a:p>
            <a:pPr lvl="2" marL="685800" indent="-228600">
              <a:lnSpc>
                <a:spcPct val="100000"/>
              </a:lnSpc>
              <a:spcBef>
                <a:spcPts val="524"/>
              </a:spcBef>
              <a:buClr>
                <a:srgbClr val="81a9e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w technologies</a:t>
            </a:r>
            <a:endParaRPr b="0" lang="en-US" sz="2100" spc="-1" strike="noStrike">
              <a:solidFill>
                <a:srgbClr val="234f77"/>
              </a:solidFill>
              <a:latin typeface="Arial"/>
            </a:endParaRPr>
          </a:p>
          <a:p>
            <a:pPr lvl="2" marL="685800" indent="-228600">
              <a:lnSpc>
                <a:spcPct val="100000"/>
              </a:lnSpc>
              <a:spcBef>
                <a:spcPts val="524"/>
              </a:spcBef>
              <a:buClr>
                <a:srgbClr val="81a9e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7 projects proposed in 2011</a:t>
            </a:r>
            <a:endParaRPr b="0" lang="en-US" sz="2100" spc="-1" strike="noStrike">
              <a:solidFill>
                <a:srgbClr val="234f77"/>
              </a:solidFill>
              <a:latin typeface="Arial"/>
            </a:endParaRPr>
          </a:p>
          <a:p>
            <a:pPr marL="347760" indent="-347760">
              <a:spcBef>
                <a:spcPts val="601"/>
              </a:spcBef>
              <a:buClr>
                <a:srgbClr val="234f7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 2012 – Now:  Considerable pull-back</a:t>
            </a:r>
            <a:endParaRPr b="0" lang="en-US" sz="2400" spc="-1" strike="noStrike">
              <a:solidFill>
                <a:srgbClr val="234f77"/>
              </a:solidFill>
              <a:latin typeface="Arial"/>
            </a:endParaRPr>
          </a:p>
          <a:p>
            <a:pPr lvl="2" marL="685800" indent="-228600">
              <a:lnSpc>
                <a:spcPct val="100000"/>
              </a:lnSpc>
              <a:spcBef>
                <a:spcPts val="524"/>
              </a:spcBef>
              <a:buClr>
                <a:srgbClr val="81a9e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ederal incentives removed, natural gas, planning costs</a:t>
            </a:r>
            <a:endParaRPr b="0" lang="en-US" sz="2100" spc="-1" strike="noStrike">
              <a:solidFill>
                <a:srgbClr val="234f77"/>
              </a:solidFill>
              <a:latin typeface="Arial"/>
            </a:endParaRPr>
          </a:p>
          <a:p>
            <a:pPr lvl="2" marL="685800" indent="-228600">
              <a:lnSpc>
                <a:spcPct val="100000"/>
              </a:lnSpc>
              <a:spcBef>
                <a:spcPts val="524"/>
              </a:spcBef>
              <a:buClr>
                <a:srgbClr val="81a9e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6 projects currently proposed</a:t>
            </a:r>
            <a:endParaRPr b="0" lang="en-US" sz="2100" spc="-1" strike="noStrike">
              <a:solidFill>
                <a:srgbClr val="234f77"/>
              </a:solidFill>
              <a:latin typeface="Arial"/>
            </a:endParaRPr>
          </a:p>
          <a:p>
            <a:pPr marL="347760" indent="-347760">
              <a:spcBef>
                <a:spcPts val="601"/>
              </a:spcBef>
              <a:buClr>
                <a:srgbClr val="234f7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existing projects; 1 hydrokinetic</a:t>
            </a:r>
            <a:endParaRPr b="0" lang="en-US" sz="2400" spc="-1" strike="noStrike">
              <a:solidFill>
                <a:srgbClr val="234f7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34f77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4f77"/>
              </a:solidFill>
              <a:latin typeface="Arial"/>
            </a:endParaRPr>
          </a:p>
          <a:p>
            <a:pPr marL="347760" indent="-347760">
              <a:spcBef>
                <a:spcPts val="649"/>
              </a:spcBef>
              <a:buClr>
                <a:srgbClr val="234f7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34f77"/>
              </a:solidFill>
              <a:latin typeface="Arial"/>
            </a:endParaRPr>
          </a:p>
          <a:p>
            <a:pPr marL="347760" indent="-347760">
              <a:spcBef>
                <a:spcPts val="649"/>
              </a:spcBef>
              <a:buClr>
                <a:srgbClr val="234f7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34f77"/>
              </a:solidFill>
              <a:latin typeface="Arial"/>
            </a:endParaRPr>
          </a:p>
        </p:txBody>
      </p:sp>
      <p:pic>
        <p:nvPicPr>
          <p:cNvPr id="102" name="Picture 4" descr="UMlogobluesmall"/>
          <p:cNvPicPr/>
          <p:nvPr/>
        </p:nvPicPr>
        <p:blipFill>
          <a:blip r:embed="rId1"/>
          <a:stretch/>
        </p:blipFill>
        <p:spPr>
          <a:xfrm>
            <a:off x="8001000" y="5715000"/>
            <a:ext cx="9748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680076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4f77"/>
                </a:solidFill>
                <a:latin typeface="Arial"/>
              </a:rPr>
              <a:t>UMRBA Primary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234f7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s’ supportive hydropower’s potential as a climate-friendly, domestic energy source that is compatible with other river 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234f7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ating information sharing and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-265680">
              <a:spcBef>
                <a:spcPts val="524"/>
              </a:spcBef>
              <a:buClr>
                <a:srgbClr val="81a9e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991 report re hydropower activit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98480" indent="-212400">
              <a:spcBef>
                <a:spcPts val="524"/>
              </a:spcBef>
              <a:buClr>
                <a:srgbClr val="ccccc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velopment potential and status within UMR bas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98480" indent="-212400">
              <a:spcBef>
                <a:spcPts val="524"/>
              </a:spcBef>
              <a:buClr>
                <a:srgbClr val="ccccc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ederal laws and policies, including FERC process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-265680">
              <a:spcBef>
                <a:spcPts val="524"/>
              </a:spcBef>
              <a:buClr>
                <a:srgbClr val="81a9e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MRBA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d hoc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98480" indent="-212400">
              <a:spcBef>
                <a:spcPts val="524"/>
              </a:spcBef>
              <a:buClr>
                <a:srgbClr val="ccccc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eated in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98480" indent="-212400">
              <a:spcBef>
                <a:spcPts val="524"/>
              </a:spcBef>
              <a:buClr>
                <a:srgbClr val="ccccc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formation sharing, collaboration/coordin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98480" indent="-212400">
              <a:spcBef>
                <a:spcPts val="524"/>
              </a:spcBef>
              <a:buClr>
                <a:srgbClr val="ccccc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position: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24000" indent="-212400">
              <a:spcBef>
                <a:spcPts val="425"/>
              </a:spcBef>
              <a:buClr>
                <a:srgbClr val="234f77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ate natural resource, water quality, and transportation agenc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24000" indent="-212400">
              <a:spcBef>
                <a:spcPts val="425"/>
              </a:spcBef>
              <a:buClr>
                <a:srgbClr val="234f77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ACE, USFWS, USEPA, N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24000" indent="0"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798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UMlogobluesmall"/>
          <p:cNvPicPr/>
          <p:nvPr/>
        </p:nvPicPr>
        <p:blipFill>
          <a:blip r:embed="rId1"/>
          <a:stretch/>
        </p:blipFill>
        <p:spPr>
          <a:xfrm>
            <a:off x="8001000" y="5715000"/>
            <a:ext cx="974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417600"/>
            <a:ext cx="715968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4f77"/>
                </a:solidFill>
                <a:latin typeface="Arial"/>
              </a:rPr>
              <a:t>Major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34f7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RC process:  complex, relatively quick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4f7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mulative impacts to habitat, ecosystem, navigation, water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81a9e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tential sites in relatively close proxim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cccc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ow, and to what degree, might resources be impac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81a9e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ystemic assessment, multi-project E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4f7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1 water quality cert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81a9e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pproach given significant unknow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81a9e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ssible adaptive management requir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34f7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information/study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81a9e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ydraulics, fish and wildlife, water quality (e.g., sediment resuspension), recreation, commercial navigation, cultur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sources, local and regional econom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UMlogobluesmall"/>
          <p:cNvPicPr/>
          <p:nvPr/>
        </p:nvPicPr>
        <p:blipFill>
          <a:blip r:embed="rId1"/>
          <a:stretch/>
        </p:blipFill>
        <p:spPr>
          <a:xfrm>
            <a:off x="8001000" y="5715000"/>
            <a:ext cx="974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51920" y="1752120"/>
            <a:ext cx="8991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601"/>
              </a:spcBef>
              <a:buClr>
                <a:srgbClr val="234f7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2 DOE report: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 Assessment of Energy Potential at Non-Powered Dams in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spcBef>
                <a:spcPts val="524"/>
              </a:spcBef>
              <a:buClr>
                <a:srgbClr val="81a9e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nks UMR 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mong HUC 2 watersheds for new potent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552240">
              <a:spcBef>
                <a:spcPts val="425"/>
              </a:spcBef>
              <a:buClr>
                <a:srgbClr val="cccc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lvin Price – 5 out of 1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552240">
              <a:spcBef>
                <a:spcPts val="425"/>
              </a:spcBef>
              <a:buClr>
                <a:srgbClr val="cccc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&amp;D 25 – 1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552240">
              <a:spcBef>
                <a:spcPts val="425"/>
              </a:spcBef>
              <a:buClr>
                <a:srgbClr val="cccc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&amp;D 24 – 15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552240">
              <a:spcBef>
                <a:spcPts val="425"/>
              </a:spcBef>
              <a:buClr>
                <a:srgbClr val="cccc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 dam sites – 25-3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601"/>
              </a:spcBef>
              <a:buClr>
                <a:srgbClr val="234f7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ate 2013 W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spcBef>
                <a:spcPts val="524"/>
              </a:spcBef>
              <a:buClr>
                <a:srgbClr val="81a9e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termines non-federal hydropower development a priority, equal to other purpos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spcBef>
                <a:spcPts val="524"/>
              </a:spcBef>
              <a:buClr>
                <a:srgbClr val="81a9e5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rects USACE to study “promotion,” application status an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cess, project impacts, payments to federal agenc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371240" y="457200"/>
            <a:ext cx="680076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4f77"/>
                </a:solidFill>
                <a:latin typeface="Arial"/>
              </a:rPr>
              <a:t>Future Inte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UMlogobluesmall"/>
          <p:cNvPicPr/>
          <p:nvPr/>
        </p:nvPicPr>
        <p:blipFill>
          <a:blip r:embed="rId1"/>
          <a:stretch/>
        </p:blipFill>
        <p:spPr>
          <a:xfrm>
            <a:off x="8001000" y="5715000"/>
            <a:ext cx="974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447920" y="533520"/>
            <a:ext cx="4495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4f77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UMlogobluesmall"/>
          <p:cNvPicPr/>
          <p:nvPr/>
        </p:nvPicPr>
        <p:blipFill>
          <a:blip r:embed="rId1"/>
          <a:stretch/>
        </p:blipFill>
        <p:spPr>
          <a:xfrm>
            <a:off x="8016840" y="5715000"/>
            <a:ext cx="974880" cy="990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Users\Kirsten\Documents\UMRBA_organization\2012 Strategic Planning\Photos\Hydropower\APWA web_ford dam.JPG"/>
          <p:cNvPicPr/>
          <p:nvPr/>
        </p:nvPicPr>
        <p:blipFill>
          <a:blip r:embed="rId2"/>
          <a:stretch/>
        </p:blipFill>
        <p:spPr>
          <a:xfrm>
            <a:off x="2438280" y="220968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:\Users\Kirsten\Documents\UMRBA_organization\2012 Strategic Planning\Photos\Hydropower\USACE web_LSAFHydro2.jpg"/>
          <p:cNvPicPr/>
          <p:nvPr/>
        </p:nvPicPr>
        <p:blipFill>
          <a:blip r:embed="rId3"/>
          <a:srcRect l="0" t="0" r="14877" b="0"/>
          <a:stretch/>
        </p:blipFill>
        <p:spPr>
          <a:xfrm>
            <a:off x="228600" y="4648320"/>
            <a:ext cx="2749680" cy="1841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:\Users\Kirsten\Documents\UMRBA_organization\2012 Strategic Planning\Photos\Hydropower\NPS_hydroturbine at Hastings.jpg"/>
          <p:cNvPicPr/>
          <p:nvPr/>
        </p:nvPicPr>
        <p:blipFill>
          <a:blip r:embed="rId4"/>
          <a:stretch/>
        </p:blipFill>
        <p:spPr>
          <a:xfrm>
            <a:off x="6172200" y="809640"/>
            <a:ext cx="2190600" cy="219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5T12:05:42Z</dcterms:created>
  <dc:creator>Kirsten Mickelsen</dc:creator>
  <dc:description/>
  <dc:language>en-US</dc:language>
  <cp:lastModifiedBy>Kirsten Mickelsen</cp:lastModifiedBy>
  <dcterms:modified xsi:type="dcterms:W3CDTF">2013-06-05T12:39:58Z</dcterms:modified>
  <cp:revision>39</cp:revision>
  <dc:subject/>
  <dc:title>Slide 1</dc:title>
</cp:coreProperties>
</file>