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B948C-C602-432D-A466-0D2E361B7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5282-C915-4A66-BBA5-55C8C5C4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C57BF-F90F-4B1F-8695-5F508D12B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0960-A8D9-49EC-A1ED-EA87A36B4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278FF-75D6-416A-B873-DAE168DC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2F58-579D-483D-BF2D-6F0ACA66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09B2D-865F-4D3E-A91F-F3F912645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33785-308A-4BB3-9C65-03AEA513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05B1-29A5-4E8C-A0EB-5CB5C2FF8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1DA1-CC2E-4566-8EB5-2A1378D52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40AF6-8180-4B51-B7F3-D98CCBC92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E01E5-B1F2-41FD-9ED2-0B1709ABE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8EEE-2EFD-438E-A9B8-6B462104AC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imatecentral.org/news/book-it-2012-the-hottest-year-on-record-1535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limatecentral.org/news/coverage-of-surging-seas-inundates-the-nation" TargetMode="External"/><Relationship Id="rId2" Type="http://schemas.openxmlformats.org/officeDocument/2006/relationships/image" Target="../media/image1.jpeg"/><Relationship Id="rId3" Type="http://schemas.openxmlformats.org/officeDocument/2006/relationships/hyperlink" Target="http://www.climatecentral.org/news/coverage-of-surging-seas-inundates-the-natio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onlinelibrary.wiley.com/doi/10.1002/grl.v33.3/issuetoc" TargetMode="External"/><Relationship Id="rId2" Type="http://schemas.openxmlformats.org/officeDocument/2006/relationships/hyperlink" Target="http://onlinelibrary.wiley.com/doi/10.1002/grl.v33.3/issuetoc" TargetMode="External"/><Relationship Id="rId3" Type="http://schemas.openxmlformats.org/officeDocument/2006/relationships/hyperlink" Target="http://onlinelibrary.wiley.com/doi/10.1002/grl.v33.3/issuetoc" TargetMode="External"/><Relationship Id="rId4" Type="http://schemas.openxmlformats.org/officeDocument/2006/relationships/hyperlink" Target="http://onlinelibrary.wiley.com/doi/10.1002/grl.v33.3/issuetoc"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MRBA – ORSANCO </a:t>
            </a:r>
            <a:br>
              <a:rPr sz="4000"/>
            </a:br>
            <a:r>
              <a:rPr b="0" lang="en-US" sz="4000" spc="-1" strike="noStrike">
                <a:solidFill>
                  <a:srgbClr val="000000"/>
                </a:solidFill>
                <a:latin typeface="Calibri"/>
              </a:rPr>
              <a:t>JOINT MEETING</a:t>
            </a:r>
            <a:br>
              <a:rPr sz="4000"/>
            </a:br>
            <a:r>
              <a:rPr b="0" lang="en-US" sz="4000" spc="-1" strike="noStrike">
                <a:solidFill>
                  <a:srgbClr val="000000"/>
                </a:solidFill>
                <a:latin typeface="Calibri"/>
              </a:rPr>
              <a:t>JUNE 2013</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XTREME WEATHER EVEN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LIMATE 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ponse to Extreme Even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agencies addressing climate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regarding climate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are being revised to include climate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FIP Reform Act was approved in response to growing financial strain due to extrem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AT CAN WE EXPECT ?</a:t>
            </a:r>
            <a:endParaRPr b="0" lang="en-US" sz="4400" spc="-1" strike="noStrike">
              <a:solidFill>
                <a:srgbClr val="000000"/>
              </a:solidFill>
              <a:latin typeface="Calibri"/>
            </a:endParaRPr>
          </a:p>
        </p:txBody>
      </p:sp>
      <p:sp>
        <p:nvSpPr>
          <p:cNvPr id="63" name="PlaceHolder 2"/>
          <p:cNvSpPr>
            <a:spLocks noGrp="1"/>
          </p:cNvSpPr>
          <p:nvPr>
            <p:ph type="subTitle"/>
          </p:nvPr>
        </p:nvSpPr>
        <p:spPr>
          <a:xfrm>
            <a:off x="457200" y="2971800"/>
            <a:ext cx="8229600" cy="2666880"/>
          </a:xfrm>
          <a:prstGeom prst="rect">
            <a:avLst/>
          </a:prstGeom>
          <a:noFill/>
          <a:ln w="0">
            <a:noFill/>
          </a:ln>
        </p:spPr>
        <p:txBody>
          <a:bodyPr anchor="t">
            <a:noAutofit/>
          </a:bodyPr>
          <a:p>
            <a:pPr marL="514440" indent="-514440">
              <a:spcBef>
                <a:spcPts val="799"/>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WE ARE AT INCREASED RISK OF UNPREDICTABLE CONDITIONS</a:t>
            </a:r>
            <a:endParaRPr b="0" lang="en-US" sz="3200" spc="-1" strike="noStrike">
              <a:solidFill>
                <a:srgbClr val="000000"/>
              </a:solidFill>
              <a:latin typeface="Calibri"/>
            </a:endParaRPr>
          </a:p>
          <a:p>
            <a:pPr marL="514440" indent="-514440">
              <a:spcBef>
                <a:spcPts val="799"/>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olicies are still changing in regard to climate extr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THREE OF OUR RECENT EXPERIENCE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2437920" y="2743200"/>
            <a:ext cx="4953240" cy="1752480"/>
          </a:xfrm>
          <a:prstGeom prst="rect">
            <a:avLst/>
          </a:prstGeom>
          <a:noFill/>
          <a:ln w="0">
            <a:noFill/>
          </a:ln>
        </p:spPr>
        <p:txBody>
          <a:bodyPr anchor="t">
            <a:noAutofit/>
          </a:bodyPr>
          <a:p>
            <a:pPr marL="514440" indent="-514440">
              <a:spcBef>
                <a:spcPts val="799"/>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Flood of 2011</a:t>
            </a:r>
            <a:endParaRPr b="0" lang="en-US" sz="3200" spc="-1" strike="noStrike">
              <a:solidFill>
                <a:srgbClr val="000000"/>
              </a:solidFill>
              <a:latin typeface="Calibri"/>
            </a:endParaRPr>
          </a:p>
          <a:p>
            <a:pPr marL="514440" indent="-514440">
              <a:spcBef>
                <a:spcPts val="799"/>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Flood of 2013</a:t>
            </a:r>
            <a:endParaRPr b="0" lang="en-US" sz="3200" spc="-1" strike="noStrike">
              <a:solidFill>
                <a:srgbClr val="000000"/>
              </a:solidFill>
              <a:latin typeface="Calibri"/>
            </a:endParaRPr>
          </a:p>
          <a:p>
            <a:pPr marL="514440" indent="-514440">
              <a:spcBef>
                <a:spcPts val="799"/>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Drought of 2012</a:t>
            </a:r>
            <a:endParaRPr b="0" lang="en-US" sz="3200" spc="-1" strike="noStrike">
              <a:solidFill>
                <a:srgbClr val="000000"/>
              </a:solidFill>
              <a:latin typeface="Calibri"/>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d of 2011</a:t>
            </a:r>
            <a:endParaRPr b="0" lang="en-US" sz="4400" spc="-1" strike="noStrike">
              <a:solidFill>
                <a:srgbClr val="000000"/>
              </a:solidFill>
              <a:latin typeface="Calibri"/>
            </a:endParaRPr>
          </a:p>
        </p:txBody>
      </p:sp>
      <p:sp>
        <p:nvSpPr>
          <p:cNvPr id="67" name=""/>
          <p:cNvSpPr txBox="1"/>
          <p:nvPr/>
        </p:nvSpPr>
        <p:spPr>
          <a:xfrm>
            <a:off x="533520" y="114264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precedented rainfal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rainf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erial Distribu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 flood stages and Record Dischar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hio, Wabash, Interior tributar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ons for extreme events is r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Point-New Madrid Flood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hio River Basin Reservoir release coord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eme Weather Map 2011</a:t>
            </a:r>
            <a:endParaRPr b="0" lang="en-US" sz="4400" spc="-1" strike="noStrike">
              <a:solidFill>
                <a:srgbClr val="000000"/>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99960" indent="-2854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2011: Thousands of Weather Records Broken in the US, Costs Climbing – and Climate Change a Factor</a:t>
            </a:r>
            <a:endParaRPr b="0" lang="en-US" sz="2800" spc="-1" strike="noStrike">
              <a:solidFill>
                <a:srgbClr val="000000"/>
              </a:solidFill>
              <a:latin typeface="Calibri"/>
            </a:endParaRPr>
          </a:p>
          <a:p>
            <a:pPr lvl="1" marL="3999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99960" indent="-2854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Arial"/>
              </a:rPr>
              <a:t>Climate change increases the risk of record-breaking extreme weather events that threaten communities across the country. </a:t>
            </a:r>
            <a:r>
              <a:rPr b="1" i="1" lang="en-US" sz="2400" spc="-1" strike="noStrike">
                <a:solidFill>
                  <a:srgbClr val="333333"/>
                </a:solidFill>
                <a:latin typeface="Arial"/>
              </a:rPr>
              <a:t>In 2011, there were 3,251 monthly weather records broken by extreme events that struck communities in the US.</a:t>
            </a:r>
            <a:r>
              <a:rPr b="0" i="1" lang="en-US" sz="2400" spc="-1" strike="noStrike">
                <a:solidFill>
                  <a:srgbClr val="333333"/>
                </a:solidFill>
                <a:latin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vortex.accuweather.com/adc2004/pub/includes/columns/newsstory/2011/400x266_04291434_ddrainfall.jpg"/>
          <p:cNvPicPr/>
          <p:nvPr/>
        </p:nvPicPr>
        <p:blipFill>
          <a:blip r:embed="rId1"/>
          <a:stretch/>
        </p:blipFill>
        <p:spPr>
          <a:xfrm>
            <a:off x="380880" y="533520"/>
            <a:ext cx="8364600" cy="556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380880" y="1558800"/>
          <a:ext cx="8382240" cy="3465720"/>
        </p:xfrm>
        <a:graphic>
          <a:graphicData uri="http://schemas.openxmlformats.org/drawingml/2006/table">
            <a:tbl>
              <a:tblPr/>
              <a:tblGrid>
                <a:gridCol w="8382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noFill/>
                  </a:tcPr>
                </a:tc>
              </a:tr>
              <a:tr h="22741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a:noFill/>
                    </a:lnL>
                    <a:lnR>
                      <a:noFill/>
                    </a:lnR>
                    <a:lnT>
                      <a:noFill/>
                    </a:lnT>
                    <a:lnB>
                      <a:noFill/>
                    </a:lnB>
                    <a:solidFill>
                      <a:srgbClr val="f5f5f5"/>
                    </a:solidFill>
                  </a:tcPr>
                </a:tc>
              </a:tr>
              <a:tr h="82332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 at the confluence of the Mississippi and Ohio Rivers (Image credit: Army Corps of Engineers) </a:t>
                      </a:r>
                      <a:br>
                        <a:rPr sz="1800"/>
                      </a:br>
                      <a:endParaRPr b="0" lang="en-US" sz="1800" spc="-1" strike="noStrike">
                        <a:solidFill>
                          <a:srgbClr val="000000"/>
                        </a:solidFill>
                        <a:latin typeface="Calibri"/>
                      </a:endParaRPr>
                    </a:p>
                  </a:txBody>
                  <a:tcPr anchor="t">
                    <a:lnL>
                      <a:noFill/>
                    </a:lnL>
                    <a:lnR>
                      <a:noFill/>
                    </a:lnR>
                    <a:lnT>
                      <a:noFill/>
                    </a:lnT>
                    <a:lnB>
                      <a:noFill/>
                    </a:lnB>
                    <a:solidFill>
                      <a:srgbClr val="f5f5f5"/>
                    </a:solidFill>
                  </a:tcPr>
                </a:tc>
              </a:tr>
            </a:tbl>
          </a:graphicData>
        </a:graphic>
      </p:graphicFrame>
      <p:pic>
        <p:nvPicPr>
          <p:cNvPr id="72" name="Picture 1" descr="http://i.imwx.com/web/news/2011/may/flow-rivers-051011-600x405.jpg"/>
          <p:cNvPicPr/>
          <p:nvPr/>
        </p:nvPicPr>
        <p:blipFill>
          <a:blip r:embed="rId1"/>
          <a:stretch/>
        </p:blipFill>
        <p:spPr>
          <a:xfrm>
            <a:off x="1752480" y="1828800"/>
            <a:ext cx="5715000" cy="227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ds of 2013</a:t>
            </a:r>
            <a:endParaRPr b="0" lang="en-US" sz="4400" spc="-1" strike="noStrike">
              <a:solidFill>
                <a:srgbClr val="000000"/>
              </a:solidFill>
              <a:latin typeface="Calibri"/>
            </a:endParaRPr>
          </a:p>
        </p:txBody>
      </p:sp>
      <p:sp>
        <p:nvSpPr>
          <p:cNvPr id="74" name=""/>
          <p:cNvSpPr txBox="1"/>
          <p:nvPr/>
        </p:nvSpPr>
        <p:spPr>
          <a:xfrm>
            <a:off x="457200" y="1600200"/>
            <a:ext cx="8229600" cy="50292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the end of drought in February to floods of April, 2013</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looding along Mississippi, Illinois, Wabash Rivers and other interior stream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rd flood peaks along Illinois River and tributari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loods the result of persistent rainfall creating saturated ground, followed by 4 to 7 inch storm</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itional event in late May and early June led to recurring high water</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C:\Users\arlan.juhl\AppData\Local\Microsoft\Windows\Temporary Internet Files\Content.IE5\0B1EQRNA\Clouds%2013%20June%201[1].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C:\Users\arlan.juhl\AppData\Local\Microsoft\Windows\Temporary Internet Files\Content.IE5\9RIJS4VB\photo[1].JPG"/>
          <p:cNvPicPr/>
          <p:nvPr/>
        </p:nvPicPr>
        <p:blipFill>
          <a:blip r:embed="rId2"/>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mate Change and Public Polic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 of Climate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cts of Extrem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s for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t local, state, regional and federal lev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ought of 2012</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eme national drough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inois – drought progressed from southern Illinois to northern Illino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icultural impacts were gr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ral water supplies were st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lotoxins reduced the value of corn cr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ssippi River navigation problems in late fall and early wi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1905120" y="48006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2012: The Hottest U.S. Year on Recor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ublished:</a:t>
            </a:r>
            <a:r>
              <a:rPr b="0" lang="en-US" sz="1800" spc="-1" strike="noStrike">
                <a:solidFill>
                  <a:srgbClr val="000000"/>
                </a:solidFill>
                <a:latin typeface="Calibri"/>
              </a:rPr>
              <a:t> Dec 13th, 201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entral did the math, and the numbers don't lie: 2012 will be the hottest U.S. year ever recorded, pushing 1998 into second place, followed by 2006, 1934 and 1999. </a:t>
            </a:r>
            <a:endParaRPr b="0" lang="en-US" sz="1800" spc="-1" strike="noStrike">
              <a:solidFill>
                <a:srgbClr val="000000"/>
              </a:solidFill>
              <a:latin typeface="Calibri"/>
            </a:endParaRPr>
          </a:p>
        </p:txBody>
      </p:sp>
      <p:pic>
        <p:nvPicPr>
          <p:cNvPr id="84" name="Picture 2" descr="http://www.climatecentral.org/images/sized/images/uploads/news/12-13-12-CC-Annual-Average-Temp-lineschart-final-700x438.jpg"/>
          <p:cNvPicPr/>
          <p:nvPr/>
        </p:nvPicPr>
        <p:blipFill>
          <a:blip r:embed="rId2"/>
          <a:stretch/>
        </p:blipFill>
        <p:spPr>
          <a:xfrm>
            <a:off x="990720" y="533520"/>
            <a:ext cx="6667560" cy="417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The Heat is On: U.S. Temperature Trends"/>
          <p:cNvPicPr/>
          <p:nvPr/>
        </p:nvPicPr>
        <p:blipFill>
          <a:blip r:embed="rId1"/>
          <a:stretch/>
        </p:blipFill>
        <p:spPr>
          <a:xfrm>
            <a:off x="609480" y="990720"/>
            <a:ext cx="771228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sissippi River Navigation Issue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rastructure rehabilitation/ reco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water issues during drough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ck pinnac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ence on all water sour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at Lak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ouri River Sys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per Mississippi Riv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lan for Navigation System Ope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ning Approaches To </a:t>
            </a:r>
            <a:br>
              <a:rPr sz="4000"/>
            </a:br>
            <a:r>
              <a:rPr b="0" lang="en-US" sz="4000" spc="-1" strike="noStrike">
                <a:solidFill>
                  <a:srgbClr val="000000"/>
                </a:solidFill>
                <a:latin typeface="Calibri"/>
              </a:rPr>
              <a:t>Address Extremes</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od Risk Manage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shed Pla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ain waters on-site with wetlands, rain gardens and barrel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buyouts/floodplain restoratio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and Design Too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ught Manage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for future drough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location of water to meet limited supp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shed Plann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atch-word that gains favor, lapses into obscurity, then regains favor agai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state/local partnership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rrow agency missions not covering all watershed nee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agency has their own administrative and policy constrai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nciples and Guidelines have not required uniformity among federal agenci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and other partners are not jurisdictionally structured by watershe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k and Uncertaint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MA is pursuing Risk Map to help define a wider range of risk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s incorporates Risk and Uncertainty in study analyses to apply factors that account for the potential to experience greater ris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ipitation estimation methods diff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Paper 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lletin 70 in Illinoi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ther Service Bulletin 14</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 Estimating</a:t>
            </a:r>
            <a:endParaRPr b="0" lang="en-US" sz="4400" spc="-1" strike="noStrike">
              <a:solidFill>
                <a:srgbClr val="000000"/>
              </a:solidFill>
              <a:latin typeface="Calibri"/>
            </a:endParaRPr>
          </a:p>
        </p:txBody>
      </p:sp>
      <p:sp>
        <p:nvSpPr>
          <p:cNvPr id="95" name=""/>
          <p:cNvSpPr txBox="1"/>
          <p:nvPr/>
        </p:nvSpPr>
        <p:spPr>
          <a:xfrm>
            <a:off x="457200" y="1600200"/>
            <a:ext cx="8229600" cy="510552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 S. Weather Bureau Technical Paper 40</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SWS Bulletin 13</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lletin 71  -  (MCC Research Report 92-03)</a:t>
            </a:r>
            <a:endParaRPr b="0" lang="en-US" sz="1600" spc="-1" strike="noStrike">
              <a:solidFill>
                <a:srgbClr val="000000"/>
              </a:solidFill>
              <a:latin typeface="Calibri"/>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AINFALL FREQUENCY ATLAS OF THE MIDWEST  by Floyd A. Huff and James R. Angel</a:t>
            </a:r>
            <a:endParaRPr b="0" lang="en-US" sz="1600" spc="-1" strike="noStrike">
              <a:solidFill>
                <a:srgbClr val="000000"/>
              </a:solidFill>
              <a:latin typeface="Calibri"/>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idwestern Climate Center Climate Analysis Center</a:t>
            </a:r>
            <a:endParaRPr b="0" lang="en-US" sz="1600" spc="-1" strike="noStrike">
              <a:solidFill>
                <a:srgbClr val="000000"/>
              </a:solidFill>
              <a:latin typeface="Calibri"/>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ional Weather Service  National Oceanic and Atmospheric Administration</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inois State Water Survey 1992</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http://www.isws.illinois.edu/pubdoc/b/iswsb-71.pdf</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AA Atlas 14</a:t>
            </a:r>
            <a:endParaRPr b="0" lang="en-US" sz="1600" spc="-1" strike="noStrike">
              <a:solidFill>
                <a:srgbClr val="000000"/>
              </a:solidFill>
              <a:latin typeface="Calibri"/>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cipitation-Frequency Atlas of the United States</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olume 2 Version 3.0: Delaware, District of Columbia, Illinois, Indiana, Kentucky, Maryland, New</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ersey, North Carolina, Ohio, Pennsylvania, South Carolina, Tennessee, Virginia, West Virginia</a:t>
            </a:r>
            <a:endParaRPr b="0" lang="en-US" sz="1600" spc="-1" strike="noStrike">
              <a:solidFill>
                <a:srgbClr val="000000"/>
              </a:solidFill>
              <a:latin typeface="Calibri"/>
            </a:endParaRPr>
          </a:p>
          <a:p>
            <a:pPr lvl="2" marL="8960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offrey M. Bonnin, Deborah Martin, Bingzhang Lin, Tye</a:t>
            </a:r>
            <a:endParaRPr b="0" lang="en-US" sz="1600" spc="-1" strike="noStrike">
              <a:solidFill>
                <a:srgbClr val="000000"/>
              </a:solidFill>
              <a:latin typeface="Calibri"/>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rzybok, Michael Yekta, David Riley</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ring, Maryland, 2004, revised 2006</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http://www.nws.noaa.gov/oh/hdsc/PF_documents/Atlas14_Volume2.pdf</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risk and uncertain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eater awareness of the watershed connectivity between issues and across jurisdic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gressional approach to problem solving will chan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pulation Growth</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blic Infrastructure Needs Must Be Address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state/local/non traditional fund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lan R. Juhl, 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Office of Water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inois Department of Natural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Natural Resources W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field, Illinois 6270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lan.juhl@illinois.g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17-785-3334</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mate Chang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mate change/climate variability/global warming/global cooling – you tell me which phrase suits your conditions and agency interes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serv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equency of large flo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86/87, 1993, 1995, 2008, 2011, 2013</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equency and magnitude of drough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20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wer frontal systems, more major storm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urricane Ike, number of rainfall events in excess of 5 inches in 24 ho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age Assessments</a:t>
            </a:r>
            <a:endParaRPr b="0" lang="en-US" sz="4400" spc="-1" strike="noStrike">
              <a:solidFill>
                <a:srgbClr val="000000"/>
              </a:solidFill>
              <a:latin typeface="Calibri"/>
            </a:endParaRPr>
          </a:p>
        </p:txBody>
      </p:sp>
      <p:sp>
        <p:nvSpPr>
          <p:cNvPr id="48" name=""/>
          <p:cNvSpPr txBox="1"/>
          <p:nvPr/>
        </p:nvSpPr>
        <p:spPr>
          <a:xfrm>
            <a:off x="457200" y="13712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sts of Public Respons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trin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oods of 1993, 2008, and 2011</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ought of 2012</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AA:  If we look at the list of US Billion dollar weather events there is a very clear pattern visible even over the last 30 year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eather is the news, and these extreme weather events are becoming more frequent. Want to connect the do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U.S. has had 109 weather-related disasters over the past 31+ years in which overall damages/costs reached or exceeded $1 billion. The total standardized losses for the 109 events exceed $750 bill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vents are from the NOAA Satellite and Information Servic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overage of Surging Seas Inundates the Nation">
            <a:hlinkClick r:id="rId1"/>
          </p:cNvPr>
          <p:cNvPicPr/>
          <p:nvPr/>
        </p:nvPicPr>
        <p:blipFill>
          <a:blip r:embed="rId2"/>
          <a:stretch/>
        </p:blipFill>
        <p:spPr>
          <a:xfrm>
            <a:off x="1981080" y="1371600"/>
            <a:ext cx="4957920" cy="2743200"/>
          </a:xfrm>
          <a:prstGeom prst="rect">
            <a:avLst/>
          </a:prstGeom>
          <a:ln w="0">
            <a:noFill/>
          </a:ln>
        </p:spPr>
      </p:pic>
      <p:sp>
        <p:nvSpPr>
          <p:cNvPr id="50" name="Rectangle 2"/>
          <p:cNvSpPr/>
          <p:nvPr/>
        </p:nvSpPr>
        <p:spPr>
          <a:xfrm>
            <a:off x="2209680" y="419112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Sea Level Rise:_x000b_Floods Threaten Coastal 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ublished:</a:t>
            </a:r>
            <a:r>
              <a:rPr b="0" lang="en-US" sz="1800" spc="-1" strike="noStrike">
                <a:solidFill>
                  <a:srgbClr val="000000"/>
                </a:solidFill>
                <a:latin typeface="Calibri"/>
              </a:rPr>
              <a:t> Mar 16th, 201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sea level rise analysis, complete with interactive map, allows you to search by city, state, or zip code to see maps, statistics, factsheets, and more for areas below different amounts of sea level rise and flood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wareness of Extreme Events</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y 15, 2013</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BIN</a:t>
            </a:r>
            <a:r>
              <a:rPr b="1" lang="en-US" sz="1500" spc="-1" strike="noStrike">
                <a:solidFill>
                  <a:srgbClr val="000000"/>
                </a:solidFill>
                <a:latin typeface="Calibri"/>
              </a:rPr>
              <a:t>: SENATE PASSES WRDA BILL </a:t>
            </a:r>
            <a:r>
              <a:rPr b="0" lang="en-US" sz="1500" spc="-1" strike="noStrike">
                <a:solidFill>
                  <a:srgbClr val="000000"/>
                </a:solidFill>
                <a:latin typeface="Calibri"/>
              </a:rPr>
              <a:t>THAT INVESTS IN ILLINOIS PRIORITIES AND WILL MAKE US BETTER PREPARED FOR DROUGHTS, FLOOD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HINGTON, D.C.] – U.S. Senator Dick Durbin (D-IL) today said that the Water Resources Development Act of 2013 that the U.S. Senate passed earlier today by a strong bipartisan vote of 83-14 invests in Illinois priorities and will make Illinois and the Midwest better prepared for extreme weather events like droughts and flood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This legislation is important to the commerce that moves on the Mississippi River, the Illinois River and other Illinois waterways; to those communities and towns throughout our state that rely on the Army Corps of Engineers to protect them from flooding and other storm damage; and to the natural resources that our rivers, streams and wetlands represent,” said Durbi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I’m pleased that the bill addresses extreme weather.  It’s clear that extreme weather events are becoming more severe and more frequent.  Consider the last year: the two costliest natural disasters in the world occurred in the United States – the Midwest drought and Hurricane Sandy, costing $100 billion.  We can’t ignore the reality that weather events like these are the new normal.”</a:t>
            </a:r>
            <a:endParaRPr b="0" lang="en-US" sz="2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
          <p:cNvSpPr/>
          <p:nvPr/>
        </p:nvSpPr>
        <p:spPr>
          <a:xfrm>
            <a:off x="762120" y="604440"/>
            <a:ext cx="6553080" cy="2145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nds in precipitation and streamflow in the eastern U.S.: Paradox or perception?</a:t>
            </a:r>
            <a:endParaRPr b="0" lang="en-US" sz="12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Small</a:t>
            </a:r>
            <a:r>
              <a:rPr b="0" lang="en-US" sz="1200" spc="-1" strike="noStrike" baseline="30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fiqul Islam</a:t>
            </a:r>
            <a:r>
              <a:rPr b="0" lang="en-US" sz="1200" spc="-1" strike="noStrike" baseline="30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M. Vogel</a:t>
            </a:r>
            <a:r>
              <a:rPr b="0" lang="en-US" sz="1200" spc="-1" strike="noStrike" baseline="30000">
                <a:solidFill>
                  <a:srgbClr val="000000"/>
                </a:solidFill>
                <a:latin typeface="Arial"/>
              </a:rPr>
              <a:t>2</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physical Research Letter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ff"/>
                </a:solidFill>
                <a:uFillTx/>
                <a:latin typeface="Arial"/>
                <a:hlinkClick r:id="rId1"/>
              </a:rPr>
              <a:t>Volume 33</a:t>
            </a:r>
            <a:r>
              <a:rPr b="0" lang="en-US" sz="1100" spc="-1" strike="noStrike" u="sng">
                <a:solidFill>
                  <a:srgbClr val="0000ff"/>
                </a:solidFill>
                <a:uFillTx/>
                <a:latin typeface="Arial"/>
                <a:hlinkClick r:id="rId2"/>
              </a:rPr>
              <a:t>, </a:t>
            </a:r>
            <a:r>
              <a:rPr b="0" lang="en-US" sz="900" spc="-1" strike="noStrike" u="sng">
                <a:solidFill>
                  <a:srgbClr val="0000ff"/>
                </a:solidFill>
                <a:uFillTx/>
                <a:latin typeface="Arial"/>
                <a:hlinkClick r:id="rId3"/>
              </a:rPr>
              <a:t>Issue 3</a:t>
            </a:r>
            <a:r>
              <a:rPr b="0" lang="en-US" sz="1100" spc="-1" strike="noStrike" u="sng">
                <a:solidFill>
                  <a:srgbClr val="0000ff"/>
                </a:solidFill>
                <a:uFillTx/>
                <a:latin typeface="Arial"/>
                <a:hlinkClick r:id="rId4"/>
              </a:rPr>
              <a:t>, </a:t>
            </a:r>
            <a:r>
              <a:rPr b="0" lang="en-US" sz="900" spc="-1" strike="noStrike">
                <a:solidFill>
                  <a:srgbClr val="000000"/>
                </a:solidFill>
                <a:latin typeface="Arial"/>
              </a:rPr>
              <a:t>February 2006</a:t>
            </a:r>
            <a:endParaRPr b="0" lang="en-US" sz="900" spc="-1" strike="noStrike">
              <a:solidFill>
                <a:srgbClr val="000000"/>
              </a:solidFill>
              <a:latin typeface="Calibri"/>
            </a:endParaRPr>
          </a:p>
        </p:txBody>
      </p:sp>
      <p:pic>
        <p:nvPicPr>
          <p:cNvPr id="54" name="Picture 3" descr="Geophysical Research Letters"/>
          <p:cNvPicPr/>
          <p:nvPr/>
        </p:nvPicPr>
        <p:blipFill>
          <a:blip r:embed="rId5"/>
          <a:stretch/>
        </p:blipFill>
        <p:spPr>
          <a:xfrm>
            <a:off x="3657600" y="990720"/>
            <a:ext cx="961920" cy="1247760"/>
          </a:xfrm>
          <a:prstGeom prst="rect">
            <a:avLst/>
          </a:prstGeom>
          <a:ln w="0">
            <a:noFill/>
          </a:ln>
        </p:spPr>
      </p:pic>
      <p:sp>
        <p:nvSpPr>
          <p:cNvPr id="55" name="Rectangle 3"/>
          <p:cNvSpPr/>
          <p:nvPr/>
        </p:nvSpPr>
        <p:spPr>
          <a:xfrm>
            <a:off x="0" y="3048120"/>
            <a:ext cx="8991720" cy="35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ies have reported that </a:t>
            </a:r>
            <a:r>
              <a:rPr b="1" lang="en-US" sz="1200" spc="-1" strike="noStrike">
                <a:solidFill>
                  <a:srgbClr val="000000"/>
                </a:solidFill>
                <a:latin typeface="Calibri"/>
              </a:rPr>
              <a:t>total precipitation is increasing across the United States </a:t>
            </a:r>
            <a:r>
              <a:rPr b="0" lang="en-US" sz="1200" spc="-1" strike="noStrike">
                <a:solidFill>
                  <a:srgbClr val="000000"/>
                </a:solidFill>
                <a:latin typeface="Calibri"/>
              </a:rPr>
              <a:t>with most of the increase resulting from a positive trend in the upper tail of the daily precipitation distributio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tudies have found that </a:t>
            </a:r>
            <a:r>
              <a:rPr b="1" lang="en-US" sz="1200" spc="-1" strike="noStrike">
                <a:solidFill>
                  <a:srgbClr val="000000"/>
                </a:solidFill>
                <a:latin typeface="Calibri"/>
              </a:rPr>
              <a:t>low and moderate, but not high flows are also increasing across much of the United States</a:t>
            </a:r>
            <a:r>
              <a:rPr b="0" lang="en-US" sz="1200" spc="-1" strike="noStrike">
                <a:solidFill>
                  <a:srgbClr val="000000"/>
                </a:solidFill>
                <a:latin typeface="Calibri"/>
              </a:rPr>
              <a:t>. How can precipitation, especially that produced by intense events, increase without a corresponding increase in high flows?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alyzed trends in annual 7-day low, average and high flows along with seasonal precipitation that is averaged over individual basins. Our findings suggest that </a:t>
            </a:r>
            <a:r>
              <a:rPr b="1" lang="en-US" sz="2000" spc="-1" strike="noStrike">
                <a:solidFill>
                  <a:srgbClr val="000000"/>
                </a:solidFill>
                <a:latin typeface="Calibri"/>
              </a:rPr>
              <a:t>statistically significant trends in both fall precipitation and 7-day low flow are found in a large percentage of the basins in the upper Mississippi and Great Lakes regions of the countr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fraction of the </a:t>
            </a:r>
            <a:r>
              <a:rPr b="1" lang="en-US" sz="1200" spc="-1" strike="noStrike">
                <a:solidFill>
                  <a:srgbClr val="000000"/>
                </a:solidFill>
                <a:latin typeface="Calibri"/>
              </a:rPr>
              <a:t>trends in annual precipitation can be explained by an increase in fall precipitation</a:t>
            </a:r>
            <a:r>
              <a:rPr b="0" lang="en-US" sz="1200" spc="-1" strike="noStrike">
                <a:solidFill>
                  <a:srgbClr val="000000"/>
                </a:solidFill>
                <a:latin typeface="Calibri"/>
              </a:rPr>
              <a:t>. By estimating trends in precipitation at the spatial scale of individual basins, we offer a simple explanation for the apparent paradox of lack of trends in high flows.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patial scale of individual basins, precipitation is increasing during the fall but not during the spring, the season when high flows are generally observed. </a:t>
            </a:r>
            <a:r>
              <a:rPr b="1" lang="en-US" sz="1200" spc="-1" strike="noStrike">
                <a:solidFill>
                  <a:srgbClr val="000000"/>
                </a:solidFill>
                <a:latin typeface="Calibri"/>
              </a:rPr>
              <a:t>The increase in fall precipitation appears to result in an increase in the low flows while the lack of trends in precipitation in spring explains the lack of widespread trends in the high flow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6760" y="3618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emporary Changes of the Hydrological Cycle over the Contiguous United States: Trends Derived from In Situ Observ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vel Ya Groisman, Richard W. Knight, Thomas R. Karl, David R. Easterling, Bomin Sun, and Jay H. Lawrimore</a:t>
            </a:r>
            <a:r>
              <a:rPr b="0" lang="en-US" sz="1800" spc="-1" strike="noStrike">
                <a:solidFill>
                  <a:srgbClr val="000000"/>
                </a:solidFill>
                <a:latin typeface="Calibri"/>
              </a:rPr>
              <a:t> National Climatic Data Center, Asheville, North Carolina</a:t>
            </a:r>
            <a:endParaRPr b="0" lang="en-US" sz="1800" spc="-1" strike="noStrike">
              <a:solidFill>
                <a:srgbClr val="000000"/>
              </a:solidFill>
              <a:latin typeface="Calibri"/>
            </a:endParaRPr>
          </a:p>
        </p:txBody>
      </p:sp>
      <p:sp>
        <p:nvSpPr>
          <p:cNvPr id="57" name="Rectangle 4"/>
          <p:cNvSpPr/>
          <p:nvPr/>
        </p:nvSpPr>
        <p:spPr>
          <a:xfrm>
            <a:off x="457200" y="1779480"/>
            <a:ext cx="8077320" cy="54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ver the contiguous United States, precipitation, temperature, streamflow, and heavy and very heavy precipitation have increased during the twentieth century. In the east, high streamflow has increased as well.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il wetness (as described by the Keetch–Byram Drought index) has increased over the northern and eastern regions of the United States, but in the southwestern quadrant of the country soil dryness has increased, making the region more susceptible to forest fire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ddition to these changes during the past 50 yr, increases in evaporation, near-surface humidity, total cloud cover, and low stratiform and cumulonimbus clouds have been observed.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now cover has diminished earlier in the year in the west, and a decrease in near-surface wind speed has also occurred in many areas. Much of the increase in heavy and very heavy precipitation has occurred during the past three decad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ceived: May 2, 2003; Accepted: October 15, 200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1841400"/>
            <a:ext cx="87631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 Conclusion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developed maps of annual streamflow anomalies over the coterminous United States using streamflow records selected to reflect minimum direct impacts from human land disturbance and water diversion. We find that </a:t>
            </a:r>
            <a:r>
              <a:rPr b="1" lang="en-US" sz="1600" spc="-1" strike="noStrike">
                <a:solidFill>
                  <a:srgbClr val="000000"/>
                </a:solidFill>
                <a:latin typeface="Calibri"/>
              </a:rPr>
              <a:t>streamflow increased around 1970 in concert with an increase in precipitation, but has not increased since then</a:t>
            </a:r>
            <a:r>
              <a:rPr b="0" lang="en-US" sz="1600" spc="-1" strike="noStrike">
                <a:solidFill>
                  <a:srgbClr val="000000"/>
                </a:solidFill>
                <a:latin typeface="Calibri"/>
              </a:rPr>
              <a:t>. Our analysis supports </a:t>
            </a:r>
            <a:r>
              <a:rPr b="1" lang="en-US" sz="1600" spc="-1" strike="noStrike">
                <a:solidFill>
                  <a:srgbClr val="000000"/>
                </a:solidFill>
                <a:latin typeface="Calibri"/>
              </a:rPr>
              <a:t>net drying in some regions, and no change in others, as a result of greenhouse warming</a:t>
            </a:r>
            <a:r>
              <a:rPr b="0" lang="en-US" sz="1600" spc="-1" strike="noStrike">
                <a:solidFill>
                  <a:srgbClr val="000000"/>
                </a:solidFill>
                <a:latin typeface="Calibri"/>
              </a:rPr>
              <a:t>, with tentative evidence for the opposing effects of warming and CO2 increase. Depending on how this interplay between temperature and direct CO2 effect of greenhouse gas emissions evolves, </a:t>
            </a:r>
            <a:r>
              <a:rPr b="1" lang="en-US" sz="1600" spc="-1" strike="noStrike">
                <a:solidFill>
                  <a:srgbClr val="000000"/>
                </a:solidFill>
                <a:latin typeface="Calibri"/>
              </a:rPr>
              <a:t>there is a high risk of reduced water supplies and increased plant water stress</a:t>
            </a:r>
            <a:r>
              <a:rPr b="0" lang="en-US" sz="1600" spc="-1" strike="noStrike">
                <a:solidFill>
                  <a:srgbClr val="000000"/>
                </a:solidFill>
                <a:latin typeface="Calibri"/>
              </a:rPr>
              <a:t> with continued warming in coming decad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cknowledgements. NYK thanks the National Oceanic and Atmospheric</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ministration (NOAA) for a Climate and Global Change Postdoctoral Fellowship. IF acknowledges support from NOAA Office of Global Programs, Award NA05OAR4311167, and NSF, Award 0628678. We thank Marc Bierkens, Laurens Bouwer, Attilio Castellarin, and Shilong Piao for reviewing this paper during the Discussion stage; Alanood Alkhaled, Anna Michalak and Kim Mueller for geostatistics help; Boris Fain, Jim Hunt, Tom Pagano, and Alexander Stine for proofreading and useful suggestions; and Graham Farquhar, Chandra Pathak, Michael Roderick and Ramesh Teegavarapu for comments at a conference presentation of an earlier version of this work.</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ited by: B. van den Hurk</a:t>
            </a:r>
            <a:endParaRPr b="0" lang="en-US" sz="1600" spc="-1" strike="noStrike">
              <a:solidFill>
                <a:srgbClr val="000000"/>
              </a:solidFill>
              <a:latin typeface="Calibri"/>
            </a:endParaRPr>
          </a:p>
        </p:txBody>
      </p:sp>
      <p:sp>
        <p:nvSpPr>
          <p:cNvPr id="59" name="Rectangle 4"/>
          <p:cNvSpPr/>
          <p:nvPr/>
        </p:nvSpPr>
        <p:spPr>
          <a:xfrm>
            <a:off x="304920" y="533520"/>
            <a:ext cx="830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pping and attribution of change in streamflow in the coterminous United Sta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 Y. Krakauer and I. Fu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California at Berkeley, US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eived: 12 February 2008 – Published in Hydrol. Earth Syst. Sci. Discuss.: 19 Mar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2:57:15Z</dcterms:created>
  <dc:creator>arlan.juhl</dc:creator>
  <dc:description/>
  <dc:language>en-US</dc:language>
  <cp:lastModifiedBy>jklear</cp:lastModifiedBy>
  <dcterms:modified xsi:type="dcterms:W3CDTF">2013-07-22T15:13:30Z</dcterms:modified>
  <cp:revision>64</cp:revision>
  <dc:subject/>
  <dc:title>Slide 1</dc:title>
</cp:coreProperties>
</file>