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drumroll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00F0-6F52-4149-85E0-9D8C39637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an started at the bottom, working in the stream monitoring pro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2FE3-670F-4126-A9C5-56D0E62B8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B284-C531-4EC4-BEE8-EAD6DC07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F4A4-2285-45ED-97DD-48CB0424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C192-1A4A-47EC-9AAE-18190FCD5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1D89-D182-4DD6-BF57-B83F62643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A3D3-0624-4533-A90A-76FA4DEE7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BDBE-EC3F-424D-A547-7CD89FDA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3D4D-BADA-4585-BAEF-E0820D4E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D037-4D00-4C1D-998C-73E7780A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A09E-9FC3-49E9-9492-1FD72F16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7FF8-3295-432F-AEFC-26AF7421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10E1-4D28-4723-9B6F-281DFF98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7469-D66F-434A-BCD1-20882E7C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995E-5CDB-4B73-99F8-2B021EF3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2CFF-553A-42C7-886E-C8768DEA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F5B4-2D86-4D8B-856F-90BEBF8D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A3BD-43E0-40DB-AFFA-242E893EB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E6BD-EAA6-4F83-A04C-154AE4213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AF9569-43A7-4A62-B514-08B7FCC3D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6D1583-5793-46B0-97BD-8797D961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6F7F05-608B-48A5-BA9E-D2AF6933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62E2B9-FCC0-49E9-A10F-A2FEC304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1067A8-3E12-4401-BF75-1CEFDC5D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B3DE-6571-4DB1-ADC9-B6C3D545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910351-9952-4097-AFF7-7A52FBC9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301496-6873-4991-BD8C-FD9A42A6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41F560-ABD7-4594-A9C3-7C2E1A3F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4B838E-1367-4D96-92ED-2D7C2BE0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22BCC9-5E26-493F-BDF4-D56D2D44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E2D614-07FB-4E51-ADF3-338BCC5AE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E8D98D-9B6F-4D3F-8AEC-86096B67F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74BAAC-0EB6-445D-9D3D-9005BBB4B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F8CD13-794D-4EC5-9DC5-467D16C1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505D39-146F-4E0E-8257-8CDBFDF7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973A-B48A-4685-8EE3-CCE35E7C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DD7EE4-2898-4AE2-981C-ED63D3DE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208036-60B9-4B88-A4C5-92A06A15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426002-7289-414E-9C87-E063DC85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030331-C14F-479E-86BD-D4A883F1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B1AFB9-A119-45A5-B87B-373E5C31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89B7CD-FB67-4D2C-A753-B50F5760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F04F61-3C81-454C-BEEB-60DBCD30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1434AC-BF01-4CD7-8FC5-B3C25829E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E111C7-2FB1-45DF-913B-BE85838B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723446-E8FC-4689-BB8E-3EE2746E4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44FF-5EB0-4C3E-9C96-7B0EBACC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BBA1DC-175A-489B-A2B2-846197F1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E445BE-F807-4B04-8F35-D2DCB694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4AF439-E921-46AB-BA9B-D6EE7BF8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04B3EA-1E86-491A-A28C-FDD753EF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80CD78-AC6D-4A58-8F81-02520FEA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8F2876-9ED7-4C83-874C-498EEACB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2C301A-AFCF-4544-9270-343E3CE7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2C9310-6B5F-422C-AADE-9E71D96B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A7011B-3A23-465E-960C-F5877E9F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9E1809-DC17-422E-8D7B-DC9815E0D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26B2-E670-4540-B26A-12759BE3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3BDD18-C391-4F2F-A934-9D7AD64EF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6AFEF-58C3-41C9-81BD-BB177DCD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3176C-EA31-441A-A857-D9B8B168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B084B-F0EB-426A-B348-188DD5B0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B7266-249C-4088-9E1B-571062E6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4215D-5712-4705-B405-0AC1B590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A996F-EC1D-49CC-9EB6-5E98098D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0AE77-6A27-4C45-BA10-2E64F9A5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CB218-85BA-4E07-B11D-CC2EF4F1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A0A3D-A0C0-4C0A-83F0-9BB3961E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90DE-8FB7-4A5B-BBD2-EAFB8088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ECA0C-96A8-460E-9694-648DE375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D9F71-1A5C-405E-8E71-E080A2DBA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511F7-6F49-42D3-9D75-0FC0E960E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F6E56C-E22E-46D4-9F7C-4767C3116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F80694-CC2E-4366-AB57-5D47954A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71B6FC-F8DC-4D1B-83D7-FCF9EC6B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29242D-2210-4055-9342-7B4F69C0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B93689-5A8E-4929-AFE4-ADEC331A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A9698B-26B9-4788-BF59-46079AEC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E47864-A5A2-425C-B000-D1F8F4B4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FD71-4EB8-4A22-9DDD-AEB01062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4EB867-0055-4E7A-B748-C7647EE4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715EDC-BAF2-45BC-A05C-F1026097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63B2D5-5889-4E88-BF16-321FA28F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519582-82AC-4D7C-B6A3-8A4F4E72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6F535D-054A-4B0D-A8D6-CA5631CFB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7A56F-6218-4381-A292-8D8161CCF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39816-4228-440B-AD7B-5A1036D5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CCA39-321E-4644-B6BD-1839A696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50869-CD95-4A59-B4D6-AAE91579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1AAA5-03A9-4E3A-8692-1C63AE5F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7907-1704-470C-B601-FC7FA682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9ACC3-7AA5-4705-A8D9-9D996E28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5003F-FF23-41E9-92CA-D7633607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8522E-7F95-4417-BDC5-C27D8EB6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CC53E-59D6-4491-A47D-479E6BD1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ACCA8-E0A3-4FBE-A9FE-7917261B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F7167-C20B-4DAF-AD90-BA116CB93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F40BD-2725-4C27-B2BE-223A5B5C1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A3F2-9B69-461E-BEB8-22070C126CF5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A7C8-189F-47F8-B096-AEED762C369F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327F-17FC-439A-A382-A1B5F3033561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D0A8-F9EB-483E-BFC1-31C1707CE31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9DA4-1939-4043-BC53-9D937E251CD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C05D-0390-47E6-A1CC-A4771C062985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BAEC-185D-4C5F-950E-224621E2C398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B217-17C7-4646-8D58-7086B1C0D5A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OHIO RIVER </a:t>
            </a:r>
            <a:br>
              <a:rPr sz="4000"/>
            </a:b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MONITORING AND ASSESSMENT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Program Overview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5f55"/>
                </a:solidFill>
                <a:latin typeface="Tw Cen MT"/>
              </a:rPr>
              <a:t>Monitoring in the 21</a:t>
            </a:r>
            <a:r>
              <a:rPr b="1" lang="en-US" sz="3200" spc="-1" strike="noStrike" baseline="30000">
                <a:solidFill>
                  <a:srgbClr val="775f55"/>
                </a:solidFill>
                <a:latin typeface="Tw Cen MT"/>
              </a:rPr>
              <a:t>st</a:t>
            </a:r>
            <a:r>
              <a:rPr b="1" lang="en-US" sz="3200" spc="-1" strike="noStrike">
                <a:solidFill>
                  <a:srgbClr val="775f55"/>
                </a:solidFill>
                <a:latin typeface="Tw Cen MT"/>
              </a:rPr>
              <a:t> Century: Incorporating</a:t>
            </a:r>
            <a:br>
              <a:rPr sz="3200"/>
            </a:br>
            <a:r>
              <a:rPr b="1" lang="en-US" sz="3200" spc="-1" strike="noStrike">
                <a:solidFill>
                  <a:srgbClr val="775f55"/>
                </a:solidFill>
                <a:latin typeface="Tw Cen MT"/>
              </a:rPr>
              <a:t>new technologies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igh volume sampl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bile lab – use of Coliler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dditional pathogen analys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tudies of emerging contaminants with US EPA, USG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urrent and Recent special studi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utrients and Alga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tal Dissolved Solid and Mineral Constituen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ercur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Keys to Succes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mmitment to good scien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dicated resourc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llabor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ORSANCO Established in 1948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tal Budget - $40,000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2 Employees – Executive Director, Administrative Assista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eadquarters Offi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upport of Commissioner Tra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ot enough $$ to do any monitor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Monitoring in the 1950s: </a:t>
            </a:r>
            <a:br>
              <a:rPr sz="4000"/>
            </a:b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the Water Users Network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RSANCO requested data from utilities and industries that monitored the river at their intak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pproximately 30 participan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stly physical parameters: Temp, pH, turbidity, hardnes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o cost to ORSANC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arameters and monitoring frequency vari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o QC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Monitoring in the 1960s:</a:t>
            </a:r>
            <a:br>
              <a:rPr sz="4000"/>
            </a:b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Electronic Monitor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chnology developed in the late 50s with a Cincinnati electronics firm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4 primary parameters (Temp, pH, DO, Conductivity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dditional parameters at times – chloride, sri, orp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etwork consisted of 24 sites at its pea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T:\ORSANCO Event Pictures\Alan\Robot 1.jpg"/>
          <p:cNvPicPr/>
          <p:nvPr/>
        </p:nvPicPr>
        <p:blipFill>
          <a:blip r:embed="rId1"/>
          <a:stretch/>
        </p:blipFill>
        <p:spPr>
          <a:xfrm>
            <a:off x="2590920" y="-380880"/>
            <a:ext cx="4849560" cy="789120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drumroll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Monitoring in the 1970s:</a:t>
            </a:r>
            <a:br>
              <a:rPr sz="4000"/>
            </a:b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Increased federal support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06 grant nearly doubled Commission resourc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tates decided to charge ORSANCO with monitoring and assessment of the Ohio River and lower reaches of major tributari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nitoring Strategy Team: states, US EPA, USGS, US CO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mbient network: 36 sites (22 Ohio River, 14 tributary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Monitoring in the 1970s: Fish Studie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quatic Life studies conducted in the 1960s, but not continued as routine program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ock Chamber studies begun in 1975 as ongoing effor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sh tissue analysis added in 1976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Monitoring in the 1980s:</a:t>
            </a:r>
            <a:br>
              <a:rPr sz="4000"/>
            </a:b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Toxics Concern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rganics Detection System established to monitor for unreported spill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creased resources for fish tissue analysi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pecial studies of portions of the river with high incidence of toxic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Monitoring in the 1990s:</a:t>
            </a:r>
            <a:br>
              <a:rPr sz="4000"/>
            </a:b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Concern with Specific Use Protec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lectrofishing and macroinvertebrate sampling added to improve assessment of aquatic life suppor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acteria monitoring redesigned to allow assessment of contact recreation suppor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t weather studies in three urban area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trazine monitoring for drinking water protect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4:32:03Z</dcterms:created>
  <dc:creator>peter</dc:creator>
  <dc:description/>
  <dc:language>en-US</dc:language>
  <cp:lastModifiedBy>jklear</cp:lastModifiedBy>
  <dcterms:modified xsi:type="dcterms:W3CDTF">2013-07-22T15:16:04Z</dcterms:modified>
  <cp:revision>8</cp:revision>
  <dc:subject/>
  <dc:title>Ohio River  Monitoring and Assessment</dc:title>
</cp:coreProperties>
</file>