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FDCA-4D38-4D7F-9E07-3E49D41BB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D63-9986-4E01-A1E3-298EEBC0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476-A4C2-4087-BEC0-D8863AA3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D230-2FB6-4810-804A-18CB3AC5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0B8-7E18-4852-A500-20D0893F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3A8B-CFB2-40E9-BD90-0A18CD9A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7E02-08A8-404D-BD16-0E91F77EA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8113-854C-4AEA-9068-855038C7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92A-3F8E-4A45-9165-3D3494B5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B15-0EA7-4139-A9FF-9446DBF8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472-8906-4F1D-9ABC-CD45DB58F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1ED-3F7B-4971-A144-6DE7064A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E08-8342-4F81-A705-98AD1E40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802-E47D-4CC0-9356-8D0D314D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79F-3124-4C0A-A129-8A25F8C3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E6C-8AD0-4211-A5BC-FEECDE59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EE2C-43B6-430D-B8F6-9A1F3FCC9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4B30-83C4-4C72-BBDA-579AE352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AF60-5ADC-4B0F-A8DC-0DD12FB3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7DB9-6C14-4FAA-9ED9-1883E93D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D17E-B66B-4ECF-928D-0C24D2AF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RBA state-members, state-driven. Governors’ reps from individual agency or agencies, but responsible for representing overall state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25F-0297-414B-8799-02145D87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147-49D9-4FF6-AFC4-24091C75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568-6584-4021-9D4C-70D9C81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1A0-4DA3-4A97-94ED-047BD1CA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8B4-51EE-4FDE-B9D9-750F06F3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266-7558-454A-BB5A-038175A0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44C-7F16-4FA1-8D90-342DAAF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5D6-C186-4BB7-BBAD-A240694B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FA0C-6A37-45C2-83DD-403D923C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9E3-8E19-4B0E-A66C-2996286D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4A3-45EB-429E-AD59-D2EBE17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E978-AAE3-4496-B7D0-CD80DC76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727-67EA-45D7-AB0D-8211D6F3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3D66-BAA5-4E17-B5C2-DB2BD44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345-8640-4BC2-A811-EB15B90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9B9C-8C0F-4F9E-87CC-941CB07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E9F-6F36-4BB8-80E3-8591A548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188-DE0F-4541-A470-FBE5E1BE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3EB2-9AEC-4145-9B24-269D7947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47C2-D25B-4C19-8D76-286A826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D70D-1D0D-4734-A9E7-44B5F1A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A98F-23C3-40A7-98B9-666910C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78A4-7A20-4AE9-8034-0DAB2A9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618-57C2-4F8C-A654-60C614E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47F8-B4C5-4B37-A9BE-C8765FF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90FA-96CA-4E35-87AF-779FD31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BD37-6644-4976-8514-881E311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78EC-C60C-49AE-A367-71F88C1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9261-1251-48B9-9938-25C4F992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3088-3834-4DAE-8FFF-3B8B9AA7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B33F-B9D8-4E10-A791-2D746B03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2881-8D1E-414D-8092-E8B22C5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5AE6-C21D-4D14-B6F8-674DC49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7AD1-7293-4C1A-8595-A6AE7DF4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E89-F5D1-4E46-A279-AFD87A5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56DF-5DB3-40F5-A536-E37455B6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6C8C-3532-4DC3-9546-3C9FE0F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B32C-6C29-43DC-BA5B-451E8F41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0E7A-045C-44CF-87E5-63BB404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4402-2E91-46A9-AC9F-F8DD706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BD03-C6BC-4613-B3CC-9C9486C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6A92-09E1-4428-ACBA-7B96709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5C1D-82E2-426B-B8F2-254DEA63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5A51-5C48-4C47-B0B0-8811BE69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CBD-22DD-46F0-9775-4780BC23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D79-CA9C-4294-BFF4-C91D248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9CD-03CD-42EC-B803-5C53425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E23-71F0-442A-9650-528D9A3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982-3F65-4AFA-9753-5B8165E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307-2EC4-4DE5-8279-225464B6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7379-686C-4DED-A67C-22C834EA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3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3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5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6602-CA45-4534-866D-C2803C4E29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2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3c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2C0-3BB3-48CC-923E-5BE3C4A934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de2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0" y="3657600"/>
            <a:ext cx="9144000" cy="1981080"/>
          </a:xfrm>
          <a:prstGeom prst="rect">
            <a:avLst/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35200" y="3962520"/>
            <a:ext cx="740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pper Mississippi River Basin Association  Structure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resentation to ORSANCO-UMRBA Joint Meeting – Policy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une 5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136440" y="3987720"/>
            <a:ext cx="129564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etings &amp;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469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609480" y="18288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erly Meetings of UMRBA Board, open to the public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ion rotates (e.g. St. Louis, Quad Cities, La Crosse, Twin Cities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held in conjunction with related ecosystem restoration meetings (UMRR EMP-CC) and/or water quality meetin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ual (February) meeting includes the election of Chair and Vice Chai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consensus in decisions and voting. Each State has one vo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udget, Staffing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469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457200" y="1523880"/>
            <a:ext cx="84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 201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udget = $650,0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 2013 Revenue Sour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Dues and Water Quality “Assessments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nts, Cooperative Agreements, and Contr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est on Investments &amp; Other Income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permanent staff (Exec Director, 2 Program Directors, Admin Assistant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3 project staff (Spill response mapping/planning for US EPA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located in St. Paul, M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d as 501(c)(3) non-prof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the five states of Illinois, Iowa, Minnesota, Missouri, and Wisconsin being sole member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UMRBA uses a July 1-June 30 fiscal year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MRBA Work Groups and Affili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469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685800" y="1905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dropow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 Ho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Quality Executive Committ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Quality Task For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zardous Spills Gro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RR EMP Coordinating Committ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87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ormed by the Corps of Engineers, staffed by UMRBA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ly, a floodplain managers group has met as needed since 1993.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UMRBA Mission Statement and Value Propos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69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MRBA Mission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Facilitate dialogue and cooperative action regarding water and related land resource issues in the ba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re Specific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e as a regional interstate forum for the discussion, study, and evaluation of river-related issues of common concern to th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acilitate and foster cooperative planning and coordinate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reate opportunities and means for the States and Federal agencies to exchang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elop regional positions on river issues and serve as an advocate of the States’ collective interests before Congress and Federal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MRBA is the linchpin that enables its member states to achieve their collective vision for integrated, multi-purpose management of the Upper Mississippi River System and tis watersh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MRBA Fundamental Principles &amp; Primar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60080"/>
            <a:ext cx="327672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undamental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grate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gional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ar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est Availabl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est Achievabl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3733920" y="1371600"/>
            <a:ext cx="5029200" cy="5257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imary Func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gional interstate for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acilitate cooperative action &amp; collabor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nitor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ster communication, disseminate inform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y &amp; voice states collective interest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ugment member states’ capacity on river-related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ster relationships with federal agencies and stakehold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hape federal investment polici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No direct program implementation, land management or regulatory functions.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MRBA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380880" y="1371600"/>
            <a:ext cx="8382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tanding Forum for a Partnership of State and Federal Agencies on the UMR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uthorization &amp; Implementation of the Upper Mississippi River Restoration Environmental Management Program (UMRR-EMP)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nterbasin Diversion Charter 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Upper Mississippi Spill Response Plan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nland Sensitivity Atla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under US EPA cooperative agreement)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ESP Authorization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supported by Industry/NGO/State Government coalition)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nterstate Water Quality (CWA) Coordination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minimum assessment reaches, ongoing consultation, shared tools &amp; approaches)  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MRBA Strategic Plan Focus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Content Placeholder 2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42796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rategic Plan Priorities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2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4279680" cy="55119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5391000" y="1523880"/>
            <a:ext cx="15242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57600" y="5638680"/>
            <a:ext cx="1733400" cy="115092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590920" y="1371600"/>
            <a:ext cx="1295280" cy="2286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894280" y="3276720"/>
            <a:ext cx="1165320" cy="1904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482560" y="2742840"/>
            <a:ext cx="6406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alibri"/>
                <a:ea typeface="Calibri"/>
              </a:rPr>
              <a:t>Questions and 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1927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Interstate Compact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ORSANCO, G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Federal-State Compact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Delaware River Basin Com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lfaen"/>
              </a:rPr>
              <a:t>Interstate Commission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ff3300"/>
                </a:solidFill>
                <a:latin typeface="Sylfaen"/>
              </a:rPr>
              <a:t>UMRB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Federal-State Commission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UMRB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International Treaty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Great Lakes WQ Agre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Federal Regional Council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Midwest Natural Resources G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Federal Regional Agency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Basin Interagency Committee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AWRBI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Intrastate Special District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Florida WM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Single Federal Administrator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Colorado River Comp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Federally Chartered &amp; Private Corps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St. Lawrence Se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Nongovernmental Organizations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Sylfae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Sylfaen"/>
              </a:rPr>
              <a:t>Foundations, academic grou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Sylfaen"/>
              </a:rPr>
              <a:t>(Information from the 2006 ICWP Report: “Interstate Water Solutions for the New Millennium” 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38080" y="182880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Lucida Fax"/>
              </a:rPr>
              <a:t>	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7617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lfaen"/>
              </a:rPr>
              <a:t>Summary and Comparison:</a:t>
            </a:r>
            <a:r>
              <a:rPr b="1" lang="en-US" sz="3600" spc="-1" strike="noStrike">
                <a:solidFill>
                  <a:srgbClr val="0033cc"/>
                </a:solidFill>
                <a:latin typeface="Sylfae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33cc"/>
                </a:solidFill>
                <a:latin typeface="Sylfaen"/>
              </a:rPr>
              <a:t>UMRBA Among Various Institutional Forms</a:t>
            </a:r>
            <a:r>
              <a:rPr b="1" lang="en-US" sz="2000" spc="-1" strike="noStrike">
                <a:solidFill>
                  <a:srgbClr val="0033cc"/>
                </a:solidFill>
                <a:latin typeface="Sylfaen"/>
              </a:rPr>
              <a:t>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entatio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272880" y="1657440"/>
            <a:ext cx="1927440" cy="48006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Rectangle 3"/>
          <p:cNvSpPr/>
          <p:nvPr/>
        </p:nvSpPr>
        <p:spPr>
          <a:xfrm>
            <a:off x="2438280" y="1657440"/>
            <a:ext cx="63406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urce and Institutional Sett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MRBA History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ucture &amp; Governa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 and Accomplishme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tegic Plan and Prioritie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38080" y="182880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2057400" y="2438280"/>
            <a:ext cx="51814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sm" type="stealth" w="lg"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15200" y="1905120"/>
            <a:ext cx="1600200" cy="1157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Lots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80880" y="1905120"/>
            <a:ext cx="1600200" cy="124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380880" y="3276720"/>
            <a:ext cx="8534520" cy="1116720"/>
            <a:chOff x="380880" y="3276720"/>
            <a:chExt cx="8534520" cy="1116720"/>
          </a:xfrm>
        </p:grpSpPr>
        <p:sp>
          <p:nvSpPr>
            <p:cNvPr id="270" name="Line 7"/>
            <p:cNvSpPr/>
            <p:nvPr/>
          </p:nvSpPr>
          <p:spPr>
            <a:xfrm>
              <a:off x="2057400" y="3809880"/>
              <a:ext cx="5181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sm" type="stealth" w="lg"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3276720"/>
              <a:ext cx="1600200" cy="1050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Many Issue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380880" y="3276720"/>
              <a:ext cx="1600200" cy="1116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Few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Issue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3" name="Text Box 10"/>
          <p:cNvSpPr/>
          <p:nvPr/>
        </p:nvSpPr>
        <p:spPr>
          <a:xfrm>
            <a:off x="1371600" y="3048120"/>
            <a:ext cx="7772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380880" y="4800600"/>
            <a:ext cx="8534520" cy="1598760"/>
            <a:chOff x="380880" y="4800600"/>
            <a:chExt cx="8534520" cy="1598760"/>
          </a:xfrm>
        </p:grpSpPr>
        <p:sp>
          <p:nvSpPr>
            <p:cNvPr id="275" name="Line 12"/>
            <p:cNvSpPr/>
            <p:nvPr/>
          </p:nvSpPr>
          <p:spPr>
            <a:xfrm>
              <a:off x="2057400" y="5333760"/>
              <a:ext cx="5181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sm" type="stealth" w="lg"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7315200" y="4800600"/>
              <a:ext cx="1600200" cy="1598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Large Budget and Staff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380880" y="4800600"/>
              <a:ext cx="1600200" cy="1598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Small Budget and Staff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8" name="Line 15"/>
          <p:cNvSpPr/>
          <p:nvPr/>
        </p:nvSpPr>
        <p:spPr>
          <a:xfrm>
            <a:off x="3048120" y="243828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6019920" y="380988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lfaen"/>
              </a:rPr>
              <a:t>Summary and Comparison:</a:t>
            </a:r>
            <a:r>
              <a:rPr b="1" lang="en-US" sz="3600" spc="-1" strike="noStrike">
                <a:solidFill>
                  <a:srgbClr val="0033cc"/>
                </a:solidFill>
                <a:latin typeface="Sylfae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33cc"/>
                </a:solidFill>
                <a:latin typeface="Sylfaen"/>
              </a:rPr>
              <a:t>Where is UMRBA?</a:t>
            </a: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38080" y="182880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2057400" y="2438280"/>
            <a:ext cx="51814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sm" type="stealth" w="lg"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315200" y="1905120"/>
            <a:ext cx="1600200" cy="1110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Big Bas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0880" y="1905120"/>
            <a:ext cx="1600200" cy="1110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Fax"/>
              </a:rPr>
              <a:t>Small Bas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380880" y="3429000"/>
            <a:ext cx="8534520" cy="937440"/>
            <a:chOff x="380880" y="3429000"/>
            <a:chExt cx="8534520" cy="937440"/>
          </a:xfrm>
        </p:grpSpPr>
        <p:sp>
          <p:nvSpPr>
            <p:cNvPr id="287" name="Line 7"/>
            <p:cNvSpPr/>
            <p:nvPr/>
          </p:nvSpPr>
          <p:spPr>
            <a:xfrm>
              <a:off x="2057400" y="3962160"/>
              <a:ext cx="5181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sm" type="stealth" w="lg"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7315200" y="3429000"/>
              <a:ext cx="1600200" cy="93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Fax"/>
                </a:rPr>
                <a:t>Jurisdictional Complexit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380880" y="3429000"/>
              <a:ext cx="1600200" cy="93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Fax"/>
                </a:rPr>
                <a:t>Jurisdictional Complexit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380880" y="4800600"/>
            <a:ext cx="8534520" cy="1150560"/>
            <a:chOff x="380880" y="4800600"/>
            <a:chExt cx="8534520" cy="1150560"/>
          </a:xfrm>
        </p:grpSpPr>
        <p:sp>
          <p:nvSpPr>
            <p:cNvPr id="291" name="Line 11"/>
            <p:cNvSpPr/>
            <p:nvPr/>
          </p:nvSpPr>
          <p:spPr>
            <a:xfrm>
              <a:off x="2057400" y="5333760"/>
              <a:ext cx="5181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sm" type="stealth" w="lg"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7315200" y="4800600"/>
              <a:ext cx="1600200" cy="115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Fax"/>
                </a:rPr>
                <a:t>Public Outreach and Visibilit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80880" y="4800600"/>
              <a:ext cx="1600200" cy="115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Fax"/>
                </a:rPr>
                <a:t>Public Outreach and Visibilit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Fax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705720" y="243828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4572000" y="397368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590920" y="5334120"/>
            <a:ext cx="0" cy="685800"/>
          </a:xfrm>
          <a:prstGeom prst="line">
            <a:avLst/>
          </a:prstGeom>
          <a:ln w="7632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lfaen"/>
              </a:rPr>
              <a:t>Summary and Comparison:</a:t>
            </a:r>
            <a:r>
              <a:rPr b="1" lang="en-US" sz="3600" spc="-1" strike="noStrike">
                <a:solidFill>
                  <a:srgbClr val="0033cc"/>
                </a:solidFill>
                <a:latin typeface="Sylfae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33cc"/>
                </a:solidFill>
                <a:latin typeface="Sylfaen"/>
              </a:rPr>
              <a:t>Where is UMRBA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Mississippi River:  Resource Set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52280" y="1219320"/>
            <a:ext cx="441972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189,000  square miles in basi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1,300 miles in total length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850 miles navigable, 816 interstat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vg. Annual Discharge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9,200 cfs at St. Paul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205,000 cfs at Thebe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Leveed floodplain   3%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53%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83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annel complexity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asin and tributary influ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5" name="Picture 3" descr="basinmap0414-2"/>
          <p:cNvPicPr/>
          <p:nvPr/>
        </p:nvPicPr>
        <p:blipFill>
          <a:blip r:embed="rId2"/>
          <a:stretch/>
        </p:blipFill>
        <p:spPr>
          <a:xfrm>
            <a:off x="6588000" y="160020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4370400" y="1836720"/>
            <a:ext cx="2243160" cy="2144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4"/>
          <a:stretch/>
        </p:blipFill>
        <p:spPr>
          <a:xfrm>
            <a:off x="4800600" y="4114800"/>
            <a:ext cx="230976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Mississippi River:  Resource Set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76320" y="1523880"/>
            <a:ext cx="464796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23 community water systems serving over 2 million peopl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(an underestimate)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29 power plant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 300 wastewater discharger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29 locks and dams designed for navigation (but limited ability to regulate flows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ver 100 million tons of commodities shipped annually (grain more than half of total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1" name="Picture 7" descr="100_0440"/>
          <p:cNvPicPr/>
          <p:nvPr/>
        </p:nvPicPr>
        <p:blipFill>
          <a:blip r:embed="rId2"/>
          <a:stretch/>
        </p:blipFill>
        <p:spPr>
          <a:xfrm>
            <a:off x="5278320" y="1523880"/>
            <a:ext cx="3171960" cy="2479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10" descr="Lockdam_2"/>
          <p:cNvPicPr/>
          <p:nvPr/>
        </p:nvPicPr>
        <p:blipFill>
          <a:blip r:embed="rId3"/>
          <a:stretch/>
        </p:blipFill>
        <p:spPr>
          <a:xfrm>
            <a:off x="5265720" y="4114800"/>
            <a:ext cx="3184560" cy="2451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Mississippi River:  Resource Set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76320" y="1676520"/>
            <a:ext cx="57909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ore than 250,000 acres in National Wildlife Refu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ver 120 species of fish, 30 species of mussels, 300 species of migratory bird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llions of recreational visits per year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6" name="Picture 7" descr="eagles"/>
          <p:cNvPicPr/>
          <p:nvPr/>
        </p:nvPicPr>
        <p:blipFill>
          <a:blip r:embed="rId2"/>
          <a:stretch/>
        </p:blipFill>
        <p:spPr>
          <a:xfrm>
            <a:off x="762120" y="4073400"/>
            <a:ext cx="2514600" cy="2181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10" descr="pink_1"/>
          <p:cNvPicPr/>
          <p:nvPr/>
        </p:nvPicPr>
        <p:blipFill>
          <a:blip r:embed="rId3"/>
          <a:stretch/>
        </p:blipFill>
        <p:spPr>
          <a:xfrm>
            <a:off x="3429000" y="4059360"/>
            <a:ext cx="2514600" cy="2209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095880" y="1549440"/>
            <a:ext cx="28353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Mississippi River:  Institution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basinmap0414-2"/>
          <p:cNvPicPr/>
          <p:nvPr/>
        </p:nvPicPr>
        <p:blipFill>
          <a:blip r:embed="rId2"/>
          <a:stretch/>
        </p:blipFill>
        <p:spPr>
          <a:xfrm>
            <a:off x="5232240" y="1447920"/>
            <a:ext cx="3668760" cy="4890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3240" y="1371600"/>
            <a:ext cx="533376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Five states, multiple agencies within states (environmental, natural resource, transportation, and other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Several federal agencies (USACE, USFWS, USGS, US EPA and others) 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Local and regional entitie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ommercial interests (shipping, recreation, industry, and others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nvironmental interests (NGOs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itizens (residents and river users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Universitie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 associations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MRB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69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5335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Mississippi River Bas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7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ed by Governors under the authority of Title II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the 1965 Water Resources Planning Ac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8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rminated by Presidential Executive Order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Mississippi River Bas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g 198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Joint Governors’ Resolut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 198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Articles of Association signed by Governors’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representatives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83-198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Governors’ Executive Order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8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Congressional recognition in WRDA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Joint Governors’ Resolut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Joint Governors’ Statement on Water Quality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MRBA Board - State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7440" y="5029200"/>
            <a:ext cx="869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re Governors’ appoin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 a State’s position as a whole, including internal coordination among agencies, with Governor’s offic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685800" y="1447920"/>
            <a:ext cx="755172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llino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N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ow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e, DN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Transporta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onomic Development, Utilities Bo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neso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B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R, PCA, DOT, MDA Alterna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ssour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N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scons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N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e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DNR has both natural resource and environmental quality function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ederal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7440" y="1371600"/>
            <a:ext cx="869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NRC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artment of the Arm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USACE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vironmental Protection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meland Securit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FEMA &amp; Coast Guard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i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Fish and Wildlife Service and USG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Maritime Administration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liaison members do not have voting righ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of Federal liaison members established in bilateral “Partnering Agreements” with UMRB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53:00Z</dcterms:created>
  <dc:creator>Kirsten Mickelsen</dc:creator>
  <dc:description/>
  <dc:language>en-US</dc:language>
  <cp:lastModifiedBy>jklear</cp:lastModifiedBy>
  <cp:lastPrinted>2012-02-10T19:22:08Z</cp:lastPrinted>
  <dcterms:modified xsi:type="dcterms:W3CDTF">2013-07-22T15:11:59Z</dcterms:modified>
  <cp:revision>418</cp:revision>
  <dc:subject/>
  <dc:title>UMR Biologic</dc:title>
</cp:coreProperties>
</file>