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CBF-6BF7-4E7E-ADD9-BDA17705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390-8B28-4B33-969A-4C3B8D2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B95-4B71-4D99-9508-D1F89589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569-3A90-4C24-8CCC-61BC4659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BFFA-0AA4-476D-B5C5-A61D1DA9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CF30-FE54-4FFB-93C1-539B4641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1220-D80B-4AD5-9988-C4829AA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E7DA-1B90-4132-8015-1697543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E6AD-24F3-4019-B7A1-9AF6C4B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16D-DEDA-4BC9-B5E2-E58D8D5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F7B-BA6E-48CB-AB72-F14C934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EAA-4612-48FD-8357-A71FF8F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B34-88B2-4983-B4D1-7B20914F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44A-1D62-41B1-9618-57C09BB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BAA6-BBD0-4783-AF94-873C109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B3E-01AB-4C11-B975-FC519854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3770-8860-46D8-978E-19A5BA2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81B7-4A9E-4D7D-A60C-965DCB8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E9E3-4DB0-41D9-B083-B7E214C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76AD-A124-46AF-A6C0-7B1F49A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CC3D-0B84-4B8C-8228-9D5BC490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42A0-DBCA-42ED-A6A7-6484D6E9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AF7-A5D7-4D96-96B1-ECE10DC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9F9E-7530-4F7E-B1A7-08F54671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80B6-768B-4855-9889-A155B8B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A07A-D471-4A69-9C14-EC1C5A9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C9F5-A15F-4D43-B764-532BEB2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67D8-3F54-4FC9-98AC-DD4C146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8A20-6684-4C6D-993A-B1BCB762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0470-B4A3-48C7-B9C1-D19F306C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F0CA-0E4A-4686-B278-9E5BDE4A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FF33-E2E3-4B9A-8FDC-8F99B05B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9AC6-9428-4056-BDBC-A3910E29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382-26C0-49BF-8ED5-28DB959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A86C-5779-4578-9171-9E84B18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60AD-6CD8-45C1-9A1C-DF0DF0FF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78E4-D566-41E6-B94B-9A3BA10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C065-D252-4E54-826A-E69C1D7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0382-4CC9-4D2C-82E7-BF16DAE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31BB-E5AA-42C5-BF9D-DEAE092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898A-AA18-489D-819B-25A5B5E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B177-3D07-4452-9A9C-70B989DA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DF50-87BB-4307-BC12-EC40CC85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E0C5-F6F9-4BF5-A080-1EEE51D0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D0E-C4EB-43EB-BD4B-B2B2C80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F0A6-7890-40F5-81D0-9D9DC64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171E-AC61-42E0-A06B-FAE655C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B15A-EAD7-4337-8550-69FFD15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0D16-3B4C-4578-AD3A-3C1D35B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A8004-0E85-484E-972A-A74CA65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8CD7-1813-4834-A7A2-C79129C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DFEA-DD9D-4A34-BA34-4811934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2B00-11FE-4FA9-9682-A7765E7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7774-6572-419F-BD5F-A61BB18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738D-CD3B-4EE5-AAB1-E4E4519F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1E1-A912-49E9-B68D-58360E0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4FB1-3788-42AC-BC49-51DB7DEE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33D2-F064-4BD6-94DC-4D60D9F8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5DB2-13B6-4C8E-B4BD-9ED97928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0D7F-B8D1-46BD-B806-27677F2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0143-57F3-487F-BBC3-FD948252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61DB-3B13-4B15-A774-F584396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C2DBF-6683-433A-8814-16B7D6F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FDCA-CD20-406C-9B79-0BC94EA8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FED8-67A8-4EA2-811B-03D0BDD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8F40-1C1C-4574-9071-12F55DA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EED-AE3D-425D-9BA9-1B78211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2EA81-C284-48BD-B9F0-5BFF6E15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3857-B7BD-473F-86D7-9167A0DB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3692-C3D0-4C9E-A7CB-ABD3FA1A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EFC89-26E1-4EC1-A27C-AD8FBFF4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312A-C53D-431F-842A-BAF7CD1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E64B-D36C-4117-8A9F-1C923B4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6150-E7D1-4546-93A0-75418D2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7DA1-6044-4D51-95DB-FBEA29B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FBFE-753F-4915-BA69-86A3DE1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9877-772B-4458-AC9B-FE86220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980-761A-44F0-B575-55325A4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5BD8-C7D0-4010-A57F-4185909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BEB7-F940-42F7-8259-268F663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86C4-F66E-4D3F-9772-17EE691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85D53-6C4A-4244-9644-84384049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F149-6794-4A1B-8407-4CC9EE8A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935A-3E04-42B9-A466-41EDFAC3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8B3E-0682-4FB2-9ECA-6B2B5671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7F80-567B-4749-877D-4D88BFD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C9190-04BD-40AA-A0BB-A30888EC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36F0-9961-4C27-86FB-DAFC61F5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DC3-294C-47B1-BE2C-4413067F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9A72-7F16-4D19-906B-1BAE71E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41E3-5AFC-4235-8BF5-0CEE2FC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8091-B1E1-4DD5-9965-9DDEA3D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693C-55B6-49C5-A125-FFFC2E8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7D39-E9A3-452A-A853-DC1960A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0F69-C926-4601-B6B6-063AA279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5566-7E90-4A70-966F-3916C63F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3A7-BC5B-4580-92CB-D6FE641BDE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B19-38BE-42CD-BD27-D4FCEB457B0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30D-35AD-41F6-B776-4C0B1620D86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E16A-AB5E-4AFC-AD0A-296EC2E17A5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FE84-8A41-4EF6-9DDF-E5643A2111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01F-D5D8-4FD3-90B3-F7E33BB54CD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AFA8-1086-4D96-8480-BFF9B0F1EA0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307B-A597-46F5-AA2B-9C84546A8A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08B6800A-E80B-48AE-AFF1-CEF5807701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9320" y="29718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Water Quality Observations 2009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Algae Bloom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low Comparison 2008-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2" name="Content Placeholder 7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mperature Comparison 2008-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4" name="Content Placeholder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P at ORM 463 Comparison 2008-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6" name="Content Placeholder 6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clusions from 2 years of bloom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terature suggests temperatures greater than 25 C needed for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Microcysti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blo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ght penetration needed to start recruitment of spores from sedi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 column nutrients not a limiting factor – sediment nutrients suffici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could have a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Microcyst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bloom any time the temperature and clarity coincid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pper River Taste and Odor Repor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itial report to ORSANCO on June 1, 20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plaints from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72560" indent="-214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, OH (ORM 59.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2560" indent="-214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irton, WV (ORM 65.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2560" indent="-214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eubenville, OH (ORM 65.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2560" indent="-214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eling, WV (ORM 86.8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2560" indent="-214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ter confirmed at East Liverpool (ORM 40.2) and Midland (ORM 3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&amp;O problems started on May 28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eirton reported clear water on June 1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aver Falls, PA water plant reported T&amp;O problems on May 2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ference call with PA DEP on June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ampling Loc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s collected on June 8, 20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utrients (TP,  TKN,  Nitrate/Nitrite,  Ammoni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gae commun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shields L&amp;D (ORM 13.3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aver River (Confluence at ORM 25.4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ntgomery L&amp;D (ORM 31.3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 Cumberland L&amp;D (ORM 54.4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ke Island L&amp;D (ORM 84.2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eling Water Plant (ORM  86.8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utrients Sample 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0" name="Content Placeholder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lgae Sample 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Content Placeholder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ssons Learned and Futur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gae issues are usually very short l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ponse time importa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time in 3 years we have seen spring time algae issues on the upper ri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paration for 201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mpling kits for water treatment pla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iscussed Hydrolab placement with L&amp;D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Microcysti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Bloom Middle Riv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incinnati Area (ORM 451-47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ptember 22- October 5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tacted Louisville and Huntington Water Pla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isual observation of near shore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Microcysti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n Louisvil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reports of T&amp;O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ntration greater near-sho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vg. near shore 1,243 colonies/m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vg. mid river 247 colonies/m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xicity testing not yet avail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utrients Analysis 200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Content Placeholder 4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lgae Analysis 2009 (Near shore vs Mid River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Content Placeholder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3:23:47Z</dcterms:created>
  <dc:creator> </dc:creator>
  <dc:description/>
  <dc:language>en-US</dc:language>
  <cp:lastModifiedBy>John Klear</cp:lastModifiedBy>
  <dcterms:modified xsi:type="dcterms:W3CDTF">2009-11-18T15:53:49Z</dcterms:modified>
  <cp:revision>233</cp:revision>
  <dc:subject/>
  <dc:title>Slide 1</dc:title>
</cp:coreProperties>
</file>