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9B7-31BC-4F78-A54A-FCDCA755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E9D0-370A-4E24-859A-2BCBEBF2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6F0E-B6F6-4E56-AB10-DA10B73B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24D-B832-4FB3-9A28-8199C213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0056-3A48-4E05-9164-11DFF623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DD40-AC90-4526-9B53-AE9A8930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1725-1447-428B-95A4-8AE1D327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C0BB-E3B9-441C-859A-6DA820A2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1B1E-313D-4082-B85F-7B3C2C10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30E1-13AF-487B-8318-5EE6F522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C207-FB7D-4A11-9691-FA3A6200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CB7-046E-4BCC-9269-2A6CD174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2B34-B87E-4562-9205-5813EF34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CF7E-3B45-45EA-9F09-CB1BAC93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ECE6-08AC-4630-BDAF-2CA9A8B7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D419-1E36-4373-9AC0-AEFADB80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36AD-1BE3-4992-9429-7E3DA388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6F130-0CAC-4ACA-A65E-56AFAD62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FAD4F-491D-4451-8BB8-6FC8EFD4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9E2DA-4833-40AF-9C19-B272D881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0B531-BE8C-4B57-90B6-65AC1E37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B7A77-3525-49D3-BE57-36E14700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7FA-EFC5-4CE6-9CCA-1BA55DE1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F75DE-C70D-4A9E-9332-44368FA3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44903-7034-4293-A35A-9D9F63FE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82135-B1B5-4B93-BC90-DD8C320C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19421-E0B3-412A-B54F-71A26E48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CAC91-B081-4D43-BA15-6A87B888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89BF2-D3E3-48AB-9974-93A8F630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8E3AC-AE0B-470E-92CB-CC6244DA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F2A14-2C88-4591-8F37-6750B473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45B71-BE69-4279-B9A9-C79A9770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BC783-41F5-48FE-A60C-DC551230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8889-A703-4E4F-8FD3-1915D33D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81094-48C6-4043-810E-E57BB8D9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BE531-75D8-4743-A5EF-321EFE46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3AE5C-141B-400F-BC33-423D1A18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E2A30-4786-4500-9436-50F415C3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13632-8EF6-4492-B7AB-36E99C52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2D34E-D491-4D63-951C-F14B6E07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FE5D3-8232-434E-8CE0-EF0D1115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6F0AB-3ACE-4D52-A292-0EA7B605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6B2EE-EAB0-4A2E-8853-E037977A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47653-5831-40A2-B92B-1CF2718D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7E4F-BB17-4043-B55B-8F221AF6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3B8DF-007C-45ED-99CD-D64A3BD1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DEBFF-7292-4757-B5B5-2C63D988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68B64-B1F4-457C-8653-E1169A09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2C5AB-CAC2-4DB5-997B-2A2CC3F0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54035-2D77-43B7-911E-30BE7BC5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37501-04B2-474A-B399-99AED708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8B41A-43AD-47EF-80F1-60092501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F1735-9B51-4A95-82BC-E16347F7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ED317-E217-474E-A24C-5215EF6B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7C906-6348-4186-993B-E36B16A4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282-212F-4AC5-A33D-5D0E6E1A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30CC0-73A1-4802-B1F8-49736B82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A46-AF81-44F9-9AE0-5DACB10C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4EB-A050-4065-B0E6-38730E65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2FEE-54E8-4F1D-A4A6-3E8B30C9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709A-6E1F-49E3-85A4-A1640AAB295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A379-2867-487F-90EF-07944F46E2B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9A5E-42E8-4984-BCE2-B85218D5E82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7366-7970-481F-BA05-06B9A6CC5E5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C240-5B2E-489A-92DD-53D01DF4A0A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Perpetua"/>
              </a:rPr>
              <a:t>October, 2009 Update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Gulf of Mexico Hypox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Activities Since Nashville </a:t>
            </a:r>
            <a:br>
              <a:rPr sz="3600"/>
            </a:b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Commission Meeting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velopment of Annual Repor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hio River Sub Basin Steering Committee Cal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Task Force Meeting – September 23-24, Des Mo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lanning for January, 2010 POTW Worksho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Ohio River Sub Basin </a:t>
            </a:r>
            <a:br>
              <a:rPr sz="3600"/>
            </a:b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Steering Committe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ll on August 1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ral new memb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ana Aunkst, PA DE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 Westerman, KY DOW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Jerod Chew, IN DO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ry Lou Renshaw, IDE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convene after Task Force Meeting to plan next step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18</a:t>
            </a:r>
            <a:r>
              <a:rPr b="1" lang="en-US" sz="4000" spc="-1" strike="noStrike" baseline="30000">
                <a:solidFill>
                  <a:srgbClr val="696464"/>
                </a:solidFill>
                <a:latin typeface="Franklin Gothic Book"/>
              </a:rPr>
              <a:t>th</a:t>
            </a: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 Task Force Meet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sted by Iowa Department of Agriculture in Des Mo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ptember 23 Field trip to observe nutrient reduction activities on Iowa farmla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gular meeting on September 2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18</a:t>
            </a:r>
            <a:r>
              <a:rPr b="1" lang="en-US" sz="4000" spc="-1" strike="noStrike" baseline="30000">
                <a:solidFill>
                  <a:srgbClr val="696464"/>
                </a:solidFill>
                <a:latin typeface="Franklin Gothic Book"/>
              </a:rPr>
              <a:t>th</a:t>
            </a: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 Task Force Meet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ral new federal memb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ete Silva, US EP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n Mills, USD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ori Caramanian, US DO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ichael Walsh, US A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eting highlight: announcement of USDA Mississippi River Basin Healthy Watershed Initiativ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18</a:t>
            </a:r>
            <a:r>
              <a:rPr b="1" lang="en-US" sz="4000" spc="-1" strike="noStrike" baseline="30000">
                <a:solidFill>
                  <a:srgbClr val="696464"/>
                </a:solidFill>
                <a:latin typeface="Franklin Gothic Book"/>
              </a:rPr>
              <a:t>th</a:t>
            </a: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 Task Force Meet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ations of Nutrient Reduction Strategy abstr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owa Drainage and Wetland Landscape Systems Initiative for Reducing Nutrient Transport From Cropped Lands to the Gulf of Mex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orthern Mississippi River Basin Proposal to Reduce Nutrient Transport to the Gulf of Mexico through Expansion of the Farmable Wetlands Program and the Conservation Reserve Enhancement Progra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18</a:t>
            </a:r>
            <a:r>
              <a:rPr b="1" lang="en-US" sz="4000" spc="-1" strike="noStrike" baseline="30000">
                <a:solidFill>
                  <a:srgbClr val="696464"/>
                </a:solidFill>
                <a:latin typeface="Franklin Gothic Book"/>
              </a:rPr>
              <a:t>th</a:t>
            </a: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 Task Force Meet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Presentations of Nutrient Reduction Strategy abstracts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- Using Market-Based Incentives to Reduce Hypoxic Zone in the Northern Gulf of Mexico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- Mississippi's Leveraged Approach To Reduce Nutrient Impacts In-Basin And To The Gulf Of Mexico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Nutrient and Sediment Reduction Through Floodplain Restoration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Beneficial Use of Dredged Material in Coastal Louisiana for Wetland Creation/Restoration and Nutrient Removal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18</a:t>
            </a:r>
            <a:r>
              <a:rPr b="1" lang="en-US" sz="4000" spc="-1" strike="noStrike" baseline="30000">
                <a:solidFill>
                  <a:srgbClr val="696464"/>
                </a:solidFill>
                <a:latin typeface="Franklin Gothic Book"/>
              </a:rPr>
              <a:t>th</a:t>
            </a: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 Task Force Meet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nual Repor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ask Force Governance Issu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ate co-chai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ddition of more states, trib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ctive Participation by Al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POTW Workshop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January 12-14, 2010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vansville, Indiana Airport Marriot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genda comple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nouncements availa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9:11:00Z</dcterms:created>
  <dc:creator>peter</dc:creator>
  <dc:description/>
  <dc:language>en-US</dc:language>
  <cp:lastModifiedBy>Peter</cp:lastModifiedBy>
  <dcterms:modified xsi:type="dcterms:W3CDTF">2009-10-20T00:23:48Z</dcterms:modified>
  <cp:revision>7</cp:revision>
  <dc:subject/>
  <dc:title>Slide 1</dc:title>
</cp:coreProperties>
</file>