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3BC-A4AF-4BA9-9EB8-8B6708A4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259-CB2A-4633-AEC0-06D2DB0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32D-E0E8-48F2-B6A4-DD781093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9B7-8EBC-4159-A3BC-F9F5B8BD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890-0B69-4843-AEDA-996E558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E34-E860-4805-9530-CC0A3B11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374-F56C-4A9F-AF9C-04C91415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648-91C2-4749-B419-7834DEDA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92A-86F8-4D04-92C8-09B4130C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339-D938-45FC-8D30-2F71DA1E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187-56F1-4DF8-8057-BF515831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F4A-5196-484F-9337-31130FB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0DC3-1C41-49F5-B318-7273A910E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rt 1" descr=""/>
          <p:cNvPicPr/>
          <p:nvPr/>
        </p:nvPicPr>
        <p:blipFill>
          <a:blip r:embed="rId1"/>
          <a:stretch/>
        </p:blipFill>
        <p:spPr>
          <a:xfrm>
            <a:off x="146160" y="1060560"/>
            <a:ext cx="8772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art 2" descr=""/>
          <p:cNvPicPr/>
          <p:nvPr/>
        </p:nvPicPr>
        <p:blipFill>
          <a:blip r:embed="rId1"/>
          <a:stretch/>
        </p:blipFill>
        <p:spPr>
          <a:xfrm>
            <a:off x="146160" y="1060560"/>
            <a:ext cx="8772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art 2" descr=""/>
          <p:cNvPicPr/>
          <p:nvPr/>
        </p:nvPicPr>
        <p:blipFill>
          <a:blip r:embed="rId1"/>
          <a:stretch/>
        </p:blipFill>
        <p:spPr>
          <a:xfrm>
            <a:off x="146160" y="1060560"/>
            <a:ext cx="8851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art 2" descr=""/>
          <p:cNvPicPr/>
          <p:nvPr/>
        </p:nvPicPr>
        <p:blipFill>
          <a:blip r:embed="rId1"/>
          <a:stretch/>
        </p:blipFill>
        <p:spPr>
          <a:xfrm>
            <a:off x="146160" y="1060560"/>
            <a:ext cx="87724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rt 1" descr=""/>
          <p:cNvPicPr/>
          <p:nvPr/>
        </p:nvPicPr>
        <p:blipFill>
          <a:blip r:embed="rId1"/>
          <a:stretch/>
        </p:blipFill>
        <p:spPr>
          <a:xfrm>
            <a:off x="225360" y="1060560"/>
            <a:ext cx="8772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art 3" descr=""/>
          <p:cNvPicPr/>
          <p:nvPr/>
        </p:nvPicPr>
        <p:blipFill>
          <a:blip r:embed="rId1"/>
          <a:stretch/>
        </p:blipFill>
        <p:spPr>
          <a:xfrm>
            <a:off x="146160" y="1060560"/>
            <a:ext cx="8851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20:02:28Z</dcterms:created>
  <dc:creator>eben</dc:creator>
  <dc:description/>
  <dc:language>en-US</dc:language>
  <cp:lastModifiedBy>John Klear</cp:lastModifiedBy>
  <dcterms:modified xsi:type="dcterms:W3CDTF">2009-11-18T15:54:48Z</dcterms:modified>
  <cp:revision>13</cp:revision>
  <dc:subject/>
  <dc:title>Slide 1</dc:title>
</cp:coreProperties>
</file>