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7A3-BA84-4D29-819F-33244CD9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741-9CDF-4BEE-9D1E-BE9F6E0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FE1-D48B-49E7-BCF4-DEDF4694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92B-0EAD-4C91-BE16-3DB94BC0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F1E-3613-4481-9340-318F98C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EDE4-2C13-4138-BC39-1B351C6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88C8-3F4A-46A6-A315-8430663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64F-7BC5-4CE5-AF31-E65AD42B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9573-0C29-4078-B7AE-EC4D7D7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6A2-71C6-4E14-914D-9FF1313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81C2-92D3-40E5-936E-6BEFB44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488-D97E-4885-B2FB-7EB2ADF9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6BC7-1C70-4FB6-B2F9-B262811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750-51DF-4BEA-807D-DD308BC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BB2-D793-401F-96AD-10A70354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5C9-2A0E-40AB-AB0A-547F15AB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503E-053E-41C6-B44E-D0A8530E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526A-46BF-4353-94F2-3DD43598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E259-64A5-4B9F-A187-52ABE7AB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0B8F-1E71-44B6-875C-9CE016F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8A17-EC6B-40A3-AFE6-EF81A562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C825-DB8C-47E7-8553-7190AB16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DD8-0DB5-4386-89F8-4B766730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6608-29AC-4E2D-9F7D-E84C4B1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BA79-120F-4B21-BF36-70C85CF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6C1F-FDD4-4425-8657-6225993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1A40-BFA5-41F8-999F-2A20441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4704-6884-48DC-B624-868B5AAD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79DC-6F97-4769-AD40-2AEBAD5E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2DB6-8B80-4EC2-BDD9-7BDFBAF0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AC65-B795-4DDF-BBA3-27DEE04D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8F29-1264-4112-81C1-8D8B83D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8A4B-7F3D-4E54-9D2B-B9408A1A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4F9-F603-40D2-BC3B-59112C6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0970-9F48-40B3-AFB9-1842F04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6488-E507-4B54-A6C2-8206DC0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1AFF-315D-4E2F-9F8B-3985E35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133B-958F-497F-BB08-D6C7C5C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B8B7-68EB-4C68-B864-CA195F0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6BED-4CB3-4D89-9EE9-5D616B3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3E2D-FC35-449D-9EE7-117A8D0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96A5-2631-49CA-97BE-7CB3EA6C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4941-70FB-4BE1-8B0C-ECB8B1B2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897C-5B40-44E4-A2D5-BD2EA5AE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C41-25F6-48BB-B8EA-9151FB3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D223-E107-4A74-8390-82CF325D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42B8-0C3D-420E-8F2C-E98257AB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886C-F586-4C48-B951-3A7A13F8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D89C7-DDA6-4CFD-97F2-41C5BC3F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694B6-5717-4AB4-A55B-C57001F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2943-C4DD-48CC-8417-2AB8F50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F913-8E59-4BDB-B9EC-0163CDB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6C92-A068-4C88-8335-8EC0174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53CC-0B97-4D9D-B883-9B4432E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AD95-95D1-4A3F-8F36-4AE3E32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1C2-6F9C-401D-9C20-CA30988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74FF-6F50-4F95-A935-030295FE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CD7-56E1-4C1F-992A-11AEBCA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BC2-FA45-409C-AD0F-86AAAAD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A14-CFF2-4A15-8986-B5F2599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4064-E9F5-4602-9D64-5BDCC86DC78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A24-2DBD-4BE0-AFA1-27A3876572C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2294-64A6-4226-A06A-ECD0F59DBF3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2CFA-B8D8-44C6-9393-59EBF736BB1D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5EE-B216-4706-8569-F981844AF38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tus of Revie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ctober, 200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nslators were incorrectly incorporated in draft revisions to Standar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comments on this proposed revision were support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CS Committee believes that the Commission should proceed with the revision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tals Translat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man Health Crite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dmium and Silver Crite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mon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ill Notifi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sonable Treatment Defin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blic Water Supply System Defin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mpera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thoge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tri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rc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leni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al Meet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eeling Area: June 9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untington Area: June 10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ouisville Area: June 16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ansville Area: June 17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aducah Area: June 18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blic Hearing: Cincinnati Area- June 2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ment Period Closes: July 2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95120" y="225360"/>
            <a:ext cx="6169320" cy="1182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1 sets of comments receiv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 supported all proposed revi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wo called for wet weather standar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wo raised specific issu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25360" y="171360"/>
            <a:ext cx="6486480" cy="1236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tals Translato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uman Health Criter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dmium and Silver Criter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asonable Treatment Defin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ublic Water Supply System Defin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y require additional treatment at point sourc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ign river flow not specifi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 cost benefit analy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ecific questions to Technical Committee and Water Users Advisory Committ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inue to support proposed criterion subject to input from Technical Committee and Water Users Advisory Committ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itiate action to specify design fl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dorse proposed revis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er endorsement until additional information is avail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6:45:24Z</dcterms:created>
  <dc:creator>peter</dc:creator>
  <dc:description/>
  <dc:language>en-US</dc:language>
  <cp:lastModifiedBy>peter</cp:lastModifiedBy>
  <dcterms:modified xsi:type="dcterms:W3CDTF">2009-10-16T18:50:58Z</dcterms:modified>
  <cp:revision>14</cp:revision>
  <dc:subject/>
  <dc:title>Slide 1</dc:title>
</cp:coreProperties>
</file>