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0836-D825-4F4C-9B14-806631992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9BC0-E5CD-4001-8596-D4AEC726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18DF-A314-46E5-92D2-97A57CFCD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5838-723C-4A98-87AF-121B43B6A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4C00-F2E8-4D9C-8B41-92DF29DD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B407-A645-4C91-8A6D-EE05EB74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DD36-9140-4309-90B9-9CF2962A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81BF-EE9D-4157-ACB1-2DD6AAA3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AADF-B9D7-4ABF-B818-E6A83732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8A8A-3DAB-4C57-B78E-76DCCB2C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776A-8696-42CD-A9E6-C12B2D61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736D-50A0-4DD8-AC2F-07DCFCDF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DE73-8D3F-4D2A-B1D5-24165FEE85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 of ORSANCO Pollution Control Stand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ontinuing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ssues Considered In Current Review for which No Revisions Were Propos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er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h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tr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rcu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n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ssues Raised at August, 2009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CS Committee Meet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Total Dissolved Solids Cri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ck of Specified Design River Flow for Drinking Water Cri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of Variance Procedure for Mercury Dischar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21:15:26Z</dcterms:created>
  <dc:creator>peter</dc:creator>
  <dc:description/>
  <dc:language>en-US</dc:language>
  <cp:lastModifiedBy>peter</cp:lastModifiedBy>
  <dcterms:modified xsi:type="dcterms:W3CDTF">2009-10-14T21:21:38Z</dcterms:modified>
  <cp:revision>1</cp:revision>
  <dc:subject/>
  <dc:title>Review of ORSANCO Pollution Control Standards</dc:title>
</cp:coreProperties>
</file>