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D35-AB33-482C-AC9E-136DC3B7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424-5A0D-4F7D-8FA0-266B3764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0649E-E99E-4229-BC4D-7D7D3C6F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ACD0E-20E6-4A65-8815-64E2C691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6A076-C0D8-4EB2-9786-95B9AAC3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C74AD-BDD1-4C4B-93B8-A8D71556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9EB85-841E-4F3F-8348-4C19FAFB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E743A-E266-45AA-9F2C-B3FE8B77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B995A-BAB2-4D95-91F2-0A161511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C6FFA-C95D-47EA-8432-AC507FD1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D780D-5702-424D-9B98-827024E7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BF8-B992-4891-85FF-EA2424A7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692-A444-46A3-B39E-EAFFE9C3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61A3-04E5-44F3-8231-3E49A26C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5059-7F88-4A7E-AD28-DA40B8D9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E2B9-4B6F-4993-B1EA-15E56EA0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147B-7445-4216-89FE-9AD50E8D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5840-8A10-4BA9-81EE-18CAC27F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68D4-BCBD-414C-9731-C482EE08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059B-C037-4280-A319-D811270A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6AD-CC2D-4CE3-8B52-8D1E4251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7A96-3A7F-4CC0-955C-1A581FEA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FB89-F450-45C9-B90C-02C21E43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4189-A6D0-48AF-9104-9EB56C5C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4B0D-D913-4273-B561-25648F52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8DE5-382E-4093-804E-4829B8D0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9F228-B8BF-4158-8338-D3A2EE09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2CFBB-9A7A-43F7-A690-4301DA64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BF438-302C-4AE8-A058-E18FCFB3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DBAAC-AD65-44E4-AA5D-ABDE08E9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AACD3-8886-425D-929E-55B1BD09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1BB-0D2B-4951-8AA0-9EC5D5A1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218E5-5D34-4426-9828-AC44281A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1B7D0-DA99-431B-BFD7-10446D9B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187BD-BFAC-443D-8D8D-047E0FFD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FA552-7D73-4079-936C-6C1BDBC9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59C30-4E1F-470D-9696-41622FE6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9DAEE-4072-46AB-9125-D4D3CB9F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215C1-1358-43CF-8890-CECA2940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E17B0A-4D51-40E4-868F-B1641702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70F10-7A1A-4DBF-B41F-F31F4DC5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CD4565-A6D4-4027-AA12-A58AC640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E01-4171-4DE6-82FE-71C2EFAC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1F2C2-DAA1-4467-A3D3-3844EC58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D9475D-8CB8-4456-9177-BFD46487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CE928F-C108-41FD-8DBE-B9871ABE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C48402-66BF-4390-AD8B-4E815A82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15886-F752-46CE-B7AE-A9878CE6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1B27C7-9CC5-42A6-8D98-4019D23C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58E44-AFF4-4E60-800F-C435F301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4B82C-E14B-407D-B759-2E5A7EE9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A764D-B55C-4C74-88B4-F773DF9C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D2D3D-593C-406E-AF9C-D6797C27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968-5D37-410C-B3E8-A53D0BD3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C4438-91E1-4E47-A350-B4C1F393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C4B8F-3A26-4058-93F8-E2FEC5FA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E908B-8303-48AE-A5EE-D1783F5A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F9E9F-B80F-4953-AEB0-D6139DB2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40A313-C44A-481D-9728-0A8903C5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BC0C5-0C9C-4ADE-B25F-E2F702BA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23B8EA-A9C7-4EEF-8A94-B5F5D95C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ADD60-8E93-4D0D-A9A7-D2F88A19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5AD63-0C7B-4B49-8560-A7F3E16B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5B029-A6AE-4077-9EF4-E126A2DB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ECC-C9D1-418B-AE9B-417A0F41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557598-BCC6-41EB-8178-0AD68DED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42665-A554-4913-850D-E0305B86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44FCE-1618-49A4-867D-6C40486B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885F6-190A-4827-A7FE-4219F17A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32901-7B1B-471E-AF50-89C35754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F7CFA-86E6-42B0-8B6B-62997595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C657D-7251-424C-AE28-CABE7C76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CEB2D-8F6A-4BE8-9F9F-4EBFBEAD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6CDA1-1829-4C72-B9FB-E9F135C7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596D1-82E7-4EAE-83DA-8C1C94E8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24D-B09A-4680-A990-6A4F2DF8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A1A71-4841-4E49-A9CD-87071A21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A7C60-B2B0-4C4D-A7C5-B3A07320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7B9EA-C2CC-459C-BCA5-60BAE05C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54CE2C-3DE1-4A40-AF6C-C1EDDF1F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5835BD-00D5-4E7A-97CA-ADC92419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755FB-2EA2-43FA-B873-E15C6F55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B60984-018D-4FF1-BBBB-697BCE74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AC718F-9591-4861-8C2D-D49E0E46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91E3F2-FE79-4435-B662-3505FC25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1A6D1-3D11-47E0-9223-77E83020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57F-27ED-43EC-886E-A3B1CB30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30EB0-6386-45B7-BB1F-05D123D4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DAFA3A-4B09-4114-9716-CF61C8EE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F283D-A7A2-4FEA-8590-4123DABA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0365C5-B2E4-4797-A561-A8915F04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67433B-3A55-4156-A437-A4D57F1C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D7491-4DCB-454C-917E-46A3CAAA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449F2-9042-4CB2-B512-5C8A7453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D686A-8947-4CC8-9811-C06A2696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1FDD9-AD67-4A65-A7E7-7D8504A2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BF1F9-8C49-4931-8973-4D2E59E8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DB7-8520-4767-987B-AC9CC036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35F5E-C386-4431-98D2-5EE273D3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2B5C7-3D69-4678-98DE-3E0EC336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B6AA3-A315-4EB2-946F-7170F14B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98560-5671-4BB5-B9B5-55E93435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02764-172E-41A3-923E-C8C9F1C4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706DA-D849-4C5E-869F-422A4C80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B8C9E-75FB-415B-ACDD-0511F5D7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2748E-F5F4-47E0-862D-3E770DE4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BF546-C38D-4148-88CA-A17B166A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D3D73-11AE-4C07-ACEA-B9399A05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402E-7DDF-4829-A44E-94B3EE1AC98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F012-12C6-4BB5-B018-02B705D1EF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B40C-4803-4B08-AB64-FCF0AB444095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EACE-CD2A-46C6-842E-D4C1A97C0DB0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3FD5-A909-4AE7-B971-9A4F42BF09C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976A-9F70-4721-A322-D28A50A54C7D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DD8E-0563-4267-8CE6-BEC09808702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22B7-3384-468E-AF95-A9A585AA35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780A-B0D4-4DF0-B2A6-45CB6DEE59F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89D2-4198-42B5-8ABF-AD0A5D8E8C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DB67-3590-451A-98A4-C9CFC61500C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D353-F417-4435-9F0E-E6DF0984DCBB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938F-5BA7-420B-A009-E52162B4AC6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7E50-A13E-4E6A-A2B0-EEA596F006C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5830-21AC-4E1C-ACA3-564FFB139A7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D93E-E312-4540-89F7-1DD7DBE1A9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236D-9A7D-42B8-BDA6-3799CF51E78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B758-21DF-4A90-B5B8-4F3098D234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george.elmaraghy@epa.state.oh.us" TargetMode="External"/><Relationship Id="rId2" Type="http://schemas.openxmlformats.org/officeDocument/2006/relationships/hyperlink" Target="http://www.epa.ohio.gov/dsw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dc3"/>
                </a:solidFill>
                <a:latin typeface="Tw Cen MT"/>
              </a:rPr>
              <a:t>OHIO EPA UPDATE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ORSANCO, October 20, 2009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George Elmaraghy, P.E., Chief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acility Updates – Jefferson Co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3E35-650B-4842-A75E-ECC8AD9A88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PS South, North &amp; Yorkville – purchased by Severstal.  All 3 plants idle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acility Updates – Monroe Co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CFA4-14F7-47C0-BA84-F0BD9A95D8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ORMET – Draft DFFOs sent in September 2009 to address numerous CWA violations.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arameters being violated = Acute Toxicity &amp; Copp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acility Updates – Belmont Co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A18A-A4B9-4BCE-A975-0608891FF2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ri-State Asphalt – Closure of site has been approved, ground water monitoring and site maintenance until at least April 2013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PS Martins Ferry – purchased by Severstal.  The plant is currently idle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acility Updates – Gallia Co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92B4-CC61-459A-B6E5-5428F3A424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VEC Kyger Creek – construction continues on scrubber system WWTP, FGD landfill and FGD temporary storage are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crubber set to be online December 2009 – however date indefinite since discovery of design flaw in scrubber media syste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allipolis – ORSANCO sampling on Chickamauga Creek showed elevated bacteria levels.  Ohio EPA follow up investigation indicates source could be unsewered area or wet weather SSOs.  Additional investigation will be conduct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acility Updates – Lawren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CCE0-AA13-4D30-9590-0053438B5E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Village of South Point – WWTP returned to compliance with copper NPDES limit; still investigating possible sourc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nion-Rome – construction of 2.2 MGD MBR WWTP expected by January 2010 (replaces trickling filter plant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act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E8E9-F283-45EB-9802-8184DEDFE6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1599"/>
              </a:spcBef>
              <a:spcAft>
                <a:spcPts val="1599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Email: </a:t>
            </a:r>
            <a:r>
              <a:rPr b="0" lang="en-US" sz="32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george.elmaraghy@epa.state.oh.u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1599"/>
              </a:spcBef>
              <a:spcAft>
                <a:spcPts val="1599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hone: 614-644-2001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1599"/>
              </a:spcBef>
              <a:spcAft>
                <a:spcPts val="1599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ax: 614-644-2745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1599"/>
              </a:spcBef>
              <a:spcAft>
                <a:spcPts val="1599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SW Website: </a:t>
            </a:r>
            <a:r>
              <a:rPr b="0" lang="en-US" sz="32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epa.ohio.gov/dsw/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MCMP00482_0000[1]"/>
          <p:cNvPicPr/>
          <p:nvPr/>
        </p:nvPicPr>
        <p:blipFill>
          <a:blip r:embed="rId1"/>
          <a:stretch/>
        </p:blipFill>
        <p:spPr>
          <a:xfrm>
            <a:off x="5711760" y="2511360"/>
            <a:ext cx="3151080" cy="3481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Division of Surface Water Program Updat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8A41-6835-4B7A-9FB7-5CB3E8F55A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urrent New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Wet Weather Updat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Ohio River Basin Facilities Updat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QS “Small Set”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567E-EC7D-4620-80C0-AF689B1765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Peeled 2 rules out of larger Water Quality Standards/Antidegradation rule packages for separate rulemaking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Revised recreational use designations &amp; E. coli criteria in OAC 3745-1-07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Deadline for comments was September 10, 2009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Recreational Use Changes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OAC 3745-1-07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3E30-8EE6-472B-935D-A0A34F7590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ason extended from May 1st to Oct 31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ree classes of primary contact recre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ass A support frequent PCR activities (lakes with improved access points &amp; popular paddling streams publicized by ODNR)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ass B support occasional PCR activities (includes all surface waters unless otherwise designated)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ass C support infrequent PCR (drainage area &lt;3.1 sq mile &amp; historically channelized watercourse unless otherwise designated and waters designated Class C in OAC 3745-1-08 to 30)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Recreational Use Changes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OAC 3745-1-07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vised numerical criteria – removed fecal colifor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2378160"/>
          <a:ext cx="9144000" cy="3565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d8047"/>
                          </a:solidFill>
                          <a:latin typeface="Tahoma"/>
                        </a:rPr>
                        <a:t>Recreation 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d8047"/>
                          </a:solidFill>
                          <a:latin typeface="Tahoma"/>
                        </a:rPr>
                        <a:t>E. coli (colony counts/100 m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d8047"/>
                          </a:solidFill>
                          <a:latin typeface="Tahoma"/>
                        </a:rPr>
                        <a:t>Seasonal Geometric 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d8047"/>
                          </a:solidFill>
                          <a:latin typeface="Tahoma"/>
                        </a:rPr>
                        <a:t>Single Sample 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thing 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A PC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B PC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C PC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</a:tr>
            </a:tbl>
          </a:graphicData>
        </a:graphic>
      </p:graphicFrame>
      <p:sp>
        <p:nvSpPr>
          <p:cNvPr id="409" name="Slide Number Placeholder 6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F8B3-AF50-4854-8CC1-F2126CC3A12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ater Quality Standa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87C1-071C-467E-983E-BA9D8C6D87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pdating WQS to include ORSANCO standards for Ohio Riv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ill include ORSANCO’s most recent standards in update if they are finalized in tim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Ohio CSO Communities Approved LTCP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457200" y="2057400"/>
          <a:ext cx="8077320" cy="4267080"/>
        </p:xfrm>
        <a:graphic>
          <a:graphicData uri="http://schemas.openxmlformats.org/drawingml/2006/table">
            <a:tbl>
              <a:tblPr/>
              <a:tblGrid>
                <a:gridCol w="5638680"/>
                <a:gridCol w="243864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d8047"/>
                          </a:solidFill>
                          <a:latin typeface="Tahoma"/>
                        </a:rPr>
                        <a:t>Commun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d8047"/>
                          </a:solidFill>
                          <a:latin typeface="Tahoma"/>
                        </a:rPr>
                        <a:t>L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lfo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hio E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mero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hio E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ddle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hio E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ron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.S. E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ro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.S. E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go J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hio E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nti MSD (conditionally approv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.S. E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ee6"/>
                    </a:solidFill>
                  </a:tcPr>
                </a:tc>
              </a:tr>
            </a:tbl>
          </a:graphicData>
        </a:graphic>
      </p:graphicFrame>
      <p:sp>
        <p:nvSpPr>
          <p:cNvPr id="415" name="Slide Number Placeholder 6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E767-6810-4204-A611-8AD522D57AD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High Profile Projec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4319-EDD2-4861-9BEC-723C8CDF3F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ermits approved, Construction yet to begin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ew Steel International (MMK), Scioto Co. (new steel plant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MP Ohio, Meigs Co. (new coal fired power plant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Ohio River Clean Fuels/Baard Energy, Columbiana Co. (coal to liquid fuel plant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1:52:26Z</dcterms:created>
  <dc:creator>MHarris</dc:creator>
  <dc:description/>
  <dc:language>en-US</dc:language>
  <cp:lastModifiedBy>admin</cp:lastModifiedBy>
  <dcterms:modified xsi:type="dcterms:W3CDTF">2009-10-20T16:55:04Z</dcterms:modified>
  <cp:revision>34</cp:revision>
  <dc:subject/>
  <dc:title>Ohio EPA Update</dc:title>
</cp:coreProperties>
</file>