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D51E-3723-4AA0-8CF6-E81028A39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E1A6-2493-411F-868F-E8786AA0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4CE3-6AD3-4B20-911D-443FF3D55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5B52-248A-45AB-A33B-9494CF48B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A24E-A476-4240-A298-2C2ABFCE0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F305-49A4-4DC3-838E-9404C290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3BB4-476C-4005-A579-72E99D54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93C5-E531-494C-B4B4-E18C89EA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4328-BDEB-4333-9F15-AF554337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EBAD-2D06-4B56-B326-19C2943D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625A-B3FF-47A6-8AA8-3A565B97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F778-B751-47D4-BB53-D716178D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CDEA-C61A-4F48-820D-4EFE837C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BC07-8EB2-43DB-8583-4109C59E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579A-7ED1-451D-AAA2-70AF3ECC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31D6-1B06-4EBE-9B3E-62A74BE40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3F38-0DA0-46D6-8718-AAB3B63D4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DB4E-560F-4F1A-9E2D-8981D103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35AC-0900-40FF-9536-518C2E21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8FDE-3D1F-4E2B-ABBF-DDA19859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9677-86F3-4DEC-9CE9-74FCB0FB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3AB5-1A66-4BBE-817E-F2AC9C3C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C5EE-E3D8-4F36-B3A2-673739BF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F5E8-E143-4BE8-8137-A22451B2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7277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7277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634D-CD31-4803-8CE7-68B1FEFB31E8}" type="slidenum">
              <a:rPr b="0" lang="en-US" sz="1400" spc="-1" strike="noStrike">
                <a:solidFill>
                  <a:srgbClr val="27277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213012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7277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7277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F406-47ED-4259-8F43-7AC63FE92A98}" type="slidenum">
              <a:rPr b="0" lang="en-US" sz="1400" spc="-1" strike="noStrike">
                <a:solidFill>
                  <a:srgbClr val="27277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272776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272776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272776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hyperlink" Target="http://images.google.com/imgres?imgurl=http://www.life.uiuc.edu/ib/109/Insect%2520rearing/photos/mayfly%2520nymph.jpg&amp;imgrefurl=http://www.life.uiuc.edu/ib/109/Insect%2520rearing/Mayfly.html&amp;usg=__eGCwiQPoZySy-emOFLR0lfnfTT8=&amp;h=408&amp;w=593&amp;sz=286&amp;hl=en&amp;start=6&amp;tbnid=EeB1ipKrhPJzMM:&amp;tbnh=93&amp;tbnw=135&amp;prev=/images%3Fq%3Dmayfly%26gbv%3D2%26hl%3Den" TargetMode="External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ife.uiuc.edu/ib/109/Insect%2520rearing/photos/mayfly%2520nymph.jpg&amp;imgrefurl=http://www.life.uiuc.edu/ib/109/Insect%2520rearing/Mayfly.html&amp;usg=__eGCwiQPoZySy-emOFLR0lfnfTT8=&amp;h=408&amp;w=593&amp;sz=286&amp;hl=en&amp;start=6&amp;tbnid=EeB1ipKrhPJzMM:&amp;tbnh=93&amp;tbnw=135&amp;prev=/images%3Fq%3Dmayfly%26gbv%3D2%26hl%3Den" TargetMode="External"/><Relationship Id="rId2" Type="http://schemas.openxmlformats.org/officeDocument/2006/relationships/image" Target="../media/image10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hyperlink" Target="http://www.lrn.usace.army.mil/op/cen/rec/images/scenic_lake2.jpg" TargetMode="External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213012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Century Gothic"/>
              </a:rPr>
              <a:t>Selenium Aquatic Life Criteria and Implementation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4674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ORSANCO 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Technical Committee Meeting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October 21, 2009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Holly Green, USEPA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Office of Science and Technology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Standards and Health Protection Division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What implementation information </a:t>
            </a:r>
            <a:br>
              <a:rPr sz="3200"/>
            </a:b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will be available with the criteria?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Guidance on how to perform a site-specific translation of the egg-ovary criterion to a water concentration, 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WQBEL calculations and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Recommended analytical methods.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How to provide answers to implementation questions related to monitoring, assessment and listing is still to be determined.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Publication schedule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Criteria document is undergoing internal EPA review.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Draft publication expected February 2010.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Public will have the opportunity to 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provide input during a 60-day period.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Final criterion is expected end of 2010.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638680" y="3429000"/>
            <a:ext cx="2691000" cy="2862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2776"/>
                </a:solidFill>
                <a:latin typeface="Century Gothic"/>
              </a:rPr>
              <a:t>	</a:t>
            </a:r>
            <a:r>
              <a:rPr b="0" lang="en-US" sz="4000" spc="-1" strike="noStrike">
                <a:solidFill>
                  <a:srgbClr val="272776"/>
                </a:solidFill>
                <a:latin typeface="Century Gothic"/>
              </a:rPr>
              <a:t>	</a:t>
            </a:r>
            <a:r>
              <a:rPr b="0" lang="en-US" sz="4000" spc="-1" strike="noStrike">
                <a:solidFill>
                  <a:srgbClr val="272776"/>
                </a:solidFill>
                <a:latin typeface="Century Gothic"/>
              </a:rPr>
              <a:t>QUESTIONS?</a:t>
            </a:r>
            <a:endParaRPr b="0" lang="en-US" sz="4000" spc="-1" strike="noStrike">
              <a:solidFill>
                <a:srgbClr val="272776"/>
              </a:solidFill>
              <a:latin typeface="Century Gothic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581280" y="2743200"/>
            <a:ext cx="2073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2776"/>
                </a:solidFill>
                <a:latin typeface="Century Gothic"/>
              </a:rPr>
              <a:t>Today’s Discussion</a:t>
            </a:r>
            <a:endParaRPr b="0" lang="en-US" sz="40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Why fish tissue criteria?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What is EPA’s proposed approach to selenium chronic aquatic life criteria?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What will this mean for states and tribes?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Discussion and questions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2776"/>
                </a:solidFill>
                <a:latin typeface="Century Gothic"/>
              </a:rPr>
              <a:t>Criteria Expressed as</a:t>
            </a:r>
            <a:br>
              <a:rPr sz="4000"/>
            </a:br>
            <a:r>
              <a:rPr b="0" lang="en-US" sz="4000" spc="-1" strike="noStrike">
                <a:solidFill>
                  <a:srgbClr val="272776"/>
                </a:solidFill>
                <a:latin typeface="Century Gothic"/>
              </a:rPr>
              <a:t>Tissue Concentrations</a:t>
            </a:r>
            <a:endParaRPr b="0" lang="en-US" sz="40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Are they the wave of the future?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Not necessarily, but they have a niche.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Most scientifically valid approach for exposure to certain pollutants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Useful where it is important to account for site-specific factors in determining exposure (e.g., BAFs).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Not useful for important non-bioaccumulatives such as ammonia, copper, zinc, chlorine, chloride (TDS), and most others.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4724280" y="2743200"/>
          <a:ext cx="1143000" cy="89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743200"/>
                    <a:ext cx="114300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6934320" y="3657600"/>
          <a:ext cx="18000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3657600"/>
                    <a:ext cx="18000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6705720" y="60199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Fish</a:t>
            </a: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5" name=""/>
          <p:cNvSpPr/>
          <p:nvPr/>
        </p:nvSpPr>
        <p:spPr>
          <a:xfrm>
            <a:off x="1905120" y="4267080"/>
            <a:ext cx="609480" cy="0"/>
          </a:xfrm>
          <a:prstGeom prst="line">
            <a:avLst/>
          </a:prstGeom>
          <a:ln w="12600">
            <a:solidFill>
              <a:srgbClr val="2727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590920" y="4876920"/>
            <a:ext cx="1143000" cy="860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2590920" y="388620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2590920" y="2819520"/>
            <a:ext cx="1143000" cy="780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380880" y="3733920"/>
            <a:ext cx="1535400" cy="11397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733920" y="4267080"/>
            <a:ext cx="914400" cy="0"/>
          </a:xfrm>
          <a:prstGeom prst="line">
            <a:avLst/>
          </a:prstGeom>
          <a:ln w="76320">
            <a:solidFill>
              <a:srgbClr val="2727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1" name=""/>
          <p:cNvSpPr/>
          <p:nvPr/>
        </p:nvSpPr>
        <p:spPr>
          <a:xfrm>
            <a:off x="2306520" y="5979960"/>
            <a:ext cx="16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Primary</a:t>
            </a:r>
            <a:r>
              <a:rPr b="0" lang="en-US" sz="1800" spc="-1" strike="noStrike">
                <a:solidFill>
                  <a:srgbClr val="f3f1e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producers</a:t>
            </a: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2" name=""/>
          <p:cNvSpPr/>
          <p:nvPr/>
        </p:nvSpPr>
        <p:spPr>
          <a:xfrm>
            <a:off x="4187880" y="597996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Invertebrates</a:t>
            </a: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3" name=""/>
          <p:cNvSpPr/>
          <p:nvPr/>
        </p:nvSpPr>
        <p:spPr>
          <a:xfrm>
            <a:off x="231840" y="5979960"/>
            <a:ext cx="13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4" name=""/>
          <p:cNvSpPr/>
          <p:nvPr/>
        </p:nvSpPr>
        <p:spPr>
          <a:xfrm>
            <a:off x="5943600" y="4038480"/>
            <a:ext cx="922320" cy="498600"/>
          </a:xfrm>
          <a:prstGeom prst="rightArrow">
            <a:avLst>
              <a:gd name="adj1" fmla="val 50000"/>
              <a:gd name="adj2" fmla="val 46245"/>
            </a:avLst>
          </a:prstGeom>
          <a:solidFill>
            <a:srgbClr val="f3f1e4"/>
          </a:solidFill>
          <a:ln w="93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9"/>
          <a:stretch/>
        </p:blipFill>
        <p:spPr>
          <a:xfrm>
            <a:off x="4724280" y="3886200"/>
            <a:ext cx="1219320" cy="790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533520"/>
            <a:ext cx="714204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  <a:p>
            <a:pPr marL="209160" indent="-209160">
              <a:spcBef>
                <a:spcPts val="4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Toxicity to fish is better represented by a tissue value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marL="209160" indent="-209160">
              <a:spcBef>
                <a:spcPts val="4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Bioaccumulation in fish is primarily from food consumption; accumulation from water is negligible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marL="209160" indent="-209160">
              <a:spcBef>
                <a:spcPts val="4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Propensity to accumulate selenium varies widely, depending on food web and other factors.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marL="209160" indent="-209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7" name=""/>
          <p:cNvSpPr/>
          <p:nvPr/>
        </p:nvSpPr>
        <p:spPr>
          <a:xfrm>
            <a:off x="1054080" y="304920"/>
            <a:ext cx="684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Why a fish tissue criterion for Selenium?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</p:txBody>
      </p:sp>
      <p:pic>
        <p:nvPicPr>
          <p:cNvPr id="108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724280" y="4876920"/>
            <a:ext cx="12099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ish propensity to accumulate selenium depends primarily on: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Fish diet and Invertebrate physiology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</p:txBody>
      </p:sp>
      <p:pic>
        <p:nvPicPr>
          <p:cNvPr id="1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2362320"/>
            <a:ext cx="1523880" cy="111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3886200" y="2209680"/>
          <a:ext cx="1539720" cy="139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2209680"/>
                    <a:ext cx="153972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6934320" y="2362320"/>
            <a:ext cx="1676160" cy="1087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438280" y="2590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72776"/>
                </a:solidFill>
                <a:latin typeface="Century Gothic"/>
              </a:rPr>
              <a:t>&lt;</a:t>
            </a:r>
            <a:endParaRPr b="0" lang="en-US" sz="36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2590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72776"/>
                </a:solidFill>
                <a:latin typeface="Century Gothic"/>
              </a:rPr>
              <a:t>&lt;</a:t>
            </a:r>
            <a:endParaRPr b="0" lang="en-US" sz="36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4343400"/>
            <a:ext cx="451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Selenium bioavailability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762120" y="4952880"/>
            <a:ext cx="1535040" cy="1140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90360" y="3505320"/>
            <a:ext cx="9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insects</a:t>
            </a: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20" name=""/>
          <p:cNvSpPr/>
          <p:nvPr/>
        </p:nvSpPr>
        <p:spPr>
          <a:xfrm>
            <a:off x="4001040" y="358128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crustaceans</a:t>
            </a: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21" name=""/>
          <p:cNvSpPr/>
          <p:nvPr/>
        </p:nvSpPr>
        <p:spPr>
          <a:xfrm>
            <a:off x="7259400" y="3505320"/>
            <a:ext cx="10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bivalves</a:t>
            </a: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</p:txBody>
      </p:sp>
      <p:pic>
        <p:nvPicPr>
          <p:cNvPr id="12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809880" y="4876920"/>
            <a:ext cx="2076480" cy="1369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91920" y="6172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Flowing waters</a:t>
            </a: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24" name=""/>
          <p:cNvSpPr/>
          <p:nvPr/>
        </p:nvSpPr>
        <p:spPr>
          <a:xfrm>
            <a:off x="4170240" y="624852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Still waters</a:t>
            </a: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5181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72776"/>
                </a:solidFill>
                <a:latin typeface="Century Gothic"/>
              </a:rPr>
              <a:t>&lt;</a:t>
            </a:r>
            <a:endParaRPr b="0" lang="en-US" sz="36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48769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72776"/>
                </a:solidFill>
                <a:latin typeface="Century Gothic"/>
              </a:rPr>
              <a:t>Selenite &gt; Selenate</a:t>
            </a:r>
            <a:endParaRPr b="0" lang="en-US" sz="16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27" name=""/>
          <p:cNvSpPr/>
          <p:nvPr/>
        </p:nvSpPr>
        <p:spPr>
          <a:xfrm>
            <a:off x="6432480" y="5562720"/>
            <a:ext cx="24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72776"/>
                </a:solidFill>
                <a:latin typeface="Century Gothic"/>
              </a:rPr>
              <a:t>Particulate &gt; Dissolved</a:t>
            </a:r>
            <a:endParaRPr b="0" lang="en-US" sz="16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5029200"/>
            <a:ext cx="685800" cy="0"/>
          </a:xfrm>
          <a:prstGeom prst="line">
            <a:avLst/>
          </a:prstGeom>
          <a:ln w="38160">
            <a:solidFill>
              <a:srgbClr val="2727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29" name=""/>
          <p:cNvSpPr/>
          <p:nvPr/>
        </p:nvSpPr>
        <p:spPr>
          <a:xfrm>
            <a:off x="5943600" y="5715000"/>
            <a:ext cx="533520" cy="0"/>
          </a:xfrm>
          <a:prstGeom prst="line">
            <a:avLst/>
          </a:prstGeom>
          <a:ln w="38160">
            <a:solidFill>
              <a:srgbClr val="2727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What is EPA’s proposed approach to chronic aquatic life criteria for selenium?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Egg-ovary concentration 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Two water concentrations, derived from the egg-ovary value.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Flowing waters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Still waters)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Toxicological effects of selenium occur when selenium is transferred to fish eggs. 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Most consistent toxic endpoint across the widest range of fish species.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The water concentration values included for ease of implementation. 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What will this mean for states and tribes?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Adopting both the water and egg-ovary values into WQS gives greatest flexibility in implementation.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Can use water concentration values for water quality-based effluent limits.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Can translate the egg-ovary concentration to a site-specific water concentration where desired.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Where egg-ovary concentration is available, this should be the applicable criterion, regardless of water concentration.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09480" y="2666880"/>
            <a:ext cx="1920960" cy="1268640"/>
          </a:xfrm>
          <a:prstGeom prst="flowChartProcess">
            <a:avLst/>
          </a:prstGeom>
          <a:solidFill>
            <a:srgbClr val="272776"/>
          </a:solidFill>
          <a:ln w="12600">
            <a:solidFill>
              <a:srgbClr val="f3f1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f1e4"/>
                </a:solidFill>
                <a:latin typeface="Arial"/>
              </a:rPr>
              <a:t>Fish tissue</a:t>
            </a: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f1e4"/>
                </a:solidFill>
                <a:latin typeface="Arial"/>
              </a:rPr>
              <a:t>criterion</a:t>
            </a: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2666880"/>
            <a:ext cx="1920960" cy="1268640"/>
          </a:xfrm>
          <a:prstGeom prst="flowChartProcess">
            <a:avLst/>
          </a:prstGeom>
          <a:solidFill>
            <a:srgbClr val="272776"/>
          </a:solidFill>
          <a:ln w="12600">
            <a:solidFill>
              <a:srgbClr val="f3f1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f1e4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37" name=""/>
          <p:cNvSpPr/>
          <p:nvPr/>
        </p:nvSpPr>
        <p:spPr>
          <a:xfrm>
            <a:off x="6400800" y="2666880"/>
            <a:ext cx="1920960" cy="1268640"/>
          </a:xfrm>
          <a:prstGeom prst="flowChartProcess">
            <a:avLst/>
          </a:prstGeom>
          <a:solidFill>
            <a:srgbClr val="272776"/>
          </a:solidFill>
          <a:ln w="12600">
            <a:solidFill>
              <a:srgbClr val="f3f1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f1e4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f1e4"/>
                </a:solidFill>
                <a:latin typeface="Arial"/>
              </a:rPr>
              <a:t>concentration</a:t>
            </a: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</p:txBody>
      </p:sp>
      <p:cxnSp>
        <p:nvCxnSpPr>
          <p:cNvPr id="138" name=""/>
          <p:cNvCxnSpPr>
            <a:stCxn id="135" idx="3"/>
            <a:endCxn id="136" idx="1"/>
          </p:cNvCxnSpPr>
          <p:nvPr/>
        </p:nvCxnSpPr>
        <p:spPr>
          <a:xfrm>
            <a:off x="2530440" y="3301560"/>
            <a:ext cx="899280" cy="1080"/>
          </a:xfrm>
          <a:prstGeom prst="straightConnector1">
            <a:avLst/>
          </a:prstGeom>
          <a:ln w="57240">
            <a:solidFill>
              <a:srgbClr val="272776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6" idx="3"/>
            <a:endCxn id="137" idx="1"/>
          </p:cNvCxnSpPr>
          <p:nvPr/>
        </p:nvCxnSpPr>
        <p:spPr>
          <a:xfrm>
            <a:off x="5349600" y="3301560"/>
            <a:ext cx="1051560" cy="1080"/>
          </a:xfrm>
          <a:prstGeom prst="straightConnector1">
            <a:avLst/>
          </a:prstGeom>
          <a:ln w="57240">
            <a:solidFill>
              <a:srgbClr val="272776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520" y="533520"/>
            <a:ext cx="778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Translating the selenium fish tissue criterion to a water concentration: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41" name=""/>
          <p:cNvSpPr/>
          <p:nvPr/>
        </p:nvSpPr>
        <p:spPr>
          <a:xfrm>
            <a:off x="646920" y="1828800"/>
            <a:ext cx="748512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Relate the concentration of selenium in the eggs and ovaries of fish </a:t>
            </a: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to the ambient concentration in water</a:t>
            </a: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4267080"/>
            <a:ext cx="788832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using the Dynamic Multi-pathway Bioaccumulation Model (DYMBAM), which incorporates organisms’ physiological characteristics and environmental conditions:</a:t>
            </a: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	</a:t>
            </a: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-Food ingestion rate</a:t>
            </a: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-Se assimilation efficiency</a:t>
            </a: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-Se loss rate</a:t>
            </a: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-Se concentration in food and water </a:t>
            </a: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79680" y="304920"/>
            <a:ext cx="768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Translating the selenium fish tissue criterion 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to a water concentration: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44" name=""/>
          <p:cNvSpPr/>
          <p:nvPr/>
        </p:nvSpPr>
        <p:spPr>
          <a:xfrm>
            <a:off x="791640" y="1447920"/>
            <a:ext cx="69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The DYMBAM adapted to translate an egg-ovary concentration </a:t>
            </a: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to a water concentration:</a:t>
            </a: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990720" y="2133720"/>
                <a:ext cx="6324480" cy="12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ate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gg</m:t>
                            </m:r>
                            <m:r>
                              <m:t xml:space="preserve">−</m:t>
                            </m:r>
                            <m:r>
                              <m:t xml:space="preserve">o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ar</m:t>
                            </m:r>
                            <m:r>
                              <m:t xml:space="preserve">y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L</m:t>
                            </m:r>
                            <m:r>
                              <m:t xml:space="preserve">3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TF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L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TF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L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C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457200" y="3505320"/>
            <a:ext cx="8534520" cy="30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72776"/>
                </a:solidFill>
                <a:uFillTx/>
                <a:latin typeface="Century Gothic"/>
              </a:rPr>
              <a:t>Where:</a:t>
            </a:r>
            <a:r>
              <a:rPr b="1" lang="en-US" sz="1600" spc="-1" strike="noStrike" u="sng">
                <a:solidFill>
                  <a:srgbClr val="272776"/>
                </a:solidFill>
                <a:uFillTx/>
                <a:latin typeface="Century Gothic"/>
              </a:rPr>
              <a:t> </a:t>
            </a:r>
            <a:endParaRPr b="0" lang="en-US" sz="16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baseline="-25000">
                <a:solidFill>
                  <a:srgbClr val="272776"/>
                </a:solidFill>
                <a:latin typeface="Times New Roman"/>
              </a:rPr>
              <a:t>C</a:t>
            </a:r>
            <a:r>
              <a:rPr b="1" i="1" lang="en-US" sz="2400" spc="-1" strike="noStrike" baseline="-25000">
                <a:solidFill>
                  <a:srgbClr val="272776"/>
                </a:solidFill>
                <a:latin typeface="Times New Roman"/>
              </a:rPr>
              <a:t>water</a:t>
            </a:r>
            <a:r>
              <a:rPr b="0" lang="en-US" sz="1600" spc="-1" strike="noStrike">
                <a:solidFill>
                  <a:srgbClr val="272776"/>
                </a:solidFill>
                <a:latin typeface="Century Gothic"/>
              </a:rPr>
              <a:t>= </a:t>
            </a:r>
            <a:r>
              <a:rPr b="0" lang="en-US" sz="1600" spc="-1" strike="noStrike">
                <a:solidFill>
                  <a:srgbClr val="272776"/>
                </a:solidFill>
                <a:latin typeface="Century Gothic"/>
              </a:rPr>
              <a:t>	</a:t>
            </a:r>
            <a:r>
              <a:rPr b="0" lang="en-US" sz="1600" spc="-1" strike="noStrike">
                <a:solidFill>
                  <a:srgbClr val="272776"/>
                </a:solidFill>
                <a:latin typeface="Century Gothic"/>
              </a:rPr>
              <a:t>Concentration of selenium in water (ug/L)</a:t>
            </a:r>
            <a:endParaRPr b="0" lang="en-US" sz="16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72776"/>
                </a:solidFill>
                <a:latin typeface="Times New Roman"/>
              </a:rPr>
              <a:t>C</a:t>
            </a:r>
            <a:r>
              <a:rPr b="1" i="1" lang="en-US" sz="2400" spc="-1" strike="noStrike" baseline="-25000">
                <a:solidFill>
                  <a:srgbClr val="272776"/>
                </a:solidFill>
                <a:latin typeface="Times New Roman"/>
              </a:rPr>
              <a:t>egg-ovary</a:t>
            </a:r>
            <a:r>
              <a:rPr b="0" i="1" lang="en-US" sz="1600" spc="-1" strike="noStrike">
                <a:solidFill>
                  <a:srgbClr val="272776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272776"/>
                </a:solidFill>
                <a:latin typeface="Century Gothic"/>
              </a:rPr>
              <a:t>= Concentration of selenium in eggs/ovaries of fish (ug/g)</a:t>
            </a:r>
            <a:endParaRPr b="0" lang="en-US" sz="16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72776"/>
                </a:solidFill>
                <a:latin typeface="Times New Roman"/>
              </a:rPr>
              <a:t>TTF</a:t>
            </a:r>
            <a:r>
              <a:rPr b="0" lang="en-US" sz="1600" spc="-1" strike="noStrike">
                <a:solidFill>
                  <a:srgbClr val="272776"/>
                </a:solidFill>
                <a:latin typeface="Century Gothic"/>
              </a:rPr>
              <a:t> =   Trophic transfer factor: </a:t>
            </a:r>
            <a:r>
              <a:rPr b="0" lang="en-US" sz="1600" spc="-1" strike="noStrike" u="sng">
                <a:solidFill>
                  <a:srgbClr val="272776"/>
                </a:solidFill>
                <a:uFillTx/>
                <a:latin typeface="Century Gothic"/>
              </a:rPr>
              <a:t>assimil. efficiency(%) X ingestion rate(g/g-d)</a:t>
            </a:r>
            <a:endParaRPr b="0" lang="en-US" sz="16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72776"/>
                </a:solidFill>
                <a:latin typeface="Century Gothic"/>
              </a:rPr>
              <a:t>	</a:t>
            </a:r>
            <a:r>
              <a:rPr b="0" lang="en-US" sz="1600" spc="-1" strike="noStrike">
                <a:solidFill>
                  <a:srgbClr val="272776"/>
                </a:solidFill>
                <a:latin typeface="Century Gothic"/>
              </a:rPr>
              <a:t>	</a:t>
            </a:r>
            <a:r>
              <a:rPr b="0" lang="en-US" sz="1600" spc="-1" strike="noStrike">
                <a:solidFill>
                  <a:srgbClr val="272776"/>
                </a:solidFill>
                <a:latin typeface="Century Gothic"/>
              </a:rPr>
              <a:t>	</a:t>
            </a:r>
            <a:r>
              <a:rPr b="0" lang="en-US" sz="1600" spc="-1" strike="noStrike">
                <a:solidFill>
                  <a:srgbClr val="272776"/>
                </a:solidFill>
                <a:latin typeface="Century Gothic"/>
              </a:rPr>
              <a:t>	</a:t>
            </a:r>
            <a:r>
              <a:rPr b="0" lang="en-US" sz="1600" spc="-1" strike="noStrike">
                <a:solidFill>
                  <a:srgbClr val="272776"/>
                </a:solidFill>
                <a:latin typeface="Century Gothic"/>
              </a:rPr>
              <a:t>        </a:t>
            </a:r>
            <a:r>
              <a:rPr b="0" lang="en-US" sz="1600" spc="-1" strike="noStrike">
                <a:solidFill>
                  <a:srgbClr val="272776"/>
                </a:solidFill>
                <a:latin typeface="Century Gothic"/>
              </a:rPr>
              <a:t>selenium loss rate (/d)</a:t>
            </a:r>
            <a:endParaRPr b="0" lang="en-US" sz="16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72776"/>
                </a:solidFill>
                <a:latin typeface="Times New Roman"/>
              </a:rPr>
              <a:t>EF=</a:t>
            </a:r>
            <a:r>
              <a:rPr b="0" lang="en-US" sz="1600" spc="-1" strike="noStrike">
                <a:solidFill>
                  <a:srgbClr val="272776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272776"/>
                </a:solidFill>
                <a:latin typeface="Century Gothic"/>
              </a:rPr>
              <a:t>	</a:t>
            </a:r>
            <a:r>
              <a:rPr b="0" lang="en-US" sz="1600" spc="-1" strike="noStrike">
                <a:solidFill>
                  <a:srgbClr val="272776"/>
                </a:solidFill>
                <a:latin typeface="Century Gothic"/>
              </a:rPr>
              <a:t>Enrichment function(L/g):  ratio of particulate to dissolved selenium in water</a:t>
            </a:r>
            <a:endParaRPr b="0" lang="en-US" sz="16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72776"/>
                </a:solidFill>
                <a:latin typeface="Times New Roman"/>
              </a:rPr>
              <a:t>CF=</a:t>
            </a:r>
            <a:r>
              <a:rPr b="0" lang="en-US" sz="1600" spc="-1" strike="noStrike">
                <a:solidFill>
                  <a:srgbClr val="272776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272776"/>
                </a:solidFill>
                <a:latin typeface="Century Gothic"/>
              </a:rPr>
              <a:t>	</a:t>
            </a:r>
            <a:r>
              <a:rPr b="0" lang="en-US" sz="1600" spc="-1" strike="noStrike">
                <a:solidFill>
                  <a:srgbClr val="272776"/>
                </a:solidFill>
                <a:latin typeface="Century Gothic"/>
              </a:rPr>
              <a:t>Egg-ovary to whole body fish tissue conversion factor</a:t>
            </a:r>
            <a:endParaRPr b="0" lang="en-US" sz="16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0" y="0"/>
                <a:ext cx="3715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ate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17:21:55Z</dcterms:created>
  <dc:creator> </dc:creator>
  <dc:description/>
  <cp:keywords/>
  <dc:language>en-US</dc:language>
  <cp:lastModifiedBy>Matthew Green</cp:lastModifiedBy>
  <dcterms:modified xsi:type="dcterms:W3CDTF">2009-10-21T00:56:12Z</dcterms:modified>
  <cp:revision>12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21033</vt:lpwstr>
  </property>
</Properties>
</file>