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AF6-3D86-488A-824A-31F80BF2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7B6-60D2-4C44-9720-38CD323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C37-E0B9-4CD7-85FA-E0C9D0B9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B69-D37F-49F9-B8C5-E569A8D1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428A-DA19-4FBD-98CC-4A099070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EB37-B1AF-49D9-9B90-6A2DE558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2DC9-B826-495B-8C9A-7F4F5D6E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8B70-7CAA-4DFE-B1A8-BD8A87C2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2AB-0CBE-4CCA-8DCA-69689C04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8C8-66FA-43E9-8B19-5ACB5D9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A77-CCF1-4936-915E-C47A359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751-0850-46B3-8965-44DB02F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801E-ED2E-4441-AF21-8166BFE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492-946A-4E56-91B9-3F9F8A1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03D-747B-415F-B96C-399A6640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8A20-6509-438C-B4B4-6B5C3AB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C3A3-BBA0-4007-BE29-CC0C735F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5A0D-90FE-41B3-BC0A-0E18B755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5CD1-E202-4F09-A735-02A9930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05FC-E2C0-4DE3-9CFE-2F8248E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09A7-224F-488C-BD94-9D444C22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2B8A-FE14-44E7-90E8-56CB0732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B4D-8039-47F2-BA8B-16CFF1CB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5308-6298-495E-B98D-FD6713D7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2546-2055-4EF5-B506-40E050B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5F9C-6A3E-4EBA-B83B-3FD6AA64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CDF8-03F5-44D8-84FA-6AB3B60E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84B5-EE08-493B-B662-6B806930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B9BC-539A-4D8C-955C-97AEFBFC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DC61-23FB-444F-9495-6D57F251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E26E-B4EF-4111-BDA5-0D975568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1C02-0764-4D0F-8002-A95CA613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AF3E-8D3D-4969-93B9-68FE8C96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2AF-5D51-4874-B3A3-AC3FF7C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2DA0-61CD-447D-A529-024A0911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D11D-46C6-47AA-94EC-41A483A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5F11-21EB-4ACD-B9EF-B4516D69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6BC6-42C5-4E97-896C-4239A00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E3CC-F449-48D1-9C86-346EE4D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6875-5502-4C15-820B-5699C8C9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0479-934A-415A-A345-E1D4D96F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C258-4A2D-4773-8E9B-A187D41A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2A4C-F4B6-4796-8A4E-D96DAA3E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4D585-6EF8-4FB6-A323-A10107C5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765-E701-482A-8CD3-70C1AE26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E827-FC3B-477A-9EAB-4E0A95B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668B-2448-4A82-8002-AD0549F2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0798-1ACB-480B-A74D-98016BB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A2C2-2C1C-4A86-8A56-807FB18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B8D4F-B91B-4A9B-B3F6-B5E9A458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C671-9BF0-47E8-BAA8-62A6B20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C47B-2A33-4157-BB00-29BB3A2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4AB1-C600-4E49-9F54-9651249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4D80-AC79-4BA1-BC7A-15CB05CB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2581-A31A-4823-9DDF-15ED46DD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D51-368C-40F8-A499-693E4A44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9459-BC44-465F-AB67-90490F55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46B7-B9DA-4820-B383-34A434CB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653C-030E-41AE-93C9-FE51D493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C646D-ABF0-4152-8070-A1CFDC1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83965-8B35-464E-B4DE-816BD8A4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BAD6-78C7-4C52-B1D5-D17882F0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F3C3-3D18-4935-912C-B599938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EC77C-BDFE-4B43-96C0-5C0525A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179B1-ECED-45FF-B885-EB78184C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9B5D-5205-415D-AF46-FDB1CA9B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3ED-C7B7-4525-B5C1-29EF9AA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504D4-DA9B-4F4E-ACB6-2333E796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20C8-237D-4CE5-8FA2-355F006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4A89-F2EF-433B-9349-4824A813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F9AF-860A-47C7-9A55-4CE2B981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8012-7217-41C7-9D03-9F4318D2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BA76-6580-42F7-BA82-43B8CA48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AA2C9-41F4-460D-B774-0C6A006B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B4FE-818F-4AFA-A40B-7928CD7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E9B1-407A-4AB6-BD71-981F81B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E816-6158-4873-82BF-27F7DC0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512-3EE3-4D34-A207-B4D75CC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5292-3F9E-4565-9367-B0C5E1A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8CBE-670E-429A-8576-4AA3215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E74E-0AE4-4956-8721-3B22C74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C0A54-DB15-42BB-BAC9-6CA92B3B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4C7D-1D83-4903-95F6-184820B6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71DC-5EE1-47C8-95D2-6D985F79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97106-9278-4222-99A4-0941B3ED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613BB-5B18-4378-8864-B5C5AD3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78C6-CCCE-426C-B197-BD557858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9700-50E9-4650-832E-FF35569C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D7D-9808-427B-BB05-F4220AB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9B230-BBE9-4F3A-BBEE-64DAAE1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FF0D-E8B4-4660-9A8A-F0924A48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BC22-9B5D-49F0-8886-1680BC7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BE70-8E6F-4447-8C35-7DB07585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6E6AE-D20A-4B52-BC7B-A65DDB42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CC003-099B-49C2-885B-3932BE2B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4DD4-3A42-45B6-852C-A2134580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B54-9BFD-48B2-8F94-F183CDC52F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A3B-D7D3-44A7-8E7C-9D1A9656167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FABF-1629-4A7F-B488-00BF5EE66AE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2AF4-C47D-4945-8108-649DC64609D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B50-5234-4ACF-B089-702AA07E72A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F8F4-230A-4153-A486-C98D10DA2AC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5A50-EA19-4AD9-B42A-1F21C7D039B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F32B-9271-4871-AAE3-7B10C4550A4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Microcystis2"/>
          <p:cNvPicPr/>
          <p:nvPr/>
        </p:nvPicPr>
        <p:blipFill>
          <a:blip r:embed="rId1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Bookman Old Style"/>
              </a:rPr>
              <a:t>Progress on Nutrient Criteria Development for the Ohio River</a:t>
            </a:r>
            <a:endParaRPr b="0" lang="en-US" sz="4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53"/>
                </a:solidFill>
                <a:latin typeface="Bookman Old Style"/>
              </a:rPr>
              <a:t>Agenda Item 8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ctivity in 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ured analytical support through N-STEPS (Tetra Te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re’s a new contract and we’re back in the line up!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ultiple lines of evidence approach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xpect to have draft numbers to Tech in 2010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ended the SAB Public Meeting September 9-11, 2009 Review of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mpirical Approaches for Nutrient Criteria Develop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gion 5 Technical Assistance Group Meeting October 7-9, 20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cience Advisory Boar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 EPA description of problems/goals with nutrients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14,000 nutrient related impairments (expect that to increase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7 states have criteria for 1 waterbody typ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18 states have criteria for 1 parameter for selected waterbod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report is not a stand alone documen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IG Evaluation Report – Accelerate adoption of criteri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Com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ll &amp; Associates (John and Bill Hall, Dominic DiToro, Thomas Gallagher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OTW communities in P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merican Farm Burea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ew Jersey utilit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9"/>
          <p:cNvGrpSpPr/>
          <p:nvPr/>
        </p:nvGrpSpPr>
        <p:grpSpPr>
          <a:xfrm>
            <a:off x="6324480" y="380880"/>
            <a:ext cx="2438640" cy="5639040"/>
            <a:chOff x="6324480" y="380880"/>
            <a:chExt cx="2438640" cy="5639040"/>
          </a:xfrm>
        </p:grpSpPr>
        <p:sp>
          <p:nvSpPr>
            <p:cNvPr id="360" name="Rounded Rectangle 8"/>
            <p:cNvSpPr/>
            <p:nvPr/>
          </p:nvSpPr>
          <p:spPr>
            <a:xfrm>
              <a:off x="6324480" y="5105520"/>
              <a:ext cx="2438640" cy="9144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ounded Rectangle 7"/>
            <p:cNvSpPr/>
            <p:nvPr/>
          </p:nvSpPr>
          <p:spPr>
            <a:xfrm>
              <a:off x="6324480" y="3733920"/>
              <a:ext cx="2438640" cy="83808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ounded Rectangle 6"/>
            <p:cNvSpPr/>
            <p:nvPr/>
          </p:nvSpPr>
          <p:spPr>
            <a:xfrm>
              <a:off x="6324480" y="2819520"/>
              <a:ext cx="2134080" cy="4572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ounded Rectangle 5"/>
            <p:cNvSpPr/>
            <p:nvPr/>
          </p:nvSpPr>
          <p:spPr>
            <a:xfrm>
              <a:off x="6324480" y="1447560"/>
              <a:ext cx="2210040" cy="9144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ounded Rectangle 4"/>
            <p:cNvSpPr/>
            <p:nvPr/>
          </p:nvSpPr>
          <p:spPr>
            <a:xfrm>
              <a:off x="6324480" y="380880"/>
              <a:ext cx="1981440" cy="60948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324120" y="304920"/>
            <a:ext cx="25146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Step 1 – Selecting and Evaluating Dat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Step 2 – Assessing the strength of cause-effect relationship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Step 3 – Analyzing Dat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Step 4 – Evaluating estimated stressor-response relationship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Step 5 – Evaluating candidate stressor-response criter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Science Advisory Board (Cont)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560" y="121896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y Points/Concer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here needs to be a “kick-out” of the proces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onditional Probability should not be used alon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here are a lot of confounding factors that make relating nutrients to macroinverts questionabl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Difference between how the report says conditional probability is used and how it has been used in practic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A change point will be found but it needs to be both statistically and biologically significant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Needs to be a “Step 6 – How to turn this into numeric criteria” 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8" name="Down Arrow 10"/>
          <p:cNvSpPr/>
          <p:nvPr/>
        </p:nvSpPr>
        <p:spPr>
          <a:xfrm>
            <a:off x="7086600" y="10666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Down Arrow 11"/>
          <p:cNvSpPr/>
          <p:nvPr/>
        </p:nvSpPr>
        <p:spPr>
          <a:xfrm>
            <a:off x="7086600" y="24382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Down Arrow 12"/>
          <p:cNvSpPr/>
          <p:nvPr/>
        </p:nvSpPr>
        <p:spPr>
          <a:xfrm>
            <a:off x="7086600" y="33526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Down Arrow 13"/>
          <p:cNvSpPr/>
          <p:nvPr/>
        </p:nvSpPr>
        <p:spPr>
          <a:xfrm>
            <a:off x="7086600" y="47242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"/>
          <p:cNvSpPr/>
          <p:nvPr/>
        </p:nvSpPr>
        <p:spPr>
          <a:xfrm>
            <a:off x="4020480" y="91440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tri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3560400" y="39625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croinvertebr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4007520" y="49528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air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Down Arrow 11"/>
          <p:cNvSpPr/>
          <p:nvPr/>
        </p:nvSpPr>
        <p:spPr>
          <a:xfrm>
            <a:off x="4648320" y="1523880"/>
            <a:ext cx="75960" cy="2438640"/>
          </a:xfrm>
          <a:prstGeom prst="downArrow">
            <a:avLst>
              <a:gd name="adj1" fmla="val 50000"/>
              <a:gd name="adj2" fmla="val 5023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Down Arrow 12"/>
          <p:cNvSpPr/>
          <p:nvPr/>
        </p:nvSpPr>
        <p:spPr>
          <a:xfrm>
            <a:off x="4648320" y="4419720"/>
            <a:ext cx="75960" cy="457200"/>
          </a:xfrm>
          <a:prstGeom prst="downArrow">
            <a:avLst>
              <a:gd name="adj1" fmla="val 50000"/>
              <a:gd name="adj2" fmla="val 50158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7" name="Group 64"/>
          <p:cNvGrpSpPr/>
          <p:nvPr/>
        </p:nvGrpSpPr>
        <p:grpSpPr>
          <a:xfrm>
            <a:off x="838080" y="914400"/>
            <a:ext cx="6014160" cy="3048120"/>
            <a:chOff x="838080" y="914400"/>
            <a:chExt cx="6014160" cy="3048120"/>
          </a:xfrm>
        </p:grpSpPr>
        <p:sp>
          <p:nvSpPr>
            <p:cNvPr id="378" name="TextBox 15"/>
            <p:cNvSpPr/>
            <p:nvPr/>
          </p:nvSpPr>
          <p:spPr>
            <a:xfrm>
              <a:off x="3520080" y="3124440"/>
              <a:ext cx="28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O   pH     Habitat   Foo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9" name="Group 63"/>
            <p:cNvGrpSpPr/>
            <p:nvPr/>
          </p:nvGrpSpPr>
          <p:grpSpPr>
            <a:xfrm>
              <a:off x="838080" y="914400"/>
              <a:ext cx="6014160" cy="3048120"/>
              <a:chOff x="838080" y="914400"/>
              <a:chExt cx="6014160" cy="3048120"/>
            </a:xfrm>
          </p:grpSpPr>
          <p:sp>
            <p:nvSpPr>
              <p:cNvPr id="380" name="TextBox 13"/>
              <p:cNvSpPr/>
              <p:nvPr/>
            </p:nvSpPr>
            <p:spPr>
              <a:xfrm>
                <a:off x="1047960" y="990360"/>
                <a:ext cx="15796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Light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Flow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emperatur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Substrat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Water Chemistry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Herbivory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ompetition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TextBox 14"/>
              <p:cNvSpPr/>
              <p:nvPr/>
            </p:nvSpPr>
            <p:spPr>
              <a:xfrm>
                <a:off x="3048840" y="1905120"/>
                <a:ext cx="380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lgae Growth     Microbial Growth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82" name="Straight Arrow Connector 18"/>
              <p:cNvCxnSpPr/>
              <p:nvPr/>
            </p:nvCxnSpPr>
            <p:spPr>
              <a:xfrm>
                <a:off x="5105160" y="1371240"/>
                <a:ext cx="762480" cy="533880"/>
              </a:xfrm>
              <a:prstGeom prst="straightConnector1">
                <a:avLst/>
              </a:prstGeom>
              <a:ln w="9360">
                <a:solidFill>
                  <a:srgbClr val="727ca3"/>
                </a:solidFill>
                <a:miter/>
                <a:tailEnd len="med" type="arrow" w="med"/>
              </a:ln>
            </p:spPr>
          </p:cxnSp>
          <p:cxnSp>
            <p:nvCxnSpPr>
              <p:cNvPr id="383" name="Straight Arrow Connector 20"/>
              <p:cNvCxnSpPr/>
              <p:nvPr/>
            </p:nvCxnSpPr>
            <p:spPr>
              <a:xfrm flipH="1">
                <a:off x="3809160" y="1371240"/>
                <a:ext cx="533880" cy="533880"/>
              </a:xfrm>
              <a:prstGeom prst="straightConnector1">
                <a:avLst/>
              </a:prstGeom>
              <a:ln w="9360">
                <a:solidFill>
                  <a:srgbClr val="727ca3"/>
                </a:solidFill>
                <a:miter/>
                <a:tailEnd len="med" type="arrow" w="med"/>
              </a:ln>
            </p:spPr>
          </p:cxnSp>
          <p:grpSp>
            <p:nvGrpSpPr>
              <p:cNvPr id="384" name="Group 62"/>
              <p:cNvGrpSpPr/>
              <p:nvPr/>
            </p:nvGrpSpPr>
            <p:grpSpPr>
              <a:xfrm>
                <a:off x="3580560" y="2361240"/>
                <a:ext cx="2439000" cy="1601280"/>
                <a:chOff x="3580560" y="2361240"/>
                <a:chExt cx="2439000" cy="1601280"/>
              </a:xfrm>
            </p:grpSpPr>
            <p:cxnSp>
              <p:nvCxnSpPr>
                <p:cNvPr id="385" name="Straight Arrow Connector 22"/>
                <p:cNvCxnSpPr/>
                <p:nvPr/>
              </p:nvCxnSpPr>
              <p:spPr>
                <a:xfrm flipH="1">
                  <a:off x="3580560" y="2361960"/>
                  <a:ext cx="15300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86" name="Straight Arrow Connector 24"/>
                <p:cNvCxnSpPr/>
                <p:nvPr/>
              </p:nvCxnSpPr>
              <p:spPr>
                <a:xfrm>
                  <a:off x="3733560" y="2361960"/>
                  <a:ext cx="38160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87" name="Straight Arrow Connector 27"/>
                <p:cNvCxnSpPr>
                  <a:endCxn id="378" idx="0"/>
                </p:cNvCxnSpPr>
                <p:nvPr/>
              </p:nvCxnSpPr>
              <p:spPr>
                <a:xfrm>
                  <a:off x="3733560" y="2361960"/>
                  <a:ext cx="119520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88" name="Straight Arrow Connector 29"/>
                <p:cNvCxnSpPr/>
                <p:nvPr/>
              </p:nvCxnSpPr>
              <p:spPr>
                <a:xfrm>
                  <a:off x="3733200" y="2361960"/>
                  <a:ext cx="213444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89" name="Straight Arrow Connector 31"/>
                <p:cNvCxnSpPr/>
                <p:nvPr/>
              </p:nvCxnSpPr>
              <p:spPr>
                <a:xfrm flipH="1">
                  <a:off x="3809520" y="2361240"/>
                  <a:ext cx="205776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0" name="Straight Arrow Connector 33"/>
                <p:cNvCxnSpPr/>
                <p:nvPr/>
              </p:nvCxnSpPr>
              <p:spPr>
                <a:xfrm flipH="1">
                  <a:off x="4342320" y="2361240"/>
                  <a:ext cx="152460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1" name="Straight Arrow Connector 35"/>
                <p:cNvCxnSpPr/>
                <p:nvPr/>
              </p:nvCxnSpPr>
              <p:spPr>
                <a:xfrm flipH="1">
                  <a:off x="5180760" y="2361960"/>
                  <a:ext cx="68652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2" name="Straight Arrow Connector 37"/>
                <p:cNvCxnSpPr/>
                <p:nvPr/>
              </p:nvCxnSpPr>
              <p:spPr>
                <a:xfrm>
                  <a:off x="5866200" y="2361960"/>
                  <a:ext cx="76680" cy="76284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3" name="Straight Arrow Connector 39"/>
                <p:cNvCxnSpPr/>
                <p:nvPr/>
              </p:nvCxnSpPr>
              <p:spPr>
                <a:xfrm>
                  <a:off x="3657240" y="3429000"/>
                  <a:ext cx="915120" cy="53388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4" name="Straight Arrow Connector 41"/>
                <p:cNvCxnSpPr>
                  <a:endCxn id="375" idx="0"/>
                </p:cNvCxnSpPr>
                <p:nvPr/>
              </p:nvCxnSpPr>
              <p:spPr>
                <a:xfrm>
                  <a:off x="4343040" y="3429360"/>
                  <a:ext cx="305280" cy="49608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5" name="Straight Arrow Connector 43"/>
                <p:cNvCxnSpPr>
                  <a:endCxn id="375" idx="1"/>
                </p:cNvCxnSpPr>
                <p:nvPr/>
              </p:nvCxnSpPr>
              <p:spPr>
                <a:xfrm flipH="1">
                  <a:off x="4723920" y="3505320"/>
                  <a:ext cx="457920" cy="41976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6" name="Straight Arrow Connector 45"/>
                <p:cNvCxnSpPr/>
                <p:nvPr/>
              </p:nvCxnSpPr>
              <p:spPr>
                <a:xfrm flipH="1">
                  <a:off x="4800240" y="3428280"/>
                  <a:ext cx="1219680" cy="533880"/>
                </a:xfrm>
                <a:prstGeom prst="straightConnector1">
                  <a:avLst/>
                </a:prstGeom>
                <a:ln w="9360">
                  <a:solidFill>
                    <a:srgbClr val="727ca3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397" name="Straight Connector 50"/>
              <p:cNvSpPr/>
              <p:nvPr/>
            </p:nvSpPr>
            <p:spPr>
              <a:xfrm>
                <a:off x="838080" y="914400"/>
                <a:ext cx="0" cy="1752840"/>
              </a:xfrm>
              <a:prstGeom prst="line">
                <a:avLst/>
              </a:prstGeom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Straight Connector 52"/>
              <p:cNvSpPr/>
              <p:nvPr/>
            </p:nvSpPr>
            <p:spPr>
              <a:xfrm>
                <a:off x="838080" y="2667240"/>
                <a:ext cx="1828800" cy="0"/>
              </a:xfrm>
              <a:prstGeom prst="line">
                <a:avLst/>
              </a:prstGeom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Straight Connector 54"/>
              <p:cNvSpPr/>
              <p:nvPr/>
            </p:nvSpPr>
            <p:spPr>
              <a:xfrm>
                <a:off x="838080" y="914400"/>
                <a:ext cx="1828800" cy="0"/>
              </a:xfrm>
              <a:prstGeom prst="line">
                <a:avLst/>
              </a:prstGeom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Straight Connector 56"/>
              <p:cNvSpPr/>
              <p:nvPr/>
            </p:nvSpPr>
            <p:spPr>
              <a:xfrm>
                <a:off x="2666880" y="914400"/>
                <a:ext cx="0" cy="1752840"/>
              </a:xfrm>
              <a:prstGeom prst="line">
                <a:avLst/>
              </a:prstGeom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401" name="Straight Arrow Connector 59"/>
              <p:cNvCxnSpPr/>
              <p:nvPr/>
            </p:nvCxnSpPr>
            <p:spPr>
              <a:xfrm>
                <a:off x="2666880" y="1371240"/>
                <a:ext cx="2743920" cy="229320"/>
              </a:xfrm>
              <a:prstGeom prst="straightConnector1">
                <a:avLst/>
              </a:prstGeom>
              <a:ln w="9360">
                <a:solidFill>
                  <a:srgbClr val="727ca3"/>
                </a:solidFill>
                <a:miter/>
                <a:tailEnd len="med" type="arrow" w="med"/>
              </a:ln>
            </p:spPr>
          </p:cxnSp>
          <p:cxnSp>
            <p:nvCxnSpPr>
              <p:cNvPr id="402" name="Straight Arrow Connector 61"/>
              <p:cNvCxnSpPr/>
              <p:nvPr/>
            </p:nvCxnSpPr>
            <p:spPr>
              <a:xfrm>
                <a:off x="2666880" y="1371600"/>
                <a:ext cx="1372320" cy="305280"/>
              </a:xfrm>
              <a:prstGeom prst="straightConnector1">
                <a:avLst/>
              </a:prstGeom>
              <a:ln w="9360">
                <a:solidFill>
                  <a:srgbClr val="727ca3"/>
                </a:solidFill>
                <a:miter/>
                <a:tailEnd len="med" type="arrow" w="med"/>
              </a:ln>
            </p:spPr>
          </p:cxnSp>
        </p:grpSp>
      </p:grpSp>
      <p:sp>
        <p:nvSpPr>
          <p:cNvPr id="403" name="TextBox 65"/>
          <p:cNvSpPr/>
          <p:nvPr/>
        </p:nvSpPr>
        <p:spPr>
          <a:xfrm>
            <a:off x="1268280" y="6095880"/>
            <a:ext cx="561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Empirical approaches for Nutrient Criteria Derivation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AB Review Draf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cience Advisory Board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ft report from SAB by end of Octob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nal report by end of calendar ye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gion 5 RTA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lementation of Nutrient Crite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Some of these issues make developing the criteria look easy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Because nutrients don’t behave as toxics the method for implementation runs into problem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Denny Clark stopped in and said “Hello”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r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Proposed stream criteria for TP and Chlorophyll </a:t>
            </a:r>
            <a:r>
              <a:rPr b="0" i="1" lang="en-US" sz="2100" spc="-1" strike="noStrike">
                <a:solidFill>
                  <a:srgbClr val="464653"/>
                </a:solidFill>
                <a:latin typeface="Gill Sans MT"/>
              </a:rPr>
              <a:t>a.  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A stream would be impaired if it failed both criteria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PA response was that they would be independently applicable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scons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P – 100 ug/L for non-wadeable stream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Some streams may equal or exceed this criteria naturally.  Do dischargers get a 0 load?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pect a lot of variances (but these assume compliance is possibl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gion 5 RTAG (Cont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lino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d data analysis by Tetra Tech.  Results were not conclusive.  Currently looking for better relationship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lementation concerns for small POTW’s on small receiving streams.  No mixing zone can mean criteria at end of pipe.  The upgrades would exceed the 2% median family income provis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ia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w have data for all watersheds.  USGS is providing analytical suppor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nt to avoid variances because of push-back from NG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 EPA Region 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cern that methods such as Florida’s will not be preventative and do not take downstream uses into accoun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18:21Z</dcterms:created>
  <dc:creator>Greg</dc:creator>
  <dc:description/>
  <dc:language>en-US</dc:language>
  <cp:lastModifiedBy>John Klear</cp:lastModifiedBy>
  <dcterms:modified xsi:type="dcterms:W3CDTF">2009-11-18T15:56:15Z</dcterms:modified>
  <cp:revision>212</cp:revision>
  <dc:subject/>
  <dc:title>Causes of the 2008 Microcystis blooms on the Ohio River</dc:title>
</cp:coreProperties>
</file>