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BE82-FD2B-4BF1-AD30-C688B21C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D3B5-C999-464F-90E8-383DA033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CECD-2E44-4AD9-9378-34A727C0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E74B-F4B0-46BD-A925-C6E8E031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A6FE-B62B-480A-8327-E8A50E9E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38A0-73C3-4713-B4C8-941752C3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0923-D5BA-4D2A-A878-E0D8B80A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06BF-6D60-408C-B1AB-F557DAB5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9EBB-8890-4635-84FE-0E877760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ABC7-9803-4F9A-BDD5-0112C188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5182-A7DF-45FF-8A44-98703408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D66E-FD58-4D0E-AC29-532292D5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1C3C-2DB7-41BF-A11E-4FC02557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15F7-AF1B-4AEE-A159-94881A77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47C1-A839-4828-B3D0-F7F3CDFD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B921-6B7E-4C5D-8BD6-FDFB213B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067E-B9FC-4CFB-86DD-5DFD8D86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A08D0-380E-4C6E-AF6B-B41702A7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48BD6-609D-4A74-83C1-39CE6DF6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13042-26E0-410E-9080-AB3CC39F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017B0-509C-4532-B647-3DAC57B7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89BA3-3105-4F57-836B-4DDA7FE4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6A83-2BB1-44A2-A140-890ADBE3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4D186-065D-4D9B-96DC-0FCEE2C3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AF675-A18F-4277-98B8-E5A55742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85C96-D945-4517-BAD2-BC46AB41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592A3-2E47-4F44-B9CA-5243CDA4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D37A0-72E2-43C4-9E56-8F3A65D9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E82B7-02B6-40B7-99C5-AA815838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A535F-DE34-427B-B37D-F1B1181E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1A867-8AA4-4C56-9E90-5923DAC8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ED662-7D26-4F65-BB1C-B9F40DEF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893C4-4AB1-45ED-8AC0-F70F8DF7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DF1D-B1C5-45DD-BEA6-02A6B60E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30660-2596-4E55-B532-9AD9C6DC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C094A-982C-4BAA-92F5-E8E5561B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3201B-0AA6-4C75-816A-CBEBD639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01E42-3AC1-40D4-AE68-520254E7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FCD75-5CA1-4581-AC67-0A9E72EC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5B7D5-E08A-4E24-ABCB-B5A82B08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3F3AE-8D62-4239-8EFD-6F408A45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B11BE-A8D9-4068-8E26-1C4E918D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B9CAA-EF8E-4775-AB5D-37FD583B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6A0B-8BED-4318-BDCB-B841ED0B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639A-83AD-4267-8253-53F49F6F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55B7-33C0-4321-BB0F-B3B8523C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8AB-FA21-4BEB-8B63-FDC5E41D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D477-ED45-47AB-BF1E-40F6388B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272F-5ABB-43F6-A6D4-6E572A80D1F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44BA-4210-4F62-8067-6E7F959B9D6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77FC-F2CA-4852-AE4C-469CB3CB685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08C9-892D-4B2C-AB86-EE25D037879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7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ctober 20-21,2009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genda Item 6b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oncompliance Discharg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tion 123.45 of the FWPCA Regulations requires the status of noncompliance for NPDES permit compliance schedules and effluent limitations to be submitted. This information is then placed into a Quarterly Noncompliance Report (QNCR).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data in this presentation is compiled from the Quarterly Noncompliance Reports (QNCR). They are then cross referenced using the Permit Compliance System (PCS) and Enforcement &amp; Compliance History Online (ECHO).  The PCS Database contains data for all six basin states.  Additional data for IL, IN, and PA was used from the ECHO Databas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ue to lag time, this presentation contains QNCR data from July, 2008-June, 2009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228600" y="152280"/>
          <a:ext cx="8763120" cy="6553440"/>
        </p:xfrm>
        <a:graphic>
          <a:graphicData uri="http://schemas.openxmlformats.org/drawingml/2006/table">
            <a:tbl>
              <a:tblPr/>
              <a:tblGrid>
                <a:gridCol w="2205000"/>
                <a:gridCol w="2443320"/>
                <a:gridCol w="1136520"/>
                <a:gridCol w="1522440"/>
                <a:gridCol w="1455840"/>
              </a:tblGrid>
              <a:tr h="274680"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nsylv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540000"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har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Vio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hs in Vio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mit Discharge Limi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e of Permit Vio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74320"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ville Chemical Cor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orting Vio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73240"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74680"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nango Inc.-Neville Coke &amp; Ir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luent-Phenolics, Total Recover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-56.2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539640"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luent-Nitrogen, Ammonia Total (as 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-142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74680"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luent-Oil &amp; Gr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4-32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72880"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luent-Total Suspended Soli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8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74680"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540000"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on Township Muncipal Autho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orting Vio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74320"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74680"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cheser Area JSA WWT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orting Vio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73240"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74680"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sehead Corp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luent-Selenium, Total (as 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3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32-.091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72880"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luent-Total Suspended Soli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74680"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luent-Zinc, Total (as Z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6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74680"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luent-Lead, Total Recover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09-.16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72880"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74680"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ton Electr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orting Vio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73240"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74680"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rst Energy-Bruce Masfield Pl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orting Vio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2880" rIns="2880" tIns="28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2880" marR="28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228600" y="152280"/>
          <a:ext cx="8763120" cy="6553440"/>
        </p:xfrm>
        <a:graphic>
          <a:graphicData uri="http://schemas.openxmlformats.org/drawingml/2006/table">
            <a:tbl>
              <a:tblPr/>
              <a:tblGrid>
                <a:gridCol w="1835280"/>
                <a:gridCol w="2081160"/>
                <a:gridCol w="1334880"/>
                <a:gridCol w="1784520"/>
                <a:gridCol w="1727280"/>
              </a:tblGrid>
              <a:tr h="2653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Virgi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522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har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Vio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hs   in  Vio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mit  Discharge  Limi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e  of  Permit   Vio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5205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celormittal Weirton, In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ulent-Cyanide, Weak Ac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84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9-.046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667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5205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 of Weir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omplete/Deficient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667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5205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untain State Carb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ulent-Cyanide,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9 lbs/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.1-78.6 lbs/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522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ulent-Benzo (A) Pyr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29 lbs/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48 lbs/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653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5205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 of Whee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omplete/Deficient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667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5205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 of Moundsvil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omplete/Deficient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667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5205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 Power C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omplete/Deficient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667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5209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lachian Power C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iance Schedule Vio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200" marR="720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28600" y="152280"/>
          <a:ext cx="8763120" cy="6553440"/>
        </p:xfrm>
        <a:graphic>
          <a:graphicData uri="http://schemas.openxmlformats.org/drawingml/2006/table">
            <a:tbl>
              <a:tblPr/>
              <a:tblGrid>
                <a:gridCol w="2068560"/>
                <a:gridCol w="2641680"/>
                <a:gridCol w="1116000"/>
                <a:gridCol w="1492200"/>
                <a:gridCol w="1444680"/>
              </a:tblGrid>
              <a:tr h="3682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7257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har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Vio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hs in Vio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mit Discharge Limi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e of Permit Vio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7254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 of Steubenvil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luent-Copper, Total Recover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u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-42 u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369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7257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MET Primary Alumin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luent-Chlorine, Total 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38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8-.19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723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luent-Copper, Total Recover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16 kg/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18-0.076 kg/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3700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7254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on Rome Township Sub-Sew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luent-Total Chlorine, TSS, and BOD 5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3682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7254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ton Power &amp; Light C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luent-Chromium, Hexavalent Dissol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u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.9-79.3 u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7257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 gridSpan="2"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No DMR data listed in PCS Datab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120" marR="61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228600" y="228600"/>
          <a:ext cx="8763120" cy="5527800"/>
        </p:xfrm>
        <a:graphic>
          <a:graphicData uri="http://schemas.openxmlformats.org/drawingml/2006/table">
            <a:tbl>
              <a:tblPr/>
              <a:tblGrid>
                <a:gridCol w="1916280"/>
                <a:gridCol w="2449440"/>
                <a:gridCol w="1211040"/>
                <a:gridCol w="1619280"/>
                <a:gridCol w="1567080"/>
              </a:tblGrid>
              <a:tr h="295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ntuck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5778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har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Vio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hs in Vio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mit Discharge Limi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e of Permit Vio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579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urtland STP-Greenup Coun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luent-Nitrogen, Ammonia Tota (as 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5.9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579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luent-Total Residual Chlor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437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46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95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5778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pont Wurtland Pl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luent-Total Suspended Solid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-216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95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579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w Corning-Carroll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luent-Total Suspended Solid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 lbs/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6.26-820.74 lbs/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93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579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ll Coater In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luent-Total Suspended Solid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-57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95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579600">
                <a:tc gridSpan="2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DOE/PRS/UDS/PGDP- Discharges to Bayou and Little Bayou Cre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228600" y="228600"/>
          <a:ext cx="8686800" cy="2895480"/>
        </p:xfrm>
        <a:graphic>
          <a:graphicData uri="http://schemas.openxmlformats.org/drawingml/2006/table">
            <a:tbl>
              <a:tblPr/>
              <a:tblGrid>
                <a:gridCol w="1828800"/>
                <a:gridCol w="2511360"/>
                <a:gridCol w="1198800"/>
                <a:gridCol w="1600200"/>
                <a:gridCol w="1547640"/>
              </a:tblGrid>
              <a:tr h="385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7585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har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Vio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hs in Vio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mit Discharge Limi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e of Permit Vio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7588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EP Lawrenceburg Energy C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luent-Mercury,Total Recover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4 n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3-19.6 n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385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606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dison, WWT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luent-Copper, Total Recover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2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21-.033n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228600" y="228600"/>
          <a:ext cx="8763120" cy="2438280"/>
        </p:xfrm>
        <a:graphic>
          <a:graphicData uri="http://schemas.openxmlformats.org/drawingml/2006/table">
            <a:tbl>
              <a:tblPr/>
              <a:tblGrid>
                <a:gridCol w="977760"/>
                <a:gridCol w="3372120"/>
                <a:gridCol w="1215720"/>
                <a:gridCol w="1624320"/>
                <a:gridCol w="1573200"/>
              </a:tblGrid>
              <a:tr h="493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lino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973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har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Vio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hs in Vio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mit Discharge Limi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e of Permit Vio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9712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ropolis, ST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iance Schedule-Install/Maintain CSO Outfall Sig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6480" marR="64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schargers of Concer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henango Inc.-Neville Coke &amp; Iron, P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tal Ammonia Nitrogen discharge limit was violated the past three month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tal Recoverable Phenolics discharge limit was violated five out of the last six month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orsehead Corp., P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lenium discharge limit was violated three out of the last six month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rcelormittal Weirton, Inc., WV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eak Acid Cyanide discharge limit was violated eleven out of the last twelve month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RMET Primary Aluminum, O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tal Recoverable Copper discharge limit was violated ten out of the last twelve month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upont Wurtland Plant, K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tal Suspended Solids discharge limit was violated five out of the last six month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5:08:39Z</dcterms:created>
  <dc:creator> Stacey Lea Cochran</dc:creator>
  <dc:description/>
  <dc:language>en-US</dc:language>
  <cp:lastModifiedBy>John Klear</cp:lastModifiedBy>
  <dcterms:modified xsi:type="dcterms:W3CDTF">2009-11-20T15:22:36Z</dcterms:modified>
  <cp:revision>28</cp:revision>
  <dc:subject/>
  <dc:title>Noncompliance Report</dc:title>
</cp:coreProperties>
</file>