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4.jpeg" ContentType="image/jpeg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A4D-1B38-4ED3-9076-C48DD0DD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D51-FBE1-4791-912A-FA30D1C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DE2-E029-442B-9244-3D9A65CD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14F-20C3-4BAA-B39C-74BDEFE9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AB15-4AD8-4764-A3E4-3C7ED25B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4067-7917-4FA6-83A1-77C3B13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CA75-C762-4485-8C42-2CF9A806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B6BA-DD95-450F-A9ED-2EC18DF7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F541-BEB0-4419-B768-A1CD215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1624-0008-40CA-8032-E04994BC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F642-4985-47CB-BB62-3B192C9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C1E-EBC2-44ED-8478-7128C8C5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D0A8-4B46-4756-B01B-9B68634F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6E1E-E79E-4102-B705-CA4691B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C131-9DC4-4273-A490-8AFD305E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D44C-5AF9-4CFE-AE1C-E2EACB6D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4487-48E5-4349-B3ED-9EEBCF1C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53D-3254-4342-B3B7-00A77F67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AF6-02B8-4E58-8399-80418D9B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769-0E37-4F7D-9CC4-E0FD2FF6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4C9-DDC6-42CF-BB58-B10B01D3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8C4-5007-4534-8C66-7A7599A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464-3204-46C3-A0D7-91845EAB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9D9-306C-4A4F-A78C-8D69EA5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4C5B-AF9A-4F4B-891C-356318D3C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C0BA-5A30-45C3-8FB7-5FBF44116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addlefest01gJS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1786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creational Use Surve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rv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 the numbers right &amp; what do they mea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-360" y="4800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all estimate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rapolating the Field da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240" y="20570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ed 49 public access sites 2-3 times during the rec s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hour observations &amp; in-person intervi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ed the field of vision and counted recre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polated the data to entire river for entire recreation s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76680" y="76320"/>
            <a:ext cx="94489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ver-Wide Comparison of Resul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7524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Survey Error = 1.37% at 95% Confide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Survey = 8.2 million person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rvey    = 5.2 million  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2.7 million av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ppears that the phone survey results may over-estimate reality (possibly by a factor of 2-3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compare results to beach use data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EPA’s criteria langu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use: At least half use of typical bathing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use: Less than half use of typical bathing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914400" y="4454640"/>
            <a:ext cx="6632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ach U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4" descr=""/>
          <p:cNvPicPr/>
          <p:nvPr/>
        </p:nvPicPr>
        <p:blipFill>
          <a:blip r:embed="rId1"/>
          <a:stretch/>
        </p:blipFill>
        <p:spPr>
          <a:xfrm>
            <a:off x="3956040" y="0"/>
            <a:ext cx="51116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-Mile River Segment Equivalent Area to Beach Use Lake Are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ontent Placeholder 3" descr=""/>
          <p:cNvPicPr/>
          <p:nvPr/>
        </p:nvPicPr>
        <p:blipFill>
          <a:blip r:embed="rId1"/>
          <a:stretch/>
        </p:blipFill>
        <p:spPr>
          <a:xfrm>
            <a:off x="2228760" y="1905120"/>
            <a:ext cx="6915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/When Don’t Recreators Recreat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789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 Consumption Data for Inner Z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water Fish Consumption Rate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ner Zone population = 37.3 gm per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’s national fish default freshwater fish consumption rate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general population = 17.5 gm per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io River Fish Consumption Rate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ner Zone population = 1.86 gm per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% of the population consumed some Ohio River fish (6% don’t kno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are aware of consumption advis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% of those not eating Ohio River fish due to conta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vey 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52280" y="19051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FY THE RECREATIONAL USES OF OHIO 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LEVEL OF USE IN TERMS OF NATIONAL CRITERIA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ach use, moderate use, light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WHEN THE USES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io River criteria apply May-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vey 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19051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FY THE RECREATIONAL USES OF OHIO 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LEVEL OF USE IN TERMS OF NATIONAL CRITERIA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ach use, moderate use, light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WHEN THE USES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io River criteria apply May-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set at $100 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ly requested to obtain fish consumption data if feasible within bud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out RFP and selected proposal using a phone survey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mented with field surveys including observations and intervi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102 random telephone surveys comple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865 inner zone; 1,237 outer z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ontact_rec_buffer_sections"/>
          <p:cNvPicPr/>
          <p:nvPr/>
        </p:nvPicPr>
        <p:blipFill>
          <a:blip r:embed="rId1"/>
          <a:stretch/>
        </p:blipFill>
        <p:spPr>
          <a:xfrm>
            <a:off x="2057400" y="2895480"/>
            <a:ext cx="48006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Work Pictures 055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70 Field Survey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5 Interviews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-truth phone survey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s every 20 miles “randomly”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hour surveys completed 2-3 times at each location during rec s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al counts of recreational activities – Ground Surv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person interviews – Intercept Surv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on_rec_survey_sites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for 2008 Primary Contact Recre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838080" y="1523880"/>
          <a:ext cx="7239240" cy="530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23924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mary Recreational Us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4343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4:12:15Z</dcterms:created>
  <dc:creator>jason</dc:creator>
  <dc:description/>
  <dc:language>en-US</dc:language>
  <cp:lastModifiedBy>Jason</cp:lastModifiedBy>
  <dcterms:modified xsi:type="dcterms:W3CDTF">2009-10-19T14:51:07Z</dcterms:modified>
  <cp:revision>89</cp:revision>
  <dc:subject/>
  <dc:title>Slide 1</dc:title>
</cp:coreProperties>
</file>