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7AC-74BE-402F-81BD-716B7D17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954-B861-4ADD-9D13-B8DC007A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0C2-7931-4166-9E2E-B327C32B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85F-AB7E-4A05-98DB-5467F31E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6998-0E67-42F2-BDC7-BF317D54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3394-EA19-45E1-A0DC-12A41299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60D-B99D-4C5D-AC29-467429BE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2F6D-F905-4E26-8A50-E23F932E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BB8-1F7D-431F-BE37-A9C40C17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528-12BD-457C-8625-F50F8B13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2D3D-6ABA-488C-B0AC-8CDE9920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3BA9-12F0-46C6-BB44-B4101F20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4DE9-7EEB-488E-B843-F943DB619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ort of the NPDES Sub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ctober,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gust 19 Conference C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cury Discharges from Power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Ammonia Criter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trient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rcury Discharges from Power Pla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logue with Power Industry Advisory Committee on availability of treatment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committee consensus – technology is “not quite there yet” to meet 12 ppt lim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ans needed to provid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empor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rcury Discharges from Power Pla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 Industry Advisory Committee presented four altern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PDES Subcommittee prefers extending current Variance procedure to allow variances to Section VI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procedure provides for checks and balances that the Subcommittee feels are nee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Ammonia Criter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nsylvania DEP raised concer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impact on permit lim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specified design river 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ts of attainment have not been quant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committee believes these issues need to be addres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equent review indicates no design flow specified for other criteria in Section IV.C.1,2, and 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temperature criteria are based on aquatic life impa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committee believes a maximum temperature limit to protect human exposure should be adop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nsylvania is the only member state that currently has such a lim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trient Monitoring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ission adopted requirements for dischargers to monitor effluents for nutr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requirements are being incorporated into permits for Ohio River discharg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ff will  provide periodic progress reports on the incorporation of these lim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1:49:18Z</dcterms:created>
  <dc:creator>peter</dc:creator>
  <dc:description/>
  <dc:language>en-US</dc:language>
  <cp:lastModifiedBy>peter</cp:lastModifiedBy>
  <dcterms:modified xsi:type="dcterms:W3CDTF">2009-10-14T22:04:58Z</dcterms:modified>
  <cp:revision>2</cp:revision>
  <dc:subject/>
  <dc:title>Report of the NPDES Subcommittee</dc:title>
</cp:coreProperties>
</file>