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6C0-C0DD-4B1D-9D64-6A2F84D8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B16-6692-43DD-97D5-E084E81E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8D4-6627-43E6-89E7-2BF8F488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4ED-981B-4D2C-B0FE-D95B342E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BF57-24B5-4CBA-9CD5-7F2EAF78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8FC3-6A53-4377-ADAB-B0CA85E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61E-B7DA-42AB-8816-8E0717B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ADF7-1144-4B03-B305-9CE6BF2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34FD-5998-4469-8AA5-EA550E50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CE97-4637-41E7-A1EC-287A621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A62-F0E1-4766-A47E-9503419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342-D270-4FFD-B83D-AEB55FAD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462-0610-40EB-92FE-0C6CA29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34FE-B922-4D6A-A0B0-4D4BE77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BA9F-36B2-4A9D-9FCF-5108C87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982B-F1A5-44A1-B763-12A34934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9AF-5C7D-43ED-9E3B-C0A2A0BA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AAA3-5600-4CE7-8AF1-133F72B7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6F63-3C52-422C-A6E1-9C4DBCA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5494-46ED-4702-97A5-B8AD7F9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DBD0-4DD7-41C2-B753-69A615D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8E80-CD05-48EC-93B4-4E9D5FD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A14-98D3-4497-84CD-0F9B662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4C90-559E-4172-98B4-93E8935E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FA74-82F8-4B45-825A-6C1EAD1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06D7-EBF7-4E91-9AE7-199DF23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41E9-79D4-4DB9-8E65-E3E21D1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C518-424D-49CE-A749-E51503CC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0FA2-B85B-4090-9BC9-B93D15C2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051B-B39A-43BE-95C8-EDEC8747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E5A-47C7-4391-AAC0-187E2B24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534-58BA-4576-B7A2-3764526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170-9B28-4A1B-85F7-CF58556B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638-CE0E-453E-82B0-C86211F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5C1-677F-49F6-A5CB-B66E98C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A42-0C65-441F-8CF5-6C6BCAB9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C73-248F-422D-BD25-8E0F1D90F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DFB-1FEF-4037-A9FF-3A6ACA4D45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1501200" y="453600"/>
            <a:ext cx="7500240" cy="4969080"/>
            <a:chOff x="1501200" y="453600"/>
            <a:chExt cx="7500240" cy="4969080"/>
          </a:xfrm>
        </p:grpSpPr>
        <p:sp>
          <p:nvSpPr>
            <p:cNvPr id="83" name="Rectangle 7"/>
            <p:cNvSpPr/>
            <p:nvPr/>
          </p:nvSpPr>
          <p:spPr>
            <a:xfrm rot="21480000">
              <a:off x="1581120" y="58032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 rot="21540000">
              <a:off x="1589400" y="57168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1589760" y="55404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706-9A1A-4158-A97C-513A96A1D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85000" cy="18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1401"/>
                </a:solidFill>
                <a:latin typeface="Calibri"/>
              </a:rPr>
              <a:t>October,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Power Research Institute – Project L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SAN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eser Associ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Farmland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on and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ami Conservancy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California at Santa Barb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.3 Million in federal 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 EPA Targeted Watershed gr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DA Conservation Innovation gr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700,000 in matching funds by project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F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t Reg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1 Announc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26-27 Project Team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0:27:38Z</dcterms:created>
  <dc:creator>Peter</dc:creator>
  <dc:description/>
  <dc:language>en-US</dc:language>
  <cp:lastModifiedBy>Peter</cp:lastModifiedBy>
  <dcterms:modified xsi:type="dcterms:W3CDTF">2009-10-20T01:12:50Z</dcterms:modified>
  <cp:revision>5</cp:revision>
  <dc:subject/>
  <dc:title>Nutrient Trading Project</dc:title>
</cp:coreProperties>
</file>