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2B89-6ECE-4593-8D6D-08950114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9A4-4670-470E-AD3F-90BAB0C3C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B780-3B40-4F67-8509-855B6AE4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8753-983F-41B4-833E-A9D36B7F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F30F-6A67-483A-80BE-FD23E556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1BA7-E4B4-497F-AF41-B616FE85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D797-4C3C-44E5-808D-F78F4CE9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2D25-032C-49B1-8697-165DD5BD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6D9-E590-4EAC-99B2-251F08BC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F53-BC08-4223-99B8-7686655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A73-7860-4458-8308-0C1F3A2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CEA2-E349-4FB7-A91B-31F3D61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D435-14A4-4E19-91EE-ABBB033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364C-C917-4460-A941-2DDCE8EE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4A4C-168C-434D-92DD-3409340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D6D0-94B2-4DAA-90CB-13B0BC3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5EB0-86D4-4E7F-BEEA-96B0922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B986-1200-4C7E-BB01-7FB30DE9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24B-8073-4477-BD23-033B6E4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2CAA-C1C6-4E5B-8EF1-D87269CD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92FF-6953-4683-9CA2-2F45685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4A9E-AC12-4737-AA56-2F2217B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5B77-212C-4956-B976-145F35C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E076-01EA-4CA8-BBCC-027D0FCE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7D51-21C9-4DDF-8872-137C28B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075B-C7BA-4A6C-9061-0206B0F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7BF-5040-4804-B85D-CBE5F8962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6BD-7A92-4395-9D71-D649ECA66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OH_river_sunset4"/>
          <p:cNvPicPr/>
          <p:nvPr/>
        </p:nvPicPr>
        <p:blipFill>
          <a:blip r:embed="rId1"/>
          <a:stretch/>
        </p:blipFill>
        <p:spPr>
          <a:xfrm>
            <a:off x="-609480" y="-914400"/>
            <a:ext cx="9753480" cy="1043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5720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Report of the NPDES Subcommitte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?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ference Call Meeting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July 8 and August 19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rcury Discharg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Utility Request to Address Permit Requirements for Mercury in Water Discharges Resulting From Installing Air Scrub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mmonia Criteri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Proposed for Adoption to Protect Drinking Water Intak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x Temperature Criteri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Once Thru NCCW at Power Pl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SANCO Upda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States’ Incorporation of Nutrient Monitoring Into NPDES Perm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stewater Stream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rcury Leve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crubber WasteWater Treatment 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rcury up to 1 to 2 pp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scharge Volume ~ 0.5 MG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scharge Often Diluted by NCCW and/or Ash Po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GD Landfill Leachat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rcury up to 100 - 200 pp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scharge Volume ~ 0.2 MG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ew Source: Prohibition New Load and 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o Mixing Zone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nual Avg. Mercury Limit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≤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 pp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hibition Mixing Zone Immedi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New L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ing Sources – MZ Eliminated October 20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rcury Discharges from Power Pla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committee Consens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ir Scrubbers Significantly Reduce Overall Hg Load to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 is “not quite there yet” to Meet 12 ppt Lim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Means Needed to Provide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empora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lief for New Source Due to Air Pollution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rcury Discharges from Power Pla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 Industry Advisory Committee presented four altern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PDES Subcommittee Prefers Extending Current Variance Procedure to Allow Variances to Section VI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for checks and balances that the Subcommittee feels are need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te Specific – Public Review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ed Ammonia Criter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DEP raised concer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impact on permit lim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pecified design river 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s of attainment have not been quanti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committee believes modeling guidance needed – No intent trigger limits for existing dischar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sequent review indicates no design flow specified for other criteria in Section IV.C.1,2, and 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x Temperature Criteria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Once Through Cooling – Power Pla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 temperature criteria are based on aquatic life impa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rrative nuisance prevention criteria difficult to impl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committee believes a maximum temperature limit to protect human exposure should be adop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is the only member state that currently has a guidance for such a lim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rient Monitoring 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ission adopted requirements for dischargers to monitor effluents for nutri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requirements are being incorporated into permits for Ohio River discharg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ff will  provide periodic progress reports on the incorporation of these lim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01:40Z</dcterms:created>
  <dc:creator>Peter Tennant</dc:creator>
  <dc:description/>
  <dc:language>en-US</dc:language>
  <cp:lastModifiedBy>PAUL</cp:lastModifiedBy>
  <dcterms:modified xsi:type="dcterms:W3CDTF">2009-10-21T10:07:58Z</dcterms:modified>
  <cp:revision>33</cp:revision>
  <dc:subject/>
  <dc:title>Report of the NPDES Subcommittee</dc:title>
</cp:coreProperties>
</file>