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1D03-0E88-447F-A5A7-7FA0B34B8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ike this slide but again am concerned about font size – too much on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bullet is uncl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graphic rel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677960" y="685800"/>
            <a:ext cx="3467160" cy="2600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227160" y="3438000"/>
            <a:ext cx="6403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io River contributes 30% of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E05B-B3DE-4101-BF56-AB704FEF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408B-EB31-4AD3-943C-019044A0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4DCD-27F5-41A3-89E4-25EAEB13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4ACD-0F03-4C62-ADDE-117672B8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7CF7-8D50-449D-B963-5203163A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A25B-385D-41EB-847A-5807A853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BCF1-69CB-4775-AE49-5E79B3F6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D445-696E-4F84-9502-93104191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ADA1-CB1F-4181-ACCA-BA905DEB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40EF-DEC1-4104-9300-69EFF7A0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8395-A4FF-4368-9051-ED84BEE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CBDD-0448-4C3A-80F7-2C3087E3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6EDC-5EBA-4A52-975F-EB9984F9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15CF-0A6C-4DAF-907F-A189AF41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E123-76B0-47D9-8C1E-24E9C471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7BFA-3A8A-402D-89F9-EBB9B101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1FA7-3190-4206-8112-F3D5EF30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A9A8-1033-44B7-B284-5CCB3D97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90D9-982B-40A9-A50C-1C5E1B26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66AE-5C5E-4479-8DFE-07B88A60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6840-28B2-4AB5-A809-04FE2EB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93EF-4BC9-4949-B720-30AC652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CC6C-2872-4A66-B1BF-414B9F0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0352-8918-4A03-A662-6C50C54E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8E5B-0A70-483F-9C2C-5BD579511C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93F4-FB2C-41E8-981C-A8F0CAFCC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Arial"/>
              </a:rPr>
              <a:t>Report of the Ohio River Sub Basin Committee for Reduction of Hypoxia in the Gulf of Mexico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bruary, 2008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pper MSR and Ohio-TN sub-basins account for the 84% nitrate-N and 64% total P flux to Gulf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ile-drained, corn-soybean landscapes very N leaky   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The SAB recommends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argeting the tile-drained Corn Belt region of the MARB for N and P reductions in both surface and sub-surface waters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utrient Fate, Transport and Sources – Sub basin flux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952880" y="4246560"/>
            <a:ext cx="28958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utrient Fate, Transport and Sources – Mass bal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82880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 mass balances recalculated since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and net P inputs increased greatly from 1950s, but decreased in last dec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8600" indent="-43812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dy or reduced fertilizer applications and increased crop yields for N and 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point sources of N (1999-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8600" indent="-43812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4% ferti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600" indent="-43812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%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600" indent="-43812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% atmospheric de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re more significa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P than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410080" y="4495680"/>
            <a:ext cx="37339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182844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2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stimates of point source N &amp; 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2% of N flux (up from 11% reported in 2000)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34% of P flux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B recomme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10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btaining direct measures of N and P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rom point source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10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ing sub-basin scale mass balances to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arget management strategies, focusing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n the Upper Mississippi and Ohio River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asins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utrient Fate, Transport and Sources – Mass bal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895480" cy="2367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801040" y="647712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Arial"/>
              </a:rPr>
              <a:t>TP point source flux as % of total fl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59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stream removal processes (from SPARROW mod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0-55% of annual N input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0-75% of annual P inputs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importance of denitrif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ignificant during warm, low flow periods, but not significant during high flows in Jan-June (peak nitrate export)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SAB recomme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nhance hydrologic exchange and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tention on floodplain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argeted wetlands restoration to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duce NPS nutrient loads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utrient Fate, Transport and Source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486400" y="45720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of models of basin-scale processes (SPARROW, SWAT, IBIS/THMB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apable of N and P load estimation at Basin-sc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has inherent strengths, limitations and value to informing decision-ma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B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indica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eed f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ing flexibility and diversity of modeling approa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new statistical techniques for error esti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mless linkage between the watershed and Gulf hypoxia model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utrient Fate, Transport and Sources - Mod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cientific Basis for Goals and Management Op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 Task Force goals supported by scientific knowledge and understanding of the hypoxic zon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B discu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spcBef>
                <a:spcPts val="62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importance of adaptive management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spcBef>
                <a:spcPts val="62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tting targets for nutrient reduct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spcBef>
                <a:spcPts val="62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tecting water quality and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ocial welfare in the Basin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ile reducing the areal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tent of the Gulf hypoxic z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etting targets for nutrient load reduction to achieve coastal go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B recomme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6040" indent="-45720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45% N load reduction goal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2" marL="1279800" indent="-402120">
              <a:lnSpc>
                <a:spcPct val="9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rom modeling studies since 2000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2" marL="1279800" indent="-402120">
              <a:lnSpc>
                <a:spcPct val="9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 3- to 5-fold increase in N load over the last 50 yr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896040" indent="-45720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40% P load reduction goal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2" marL="1279800" indent="-402120">
              <a:lnSpc>
                <a:spcPct val="9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for dual nutrient control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2" marL="1279800" indent="-402120">
              <a:lnSpc>
                <a:spcPct val="9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ajor PS P removal using best available technologies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2" marL="1279800" indent="-402120">
              <a:lnSpc>
                <a:spcPct val="9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educing NPS P loads causing WQ impairments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2" marL="1279800" indent="-402120">
              <a:lnSpc>
                <a:spcPct val="9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ngoing development of freshwater P criteria 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B indic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6040" indent="-45720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assess/revise N &amp; P goals within adaptive management framework as new information becomes available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896040" indent="-45720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ore important to move in a “directionally correct” fashion and learn from monitoring results, rather than delay action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otection of water quality and social welfare in the bas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B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fi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39852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astal goal appropriate for now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39852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y need to be revised in the future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hypoxic zone &amp; enhan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n water quality are inextricably &amp; positively lin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benefits of nutrient re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39852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greenhouse gas mitigation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39852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mproved wildlife habitat &amp; recreational opportunitie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39852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lood control &amp; other ecosystem service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benefits will likely exceed social cost over the long run, if not the short term, &amp; thus enhance social welf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cientific Basis for Goals and Management Op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B discussed options for reducing nutrient flux in terms of cost, feasibility, and other social welfare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effective agricultural pract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effective actions for other nonpoint 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effective technologies for industrial &amp; municipal point 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ost Effective Agricultural Pract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al choices will likely inclu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rainage water management,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servation tillage,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ure management,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nging fertilizer application rates and timing,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op rotation,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ver crops,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servation buffers,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tlands enhancement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1225"/>
              </a:spcBef>
              <a:spcAft>
                <a:spcPts val="1225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sheds with greatest potential for N and P reductions should be targeted for action to ensure cost-effective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ing allows optimization of cost and benefi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rray of economic incentives are recommended to encourage conserv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H="1">
            <a:off x="304560" y="787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Verdana"/>
              </a:rPr>
              <a:t>Nitrogen Source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51460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49784" b="0"/>
          <a:stretch/>
        </p:blipFill>
        <p:spPr>
          <a:xfrm>
            <a:off x="1100160" y="911160"/>
            <a:ext cx="7005600" cy="542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251840" y="64580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oolsby, et 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ost Effective Actions for Other Nonpoint Sou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mospheric deposition and urban/suburban storm water runoff are the two major non-agricultural N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ghter limits on sources of NOx emissions would assist hypoxia reduction and improve water qualit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ng water quality benefits into decisions involving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33480" indent="-476280">
              <a:lnSpc>
                <a:spcPct val="10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etirement or retrofitting of old coal-fired power plants, 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933480" indent="-476280">
              <a:lnSpc>
                <a:spcPct val="10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Ox controls - extension of current summertime NOx standards to a year-round requirement, 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933480" indent="-476280">
              <a:lnSpc>
                <a:spcPct val="10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missions standards &amp; mileage requirements for SUV’s, heavy trucks and buses. 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5e5ff"/>
                </a:solidFill>
                <a:latin typeface="Arial"/>
              </a:rPr>
              <a:t>Effective Technologies for Municipal and Industrial Point Sources</a:t>
            </a: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wage treatment plants and industrial dischargers more significant source of N and 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B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recomme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grade sewage treatment plants in MARB to Biologic Nutrient Removal (BNR) or Enhanced Nutrient Removal (ENR) technolog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B sewage treatment plants upgrade to achieve total N concentrations of 3 mg/L and total P concentrations of 0.3 mg/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5e5ff"/>
                </a:solidFill>
                <a:latin typeface="Arial"/>
              </a:rPr>
              <a:t>Effective Technologies for Municipal and Industrial Point Sources</a:t>
            </a: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ndustries with high nutrient dischar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targeted permit by permit approa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for opportunities to reduce N and P discharges through pollution prevention, process modification or treat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Proposed Revisions to Action Pla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aft developed by Coordinating Committe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pendent of SAB repo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empts to add accountabil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resses need for fun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Comment period closed January 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ed draft will be presented to the Task Force at its next mee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anuary 28 States Me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gressional Initia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deral Agen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rient Reduction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s Association – possible letter to Govern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xt Task Force Me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bruary 28-29 in Chica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Session February 2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ordinating Committee will meet February 27 for discussion of SPARROW mode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ublic Release of USGS SPARROW Model Resul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el Results available last spring; provided input to SAB repo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s conference in Washington on January 29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ana, Kentucky, Ohio, Tennessee identified as major contributors to Gulf Hypox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ebruary 11 ORSBSC Ca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BC recommends co-sponsoring (with Upper Miss. SBC) technical workshop on SPARROW model resul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BC recommends sponsoring workshop on point source nutrient remov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BC directs staff to investigate possible funding opportu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eering Committee Memb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llinois Department of Agricult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ana Dept of Environmental Manag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ana Department of Agricult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ntucky Department of Environmental Prot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ntucky Division of Conserv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hio Department of Natural Resour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hio EP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nsylvania Conservation Commiss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nessee Department of Environmental C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 Virginia Conservation Agenc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 Virginia Department of Agricult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 Virginia Department of Environmental Prot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SANC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ogress to D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 Steering Committee meeting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ings on Gulf Hypoxi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s on Nutrient Reduction effor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work for Nutrient Reduction Strategy complet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io elected chair state and invited to join the Task For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up of Stakeholder Group determin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of Emerging Docum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ded October, 2007meeting of Hypoxia Task Forc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ly conference ca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Reassessment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Hypoxia Action Pla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d in August, 20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B- Hypoxia Advisory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Scientific Sympo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Action Review Team – proposed revised 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ideration of Ro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SAB report completed in May, 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Revised Action Plan adopted for public review in October, 2007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ther Related Develo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GS SPARROW Mode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S Mississippi River Re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 Watersheds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ps of Engineers – Lower Mississippi Assess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e SAB Char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B was asked to address the state of the science of hypoxia as well as the scientific basis for mitigating hypoxia through management o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B was asked to focus on scientific advancements since 2000 relating to 3 general are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ization of the Causes of Hypoxia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ization of Nutrient Fate, Transport and Sources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cientific Basis for Goals and Management Options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215280" y="6161040"/>
            <a:ext cx="82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B report URL - </a:t>
            </a:r>
            <a:r>
              <a:rPr b="0" lang="en-US" sz="2000" spc="-1" strike="noStrike">
                <a:solidFill>
                  <a:srgbClr val="e5e5ff"/>
                </a:solidFill>
                <a:latin typeface="Arial"/>
              </a:rPr>
              <a:t>http://www.epa.gov/sab/pdf/5-24-07_hap_draft.pd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haracterizing the Onset, Volume, Extent and Duration of Hypoxi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s can explain 45-55% of the variation in hypoxic zone area and leng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development, calibration and verification – hampered by lack of data on key physical, biogeochemical proces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ngle best modeling approach can be identified – managing Gulf hypoxia is best served by having multiple models with multiple outpu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96680" y="4419720"/>
            <a:ext cx="4184640" cy="2374560"/>
            <a:chOff x="2596680" y="4419720"/>
            <a:chExt cx="4184640" cy="2374560"/>
          </a:xfrm>
        </p:grpSpPr>
        <p:sp>
          <p:nvSpPr>
            <p:cNvPr id="128" name=""/>
            <p:cNvSpPr/>
            <p:nvPr/>
          </p:nvSpPr>
          <p:spPr>
            <a:xfrm rot="1143000">
              <a:off x="3498480" y="5296680"/>
              <a:ext cx="15246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60760" y="5042520"/>
              <a:ext cx="2801160" cy="1172880"/>
            </a:xfrm>
            <a:custGeom>
              <a:avLst/>
              <a:gdLst/>
              <a:ahLst/>
              <a:rect l="l" t="t" r="r" b="b"/>
              <a:pathLst>
                <a:path w="3172" h="1357">
                  <a:moveTo>
                    <a:pt x="1278" y="284"/>
                  </a:moveTo>
                  <a:lnTo>
                    <a:pt x="663" y="102"/>
                  </a:lnTo>
                  <a:lnTo>
                    <a:pt x="0" y="0"/>
                  </a:lnTo>
                  <a:lnTo>
                    <a:pt x="16" y="520"/>
                  </a:lnTo>
                  <a:lnTo>
                    <a:pt x="1325" y="804"/>
                  </a:lnTo>
                  <a:lnTo>
                    <a:pt x="2501" y="1341"/>
                  </a:lnTo>
                  <a:lnTo>
                    <a:pt x="3172" y="1357"/>
                  </a:lnTo>
                  <a:lnTo>
                    <a:pt x="2540" y="1096"/>
                  </a:lnTo>
                  <a:lnTo>
                    <a:pt x="1933" y="647"/>
                  </a:lnTo>
                  <a:lnTo>
                    <a:pt x="1278" y="284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60760" y="5830200"/>
              <a:ext cx="2839680" cy="0"/>
            </a:xfrm>
            <a:prstGeom prst="line">
              <a:avLst/>
            </a:prstGeom>
            <a:ln w="57240">
              <a:solidFill>
                <a:srgbClr val="c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958280" y="5347440"/>
              <a:ext cx="1823040" cy="875520"/>
              <a:chOff x="4958280" y="5347440"/>
              <a:chExt cx="1823040" cy="875520"/>
            </a:xfrm>
          </p:grpSpPr>
          <p:sp>
            <p:nvSpPr>
              <p:cNvPr id="132" name=""/>
              <p:cNvSpPr/>
              <p:nvPr/>
            </p:nvSpPr>
            <p:spPr>
              <a:xfrm>
                <a:off x="5779800" y="5347440"/>
                <a:ext cx="10015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58280" y="5817240"/>
                <a:ext cx="682200" cy="4057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579200" y="4472280"/>
              <a:ext cx="1863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43480" y="4482000"/>
              <a:ext cx="4037040" cy="22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87880" y="4735800"/>
              <a:ext cx="1440" cy="1479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47560" y="6215760"/>
              <a:ext cx="39960" cy="25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47560" y="5846400"/>
              <a:ext cx="399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47560" y="5476680"/>
              <a:ext cx="39960" cy="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47560" y="5107680"/>
              <a:ext cx="39960" cy="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7560" y="4735800"/>
              <a:ext cx="399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87880" y="6215760"/>
              <a:ext cx="3364200" cy="25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569040" y="6215400"/>
              <a:ext cx="1800" cy="349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32800" y="6215400"/>
              <a:ext cx="1440" cy="349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689720" y="6215400"/>
              <a:ext cx="0" cy="349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253480" y="6215400"/>
              <a:ext cx="0" cy="349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815440" y="6215400"/>
              <a:ext cx="1440" cy="349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372360" y="6215400"/>
              <a:ext cx="0" cy="349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287880" y="6215760"/>
              <a:ext cx="1440" cy="532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850920" y="6215760"/>
              <a:ext cx="1800" cy="532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407840" y="6215760"/>
              <a:ext cx="1800" cy="532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970160" y="6215760"/>
              <a:ext cx="1440" cy="532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533560" y="6215760"/>
              <a:ext cx="1800" cy="532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090480" y="6215760"/>
              <a:ext cx="1800" cy="532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652080" y="6215760"/>
              <a:ext cx="1800" cy="532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9040" y="5158440"/>
              <a:ext cx="563400" cy="177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32800" y="5335920"/>
              <a:ext cx="556560" cy="150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9720" y="5486040"/>
              <a:ext cx="563400" cy="290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3480" y="5777280"/>
              <a:ext cx="561600" cy="43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15440" y="6215760"/>
              <a:ext cx="55656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9040" y="5486040"/>
              <a:ext cx="563400" cy="113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32800" y="5599440"/>
              <a:ext cx="556560" cy="122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9720" y="5721840"/>
              <a:ext cx="563400" cy="249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53480" y="5970960"/>
              <a:ext cx="561600" cy="244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15440" y="6215760"/>
              <a:ext cx="55656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69040" y="5036040"/>
              <a:ext cx="563400" cy="80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32800" y="5116680"/>
              <a:ext cx="556560" cy="166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9720" y="5283000"/>
              <a:ext cx="563400" cy="299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53480" y="5583240"/>
              <a:ext cx="561600" cy="413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440" y="5996880"/>
              <a:ext cx="556560" cy="218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69040" y="5846400"/>
              <a:ext cx="56340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32800" y="5846400"/>
              <a:ext cx="5565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89720" y="5846400"/>
              <a:ext cx="56340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3480" y="5846400"/>
              <a:ext cx="56160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15440" y="5846400"/>
              <a:ext cx="5565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3000" y="6137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37600" y="57679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76040" y="539604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10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76040" y="502632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1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76040" y="465732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20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8920" y="637524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70520" y="637524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637524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91200" y="637524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54960" y="637524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9720" y="637524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16640" y="6580800"/>
              <a:ext cx="163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% N Load Redu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2311200" y="5580720"/>
              <a:ext cx="78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Area (k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2709720" y="510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88280" y="4419720"/>
              <a:ext cx="203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Humanst521 BT"/>
                  <a:ea typeface="Times New Roman"/>
                </a:rPr>
                <a:t>Scavia et al 2003, 200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Nutrient Fate, Transport and Sources – Flow and Flux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rivers and streams are currently monito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GS improved nutrient flux estimat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ual MARB freshwater discharge increased slight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ual nitrate flux increased from 1960s to 1990s, but decreased slightly since the mid-1990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 freshwater discharge and nit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x show slightly decreasing tre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the 1980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5896080" y="4132440"/>
            <a:ext cx="149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US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Monitoring si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9:09:57Z</dcterms:created>
  <dc:creator>Peter Tennant</dc:creator>
  <dc:description/>
  <dc:language>en-US</dc:language>
  <cp:lastModifiedBy>Peter Tennant</cp:lastModifiedBy>
  <dcterms:modified xsi:type="dcterms:W3CDTF">2008-02-12T12:43:13Z</dcterms:modified>
  <cp:revision>38</cp:revision>
  <dc:subject/>
  <dc:title>Report of the Ohio River Sub Basin Committee</dc:title>
</cp:coreProperties>
</file>