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1DD-B6CE-4EAB-8876-F0680AB4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D35-5961-448A-9739-6689A3E0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BA7-3E01-4DA9-8BC3-4944FA84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150-A4F8-4A1D-BD70-7C8ED224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F6EE-4ADF-46E8-BEE5-04ED387C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68C7-DBBE-4F2A-BFC4-6AA163FE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6C17-C0A9-4685-BEA0-7258989A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681F-E38F-4C1C-8B11-0FFC474E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1951-D6E1-4BF6-B52D-DDF18023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6E74-AE80-41AE-B5EE-7BD5698E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0960-0E94-4C37-A9C2-26460B4A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AB0-31D6-44A3-824D-7E1AF2D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4F2A-1FF6-41EC-88BE-231BA9A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97BA-D1A5-4C98-9971-E390F03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B96F-40B3-4CE5-87A5-754DC1E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D370-CADE-4D8A-9B80-757CFFE0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FEF7-5136-4967-8EBE-C0D25550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89F8-9326-4D68-AB97-7DF36EC6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F98A-36E1-49F6-9BDE-D92E7A8E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C32F-3126-4FD6-8686-9DAE0DF0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1140-5815-4436-B4C7-E4AF0F39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E601-269F-4B49-B450-18D606DB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4CF-20BD-4419-ACCB-2CF3099F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DCE9-E193-4924-B6C7-4328C9A2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26F7-D4D1-4742-91F3-28A3AE5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BA85-0D2A-4956-A461-B95B25DD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2FE0-A422-4BAB-A12F-4C0C118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A8A4-62C2-4EF9-AD5F-A4BB5F4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C9CD-BFCA-46F2-AF16-AC3C59F7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AB87-BA05-4DE2-A010-9197A0C2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7897-8B71-478A-9FBA-84173ABE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13D9-EC2F-4F98-91CA-4808DFEA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53D1-2C0F-4163-AA62-4D0D85C9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8C6-9FD1-480F-8E06-33646586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00DD-62CF-4D1A-AD2C-2B0F8695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A037-E092-4E12-B16B-6920F5AC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A4AC-6E48-45B7-92E3-E0F7E2A2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F8D5-6175-4E07-89D3-10656B0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51D9-BBEA-4343-AE45-ACFC7F9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4D22-5BE1-4803-91A9-FF8EF12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F445-4C06-4C7F-8378-3E3302E3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0D80-8375-4A19-9949-23A2BEAE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C68BE-4548-4DC1-A938-3918EADE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FCE5-0F58-44B4-94A0-275464A2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1F6-4A0E-4BB2-8A5D-47B77F24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360ED-BAD5-4213-B561-690E5519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1A153-BC65-4FE8-9CF6-8EB2F57A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A1DB4-B965-4DCA-B8D0-E492D2F8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4C384-CBE7-4D07-BD46-DD23B04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CCB7-F9FB-4940-BF25-9AC963D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0B09F-E70C-41A4-9002-E271B23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DF041-C8D7-4193-B57D-45D02CD4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9E9C-7C61-4FD0-ACAB-53276AE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A2726-325F-452B-9E74-4FCC0D2C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E1653-28F2-4015-AAB3-57B06A4A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0D8-D720-489A-9EE8-8A7F48E8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AC35F-00CE-4B21-81A9-7EB2261E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D5FD-2635-4F3B-A50D-60123CAA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89CCD-0364-42D7-81ED-7DEEC4C0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FFBD1-4993-4444-AF52-A60A422B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6D74E-4FF0-4E6D-81A3-E25DC8CF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76AA2-E6C6-4CCF-9FE0-C6ECB29E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5ADFF-9936-429F-AB6C-284ED327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A041A-4255-4244-9488-90410F6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F11F-6E83-4266-AF6F-4F1F617A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9CAA-6430-4002-8FB0-78D1871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01E-83E5-47B5-B03E-D5E54F3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596C3-C160-4893-AEA6-CB37560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B318B-CDF4-4765-94B0-F76C1BDE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A7EC9-852F-4D0A-9DFD-48A721F7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41B23-2C1F-4EC8-B62E-AE3B2AA3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69AAA-5734-484D-945F-FFCD32B3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F1CD6-5961-4F51-B8A5-57A1C5C0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82863-B86E-45FB-84DE-3F9FB833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1F51-3632-42B5-8E52-C1BAE5BB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96D8F-2E4A-481A-963F-7D01E390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A5BE7-BB2C-4771-8F49-7969981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C9D-7844-4D1E-BFEE-4DB00C73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EBF7B-88C6-4818-A5E8-5A7318A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E3AF-8888-4C03-9C51-3325AE9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18012-EADF-4B21-8C59-22038642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1240B-E1A3-467B-AE7D-B2D64344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3C18-CA77-4389-9F74-B3955F53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78046-6B67-4681-86BF-6A7C045F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3EEDC-DBFA-4E35-BF95-6B95C3A8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5F1A7-ACD6-401A-8530-80333A0D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3E3B6-082B-4293-95CD-55FD5148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0DA6A-9972-4330-8FE6-A7651AF1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B84-6CFF-412F-B0CA-E27D647D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5786E-1DCC-49BF-970B-7C0DB11E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F7555-96F3-49C9-9904-70BD21B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F557-F493-4537-95B1-B292549D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ABE0-191C-406B-8974-393AD3C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41F98-943B-430B-B950-E666D767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CFDB1-7AF7-419B-865B-6D9B7AA2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008DF-A8B4-4585-A426-F99D7D03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801A-E8F4-4C52-83E8-56C88EE3B16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7A66-486C-411D-8591-79863CF0B78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E888-3561-4725-9A39-21228EEB2AF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DD76-B0B7-450F-BDCB-D11852F3A0A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439A-2049-4C02-B6BF-2652FCA3848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EFEA-E4FC-47B8-B923-27665937DCA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33E-8090-40CB-B555-B25B08C4A12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2CB-F91F-455E-BE02-32D6C72861B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5" descr="08B6800A-E80B-48AE-AFF1-CEF5807701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9320" y="29718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Summer Conditions 2009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Algae Bloom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lgae Analysis June 8, 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utrients - September 24, 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8" name="Content Placeholder 4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utrients - June 8, 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lgae Analysis June 8, 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Chart 10" descr=""/>
          <p:cNvPicPr/>
          <p:nvPr/>
        </p:nvPicPr>
        <p:blipFill>
          <a:blip r:embed="rId1"/>
          <a:stretch/>
        </p:blipFill>
        <p:spPr>
          <a:xfrm>
            <a:off x="1060560" y="1749600"/>
            <a:ext cx="74008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Microcysti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bloo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incinnati Area (ORM 451-47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ptember 22- October 5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reports of T&amp;O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entration greater near-sho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vg. near shore 1,243 colonies/m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vg. mid river 247 colonies/m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utrients and toxicity testing not yet availabl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3:23:47Z</dcterms:created>
  <dc:creator> </dc:creator>
  <dc:description/>
  <dc:language>en-US</dc:language>
  <cp:lastModifiedBy>John Klear</cp:lastModifiedBy>
  <dcterms:modified xsi:type="dcterms:W3CDTF">2009-11-18T15:59:02Z</dcterms:modified>
  <cp:revision>31</cp:revision>
  <dc:subject/>
  <dc:title>Slide 1</dc:title>
</cp:coreProperties>
</file>