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wmf" ContentType="image/x-wmf"/>
  <Override PartName="/ppt/media/image12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30400" y="690120"/>
            <a:ext cx="45972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3757-DEAA-449E-9C1F-9DB368737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BCD9-DF27-40C9-9C46-F492F5C78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8D91-F4D7-44D9-84F0-092CD0CC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9547-762F-4610-8794-6B801BFD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4E01-ACDF-4156-BD60-DC451009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9D51-C86A-4A4F-917B-2BE3C289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3906-C767-4544-A92B-C9C57B62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30C9-DD4B-4EA7-9677-375D3AFF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3491-5407-47B6-A2CD-234DB9AB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2968-14DF-4E7A-957A-A5792515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4637-D449-4268-9BBF-E27C819F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F63A-AB6D-49EE-BDBB-0BC115AC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A042-5F5B-435B-AAD3-1988C1CA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896D-8D00-4FCF-A660-14011DB8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D288-EC43-40BA-9468-2ECC5AB9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43EE-AD63-436D-A95F-839B6EE0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3E4E-585B-477E-95D3-D45FA77D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18D3-74A6-463F-BC8A-C6D1AB20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93F0-625F-4FC6-84E4-3CBF5B9D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05B96-8531-412A-9608-DFE3615F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00525-8863-4B93-A1BC-2C39921D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E38AB-8783-4772-AB84-414BF4FC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5C1A0-5DA5-45A7-A947-99BAB7FE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4E7CA-DDED-490A-B799-28456CC4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4F20-2A6D-4E27-8670-D2B90F39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42662-3816-4182-B705-95B4123A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C6162-EA8A-483A-8B9A-B518936D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542AE-F15F-4E90-AC4B-D8F2C62C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710CD-D64E-432B-ACCD-D18B0798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EF713-143F-493C-97BA-DA38E4FD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2185E-2BF9-4C5B-B6CA-5845A266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FDFB7-692E-4ECD-B8E8-F62E8040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52D65-964D-4484-87FB-9ECD5311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F624C-85AA-4603-A3B4-02F35BEB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6886B-4E15-4E2A-8DBB-FDC79F08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4C84-7332-4AC9-9999-2BA64E1E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F091C-40D7-4128-A0D3-A67ABA90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824C2-E051-445C-B651-0E5456DE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2D4CF-876D-4928-84E0-8D556086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D8AFC-2C13-48E2-ABAD-D92531A2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A372C-103B-45CA-A89A-C36509FA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BD35F-46B2-4257-947A-839E31E4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8D02D-1715-4B52-B656-BD8F2A6F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3FEA8-4A02-476B-9992-F56F9D9C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66CEA-0962-4F08-8891-F7175389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3AF4-9FAC-4971-A7C9-C0FE8877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E58D-004B-4A28-BF39-F9B6AFD2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A1EB-3939-4777-954C-1914F506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D1B-9916-4231-902A-C10F8FFE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D79B-921C-4D47-BED6-B3709312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FE01-7D0A-4BD2-997B-08ADC7AADDE0}" type="slidenum">
              <a:rPr b="0" lang="en-US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CF66-1D3F-47D3-87CA-A305E9CE20A9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77BF-5238-48E7-9FD8-382E4F44606A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84DD-518E-4B4F-A5EB-F4DD2065CF4A}" type="slidenum">
              <a:rPr b="0" lang="en-US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fpub.epa.gov/npdes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133200" y="1255680"/>
            <a:ext cx="886464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752120" y="4147920"/>
            <a:ext cx="4876920" cy="1392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ctober 20-21,200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genda Item 6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8" descr="seal2"/>
          <p:cNvPicPr/>
          <p:nvPr/>
        </p:nvPicPr>
        <p:blipFill>
          <a:blip r:embed="rId2"/>
          <a:stretch/>
        </p:blipFill>
        <p:spPr>
          <a:xfrm>
            <a:off x="457200" y="464832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DSCN0298"/>
          <p:cNvPicPr/>
          <p:nvPr/>
        </p:nvPicPr>
        <p:blipFill>
          <a:blip r:embed="rId3"/>
          <a:stretch/>
        </p:blipFill>
        <p:spPr>
          <a:xfrm>
            <a:off x="6705720" y="4648320"/>
            <a:ext cx="218592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23" name="Picture 3" descr="011.JPG"/>
          <p:cNvPicPr/>
          <p:nvPr/>
        </p:nvPicPr>
        <p:blipFill>
          <a:blip r:embed="rId1"/>
          <a:stretch/>
        </p:blipFill>
        <p:spPr>
          <a:xfrm>
            <a:off x="450720" y="298440"/>
            <a:ext cx="8169480" cy="63403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4"/>
          <p:cNvSpPr/>
          <p:nvPr/>
        </p:nvSpPr>
        <p:spPr>
          <a:xfrm>
            <a:off x="3143880" y="2819520"/>
            <a:ext cx="3364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contact Stacey Coch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513-231-7719 ext:1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en-US" sz="3800" spc="-1" strike="noStrike">
                <a:solidFill>
                  <a:srgbClr val="1f497d"/>
                </a:solidFill>
                <a:latin typeface="Calibri"/>
              </a:rPr>
              <a:t>Ohio River CSO Communities</a:t>
            </a:r>
            <a:endParaRPr b="0" lang="en-US" sz="3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4624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ennsylvania – 10 communiti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est Virginia – 10 communiti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hio – 10 communiti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Kentucky – 10 communiti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ndiana – 7 communiti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llinois – 2 communiti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7315200" cy="58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Chart 3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104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Nine Minimum Control Status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of the communities are progressing toward implement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x Storage is the only NMC that is not 90% implemented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cus now is LTCP submittal which incorporates NMC implement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hart 2" descr=""/>
          <p:cNvPicPr/>
          <p:nvPr/>
        </p:nvPicPr>
        <p:blipFill>
          <a:blip r:embed="rId1"/>
          <a:stretch/>
        </p:blipFill>
        <p:spPr>
          <a:xfrm>
            <a:off x="225360" y="146160"/>
            <a:ext cx="869328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Chart 2" descr=""/>
          <p:cNvPicPr/>
          <p:nvPr/>
        </p:nvPicPr>
        <p:blipFill>
          <a:blip r:embed="rId1"/>
          <a:stretch/>
        </p:blipFill>
        <p:spPr>
          <a:xfrm>
            <a:off x="225360" y="146160"/>
            <a:ext cx="8693280" cy="64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gnificant CSO Community Improvements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ennsylvani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63560" indent="-41904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PA CSO Policy’s status is finalized and the SWRO is now processing the PAG-06 General CSO permi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oundsville, WV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63560" indent="-41904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LTCP was approved on 12/05/08 and flow meters have been installed on all 3 CSO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oint Pleasant, WV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63560" indent="-41904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LTCP has been updated to an approval state.  The LTCP will be approved via the permit modification process.  Flow meters will be installed on both CSO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ouisville MSD, K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63560" indent="-41904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otal number of CSO outfalls currently is 106 which is a reduction from 113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63560" indent="-41904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ral other improvements are ongoing as stated in the Consent Decre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304920" y="5753160"/>
            <a:ext cx="446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gnificant CSO Community Improvements cont’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oject WIN (Waterway Improvements Now) available on-lin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verflow Advisory Level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tegrated Overflow Abatement Pl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SO/SSO Location Map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aduca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K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wo major projects are planned which will eliminate or reduce the frequency, volume and duration of CSOs. Those projects are: (1) Paducah wastewater treatment plant upgrade – the hydraulic capacity of the WWTP will be increased from 9 to 17 MGD, allowing more wet weather flow to enter the WWTP, and (2) Perkins Creek Interceptor Separation – the scope for this project is to separate Perkins Creek Lift Station (1.5 MGD) flow from the Combined Sewer Syste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aducah is expected to complete a design soon for a stand-by generator for its influent pump station, thus reducing bypasses during power outag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171360" y="4667400"/>
            <a:ext cx="446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SO Training and Webcasts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ining Courses and Meetin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42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Managing Wet Weather with Green Infrastructure Workshop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70000"/>
              </a:lnSpc>
              <a:spcBef>
                <a:spcPts val="476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November 5, 2009-November 6, 2009-Toledo, Ohio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ining Resources-Archived Webcas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reen Infrastructu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42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The Many Benefits of Green Infrastructure &amp; Philadelphia Case Study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42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Models &amp; Calculators and Louisville Case Study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42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Retrofits: Green Streets and Operation &amp; Maintenanc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mbined Sewer Overflows (CS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42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CSO Control Technologie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42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CSO Control Policy 10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42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CSO Long Term Control Plan Basic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More information available at: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onstantia"/>
                <a:hlinkClick r:id="rId1"/>
              </a:rPr>
              <a:t>http://cfpub.epa.gov/npdes/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4:28:24Z</dcterms:created>
  <dc:creator>Minday Scott</dc:creator>
  <dc:description/>
  <dc:language>en-US</dc:language>
  <cp:lastModifiedBy>John Klear</cp:lastModifiedBy>
  <dcterms:modified xsi:type="dcterms:W3CDTF">2009-11-20T15:23:57Z</dcterms:modified>
  <cp:revision>119</cp:revision>
  <dc:subject/>
  <dc:title>Status of Combined Sewer Overflow Abatement</dc:title>
</cp:coreProperties>
</file>