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EE1-82EF-42B4-8A87-D61B9996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CC7-D307-4287-861E-C440193B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AD8-CBA4-4F48-9E3D-51F873E9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1076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572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1076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E83-EE53-4748-9035-D662DC3F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03C-1B54-4FBC-A028-A7F9ABC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39D-E42D-4738-B771-3E1CDE9C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575-9A5F-4D39-BC05-9F3A7D2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BE7-1DED-4952-9FF1-B4D9977A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6080" y="151920"/>
            <a:ext cx="74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455-EB67-4629-8CEF-BA75DE57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41F-8D6F-471E-87D7-8607645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E24-EB2F-4B8A-AF23-548CDEB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C20-F291-441F-BF60-61D0932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outlet vert"/>
          <p:cNvPicPr/>
          <p:nvPr/>
        </p:nvPicPr>
        <p:blipFill>
          <a:blip r:embed="rId3"/>
          <a:srcRect l="0" t="26283" r="0" b="6071"/>
          <a:stretch/>
        </p:blipFill>
        <p:spPr>
          <a:xfrm>
            <a:off x="0" y="2603520"/>
            <a:ext cx="1004760" cy="98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98480" indent="-280800">
              <a:spcBef>
                <a:spcPts val="1749"/>
              </a:spcBef>
              <a:buClr>
                <a:srgbClr val="33cc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6240" indent="-233280">
              <a:spcBef>
                <a:spcPts val="1749"/>
              </a:spcBef>
              <a:buClr>
                <a:srgbClr val="33cc33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92FE-A8D4-468A-AE3B-735AC36B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air pillution stack"/>
          <p:cNvPicPr/>
          <p:nvPr/>
        </p:nvPicPr>
        <p:blipFill>
          <a:blip r:embed="rId4"/>
          <a:srcRect l="0" t="7228" r="0" b="0"/>
          <a:stretch/>
        </p:blipFill>
        <p:spPr>
          <a:xfrm>
            <a:off x="0" y="0"/>
            <a:ext cx="1004760" cy="1450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silverfish"/>
          <p:cNvPicPr/>
          <p:nvPr/>
        </p:nvPicPr>
        <p:blipFill>
          <a:blip r:embed="rId5"/>
          <a:srcRect l="0" t="0" r="0" b="10046"/>
          <a:stretch/>
        </p:blipFill>
        <p:spPr>
          <a:xfrm>
            <a:off x="0" y="4884840"/>
            <a:ext cx="1004760" cy="67284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3"/>
          <p:cNvSpPr/>
          <p:nvPr/>
        </p:nvSpPr>
        <p:spPr>
          <a:xfrm>
            <a:off x="0" y="1320840"/>
            <a:ext cx="9144000" cy="46080"/>
          </a:xfrm>
          <a:prstGeom prst="rect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pfa2"/>
          <p:cNvPicPr/>
          <p:nvPr/>
        </p:nvPicPr>
        <p:blipFill>
          <a:blip r:embed="rId6"/>
          <a:srcRect l="47685" t="2034" r="0" b="16251"/>
          <a:stretch/>
        </p:blipFill>
        <p:spPr>
          <a:xfrm>
            <a:off x="0" y="1397160"/>
            <a:ext cx="1004760" cy="1158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wetland 8"/>
          <p:cNvPicPr/>
          <p:nvPr/>
        </p:nvPicPr>
        <p:blipFill>
          <a:blip r:embed="rId7"/>
          <a:srcRect l="21493" t="0" r="21493" b="0"/>
          <a:stretch/>
        </p:blipFill>
        <p:spPr>
          <a:xfrm>
            <a:off x="0" y="3638520"/>
            <a:ext cx="1004760" cy="1198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Kammer port"/>
          <p:cNvPicPr/>
          <p:nvPr/>
        </p:nvPicPr>
        <p:blipFill>
          <a:blip r:embed="rId8"/>
          <a:srcRect l="0" t="0" r="0" b="13601"/>
          <a:stretch/>
        </p:blipFill>
        <p:spPr>
          <a:xfrm>
            <a:off x="0" y="5605560"/>
            <a:ext cx="1004760" cy="13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2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EP/EPRI Study of Speciation and Bioavailability of Mercury: Preliminary Result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57164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Rob Reash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American Electric Power, Columbus, OH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aramond"/>
              </a:rPr>
              <a:t>ORSANCO Technical Committee Meeting, October 2016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50" name="Picture 4" descr="outlet vert"/>
          <p:cNvPicPr/>
          <p:nvPr/>
        </p:nvPicPr>
        <p:blipFill>
          <a:blip r:embed="rId1"/>
          <a:srcRect l="0" t="26285" r="0" b="6059"/>
          <a:stretch/>
        </p:blipFill>
        <p:spPr>
          <a:xfrm>
            <a:off x="2360520" y="2857680"/>
            <a:ext cx="11638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ir pillution stack"/>
          <p:cNvPicPr/>
          <p:nvPr/>
        </p:nvPicPr>
        <p:blipFill>
          <a:blip r:embed="rId2"/>
          <a:srcRect l="0" t="7228" r="0" b="0"/>
          <a:stretch/>
        </p:blipFill>
        <p:spPr>
          <a:xfrm>
            <a:off x="1079640" y="2743200"/>
            <a:ext cx="94932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ilverfish"/>
          <p:cNvPicPr/>
          <p:nvPr/>
        </p:nvPicPr>
        <p:blipFill>
          <a:blip r:embed="rId3"/>
          <a:srcRect l="0" t="0" r="0" b="10046"/>
          <a:stretch/>
        </p:blipFill>
        <p:spPr>
          <a:xfrm>
            <a:off x="3855960" y="2948040"/>
            <a:ext cx="143532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fa2"/>
          <p:cNvPicPr/>
          <p:nvPr/>
        </p:nvPicPr>
        <p:blipFill>
          <a:blip r:embed="rId4"/>
          <a:srcRect l="47685" t="2034" r="0" b="16251"/>
          <a:stretch/>
        </p:blipFill>
        <p:spPr>
          <a:xfrm>
            <a:off x="5622840" y="28576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Kammer port"/>
          <p:cNvPicPr/>
          <p:nvPr/>
        </p:nvPicPr>
        <p:blipFill>
          <a:blip r:embed="rId5"/>
          <a:srcRect l="0" t="0" r="0" b="13605"/>
          <a:stretch/>
        </p:blipFill>
        <p:spPr>
          <a:xfrm>
            <a:off x="6934320" y="2743200"/>
            <a:ext cx="10573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hart 1" descr=""/>
          <p:cNvPicPr/>
          <p:nvPr/>
        </p:nvPicPr>
        <p:blipFill>
          <a:blip r:embed="rId1"/>
          <a:stretch/>
        </p:blipFill>
        <p:spPr>
          <a:xfrm>
            <a:off x="909720" y="611280"/>
            <a:ext cx="73245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hart 1" descr=""/>
          <p:cNvPicPr/>
          <p:nvPr/>
        </p:nvPicPr>
        <p:blipFill>
          <a:blip r:embed="rId1"/>
          <a:stretch/>
        </p:blipFill>
        <p:spPr>
          <a:xfrm>
            <a:off x="909720" y="611280"/>
            <a:ext cx="73245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1" descr=""/>
          <p:cNvPicPr/>
          <p:nvPr/>
        </p:nvPicPr>
        <p:blipFill>
          <a:blip r:embed="rId1"/>
          <a:stretch/>
        </p:blipFill>
        <p:spPr>
          <a:xfrm>
            <a:off x="909720" y="611280"/>
            <a:ext cx="73245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hart 1" descr=""/>
          <p:cNvPicPr/>
          <p:nvPr/>
        </p:nvPicPr>
        <p:blipFill>
          <a:blip r:embed="rId1"/>
          <a:stretch/>
        </p:blipFill>
        <p:spPr>
          <a:xfrm>
            <a:off x="909720" y="611280"/>
            <a:ext cx="73245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art 1" descr=""/>
          <p:cNvPicPr/>
          <p:nvPr/>
        </p:nvPicPr>
        <p:blipFill>
          <a:blip r:embed="rId1"/>
          <a:stretch/>
        </p:blipFill>
        <p:spPr>
          <a:xfrm>
            <a:off x="871560" y="611280"/>
            <a:ext cx="740088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Regression Analysis Results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g vs TDS, sulfate, and conductivity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= 0.40 to 0.48 (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&lt; 0.001)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H vs TOC:  r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= 0.20;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&lt; 0.01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g vs TOC: r = -0.2; N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nclusions: Preliminary Resul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edian concentrations of all Hg species were marginally higher in wastewater and mixing zone samples, however the median concentration of THg in wastewater samples was &lt; 5 ng/L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median % MeHg was highest in ambient river samples, but this was &lt; 2%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median % bioavailable Hg ranged from 11.3% (ambient river) to 14.1% (wastewater). Thus, the median bioavailable fraction of THg for all samples was &lt; 20%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cognition of the need to understand bioavailable H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lthough THg concentration is relevant for any investigation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of Hg-contaminated soils and sediments, the fraction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available for methylation and, ultimately, for accumulation in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the food web is of particular importance…Identification of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the particular chemical species is less important than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understanding the overall “available” Hg concentratio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Bighan, G.N., K.J. Murray, Y. Masue-Slowey. And E.A.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Henry. In press. Biogeochemical controls on methylmercury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in soils and sediments: implications for site management.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Integrated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Environmental Assessment and Management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Next Steps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rcury translator study approved by Ohio EPA (James Gavin Plant BAP discharge)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entation at SETAC (Society of Environmental Toxicology and Chemistry)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nnual North American conference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anuscript submitted to journa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Basic Assumption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ll (or most) of mercury is available for bioaccumulation.  Thus, total Hg should be regulated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But…..if this were true then fish tissue Hg levels should spike after high flow event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RSANCO water quality sampling shows the % MeHg of THg is 2 – 3%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Purpose of Study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ssess the operationally-defined bioavailability of Hg in various water sample type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valuate whether treated wastewater contributes to increased Hg bioavailability.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rcury in Water Samples: Typical Analy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tal Hg (and dissolved Hg) by EPA   Method 1631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Hg by EPA Method 1630*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* Assumption is that the proportion of   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MeHg to THg represents the bioavailable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fraction of all sum mercury speci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ioavailable Hg -  Not Just MeHg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Bioavailable Hg consists of two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components: MeHg and inorganic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bioavailable Hg (IB – Hg) that may be 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readily converted to MeH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                        WERF, 2009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 IB – Hg also called “reactive inorganic Hg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us, the Fraction of Bioavailable Hg is: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 (B – Hg) = f (MeHg) + f (IB – Hg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*However, the formation and  persistence of methylmercury is not always at steady stat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g</a:t>
            </a:r>
            <a:r>
              <a:rPr b="0" lang="en-US" sz="2800" spc="-1" strike="noStrike" baseline="-25000">
                <a:solidFill>
                  <a:srgbClr val="f8f8f8"/>
                </a:solidFill>
                <a:latin typeface="Arial"/>
              </a:rPr>
              <a:t>methylat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↔ Hg</a:t>
            </a:r>
            <a:r>
              <a:rPr b="0" lang="en-US" sz="2800" spc="-1" strike="noStrike" baseline="-25000">
                <a:solidFill>
                  <a:srgbClr val="f8f8f8"/>
                </a:solidFill>
                <a:latin typeface="Arial"/>
              </a:rPr>
              <a:t>demethylat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asic Methodology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llection and analysis of ambient, wastewater, and mixing zone (simulated) water sample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THg and dissolved Hg by CV-AF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MeHg by IPC-CV-ICP-MS.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acid-labile (IB) Hg by fluorescenc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ther variables that influence Hg bioavailability (TSS, TOC, pH, sulfide, sulfate, TDS)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Water Sample Types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reated wastewater: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FGD landfill leachat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FGD purge stream w/ fly ash landfill leachat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FGD purge stream w/bottom ash sluice and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  miscellaneous low-volume streams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FGD purge stream (from 2° clarifier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ixing zon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50:50 mix of wastewater and ambient Ohio R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Worst-case (unrealistic) mixtu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mbient Ohio River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RM 73, 241, 260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1" descr=""/>
          <p:cNvPicPr/>
          <p:nvPr/>
        </p:nvPicPr>
        <p:blipFill>
          <a:blip r:embed="rId1"/>
          <a:stretch/>
        </p:blipFill>
        <p:spPr>
          <a:xfrm>
            <a:off x="871560" y="611280"/>
            <a:ext cx="740088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18:53Z</dcterms:created>
  <dc:creator>American Electric Power®</dc:creator>
  <dc:description/>
  <dc:language>en-US</dc:language>
  <cp:lastModifiedBy>Jason Heath</cp:lastModifiedBy>
  <dcterms:modified xsi:type="dcterms:W3CDTF">2016-10-03T13:01:53Z</dcterms:modified>
  <cp:revision>137</cp:revision>
  <dc:subject/>
  <dc:title>PowerPoint Presentation</dc:title>
</cp:coreProperties>
</file>