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1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F0A4-6729-460C-8E20-AA76EFF4DD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686D7-DF63-4AB2-B5D7-7F8D76E743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CCE0-D808-4BDE-B8C9-FD01A01FD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87DA-DDE8-4697-9D5C-A1C9A9C11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301D-0B98-493F-8DF0-0EAA2B200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75E7-7697-469A-8ACC-23CA026FB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CF86F-2608-447C-9C0D-DD3D6CC5D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E443A-DFCC-48D3-A69C-EBC6EAE22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C422C-20E2-4AE3-95E8-D227E7D21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7A664-3623-44DF-ABC8-2F540A87A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B3EC3-BC3C-4AC3-BED6-AC7CAA650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4C705-4C04-4404-9280-58DA8231B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96FD8-4663-4CAD-AC3E-80C4B5E5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4A28-14CC-417E-AF1B-DD2303511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D412E-7977-49D3-A3E4-E057AFB4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ABD0A-51B9-48E0-9A0D-8B1F9C28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A467B-ADA2-4CF4-8A97-7B0C73D78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01039-77F8-4DD7-A93F-9EB2A03D5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4BBC6-7D03-4CE3-A0BF-E37E6CA41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8E196-30C2-4CC5-8A12-AD7371153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1578D-80D0-4425-85F6-6E60326E4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17A12-30CB-4E71-97F0-620DD4F5A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D7227-A43B-4A7F-8F91-CBF8A28F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53288-820A-482E-8C90-0B2CED828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C859-D0A7-4163-9436-6256B2A88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99607-C1B8-4FDF-ADB2-0C961CB82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4B9A0-D75D-4B1C-BF00-1E99ED4D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EE4AD-8B3E-4207-A1C4-26976BEC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A17DB-2085-4ECB-B411-E5B94B34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75B53-C65B-432D-BA74-10E69A561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D3B25-D01F-4324-8397-17D378CF4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00180-C4EF-41E9-960A-B161F416F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0CC58-D228-454E-98D6-D267497A9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168A9-D5BA-4F55-973E-1DF11A8B0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C7E2F-0804-4425-BAF8-A43655E81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AE75-29EE-45CA-BF22-441F4776C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ED7FF-60AD-4E3A-8538-A750D05D1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7CBF4-1768-4F7C-B68A-AA1CB788B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8DF0A-E56F-499C-89EC-086A5002B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54358-2641-4239-9FF0-E37F234F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AE4B3-B7AC-46CE-A243-E2EF330B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11FC1-F076-438E-8F9D-86BA47FC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BDB6E-DA73-47F6-A88B-AF48D78C3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89C9E-3D95-4169-B082-1D4FE6694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98EE2-0C5E-4E64-A6CE-509D66C44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035DE-4848-4D56-8D0C-D843BDB37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0CB8-9319-4B3E-8527-1253D87FE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A10BB-1F54-4D1B-B840-BC5CF8F20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3AB0A-EC8D-4085-948B-C2C329C33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44DE1-092C-48FE-BB4D-91A0E9B5A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FC2B0-5F58-45C9-8C88-3BB5AF392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3CCC1-4680-4062-A466-701A50FB3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F5D40-658A-468E-B9E3-C5AF7B64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9EB5B-2304-43D4-BBBF-6D7CB642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C6162-EB7D-4329-8094-8B9D0C6D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C2B9D-FE3F-4880-9F57-D0D3EE57B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39E9E-AE3C-4E0E-BDFF-0E45C02EE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099E-30A7-4DAE-ACF7-7F741AC61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6278F-3EED-4AD0-900A-511BEAB8A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68069-9721-4452-A3A3-8842187E0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46076-7F0E-4547-8E6C-310FC28A7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A0ED0-9FD6-41AC-9179-ED28ADC88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6CE6E-0E45-4684-B940-F05535140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58D1E-D680-48C6-A4A5-1EB04A412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0814C2-2AF5-4E57-8562-8DE338954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2561F-8275-453D-819F-8152BDE7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CAAD49-3736-4D3C-96F7-08E605A3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F5E18-3A52-4AED-A3BE-746C75A1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5954-260D-4028-8133-A4AF9A53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C9A1B-177A-4F84-988F-E798CD646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8EC26-1A08-4464-89E4-61FF586F9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2AFB0-3815-42A6-B504-88810AA1C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9F67CA-3175-40A4-977D-44C9B6BB4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4D9E63-958C-4039-88BE-28E7D165E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DFA32-A791-490E-849C-CDF8DA5A2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AB82EB-9A58-488C-BAC1-F1A171663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8E08F-E027-407E-9B75-470582141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982BC-701B-4D67-A0F6-C7E70023E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1FB222-B77A-4C7B-8679-67BEE45C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A686-589A-4F93-840A-2F21ECA4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B4058-93D7-47A4-9D3C-8878DD37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23AA7-9F98-4ECA-B005-CF2BF7A5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4DE77-B7DF-4408-B180-30CC9CAF5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A9A2A-CDEB-4BBF-88F9-D0EABD563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D3DDED-7361-48B7-97E2-62652DA66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39E4-991E-47BD-BAD9-B50566CE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0ADFD-12CA-451A-9A9E-9EBFAF15397F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3B7AC-CFE2-4103-BC45-BE1B2A77F58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D1E11-281D-4C3F-B77B-A0144C28011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3ECB1-3D10-4C80-B1CE-8A3A7C6DC9B1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17567-54BE-4B68-BAB4-AA7CE234065E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7320B-D6C9-4F44-899A-C6B632E57ACE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F224F-E65C-4C73-AAC0-368C8E92EBB2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1219320" y="838080"/>
            <a:ext cx="6781680" cy="228600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Nutrient Trading Program Update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11" name="Picture 3" descr="C:\My Documents\Publications\305(b)\colored logo.tif"/>
          <p:cNvPicPr/>
          <p:nvPr/>
        </p:nvPicPr>
        <p:blipFill>
          <a:blip r:embed="rId1"/>
          <a:stretch/>
        </p:blipFill>
        <p:spPr>
          <a:xfrm>
            <a:off x="3124080" y="3962520"/>
            <a:ext cx="28958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Title 3" descr=""/>
          <p:cNvPicPr/>
          <p:nvPr/>
        </p:nvPicPr>
        <p:blipFill>
          <a:blip r:embed="rId1"/>
          <a:stretch/>
        </p:blipFill>
        <p:spPr>
          <a:xfrm>
            <a:off x="262080" y="2736720"/>
            <a:ext cx="85104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5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PRI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ORSANCO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merican Farmland Trust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University of California Santa Barbara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Hunton &amp; Williams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USDA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Kieser &amp; Associates, LLC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64832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US EPA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uke Energ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ennessee Valley Authorit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Hoosier Energ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merican Electric Pow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iami Conservancy Distric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Ohio Farm Bureau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4" descr=""/>
          <p:cNvPicPr/>
          <p:nvPr/>
        </p:nvPicPr>
        <p:blipFill>
          <a:blip r:embed="rId1"/>
          <a:stretch/>
        </p:blipFill>
        <p:spPr>
          <a:xfrm>
            <a:off x="593640" y="593640"/>
            <a:ext cx="7829640" cy="58024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4" descr=""/>
          <p:cNvPicPr/>
          <p:nvPr/>
        </p:nvPicPr>
        <p:blipFill>
          <a:blip r:embed="rId2"/>
          <a:srcRect l="0" t="0" r="562" b="0"/>
          <a:stretch/>
        </p:blipFill>
        <p:spPr>
          <a:xfrm>
            <a:off x="0" y="0"/>
            <a:ext cx="2540160" cy="1687680"/>
          </a:xfrm>
          <a:prstGeom prst="rect">
            <a:avLst/>
          </a:prstGeom>
          <a:ln w="0">
            <a:noFill/>
          </a:ln>
        </p:spPr>
      </p:pic>
      <p:sp>
        <p:nvSpPr>
          <p:cNvPr id="317" name="TextBox 3"/>
          <p:cNvSpPr/>
          <p:nvPr/>
        </p:nvSpPr>
        <p:spPr>
          <a:xfrm>
            <a:off x="2370240" y="2125800"/>
            <a:ext cx="4184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Corbel"/>
              </a:rPr>
              <a:t>Full Scale Program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rbel"/>
              </a:rPr>
              <a:t>46 Power plant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rbel"/>
              </a:rPr>
              <a:t>230,000 Farmer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rbel"/>
              </a:rPr>
              <a:t>3000+ WWTP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rbel"/>
              </a:rPr>
              <a:t>Millions of Pounds of Nutrient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4" descr="ORB_HUC10_Ohio"/>
          <p:cNvPicPr/>
          <p:nvPr/>
        </p:nvPicPr>
        <p:blipFill>
          <a:blip r:embed="rId1"/>
          <a:stretch/>
        </p:blipFill>
        <p:spPr>
          <a:xfrm>
            <a:off x="450720" y="1212840"/>
            <a:ext cx="6597720" cy="5354640"/>
          </a:xfrm>
          <a:prstGeom prst="rect">
            <a:avLst/>
          </a:prstGeom>
          <a:ln w="0">
            <a:noFill/>
          </a:ln>
        </p:spPr>
      </p:pic>
      <p:pic>
        <p:nvPicPr>
          <p:cNvPr id="319" name="Title 1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0" name="TextBox 8"/>
          <p:cNvSpPr/>
          <p:nvPr/>
        </p:nvSpPr>
        <p:spPr>
          <a:xfrm>
            <a:off x="6116760" y="1703520"/>
            <a:ext cx="383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1. Seller (BMP) in OH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2. Buyer (PS) in KY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Isosceles Triangle 11"/>
          <p:cNvSpPr/>
          <p:nvPr/>
        </p:nvSpPr>
        <p:spPr>
          <a:xfrm>
            <a:off x="4865760" y="3116160"/>
            <a:ext cx="203040" cy="212760"/>
          </a:xfrm>
          <a:prstGeom prst="triangle">
            <a:avLst>
              <a:gd name="adj" fmla="val 50000"/>
            </a:avLst>
          </a:prstGeom>
          <a:solidFill>
            <a:srgbClr val="f0a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ctr">
            <a:noAutofit/>
          </a:bodyPr>
          <a:p>
            <a:pPr marL="219240" indent="-2192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Isosceles Triangle 12"/>
          <p:cNvSpPr/>
          <p:nvPr/>
        </p:nvSpPr>
        <p:spPr>
          <a:xfrm>
            <a:off x="4724280" y="3649680"/>
            <a:ext cx="204840" cy="214200"/>
          </a:xfrm>
          <a:prstGeom prst="triangle">
            <a:avLst>
              <a:gd name="adj" fmla="val 50000"/>
            </a:avLst>
          </a:prstGeom>
          <a:solidFill>
            <a:srgbClr val="f0a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marL="219240" indent="-2192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50 farmer contracts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20,000 acres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45,000 pounds Nitrogen Annually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15,000 pounds Phosphorous Annually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$$$ to Producers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$$$ to local support (TSPs, SWCD, others)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We expect a combination of instate and interstate trades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Anticipate retiring a portion of credits generated. 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Only 2 growing seasons for pilots!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6" name="Line 3"/>
          <p:cNvSpPr/>
          <p:nvPr/>
        </p:nvSpPr>
        <p:spPr>
          <a:xfrm>
            <a:off x="571680" y="5288040"/>
            <a:ext cx="8156520" cy="2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436320" y="2798640"/>
            <a:ext cx="729000" cy="23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219240" indent="-21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Draft Program Framework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Text Box 5"/>
          <p:cNvSpPr/>
          <p:nvPr/>
        </p:nvSpPr>
        <p:spPr>
          <a:xfrm>
            <a:off x="1260000" y="2455920"/>
            <a:ext cx="729000" cy="28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219240" indent="-21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Consensus on Framework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Text Box 6"/>
          <p:cNvSpPr/>
          <p:nvPr/>
        </p:nvSpPr>
        <p:spPr>
          <a:xfrm>
            <a:off x="7372080" y="2268360"/>
            <a:ext cx="729000" cy="27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219240" indent="-21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EPRI aggregates credits &amp; transact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Text Box 9"/>
          <p:cNvSpPr/>
          <p:nvPr/>
        </p:nvSpPr>
        <p:spPr>
          <a:xfrm>
            <a:off x="3015720" y="2327400"/>
            <a:ext cx="454680" cy="29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219240" indent="-21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Engage Specific Farmer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Line 10"/>
          <p:cNvSpPr/>
          <p:nvPr/>
        </p:nvSpPr>
        <p:spPr>
          <a:xfrm>
            <a:off x="687240" y="5186520"/>
            <a:ext cx="0" cy="27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Line 11"/>
          <p:cNvSpPr/>
          <p:nvPr/>
        </p:nvSpPr>
        <p:spPr>
          <a:xfrm>
            <a:off x="2511360" y="5180040"/>
            <a:ext cx="0" cy="27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Line 13"/>
          <p:cNvSpPr/>
          <p:nvPr/>
        </p:nvSpPr>
        <p:spPr>
          <a:xfrm>
            <a:off x="4105440" y="5253120"/>
            <a:ext cx="0" cy="27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Line 14"/>
          <p:cNvSpPr/>
          <p:nvPr/>
        </p:nvSpPr>
        <p:spPr>
          <a:xfrm>
            <a:off x="3363840" y="5221440"/>
            <a:ext cx="0" cy="27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Line 15"/>
          <p:cNvSpPr/>
          <p:nvPr/>
        </p:nvSpPr>
        <p:spPr>
          <a:xfrm flipV="1">
            <a:off x="1346040" y="5356080"/>
            <a:ext cx="0" cy="5954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Text Box 16"/>
          <p:cNvSpPr/>
          <p:nvPr/>
        </p:nvSpPr>
        <p:spPr>
          <a:xfrm>
            <a:off x="0" y="5956200"/>
            <a:ext cx="23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9240" indent="-21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We Are Here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Text Box 17"/>
          <p:cNvSpPr/>
          <p:nvPr/>
        </p:nvSpPr>
        <p:spPr>
          <a:xfrm>
            <a:off x="0" y="5605560"/>
            <a:ext cx="11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9240" indent="-21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Text Box 20"/>
          <p:cNvSpPr/>
          <p:nvPr/>
        </p:nvSpPr>
        <p:spPr>
          <a:xfrm>
            <a:off x="4111560" y="5735520"/>
            <a:ext cx="11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9240" indent="-21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Text Box 21"/>
          <p:cNvSpPr/>
          <p:nvPr/>
        </p:nvSpPr>
        <p:spPr>
          <a:xfrm>
            <a:off x="7734240" y="5624640"/>
            <a:ext cx="11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9240" indent="-21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2014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Text Box 22"/>
          <p:cNvSpPr/>
          <p:nvPr/>
        </p:nvSpPr>
        <p:spPr>
          <a:xfrm>
            <a:off x="6076440" y="2314440"/>
            <a:ext cx="454680" cy="27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219240" indent="-21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Generate credit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6199200" y="5145120"/>
            <a:ext cx="0" cy="27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Line 26"/>
          <p:cNvSpPr/>
          <p:nvPr/>
        </p:nvSpPr>
        <p:spPr>
          <a:xfrm>
            <a:off x="5475240" y="5205240"/>
            <a:ext cx="0" cy="27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3871080" y="2219400"/>
            <a:ext cx="454680" cy="30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219240" indent="-21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Contracts with Farmer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Line 28"/>
          <p:cNvSpPr/>
          <p:nvPr/>
        </p:nvSpPr>
        <p:spPr>
          <a:xfrm>
            <a:off x="1662120" y="5173560"/>
            <a:ext cx="0" cy="27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Text Box 29"/>
          <p:cNvSpPr/>
          <p:nvPr/>
        </p:nvSpPr>
        <p:spPr>
          <a:xfrm>
            <a:off x="1093680" y="5627520"/>
            <a:ext cx="11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9240" indent="-21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Text Box 30"/>
          <p:cNvSpPr/>
          <p:nvPr/>
        </p:nvSpPr>
        <p:spPr>
          <a:xfrm>
            <a:off x="4927320" y="2448000"/>
            <a:ext cx="729000" cy="27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219240" indent="-21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Implement BMPs &amp; verify credit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Text Box 32"/>
          <p:cNvSpPr/>
          <p:nvPr/>
        </p:nvSpPr>
        <p:spPr>
          <a:xfrm>
            <a:off x="2309040" y="2271600"/>
            <a:ext cx="454680" cy="29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219240" indent="-21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Finalize Power Plant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Line 33"/>
          <p:cNvSpPr/>
          <p:nvPr/>
        </p:nvSpPr>
        <p:spPr>
          <a:xfrm>
            <a:off x="7672320" y="5165640"/>
            <a:ext cx="0" cy="27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Text Box 35"/>
          <p:cNvSpPr/>
          <p:nvPr/>
        </p:nvSpPr>
        <p:spPr>
          <a:xfrm>
            <a:off x="8264160" y="2446200"/>
            <a:ext cx="729000" cy="27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219240" indent="-21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Modify Framework for full rollou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Line 36"/>
          <p:cNvSpPr/>
          <p:nvPr/>
        </p:nvSpPr>
        <p:spPr>
          <a:xfrm>
            <a:off x="8255160" y="5203800"/>
            <a:ext cx="0" cy="27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Line 37"/>
          <p:cNvSpPr/>
          <p:nvPr/>
        </p:nvSpPr>
        <p:spPr>
          <a:xfrm>
            <a:off x="8729640" y="5211720"/>
            <a:ext cx="0" cy="27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2" name="Line 38"/>
          <p:cNvSpPr/>
          <p:nvPr/>
        </p:nvSpPr>
        <p:spPr>
          <a:xfrm>
            <a:off x="4721400" y="5221440"/>
            <a:ext cx="0" cy="27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58280" cy="126216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dividual visits to Ohio, Indiana, Kentuck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eeting with Sub Basin Steering Committe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dentified issues that need to be resolved for trading to procee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Title 1" descr=""/>
          <p:cNvPicPr/>
          <p:nvPr/>
        </p:nvPicPr>
        <p:blipFill>
          <a:blip r:embed="rId1"/>
          <a:stretch/>
        </p:blipFill>
        <p:spPr>
          <a:xfrm>
            <a:off x="255600" y="79200"/>
            <a:ext cx="8559720" cy="133524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etirement Ratio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Uncertainty Ratio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uture compliance assumptions and requirement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Title 3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ower retirement ratios could be considere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PA concurs with approach to reduce uncertainty ratios through field testing of pilot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Voluntary reduction efforts might be recognized in future compliance consideration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5T16:32:19Z</dcterms:created>
  <dc:creator>peter</dc:creator>
  <dc:description/>
  <dc:language>en-US</dc:language>
  <cp:lastModifiedBy>jklear</cp:lastModifiedBy>
  <dcterms:modified xsi:type="dcterms:W3CDTF">2011-10-27T17:28:08Z</dcterms:modified>
  <cp:revision>6</cp:revision>
  <dc:subject/>
  <dc:title>Slide 1</dc:title>
</cp:coreProperties>
</file>