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ECDCC-2FA3-4F50-B253-E394E3C62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A9E4-2C6E-4D6A-B336-E6AF0816C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F85177-7360-4697-933C-A44BB14E8C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62881B-6F27-4598-BE3B-1135ACF3E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67A03-7383-483F-AF3F-C45E0F5EF2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CCA39-9522-424C-B2F8-42A666F9B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BB333-60B2-422A-A554-48B8A1FEA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2C6B6-5254-4376-83EB-CE1F158A5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87F58-6A55-4C0E-8142-B1790E8B9D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D2850B-F140-4A07-9D8C-6BCDA40810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327118-2056-415D-8608-50B9B23FA9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73D190-6739-42EF-8C9C-0FF6EFF0D6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B9900-5F3D-4F87-9027-6C2EC0C01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B38A2-B76D-4630-A865-16E013D62A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98FDE7-40C4-48A6-AF16-1272E1DE1F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AB8049-E520-4087-951B-DD4A111C8A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F6DC3F-2898-4AA2-90A1-45DA07B418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FE469B-A4C9-4FDF-A695-AE3BF12505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714E27-8899-43E6-8FB1-0CAFFFCC02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8063E0-4E23-4DB3-9CB5-32A86956D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B1E6AC-51FB-460C-A6E7-E578772A3A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F61A69-70EA-4A5C-8E12-B756DB8026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5D8001-082D-40C4-8751-5592040CCB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B607B-F514-4BE2-8EFA-EE2ADFBA8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BB6F05-221D-4CDC-9482-8A40C00D08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E14A1F-1C98-4629-949E-5C9E876A2C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5A7477-3B57-4EB1-BDAA-54EB7BAA92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5409A4-6544-4E47-ACBE-E55C5F0379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3B31CB-FF18-4D7E-A4DC-3054020091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9AE0A4-DBE5-40EE-B3D3-441BF12535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6F37A3-E734-434E-AF0D-40AFB6CB71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440513-1407-4EA3-998B-DAFF6D2DFA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9765A3-2C78-48D2-9C32-33DF98027B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5DD86C-3CEC-453C-8E2B-3BCD70CE4F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F297A-44C5-4991-8677-7E17BD7C2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4B63FF-6598-44D4-A142-3FF1ABBD0C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B73E64-F142-4CCB-BF06-BF049B11BA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926D39-C220-460D-B2A6-8D29F459DE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8EF5CF-FEF7-48CC-9C08-B0A4806F2C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AFBDDE-3FFB-432A-B9AE-278BFCC5FB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376047-274B-4787-AAC0-63177CF367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3FF273-A73C-4E1D-A6B5-D7306E7E0A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FA6AAD-8899-400D-9132-00827F026C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879BD7-3AE2-4D88-B1B1-738DC71229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CABBE7-A849-4F0E-9909-E11C635EDF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2AB70-607C-44AB-8698-488451C6F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02AEEC-9BE1-4994-91E7-93FCCF96D9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6D1648-CDA5-469C-97E1-EA5711A470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7E3827-CA77-49F4-9635-0FF48805FD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632FD2-E7E4-4792-8F93-98681F5638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362461-0983-4ED7-896D-56E52710C0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725B-FA5A-47B5-949A-B242C1741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F2154-AAE0-4EE5-BF1B-B93A7A9EC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07AE6-2827-4BE0-B275-C14E35C34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96723-9FFC-4D1C-B0B5-703B36F41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E05C5-EFBA-43C1-956C-17BA7EE73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EDCD0-7D87-48C1-B37B-5E27C5DFA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9863E-9CFF-467F-8583-066C82A0B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ABCC7-02F0-4FDB-A9CB-2372F4948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C1D25-A082-483F-B89D-5E6897650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D15CF-1316-43D8-BFF8-EEDC7DD59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CFBA2-EADD-4F75-8745-F9FAA0C36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C6ACD6-8C9E-4667-905D-5E9C6526DA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28DB0-8121-40DE-9720-C96C82A60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F7F33-CEEA-4989-971A-C5B955387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173B3-D26D-4596-B6E7-C1BC26908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39BA8-CA4B-4957-9C7B-23D926956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021C-4EF3-4AE6-B051-EBA385C0E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7BCC2-5495-4943-945E-3F01B75D7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2BE1D-1C65-4953-893E-683D6B211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A9F18-C8BE-4699-9374-68AA12CE3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CCDE2-6CE4-4F97-B42F-3A75DF1E7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C85EE-2296-4CB9-87B3-CEBE94BC1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B0C677-30B9-44D4-BF0F-22D4E717A6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9AFA30-C99C-45EF-9F83-70948ED0C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5F7ABC-BE2F-4D53-8F6E-A25AB7359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08A26-3541-4ABB-BF7E-05329C23D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EF3E3-B975-42D0-A92E-BA46A9A41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60B4D-C288-4B8B-9A21-5F2DDE48E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3CE9D-9333-4F4F-8144-0434F25CD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92F45-1352-471B-8B77-4DAD5E0D3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C58DD-4FC7-4BD2-94C3-A93652E0D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AC48D-F6D9-4974-8358-4DFB92ADC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82A62-3DA2-4EE8-875F-46C8A9CB8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45E7B-69F4-48D5-B17D-DDE1AD327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B59F3F-FD7F-4284-95E8-EB85B29F4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4EF7E2-67AD-4B0E-BA5D-26B858700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81F8FA-3C9C-4799-BFBC-8C158F69D8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C625B-CCB4-4800-95DA-3D0DE797C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EDE1E-8A52-4534-8F18-CF8B9837D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410B3-62EC-44B5-8115-930777A68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31078-2D82-44C1-B084-A1420DD52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92C10-8DD9-47D8-B158-C41736596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42B3D-B46C-4C41-889F-FC6F80890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6C348-ED32-431D-846D-5170F4321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F2BD7-8D05-4618-88F9-6C6B171EC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F0E95-D9FD-4B0E-A7B8-1DCCE1044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F5709-173F-4E00-92BD-66E7CE1F9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D3187-90D6-4AC8-80EE-84F2138FB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6A8DDD-8622-4649-8492-4BF1FDBA8C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8716-E180-4238-87D3-24302569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41B9F6-3A3B-4187-8EA6-DB2DE47C75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4187C8-C14C-4C97-9EB5-3011FE4D2E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E7412-66E2-4D64-A603-38EF40244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D45E5-A2DA-475D-83E4-3F7849B76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FBDB0-8CB2-463C-A817-454B9F877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107B1-6014-4C30-8EC3-BD138BDFD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5703B8-3990-4657-A2D2-58E7DDC1D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74A5A-6E50-4D4F-A341-3405393FC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A3F16-6B7D-47EF-8066-ED47C32C6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A2BA2-39F6-42D5-BA5A-5B215CC7B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F979-9837-4710-939C-C7581BBE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49E38-2541-40CC-A314-6FB234AD1D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6A7FE-8EF7-4E3D-BC26-CC9187DEC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028A7-549B-453E-BD22-ED608185E4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8FE681-891B-4393-8471-530146BF13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2F7FE-61B0-4D79-AB3E-08A73E997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D096A0-B40B-4077-A239-33A49762E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FEE8D-549B-445E-A319-A5FF266DE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D4BB3-FE6C-4201-95A7-AB0B8646D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C5C02A-1528-4CBE-9340-24A981B23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65167-304C-4E4F-8AEF-D4848091C2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0508-BDB9-4B12-9704-12B6C8C7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6EAA3-4DFE-4D9F-A991-2B9635BCE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8D975-37FA-44A0-8DF8-CE2EA2584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57C56-6EF6-45F6-AAD7-1466578CE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4069D8-4F06-4744-9B31-7D355F6476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5D6AA-0D5B-4781-A210-9768E8A842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A0F374-F034-4F03-B663-6A12C2F8DA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76AAF-2B1D-4B67-861F-C905AE907D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3E4D8-09A4-4654-806A-98481FD76D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98270-4215-4306-ACA1-ED62656C8B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B969D-E14E-4D9E-8EEA-7541BABC40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D2A9-0969-4A18-B226-CD516AF4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D54B2-2F77-4934-88D4-B4991FA6B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CD7B4-6B43-44B8-888C-D86BA2FE3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D5949-D207-4F6F-84E2-37584A682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4F353-24D2-441F-8CD5-0D881F03D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E23F3-58B0-434C-82DA-F522B9C7B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E64E10-E898-4FA6-BEF5-B69CB84C16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450BEA-A6C8-484A-9BF3-858C1DF3B5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F22A2B-9D96-403E-8C5E-9C9094AB5E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88718E-A6FC-4AE6-A9C8-7ED1A0163D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DB376B-F963-4625-B48E-5F6CD75F75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2"/>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74A6-E08B-4E73-8C29-87709CB3DCA7}"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7C21-9073-4C5B-B934-782EA3BAD7B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2"/>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ceb966"/>
              </a:gs>
              <a:gs pos="100000">
                <a:srgbClr val="ceb966"/>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6bb1c9"/>
              </a:gs>
              <a:gs pos="100000">
                <a:srgbClr val="6bb1c9"/>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496D-DD44-4D9A-8EC6-8C9B783544E5}"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EA05-34B0-4B26-A383-AF189F1F0D0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2"/>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ceb966"/>
              </a:gs>
              <a:gs pos="100000">
                <a:srgbClr val="ceb966"/>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6bb1c9"/>
              </a:gs>
              <a:gs pos="100000">
                <a:srgbClr val="6bb1c9"/>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6B2D-6ABD-45BF-9C7A-075748833772}"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3A9A-D038-438A-A300-A3AF0104953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2"/>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ceb966"/>
              </a:gs>
              <a:gs pos="100000">
                <a:srgbClr val="ceb966"/>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6bb1c9"/>
              </a:gs>
              <a:gs pos="100000">
                <a:srgbClr val="6bb1c9"/>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7BF7-F47D-4E4F-9114-6D7F59C331D1}"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9933-73EB-47BE-AE23-A9B14359CD2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2"/>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ceb966"/>
              </a:gs>
              <a:gs pos="100000">
                <a:srgbClr val="ceb96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3"/>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4e0e9"/>
              </a:gs>
              <a:gs pos="100000">
                <a:srgbClr val="a6d0d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BCBC-50CF-4680-BC53-9761192F89F2}"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EC26-6A18-47E8-AE9B-F0CEF62D602F}"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2"/>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ceb966"/>
              </a:gs>
              <a:gs pos="100000">
                <a:srgbClr val="ceb966"/>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6bb1c9"/>
              </a:gs>
              <a:gs pos="100000">
                <a:srgbClr val="6bb1c9"/>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CAC3-4489-487D-AF7D-7B035248A020}"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F353-2923-4204-9B21-51869ED65D4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2"/>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ebe3c2"/>
              </a:gs>
              <a:gs pos="100000">
                <a:srgbClr val="e2d5a3"/>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3"/>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CCBD-91A7-4988-AE65-EDBDFF8A67B7}"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462A-027D-456A-AFD9-EF10A9BDC01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2"/>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6bb1c9"/>
              </a:gs>
              <a:gs pos="100000">
                <a:srgbClr val="6bb1c9"/>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ceb966"/>
              </a:gs>
              <a:gs pos="100000">
                <a:srgbClr val="ceb966"/>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E225-7212-476A-BD7A-BE9695D2FDFE}"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B9CB-954C-45A1-836C-E0382D15212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2"/>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ceb966"/>
              </a:gs>
              <a:gs pos="100000">
                <a:srgbClr val="ceb966"/>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6bb1c9"/>
              </a:gs>
              <a:gs pos="100000">
                <a:srgbClr val="6bb1c9"/>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6AB0-13C3-402F-8399-36101E0FC54E}"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7764-4ADC-447B-B92D-1ECF5CEAFA9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2"/>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ceb966"/>
              </a:gs>
              <a:gs pos="100000">
                <a:srgbClr val="ceb966"/>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2EA5-C73C-4AC9-885C-709143D953E0}"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C6F5-4718-43D4-AF70-7F327E331C0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2"/>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6bb1c9"/>
              </a:gs>
              <a:gs pos="100000">
                <a:srgbClr val="6bb1c9"/>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9FE7-282E-4BCD-A82C-C337480BB753}"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FE28-885A-4B63-96DF-3881C8AC4CF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2"/>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ceb966"/>
              </a:gs>
              <a:gs pos="100000">
                <a:srgbClr val="ceb966"/>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728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72880">
              <a:spcBef>
                <a:spcPts val="700"/>
              </a:spcBef>
              <a:buClr>
                <a:srgbClr val="00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D130-777A-4AC5-BCC6-A47DE1C7DD2D}" type="datetime">
              <a:rPr b="0" lang="en-US" sz="900" spc="-1" strike="noStrike">
                <a:solidFill>
                  <a:srgbClr val="4d4d4d"/>
                </a:solidFill>
                <a:latin typeface="Gill Sans MT"/>
              </a:rPr>
              <a:t>07/30/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4848-D50D-4465-945B-992EA05B5FFF}"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mailto:george.elmaraghy@epa.state.oh.us" TargetMode="External"/><Relationship Id="rId2" Type="http://schemas.openxmlformats.org/officeDocument/2006/relationships/hyperlink" Target="http://www.epa.ohio.gov/dsw/"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ohioalgaeinfo.co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990720" y="380880"/>
            <a:ext cx="7981920" cy="22622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MT"/>
                <a:ea typeface="Trebuchet MS"/>
              </a:rPr>
              <a:t>OHIO EPA UPDATE</a:t>
            </a:r>
            <a:br>
              <a:rPr sz="5400"/>
            </a:br>
            <a:r>
              <a:rPr b="0" lang="en-US" sz="3600" spc="-1" strike="noStrike">
                <a:solidFill>
                  <a:srgbClr val="000000"/>
                </a:solidFill>
                <a:latin typeface="Gill Sans MT"/>
                <a:ea typeface="Trebuchet MS"/>
              </a:rPr>
              <a:t>ORSANCO TECHNICAL MEETING</a:t>
            </a:r>
            <a:br>
              <a:rPr sz="3600"/>
            </a:br>
            <a:r>
              <a:rPr b="0" lang="en-US" sz="3600" spc="-1" strike="noStrike">
                <a:solidFill>
                  <a:srgbClr val="000000"/>
                </a:solidFill>
                <a:latin typeface="Gill Sans MT"/>
                <a:ea typeface="Trebuchet MS"/>
              </a:rPr>
              <a:t>OCTOBER 2011</a:t>
            </a:r>
            <a:endParaRPr b="0" lang="en-US" sz="3600" spc="-1" strike="noStrike">
              <a:solidFill>
                <a:srgbClr val="000000"/>
              </a:solidFill>
              <a:latin typeface="Gill Sans MT"/>
            </a:endParaRPr>
          </a:p>
        </p:txBody>
      </p:sp>
      <p:sp>
        <p:nvSpPr>
          <p:cNvPr id="579"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76d"/>
                </a:solidFill>
                <a:latin typeface="Gill Sans MT"/>
              </a:rPr>
              <a:t>George Elmaraghy, P.E., Chief</a:t>
            </a:r>
            <a:endParaRPr b="0" lang="en-US" sz="2000" spc="-1" strike="noStrike">
              <a:solidFill>
                <a:srgbClr val="000000"/>
              </a:solidFill>
              <a:latin typeface="Gill Sans MT"/>
            </a:endParaRPr>
          </a:p>
        </p:txBody>
      </p:sp>
      <p:pic>
        <p:nvPicPr>
          <p:cNvPr id="580" name="Picture 4" descr=""/>
          <p:cNvPicPr/>
          <p:nvPr/>
        </p:nvPicPr>
        <p:blipFill>
          <a:blip r:embed="rId1"/>
          <a:stretch/>
        </p:blipFill>
        <p:spPr>
          <a:xfrm>
            <a:off x="380880" y="5638680"/>
            <a:ext cx="382284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Trebuchet MS"/>
              </a:rPr>
              <a:t>RULEMAKING UPDATE</a:t>
            </a:r>
            <a:endParaRPr b="0" lang="en-US" sz="3600" spc="-1" strike="noStrike">
              <a:solidFill>
                <a:srgbClr val="000000"/>
              </a:solidFill>
              <a:latin typeface="Gill Sans MT"/>
            </a:endParaRPr>
          </a:p>
        </p:txBody>
      </p:sp>
      <p:sp>
        <p:nvSpPr>
          <p:cNvPr id="611" name=""/>
          <p:cNvSpPr txBox="1"/>
          <p:nvPr/>
        </p:nvSpPr>
        <p:spPr>
          <a:xfrm>
            <a:off x="685800" y="1600200"/>
            <a:ext cx="7772400" cy="3733920"/>
          </a:xfrm>
          <a:prstGeom prst="rect">
            <a:avLst/>
          </a:prstGeom>
          <a:noFill/>
          <a:ln w="0">
            <a:noFill/>
          </a:ln>
        </p:spPr>
        <p:txBody>
          <a:bodyPr lIns="0" rIns="0" anchor="t">
            <a:normAutofit fontScale="97000"/>
          </a:bodyPr>
          <a:p>
            <a:pPr marL="332640" indent="-26496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ing updated ORSANCO Pollution Control Standards in Water Quality Standards triennial review rulemaking – to be proposed this fall (TDS at drinking water intakes, Human Health criteria for chemical contaminants)</a:t>
            </a:r>
            <a:endParaRPr b="0" lang="en-US" sz="2400" spc="-1" strike="noStrike">
              <a:solidFill>
                <a:srgbClr val="000000"/>
              </a:solidFill>
              <a:latin typeface="Gill Sans MT"/>
            </a:endParaRPr>
          </a:p>
          <a:p>
            <a:pPr marL="332640" indent="-26496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tideg BADCT for nutrients rulemaking to be proposed this fall</a:t>
            </a:r>
            <a:endParaRPr b="0" lang="en-US" sz="2400" spc="-1" strike="noStrike">
              <a:solidFill>
                <a:srgbClr val="000000"/>
              </a:solidFill>
              <a:latin typeface="Gill Sans MT"/>
            </a:endParaRPr>
          </a:p>
          <a:p>
            <a:pPr marL="332640" indent="-26496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aft Water Quality Trading rules available for interested party comment until Oct. 25, 2011</a:t>
            </a:r>
            <a:endParaRPr b="0" lang="en-US" sz="2400" spc="-1" strike="noStrike">
              <a:solidFill>
                <a:srgbClr val="000000"/>
              </a:solidFill>
              <a:latin typeface="Gill Sans MT"/>
            </a:endParaRPr>
          </a:p>
          <a:p>
            <a:pPr marL="332640" indent="-2649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2"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9D59-7F8A-4BF3-8D9B-ABB108915BB9}"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4920" y="151920"/>
            <a:ext cx="8534160" cy="9241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rebuchet MS"/>
              </a:rPr>
              <a:t>UPDATE ON OHIO RIVER CSO COMMUNITIES</a:t>
            </a:r>
            <a:endParaRPr b="0" lang="en-US" sz="3200" spc="-1" strike="noStrike">
              <a:solidFill>
                <a:srgbClr val="000000"/>
              </a:solidFill>
              <a:latin typeface="Gill Sans MT"/>
            </a:endParaRPr>
          </a:p>
        </p:txBody>
      </p:sp>
      <p:graphicFrame>
        <p:nvGraphicFramePr>
          <p:cNvPr id="614" name=""/>
          <p:cNvGraphicFramePr/>
          <p:nvPr/>
        </p:nvGraphicFramePr>
        <p:xfrm>
          <a:off x="76320" y="1066680"/>
          <a:ext cx="8991360" cy="5465880"/>
        </p:xfrm>
        <a:graphic>
          <a:graphicData uri="http://schemas.openxmlformats.org/drawingml/2006/table">
            <a:tbl>
              <a:tblPr/>
              <a:tblGrid>
                <a:gridCol w="1593720"/>
                <a:gridCol w="1793880"/>
                <a:gridCol w="56037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unity</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LTCP Status</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ents</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ilfor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mplementation complete</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mpletely separat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meroy</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wer separation &amp; CSO elimination by May 2029</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ingo Junction</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wer separation &amp; CSO elimination by July 2017</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equest for 2 yr extension under negotiation</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incinnati MS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ig project plans due 12/31/2012</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iddleport</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educing CSO activation to no more than 4/yr by increasing collection &amp; treatment capacity.  Implementation by April 2013 – However monitoring study shows need to adjust construction schedule by few months.</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oronto</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paration by December 2013</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ronton</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paration by December 2026</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ORWA</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pprov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wer separation &amp; transport to treatment at POTW</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rtsmouth</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Under review</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U.S. EPA working with city on consent agreement</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ew Boston</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ot submitt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U.S. EPA will begin negotiations to get approved LTCP</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eubenville</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ot submitted</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odified consent order close to finalization.  Flow meters installed at CSOs, city actively pursuing separation in areas.</a:t>
                      </a:r>
                      <a:endParaRPr b="0" lang="en-US" sz="14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
        <p:nvSpPr>
          <p:cNvPr id="615" name="Slide Number Placeholder 2"/>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EB57-EB90-4752-9D62-CF8124E6B508}"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Trebuchet MS"/>
              </a:rPr>
              <a:t>OHIO RIVER DISCHARGERS UPDATE</a:t>
            </a:r>
            <a:endParaRPr b="0" lang="en-US" sz="3600" spc="-1" strike="noStrike">
              <a:solidFill>
                <a:srgbClr val="000000"/>
              </a:solidFill>
              <a:latin typeface="Gill Sans MT"/>
            </a:endParaRPr>
          </a:p>
        </p:txBody>
      </p:sp>
      <p:sp>
        <p:nvSpPr>
          <p:cNvPr id="617" name=""/>
          <p:cNvSpPr txBox="1"/>
          <p:nvPr/>
        </p:nvSpPr>
        <p:spPr>
          <a:xfrm>
            <a:off x="685800" y="1600200"/>
            <a:ext cx="7772400" cy="3733920"/>
          </a:xfrm>
          <a:prstGeom prst="rect">
            <a:avLst/>
          </a:prstGeom>
          <a:noFill/>
          <a:ln w="0">
            <a:noFill/>
          </a:ln>
        </p:spPr>
        <p:txBody>
          <a:bodyPr lIns="0" rIns="0" anchor="t">
            <a:normAutofit fontScale="94000"/>
          </a:bodyPr>
          <a:p>
            <a:pPr marL="322200" indent="-25668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hio Power Gavin/AEP, Gallia County</a:t>
            </a:r>
            <a:endParaRPr b="0" lang="en-US" sz="2400" spc="-1" strike="noStrike">
              <a:solidFill>
                <a:srgbClr val="000000"/>
              </a:solidFill>
              <a:latin typeface="Gill Sans MT"/>
            </a:endParaRPr>
          </a:p>
          <a:p>
            <a:pPr lvl="1" marL="698400" indent="-25668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ssued PTI on September 7, 2011 for a small pilot wetland to treat water from one of the FGD landfill ponds to remove mercury.  This treatment may be used at other facilities in future if it works.</a:t>
            </a:r>
            <a:endParaRPr b="0" lang="en-US" sz="2000" spc="-1" strike="noStrike">
              <a:solidFill>
                <a:srgbClr val="000000"/>
              </a:solidFill>
              <a:latin typeface="Gill Sans MT"/>
            </a:endParaRPr>
          </a:p>
          <a:p>
            <a:pPr marL="322200" indent="-25668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P&amp;L Stuart, Adams County</a:t>
            </a:r>
            <a:endParaRPr b="0" lang="en-US" sz="2400" spc="-1" strike="noStrike">
              <a:solidFill>
                <a:srgbClr val="000000"/>
              </a:solidFill>
              <a:latin typeface="Gill Sans MT"/>
            </a:endParaRPr>
          </a:p>
          <a:p>
            <a:pPr lvl="1" marL="698400" indent="-25668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raft NPDES pending.  DP&amp;L submitted proposal to U.S. EPA and Ohio EPA to address thermal issues by changing discharge point directly to Ohio River.  U.S. EPA still evaluating proposal.</a:t>
            </a:r>
            <a:endParaRPr b="0" lang="en-US" sz="2000" spc="-1" strike="noStrike">
              <a:solidFill>
                <a:srgbClr val="000000"/>
              </a:solidFill>
              <a:latin typeface="Gill Sans MT"/>
            </a:endParaRPr>
          </a:p>
        </p:txBody>
      </p:sp>
      <p:sp>
        <p:nvSpPr>
          <p:cNvPr id="618"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F16B-3344-4570-AC6B-8552521DBCB9}"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Trebuchet MS"/>
              </a:rPr>
              <a:t>CONTACT INFORMATION</a:t>
            </a:r>
            <a:endParaRPr b="0" lang="en-US" sz="3600" spc="-1" strike="noStrike">
              <a:solidFill>
                <a:srgbClr val="000000"/>
              </a:solidFill>
              <a:latin typeface="Gill Sans MT"/>
            </a:endParaRPr>
          </a:p>
        </p:txBody>
      </p:sp>
      <p:sp>
        <p:nvSpPr>
          <p:cNvPr id="620" name=""/>
          <p:cNvSpPr txBox="1"/>
          <p:nvPr/>
        </p:nvSpPr>
        <p:spPr>
          <a:xfrm>
            <a:off x="1009440" y="1806480"/>
            <a:ext cx="7600680" cy="4052880"/>
          </a:xfrm>
          <a:prstGeom prst="rect">
            <a:avLst/>
          </a:prstGeom>
          <a:noFill/>
          <a:ln w="0">
            <a:noFill/>
          </a:ln>
        </p:spPr>
        <p:txBody>
          <a:bodyPr lIns="0" rIns="0" anchor="t">
            <a:normAutofit/>
          </a:bodyPr>
          <a:p>
            <a:pPr marL="343080" indent="-2732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mail:  </a:t>
            </a:r>
            <a:r>
              <a:rPr b="0" lang="en-US" sz="2400" spc="-1" strike="noStrike" u="sng">
                <a:solidFill>
                  <a:srgbClr val="410082"/>
                </a:solidFill>
                <a:uFillTx/>
                <a:latin typeface="Gill Sans MT"/>
                <a:hlinkClick r:id="rId1"/>
              </a:rPr>
              <a:t>george.elmaraghy@epa.state.oh.us</a:t>
            </a:r>
            <a:endParaRPr b="0" lang="en-US" sz="2400" spc="-1" strike="noStrike">
              <a:solidFill>
                <a:srgbClr val="000000"/>
              </a:solidFill>
              <a:latin typeface="Gill Sans MT"/>
            </a:endParaRPr>
          </a:p>
          <a:p>
            <a:pPr marL="343080" indent="-2732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one:  614-644-2001</a:t>
            </a:r>
            <a:endParaRPr b="0" lang="en-US" sz="2400" spc="-1" strike="noStrike">
              <a:solidFill>
                <a:srgbClr val="000000"/>
              </a:solidFill>
              <a:latin typeface="Gill Sans MT"/>
            </a:endParaRPr>
          </a:p>
          <a:p>
            <a:pPr marL="343080" indent="-2732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SW website:  </a:t>
            </a:r>
            <a:r>
              <a:rPr b="0" lang="en-US" sz="2400" spc="-1" strike="noStrike" u="sng">
                <a:solidFill>
                  <a:srgbClr val="410082"/>
                </a:solidFill>
                <a:uFillTx/>
                <a:latin typeface="Gill Sans MT"/>
                <a:hlinkClick r:id="rId2"/>
              </a:rPr>
              <a:t>www.epa.ohio.gov/dsw/</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21"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7CBF-106E-4CE1-9FEA-98D5A45AD7DB}"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Trebuchet MS"/>
              </a:rPr>
              <a:t>OVERVIEW</a:t>
            </a:r>
            <a:endParaRPr b="0" lang="en-US" sz="3600" spc="-1" strike="noStrike">
              <a:solidFill>
                <a:srgbClr val="000000"/>
              </a:solidFill>
              <a:latin typeface="Gill Sans MT"/>
            </a:endParaRPr>
          </a:p>
        </p:txBody>
      </p:sp>
      <p:sp>
        <p:nvSpPr>
          <p:cNvPr id="582" name=""/>
          <p:cNvSpPr txBox="1"/>
          <p:nvPr/>
        </p:nvSpPr>
        <p:spPr>
          <a:xfrm>
            <a:off x="685800" y="1600200"/>
            <a:ext cx="7772400" cy="3733920"/>
          </a:xfrm>
          <a:prstGeom prst="rect">
            <a:avLst/>
          </a:prstGeom>
          <a:noFill/>
          <a:ln w="0">
            <a:noFill/>
          </a:ln>
        </p:spPr>
        <p:txBody>
          <a:bodyPr lIns="0" rIns="0" anchor="t">
            <a:normAutofit/>
          </a:bodyPr>
          <a:p>
            <a:pPr marL="343080" indent="-2732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rrent Issues</a:t>
            </a:r>
            <a:endParaRPr b="0" lang="en-US" sz="2400" spc="-1" strike="noStrike">
              <a:solidFill>
                <a:srgbClr val="000000"/>
              </a:solidFill>
              <a:latin typeface="Gill Sans MT"/>
            </a:endParaRPr>
          </a:p>
          <a:p>
            <a:pPr marL="343080" indent="-2732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acilities Update</a:t>
            </a:r>
            <a:endParaRPr b="0" lang="en-US" sz="2400" spc="-1" strike="noStrike">
              <a:solidFill>
                <a:srgbClr val="000000"/>
              </a:solidFill>
              <a:latin typeface="Gill Sans MT"/>
            </a:endParaRPr>
          </a:p>
        </p:txBody>
      </p:sp>
      <p:sp>
        <p:nvSpPr>
          <p:cNvPr id="583"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78BF-E96D-4F77-AC83-57B844BB8BA0}"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Trebuchet MS"/>
              </a:rPr>
              <a:t>NUTRIENT CRITERIA UPDATE</a:t>
            </a:r>
            <a:endParaRPr b="0" lang="en-US" sz="3600" spc="-1" strike="noStrike">
              <a:solidFill>
                <a:srgbClr val="000000"/>
              </a:solidFill>
              <a:latin typeface="Gill Sans MT"/>
            </a:endParaRPr>
          </a:p>
        </p:txBody>
      </p:sp>
      <p:sp>
        <p:nvSpPr>
          <p:cNvPr id="585" name=""/>
          <p:cNvSpPr txBox="1"/>
          <p:nvPr/>
        </p:nvSpPr>
        <p:spPr>
          <a:xfrm>
            <a:off x="685440" y="1371240"/>
            <a:ext cx="8381880" cy="5257800"/>
          </a:xfrm>
          <a:prstGeom prst="rect">
            <a:avLst/>
          </a:prstGeom>
          <a:noFill/>
          <a:ln w="0">
            <a:noFill/>
          </a:ln>
        </p:spPr>
        <p:txBody>
          <a:bodyPr lIns="0" rIns="0" anchor="t">
            <a:normAutofit fontScale="95000"/>
          </a:bodyPr>
          <a:p>
            <a:pPr marL="3258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hio Nutrient Criteria – Current Step In Process</a:t>
            </a:r>
            <a:endParaRPr b="0" lang="en-US" sz="2400" spc="-1" strike="noStrike">
              <a:solidFill>
                <a:srgbClr val="000000"/>
              </a:solidFill>
              <a:latin typeface="Gill Sans MT"/>
            </a:endParaRPr>
          </a:p>
          <a:p>
            <a:pPr lvl="1" marL="7056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formation sharing with USEPA Headquarters/Tetra Tech</a:t>
            </a:r>
            <a:endParaRPr b="0" lang="en-US" sz="2000" spc="-1" strike="noStrike">
              <a:solidFill>
                <a:srgbClr val="000000"/>
              </a:solidFill>
              <a:latin typeface="Gill Sans MT"/>
            </a:endParaRPr>
          </a:p>
          <a:p>
            <a:pPr lvl="2" marL="1085760" indent="-259200">
              <a:spcBef>
                <a:spcPts val="700"/>
              </a:spcBef>
              <a:buClr>
                <a:srgbClr val="ceb966"/>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pected outcome – technical support document for Trophic Index Criteria in early 2012</a:t>
            </a:r>
            <a:endParaRPr b="0" lang="en-US" sz="1800" spc="-1" strike="noStrike">
              <a:solidFill>
                <a:srgbClr val="000000"/>
              </a:solidFill>
              <a:latin typeface="Gill Sans MT"/>
            </a:endParaRPr>
          </a:p>
          <a:p>
            <a:pPr marL="3258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ct 5-6, 2011 ACWA/EPA Workshop on Biocriteria &amp; Nutrients</a:t>
            </a:r>
            <a:endParaRPr b="0" lang="en-US" sz="2400" spc="-1" strike="noStrike">
              <a:solidFill>
                <a:srgbClr val="000000"/>
              </a:solidFill>
              <a:latin typeface="Gill Sans MT"/>
            </a:endParaRPr>
          </a:p>
          <a:p>
            <a:pPr lvl="1" marL="7056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ductive dialogue ~15 states &amp; USEPA headquarters</a:t>
            </a:r>
            <a:endParaRPr b="0" lang="en-US" sz="2000" spc="-1" strike="noStrike">
              <a:solidFill>
                <a:srgbClr val="000000"/>
              </a:solidFill>
              <a:latin typeface="Gill Sans MT"/>
            </a:endParaRPr>
          </a:p>
          <a:p>
            <a:pPr lvl="1" marL="7056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ong state consensus that biocriteria (response to nutrient concentration) should temper decision making on imposing nutrient TMDLs and controls</a:t>
            </a:r>
            <a:endParaRPr b="0" lang="en-US" sz="2000" spc="-1" strike="noStrike">
              <a:solidFill>
                <a:srgbClr val="000000"/>
              </a:solidFill>
              <a:latin typeface="Gill Sans MT"/>
            </a:endParaRPr>
          </a:p>
          <a:p>
            <a:pPr lvl="1" marL="7056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xt step – ACWA/EPA agree to flesh out key points:</a:t>
            </a:r>
            <a:endParaRPr b="0" lang="en-US" sz="2000" spc="-1" strike="noStrike">
              <a:solidFill>
                <a:srgbClr val="000000"/>
              </a:solidFill>
              <a:latin typeface="Gill Sans MT"/>
            </a:endParaRPr>
          </a:p>
          <a:p>
            <a:pPr lvl="2" marL="1085760" indent="-259200">
              <a:spcBef>
                <a:spcPts val="700"/>
              </a:spcBef>
              <a:buClr>
                <a:srgbClr val="ceb966"/>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 or 4 critical issues regarding the barriers states want removed so that “bioconfirmation” can be an element of state WQS for nutrients</a:t>
            </a:r>
            <a:endParaRPr b="0" lang="en-US" sz="1800" spc="-1" strike="noStrike">
              <a:solidFill>
                <a:srgbClr val="000000"/>
              </a:solidFill>
              <a:latin typeface="Gill Sans MT"/>
            </a:endParaRPr>
          </a:p>
          <a:p>
            <a:pPr lvl="1" marL="7056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PA will re-visit current policy memos with the above in mind</a:t>
            </a:r>
            <a:endParaRPr b="0" lang="en-US" sz="2000" spc="-1" strike="noStrike">
              <a:solidFill>
                <a:srgbClr val="000000"/>
              </a:solidFill>
              <a:latin typeface="Gill Sans MT"/>
            </a:endParaRPr>
          </a:p>
          <a:p>
            <a:pPr lvl="1" marL="705600" indent="-25956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pefully revisions made to policy memos pave the way forward</a:t>
            </a:r>
            <a:endParaRPr b="0" lang="en-US" sz="2000" spc="-1" strike="noStrike">
              <a:solidFill>
                <a:srgbClr val="000000"/>
              </a:solidFill>
              <a:latin typeface="Gill Sans MT"/>
            </a:endParaRPr>
          </a:p>
        </p:txBody>
      </p:sp>
      <p:sp>
        <p:nvSpPr>
          <p:cNvPr id="586"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D828-26E2-4CEC-A2C3-DC2BCA739D0E}"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NEW ALGAE STRATEGY &amp; ADVISORIES</a:t>
            </a:r>
            <a:endParaRPr b="0" lang="en-US" sz="3600" spc="-1" strike="noStrike">
              <a:solidFill>
                <a:srgbClr val="000000"/>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fontScale="92000"/>
          </a:bodyPr>
          <a:p>
            <a:pPr marL="31536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pdated state strategy on HAB in June 2011</a:t>
            </a:r>
            <a:endParaRPr b="0" lang="en-US" sz="2800" spc="-1" strike="noStrike">
              <a:solidFill>
                <a:srgbClr val="000000"/>
              </a:solidFill>
              <a:latin typeface="Gill Sans MT"/>
            </a:endParaRPr>
          </a:p>
          <a:p>
            <a:pPr marL="31536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cus is primarily on publicly owned lakes with beaches and/or boat ramps</a:t>
            </a:r>
            <a:endParaRPr b="0" lang="en-US" sz="2800" spc="-1" strike="noStrike">
              <a:solidFill>
                <a:srgbClr val="000000"/>
              </a:solidFill>
              <a:latin typeface="Gill Sans MT"/>
            </a:endParaRPr>
          </a:p>
          <a:p>
            <a:pPr marL="31536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visory levels</a:t>
            </a:r>
            <a:endParaRPr b="0" lang="en-US" sz="2800" spc="-1" strike="noStrike">
              <a:solidFill>
                <a:srgbClr val="000000"/>
              </a:solidFill>
              <a:latin typeface="Gill Sans MT"/>
            </a:endParaRPr>
          </a:p>
          <a:p>
            <a:pPr lvl="1" marL="68328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gal bloom (HAB identified – avoid scum)</a:t>
            </a:r>
            <a:endParaRPr b="0" lang="en-US" sz="2000" spc="-1" strike="noStrike">
              <a:solidFill>
                <a:srgbClr val="000000"/>
              </a:solidFill>
              <a:latin typeface="Gill Sans MT"/>
            </a:endParaRPr>
          </a:p>
          <a:p>
            <a:pPr lvl="1" marL="68328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ublic health (microcystin &gt;6 ug/l, swimming not recommended)</a:t>
            </a:r>
            <a:endParaRPr b="0" lang="en-US" sz="2000" spc="-1" strike="noStrike">
              <a:solidFill>
                <a:srgbClr val="000000"/>
              </a:solidFill>
              <a:latin typeface="Gill Sans MT"/>
            </a:endParaRPr>
          </a:p>
          <a:p>
            <a:pPr lvl="1" marL="68328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 contact (microcystin &gt;20 ug/l, no swimming)</a:t>
            </a:r>
            <a:endParaRPr b="0" lang="en-US" sz="2000" spc="-1" strike="noStrike">
              <a:solidFill>
                <a:srgbClr val="000000"/>
              </a:solidFill>
              <a:latin typeface="Gill Sans MT"/>
            </a:endParaRPr>
          </a:p>
          <a:p>
            <a:pPr marL="315360" indent="-25128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visories posted at </a:t>
            </a:r>
            <a:r>
              <a:rPr b="0" lang="en-US" sz="2800" spc="-1" strike="noStrike" u="sng">
                <a:solidFill>
                  <a:srgbClr val="410082"/>
                </a:solidFill>
                <a:uFillTx/>
                <a:latin typeface="Gill Sans MT"/>
                <a:hlinkClick r:id="rId1"/>
              </a:rPr>
              <a:t>www.ohioalgaeinfo.com</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
        <p:nvSpPr>
          <p:cNvPr id="589"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6D7C-3CF8-459A-9D22-704D62E81047}"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GLSM ALUM TREATMENT 2011</a:t>
            </a:r>
            <a:endParaRPr b="0" lang="en-US" sz="3600" spc="-1" strike="noStrike">
              <a:solidFill>
                <a:srgbClr val="000000"/>
              </a:solidFill>
              <a:latin typeface="Gill Sans MT"/>
            </a:endParaRPr>
          </a:p>
        </p:txBody>
      </p:sp>
      <p:sp>
        <p:nvSpPr>
          <p:cNvPr id="591" name=""/>
          <p:cNvSpPr txBox="1"/>
          <p:nvPr/>
        </p:nvSpPr>
        <p:spPr>
          <a:xfrm>
            <a:off x="685800" y="1600200"/>
            <a:ext cx="7772400" cy="3733920"/>
          </a:xfrm>
          <a:prstGeom prst="rect">
            <a:avLst/>
          </a:prstGeom>
          <a:noFill/>
          <a:ln w="0">
            <a:noFill/>
          </a:ln>
        </p:spPr>
        <p:txBody>
          <a:bodyPr lIns="0" rIns="0" anchor="t">
            <a:normAutofit fontScale="93000"/>
          </a:bodyPr>
          <a:p>
            <a:pPr marL="318960" indent="-25380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ults available for June 2011 partial lake alum treatment</a:t>
            </a:r>
            <a:endParaRPr b="0" lang="en-US" sz="2800" spc="-1" strike="noStrike">
              <a:solidFill>
                <a:srgbClr val="000000"/>
              </a:solidFill>
              <a:latin typeface="Gill Sans MT"/>
            </a:endParaRPr>
          </a:p>
          <a:p>
            <a:pPr lvl="1" marL="690840" indent="-25380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tal P declined at Station L-1 by 56%.  This is indicative of what can be expected from a whole lake alum treatment.</a:t>
            </a:r>
            <a:endParaRPr b="0" lang="en-US" sz="2000" spc="-1" strike="noStrike">
              <a:solidFill>
                <a:srgbClr val="000000"/>
              </a:solidFill>
              <a:latin typeface="Gill Sans MT"/>
            </a:endParaRPr>
          </a:p>
          <a:p>
            <a:pPr lvl="1" marL="690840" indent="-25380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tal P decrease of 20 to 30% by the end of the treatment and study period throughout lake may indicate a direct influence of treatment.  </a:t>
            </a:r>
            <a:endParaRPr b="0" lang="en-US" sz="2000" spc="-1" strike="noStrike">
              <a:solidFill>
                <a:srgbClr val="000000"/>
              </a:solidFill>
              <a:latin typeface="Gill Sans MT"/>
            </a:endParaRPr>
          </a:p>
          <a:p>
            <a:pPr lvl="1" marL="690840" indent="-25380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ppears repeat alum treatments (treating the entire lake to inactivate sediment and strip the water column of P) will be advantageous and necessary to maintain beneficial uses of the lake until watershed loading of P is reduced significantly.</a:t>
            </a:r>
            <a:endParaRPr b="0" lang="en-US" sz="2000" spc="-1" strike="noStrike">
              <a:solidFill>
                <a:srgbClr val="000000"/>
              </a:solidFill>
              <a:latin typeface="Gill Sans MT"/>
            </a:endParaRPr>
          </a:p>
        </p:txBody>
      </p:sp>
      <p:sp>
        <p:nvSpPr>
          <p:cNvPr id="592" name="Slide Number Placeholder 2"/>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341F-574A-46D5-BFCC-707C82195B18}"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01 GENERAL PERMIT FOR OIL &amp; </a:t>
            </a:r>
            <a:br>
              <a:rPr sz="3200"/>
            </a:br>
            <a:r>
              <a:rPr b="0" lang="en-US" sz="3200" spc="-1" strike="noStrike">
                <a:solidFill>
                  <a:srgbClr val="000000"/>
                </a:solidFill>
                <a:latin typeface="Gill Sans MT"/>
              </a:rPr>
              <a:t>GAS WELL DRILLING</a:t>
            </a:r>
            <a:endParaRPr b="0" lang="en-US" sz="3200" spc="-1" strike="noStrike">
              <a:solidFill>
                <a:srgbClr val="000000"/>
              </a:solidFill>
              <a:latin typeface="Gill Sans MT"/>
            </a:endParaRPr>
          </a:p>
        </p:txBody>
      </p:sp>
      <p:sp>
        <p:nvSpPr>
          <p:cNvPr id="594"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veloping a General 401 Permit to cover stream and wetland impacts associated with the Marcellus/Utica Shale drilling:</a:t>
            </a:r>
            <a:endParaRPr b="0" lang="en-US" sz="24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rilling Pads</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ccess Roads</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ater Supply Lines</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cludes:</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athering lines</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jor transmission lines</a:t>
            </a:r>
            <a:endParaRPr b="0" lang="en-US" sz="1800" spc="-1" strike="noStrike">
              <a:solidFill>
                <a:srgbClr val="000000"/>
              </a:solidFill>
              <a:latin typeface="Gill Sans MT"/>
            </a:endParaRPr>
          </a:p>
          <a:p>
            <a:pPr lvl="1" marL="74304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95" name="Rectangle 5"/>
          <p:cNvSpPr/>
          <p:nvPr/>
        </p:nvSpPr>
        <p:spPr>
          <a:xfrm>
            <a:off x="0" y="0"/>
            <a:ext cx="9144000" cy="457200"/>
          </a:xfrm>
          <a:prstGeom prst="rect">
            <a:avLst/>
          </a:prstGeom>
          <a:noFill/>
          <a:ln w="0">
            <a:noFill/>
          </a:ln>
        </p:spPr>
        <p:style>
          <a:lnRef idx="0"/>
          <a:fillRef idx="0"/>
          <a:effectRef idx="0"/>
          <a:fontRef idx="minor"/>
        </p:style>
        <p:txBody>
          <a:bodyPr wrap="none"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6" name="Rectangle 6"/>
          <p:cNvSpPr/>
          <p:nvPr/>
        </p:nvSpPr>
        <p:spPr>
          <a:xfrm>
            <a:off x="0" y="0"/>
            <a:ext cx="9144000" cy="457200"/>
          </a:xfrm>
          <a:prstGeom prst="rect">
            <a:avLst/>
          </a:prstGeom>
          <a:noFill/>
          <a:ln w="0">
            <a:noFill/>
          </a:ln>
        </p:spPr>
        <p:style>
          <a:lnRef idx="0"/>
          <a:fillRef idx="0"/>
          <a:effectRef idx="0"/>
          <a:fontRef idx="minor"/>
        </p:style>
        <p:txBody>
          <a:bodyPr wrap="none"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97" name="Picture 6" descr="horizontal%20drilling.jpg"/>
          <p:cNvPicPr/>
          <p:nvPr/>
        </p:nvPicPr>
        <p:blipFill>
          <a:blip r:embed="rId1"/>
          <a:stretch/>
        </p:blipFill>
        <p:spPr>
          <a:xfrm>
            <a:off x="4551480" y="2743200"/>
            <a:ext cx="4216320" cy="3048120"/>
          </a:xfrm>
          <a:prstGeom prst="rect">
            <a:avLst/>
          </a:prstGeom>
          <a:ln w="0">
            <a:noFill/>
          </a:ln>
        </p:spPr>
      </p:pic>
      <p:sp>
        <p:nvSpPr>
          <p:cNvPr id="598" name="Slide Number Placeholder 1"/>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7026-7C09-48B5-85A8-DD6836028126}"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01 GENERAL PERMIT FOR OIL &amp; </a:t>
            </a:r>
            <a:br>
              <a:rPr sz="3200"/>
            </a:br>
            <a:r>
              <a:rPr b="0" lang="en-US" sz="3200" spc="-1" strike="noStrike">
                <a:solidFill>
                  <a:srgbClr val="000000"/>
                </a:solidFill>
                <a:latin typeface="Gill Sans MT"/>
              </a:rPr>
              <a:t>GAS WELL DRILLING</a:t>
            </a:r>
            <a:endParaRPr b="0" lang="en-US" sz="3200" spc="-1" strike="noStrike">
              <a:solidFill>
                <a:srgbClr val="000000"/>
              </a:solidFill>
              <a:latin typeface="Gill Sans MT"/>
            </a:endParaRPr>
          </a:p>
        </p:txBody>
      </p:sp>
      <p:sp>
        <p:nvSpPr>
          <p:cNvPr id="600" name=""/>
          <p:cNvSpPr txBox="1"/>
          <p:nvPr/>
        </p:nvSpPr>
        <p:spPr>
          <a:xfrm>
            <a:off x="685800" y="1600200"/>
            <a:ext cx="8153280" cy="3733920"/>
          </a:xfrm>
          <a:prstGeom prst="rect">
            <a:avLst/>
          </a:prstGeom>
          <a:noFill/>
          <a:ln w="0">
            <a:noFill/>
          </a:ln>
        </p:spPr>
        <p:txBody>
          <a:bodyPr lIns="0" rIns="0" anchor="t">
            <a:normAutofit fontScale="81000"/>
          </a:bodyPr>
          <a:p>
            <a:pPr marL="277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icability</a:t>
            </a:r>
            <a:endParaRPr b="0" lang="en-US" sz="24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uthorizes impacts up to ½ acre of Category 1 and 2 wetlands;</a:t>
            </a:r>
            <a:endParaRPr b="0" lang="en-US" sz="18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acts to Category 3 wetlands are excluded; </a:t>
            </a:r>
            <a:endParaRPr b="0" lang="en-US" sz="18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uthorizes impacts up to 300 linear feet of stream;</a:t>
            </a:r>
            <a:endParaRPr b="0" lang="en-US" sz="18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acts to high quality streams are excluded </a:t>
            </a:r>
            <a:endParaRPr b="0" lang="en-US" sz="1800" spc="-1" strike="noStrike">
              <a:solidFill>
                <a:srgbClr val="000000"/>
              </a:solidFill>
              <a:latin typeface="Gill Sans MT"/>
            </a:endParaRPr>
          </a:p>
          <a:p>
            <a:pPr marL="277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ime frame</a:t>
            </a:r>
            <a:endParaRPr b="0" lang="en-US" sz="24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5 day completeness review</a:t>
            </a:r>
            <a:endParaRPr b="0" lang="en-US" sz="18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ssue or deny GP within 30 days of being considered complete</a:t>
            </a:r>
            <a:endParaRPr b="0" lang="en-US" sz="1800" spc="-1" strike="noStrike">
              <a:solidFill>
                <a:srgbClr val="000000"/>
              </a:solidFill>
              <a:latin typeface="Gill Sans MT"/>
            </a:endParaRPr>
          </a:p>
          <a:p>
            <a:pPr lvl="1" marL="601560" indent="-22104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pplicant must still obtain individual 404 permit after issuance of the GP</a:t>
            </a:r>
            <a:endParaRPr b="0" lang="en-US" sz="1800" spc="-1" strike="noStrike">
              <a:solidFill>
                <a:srgbClr val="000000"/>
              </a:solidFill>
              <a:latin typeface="Gill Sans MT"/>
            </a:endParaRPr>
          </a:p>
          <a:p>
            <a:pPr marL="277560" indent="-2210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560" indent="-2210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1560" indent="-2210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7560" indent="-2210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01" name="Slide Number Placeholder 2"/>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071A-6974-4867-9290-5BCB4ECF826F}"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RCELLUS SHALE WASTEWATER DISPOSAL</a:t>
            </a:r>
            <a:endParaRPr b="0" lang="en-US" sz="3200" spc="-1" strike="noStrike">
              <a:solidFill>
                <a:srgbClr val="000000"/>
              </a:solidFill>
              <a:latin typeface="Gill Sans MT"/>
            </a:endParaRPr>
          </a:p>
        </p:txBody>
      </p:sp>
      <p:sp>
        <p:nvSpPr>
          <p:cNvPr id="603" name=""/>
          <p:cNvSpPr txBox="1"/>
          <p:nvPr/>
        </p:nvSpPr>
        <p:spPr>
          <a:xfrm>
            <a:off x="685800" y="1600200"/>
            <a:ext cx="7772400" cy="3733920"/>
          </a:xfrm>
          <a:prstGeom prst="rect">
            <a:avLst/>
          </a:prstGeom>
          <a:noFill/>
          <a:ln w="0">
            <a:noFill/>
          </a:ln>
        </p:spPr>
        <p:txBody>
          <a:bodyPr lIns="0" rIns="0" anchor="t">
            <a:normAutofit fontScale="93000"/>
          </a:bodyPr>
          <a:p>
            <a:pPr marL="318960" indent="-25380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nge in direction on brine wastewater management</a:t>
            </a:r>
            <a:endParaRPr b="0" lang="en-US" sz="2800" spc="-1" strike="noStrike">
              <a:solidFill>
                <a:srgbClr val="000000"/>
              </a:solidFill>
              <a:latin typeface="Gill Sans MT"/>
            </a:endParaRPr>
          </a:p>
          <a:p>
            <a:pPr lvl="1" marL="690840" indent="-253800">
              <a:spcAft>
                <a:spcPts val="1800"/>
              </a:spcAft>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hio Department of Natural Resources has authority to regulate oil and gas drilling and associated wastewater disposal – ODNR’s regulations do not provide for brine wastewater disposal at a POTW</a:t>
            </a:r>
            <a:endParaRPr b="0" lang="en-US" sz="2000" spc="-1" strike="noStrike">
              <a:solidFill>
                <a:srgbClr val="000000"/>
              </a:solidFill>
              <a:latin typeface="Gill Sans MT"/>
            </a:endParaRPr>
          </a:p>
          <a:p>
            <a:pPr lvl="2" marL="1062720" indent="-253440">
              <a:spcAft>
                <a:spcPts val="1800"/>
              </a:spcAft>
              <a:buClr>
                <a:srgbClr val="ceb966"/>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hio EPA will not renew City of Warren’s current acceptance of brine wastewater when NPDES permit expires January 31, 2012</a:t>
            </a:r>
            <a:endParaRPr b="0" lang="en-US" sz="1800" spc="-1" strike="noStrike">
              <a:solidFill>
                <a:srgbClr val="000000"/>
              </a:solidFill>
              <a:latin typeface="Gill Sans MT"/>
            </a:endParaRPr>
          </a:p>
          <a:p>
            <a:pPr lvl="2" marL="1062720" indent="-253440">
              <a:spcAft>
                <a:spcPts val="1800"/>
              </a:spcAft>
              <a:buClr>
                <a:srgbClr val="ceb966"/>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ermit applications for brine wastewater disposal will not be approved</a:t>
            </a:r>
            <a:endParaRPr b="0" lang="en-US" sz="1800" spc="-1" strike="noStrike">
              <a:solidFill>
                <a:srgbClr val="000000"/>
              </a:solidFill>
              <a:latin typeface="Gill Sans MT"/>
            </a:endParaRPr>
          </a:p>
        </p:txBody>
      </p:sp>
      <p:sp>
        <p:nvSpPr>
          <p:cNvPr id="604" name="Slide Number Placeholder 2"/>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0F15-8675-4C46-8E68-7B11E35D0E72}"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NFORCEMENT UPDATE</a:t>
            </a:r>
            <a:endParaRPr b="0" lang="en-US" sz="3600" spc="-1" strike="noStrike">
              <a:solidFill>
                <a:srgbClr val="000000"/>
              </a:solidFill>
              <a:latin typeface="Gill Sans MT"/>
            </a:endParaRPr>
          </a:p>
        </p:txBody>
      </p:sp>
      <p:sp>
        <p:nvSpPr>
          <p:cNvPr id="606" name=""/>
          <p:cNvSpPr txBox="1"/>
          <p:nvPr/>
        </p:nvSpPr>
        <p:spPr>
          <a:xfrm>
            <a:off x="685800" y="1143000"/>
            <a:ext cx="7772400" cy="3733920"/>
          </a:xfrm>
          <a:prstGeom prst="rect">
            <a:avLst/>
          </a:prstGeom>
          <a:noFill/>
          <a:ln w="0">
            <a:noFill/>
          </a:ln>
        </p:spPr>
        <p:txBody>
          <a:bodyPr lIns="0" rIns="0" anchor="t">
            <a:normAutofit/>
          </a:bodyPr>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inor NPDES facilities</a:t>
            </a:r>
            <a:endParaRPr b="0" lang="en-US" sz="24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oking at other states, potential streamlined administrative orders with penalty less than $5,000</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rease in orders with smaller penalties may reduce minor facilities’ significant non-compliance</a:t>
            </a:r>
            <a:endParaRPr b="0" lang="en-US" sz="1800" spc="-1" strike="noStrike">
              <a:solidFill>
                <a:srgbClr val="000000"/>
              </a:solidFill>
              <a:latin typeface="Gill Sans MT"/>
            </a:endParaRPr>
          </a:p>
          <a:p>
            <a:pPr lvl="1" marL="74304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73240">
              <a:spcBef>
                <a:spcPts val="700"/>
              </a:spcBef>
              <a:buClr>
                <a:srgbClr val="ceb966"/>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607" name=""/>
          <p:cNvGraphicFramePr/>
          <p:nvPr/>
        </p:nvGraphicFramePr>
        <p:xfrm>
          <a:off x="228600" y="3657600"/>
          <a:ext cx="8631360" cy="2570040"/>
        </p:xfrm>
        <a:graphic>
          <a:graphicData uri="http://schemas.openxmlformats.org/drawingml/2006/table">
            <a:tbl>
              <a:tblPr/>
              <a:tblGrid>
                <a:gridCol w="1725480"/>
                <a:gridCol w="1727280"/>
                <a:gridCol w="2054160"/>
                <a:gridCol w="1565280"/>
                <a:gridCol w="1559160"/>
              </a:tblGrid>
              <a:tr h="1188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tat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eviewed minor facility univers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ignificant non-compliance  rat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Formal enforcement action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Dollars of penalties assesse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hi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2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9,43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rth Carolin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56</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19</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59,09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ew Jerse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14</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8</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378,218</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
        <p:nvSpPr>
          <p:cNvPr id="608" name="Slide Number Placeholder 6"/>
          <p:cNvSpPr/>
          <p:nvPr/>
        </p:nvSpPr>
        <p:spPr>
          <a:xfrm>
            <a:off x="8458200" y="6416640"/>
            <a:ext cx="457200" cy="365040"/>
          </a:xfrm>
          <a:prstGeom prst="rect">
            <a:avLst/>
          </a:prstGeom>
          <a:noFill/>
          <a:ln w="0">
            <a:noFill/>
          </a:ln>
        </p:spPr>
        <p:style>
          <a:lnRef idx="0"/>
          <a:fillRef idx="0"/>
          <a:effectRef idx="0"/>
          <a:fontRef idx="minor"/>
        </p:style>
        <p:txBody>
          <a:bodyPr lIns="0" rIns="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A599-E708-4438-8A50-59F21D8DF7FC}" type="slidenum">
              <a:rPr b="1" lang="en-US" sz="1100" spc="-1" strike="noStrike">
                <a:solidFill>
                  <a:srgbClr val="4d4d4d"/>
                </a:solidFill>
                <a:latin typeface="Verdana"/>
              </a:rPr>
              <a:t>&lt;number&gt;</a:t>
            </a:fld>
            <a:endParaRPr b="0" lang="en-US" sz="1100" spc="-1" strike="noStrike">
              <a:solidFill>
                <a:srgbClr val="000000"/>
              </a:solidFill>
              <a:latin typeface="Verdana"/>
            </a:endParaRPr>
          </a:p>
        </p:txBody>
      </p:sp>
      <p:sp>
        <p:nvSpPr>
          <p:cNvPr id="609" name="TextBox 2"/>
          <p:cNvSpPr/>
          <p:nvPr/>
        </p:nvSpPr>
        <p:spPr>
          <a:xfrm>
            <a:off x="831960" y="3079800"/>
            <a:ext cx="7010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arison of 2009 Data for Minor NPDES Permi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13:59:07Z</dcterms:created>
  <dc:creator>mharris</dc:creator>
  <dc:description/>
  <dc:language>en-US</dc:language>
  <cp:lastModifiedBy>mharris</cp:lastModifiedBy>
  <cp:lastPrinted>2011-10-07T14:56:27Z</cp:lastPrinted>
  <dcterms:modified xsi:type="dcterms:W3CDTF">2011-10-07T16:47:29Z</dcterms:modified>
  <cp:revision>34</cp:revision>
  <dc:subject/>
  <dc:title>Ohio EPA Update ORSANCO Technical Meeting October 2011</dc:title>
</cp:coreProperties>
</file>