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2240" cy="345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810F81-D8F1-4840-A8CE-1EA9A5B7C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../slides/slide11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9E5307-97AC-488D-80A1-BB3F90EEF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92280" y="4371840"/>
            <a:ext cx="5533920" cy="2211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639720" y="6735600"/>
            <a:ext cx="5648400" cy="121932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49200" y="18252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58480" y="3839760"/>
            <a:ext cx="64767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558AB4B-0A2C-4918-AB64-0482F95F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487440" y="6278400"/>
            <a:ext cx="5419800" cy="12477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792000" y="7556760"/>
            <a:ext cx="4069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Calibri"/>
                <a:ea typeface="Times New Roman"/>
              </a:rPr>
              <a:t>We are using the BM of 0.30 mg/l TP. Some of the other sites were above the 0.30 mg/l TP but were not sufficient to trigger an impairment, according to Jody, it</a:t>
            </a:r>
            <a:r>
              <a:rPr b="0" lang="en-US" sz="1100" spc="-1" strike="noStrike">
                <a:solidFill>
                  <a:srgbClr val="1f497d"/>
                </a:solidFill>
                <a:latin typeface="comic"/>
                <a:ea typeface="Times New Roman"/>
              </a:rPr>
              <a:t>’</a:t>
            </a:r>
            <a:r>
              <a:rPr b="0" lang="en-US" sz="1100" spc="-1" strike="noStrike">
                <a:solidFill>
                  <a:srgbClr val="1f497d"/>
                </a:solidFill>
                <a:latin typeface="Calibri"/>
                <a:ea typeface="Times New Roman"/>
              </a:rPr>
              <a:t>s at least two parameters congruent in one sampling run to trigger an impairment. Other sites above the 0.30 mg/l TP may have just been a single hit and I based total reductions on the highest value of each.</a:t>
            </a:r>
            <a:endParaRPr b="0" lang="en-US" sz="11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E789A1-3E67-45CB-88A9-28D61BF72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DF9705E-BB1C-4B58-AD22-2982327A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AABCA77-0768-4FAA-95A9-A2D98F8E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20600" y="18252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06200" y="3916440"/>
            <a:ext cx="6553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405B8F-A352-4AF7-89A9-4CB4DA40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0128185-8687-48D8-B058-5BBB81214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A11B82B-2616-4828-B968-4C98440F3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563400" y="4906800"/>
          <a:ext cx="5562720" cy="144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4906800"/>
                    <a:ext cx="556272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B82C01A-B5EF-49F2-B81B-3476E7C17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151-6C44-4AD8-9B21-A7B9434F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C3A-FF58-4A03-9E30-6117161A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BEF-90F5-4251-86BA-2A658787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064-4AA5-4FB6-A53C-43DB98FC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0AC-F463-4A8D-990D-D64F0787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855-1EBD-4E93-A577-718D3310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066-793B-4A5D-BF9C-99976240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D2B-0DA2-44B3-87EE-AFFC7721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CFB-B074-4E05-AD79-5F6410D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7CC-DACF-4310-9149-DD921E1B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8EB-ABAE-46C9-8F38-8AD9B525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B93-3AEE-4CF5-AF73-499A96AF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8570-7CF3-4D13-B37E-6927732F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915D-E48B-44BC-9E1A-B1B6B43D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0BB0-A698-47D6-9B28-20E072C7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76D1-8E0B-4B61-9D61-72948351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8BAB-DDB8-48BB-94D0-41CEE758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4965-38E0-4D11-A9F1-7FAC0445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D358-230B-4779-9BD5-18695C9C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D65D-CA55-43A6-8056-7897344B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EC81-67AC-46B6-916D-47385B42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3D34-4AC0-4D07-B1B0-6213EC32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BC07-A258-480A-82FD-D8E321F7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2C7F-299F-411E-808D-38E79665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0831D-EC18-4C47-AE8B-0BC3E3D2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88A3-C97F-44FC-9763-FA40A995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17D8-0663-400B-A05D-35D861C9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B87C-CAAD-4658-901D-4AA3FE4F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EC6B-B3A8-4491-8C1A-F4166533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19B4-770E-4A59-94BB-48DDE9E2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0EB8-3D9C-4189-99F6-95AF0498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8C67-1BD2-45F0-8B2A-BB74801E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2B9C-65E0-420C-9D6F-4AB7BD32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A013-F762-4322-803B-C44EAD19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9976E-DA44-4669-B92F-16D0FD40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5786B-C135-476A-8A28-4818FC89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1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wa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1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wa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E930-613A-4BAC-B50A-4304D7F154A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1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wa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9B7F-D65A-4568-92F4-3CC946EB39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1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wa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1FC1-5A74-4414-84F7-FE85245445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6960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ter Qualit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SAN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ctober 11,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105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4" descr="CoverArt2011-2019FinalR1"/>
          <p:cNvPicPr/>
          <p:nvPr/>
        </p:nvPicPr>
        <p:blipFill>
          <a:blip r:embed="rId1"/>
          <a:stretch/>
        </p:blipFill>
        <p:spPr>
          <a:xfrm>
            <a:off x="1828800" y="152280"/>
            <a:ext cx="5867280" cy="65534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2057400" y="3276720"/>
            <a:ext cx="1295280" cy="4572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Limits in NPDES Per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2280" y="1981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A review of 23 NPDES per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ative effluent limits for nutr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harge shall not cause receiving waters “to contain substances which are in concentrations or combinations that will cause or contribute to the growth of aquatic plants or algae to such a degree to create a nuisance, be unsightly, or otherwise impair the designated uses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A requiring IDEM to determine numeric nutrient limits based on narrative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criterion based regulation for interpreting nar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limit based on EPA’s CWA section 304(b)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limit on indicator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Maximum Daily Lo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2280" y="21337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and-Pigeon Creek Water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ire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DL approved by EPA in Septe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 impair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y-four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 for T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P-Figure 1-Location"/>
          <p:cNvPicPr/>
          <p:nvPr/>
        </p:nvPicPr>
        <p:blipFill>
          <a:blip r:embed="rId1"/>
          <a:stretch/>
        </p:blipFill>
        <p:spPr>
          <a:xfrm>
            <a:off x="4724280" y="1219320"/>
            <a:ext cx="4191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Quality Standard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vision of chloride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282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, 230 mg/L (chronic aquatic life) and 860                                      mg/L (acute aquatic lif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282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ing to replace with equations developed by the IDN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2520" indent="-282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ness and sulf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82520" indent="-282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aquatic life criteria – less string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82520" indent="-282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aquatic life criteria – more string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282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rule language completed and ready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12680" indent="-1126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degradation Rule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282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ily adopted by the Water Pollution Control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25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al Per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198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diana-Kentucky Electric Company, Madison, 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fty Creek Station discharges to the Ohio River through three outfa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Crooked Creek through one outf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ng requirements for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EP Lawrenceburg Generating, Lawrenceburg, 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, TRC, monitoring for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diana Gasification, Rockport, 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ischarge from proces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harge from cooling tower blow down, non-proc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te streams, and storm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nicipal Per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ity of Evansville East and West, Evansville, 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discharge to the OH R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nutrient monitoring/reporting requirements for  TKN, nitrate/nitrite-N, and TP on a quarterly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ity of Jeffersonville, Jeffersonville, 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harges to tributary of OH R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long- term plan to route some of the fully treated effluent to a yet-to-be constructed canal development as a source of hydr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ent monitoring/reporting requirements for  TKN, nitrate/nitrite-N, and TP on a quarterly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point Source (205j)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8600" y="2133720"/>
          <a:ext cx="8686800" cy="1627200"/>
        </p:xfrm>
        <a:graphic>
          <a:graphicData uri="http://schemas.openxmlformats.org/drawingml/2006/table">
            <a:tbl>
              <a:tblPr/>
              <a:tblGrid>
                <a:gridCol w="2494080"/>
                <a:gridCol w="1527120"/>
                <a:gridCol w="1528560"/>
                <a:gridCol w="1398600"/>
                <a:gridCol w="1738440"/>
              </a:tblGrid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SAN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Wabash R. Nutrients &amp; Continuous Monito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98,7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Box 3"/>
          <p:cNvSpPr/>
          <p:nvPr/>
        </p:nvSpPr>
        <p:spPr>
          <a:xfrm>
            <a:off x="228600" y="3886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al: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the amount of nitrogen and phosphorous the Wabash River contributes to the Ohio River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80880" y="5257800"/>
            <a:ext cx="8229600" cy="99072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838080" y="53341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ject will be renewed for an additional 3 years at $210, 318.00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28240" y="1599840"/>
            <a:ext cx="3962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an – Kentuck Watershed (Jefferson, Switzerland, Ripley count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ired Biotic Community (IB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390920" y="304920"/>
            <a:ext cx="4753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ce Issu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Newburgh WW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1268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pper and silver vio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0">
              <a:lnSpc>
                <a:spcPct val="90000"/>
              </a:lnSpc>
              <a:buNone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2680" indent="-112680">
              <a:lnSpc>
                <a:spcPct val="90000"/>
              </a:lnSpc>
              <a:buClr>
                <a:srgbClr val="000000"/>
              </a:buClr>
              <a:buSzPct val="80000"/>
              <a:buFont typeface="Calibri"/>
              <a:buChar char="•"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Evansville Westside WW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1268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0">
              <a:lnSpc>
                <a:spcPct val="90000"/>
              </a:lnSpc>
              <a:buNone/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2680" indent="-112680">
              <a:lnSpc>
                <a:spcPct val="90000"/>
              </a:lnSpc>
              <a:buClr>
                <a:srgbClr val="000000"/>
              </a:buClr>
              <a:buSzPct val="80000"/>
              <a:buFont typeface="Calibri"/>
              <a:buChar char="•"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igeco (Southern Indiana Gas and Electric) FB Culley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1268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1268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r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2680" indent="0">
              <a:lnSpc>
                <a:spcPct val="90000"/>
              </a:lnSpc>
              <a:buNone/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0">
              <a:lnSpc>
                <a:spcPct val="90000"/>
              </a:lnSpc>
              <a:buNone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0">
              <a:lnSpc>
                <a:spcPct val="90000"/>
              </a:lnSpc>
              <a:buNone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2680" indent="0">
              <a:lnSpc>
                <a:spcPct val="90000"/>
              </a:lnSpc>
              <a:buNone/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1 Water Quality Certif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21337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roposed dam retro fit projects for hydroelectric struc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burgh Locks and Dam (Warrick Coun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 Meyers Locks &amp; Dam (Posey Coun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9:23:33Z</dcterms:created>
  <dc:creator>KEVIN BUMP</dc:creator>
  <dc:description/>
  <dc:language>en-US</dc:language>
  <cp:lastModifiedBy>admin</cp:lastModifiedBy>
  <dcterms:modified xsi:type="dcterms:W3CDTF">2011-10-12T12:23:15Z</dcterms:modified>
  <cp:revision>389</cp:revision>
  <dc:subject/>
  <dc:title>Slide 1</dc:title>
</cp:coreProperties>
</file>