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AD4-A799-4006-8AB2-D43E4C32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5DB-D218-4B3F-97E3-AB14F17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81B-5250-4F3F-9448-102033E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645-7C84-4A04-8711-50E19AFA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CDF-1DC1-4EBD-BFB2-14E1679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9FA-1F2F-4620-9ADF-F280DF8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609-2A39-496F-A11C-E316422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FB3-A1E4-4EA6-954E-00D6E52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C19-BBD7-439D-A7CE-222849C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A05-9EA1-4027-8646-EEF36DB3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7DC-08DF-41E2-8DCC-754740D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1BF-F9BD-4F66-8C5B-4F5A511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8BAC-7616-4C5B-8970-6ADCE003E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f the Stream Criteria Sub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6, 2011 Conference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Particip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presentatives: IL, IN, KY, NY, OH, PA, W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PA: Region 5, Head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ORSANCO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ORSANCO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of TDS Crite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Period March – 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ht sets of Comments recei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work groups convened to address issues concerning bromide, mercury and temperature – several members of the Subcommittee are participating on the work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PA has issued draft new criteria for aquatic life prot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acute and chronic criteria to protect entire aquatic commu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sive external peer re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ation expected in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 revised criteria issued in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tudy results obtained; end point of criteria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draft expected to be issued in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l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eria developed by Iowa approved by E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 revised EPA criteria anticipated in fiscal year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hog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riteria due in October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ajor changes to 1986 Geometric Mean criteria anticip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guidance on interpretation of cri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QPCR method for beach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41:32Z</dcterms:created>
  <dc:creator>peter</dc:creator>
  <dc:description/>
  <dc:language>en-US</dc:language>
  <cp:lastModifiedBy>jklear</cp:lastModifiedBy>
  <dcterms:modified xsi:type="dcterms:W3CDTF">2011-10-27T17:29:44Z</dcterms:modified>
  <cp:revision>2</cp:revision>
  <dc:subject/>
  <dc:title>Report of the Stream Criteria Subcommittee</dc:title>
</cp:coreProperties>
</file>