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F22-A773-4883-BDB4-FE31DBC0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9DA-6FAE-4073-9355-44B4E48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E8C1B-1FC2-4186-B5AE-6D6219AE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75C99-D5B0-4119-A788-BBEC74F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DC7F3-0A2E-464E-8651-182762E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B6D38-28B1-47F8-8E98-87B7C5BF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3992E-A8FF-44BB-B3FB-5FD4F90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C408D-F146-49DE-BAF2-FA57718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F3CFD-34FE-4823-BB14-6340C213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5C3AA-B3B2-4C53-86DB-9801FF46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2F547-37BB-4F40-8669-31DC8370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07B-67D5-4EE2-8E39-E190FE6D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A6A-0331-4B3A-AD50-19260C98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7B18-1A41-4792-A7B4-472EF2EA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9EB-A636-4875-951F-46D4ED8B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733B-56F3-4B47-A65F-2F913C1B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58FC-D186-4A45-A474-CBD86873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787A-6788-4F6A-AFC2-0A0EA16C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547-6D1B-4863-AB68-54565E10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CFD3-5FD7-4C72-A217-386C778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88B-EA33-4AC0-9CE7-91C8E58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2211-6CC3-4CAF-85BB-B40D979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8532-5B04-4A86-A6A3-5CDC256E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9344-14D8-4A21-9B4F-B4AA258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A342-6844-45B8-95F5-3F9AE44F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5B61-D682-41B1-ADCD-D512728A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C796-58E3-40CA-A26F-A2D3529C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7EEA-37B5-441C-B9AB-C63E463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A5081-57F8-497C-AF1E-497E59A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8A2A-3000-415B-8E11-0038B26B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BEB2-047A-43E7-BB13-8ADA078B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C16-9218-4794-AB97-75296E76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25B4-62A1-4732-817E-1A520550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D8CF-93C2-4E7B-A8EF-A227D7B2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5CED-275A-4E74-AE76-0344C2B0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C935-0EF7-4C90-B492-47F0972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6CC1-7289-4539-AD91-E5F8CC2D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1EF5-FB9A-4BF0-9A38-85DF7EC7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E7A9-CBBD-4CCC-AE78-4611B27D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6E2A-1C8E-4276-9AD6-A6208301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4430-B31A-4BE6-8413-1217F027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A68C-9409-415F-97B3-D9447F6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E25-DBD6-4B33-95F8-F0888A0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754C-A17D-4C41-B92A-1BE1C3B7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3215-18FD-4409-9D70-91EA73AD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EB87-B0A2-443A-AAF5-6DADF0F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7D5E-D188-42EC-88CD-CFAFA0BE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0619-6B4F-44FE-A140-2A75EDE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E274-58E4-4ED2-9F73-3B5CBD9A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9318-4456-426F-AE64-68F2EF4A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AC0E-E697-470F-B45C-795626C5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57D2-31EA-41B4-B3A6-6DAB0CFC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F48E6-0DE4-4F98-AB53-AC9229F8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5B9-6D35-475C-A58D-8BDED5E4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1D231-E780-4E57-9943-D4C33123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5870-4EC8-4725-8147-FC79376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AD01-5F88-42CC-A5C6-07310305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437A-ECCD-4FC0-BB02-7FCBA877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EA25F-523E-4EAC-944D-300BBCDF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44D4-9AFF-413F-A078-F27C33D9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233F-DC46-469A-BD45-D5AD02D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63E8-8BF2-422E-BECD-927C623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E33F-9C30-4DF1-B66E-D417C52B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4EC1F-3E43-44BB-B3BF-5472B5CC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573-6DA3-418A-B331-B2C6127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F6E6-BA81-407D-9473-94B201E7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05B2B-02B4-4990-B344-BF636B19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F708-C8AF-4AFC-B534-6998EFE3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40591-13AA-4CE4-81BA-7539B99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34D7-303C-48F1-92DB-F9969227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EEB8E-DA24-422F-846C-8684577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4AD7-498E-4862-A9E0-A7A8A5C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F57AD-3572-4FDD-AAC4-816907B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6DA7-3F36-4F9C-82AC-D0D17FB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2FD0F-A3CA-4532-A82D-CC2A7579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26D-4D0C-407C-A561-D8E8840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8B8B-8056-47FE-90EB-18265D18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7A714-4511-4F02-ABE2-E6DF0E94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BC87B-CFFA-487F-8566-8A03CA26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8704C-AB53-4C50-9221-4D2E1238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605A-5ED7-4EC3-8CD7-3432B976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F3AD7-6BA6-4189-8145-8367E36B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74FF9-2F45-4A5E-9D31-6827705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30A74-11F3-44F9-A8E1-D403733C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3BF6-F28C-4674-812C-AC9B2A63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8BBE-A6F4-44BE-A2DA-99D831F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3D6-C5C1-4643-9B02-FB30B22F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C2A53-B5A9-4DD5-A287-E145A554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FF5E6-98FD-453F-8A28-1CF8FC2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7B14-5458-48E9-AD3D-3BA86113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40B05-FAC3-4B6B-BEA5-280F9F0E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B7529-C75F-4B4C-A23D-E3B70208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8DF96-D8B9-4E15-B684-63B365F6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CF86D-AAD7-48AE-9473-23509B9A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38FC7-87E5-447D-ABE7-1F37A12E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8AAD1-6ED8-4AC2-AA12-2FC07D21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1FD1-4197-4BC2-BCD5-CEE1FE8D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A52-6790-4944-A211-7810362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FCF86-06A3-4732-83DC-084EE46B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0F73C-7664-4772-9BD4-4CD9242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48E7-BFBC-44DE-A802-27D5084B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30380-A6D8-4068-88A2-89CB7D6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795F3-C423-43A5-8301-A84712B0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BBC7-202C-494E-B6AA-C006AFD1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1EB20-219F-4442-B104-A18C8D91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114C5-E825-426C-8E82-43B217AD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E9324-16BD-4C26-9B0A-4BC2AF59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8CEEC-128F-44A9-8CF9-4A858D25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B722-966A-409D-916C-198982532DD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9040-E214-4293-8677-6BC0B59B424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1FE-09AE-46D0-96AC-8FFB4A0718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4B31-4454-4C28-8F07-1D957AA05B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8482-BC37-4923-B24A-08053456F6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39A-BBBA-4CDB-8710-4BA0BBA947B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FFA5-1888-41B5-A4F5-E08E1B00ADD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EE47-0622-493C-8FBC-CE03B7EC5B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3306-D4CB-49E2-8A46-877AEAF422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12760" y="2517840"/>
            <a:ext cx="863280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305b repor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raft assessments provided to states’ 305b Coordinators by year-en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 the most current data possibl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ll data used in assessments not yet availabl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cT, fish tissue &amp; biological assessment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C signs off on assessments at Feb meet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raft report completed for June TEC mt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flicting data sets involving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ron water violations of AL criteria vs. biological assessments using fish index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rcury water violations vs. fish tissue violation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C action at last meeting directing staff to utilize weight of evidence approach in 2012 assessmen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-92160" y="146160"/>
            <a:ext cx="943128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228600" y="1752480"/>
          <a:ext cx="8686800" cy="4953240"/>
        </p:xfrm>
        <a:graphic>
          <a:graphicData uri="http://schemas.openxmlformats.org/drawingml/2006/table">
            <a:tbl>
              <a:tblPr/>
              <a:tblGrid>
                <a:gridCol w="927000"/>
                <a:gridCol w="1414440"/>
                <a:gridCol w="992160"/>
                <a:gridCol w="1154160"/>
                <a:gridCol w="1300320"/>
                <a:gridCol w="1450800"/>
                <a:gridCol w="1447920"/>
              </a:tblGrid>
              <a:tr h="919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e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Samples</a:t>
                      </a:r>
                      <a:br>
                        <a:rPr sz="1200"/>
                      </a:br>
                      <a:r>
                        <a:rPr b="1" lang="sv-SE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 '06-Jul '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QC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o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o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wickley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Partia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 Liverpool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Partia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Cumb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Ful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ke Is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Partia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i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Ful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ow Is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Ful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le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Partia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.C. By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Ful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Ful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erson Fer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Ful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Ful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is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Not Suppor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Alp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Not Suppor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Not Suppor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nel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Not Suppor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bur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Not Suppor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T. My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Not Suppor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ith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Partial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&amp;D 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 u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Not Suppor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* PADEP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Object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5278320"/>
          </a:xfrm>
          <a:prstGeom prst="rect">
            <a:avLst/>
          </a:prstGeom>
          <a:ln w="0">
            <a:noFill/>
          </a:ln>
        </p:spPr>
      </p:pic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133200" y="146160"/>
            <a:ext cx="8712360" cy="12128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Chart 3" descr=""/>
          <p:cNvPicPr/>
          <p:nvPr/>
        </p:nvPicPr>
        <p:blipFill>
          <a:blip r:embed="rId2"/>
          <a:stretch/>
        </p:blipFill>
        <p:spPr>
          <a:xfrm>
            <a:off x="262080" y="1749600"/>
            <a:ext cx="8888400" cy="44924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6"/>
          <p:cNvSpPr/>
          <p:nvPr/>
        </p:nvSpPr>
        <p:spPr>
          <a:xfrm>
            <a:off x="1066680" y="4724280"/>
            <a:ext cx="7086600" cy="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223920" y="1219320"/>
            <a:ext cx="8696160" cy="53672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2"/>
          <p:cNvSpPr/>
          <p:nvPr/>
        </p:nvSpPr>
        <p:spPr>
          <a:xfrm>
            <a:off x="1066680" y="304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2010 Methylmercury Fish Tissue Dat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182520" y="2651040"/>
            <a:ext cx="8663040" cy="13240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5:05:57Z</dcterms:created>
  <dc:creator>eben</dc:creator>
  <dc:description/>
  <dc:language>en-US</dc:language>
  <cp:lastModifiedBy>jklear</cp:lastModifiedBy>
  <dcterms:modified xsi:type="dcterms:W3CDTF">2011-10-27T16:23:41Z</dcterms:modified>
  <cp:revision>10</cp:revision>
  <dc:subject/>
  <dc:title>Test Slide</dc:title>
</cp:coreProperties>
</file>