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F25-8A95-402E-A766-383D604A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598-D739-462C-9CFC-EE24DBD6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286-5745-43EC-B56E-F2C4382C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DFC-3AED-46FF-8F97-3A885020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570-3993-4790-BB82-5AEECAD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17B-F98C-4BE2-96E0-392615F3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D46-DF7F-4C6D-91D4-7B0F221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39F-4DAA-4E54-AF16-44E1EBA4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7B6-D480-4B3F-9CD9-647254EC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270-16C0-49D2-B194-0E7ED43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87E-293B-4702-B4D2-87EF824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235-B136-4F3B-951A-F6702E1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B73-A675-494D-9D4F-B56715943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f the NPDES Sub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25, 201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ference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osed Sampling Plan for ORSANCO PCS Supplemental Fund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aluation of Flue Gas Desulfurization and Ash Pond Methyl Mercury Dischar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ed facilities and selection rationa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dinal Operating Co. Cardinal Plant, Mile 76.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h ponds do not receive FGD Wastewa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hio Power/AEP Mitchell Plant, Mile 112.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vanced FGD treatment system meeting Hg criterion without mixing z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yton Power and Light J.M. Stuart Plant, Mile 404.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treatment of FGD wastewa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ana-Kentucky Electric Corp. Clifty Creek Plant, Mile 5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GD system to be installed 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luent Monitoring for Nutr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ent monitoring requirements have been added to permits for major discharges to the Ohio River as they are ren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members are assisting ORSANCO staff in compiling results of effluent monito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this data will be valuable in understanding nutrient levels in the Ohio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ticipa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o E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sylvania D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 Virginia D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ana 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linois E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PA- HQ, Regi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Dissolved Sol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nce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GD Dis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uent Monitoring for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tal Dissolved Sol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SANCO adopted 500 mg/L criterion to apply at drinking water int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discussed application; this revealed differences among state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SANCO staff directed to compile state procedures for discussion on next c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nce 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presented draft procedure for consideration of variances to mixing zone requir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members provided com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concern – no guidance on consideration of economic impact/ afford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nce Applicatio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2850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GD Dischar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presented inventory of dischar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ommittee members to review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proposed sites for monito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ze methyl mercury discharges from FG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ze methyl mercury discharges from fly and bottom ash p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osed Sampling Plan for ORSANCO PCS Supplemental Fund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aluation of Flue Gas Desulfurization and Ash Pond Methyl Mercury Dischar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osed Sampling Plan for ORSANCO PCS Supplemental Fund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aluation of Flue Gas Desulfurization and Ash Pond Methyl Mercury Dischar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sample events (quarterly) at four coal-fired power generation fac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tical parameters to be monitore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sample locations per facilit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pstream baseline or inflo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GD wastewater post treat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ly/bottom ash pond final dischar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3124080"/>
          <a:ext cx="7162560" cy="167652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tered total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filtered total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tered methyl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filtered methyl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Organic 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Sulf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orophy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/Specific  Conduc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5:42:02Z</dcterms:created>
  <dc:creator>peter</dc:creator>
  <dc:description/>
  <dc:language>en-US</dc:language>
  <cp:lastModifiedBy>jklear</cp:lastModifiedBy>
  <dcterms:modified xsi:type="dcterms:W3CDTF">2011-10-27T17:29:15Z</dcterms:modified>
  <cp:revision>8</cp:revision>
  <dc:subject/>
  <dc:title>Report of the NPDES Subcommittee</dc:title>
</cp:coreProperties>
</file>