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4.xml" ContentType="application/vnd.openxmlformats-officedocument.presentationml.comments+xml"/>
  <Override PartName="/ppt/comments/comment6.xml" ContentType="application/vnd.openxmlformats-officedocument.presentationml.comments+xml"/>
  <Override PartName="/ppt/comments/comment9.xml" ContentType="application/vnd.openxmlformats-officedocument.presentationml.comments+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commentAuthors.xml><?xml version="1.0" encoding="utf-8"?>
<p:cmAuthorLst xmlns:p="http://schemas.openxmlformats.org/presentationml/2006/main">
  <p:cmAuthor id="0" name="Carrie Turner" initials="CT"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4.xml><?xml version="1.0" encoding="utf-8"?>
<p:cmLst xmlns:p="http://schemas.openxmlformats.org/presentationml/2006/main">
  <p:cm authorId="0" dt="2011-09-29T15:11:08.306000000" idx="6">
    <p:pos x="4262" y="3459"/>
    <p:text>I think ORSANCO should think about dropping fecal entirely after 2012 since it will not be included in EPA's new criteria recommendations.</p:text>
  </p:cm>
  <p:cm authorId="0" dt="2011-09-29T15:12:45.511000000" idx="7">
    <p:pos x="4513" y="318"/>
    <p:text>I would consider dropping this slide in the interest of time.  Let's get them to agree to change the standard. Once the standards are changed, then we have a basis for revisiting the assessment procedures.  I also think the Why October 2012? slide is a strong ending to the argument we're making.</p:text>
  </p:cm>
</p:cmLst>
</file>

<file path=ppt/comments/comment4.xml><?xml version="1.0" encoding="utf-8"?>
<p:cmLst xmlns:p="http://schemas.openxmlformats.org/presentationml/2006/main">
  <p:cm authorId="0" dt="2011-09-29T15:13:56.980000000" idx="1">
    <p:pos x="4677" y="524"/>
    <p:text>I deleted this since it creates an impression of redundancy with slides 11 and 12</p:text>
  </p:cm>
  <p:cm authorId="0" dt="2011-09-29T15:25:51.337000000" idx="2">
    <p:pos x="1745" y="3181"/>
    <p:text>ORSANCO and Utility Rec Use Surveys, water quality data, etc.</p:text>
  </p:cm>
  <p:cm authorId="0" dt="2011-09-29T15:26:24.260000000" idx="3">
    <p:pos x="4754" y="3430"/>
    <p:text>Maybe there's an example of a GI project from Louisville that we can cite.</p:text>
  </p:cm>
</p:cmLst>
</file>

<file path=ppt/comments/comment6.xml><?xml version="1.0" encoding="utf-8"?>
<p:cmLst xmlns:p="http://schemas.openxmlformats.org/presentationml/2006/main">
  <p:cm authorId="0" dt="2011-09-29T14:53:54.969000000" idx="4">
    <p:pos x="3783" y="181"/>
    <p:text>Can this be a generic load-duration-curve?
Maybe we use the curve in EPA's TMDL memo if we want something site-specific (it's from Pittsburgh)?</p:text>
  </p:cm>
</p:cmLst>
</file>

<file path=ppt/comments/comment9.xml><?xml version="1.0" encoding="utf-8"?>
<p:cmLst xmlns:p="http://schemas.openxmlformats.org/presentationml/2006/main">
  <p:cm authorId="0" dt="2011-09-29T14:58:38.742000000" idx="5">
    <p:pos x="2837" y="3147"/>
    <p:text>Some communities have already started implementing their LTCPs (e.g. Henderson, even SD1's Banklick wetland could be an example).  I think we need to show that the POTWs are doing stuff NOW, not just in an endless planning and evaluation cycle.</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4137-6CD6-4F1F-AD78-6E580840A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DE60-D09A-450D-8409-11A7852A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A09B-63D2-4EA2-B802-0EF8DDFB5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A6239-0CFB-4D1A-B326-B98F42FAF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EE582-FCB5-482A-A735-8E14E8CC1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F97A-A09C-4BE0-9791-C68E4A24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2FD3-A78C-4324-AA3B-76627556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80FC-3421-4865-9F64-F23331B6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FB2A-E007-4C31-8E76-0F51C5BF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8922-86BA-429B-B6D5-6F2D4844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9BDD-3C34-4B6C-B9B0-B830AC49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659D-0A88-45C2-B741-99014954C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D385-0C5D-4281-B3A8-97564D33CD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ORSANCO’s Recreational Use Criteria Should be Updated in October 201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ORSANCO POTW Advisory Committe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Presentation to ORSANCO’s Technical Committe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October 11-12, 2011</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Washington, DC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Cities Do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cing tough choices because of economic environ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 of layoffs,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ement of how CWA compliance costs have sky-rocke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cal Mayors’ initiativ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Perfect Storm” CSO Communities Summi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ma, OH effort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 Conference of Mayors’ initiativ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log with EPA/DOJ headquarters on CSO/SSO Consent Decre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log with EPA on integration of wastewater, stormwater, and drinking water programs linked with cost/benefit and afford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TextBox 3"/>
          <p:cNvSpPr/>
          <p:nvPr/>
        </p:nvSpPr>
        <p:spPr>
          <a:xfrm>
            <a:off x="380880" y="5937120"/>
            <a:ext cx="8610840" cy="580680"/>
          </a:xfrm>
          <a:prstGeom prst="rect">
            <a:avLst/>
          </a:prstGeom>
          <a:solidFill>
            <a:srgbClr val="fdeada"/>
          </a:solid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ed to also clear this with Fred Andes, B&amp;T (Mayor Berger, City of Lima); and Rich Anderson, USCM</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hange the Standar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SANCO’s standards are not consistent with EPA clarifications on how the existing criteria and should be applied or their current thinking on new criteria </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A’s new criteria have been developed for beaches and coastal water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EPA intends to publish them for inland waters</a:t>
            </a:r>
            <a:endParaRPr b="0" lang="en-US" sz="20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reational uses on the Ohio River are different</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conditions are different  </a:t>
            </a:r>
            <a:endParaRPr b="0" lang="en-US" sz="2000" spc="-1" strike="noStrike">
              <a:solidFill>
                <a:srgbClr val="000000"/>
              </a:solidFill>
              <a:latin typeface="Calibri"/>
            </a:endParaRPr>
          </a:p>
        </p:txBody>
      </p:sp>
      <p:sp>
        <p:nvSpPr>
          <p:cNvPr id="66" name="TextBox 3"/>
          <p:cNvSpPr/>
          <p:nvPr/>
        </p:nvSpPr>
        <p:spPr>
          <a:xfrm>
            <a:off x="380880" y="5181480"/>
            <a:ext cx="2362320" cy="1360440"/>
          </a:xfrm>
          <a:prstGeom prst="rect">
            <a:avLst/>
          </a:prstGeom>
          <a:solidFill>
            <a:srgbClr val="fdeada"/>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low flow conditions</a:t>
            </a:r>
            <a:endParaRPr b="0" lang="en-US" sz="1800" spc="-1" strike="noStrike">
              <a:solidFill>
                <a:srgbClr val="000000"/>
              </a:solidFill>
              <a:latin typeface="Calibri"/>
            </a:endParaRPr>
          </a:p>
        </p:txBody>
      </p:sp>
      <p:sp>
        <p:nvSpPr>
          <p:cNvPr id="67" name="TextBox 4"/>
          <p:cNvSpPr/>
          <p:nvPr/>
        </p:nvSpPr>
        <p:spPr>
          <a:xfrm>
            <a:off x="3429000" y="5181480"/>
            <a:ext cx="2362320" cy="1360440"/>
          </a:xfrm>
          <a:prstGeom prst="rect">
            <a:avLst/>
          </a:prstGeom>
          <a:solidFill>
            <a:srgbClr val="fdeada"/>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medium flow conditions</a:t>
            </a:r>
            <a:endParaRPr b="0" lang="en-US" sz="1800" spc="-1" strike="noStrike">
              <a:solidFill>
                <a:srgbClr val="000000"/>
              </a:solidFill>
              <a:latin typeface="Calibri"/>
            </a:endParaRPr>
          </a:p>
        </p:txBody>
      </p:sp>
      <p:sp>
        <p:nvSpPr>
          <p:cNvPr id="68" name="TextBox 5"/>
          <p:cNvSpPr/>
          <p:nvPr/>
        </p:nvSpPr>
        <p:spPr>
          <a:xfrm>
            <a:off x="6248520" y="5181480"/>
            <a:ext cx="2361960" cy="1360440"/>
          </a:xfrm>
          <a:prstGeom prst="rect">
            <a:avLst/>
          </a:prstGeom>
          <a:solidFill>
            <a:srgbClr val="fdeada"/>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high flow condi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October 2012?</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ood time to rally support by Cities and POTW ratepayers for getting the science righ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tilities committed to continuing public educational efforts around this issu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realistic endpoints for TMDLs and long-term control pla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lebrate success with achievable implementation plan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sters targeting resources at controls that provide the most benef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ke Apgar (cont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yLynn Lodor (cont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of all POTW Advisory Committee Members</a:t>
            </a:r>
            <a:endParaRPr b="0" lang="en-US" sz="2800" spc="-1" strike="noStrike">
              <a:solidFill>
                <a:srgbClr val="000000"/>
              </a:solidFill>
              <a:latin typeface="Calibri"/>
            </a:endParaRPr>
          </a:p>
        </p:txBody>
      </p:sp>
      <p:sp>
        <p:nvSpPr>
          <p:cNvPr id="74" name="TextBox 4"/>
          <p:cNvSpPr/>
          <p:nvPr/>
        </p:nvSpPr>
        <p:spPr>
          <a:xfrm>
            <a:off x="1523880" y="6324480"/>
            <a:ext cx="6477120" cy="36828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is a faded map of the cities and tributar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thing…</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SANCO should consider adopting assessment criteria in the WQ standar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apeake Bay TMDL memo (4/29/10)</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refore, to ensure the Chesapeake Bay TMDL is fully consistent with existing state Chesapeake Bay water quality standards, the four jurisdictions with Bay tidal waters will need to adopt these new/refined criteria assessment procedures into their water quality standards regulation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also to address assessing attainment based on fecal coliform OR </a:t>
            </a:r>
            <a:r>
              <a:rPr b="0" i="1" lang="en-US" sz="2800" spc="-1" strike="noStrike">
                <a:solidFill>
                  <a:srgbClr val="000000"/>
                </a:solidFill>
                <a:latin typeface="Calibri"/>
              </a:rPr>
              <a:t>E. coli </a:t>
            </a:r>
            <a:r>
              <a:rPr b="0" lang="en-US" sz="2800" spc="-1" strike="noStrike">
                <a:solidFill>
                  <a:srgbClr val="000000"/>
                </a:solidFill>
                <a:latin typeface="Calibri"/>
              </a:rPr>
              <a:t>(not both)</a:t>
            </a: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we recommending?</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 new recreational uses (and assessment procedures) in October 201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t>
            </a:r>
            <a:r>
              <a:rPr b="0" i="1" lang="en-US" sz="2800" spc="-1" strike="noStrike">
                <a:solidFill>
                  <a:srgbClr val="000000"/>
                </a:solidFill>
                <a:latin typeface="Calibri"/>
              </a:rPr>
              <a:t>E. col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reation season geometric mea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stical threshold value of 25% instead of the “single-sample” maxim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orary use suspension for the Ohio River (based on st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pective on EPA’s Current Thinking on Recreational Use Criteria</a:t>
            </a:r>
            <a:endParaRPr b="0" lang="en-US" sz="4000" spc="-1" strike="noStrike">
              <a:solidFill>
                <a:srgbClr val="000000"/>
              </a:solidFill>
              <a:latin typeface="Calibri"/>
            </a:endParaRPr>
          </a:p>
        </p:txBody>
      </p:sp>
      <p:sp>
        <p:nvSpPr>
          <p:cNvPr id="46" name=""/>
          <p:cNvSpPr txBox="1"/>
          <p:nvPr/>
        </p:nvSpPr>
        <p:spPr>
          <a:xfrm>
            <a:off x="457200" y="1600200"/>
            <a:ext cx="50292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d EPA’s efforts to develop new recreational use criteria for coastal waters &amp; Great Lakes beach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their efforts to make the 1986 criteria consistent with today’s understanding of past and present epidemiological-microbiological stud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a need to help EPA evaluate options for inland water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pecially working rivers</a:t>
            </a:r>
            <a:endParaRPr b="0" lang="en-US" sz="2000" spc="-1" strike="noStrike">
              <a:solidFill>
                <a:srgbClr val="000000"/>
              </a:solidFill>
              <a:latin typeface="Calibri"/>
            </a:endParaRPr>
          </a:p>
        </p:txBody>
      </p:sp>
      <p:sp>
        <p:nvSpPr>
          <p:cNvPr id="47" name="TextBox 3"/>
          <p:cNvSpPr/>
          <p:nvPr/>
        </p:nvSpPr>
        <p:spPr>
          <a:xfrm>
            <a:off x="5791320" y="1676520"/>
            <a:ext cx="2209680" cy="2133360"/>
          </a:xfrm>
          <a:prstGeom prst="rect">
            <a:avLst/>
          </a:prstGeom>
          <a:solidFill>
            <a:srgbClr val="fcd5b5"/>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ture of a Great Lakes beach</a:t>
            </a:r>
            <a:endParaRPr b="0" lang="en-US" sz="1800" spc="-1" strike="noStrike">
              <a:solidFill>
                <a:srgbClr val="000000"/>
              </a:solidFill>
              <a:latin typeface="Calibri"/>
            </a:endParaRPr>
          </a:p>
        </p:txBody>
      </p:sp>
      <p:sp>
        <p:nvSpPr>
          <p:cNvPr id="48" name="TextBox 4"/>
          <p:cNvSpPr/>
          <p:nvPr/>
        </p:nvSpPr>
        <p:spPr>
          <a:xfrm>
            <a:off x="5791320" y="4114800"/>
            <a:ext cx="2209680" cy="2133720"/>
          </a:xfrm>
          <a:prstGeom prst="rect">
            <a:avLst/>
          </a:prstGeom>
          <a:solidFill>
            <a:srgbClr val="fcd5b5"/>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 of a barge chugging up the Ohio River with a downtown urban area and some bridges in the backgrou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0720" y="268200"/>
            <a:ext cx="8242560" cy="1158840"/>
          </a:xfrm>
          <a:prstGeom prst="rect">
            <a:avLst/>
          </a:prstGeom>
          <a:ln w="0">
            <a:noFill/>
          </a:ln>
        </p:spPr>
      </p:pic>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stent with current sci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need to target scarce resources to protect recreational uses, when the uses are actually occur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oid wasting money on pollution controls that provide little or no public health or environmental benefit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have a better understanding of the river now than when changes were first propos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da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investment in protecting WQ by Util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public understan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Update ORSANCO’s Standards?(2)</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argeting scarce resourc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itization of controls (Consent Decrees, TMDLs, MS4 programs, nonpoint sour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 with goals of managing runoff with green infrastructure (target smaller storms firs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voiding wasting money by establishing realistic endpoints fo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ready costly CSO/SSO Consent Decre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980-mile bacteria TMDL for the Ohio Riv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TMDLs for XX tributaries to the Ohio Rive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ing standards with understanding about actual recreational activities and river conditions</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ad duration curve graphic with pictures of the river at low, medium, and high flows</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solidFill>
            <a:srgbClr val="fdeada"/>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that the proposed temporary suspension of recreational uses at the highest flows allows re-direction of pollution control efforts at the lower fl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p of Ohio River with statistics on miles along the mainstem and stream miles of tributaries (by state)</a:t>
            </a:r>
            <a:endParaRPr b="0" lang="en-US" sz="2800" spc="-1" strike="noStrike">
              <a:solidFill>
                <a:srgbClr val="000000"/>
              </a:solidFill>
              <a:latin typeface="Calibri"/>
            </a:endParaRPr>
          </a:p>
        </p:txBody>
      </p:sp>
      <p:sp>
        <p:nvSpPr>
          <p:cNvPr id="56" name=""/>
          <p:cNvSpPr txBox="1"/>
          <p:nvPr/>
        </p:nvSpPr>
        <p:spPr>
          <a:xfrm>
            <a:off x="457200" y="1600200"/>
            <a:ext cx="8229600" cy="4525920"/>
          </a:xfrm>
          <a:prstGeom prst="rect">
            <a:avLst/>
          </a:prstGeom>
          <a:solidFill>
            <a:srgbClr val="fdeada"/>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is to shock the audience with the idea that if the mainstem bacteria TMDL is targeted at protecting ALL flow ranges, then each state will have to do this on each tributary (regardless of whether it is feasible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dots for all the CSO communities in the Ohio River basin for next sl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POTWs Ca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te increa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atement of ran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treme examp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am implementation costs for CSO/SSO contr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tement of ran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treme examp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ture cos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ing infrastructure, MS4, nutrient removal, emerging contaminant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duciary responsibility to custom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ve POTWs been doing?</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edu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keholder group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tershed characterization and linking sources with water quality impac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da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ection system mode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shed &amp; water quality model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tructing control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nering with NGO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ing recreational use too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2:26Z</dcterms:created>
  <dc:creator>Adrienne</dc:creator>
  <dc:description/>
  <dc:language>en-US</dc:language>
  <cp:lastModifiedBy>jklear</cp:lastModifiedBy>
  <dcterms:modified xsi:type="dcterms:W3CDTF">2011-10-27T17:31:37Z</dcterms:modified>
  <cp:revision>15</cp:revision>
  <dc:subject/>
  <dc:title>PowerPoint Presentation</dc:title>
</cp:coreProperties>
</file>