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F2F-BC16-4CB2-9C04-A302830C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94B-9FD9-4604-B341-98C12CCC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E35-DC60-4D9D-A9DC-053190E8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9ED-40EA-411C-9AF0-9BA1D9C5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EE4-5F2E-41A0-8ED0-DB05B081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A88-D159-441C-8837-6662870A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A0E-F1EE-4990-9AC1-E3B744B0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25F-DDA2-4DDA-9772-90EC27EA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081-DC73-4283-971D-C3AF46C5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640-0EC4-42A8-AA0D-F282A0D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6D7-2B44-41D0-8218-8986500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CD6-94F4-46E2-BC9A-49DD762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66B0-1615-40C2-ACCB-20D194A18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of ORSANC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ution Control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placement of “stair-step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weekly criteria in place of bi-wee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discussion of “Delta 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 to consensus on which components of proposed criteria to move forward with and which to review or rem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ne subgroup to continue further discussions of Human Health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Comment Period – Spring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ation of Comments – Summer- Fall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ation of Propos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Public Review – Spring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ion of Revisions – October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stantive Issues Rai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m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o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 to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Work Groups convened to address Bromide, Mercury,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 Criteria Subcommittee to address Ammo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discussion of Pathog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S Committee to address organization of the Standards docu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romide Workgroup Cal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conference call of the Bromide workgroup was convened on August 3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  Participating in the call were the following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ff Davidson    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ic Nygard         OE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 Lau                   ID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y McElhinny USEPA R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dy Payne      KYD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vin Coyne       WVD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n Schwartz     PAD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gao Song      Louisville Water Company (WUA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 States         Pittsburgh Water and Sewer Auth. (WUA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romide Workgroup Cal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oup supported the proposed TDS/ bromide study (1 sample/week @ 15 locations for 1 ye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e the problem first; develop appropriate recommendations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ordinated collection of source water samples with THM samples (performed quarterly per USEPA) at the drinking water utilit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 opportunity to assess source water bromide impact on brominated THM 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romide Workgroup Cal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commendation forthcoming on bromide for current PCS review cyc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erence call held Sept 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ed status of current &amp; proposed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d topic of Human Health criter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e-mail discussions over the last 3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is leaning towards moving forward with some elements of proposed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newly developed summer criteria based on more recent lit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de river into 3 se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nsus not to move towards daily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implementation overly diffic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r retaining “stair-step”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of how, if at all, to use “Delta 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8:40:59Z</dcterms:created>
  <dc:creator>peter</dc:creator>
  <dc:description/>
  <dc:language>en-US</dc:language>
  <cp:lastModifiedBy>jklear</cp:lastModifiedBy>
  <dcterms:modified xsi:type="dcterms:W3CDTF">2011-10-27T17:28:37Z</dcterms:modified>
  <cp:revision>6</cp:revision>
  <dc:subject/>
  <dc:title>Review of ORSANCO  Pollution Control Standards</dc:title>
</cp:coreProperties>
</file>