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DAC6-DF3A-4306-858B-721A6F46F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5FDD-4791-4177-9DC3-749DB87008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786-F8E5-48FB-90F1-C3DAFD01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68F-89DA-49C4-AF7C-EC057FEC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D18-C8B4-4730-9CC4-FF92A0B0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B31-6F7C-4461-B08E-49408537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37B3-F1EB-4FD5-9E55-A7A058E0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2735-483C-4EE7-9731-3E3BBC9C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280B-E748-4E97-8EFE-70DB110D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CCF0-259D-4C32-93BD-639E8A66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AFBD-952D-40DA-88A6-E8E03593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C081-BC33-4490-AD89-48CD70F1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3DF-38BC-4281-AD1B-34ADA207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3061-B72A-40AD-BCB8-0C1E4207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1170-438D-4C35-952B-265B4A5B3B8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llution Control Standards Issues:  Mercu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8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echnical Committee Meet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tober 11-12, 201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shington, D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ption 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anslate tissue criterion to water column criter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velop site-specific BAF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delled BAF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quire as much data as site-specific approac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e BAFs that are not site-specifi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st approach is development of site-specific BAF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te-specific BAF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AF = C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 /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hio River methylmercury BAF Demonstration Proje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ne si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nthly water X-sectional samples for one yea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 tissue samples of commonly consumed fish across trophic levels 2,3 &amp;4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l samples analyzed for total &amp; methyl mercur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$39K direct cost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rcury Issu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quatic Life Criteria (total recoverable):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.91 ug/L chronic; 1.7 ug/L acut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al Human Health Criter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.012 ug/L total recoverable mercury in wat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.3 mg/Kg MeHg in fish tissu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 a water column criterion necessar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 the current water column criterion correc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ter Quality Violations:  Total H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Chart 3" descr=""/>
          <p:cNvPicPr/>
          <p:nvPr/>
        </p:nvPicPr>
        <p:blipFill>
          <a:blip r:embed="rId1"/>
          <a:stretch/>
        </p:blipFill>
        <p:spPr>
          <a:xfrm>
            <a:off x="262080" y="1749600"/>
            <a:ext cx="8888400" cy="4492440"/>
          </a:xfrm>
          <a:prstGeom prst="rect">
            <a:avLst/>
          </a:prstGeom>
          <a:ln w="0">
            <a:noFill/>
          </a:ln>
        </p:spPr>
      </p:pic>
      <p:sp>
        <p:nvSpPr>
          <p:cNvPr id="54" name="Straight Connector 6"/>
          <p:cNvSpPr/>
          <p:nvPr/>
        </p:nvSpPr>
        <p:spPr>
          <a:xfrm>
            <a:off x="1066680" y="4724280"/>
            <a:ext cx="708660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23920" y="1219320"/>
            <a:ext cx="8696160" cy="536724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1066680" y="3049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2010 Methylmercury Fish Tissue Da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parison of AWQC for Mercur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8080" y="838080"/>
          <a:ext cx="7696440" cy="5992920"/>
        </p:xfrm>
        <a:graphic>
          <a:graphicData uri="http://schemas.openxmlformats.org/drawingml/2006/table">
            <a:tbl>
              <a:tblPr/>
              <a:tblGrid>
                <a:gridCol w="1828800"/>
                <a:gridCol w="1249560"/>
                <a:gridCol w="1798560"/>
                <a:gridCol w="1371600"/>
                <a:gridCol w="14479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quatic Lif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uman Health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u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n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er, n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sh Tissue, mg/K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.S. EP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00 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0 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 MeH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SAN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00 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45 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0 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4 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 MeH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LINO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00 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00 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A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00 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t (at POW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 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TUC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00 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0 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 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 MeH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00 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00 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0 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0 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NSYLVAN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00 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90 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0 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5 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VIRGIN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00 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t MeH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 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 MeH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2010 305b Issu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xceedances of fish tissue criterion were primarily for total mercury in large stripped bass populatio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triped bass represents worst-case and not representative of typical consumption patter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st total mercury exceedances were at concentrations not far above methyl criterio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ew ORSANCO study of total &amp; methyl was indicating lower percentages of methyl in fish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NFLICTING DATA SETS!!!!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orkgroup Recommend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 EPA’s 2010 Guidance for Implementing the January 2001 Methylmercury Water Quality Criter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010 Guidance for Implementing the January 2001 Methylmercury Water Quality Criter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48400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tion 1:  Implement fish tissue criterion without a water column criter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tion 2:  Translate fish tissue criterion to a water column criter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ption 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lement the fish tissue criterion without the water column criter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) Determine reasonable potential of discharg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) Determine status of attainment of fish tissue criter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) Implement mercury minimization plan &amp; discharge monitorin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t the most practical approach for Ohio River due to number of discharges, total loading &amp; number of tissue samples exceeding criterion.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6:13:34Z</dcterms:created>
  <dc:creator>jason</dc:creator>
  <dc:description/>
  <dc:language>en-US</dc:language>
  <cp:lastModifiedBy>jklear</cp:lastModifiedBy>
  <dcterms:modified xsi:type="dcterms:W3CDTF">2011-10-27T16:24:58Z</dcterms:modified>
  <cp:revision>62</cp:revision>
  <dc:subject/>
  <dc:title>Pollution Control Standards Issues:  Mercury</dc:title>
</cp:coreProperties>
</file>