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699-FFC4-4E9B-8327-B5743DEA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A83-A769-4826-A474-E65F417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F92-6694-469D-A821-1DFB6439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0E1-342A-4D4D-9DF6-B5461F4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C46-D61C-4F1D-A2B5-E0BAC14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B69-40CC-49C7-B045-51D5121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877-7DB7-49BC-9E4F-3929F16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786-DB5E-46EC-8824-C56E8B6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80A-AC12-468B-BE83-0E61A0C5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62D-28FA-48F4-AA41-AD04710D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412-64DB-44B4-9D0D-D1AB87A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4DF-223A-47EC-903F-B8ABD8A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ECAE-0347-4675-97FC-B7B9A7AFEC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racterization of Dissolved Solids in the Ohio R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ical Committee Me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tober 10-11, 20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acterize ambient background levels of T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velop site-specific translators to convert conductivity to T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antify TDS constituent makeup to document temporal and spatial variabi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vide data to support possible development of an Ohio River bromide stream criter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ing Desig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ekly samples collected at 15 si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ection sites located at water intak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icipants identified through the WUAC and PIA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mpling to begin late Octo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y will run for one-ye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issolved Solids Analy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2174760"/>
            <a:ext cx="2438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di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assi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gnesi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lci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hi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964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upplemental Param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5600" y="2174400"/>
            <a:ext cx="40417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du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eam flo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ordinate THM sampling when possi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tent Placeholder 4"/>
          <p:cNvSpPr/>
          <p:nvPr/>
        </p:nvSpPr>
        <p:spPr>
          <a:xfrm>
            <a:off x="2817720" y="2209680"/>
            <a:ext cx="2059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lor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lf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om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lour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tent Placeholder 4"/>
          <p:cNvSpPr/>
          <p:nvPr/>
        </p:nvSpPr>
        <p:spPr>
          <a:xfrm>
            <a:off x="457200" y="5181480"/>
            <a:ext cx="4040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fff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icarbo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otal Dissolved Soli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ounded Rectangle 10"/>
          <p:cNvSpPr/>
          <p:nvPr/>
        </p:nvSpPr>
        <p:spPr>
          <a:xfrm>
            <a:off x="380880" y="2133720"/>
            <a:ext cx="4343400" cy="27432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ounded Rectangle 11"/>
          <p:cNvSpPr/>
          <p:nvPr/>
        </p:nvSpPr>
        <p:spPr>
          <a:xfrm>
            <a:off x="4876920" y="2209680"/>
            <a:ext cx="4114800" cy="32004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ounded Rectangle 12"/>
          <p:cNvSpPr/>
          <p:nvPr/>
        </p:nvSpPr>
        <p:spPr>
          <a:xfrm>
            <a:off x="380880" y="5029200"/>
            <a:ext cx="3962520" cy="1447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152280" y="152280"/>
          <a:ext cx="8788680" cy="6596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88680" cy="65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posed Sampling Si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hio River Locations (Mil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on Township (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st Liverpool (4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eling (87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stersville (13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upont – Parkersburg (19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eshire, OH (26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untington (304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incinnati (46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uisville (60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ansville (79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iro (97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ibutary Locations (Mil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egheny (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nongahela (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aver (6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skingum (3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g Sandy (2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nt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63360" y="-55872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3360" y="-55872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7:51:15Z</dcterms:created>
  <dc:creator>sam</dc:creator>
  <dc:description/>
  <dc:language>en-US</dc:language>
  <cp:lastModifiedBy>jklear</cp:lastModifiedBy>
  <dcterms:modified xsi:type="dcterms:W3CDTF">2011-10-27T17:32:04Z</dcterms:modified>
  <cp:revision>33</cp:revision>
  <dc:subject/>
  <dc:title>Characterization of Dissolved Solids in the Ohio River</dc:title>
</cp:coreProperties>
</file>