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6CDA-D07F-4CF8-8054-9E78B105C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1B8D-5452-4289-9945-5E07F2C6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46C7-4062-42D5-A2BE-2B9A541A3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9AC9-F334-4664-BF1C-86B097EE1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7C87-8626-45E8-BF30-39914B936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F474-A93F-4459-87C6-992F718E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9CBE-78F5-4459-B43F-62399E75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5AC5-4ADB-4550-B9C2-251A20FD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1957-4B6B-4522-86CB-93F109D3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F081-EB10-4C27-913E-19D269CD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8DD3-B757-4900-A24A-8D1E48B1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C576-C653-443C-A2E7-801DC791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FB09-4849-4E75-BE76-319E911D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6EBF-BBAB-41E9-B27A-E0D28975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776C-1934-4BB8-BFFB-AE1853A8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C114-678D-4C1D-87C0-41AAC4421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D4E5-19BB-4BFE-8BAB-94993B415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C954B-9394-40A9-AF7B-4D147CF42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E85F7-A071-45AA-ACBE-F9B42A6F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0A76C-56C6-4CCB-9F58-4F6F0C6F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8D59F-D75C-4698-8079-4241CDB5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345F4-BA10-4ED7-81C4-B9C55877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A172-C858-4705-957F-07FF16AD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3DF91-67D8-49C9-82BB-78EC853E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33EB6-1656-4F23-98F4-B462015C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E0A03-4B2E-4A4E-A3DB-7E213AC0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7AE72-A171-4259-A88F-9B04BCF7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F6675-573B-49B9-8C49-8F748ED0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BF4BE-BBE7-4D78-8AA2-6CD7F732E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D560C-D983-41AC-828B-61D9BB452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AFEC5-A4F6-4234-8CDF-9F03FDCD0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29C67-A8B9-4C63-AAB7-D55DC8E5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CC06D-C9A2-4BFB-87B0-77679550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8D88-4114-431A-9340-23EE7CD9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E7D27-5706-41AE-A100-77DAA77D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F22E4-DD07-409E-BF52-4968F049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AB5AF-B670-4EA1-B104-83F302A2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98DB7-A221-4A4C-B5C6-32F42D95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C9CBA-A7AF-45B5-85FD-991C0748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0CE89-88D0-4152-8E30-B162C7A5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D94FC-609D-46FC-99E4-5775A647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1097B-4120-4529-8EC8-BF3896F5A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972D8-6D9F-4365-B7D4-8F71B2BC2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9198C-DD91-4D7C-825F-1880B56E3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EA78-6084-481D-938F-8F136934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C272C-2AF9-4D25-847C-C595E09F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030DC-F843-4428-B756-ED6A578F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CDA27-58AD-4B7C-875B-B5819F0E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4C2E2-0233-4F02-8967-F6C8FC94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44B5E-175F-4188-BA7C-D8B1B110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200E1-6550-4A28-A8EC-EA3484A6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31B18-BAC3-4878-A5AD-CC7B2750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0899C-63E7-45C5-AFA9-A38F2F5F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2F0F9-99F3-4B7D-986C-53FEF2A5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9A5A9-BA42-4E18-A55B-E1E45F1D2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03F8-879A-44A6-9084-1B4E7DE4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F0ED6-3A74-4F57-A571-40658D6D0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13663-FBDE-4388-8B96-0C9B7A30C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F1D80-DB9E-419D-AB67-82C4B8A5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61D71-C9F3-4277-935F-6E5ED353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56107-3CAF-48B0-A877-20AFE805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24C07-F4C6-4F28-9484-39E913CB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74BD3-6E69-490C-8E1F-324C1774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7FC40-8084-4847-80F2-2319D7F6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FCFF5-53D0-4408-9D3B-652AAD5B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6D0BE-D293-4C91-9BE2-6FAD53DB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D233-7984-4E98-9638-0F02476B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7D861-36E0-4522-8092-79C199F9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C14D2-A5FA-4137-9EFE-AB2796166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A9DB9-1163-493C-94E5-F47E0C16E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D63C-B95F-4710-9BD3-7FAEB9CA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84F8-C865-4AE6-9A41-30CD4603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84C4-B8C2-4C54-B625-F2997D434F2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5BC3-8BF7-49E2-A023-2AAE0AB9E9B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F3A5-1DC9-40AD-97AD-A2055F7D1A9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37CE-F584-4403-8A81-12BB17ACB8E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FE92-FAE6-4810-948A-B07F7A48243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CC4D-CC4E-4B4C-910E-3FB245D0487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3" descr=""/>
          <p:cNvPicPr/>
          <p:nvPr/>
        </p:nvPicPr>
        <p:blipFill>
          <a:blip r:embed="rId1"/>
          <a:stretch/>
        </p:blipFill>
        <p:spPr>
          <a:xfrm>
            <a:off x="573120" y="1427040"/>
            <a:ext cx="6754680" cy="24066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3349800" y="350532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echnical Committee Mee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tober 11-12,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shington, D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wo-Pronged Approach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#1- Convene Panel of Exper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valuate our data &amp; analys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commend an approach to develop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umerical nutrients criteria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#2 – Continue to seek EPA Support Thru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-STEP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-152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anel of Exper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990360"/>
            <a:ext cx="7467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V SEP provided $30K to support convening a panel of exper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ff participated in WERF workshop to develop a project to identify modeling approaches to numerical nutrients criteria developme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ject completion date of March, 2013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utrients modeling expert for ORSANCO’s pane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urrently organizing Expert Panel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ggressive schedule to have a recommended approach for Feb 2012 TEC.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N-STEPS Suppor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vided contractor all applicable data se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croinvertebrate Index needed  prior to conducting data analysis (“change point analysis”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pect completion of draft index by year-en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ve advised EPA of schedul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urrently waiting to hear if/when N-STEPS support will proce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onclus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59984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ORSANCO proceeding independently of N-STEPS support but want to utilize N-STEPS support if/when availabl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oliciting suggestions for expertise to include in ORSANCO’s expert panel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Jeff Frey – USGS (Indiana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ob Miltner  - OEP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Jan Stevenson – Michigan State Univers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r. Dennis Helsel – Statistics consulta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John Harcum, Tetra Tec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an Wolter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deler – Clifton Bell, Dale Robertson (SPARROW), Arturo Keller (WARMF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Title 3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19:28:10Z</dcterms:created>
  <dc:creator>eben</dc:creator>
  <dc:description/>
  <dc:language>en-US</dc:language>
  <cp:lastModifiedBy>jklear</cp:lastModifiedBy>
  <dcterms:modified xsi:type="dcterms:W3CDTF">2011-10-27T17:26:39Z</dcterms:modified>
  <cp:revision>38</cp:revision>
  <dc:subject/>
  <dc:title>Proposed Sampling Plan for ORSANCO PCS Supplemental Funds Evaluation of Flue Gas Desulfurization and Fly Ash Pond Mercury Discharges</dc:title>
</cp:coreProperties>
</file>