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ECF-C651-45E3-9A71-4B2ED7D2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7A4-0B66-4B8D-A1EB-D78B3D67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29A-4470-49ED-A0C4-B75BB6AE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E46-7FD4-4B0B-8132-DAC820CA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4474-8095-46CF-8D3B-D041994D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B72A-2C4D-41C1-AFA1-F6AF4ADD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B000-ABB7-42EB-8DC7-77891810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E284-2F18-4007-9709-64C1E1E2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B94D-9AC8-4264-BEFF-3FC1ECCF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6C3-B8AE-4F3B-B258-57E365F3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CC90-EEF3-4A50-B95E-418D7F1C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CA8-2547-4A54-B813-2E05DAE0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887F-687B-440C-ACA1-1001356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21C1-17C3-4DFC-84B6-E1D3CE4E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A287-0BC7-4685-B568-A1A658C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5443-6DF2-492F-8D60-2BFC8113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6C7D-1059-4A93-AF1F-63E486B2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0AEC-94AD-420B-9895-0C3CD682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57867-2E29-499A-8E91-D47E6E9A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9B5CA-E15C-410F-8FCB-AA662574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C60D-6F72-415D-BD67-E8ADFAA6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7605-2B14-4F60-B680-9434274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81E-AE6B-4E50-B525-A96E6BAC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07FF-1BD6-497B-9345-612F31D7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83AA-9E4A-4496-B82B-9AD3F9F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7D016-A6DB-408D-AFE2-F136415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257C-6A83-461A-BEBD-05848F5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5EEA-D999-45FA-BBD7-FF85033B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5DA5-4612-4B2D-8756-CBC47F1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295B-A274-4E28-A990-F74A023A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D634-B464-4D00-85AD-5015365F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0DA07-C4CB-490B-94CF-6AF342F8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43B5-1873-41E8-9BD0-77DCAA71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AE1-4CAE-4EF2-8C6E-BD6CA3B8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5890-279D-4DDE-AE0A-9DF9552D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1A8E-687D-41D3-B827-6355DBD9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1B05C-7EEC-44F2-A8D5-6BC86632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3F39-0768-462C-9F28-02D2A236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781D-C4B1-4465-B017-3FF7FA7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5C325-7E1E-40BB-9FA5-C03EBAFE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3C92-E27F-4421-B354-35443163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0263-F66B-4EF1-A47E-CA999DEB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8FE85-72E0-4D5B-8BEC-3C5DCB96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1B70-6981-4828-8DED-C1C3C6D7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316-1D48-4012-B7F5-3511DFCB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02A9A-A052-41EC-BD9D-782ECB8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F5195-F936-46F1-AE5F-D53ED47F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76E2B-DE74-418A-84E3-A42EC948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37C0-08C6-406F-929A-610F45D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0F2F-876B-4333-A502-B30C46B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85F8-0E88-4C49-9431-FD15E28A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42983-6089-4776-B559-2E68ACBF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7E007-559C-438A-8324-3774D52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01BD-F45A-4D39-A34D-77358E3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1E02-EF3A-47E9-A8D7-19F11EFE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EBC-4CF7-4A4A-A2B3-CC3A471A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99EF0-4376-48EE-8DAB-6B5F6663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D2C9E-026E-404B-851D-DEC1F8F1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05367-11DD-4A06-917A-2200A0B9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01972-E385-425D-A7AA-83729B8A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0065E-9FD1-4226-A612-DDF47519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A4EE1-0DAB-433B-A65E-6891FB5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68B0C-E381-45B1-9A78-2D1D3520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98A4-656D-4738-B3D1-ABEF6F5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C5009-F398-41DB-AF92-355C458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F6F9-51B2-4F7C-B068-DFFE4337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08C-993D-45F6-8BF6-C2F1E13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72B57-E008-4472-80DB-2201A264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E95E-0422-4D6A-A2EF-1040386C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E2B36-CA54-4622-848C-FD3DE051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1E41-B59B-4DD5-8127-76504BF8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7A76-DAAF-407E-A9F9-ADF33C6F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5B66F-2EA0-4F36-BF61-1C5F47F7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AE8C1-9E81-43B5-8611-42A7FF19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EAD05-A9D6-44E5-917B-5C779E92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7A28-D210-4F35-91BF-8FC6896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8DF1C-D70F-4121-8DE3-DA71978A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760-9148-46A2-8153-F691DEE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01DB4-AE00-49A7-A07A-AC83A22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FD921-4DAE-4FFF-8F66-B97B5D6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84CB7-DE7A-4597-87F5-AEA71C58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A7350-0C2C-4528-B193-534F2FAF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893D-40AA-4D4A-ADC8-248B4D16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0F6-D9AA-486C-927D-26200ED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40FF-F5B3-4F24-AED9-01317C243B1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75B-60A2-4ADD-BE4F-AC6A083869B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829C-391B-41AC-9C48-93F3EC9D0B6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FA07-0979-4425-9FCA-36F1B8891D0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9B7D-DAE3-4351-AC01-CA206109B9D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6EB8-5404-470E-A6F7-F72FADB6835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111B-BC36-4293-AC92-1D2BAA136F1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1eeff"/>
                </a:solidFill>
                <a:latin typeface="Consolas"/>
              </a:rPr>
              <a:t>Nutrient Reduction Strategies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Needs for </a:t>
            </a:r>
            <a:br>
              <a:rPr sz="3600"/>
            </a:b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Nutrient Reduction Strategi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lf Hypoxia Action Plan: Action 1 – States with significant contributions of nitrogen and phosphorus to complete nutrient reduction strategies by 2013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rch 16, 2011 EPA memo: Working in Partnership with States to Address Phosphorus and Nitrogen Pollution through Use of a Framework for State Nutrient Reduction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June 10, 2011 letters to states offers assistance of federal agencies on the Task For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Recommended Elements of a Nutrient Reduction Strateg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oritize watersheds for N and P load redu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t watershed load reduction go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sure effectiveness of npdes permits in priority watershe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gricultural are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Recommended Elements of a Nutrient Reduction Strateg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orm Water and Septic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countability and verification meas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nual reporting of implementation activities and biannual reporting of load redu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ork plan and schedule for numeric criteria develop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Gulf of Mexico Program Office Grant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FP issued August 16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$3,000,00 in grants avail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pport of projects in six Priority Issue Are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ority Issue Area 5 – Nutrient Reduction – includes support of development and implementation of state nutrient reduction strateg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posals due September 3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RSANCO Propos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FP discussed by Ohio River Sub Basin Steering Committe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tes decided not to submit individual proposals; ORSANCO was asked to submit a proposal on behalf of the sta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tes were asked to provide ideas for a project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RSANCO Proposal Cont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oritization of watershe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utrient load assess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el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nitor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utrea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por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tractor assistance to st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RSANCO Propos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nding Requested - $250,00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etter of Support from Kentucky, Ohi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tra Effort by Greg Youngstrom and Dave Bailey to submit our propos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9:27:52Z</dcterms:created>
  <dc:creator>peter</dc:creator>
  <dc:description/>
  <dc:language>en-US</dc:language>
  <cp:lastModifiedBy>jklear</cp:lastModifiedBy>
  <dcterms:modified xsi:type="dcterms:W3CDTF">2011-10-27T17:27:14Z</dcterms:modified>
  <cp:revision>13</cp:revision>
  <dc:subject/>
  <dc:title>Nutrient Reduction Strategies</dc:title>
</cp:coreProperties>
</file>