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3D12-EAAE-4106-A2CA-68434F53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5C1-61A1-4F4C-B8AB-E6B59F7A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4E6-092C-4A45-B02B-3E5AF6D4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6545-4ED8-40A8-B4AA-F19023AF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A4A9-B1D9-489D-B196-043EA55F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3C97-6531-4CA7-BBE6-7F746EA9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39D9-C0EE-49B6-99E6-B1FC66CF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626F-84C1-42D3-A6AB-9B8793A9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30A5-38B7-42B8-A219-9652D17D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134B-E663-4D6B-AF00-0A21E525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9C9F-0C9E-40B3-AC24-7C1589FD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75D-8919-4C7C-B23F-2A1223E6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B918-5216-4FD8-A095-55AEBD4D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1E4C-B6B0-4078-B7FE-0C548F2A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18E5-53BB-45F4-A687-E111FB8D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0D67-DF9B-4EDA-B6F1-F6182808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AA58-41CE-4CF4-95CA-21D49081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BA65F-9837-4F95-82EF-C217335C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2481B-A3B3-4B34-875B-822A1397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AE46E-FD14-435F-8495-450A0CBF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E36DF-B5E4-44CC-A529-010EEC81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F5A35-2EFB-40EB-9CDC-EF357F23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0D5-2B32-4F77-B8D1-E6572332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1B4C1-1B41-4E89-A84B-EB2797BB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12D40-CDE4-4FF6-B05E-BDF21308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34B8D-7CF1-4E09-8CBE-AF7FE40F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AA710-B9BD-4222-B9C7-35CE1CCB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874E4-241D-4775-8C89-3ECE64EF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3C402-2E79-44D1-AAC0-14EEBF7E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23656-74C4-4508-9BDF-9A79EF9D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E785B-E45D-4D6C-A93B-C9EC21C4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E96DD-9262-48C0-ACCA-22A62BB5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2BA4B-F666-44B5-9D5B-B2D63DB9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4AE2-2658-46CF-B534-28C15336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1D2C9-9704-4220-9780-2077B70B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65D93-F1DA-4924-8EFC-0942E592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51AF5-DB1F-41C0-8C65-4C91CCCC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48EAE-10F2-4DD9-AAA9-C1857395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CF2D6-97D0-4E88-B244-FEE44DE1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CBCFF-F250-4DA7-B9FA-350BA01D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3AE7B-01B9-4FC0-B767-7A3D68C0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93A9F-43F4-4AFF-AC0B-340E6B6C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1762B-31CF-40F3-A9D6-E6F1C5D3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120CD-7B70-4D4B-94EB-98242B2E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5B16-F8BB-4505-9050-B50134C7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1FC01-687D-4E9B-8BE8-BB0A6EAE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AA2C2-416C-4342-92A6-C928D078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BE0CA-62CC-407F-B53D-F07012EB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A8DF3-2D79-4077-B1B4-274DF831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ABDA5-4420-40D7-A56A-13A3D116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C67A7-27A5-4BFB-B500-B9C92E3B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EC4A4-43EA-4C50-841F-3DA42403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8DA8E-094C-4E8B-8F87-4F65BD5D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98077-7172-479E-AF17-7405EDFC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D80DF-5F4B-45B5-BB59-8B9E8E00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CAB-5F9E-4ACB-BFF2-719883D8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8A5F7-7705-45C3-B93A-1F0C08C7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CEF54-DD85-446E-9E28-1A183B37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D386A-2457-41D6-9812-86394D7A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66F44-E2D0-4C03-8EC6-F4353C7B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0135B-B6DA-433E-8FDA-02351380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08B83-DA07-468A-982C-67550200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601F2-FC1B-43BC-9996-A500B133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48FD7-FF6A-4870-81BC-AAD13DC6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92278-BA57-4508-ACA8-90581C21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805D7-0025-489F-B1A0-7A898599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E00-B466-41C5-B4DC-22A9BF2D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1BED7-50F4-48DC-924A-3444176F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E38DD-AF06-42BC-89EF-E3414841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6F42F-1B7B-4228-8E6C-489721D9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37A-5550-47C3-BD6C-CC4B7FED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DBA-E682-44FB-BF5B-6327E74B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8983-2BC2-4C21-A5FF-A7173A3267B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EC30-75FA-4E70-A1BB-DADE8FB17BC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EEDB-74C3-4B0F-9CE6-6ED31D20D3F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F4D0-A3FA-4ACF-B58C-31E2CC83FC5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91E5-E416-4796-A94F-973B0BB25BF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E1E0-01A1-4CE4-ACFC-033E1BE1613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096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tober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gliese Training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stern Gateway Community Colle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ubenville, Oh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PA to S.jpg"/>
          <p:cNvPicPr/>
          <p:nvPr/>
        </p:nvPicPr>
        <p:blipFill>
          <a:blip r:embed="rId1"/>
          <a:stretch/>
        </p:blipFill>
        <p:spPr>
          <a:xfrm>
            <a:off x="685800" y="0"/>
            <a:ext cx="7812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"/>
          <p:cNvSpPr/>
          <p:nvPr/>
        </p:nvSpPr>
        <p:spPr>
          <a:xfrm>
            <a:off x="1143000" y="22860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 to Sistersvi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M 40 – 13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5-Point Star 3"/>
          <p:cNvSpPr/>
          <p:nvPr/>
        </p:nvSpPr>
        <p:spPr>
          <a:xfrm>
            <a:off x="4419720" y="533520"/>
            <a:ext cx="304560" cy="30456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4f74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5-Point Star 4"/>
          <p:cNvSpPr/>
          <p:nvPr/>
        </p:nvSpPr>
        <p:spPr>
          <a:xfrm>
            <a:off x="2743200" y="5486400"/>
            <a:ext cx="304920" cy="3049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4f74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5"/>
          <p:cNvSpPr/>
          <p:nvPr/>
        </p:nvSpPr>
        <p:spPr>
          <a:xfrm>
            <a:off x="3886200" y="3274920"/>
            <a:ext cx="76320" cy="763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3962520" y="319896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heeling, WV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4191120" y="1295280"/>
            <a:ext cx="228600" cy="7632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8"/>
          <p:cNvSpPr/>
          <p:nvPr/>
        </p:nvSpPr>
        <p:spPr>
          <a:xfrm>
            <a:off x="4495680" y="11430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ew Cumberl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3886200" y="2971800"/>
            <a:ext cx="228600" cy="7632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10"/>
          <p:cNvSpPr/>
          <p:nvPr/>
        </p:nvSpPr>
        <p:spPr>
          <a:xfrm>
            <a:off x="4191120" y="286236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ike Isl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3276720" y="5181480"/>
            <a:ext cx="228600" cy="7632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12"/>
          <p:cNvSpPr/>
          <p:nvPr/>
        </p:nvSpPr>
        <p:spPr>
          <a:xfrm>
            <a:off x="3657600" y="5029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annib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Isosceles Triangle 17"/>
          <p:cNvSpPr/>
          <p:nvPr/>
        </p:nvSpPr>
        <p:spPr>
          <a:xfrm>
            <a:off x="4343400" y="16765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Isosceles Triangle 18"/>
          <p:cNvSpPr/>
          <p:nvPr/>
        </p:nvSpPr>
        <p:spPr>
          <a:xfrm>
            <a:off x="3962520" y="16765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Isosceles Triangle 19"/>
          <p:cNvSpPr/>
          <p:nvPr/>
        </p:nvSpPr>
        <p:spPr>
          <a:xfrm>
            <a:off x="4267080" y="22860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Isosceles Triangle 20"/>
          <p:cNvSpPr/>
          <p:nvPr/>
        </p:nvSpPr>
        <p:spPr>
          <a:xfrm>
            <a:off x="3962520" y="29718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Isosceles Triangle 21"/>
          <p:cNvSpPr/>
          <p:nvPr/>
        </p:nvSpPr>
        <p:spPr>
          <a:xfrm>
            <a:off x="2895480" y="54864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Isosceles Triangle 22"/>
          <p:cNvSpPr/>
          <p:nvPr/>
        </p:nvSpPr>
        <p:spPr>
          <a:xfrm>
            <a:off x="3505320" y="48006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Flowchart: Decision 24"/>
          <p:cNvSpPr/>
          <p:nvPr/>
        </p:nvSpPr>
        <p:spPr>
          <a:xfrm>
            <a:off x="4419720" y="762120"/>
            <a:ext cx="15228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Flowchart: Decision 25"/>
          <p:cNvSpPr/>
          <p:nvPr/>
        </p:nvSpPr>
        <p:spPr>
          <a:xfrm>
            <a:off x="4309920" y="685800"/>
            <a:ext cx="15264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lowchart: Decision 26"/>
          <p:cNvSpPr/>
          <p:nvPr/>
        </p:nvSpPr>
        <p:spPr>
          <a:xfrm>
            <a:off x="4191120" y="685800"/>
            <a:ext cx="15228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lowchart: Decision 27"/>
          <p:cNvSpPr/>
          <p:nvPr/>
        </p:nvSpPr>
        <p:spPr>
          <a:xfrm>
            <a:off x="4086360" y="719280"/>
            <a:ext cx="15228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lowchart: Decision 28"/>
          <p:cNvSpPr/>
          <p:nvPr/>
        </p:nvSpPr>
        <p:spPr>
          <a:xfrm>
            <a:off x="4038480" y="838080"/>
            <a:ext cx="152640" cy="15264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Flowchart: Decision 29"/>
          <p:cNvSpPr/>
          <p:nvPr/>
        </p:nvSpPr>
        <p:spPr>
          <a:xfrm>
            <a:off x="4005360" y="933480"/>
            <a:ext cx="15228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lowchart: Decision 30"/>
          <p:cNvSpPr/>
          <p:nvPr/>
        </p:nvSpPr>
        <p:spPr>
          <a:xfrm>
            <a:off x="4091040" y="1033560"/>
            <a:ext cx="15228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Flowchart: Decision 31"/>
          <p:cNvSpPr/>
          <p:nvPr/>
        </p:nvSpPr>
        <p:spPr>
          <a:xfrm>
            <a:off x="4267080" y="1523880"/>
            <a:ext cx="152640" cy="15264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Flowchart: Decision 32"/>
          <p:cNvSpPr/>
          <p:nvPr/>
        </p:nvSpPr>
        <p:spPr>
          <a:xfrm>
            <a:off x="4191120" y="1752480"/>
            <a:ext cx="152280" cy="15264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Flowchart: Decision 33"/>
          <p:cNvSpPr/>
          <p:nvPr/>
        </p:nvSpPr>
        <p:spPr>
          <a:xfrm>
            <a:off x="4191120" y="2133720"/>
            <a:ext cx="15228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Flowchart: Decision 34"/>
          <p:cNvSpPr/>
          <p:nvPr/>
        </p:nvSpPr>
        <p:spPr>
          <a:xfrm>
            <a:off x="4191120" y="2286000"/>
            <a:ext cx="15228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Flowchart: Decision 35"/>
          <p:cNvSpPr/>
          <p:nvPr/>
        </p:nvSpPr>
        <p:spPr>
          <a:xfrm>
            <a:off x="4038480" y="2590920"/>
            <a:ext cx="15264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Flowchart: Decision 36"/>
          <p:cNvSpPr/>
          <p:nvPr/>
        </p:nvSpPr>
        <p:spPr>
          <a:xfrm>
            <a:off x="3962520" y="2819520"/>
            <a:ext cx="15228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lowchart: Decision 37"/>
          <p:cNvSpPr/>
          <p:nvPr/>
        </p:nvSpPr>
        <p:spPr>
          <a:xfrm>
            <a:off x="3733920" y="3733920"/>
            <a:ext cx="15228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Flowchart: Decision 39"/>
          <p:cNvSpPr/>
          <p:nvPr/>
        </p:nvSpPr>
        <p:spPr>
          <a:xfrm>
            <a:off x="3505320" y="4343400"/>
            <a:ext cx="15228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Flowchart: Decision 40"/>
          <p:cNvSpPr/>
          <p:nvPr/>
        </p:nvSpPr>
        <p:spPr>
          <a:xfrm>
            <a:off x="3457440" y="4452840"/>
            <a:ext cx="152640" cy="15264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Flowchart: Decision 41"/>
          <p:cNvSpPr/>
          <p:nvPr/>
        </p:nvSpPr>
        <p:spPr>
          <a:xfrm>
            <a:off x="3376440" y="4753080"/>
            <a:ext cx="15264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Flowchart: Decision 42"/>
          <p:cNvSpPr/>
          <p:nvPr/>
        </p:nvSpPr>
        <p:spPr>
          <a:xfrm>
            <a:off x="3438360" y="4827600"/>
            <a:ext cx="15264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ghtning Bolt 43"/>
          <p:cNvSpPr/>
          <p:nvPr/>
        </p:nvSpPr>
        <p:spPr>
          <a:xfrm rot="19683000">
            <a:off x="3733920" y="1066320"/>
            <a:ext cx="533160" cy="38124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ghtning Bolt 44"/>
          <p:cNvSpPr/>
          <p:nvPr/>
        </p:nvSpPr>
        <p:spPr>
          <a:xfrm rot="19683000">
            <a:off x="3641400" y="2322000"/>
            <a:ext cx="533520" cy="38124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ghtning Bolt 45"/>
          <p:cNvSpPr/>
          <p:nvPr/>
        </p:nvSpPr>
        <p:spPr>
          <a:xfrm rot="19683000">
            <a:off x="3630240" y="1258560"/>
            <a:ext cx="533520" cy="38088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ghtning Bolt 46"/>
          <p:cNvSpPr/>
          <p:nvPr/>
        </p:nvSpPr>
        <p:spPr>
          <a:xfrm rot="19683000">
            <a:off x="3489120" y="2475000"/>
            <a:ext cx="533160" cy="38088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ghtning Bolt 47"/>
          <p:cNvSpPr/>
          <p:nvPr/>
        </p:nvSpPr>
        <p:spPr>
          <a:xfrm rot="19683000">
            <a:off x="3412800" y="2626920"/>
            <a:ext cx="533520" cy="38088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ghtning Bolt 48"/>
          <p:cNvSpPr/>
          <p:nvPr/>
        </p:nvSpPr>
        <p:spPr>
          <a:xfrm rot="19683000">
            <a:off x="3184200" y="3769920"/>
            <a:ext cx="533520" cy="38088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ghtning Bolt 49"/>
          <p:cNvSpPr/>
          <p:nvPr/>
        </p:nvSpPr>
        <p:spPr>
          <a:xfrm rot="19683000">
            <a:off x="2879280" y="4379400"/>
            <a:ext cx="533520" cy="38124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ghtning Bolt 50"/>
          <p:cNvSpPr/>
          <p:nvPr/>
        </p:nvSpPr>
        <p:spPr>
          <a:xfrm rot="19683000">
            <a:off x="2955600" y="4227120"/>
            <a:ext cx="533520" cy="38088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ghtning Bolt 51"/>
          <p:cNvSpPr/>
          <p:nvPr/>
        </p:nvSpPr>
        <p:spPr>
          <a:xfrm rot="19683000">
            <a:off x="2879280" y="4684320"/>
            <a:ext cx="533520" cy="38088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ghtning Bolt 52"/>
          <p:cNvSpPr/>
          <p:nvPr/>
        </p:nvSpPr>
        <p:spPr>
          <a:xfrm rot="19683000">
            <a:off x="2727000" y="4989240"/>
            <a:ext cx="533520" cy="38088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53"/>
          <p:cNvSpPr/>
          <p:nvPr/>
        </p:nvSpPr>
        <p:spPr>
          <a:xfrm>
            <a:off x="4572000" y="3657600"/>
            <a:ext cx="3886200" cy="293652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8 Miles of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Locks and D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 Transfer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Power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9 NPDES Dis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Pipeline/Submarine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Drinking Water Int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Isosceles Triangle 13"/>
          <p:cNvSpPr/>
          <p:nvPr/>
        </p:nvSpPr>
        <p:spPr>
          <a:xfrm>
            <a:off x="4267080" y="5335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Isosceles Triangle 14"/>
          <p:cNvSpPr/>
          <p:nvPr/>
        </p:nvSpPr>
        <p:spPr>
          <a:xfrm>
            <a:off x="4003560" y="69696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Isosceles Triangle 16"/>
          <p:cNvSpPr/>
          <p:nvPr/>
        </p:nvSpPr>
        <p:spPr>
          <a:xfrm>
            <a:off x="4343400" y="14479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Isosceles Triangle 15"/>
          <p:cNvSpPr/>
          <p:nvPr/>
        </p:nvSpPr>
        <p:spPr>
          <a:xfrm>
            <a:off x="4038480" y="12952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" descr="PA to S.jpg"/>
          <p:cNvPicPr/>
          <p:nvPr/>
        </p:nvPicPr>
        <p:blipFill>
          <a:blip r:embed="rId1"/>
          <a:stretch/>
        </p:blipFill>
        <p:spPr>
          <a:xfrm>
            <a:off x="685800" y="0"/>
            <a:ext cx="7812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TextBox 2"/>
          <p:cNvSpPr/>
          <p:nvPr/>
        </p:nvSpPr>
        <p:spPr>
          <a:xfrm>
            <a:off x="1143000" y="2286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 to Sistersvi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M 40 – 13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5-Point Star 3"/>
          <p:cNvSpPr/>
          <p:nvPr/>
        </p:nvSpPr>
        <p:spPr>
          <a:xfrm>
            <a:off x="4419720" y="533520"/>
            <a:ext cx="304560" cy="30456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4f74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5-Point Star 4"/>
          <p:cNvSpPr/>
          <p:nvPr/>
        </p:nvSpPr>
        <p:spPr>
          <a:xfrm>
            <a:off x="2743200" y="5486400"/>
            <a:ext cx="304920" cy="3049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4f74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5"/>
          <p:cNvSpPr/>
          <p:nvPr/>
        </p:nvSpPr>
        <p:spPr>
          <a:xfrm>
            <a:off x="3886200" y="3274920"/>
            <a:ext cx="76320" cy="763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6"/>
          <p:cNvSpPr/>
          <p:nvPr/>
        </p:nvSpPr>
        <p:spPr>
          <a:xfrm>
            <a:off x="3962520" y="319896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heeling, WV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4191120" y="1295280"/>
            <a:ext cx="228600" cy="7632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8"/>
          <p:cNvSpPr/>
          <p:nvPr/>
        </p:nvSpPr>
        <p:spPr>
          <a:xfrm>
            <a:off x="4495680" y="11430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ew Cumberl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3886200" y="2971800"/>
            <a:ext cx="228600" cy="7632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Box 10"/>
          <p:cNvSpPr/>
          <p:nvPr/>
        </p:nvSpPr>
        <p:spPr>
          <a:xfrm>
            <a:off x="4191120" y="286236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ike Isl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3276720" y="5181480"/>
            <a:ext cx="228600" cy="7632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12"/>
          <p:cNvSpPr/>
          <p:nvPr/>
        </p:nvSpPr>
        <p:spPr>
          <a:xfrm>
            <a:off x="3657600" y="5029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annib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Isosceles Triangle 17"/>
          <p:cNvSpPr/>
          <p:nvPr/>
        </p:nvSpPr>
        <p:spPr>
          <a:xfrm>
            <a:off x="4343400" y="16765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Isosceles Triangle 18"/>
          <p:cNvSpPr/>
          <p:nvPr/>
        </p:nvSpPr>
        <p:spPr>
          <a:xfrm>
            <a:off x="3962520" y="16765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Isosceles Triangle 19"/>
          <p:cNvSpPr/>
          <p:nvPr/>
        </p:nvSpPr>
        <p:spPr>
          <a:xfrm>
            <a:off x="4267080" y="22860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Isosceles Triangle 20"/>
          <p:cNvSpPr/>
          <p:nvPr/>
        </p:nvSpPr>
        <p:spPr>
          <a:xfrm>
            <a:off x="3962520" y="29718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Isosceles Triangle 21"/>
          <p:cNvSpPr/>
          <p:nvPr/>
        </p:nvSpPr>
        <p:spPr>
          <a:xfrm>
            <a:off x="2895480" y="54864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Isosceles Triangle 22"/>
          <p:cNvSpPr/>
          <p:nvPr/>
        </p:nvSpPr>
        <p:spPr>
          <a:xfrm>
            <a:off x="3505320" y="48006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Flowchart: Decision 24"/>
          <p:cNvSpPr/>
          <p:nvPr/>
        </p:nvSpPr>
        <p:spPr>
          <a:xfrm>
            <a:off x="4419720" y="762120"/>
            <a:ext cx="15228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Flowchart: Decision 25"/>
          <p:cNvSpPr/>
          <p:nvPr/>
        </p:nvSpPr>
        <p:spPr>
          <a:xfrm>
            <a:off x="4309920" y="685800"/>
            <a:ext cx="15264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Flowchart: Decision 26"/>
          <p:cNvSpPr/>
          <p:nvPr/>
        </p:nvSpPr>
        <p:spPr>
          <a:xfrm>
            <a:off x="4191120" y="685800"/>
            <a:ext cx="15228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Flowchart: Decision 27"/>
          <p:cNvSpPr/>
          <p:nvPr/>
        </p:nvSpPr>
        <p:spPr>
          <a:xfrm>
            <a:off x="4086360" y="719280"/>
            <a:ext cx="15228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Flowchart: Decision 28"/>
          <p:cNvSpPr/>
          <p:nvPr/>
        </p:nvSpPr>
        <p:spPr>
          <a:xfrm>
            <a:off x="4038480" y="838080"/>
            <a:ext cx="152640" cy="15264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Flowchart: Decision 29"/>
          <p:cNvSpPr/>
          <p:nvPr/>
        </p:nvSpPr>
        <p:spPr>
          <a:xfrm>
            <a:off x="4005360" y="933480"/>
            <a:ext cx="15228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Flowchart: Decision 30"/>
          <p:cNvSpPr/>
          <p:nvPr/>
        </p:nvSpPr>
        <p:spPr>
          <a:xfrm>
            <a:off x="4091040" y="1033560"/>
            <a:ext cx="15228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Flowchart: Decision 31"/>
          <p:cNvSpPr/>
          <p:nvPr/>
        </p:nvSpPr>
        <p:spPr>
          <a:xfrm>
            <a:off x="4267080" y="1523880"/>
            <a:ext cx="152640" cy="15264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Flowchart: Decision 32"/>
          <p:cNvSpPr/>
          <p:nvPr/>
        </p:nvSpPr>
        <p:spPr>
          <a:xfrm>
            <a:off x="4191120" y="1752480"/>
            <a:ext cx="152280" cy="15264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Flowchart: Decision 33"/>
          <p:cNvSpPr/>
          <p:nvPr/>
        </p:nvSpPr>
        <p:spPr>
          <a:xfrm>
            <a:off x="4191120" y="2133720"/>
            <a:ext cx="15228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Flowchart: Decision 34"/>
          <p:cNvSpPr/>
          <p:nvPr/>
        </p:nvSpPr>
        <p:spPr>
          <a:xfrm>
            <a:off x="4191120" y="2286000"/>
            <a:ext cx="15228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Flowchart: Decision 35"/>
          <p:cNvSpPr/>
          <p:nvPr/>
        </p:nvSpPr>
        <p:spPr>
          <a:xfrm>
            <a:off x="4038480" y="2590920"/>
            <a:ext cx="15264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Flowchart: Decision 36"/>
          <p:cNvSpPr/>
          <p:nvPr/>
        </p:nvSpPr>
        <p:spPr>
          <a:xfrm>
            <a:off x="3962520" y="2819520"/>
            <a:ext cx="15228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Flowchart: Decision 37"/>
          <p:cNvSpPr/>
          <p:nvPr/>
        </p:nvSpPr>
        <p:spPr>
          <a:xfrm>
            <a:off x="3733920" y="3733920"/>
            <a:ext cx="15228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Flowchart: Decision 39"/>
          <p:cNvSpPr/>
          <p:nvPr/>
        </p:nvSpPr>
        <p:spPr>
          <a:xfrm>
            <a:off x="3505320" y="4343400"/>
            <a:ext cx="15228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Flowchart: Decision 40"/>
          <p:cNvSpPr/>
          <p:nvPr/>
        </p:nvSpPr>
        <p:spPr>
          <a:xfrm>
            <a:off x="3457440" y="4452840"/>
            <a:ext cx="152640" cy="15264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Flowchart: Decision 41"/>
          <p:cNvSpPr/>
          <p:nvPr/>
        </p:nvSpPr>
        <p:spPr>
          <a:xfrm>
            <a:off x="3376440" y="4753080"/>
            <a:ext cx="15264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Flowchart: Decision 42"/>
          <p:cNvSpPr/>
          <p:nvPr/>
        </p:nvSpPr>
        <p:spPr>
          <a:xfrm>
            <a:off x="3438360" y="4827600"/>
            <a:ext cx="15264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ghtning Bolt 43"/>
          <p:cNvSpPr/>
          <p:nvPr/>
        </p:nvSpPr>
        <p:spPr>
          <a:xfrm rot="19683000">
            <a:off x="3733920" y="1066320"/>
            <a:ext cx="533160" cy="38124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ghtning Bolt 44"/>
          <p:cNvSpPr/>
          <p:nvPr/>
        </p:nvSpPr>
        <p:spPr>
          <a:xfrm rot="19683000">
            <a:off x="3641400" y="2322000"/>
            <a:ext cx="533520" cy="38124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ghtning Bolt 45"/>
          <p:cNvSpPr/>
          <p:nvPr/>
        </p:nvSpPr>
        <p:spPr>
          <a:xfrm rot="19683000">
            <a:off x="3630240" y="1258560"/>
            <a:ext cx="533520" cy="38088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ghtning Bolt 46"/>
          <p:cNvSpPr/>
          <p:nvPr/>
        </p:nvSpPr>
        <p:spPr>
          <a:xfrm rot="19683000">
            <a:off x="3489120" y="2475000"/>
            <a:ext cx="533160" cy="38088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ghtning Bolt 47"/>
          <p:cNvSpPr/>
          <p:nvPr/>
        </p:nvSpPr>
        <p:spPr>
          <a:xfrm rot="19683000">
            <a:off x="3412800" y="2626920"/>
            <a:ext cx="533520" cy="38088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ghtning Bolt 48"/>
          <p:cNvSpPr/>
          <p:nvPr/>
        </p:nvSpPr>
        <p:spPr>
          <a:xfrm rot="19683000">
            <a:off x="3184200" y="3769920"/>
            <a:ext cx="533520" cy="38088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ghtning Bolt 49"/>
          <p:cNvSpPr/>
          <p:nvPr/>
        </p:nvSpPr>
        <p:spPr>
          <a:xfrm rot="19683000">
            <a:off x="2879280" y="4379400"/>
            <a:ext cx="533520" cy="38124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ghtning Bolt 50"/>
          <p:cNvSpPr/>
          <p:nvPr/>
        </p:nvSpPr>
        <p:spPr>
          <a:xfrm rot="19683000">
            <a:off x="2955600" y="4227120"/>
            <a:ext cx="533520" cy="38088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ghtning Bolt 51"/>
          <p:cNvSpPr/>
          <p:nvPr/>
        </p:nvSpPr>
        <p:spPr>
          <a:xfrm rot="19683000">
            <a:off x="2879280" y="4684320"/>
            <a:ext cx="533520" cy="38088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ghtning Bolt 52"/>
          <p:cNvSpPr/>
          <p:nvPr/>
        </p:nvSpPr>
        <p:spPr>
          <a:xfrm rot="19683000">
            <a:off x="2727000" y="4989240"/>
            <a:ext cx="533520" cy="38088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Box 53"/>
          <p:cNvSpPr/>
          <p:nvPr/>
        </p:nvSpPr>
        <p:spPr>
          <a:xfrm>
            <a:off x="4572000" y="3657600"/>
            <a:ext cx="3886200" cy="293652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8 Miles of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Locks and D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 Transfer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Power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9 NPDES Dis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Pipeline/Submarine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Drinking Water Int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Isosceles Triangle 13"/>
          <p:cNvSpPr/>
          <p:nvPr/>
        </p:nvSpPr>
        <p:spPr>
          <a:xfrm>
            <a:off x="4267080" y="5335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Isosceles Triangle 14"/>
          <p:cNvSpPr/>
          <p:nvPr/>
        </p:nvSpPr>
        <p:spPr>
          <a:xfrm>
            <a:off x="4003560" y="69696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Isosceles Triangle 16"/>
          <p:cNvSpPr/>
          <p:nvPr/>
        </p:nvSpPr>
        <p:spPr>
          <a:xfrm>
            <a:off x="4343400" y="14479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Isosceles Triangle 15"/>
          <p:cNvSpPr/>
          <p:nvPr/>
        </p:nvSpPr>
        <p:spPr>
          <a:xfrm>
            <a:off x="4038480" y="12952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Box 54"/>
          <p:cNvSpPr/>
          <p:nvPr/>
        </p:nvSpPr>
        <p:spPr>
          <a:xfrm>
            <a:off x="838080" y="2209680"/>
            <a:ext cx="3276720" cy="33858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0 Combined Sewer Overfl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k Fa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ge Fleeting A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l Lines (both sid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w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crossings, rail and au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" descr="PA to S.jpg"/>
          <p:cNvPicPr/>
          <p:nvPr/>
        </p:nvPicPr>
        <p:blipFill>
          <a:blip r:embed="rId1"/>
          <a:stretch/>
        </p:blipFill>
        <p:spPr>
          <a:xfrm>
            <a:off x="685800" y="0"/>
            <a:ext cx="7812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TextBox 2"/>
          <p:cNvSpPr/>
          <p:nvPr/>
        </p:nvSpPr>
        <p:spPr>
          <a:xfrm>
            <a:off x="1143000" y="2286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ke Island P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M 54 - 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5-Point Star 3"/>
          <p:cNvSpPr/>
          <p:nvPr/>
        </p:nvSpPr>
        <p:spPr>
          <a:xfrm>
            <a:off x="4419720" y="533520"/>
            <a:ext cx="304560" cy="304560"/>
          </a:xfrm>
          <a:custGeom>
            <a:avLst/>
            <a:gdLst>
              <a:gd name="textAreaLeft" fmla="*/ 93960 w 304560"/>
              <a:gd name="textAreaRight" fmla="*/ 210600 w 304560"/>
              <a:gd name="textAreaTop" fmla="*/ 116280 h 304560"/>
              <a:gd name="textAreaBottom" fmla="*/ 232920 h 30456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4f74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5-Point Star 4"/>
          <p:cNvSpPr/>
          <p:nvPr/>
        </p:nvSpPr>
        <p:spPr>
          <a:xfrm>
            <a:off x="2743200" y="5486400"/>
            <a:ext cx="304920" cy="304920"/>
          </a:xfrm>
          <a:custGeom>
            <a:avLst/>
            <a:gdLst>
              <a:gd name="textAreaLeft" fmla="*/ 94320 w 304920"/>
              <a:gd name="textAreaRight" fmla="*/ 210600 w 304920"/>
              <a:gd name="textAreaTop" fmla="*/ 116280 h 304920"/>
              <a:gd name="textAreaBottom" fmla="*/ 232920 h 304920"/>
            </a:gdLst>
            <a:ahLst/>
            <a:rect l="textAreaLeft" t="textAreaTop" r="textAreaRight" b="textAreaBottom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4f74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Oval 5"/>
          <p:cNvSpPr/>
          <p:nvPr/>
        </p:nvSpPr>
        <p:spPr>
          <a:xfrm>
            <a:off x="3886200" y="3274920"/>
            <a:ext cx="76320" cy="763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6"/>
          <p:cNvSpPr/>
          <p:nvPr/>
        </p:nvSpPr>
        <p:spPr>
          <a:xfrm>
            <a:off x="3962520" y="319896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heeling, WV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4191120" y="1295280"/>
            <a:ext cx="228600" cy="7632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8"/>
          <p:cNvSpPr/>
          <p:nvPr/>
        </p:nvSpPr>
        <p:spPr>
          <a:xfrm>
            <a:off x="4495680" y="11430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ew Cumberl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3886200" y="2971800"/>
            <a:ext cx="228600" cy="7632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10"/>
          <p:cNvSpPr/>
          <p:nvPr/>
        </p:nvSpPr>
        <p:spPr>
          <a:xfrm>
            <a:off x="4191120" y="286236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ike Isl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3276720" y="5181480"/>
            <a:ext cx="228600" cy="7632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12"/>
          <p:cNvSpPr/>
          <p:nvPr/>
        </p:nvSpPr>
        <p:spPr>
          <a:xfrm>
            <a:off x="3657600" y="5029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annib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Isosceles Triangle 17"/>
          <p:cNvSpPr/>
          <p:nvPr/>
        </p:nvSpPr>
        <p:spPr>
          <a:xfrm>
            <a:off x="4343400" y="16765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Isosceles Triangle 18"/>
          <p:cNvSpPr/>
          <p:nvPr/>
        </p:nvSpPr>
        <p:spPr>
          <a:xfrm>
            <a:off x="3962520" y="16765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Isosceles Triangle 19"/>
          <p:cNvSpPr/>
          <p:nvPr/>
        </p:nvSpPr>
        <p:spPr>
          <a:xfrm>
            <a:off x="4267080" y="22860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lowchart: Decision 31"/>
          <p:cNvSpPr/>
          <p:nvPr/>
        </p:nvSpPr>
        <p:spPr>
          <a:xfrm>
            <a:off x="4267080" y="1523880"/>
            <a:ext cx="152640" cy="15264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lowchart: Decision 32"/>
          <p:cNvSpPr/>
          <p:nvPr/>
        </p:nvSpPr>
        <p:spPr>
          <a:xfrm>
            <a:off x="4191120" y="1752480"/>
            <a:ext cx="152280" cy="15264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lowchart: Decision 33"/>
          <p:cNvSpPr/>
          <p:nvPr/>
        </p:nvSpPr>
        <p:spPr>
          <a:xfrm>
            <a:off x="4191120" y="2133720"/>
            <a:ext cx="15228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Flowchart: Decision 34"/>
          <p:cNvSpPr/>
          <p:nvPr/>
        </p:nvSpPr>
        <p:spPr>
          <a:xfrm>
            <a:off x="4191120" y="2286000"/>
            <a:ext cx="15228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Flowchart: Decision 35"/>
          <p:cNvSpPr/>
          <p:nvPr/>
        </p:nvSpPr>
        <p:spPr>
          <a:xfrm>
            <a:off x="4038480" y="2590920"/>
            <a:ext cx="15264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Flowchart: Decision 36"/>
          <p:cNvSpPr/>
          <p:nvPr/>
        </p:nvSpPr>
        <p:spPr>
          <a:xfrm>
            <a:off x="3962520" y="2819520"/>
            <a:ext cx="152280" cy="152280"/>
          </a:xfrm>
          <a:prstGeom prst="flowChartDecision">
            <a:avLst/>
          </a:prstGeom>
          <a:solidFill>
            <a:srgbClr val="ff66ff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ghtning Bolt 44"/>
          <p:cNvSpPr/>
          <p:nvPr/>
        </p:nvSpPr>
        <p:spPr>
          <a:xfrm rot="19683000">
            <a:off x="3641400" y="2322000"/>
            <a:ext cx="533520" cy="38124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ghtning Bolt 45"/>
          <p:cNvSpPr/>
          <p:nvPr/>
        </p:nvSpPr>
        <p:spPr>
          <a:xfrm rot="19683000">
            <a:off x="3630240" y="1258560"/>
            <a:ext cx="533520" cy="38088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ghtning Bolt 46"/>
          <p:cNvSpPr/>
          <p:nvPr/>
        </p:nvSpPr>
        <p:spPr>
          <a:xfrm rot="19683000">
            <a:off x="3489120" y="2475000"/>
            <a:ext cx="533160" cy="38088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ghtning Bolt 47"/>
          <p:cNvSpPr/>
          <p:nvPr/>
        </p:nvSpPr>
        <p:spPr>
          <a:xfrm rot="19683000">
            <a:off x="3412800" y="2626920"/>
            <a:ext cx="533520" cy="38088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53"/>
          <p:cNvSpPr/>
          <p:nvPr/>
        </p:nvSpPr>
        <p:spPr>
          <a:xfrm>
            <a:off x="4572000" y="3657600"/>
            <a:ext cx="3886200" cy="293652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Miles of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Locks and D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Transfer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Power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9 NPDES Dis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 Pipeline/Submarine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Drinking Water Int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Isosceles Triangle 16"/>
          <p:cNvSpPr/>
          <p:nvPr/>
        </p:nvSpPr>
        <p:spPr>
          <a:xfrm>
            <a:off x="4343400" y="14479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Isosceles Triangle 15"/>
          <p:cNvSpPr/>
          <p:nvPr/>
        </p:nvSpPr>
        <p:spPr>
          <a:xfrm>
            <a:off x="4038480" y="12952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nterstate Coordin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ulmination of efforts between OEPA,  Barb Leuberger, Source Water Protection Program Director, Scott Rhodeheaver, West Virginia Department of Health and Human Resources,  ORSANC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rinking water utilities from Ohio and West Virgi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EPA/ORSANCO/WVDHHR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59" name="Object 4"/>
          <p:cNvGraphicFramePr/>
          <p:nvPr/>
        </p:nvGraphicFramePr>
        <p:xfrm>
          <a:off x="457200" y="1222200"/>
          <a:ext cx="8229600" cy="6169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22200"/>
                    <a:ext cx="8229600" cy="616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ource Water Protection Pla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Content Placeholder 3" descr="Browns Island"/>
          <p:cNvPicPr/>
          <p:nvPr/>
        </p:nvPicPr>
        <p:blipFill>
          <a:blip r:embed="rId1"/>
          <a:stretch/>
        </p:blipFill>
        <p:spPr>
          <a:xfrm>
            <a:off x="1447920" y="1219320"/>
            <a:ext cx="6095880" cy="5333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63" name="Rectangle 3"/>
          <p:cNvSpPr/>
          <p:nvPr/>
        </p:nvSpPr>
        <p:spPr>
          <a:xfrm>
            <a:off x="1676520" y="486360"/>
            <a:ext cx="541008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ource Water Protection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or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Upper Ohio River Public Water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September 201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Buckeye Water Distri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City of Toron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City of Steubenvil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With assistance from the Ohio Environmental Protection Agenc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and the Ohio River Valley Water Sanitation Commis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uthoriti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urce Water Assessments mandated by USEP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ied ris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urce Water Assessment Plans responsibility of sta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velops risk management strateg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ource Water Protection Pla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 Summ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rpo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grou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tion of Local Source Water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oritization of Potential Contaminant 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rce Management Strateg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gency Pl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 Education and Outreach – signa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rce Water 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END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ground information on Upper Ohio River and the signatory public water syste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mbined Meet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oll-out meeting for SWPP – Ohi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ulti-state, multi-industry SWP meeting – ORSANC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SWP meeting in Upper Ohio Riv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articip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rinking water util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hio and West Virgi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dust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wing, Manufacturing, petroleum, leg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etings benefic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inue meeting 1x/y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ike Island Pool G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pported by drinking water util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ol to better manage resource and ris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orking with USEPA R-3, R-5 to imple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ve approval from R-3 to proceed with data format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iting on approval from R-5 for program development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00:53:39Z</dcterms:created>
  <dc:creator>Valued Acer Customer</dc:creator>
  <dc:description/>
  <dc:language>en-US</dc:language>
  <cp:lastModifiedBy>jklear</cp:lastModifiedBy>
  <dcterms:modified xsi:type="dcterms:W3CDTF">2013-07-25T18:07:14Z</dcterms:modified>
  <cp:revision>13</cp:revision>
  <dc:subject/>
  <dc:title>Interstate Source Water Protection Meeting</dc:title>
</cp:coreProperties>
</file>