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18F-1F5F-42DA-868B-8921ABD1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6CF-DAFC-45E9-A71F-FACB969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DA1-D104-4D78-A8ED-4EBE7DF4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19C-E6FC-47B4-87D2-7364426E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D59-3C3A-4D3A-AC17-0339D142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8B0-4B5E-4B26-874E-9F4C7D43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E1F-1496-481F-A930-1890D5B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32B-440B-4F62-B8DA-B6A5D6D9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ABB-23E8-44F6-B6BF-97D748E7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987-3AF1-4206-92B5-E801D53B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B6B-4FD1-41E6-A8D0-F26A6544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1F7-8B5D-4C6D-A51C-8C229B77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22A6-6290-4C13-9BF4-098159338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bash Monitoring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year project starting 1/22/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ual report draft next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s collected every two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ents, BOD, TSS, algae, chlorophy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onde takes readings every 30 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6" descr="IMG_0710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bash Monitoring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gregy\Desktop\pics\IMG_0837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3" descr="C:\Documents and Settings\gregy\Desktop\pics\IMG_0844.jpg"/>
          <p:cNvPicPr/>
          <p:nvPr/>
        </p:nvPicPr>
        <p:blipFill>
          <a:blip r:embed="rId3"/>
          <a:stretch/>
        </p:blipFill>
        <p:spPr>
          <a:xfrm>
            <a:off x="127080" y="22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bash River and Ohio River Alg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"/>
          <p:cNvPicPr/>
          <p:nvPr/>
        </p:nvPicPr>
        <p:blipFill>
          <a:blip r:embed="rId1"/>
          <a:stretch/>
        </p:blipFill>
        <p:spPr>
          <a:xfrm>
            <a:off x="45072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abash R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2"/>
          <a:stretch/>
        </p:blipFill>
        <p:spPr>
          <a:xfrm>
            <a:off x="4638600" y="2170080"/>
            <a:ext cx="4054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bash River and Ohio River Alg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10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lved Oxy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5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ae/Nutrients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&amp;O issues at Louisville week of July 19.  Passed in 1 we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nsville experienced similar issue 2 weeks l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5:15:39Z</dcterms:created>
  <dc:creator>John Klear</dc:creator>
  <dc:description/>
  <dc:language>en-US</dc:language>
  <cp:lastModifiedBy>jklear</cp:lastModifiedBy>
  <dcterms:modified xsi:type="dcterms:W3CDTF">2013-07-25T18:06:32Z</dcterms:modified>
  <cp:revision>25</cp:revision>
  <dc:subject/>
  <dc:title>Wabash Monitoring Project</dc:title>
</cp:coreProperties>
</file>