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2CDB-B579-4CAA-91E1-173A325B9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is and Jerry are NOT responsible for slide design choice~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F46-73DC-4319-A996-80329F26B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View, Dupont, Hays Mine, Evansville, Louisville-GC/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land (Mar 2012), Midland (June 2012) Both these systems are using the CMS5000 process GC’s and are actively collecting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ED99-ACE1-4CA8-96EA-E5ADA4A2D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B9B6-6862-4E81-9383-DB0FEC57F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E8F-0642-46E4-AFB6-761A1D0A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447-DAFB-49E8-AC3D-9698384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CBC-4F83-410D-A306-536CE3C4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CA7-DF46-43FA-91CE-ED320EF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60D0-BAB6-405D-9BB1-2B367380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9BC-FE85-4D9A-9CCA-6E1BD1C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AA3-30D5-4978-AE7B-A0BC151F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2E5C-D08F-4E43-BACF-90185E3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FFDB-BF67-4FA6-9B4B-CEF8A47D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7812-E73C-4B08-A46E-1C3F191D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7715-042C-49F4-ABEA-01AC5CB8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A2E-AF1A-4F24-A560-9893470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D25-0E98-4840-A59C-8F4D842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48A-FBCC-4AF1-91EB-7F9356B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7773-5075-446A-9BD1-A5E967BB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5A6-FA9C-4461-A1CA-F0647C49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A2F8-48EF-4FD0-AB03-D3CE9424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2EA1-8F4F-4443-8D89-AFE39398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71B0-7D73-4E9D-9BBD-E7A55B87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27F7-C9D5-4B69-8BAF-35DF6FA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7579-E031-4A34-8AD4-59E6F216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D165-A96E-4A2A-A88B-878481C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07A-E932-44CD-B472-D25958AC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E9E9-5D0D-4725-A911-F459F99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89A3-817C-4DED-8725-8BA5FD92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517F-E131-49DB-9080-F05D372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742A-CD90-4630-8C9B-F547303E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43F89-FBDC-4E87-928B-797E7AD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8E332-44EB-452E-99C9-719DD0B2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CEDC-E54A-477D-83B6-D7486627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4AF0-C76D-4B9A-8E6E-4E4B15F9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4456-0E8C-4DC3-BB81-B9F56FE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BF8D-EEDD-4FEF-937B-5C08ECA9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B88-CE47-4AE3-AB9C-2C62DD6F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5BEE-E05D-4242-88F4-E25F3B7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AEBE-678B-4B1C-A98E-7A84A3B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4602-0F7D-4E9E-AD96-4528E28E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EEB0-93B7-4EAC-990A-7BC5890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2B05-82B2-49ED-838D-2F06A225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8A64A-2BA4-4ACD-B44C-9783100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E20A-0F11-4F00-927F-B85379C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30076-787F-496F-9D8F-08385737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7358-AD60-4039-B067-98D90E32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0C2-6121-4D8E-921F-F6C9335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F83-29E7-4F8F-ACA3-1C57425D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140-733E-41B9-91CA-923DDCF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446-5B79-41A2-BD47-AFBFB42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1A6-0C6B-4D0F-82D8-28C7F99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0CED-F096-4013-90F7-7391FB8FC77E}" type="datetime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714-F260-46C0-B854-31209F4956DC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E1A-0223-4462-B4F9-38844BD60E69}" type="datetime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F805-944F-4197-B670-EE4F601FED14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C9FC-0BE3-4B85-8580-E1D0B109DE54}" type="datetime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1B26-B2AF-4407-9A45-35098806A80E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8D8B-26E2-41CC-9FB9-FE4D0C88732E}" type="datetime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728-2E5A-4410-956D-073D3693DBE9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890640"/>
            <a:ext cx="832176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0105c"/>
                </a:solidFill>
                <a:latin typeface="Berlin Sans FB"/>
              </a:rPr>
              <a:t>October 9, 2012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0105c"/>
                </a:solidFill>
                <a:latin typeface="Berlin Sans FB"/>
              </a:rPr>
              <a:t>Lila Xepoleas Ziolkowski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erlin Sans FB"/>
              </a:rPr>
              <a:t>PRG 345 Renovation Status Update</a:t>
            </a:r>
            <a:r>
              <a:rPr b="0" lang="en-US" sz="3200" spc="-1" strike="noStrike">
                <a:solidFill>
                  <a:srgbClr val="4e5b6f"/>
                </a:solidFill>
                <a:latin typeface="Berlin Sans FB"/>
              </a:rPr>
              <a:t>	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088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2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rlin Sans FB"/>
              </a:rPr>
              <a:t>Current Project Timeline:  through September 30, 2012</a:t>
            </a:r>
            <a:r>
              <a:rPr b="0" lang="en-US" sz="8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Organics instrumentation has been installed at 7 ODS locat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5 sites now have GC/MS capa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2 sites using in line process G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2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he ODS has added one new site and activated an existing 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shland Water Works (K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idland Water Authority (P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2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Deferred installation of GC/MS system at Wheel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nstrumentation relocated to Evansville ODS si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58880" indent="-20412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nstall process GC at Wheeling as interim upgra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2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C unit acquired residing at ORSANCO HQ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ortsmouth ODS site to pilot test Hapsite GC/MS un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Project costs through June 30, 2012: ~$2.5M (out of $4.4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37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Berlin Sans FB"/>
              </a:rPr>
              <a:t>Status Update (con’t) 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Remaining Installa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Conventional GC/MS at remaining si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Huntington, Cincinnati, Pittsburgh, Weirton, (Wheeling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C only sy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St. Albans, Paduca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rocess/Hybrid Volatiles Technolo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ortsmouth, Wheel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Improve Field Service Capabi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System Redunda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inimize site downtime from Instrumentation faults and fail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aintain appropriate inventory of parts, tools, and consum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aintenance and upgrade of ODS network as necessa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Data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Data review, report gene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aintain interactive websi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Education &amp; Trai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ORSANCO staff, ODS Operators, General Publ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224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80000"/>
              </a:lnSpc>
              <a:spcBef>
                <a:spcPts val="201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ODS_sitesupgraded100112.jpg"/>
          <p:cNvPicPr/>
          <p:nvPr/>
        </p:nvPicPr>
        <p:blipFill>
          <a:blip r:embed="rId1"/>
          <a:srcRect l="0" t="16705" r="0" b="17742"/>
          <a:stretch/>
        </p:blipFill>
        <p:spPr>
          <a:xfrm>
            <a:off x="228600" y="914400"/>
            <a:ext cx="8534520" cy="4954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ODS_sitesupgraded100112.jpg"/>
          <p:cNvPicPr/>
          <p:nvPr/>
        </p:nvPicPr>
        <p:blipFill>
          <a:blip r:embed="rId2"/>
          <a:srcRect l="56260" t="55986" r="41123" b="41666"/>
          <a:stretch/>
        </p:blipFill>
        <p:spPr>
          <a:xfrm>
            <a:off x="838080" y="5943600"/>
            <a:ext cx="304920" cy="228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1219320" y="5867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Water Utili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838080" y="6248520"/>
            <a:ext cx="228600" cy="228600"/>
          </a:xfrm>
          <a:prstGeom prst="ellipse">
            <a:avLst/>
          </a:prstGeom>
          <a:solidFill>
            <a:srgbClr val="4de9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143000" y="62485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Using existing instrumentation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3809880" y="6324480"/>
            <a:ext cx="228600" cy="228600"/>
          </a:xfrm>
          <a:prstGeom prst="ellipse">
            <a:avLst/>
          </a:prstGeom>
          <a:solidFill>
            <a:srgbClr val="f57e1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4038480" y="6248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CMS 5000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Isosceles Triangle 10"/>
          <p:cNvSpPr/>
          <p:nvPr/>
        </p:nvSpPr>
        <p:spPr>
          <a:xfrm>
            <a:off x="3809880" y="5867280"/>
            <a:ext cx="228600" cy="228600"/>
          </a:xfrm>
          <a:prstGeom prst="triangle">
            <a:avLst>
              <a:gd name="adj" fmla="val 47194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762120" y="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Berlin Sans FB"/>
              </a:rPr>
              <a:t>Upgraded ODS Schema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5-Point Star 13"/>
          <p:cNvSpPr/>
          <p:nvPr/>
        </p:nvSpPr>
        <p:spPr>
          <a:xfrm>
            <a:off x="4419720" y="3276720"/>
            <a:ext cx="304560" cy="304560"/>
          </a:xfrm>
          <a:custGeom>
            <a:avLst/>
            <a:gdLst>
              <a:gd name="textAreaLeft" fmla="*/ 101880 w 304560"/>
              <a:gd name="textAreaRight" fmla="*/ 202680 w 304560"/>
              <a:gd name="textAreaTop" fmla="*/ 123120 h 304560"/>
              <a:gd name="textAreaBottom" fmla="*/ 22428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21201" y="123337"/>
                </a:lnTo>
                <a:lnTo>
                  <a:pt x="152400" y="0"/>
                </a:lnTo>
                <a:lnTo>
                  <a:pt x="183599" y="123337"/>
                </a:lnTo>
                <a:lnTo>
                  <a:pt x="304800" y="116423"/>
                </a:lnTo>
                <a:lnTo>
                  <a:pt x="202881" y="185735"/>
                </a:lnTo>
                <a:lnTo>
                  <a:pt x="246588" y="304799"/>
                </a:lnTo>
                <a:lnTo>
                  <a:pt x="152400" y="224299"/>
                </a:lnTo>
                <a:lnTo>
                  <a:pt x="58212" y="304799"/>
                </a:lnTo>
                <a:lnTo>
                  <a:pt x="101919" y="185735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5-Point Star 14"/>
          <p:cNvSpPr/>
          <p:nvPr/>
        </p:nvSpPr>
        <p:spPr>
          <a:xfrm>
            <a:off x="5791320" y="58672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6019920" y="58672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Ion Chromatograph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038480" y="5867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GC/MS upgrad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ODS_sites3_100112.jpg"/>
          <p:cNvPicPr/>
          <p:nvPr/>
        </p:nvPicPr>
        <p:blipFill>
          <a:blip r:embed="rId1"/>
          <a:srcRect l="0" t="16667" r="0" b="16667"/>
          <a:stretch/>
        </p:blipFill>
        <p:spPr>
          <a:xfrm>
            <a:off x="609480" y="1066680"/>
            <a:ext cx="7925040" cy="4648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DS_sitesupgraded100112.jpg"/>
          <p:cNvPicPr/>
          <p:nvPr/>
        </p:nvPicPr>
        <p:blipFill>
          <a:blip r:embed="rId2"/>
          <a:srcRect l="56260" t="55986" r="41123" b="41666"/>
          <a:stretch/>
        </p:blipFill>
        <p:spPr>
          <a:xfrm>
            <a:off x="914400" y="5867280"/>
            <a:ext cx="457200" cy="343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1447920" y="5867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Water Utili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4800600" y="5943600"/>
            <a:ext cx="304920" cy="304920"/>
          </a:xfrm>
          <a:prstGeom prst="ellipse">
            <a:avLst/>
          </a:prstGeom>
          <a:solidFill>
            <a:srgbClr val="4de92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5334120" y="5943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ODS S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762120" y="533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Berlin Sans FB"/>
              </a:rPr>
              <a:t>ODS Communications Networ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http://www.osha.gov/dts/sltc/methods/organic/org101/org101fig05.gif"/>
          <p:cNvPicPr/>
          <p:nvPr/>
        </p:nvPicPr>
        <p:blipFill>
          <a:blip r:embed="rId3"/>
          <a:stretch/>
        </p:blipFill>
        <p:spPr>
          <a:xfrm>
            <a:off x="4572000" y="3581280"/>
            <a:ext cx="304920" cy="2286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228" name="Arc 13"/>
          <p:cNvSpPr/>
          <p:nvPr/>
        </p:nvSpPr>
        <p:spPr>
          <a:xfrm>
            <a:off x="4114800" y="3733920"/>
            <a:ext cx="1523880" cy="152280"/>
          </a:xfrm>
          <a:custGeom>
            <a:avLst/>
            <a:gdLst>
              <a:gd name="textAreaLeft" fmla="*/ 762120 w 1523880"/>
              <a:gd name="textAreaRight" fmla="*/ 1524240 w 1523880"/>
              <a:gd name="textAreaTop" fmla="*/ 0 h 152280"/>
              <a:gd name="textAreaBottom" fmla="*/ 76320 h 152280"/>
            </a:gdLst>
            <a:ahLst/>
            <a:rect l="textAreaLeft" t="textAreaTop" r="textAreaRight" b="textAreaBottom"/>
            <a:pathLst>
              <a:path stroke="0" w="1524000" h="152400">
                <a:moveTo>
                  <a:pt x="762000" y="0"/>
                </a:moveTo>
                <a:lnTo>
                  <a:pt x="762000" y="0"/>
                </a:lnTo>
                <a:arcTo wR="762000" hR="76200" stAng="-5400000" swAng="5400009"/>
                <a:lnTo>
                  <a:pt x="762000" y="76200"/>
                </a:lnTo>
                <a:close/>
              </a:path>
              <a:path fill="none" w="1524000" h="152400">
                <a:moveTo>
                  <a:pt x="762000" y="0"/>
                </a:moveTo>
                <a:lnTo>
                  <a:pt x="762000" y="0"/>
                </a:lnTo>
                <a:arcTo wR="762000" hR="76200" stAng="-5400000" swAng="5400009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rc 14"/>
          <p:cNvSpPr/>
          <p:nvPr/>
        </p:nvSpPr>
        <p:spPr>
          <a:xfrm>
            <a:off x="3809880" y="3809880"/>
            <a:ext cx="2057400" cy="381240"/>
          </a:xfrm>
          <a:custGeom>
            <a:avLst/>
            <a:gdLst>
              <a:gd name="textAreaLeft" fmla="*/ 1036440 w 2057400"/>
              <a:gd name="textAreaRight" fmla="*/ 2057760 w 2057400"/>
              <a:gd name="textAreaTop" fmla="*/ 0 h 381240"/>
              <a:gd name="textAreaBottom" fmla="*/ 190800 h 381240"/>
            </a:gdLst>
            <a:ahLst/>
            <a:rect l="textAreaLeft" t="textAreaTop" r="textAreaRight" b="textAreaBottom"/>
            <a:pathLst>
              <a:path stroke="0" w="2057400" h="381000">
                <a:moveTo>
                  <a:pt x="1036583" y="6"/>
                </a:moveTo>
                <a:lnTo>
                  <a:pt x="1036583" y="6"/>
                </a:lnTo>
                <a:arcTo wR="1028700" hR="190500" stAng="-5257821" swAng="5257831"/>
                <a:lnTo>
                  <a:pt x="1028700" y="190500"/>
                </a:lnTo>
                <a:close/>
              </a:path>
              <a:path fill="none" w="2057400" h="381000">
                <a:moveTo>
                  <a:pt x="1036583" y="6"/>
                </a:moveTo>
                <a:lnTo>
                  <a:pt x="1036583" y="6"/>
                </a:lnTo>
                <a:arcTo wR="1028700" hR="190500" stAng="-5257821" swAng="5257831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Arc 15"/>
          <p:cNvSpPr/>
          <p:nvPr/>
        </p:nvSpPr>
        <p:spPr>
          <a:xfrm>
            <a:off x="3657600" y="3657600"/>
            <a:ext cx="2438280" cy="609480"/>
          </a:xfrm>
          <a:custGeom>
            <a:avLst/>
            <a:gdLst>
              <a:gd name="textAreaLeft" fmla="*/ 1231920 w 2438280"/>
              <a:gd name="textAreaRight" fmla="*/ 2438640 w 2438280"/>
              <a:gd name="textAreaTop" fmla="*/ 0 h 609480"/>
              <a:gd name="textAreaBottom" fmla="*/ 304920 h 609480"/>
            </a:gdLst>
            <a:ahLst/>
            <a:rect l="textAreaLeft" t="textAreaTop" r="textAreaRight" b="textAreaBottom"/>
            <a:pathLst>
              <a:path stroke="0" w="2438400" h="609600">
                <a:moveTo>
                  <a:pt x="1231813" y="16"/>
                </a:moveTo>
                <a:lnTo>
                  <a:pt x="1231813" y="16"/>
                </a:lnTo>
                <a:arcTo wR="1219200" hR="304800" stAng="-5257815" swAng="5257824"/>
                <a:lnTo>
                  <a:pt x="1219200" y="304800"/>
                </a:lnTo>
                <a:close/>
              </a:path>
              <a:path fill="none" w="2438400" h="609600">
                <a:moveTo>
                  <a:pt x="1231813" y="16"/>
                </a:moveTo>
                <a:lnTo>
                  <a:pt x="1231813" y="16"/>
                </a:lnTo>
                <a:arcTo wR="1219200" hR="304800" stAng="-5257815" swAng="5257824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Arc 16"/>
          <p:cNvSpPr/>
          <p:nvPr/>
        </p:nvSpPr>
        <p:spPr>
          <a:xfrm rot="10800000">
            <a:off x="4800240" y="3581280"/>
            <a:ext cx="3352680" cy="457200"/>
          </a:xfrm>
          <a:custGeom>
            <a:avLst/>
            <a:gdLst>
              <a:gd name="textAreaLeft" fmla="*/ 1685880 w 3352680"/>
              <a:gd name="textAreaRight" fmla="*/ 3353040 w 3352680"/>
              <a:gd name="textAreaTop" fmla="*/ 0 h 457200"/>
              <a:gd name="textAreaBottom" fmla="*/ 228600 h 457200"/>
            </a:gdLst>
            <a:ahLst/>
            <a:rect l="textAreaLeft" t="textAreaTop" r="textAreaRight" b="textAreaBottom"/>
            <a:pathLst>
              <a:path stroke="0" w="3352800" h="457200">
                <a:moveTo>
                  <a:pt x="1685860" y="4"/>
                </a:moveTo>
                <a:lnTo>
                  <a:pt x="1685860" y="4"/>
                </a:lnTo>
                <a:arcTo wR="1676400" hR="228600" stAng="-5257817" swAng="5257825"/>
                <a:lnTo>
                  <a:pt x="1676400" y="228600"/>
                </a:lnTo>
                <a:close/>
              </a:path>
              <a:path fill="none" w="3352800" h="457200">
                <a:moveTo>
                  <a:pt x="1685860" y="4"/>
                </a:moveTo>
                <a:lnTo>
                  <a:pt x="1685860" y="4"/>
                </a:lnTo>
                <a:arcTo wR="1676400" hR="228600" stAng="-5257817" swAng="5257825"/>
              </a:path>
            </a:pathLst>
          </a:custGeom>
          <a:noFill/>
          <a:ln w="25560">
            <a:solidFill>
              <a:srgbClr val="8b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Arc 18"/>
          <p:cNvSpPr/>
          <p:nvPr/>
        </p:nvSpPr>
        <p:spPr>
          <a:xfrm rot="8512800">
            <a:off x="3703320" y="3657240"/>
            <a:ext cx="1216080" cy="322200"/>
          </a:xfrm>
          <a:custGeom>
            <a:avLst/>
            <a:gdLst>
              <a:gd name="textAreaLeft" fmla="*/ 407880 w 1216080"/>
              <a:gd name="textAreaRight" fmla="*/ 1216440 w 1216080"/>
              <a:gd name="textAreaTop" fmla="*/ 0 h 322200"/>
              <a:gd name="textAreaBottom" fmla="*/ 161280 h 322200"/>
            </a:gdLst>
            <a:ahLst/>
            <a:rect l="textAreaLeft" t="textAreaTop" r="textAreaRight" b="textAreaBottom"/>
            <a:pathLst>
              <a:path stroke="0" w="1215036" h="323139">
                <a:moveTo>
                  <a:pt x="407739" y="8986"/>
                </a:moveTo>
                <a:lnTo>
                  <a:pt x="407739" y="8986"/>
                </a:lnTo>
                <a:arcTo wR="607518" hR="161570" stAng="-8557723" swAng="8557734"/>
                <a:lnTo>
                  <a:pt x="607518" y="161570"/>
                </a:lnTo>
                <a:close/>
              </a:path>
              <a:path fill="none" w="1215036" h="323139">
                <a:moveTo>
                  <a:pt x="407739" y="8986"/>
                </a:moveTo>
                <a:lnTo>
                  <a:pt x="407739" y="8986"/>
                </a:lnTo>
                <a:arcTo wR="607518" hR="161570" stAng="-8557723" swAng="8557734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Arc 19"/>
          <p:cNvSpPr/>
          <p:nvPr/>
        </p:nvSpPr>
        <p:spPr>
          <a:xfrm rot="20959800">
            <a:off x="3607920" y="3586320"/>
            <a:ext cx="2967120" cy="203040"/>
          </a:xfrm>
          <a:custGeom>
            <a:avLst/>
            <a:gdLst>
              <a:gd name="textAreaLeft" fmla="*/ 1278720 w 2967120"/>
              <a:gd name="textAreaRight" fmla="*/ 2967480 w 2967120"/>
              <a:gd name="textAreaTop" fmla="*/ 0 h 203040"/>
              <a:gd name="textAreaBottom" fmla="*/ 101520 h 203040"/>
            </a:gdLst>
            <a:ahLst/>
            <a:rect l="textAreaLeft" t="textAreaTop" r="textAreaRight" b="textAreaBottom"/>
            <a:pathLst>
              <a:path stroke="0" w="2967906" h="203189">
                <a:moveTo>
                  <a:pt x="1279049" y="973"/>
                </a:moveTo>
                <a:lnTo>
                  <a:pt x="1279049" y="973"/>
                </a:lnTo>
                <a:arcTo wR="1483953" hR="101595" stAng="-9230753" swAng="9230760"/>
                <a:lnTo>
                  <a:pt x="1483953" y="101595"/>
                </a:lnTo>
                <a:close/>
              </a:path>
              <a:path fill="none" w="2967906" h="203189">
                <a:moveTo>
                  <a:pt x="1279049" y="973"/>
                </a:moveTo>
                <a:lnTo>
                  <a:pt x="1279049" y="973"/>
                </a:lnTo>
                <a:arcTo wR="1483953" hR="101595" stAng="-9230753" swAng="9230760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Arc 20"/>
          <p:cNvSpPr/>
          <p:nvPr/>
        </p:nvSpPr>
        <p:spPr>
          <a:xfrm rot="20041800">
            <a:off x="2303280" y="3576240"/>
            <a:ext cx="5317920" cy="520560"/>
          </a:xfrm>
          <a:custGeom>
            <a:avLst/>
            <a:gdLst>
              <a:gd name="textAreaLeft" fmla="*/ 2669760 w 5317920"/>
              <a:gd name="textAreaRight" fmla="*/ 5318280 w 5317920"/>
              <a:gd name="textAreaTop" fmla="*/ 0 h 520560"/>
              <a:gd name="textAreaBottom" fmla="*/ 260280 h 520560"/>
            </a:gdLst>
            <a:ahLst/>
            <a:rect l="textAreaLeft" t="textAreaTop" r="textAreaRight" b="textAreaBottom"/>
            <a:pathLst>
              <a:path stroke="0" w="5318673" h="520106">
                <a:moveTo>
                  <a:pt x="2670098" y="2"/>
                </a:moveTo>
                <a:lnTo>
                  <a:pt x="2670098" y="2"/>
                </a:lnTo>
                <a:arcTo wR="2659337" hR="260053" stAng="-5257826" swAng="5257834"/>
                <a:lnTo>
                  <a:pt x="2659337" y="260053"/>
                </a:lnTo>
                <a:close/>
              </a:path>
              <a:path fill="none" w="5318673" h="520106">
                <a:moveTo>
                  <a:pt x="2670098" y="2"/>
                </a:moveTo>
                <a:lnTo>
                  <a:pt x="2670098" y="2"/>
                </a:lnTo>
                <a:arcTo wR="2659337" hR="260053" stAng="-5257826" swAng="5257834"/>
              </a:path>
            </a:pathLst>
          </a:custGeom>
          <a:noFill/>
          <a:ln w="25560">
            <a:solidFill>
              <a:srgbClr val="8b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Arc 21"/>
          <p:cNvSpPr/>
          <p:nvPr/>
        </p:nvSpPr>
        <p:spPr>
          <a:xfrm rot="20041800">
            <a:off x="1941120" y="3564000"/>
            <a:ext cx="5689800" cy="473040"/>
          </a:xfrm>
          <a:custGeom>
            <a:avLst/>
            <a:gdLst>
              <a:gd name="textAreaLeft" fmla="*/ 2854800 w 5689800"/>
              <a:gd name="textAreaRight" fmla="*/ 5689800 w 5689800"/>
              <a:gd name="textAreaTop" fmla="*/ 0 h 473040"/>
              <a:gd name="textAreaBottom" fmla="*/ 236520 h 473040"/>
            </a:gdLst>
            <a:ahLst/>
            <a:rect l="textAreaLeft" t="textAreaTop" r="textAreaRight" b="textAreaBottom"/>
            <a:pathLst>
              <a:path stroke="0" w="5688242" h="472471">
                <a:moveTo>
                  <a:pt x="2853897" y="1"/>
                </a:moveTo>
                <a:lnTo>
                  <a:pt x="2853897" y="1"/>
                </a:lnTo>
                <a:arcTo wR="2844121" hR="236236" stAng="-5257818" swAng="5257826"/>
                <a:lnTo>
                  <a:pt x="2844121" y="236236"/>
                </a:lnTo>
                <a:close/>
              </a:path>
              <a:path fill="none" w="5688242" h="472471">
                <a:moveTo>
                  <a:pt x="2853897" y="1"/>
                </a:moveTo>
                <a:lnTo>
                  <a:pt x="2853897" y="1"/>
                </a:lnTo>
                <a:arcTo wR="2844121" hR="236236" stAng="-5257818" swAng="5257826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Arc 22"/>
          <p:cNvSpPr/>
          <p:nvPr/>
        </p:nvSpPr>
        <p:spPr>
          <a:xfrm rot="19667400">
            <a:off x="1841040" y="3580920"/>
            <a:ext cx="6132600" cy="441360"/>
          </a:xfrm>
          <a:custGeom>
            <a:avLst/>
            <a:gdLst>
              <a:gd name="textAreaLeft" fmla="*/ 3075480 w 6132600"/>
              <a:gd name="textAreaRight" fmla="*/ 6132960 w 6132600"/>
              <a:gd name="textAreaTop" fmla="*/ 0 h 441360"/>
              <a:gd name="textAreaBottom" fmla="*/ 220680 h 441360"/>
            </a:gdLst>
            <a:ahLst/>
            <a:rect l="textAreaLeft" t="textAreaTop" r="textAreaRight" b="textAreaBottom"/>
            <a:pathLst>
              <a:path stroke="0" w="6132651" h="440884">
                <a:moveTo>
                  <a:pt x="3075448" y="1"/>
                </a:moveTo>
                <a:lnTo>
                  <a:pt x="3075448" y="1"/>
                </a:lnTo>
                <a:arcTo wR="3066326" hR="220442" stAng="-5257825" swAng="5257833"/>
                <a:lnTo>
                  <a:pt x="3066326" y="220442"/>
                </a:lnTo>
                <a:close/>
              </a:path>
              <a:path fill="none" w="6132651" h="440884">
                <a:moveTo>
                  <a:pt x="3075448" y="1"/>
                </a:moveTo>
                <a:lnTo>
                  <a:pt x="3075448" y="1"/>
                </a:lnTo>
                <a:arcTo wR="3066326" hR="220442" stAng="-5257825" swAng="5257833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Arc 23"/>
          <p:cNvSpPr/>
          <p:nvPr/>
        </p:nvSpPr>
        <p:spPr>
          <a:xfrm rot="19233600">
            <a:off x="1855440" y="3382920"/>
            <a:ext cx="6843600" cy="2057400"/>
          </a:xfrm>
          <a:custGeom>
            <a:avLst/>
            <a:gdLst>
              <a:gd name="textAreaLeft" fmla="*/ 3464280 w 6843600"/>
              <a:gd name="textAreaRight" fmla="*/ 6843960 w 6843600"/>
              <a:gd name="textAreaTop" fmla="*/ 0 h 2057400"/>
              <a:gd name="textAreaBottom" fmla="*/ 1031760 h 2057400"/>
            </a:gdLst>
            <a:ahLst/>
            <a:rect l="textAreaLeft" t="textAreaTop" r="textAreaRight" b="textAreaBottom"/>
            <a:pathLst>
              <a:path stroke="0" w="6844514" h="2056611">
                <a:moveTo>
                  <a:pt x="3464807" y="79"/>
                </a:moveTo>
                <a:lnTo>
                  <a:pt x="3464807" y="79"/>
                </a:lnTo>
                <a:arcTo wR="3422257" hR="1028306" stAng="-5257821" swAng="5261028"/>
                <a:lnTo>
                  <a:pt x="3422257" y="1028306"/>
                </a:lnTo>
                <a:close/>
              </a:path>
              <a:path fill="none" w="6844514" h="2056611">
                <a:moveTo>
                  <a:pt x="3464807" y="79"/>
                </a:moveTo>
                <a:lnTo>
                  <a:pt x="3464807" y="79"/>
                </a:lnTo>
                <a:arcTo wR="3422257" hR="1028306" stAng="-5257821" swAng="5261028"/>
              </a:path>
            </a:pathLst>
          </a:custGeom>
          <a:noFill/>
          <a:ln w="25560">
            <a:solidFill>
              <a:srgbClr val="8be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Arc 24"/>
          <p:cNvSpPr/>
          <p:nvPr/>
        </p:nvSpPr>
        <p:spPr>
          <a:xfrm rot="19233600">
            <a:off x="2231640" y="3460680"/>
            <a:ext cx="6248520" cy="1687680"/>
          </a:xfrm>
          <a:custGeom>
            <a:avLst/>
            <a:gdLst>
              <a:gd name="textAreaLeft" fmla="*/ 3159360 w 6248520"/>
              <a:gd name="textAreaRight" fmla="*/ 6248880 w 6248520"/>
              <a:gd name="textAreaTop" fmla="*/ 0 h 1687680"/>
              <a:gd name="textAreaBottom" fmla="*/ 846720 h 1687680"/>
            </a:gdLst>
            <a:ahLst/>
            <a:rect l="textAreaLeft" t="textAreaTop" r="textAreaRight" b="textAreaBottom"/>
            <a:pathLst>
              <a:path stroke="0" w="6249385" h="1688017">
                <a:moveTo>
                  <a:pt x="3159617" y="53"/>
                </a:moveTo>
                <a:lnTo>
                  <a:pt x="3159617" y="53"/>
                </a:lnTo>
                <a:arcTo wR="3124693" hR="844009" stAng="-5257819" swAng="5261027"/>
                <a:lnTo>
                  <a:pt x="3124693" y="844009"/>
                </a:lnTo>
                <a:close/>
              </a:path>
              <a:path fill="none" w="6249385" h="1688017">
                <a:moveTo>
                  <a:pt x="3159617" y="53"/>
                </a:moveTo>
                <a:lnTo>
                  <a:pt x="3159617" y="53"/>
                </a:lnTo>
                <a:arcTo wR="3124693" hR="844009" stAng="-5257819" swAng="5261027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Arc 25"/>
          <p:cNvSpPr/>
          <p:nvPr/>
        </p:nvSpPr>
        <p:spPr>
          <a:xfrm rot="19233600">
            <a:off x="1932120" y="3387240"/>
            <a:ext cx="6843600" cy="2055960"/>
          </a:xfrm>
          <a:custGeom>
            <a:avLst/>
            <a:gdLst>
              <a:gd name="textAreaLeft" fmla="*/ 3464280 w 6843600"/>
              <a:gd name="textAreaRight" fmla="*/ 6843960 w 6843600"/>
              <a:gd name="textAreaTop" fmla="*/ 0 h 2055960"/>
              <a:gd name="textAreaBottom" fmla="*/ 1031040 h 2055960"/>
            </a:gdLst>
            <a:ahLst/>
            <a:rect l="textAreaLeft" t="textAreaTop" r="textAreaRight" b="textAreaBottom"/>
            <a:pathLst>
              <a:path stroke="0" w="6844514" h="2056611">
                <a:moveTo>
                  <a:pt x="3464807" y="79"/>
                </a:moveTo>
                <a:lnTo>
                  <a:pt x="3464807" y="79"/>
                </a:lnTo>
                <a:arcTo wR="3422257" hR="1028306" stAng="-5257821" swAng="5261028"/>
                <a:lnTo>
                  <a:pt x="3422257" y="1028306"/>
                </a:lnTo>
                <a:close/>
              </a:path>
              <a:path fill="none" w="6844514" h="2056611">
                <a:moveTo>
                  <a:pt x="3464807" y="79"/>
                </a:moveTo>
                <a:lnTo>
                  <a:pt x="3464807" y="79"/>
                </a:lnTo>
                <a:arcTo wR="3422257" hR="1028306" stAng="-5257821" swAng="5261028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rc 26"/>
          <p:cNvSpPr/>
          <p:nvPr/>
        </p:nvSpPr>
        <p:spPr>
          <a:xfrm rot="9222600">
            <a:off x="2133000" y="3431520"/>
            <a:ext cx="4011480" cy="592200"/>
          </a:xfrm>
          <a:custGeom>
            <a:avLst/>
            <a:gdLst>
              <a:gd name="textAreaLeft" fmla="*/ 1624680 w 4011480"/>
              <a:gd name="textAreaRight" fmla="*/ 4011840 w 4011480"/>
              <a:gd name="textAreaTop" fmla="*/ 0 h 592200"/>
              <a:gd name="textAreaBottom" fmla="*/ 296280 h 592200"/>
            </a:gdLst>
            <a:ahLst/>
            <a:rect l="textAreaLeft" t="textAreaTop" r="textAreaRight" b="textAreaBottom"/>
            <a:pathLst>
              <a:path stroke="0" w="4012264" h="593116">
                <a:moveTo>
                  <a:pt x="1624922" y="5403"/>
                </a:moveTo>
                <a:lnTo>
                  <a:pt x="1624922" y="5403"/>
                </a:lnTo>
                <a:arcTo wR="2006132" hR="296558" stAng="-8557720" swAng="8557727"/>
                <a:lnTo>
                  <a:pt x="2006132" y="296558"/>
                </a:lnTo>
                <a:close/>
              </a:path>
              <a:path fill="none" w="4012264" h="593116">
                <a:moveTo>
                  <a:pt x="1624922" y="5403"/>
                </a:moveTo>
                <a:lnTo>
                  <a:pt x="1624922" y="5403"/>
                </a:lnTo>
                <a:arcTo wR="2006132" hR="296558" stAng="-8557720" swAng="8557727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rc 27"/>
          <p:cNvSpPr/>
          <p:nvPr/>
        </p:nvSpPr>
        <p:spPr>
          <a:xfrm rot="8819400">
            <a:off x="1221840" y="3410640"/>
            <a:ext cx="5705640" cy="592200"/>
          </a:xfrm>
          <a:custGeom>
            <a:avLst/>
            <a:gdLst>
              <a:gd name="textAreaLeft" fmla="*/ 2468160 w 5705640"/>
              <a:gd name="textAreaRight" fmla="*/ 5706000 w 5705640"/>
              <a:gd name="textAreaTop" fmla="*/ 0 h 592200"/>
              <a:gd name="textAreaBottom" fmla="*/ 296280 h 592200"/>
            </a:gdLst>
            <a:ahLst/>
            <a:rect l="textAreaLeft" t="textAreaTop" r="textAreaRight" b="textAreaBottom"/>
            <a:pathLst>
              <a:path stroke="0" w="5705922" h="593116">
                <a:moveTo>
                  <a:pt x="2468223" y="2709"/>
                </a:moveTo>
                <a:lnTo>
                  <a:pt x="2468223" y="2709"/>
                </a:lnTo>
                <a:arcTo wR="2852961" hR="296558" stAng="-8557723" swAng="8557731"/>
                <a:lnTo>
                  <a:pt x="2852961" y="296558"/>
                </a:lnTo>
                <a:close/>
              </a:path>
              <a:path fill="none" w="5705922" h="593116">
                <a:moveTo>
                  <a:pt x="2468223" y="2709"/>
                </a:moveTo>
                <a:lnTo>
                  <a:pt x="2468223" y="2709"/>
                </a:lnTo>
                <a:arcTo wR="2852961" hR="296558" stAng="-8557723" swAng="8557731"/>
              </a:path>
            </a:pathLst>
          </a:custGeom>
          <a:noFill/>
          <a:ln w="255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914400" y="6400800"/>
            <a:ext cx="457200" cy="0"/>
          </a:xfrm>
          <a:prstGeom prst="line">
            <a:avLst/>
          </a:prstGeom>
          <a:ln w="25560">
            <a:solidFill>
              <a:srgbClr val="51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1447920" y="62485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Bi-directional network connec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4" descr="http://www.osha.gov/dts/sltc/methods/organic/org101/org101fig05.gif"/>
          <p:cNvPicPr/>
          <p:nvPr/>
        </p:nvPicPr>
        <p:blipFill>
          <a:blip r:embed="rId4"/>
          <a:stretch/>
        </p:blipFill>
        <p:spPr>
          <a:xfrm>
            <a:off x="4800600" y="6400800"/>
            <a:ext cx="298440" cy="2286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245" name="TextBox 32"/>
          <p:cNvSpPr/>
          <p:nvPr/>
        </p:nvSpPr>
        <p:spPr>
          <a:xfrm>
            <a:off x="533412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ORSANCO HQ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Berlin Sans FB"/>
              </a:rPr>
              <a:t>Prototype of ODS Interactive Website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486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lila\My Documents\My Pictures\Website Example.JPG"/>
          <p:cNvPicPr/>
          <p:nvPr/>
        </p:nvPicPr>
        <p:blipFill>
          <a:blip r:embed="rId2"/>
          <a:stretch/>
        </p:blipFill>
        <p:spPr>
          <a:xfrm>
            <a:off x="61920" y="716040"/>
            <a:ext cx="87012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"/>
              </a:rPr>
              <a:t>Questions/comments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3" descr="IMG_0641.JPG"/>
          <p:cNvPicPr/>
          <p:nvPr/>
        </p:nvPicPr>
        <p:blipFill>
          <a:blip r:embed="rId1"/>
          <a:stretch/>
        </p:blipFill>
        <p:spPr>
          <a:xfrm>
            <a:off x="533520" y="871560"/>
            <a:ext cx="7924680" cy="5705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762120" y="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Berlin Sans FB"/>
              </a:rPr>
              <a:t>QUESTIONS&amp; COMM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100_0772.jpg"/>
          <p:cNvPicPr/>
          <p:nvPr/>
        </p:nvPicPr>
        <p:blipFill>
          <a:blip r:embed="rId1"/>
          <a:stretch/>
        </p:blipFill>
        <p:spPr>
          <a:xfrm>
            <a:off x="457200" y="1143000"/>
            <a:ext cx="8205840" cy="5334120"/>
          </a:xfrm>
          <a:prstGeom prst="rect">
            <a:avLst/>
          </a:prstGeom>
          <a:ln w="0">
            <a:noFill/>
          </a:ln>
        </p:spPr>
      </p:pic>
      <p:pic>
        <p:nvPicPr>
          <p:cNvPr id="253" name="Title 4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3217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6:14:04Z</dcterms:created>
  <dc:creator>lila</dc:creator>
  <dc:description/>
  <dc:language>en-US</dc:language>
  <cp:lastModifiedBy>jklear</cp:lastModifiedBy>
  <dcterms:modified xsi:type="dcterms:W3CDTF">2013-07-25T18:06:49Z</dcterms:modified>
  <cp:revision>517</cp:revision>
  <dc:subject/>
  <dc:title>Slide 1</dc:title>
</cp:coreProperties>
</file>