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1F071-2375-4208-BF54-617E2DED6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2438E-A9C1-4C12-9F93-820283423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4CEBD-78BE-492D-A520-6A8A63741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F4DB3-A630-4B14-83EF-A42C23F4D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A8027-D26F-4ED2-9717-566644ACA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C3B42-C9BD-4A8B-8419-36883C1E6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4C2A5-19BD-4E32-B591-2E996C662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5CC31-2ABB-48CF-96D2-660C5EEA2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33816-43D0-4F0E-9975-1CF070D01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3109E-6D6D-4BE8-A464-D7228FE47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78383-275A-45AA-9F24-6152B72E7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F6F1A-7FAD-4C47-BBB5-CF3017B51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731FD-AD16-4F98-ABDF-EAFB5413FDE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ulf of Mexico Hypoxia Task Forc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genda Item 13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ARROW Decision Support System</a:t>
            </a:r>
            <a:endParaRPr b="0" lang="en-US" sz="4400" spc="-1" strike="noStrike">
              <a:solidFill>
                <a:srgbClr val="000000"/>
              </a:solidFill>
              <a:latin typeface="Calibri"/>
            </a:endParaRPr>
          </a:p>
        </p:txBody>
      </p:sp>
      <p:pic>
        <p:nvPicPr>
          <p:cNvPr id="60" name="Picture 2" descr=""/>
          <p:cNvPicPr/>
          <p:nvPr/>
        </p:nvPicPr>
        <p:blipFill>
          <a:blip r:embed="rId1"/>
          <a:stretch/>
        </p:blipFill>
        <p:spPr>
          <a:xfrm>
            <a:off x="800280" y="1600200"/>
            <a:ext cx="75438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owa Nutrient Reduction Science Assessment</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artnership of Iowa State Univ., Iowa Dept of Ag, IDNR , USDA, NRCS, Univ. of Illinois, Univ., of M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rformance of Ag BMPs evaluate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vel of implementation and costs evaluate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orkshop November 13-15 in Davenport Iowa</a:t>
            </a:r>
            <a:endParaRPr b="0" lang="en-US" sz="3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ar how Iowa created their state science assessment and generated results. The focus of the workshop is to examine the process and lessons learned, consider the extent to which this can be used by other states, and provide an opportunity to develop state or regional partnerships and next step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nding Litigation</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etition seeking EPA action to require all states to develop numeric criteria for nutrient pollution or EPA promulgation of federal criteria and TMDLs for nutrient pollution in the MARB</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uly 2011 EPA denied peti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ch 2012 plaintiffs filed lawsuit contesting deni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re than 30 parties have been granted intervenor statu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ies are now negotiating a briefing schedule</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etition seeking EPA revision of "secondary" treatment standards to include nutrient controls at municipal sewage treatment plant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ch 2012 lawsuit over EPA delay in respon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ugust 2012 EPA told the court it would respond by end of year</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Content Placeholder 3" descr="Deere.JPG"/>
          <p:cNvPicPr/>
          <p:nvPr/>
        </p:nvPicPr>
        <p:blipFill>
          <a:blip r:embed="rId1"/>
          <a:stretch/>
        </p:blipFill>
        <p:spPr>
          <a:xfrm>
            <a:off x="3544920" y="3124080"/>
            <a:ext cx="5599080" cy="373392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Task Force Meeting</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ring 201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tion TBD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interest in having it in conjunction with an ORSANCO Commission Meet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hio River Sub Basin Steering Committee</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 Basin Team formed in 2003 to represent the interests of the States in the ORB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iginally Illinois was only ORSANCO member state represented on the Task For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hn Kessler, ODNR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irman 2004-Presen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king for new Chairper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eting of the Task Forc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 Moines, Iowa September 11-1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bined meeting with National Association of State Departments of Agricul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eting Highlights</a:t>
            </a:r>
            <a:endParaRPr b="0" lang="en-US" sz="4400" spc="-1" strike="noStrike">
              <a:solidFill>
                <a:srgbClr val="000000"/>
              </a:solidFill>
              <a:latin typeface="Calibri"/>
            </a:endParaRPr>
          </a:p>
        </p:txBody>
      </p:sp>
      <p:pic>
        <p:nvPicPr>
          <p:cNvPr id="48" name="Content Placeholder 3" descr="Deere.JPG"/>
          <p:cNvPicPr/>
          <p:nvPr/>
        </p:nvPicPr>
        <p:blipFill>
          <a:blip r:embed="rId1"/>
          <a:stretch/>
        </p:blipFill>
        <p:spPr>
          <a:xfrm>
            <a:off x="1177920" y="1600200"/>
            <a:ext cx="678816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ze of Hypoxic Zone 2012</a:t>
            </a:r>
            <a:endParaRPr b="0" lang="en-US" sz="4400" spc="-1" strike="noStrike">
              <a:solidFill>
                <a:srgbClr val="000000"/>
              </a:solidFill>
              <a:latin typeface="Calibri"/>
            </a:endParaRPr>
          </a:p>
        </p:txBody>
      </p:sp>
      <p:pic>
        <p:nvPicPr>
          <p:cNvPr id="50" name="Picture 2" descr=""/>
          <p:cNvPicPr/>
          <p:nvPr/>
        </p:nvPicPr>
        <p:blipFill>
          <a:blip r:embed="rId1"/>
          <a:stretch/>
        </p:blipFill>
        <p:spPr>
          <a:xfrm>
            <a:off x="890640" y="1838160"/>
            <a:ext cx="7362720" cy="405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ederal Nutrient Reduction Strategy</a:t>
            </a:r>
            <a:endParaRPr b="0" lang="en-US" sz="4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operative efforts to assist the states in protecting in-state water quality to also reduce nutrient loadings to the Gulf</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igning existing federal programs with hypoxia efforts</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roach for implementation of nutrient strategi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ncial Assistanc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itoring and Model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ical Assistanc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on and Coordin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itoring Collaboration</a:t>
            </a:r>
            <a:endParaRPr b="0" lang="en-US" sz="4400" spc="-1" strike="noStrike">
              <a:solidFill>
                <a:srgbClr val="000000"/>
              </a:solidFill>
              <a:latin typeface="Calibri"/>
            </a:endParaRPr>
          </a:p>
        </p:txBody>
      </p:sp>
      <p:sp>
        <p:nvSpPr>
          <p:cNvPr id="54" name=""/>
          <p:cNvSpPr txBox="1"/>
          <p:nvPr/>
        </p:nvSpPr>
        <p:spPr>
          <a:xfrm>
            <a:off x="457200" y="1722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 an integrated long-term, multi-scale MARB water-quality monitoring collaborative based on existing sites and resources and identify monitoring needs/priorities and funding needed to develop a comprehensive MARB-WQMC.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QUALITYDATA.US</a:t>
            </a:r>
            <a:endParaRPr b="0" lang="en-US" sz="4400" spc="-1" strike="noStrike">
              <a:solidFill>
                <a:srgbClr val="000000"/>
              </a:solidFill>
              <a:latin typeface="Calibri"/>
            </a:endParaRPr>
          </a:p>
        </p:txBody>
      </p:sp>
      <p:pic>
        <p:nvPicPr>
          <p:cNvPr id="56" name="Content Placeholder 3" descr="NO3_bimonthly_ge5.png"/>
          <p:cNvPicPr/>
          <p:nvPr/>
        </p:nvPicPr>
        <p:blipFill>
          <a:blip r:embed="rId1"/>
          <a:stretch/>
        </p:blipFill>
        <p:spPr>
          <a:xfrm>
            <a:off x="1643040" y="1600200"/>
            <a:ext cx="585792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PDATA</a:t>
            </a:r>
            <a:endParaRPr b="0" lang="en-US" sz="4400" spc="-1" strike="noStrike">
              <a:solidFill>
                <a:srgbClr val="000000"/>
              </a:solidFill>
              <a:latin typeface="Calibri"/>
            </a:endParaRPr>
          </a:p>
        </p:txBody>
      </p:sp>
      <p:pic>
        <p:nvPicPr>
          <p:cNvPr id="58" name="Picture 2" descr=""/>
          <p:cNvPicPr/>
          <p:nvPr/>
        </p:nvPicPr>
        <p:blipFill>
          <a:blip r:embed="rId1"/>
          <a:stretch/>
        </p:blipFill>
        <p:spPr>
          <a:xfrm>
            <a:off x="800280" y="1600200"/>
            <a:ext cx="75438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3T19:18:26Z</dcterms:created>
  <dc:creator>John Klear</dc:creator>
  <dc:description/>
  <dc:language>en-US</dc:language>
  <cp:lastModifiedBy>jklear</cp:lastModifiedBy>
  <dcterms:modified xsi:type="dcterms:W3CDTF">2013-07-25T18:05:54Z</dcterms:modified>
  <cp:revision>24</cp:revision>
  <dc:subject/>
  <dc:title>Slide 1</dc:title>
</cp:coreProperties>
</file>