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156B-168C-4927-BF2C-BEFCCF853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GS publishes an estimated water use report every 5 years and makes these data available to the public. It estimates quantities withdrawn at the county-level for 8 different categorical uses as well as subdivisions of source water types (i.e. ground-, surface-, and/or saline water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10 Billion gallons per day withdrawn nationally, 349 Billion gallons per day were derived from Freshwater sources (according the 2005 USGS report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ose 349 Bgal/day, 43 Bgal/day (or 12.5%) were estimated to be withdrawn from within the Ohio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does not provide any indication  in regards to consumption. Investigations regarding how much of the total freshwater-use that is CONSUMED will occur in the nea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FD64-0CAF-4D71-9A50-6154EFA30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7E6-3D03-413B-83F3-D0CB798B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1C3-2F91-4A5A-BA85-DFAFD625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79A-EBDE-460B-90C8-263E6900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454-0255-4285-A59E-1A3ADF42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1C4E-0F17-47DD-9409-6573D25E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5A0E-801A-4597-83FE-AC151F9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84B-BA2E-4927-B1B7-F467C68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C50-6684-490F-A270-3822917E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EDB-2860-4DED-84F9-30929340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532F-5011-47B1-914D-BB883302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21D4-9B60-455A-9EB9-7BDB396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960-4C80-435C-97D7-9A81051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7ECE-E971-4B5E-8F92-F3BF7D8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5F52-DEB9-49D9-932F-451FED15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035-A58D-437D-8DDD-EFBA473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EEC5-3D11-4262-9884-A43E3D05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ECD9-6D57-4AD7-9FED-AABE2F98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CC4E5-FDCC-44E0-AEA5-93CCEB47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02982-1770-4BFC-A28E-438A4822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07ADA-B7AD-4C33-B053-B5896F6B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4461E-1D1A-4168-A208-A7465F01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9E48D-22EC-457C-ADF5-9E2748B6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A0F-1F16-47DA-8F38-3AB26E9A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74894-E892-4972-ACD2-144BA361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2EF98-678F-4935-8C1E-0FA0AC9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CEEDD-AFB1-466A-979B-B09CDDF8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8D839-B642-4381-82B0-EAF8511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EDE53-01CD-4CEF-8EA5-BE955A45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4B28-4FE9-451D-98E2-B00138AE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17928-1541-4A66-93C0-4427C9EC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4F614-7580-48DC-BB89-9BF7531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20618-52D5-41E4-85E4-1154F6D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31F8F-D3D5-454A-AD15-10CCBD81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619-1DDC-4F94-8888-8C2BD3E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E1457-DD22-47C3-BF77-6FF0E258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7F6A5-9483-4C37-9BD2-6A1A63BD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1958B-C2E9-4ECC-B7C5-F232B08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902C1-518A-4E88-BE5D-DF5AD85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3F644-583B-4E44-8405-AF17DF3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254E1-BB7F-45F4-A519-6823AB7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FCB19-E9FF-43E8-803C-22D8B3C7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734E5-1CA4-42EC-A0D8-2990428A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3D788-82E0-4455-AE2A-94D256D7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642F4-4E9E-45F5-B418-29542CFD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1F-346C-499D-B237-D2CB283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36024-454C-4B01-987A-BEAB4493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5DCAD-A289-4E3E-9579-51220CE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68614-10C4-4A78-8838-587278F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6A7EE-DB25-4551-A812-236B3E3A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E15E5-F703-4CE7-A132-E32813F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FB935A-BB01-464D-9102-B011A96C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1CBC7-777C-4945-A59C-9BD2851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3FF41-8A4F-4210-A257-D1EFAEF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02A10-CF16-4890-BD0A-421A1355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3A278-967E-4A11-9396-BE1EF92D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94A-6540-4E08-B2C4-47079A11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1885B-CCD4-4EB3-8B0C-1B11B37F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F419-AFEC-44AE-889A-53EFE077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81EBC-7DEC-40AC-933D-858095D0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89CE2-74D3-4712-BA3C-D4954179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98A6-7020-4C12-88CB-71C592B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8666B-4BFA-462E-9D47-9287C77C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C9F7-DA9D-4DC3-876C-C86A11A0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C6D31-11A2-4746-9E49-1FBA553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B0453-9432-4537-9592-892A0A39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BD82-9142-43E9-9FEA-023BC50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4BC-0EF2-4FBF-86C1-2C7AFD0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70D6D-27A6-4033-B160-95921DF7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9B76-2488-40CD-921C-9C4FBD9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A979-1874-4C87-9159-0A74ED2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95CAC-1987-4D16-8143-5EFEED6E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3799D-E06C-410C-8E69-EE3A709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9322A-A8C7-48E4-9744-C114E30F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FADCB-ABA1-48F3-9931-1114DFEE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24F19-DD11-4DC9-A55F-99DEC2B1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B15C3-0E59-48BB-BA86-7CAC851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93AD3-3DE4-4DA6-BD8D-C72E060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8E6-985F-4E5D-8737-AB81B3D9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C91B7-F350-4BDE-BFCC-5EBF972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2D996-FA54-4883-A77A-8F0F8FC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52A20-90B4-4855-B346-D5F8C285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775D9-FA14-4D1A-B21A-C8D82ED6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38735-4E83-4D29-A5E2-95FC7888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FAD2A-BA60-4423-8C76-6B180312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5651E-E04F-47E1-B05B-1D48A60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AB67-9673-4C3F-8B29-FDD2F423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3F1E-83B2-47B2-B3FD-E97D97A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67DC5-1B92-431C-A64E-96DE724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A49-22B9-42BE-A45A-C1951B6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716E0-9B7C-4E03-988D-CA26A0BB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1097-5126-4A6B-A5F1-74D82976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AB0EF-B1CC-4968-93A4-7E2DF3E8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3F4F0-1BEA-4BFF-8AA8-4CF4F741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7FC7-C649-4C2B-84BA-A4685758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C59C5-0042-4283-91DA-7C518875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0F959-0390-49BA-B55C-26E91FAA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130-8168-4CB7-9270-10E45CECE5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F5E-D477-4C81-920C-4E3BAE357387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A8D8-7657-4DE1-A9A9-051FC753EDC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A79-F4EE-464C-BE24-507D850C2B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445-FA3B-4166-B43A-9015CC3BB1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881-C9B9-470B-9B87-A7D2D19ADAC4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27CF-068C-4564-A9C2-74EDCB21FF0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ED45-5091-4466-A32D-BD0414F6EF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WATER RESOURCES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RSANCO Technical Committe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October 9-10, 2012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imelin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Project Period – Three Yea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aracterization studies would be front load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pleted in first 18 month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itional time period allows for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ilding states’ support and implementing recommended strateg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ing and establishing sustainable funding mechanism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oundation Suppor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Budget - $400,00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nding Gap –  $85,00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523880" y="2286000"/>
          <a:ext cx="6096240" cy="33368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urrent Foundation Funding Commit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$30,0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i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ll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$30,0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ned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ulli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7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6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4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31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*Contingent on securing full funding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Governors’ MOU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knowledges the Ohio River Basin as a vital, shared water resourc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rves as States’ endorsement of a Commission role in water resources manag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courages the Commission to engage in five specific activities previously performed by the Ohio River Basin Water Resources Associ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Governors’ MOU (continued)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826560" indent="-48348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vide a forum for States to study and discuss water resources issu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26560" indent="-48348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ordinate water resources planning and encourage coordinated and cooperative action by state and federal agenc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26560" indent="-48348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vide representation of the regional interests of the Ohio River Basin before Congress and federal agenc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26560" indent="-48348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vestigate, study, and review water related problems and issues of interest to the Stat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826560" indent="-48348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ssist in providing training on effective water resources manage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Next Step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inue to pursue foundation suppo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ile data for characterization repor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isit state and federal agenc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vance MOU to Governors’ for signat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pport for MOU expressed by IN, WV, OH, KY, PA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xt WRC meeting scheduled for November 2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ommittee Discussio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Water Resources Initiative Outline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aracterization Stud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99920" indent="-49356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ater resources  inventory and characteriz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99920" indent="-49356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amination of laws and regul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99920" indent="-493560">
              <a:spcBef>
                <a:spcPts val="550"/>
              </a:spcBef>
              <a:buClr>
                <a:srgbClr val="4f81bd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valuation of expanded Commission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799920" indent="-493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ency Visits to Build Suppo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port of Water Resources Committee Oper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haracterization Study #1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509040" indent="-5090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ater Resources  Inventory and Characteriz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eneral characterization of the water resour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Quantify uses of water resour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ventory of water resources monitor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gaps in assessment capabil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aracterize major factors which may significantly impact the sustainable use of water resources in the Bas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09040" indent="-50904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mate change, natural gas extraction, inter-basin transfers, and increased consumptive uses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\\Hulkstor\tech\Projects\Water Resources Initiative\Maps and Tables\2005 USGS Total FW Use.jpg"/>
          <p:cNvPicPr/>
          <p:nvPr/>
        </p:nvPicPr>
        <p:blipFill>
          <a:blip r:embed="rId1"/>
          <a:stretch/>
        </p:blipFill>
        <p:spPr>
          <a:xfrm>
            <a:off x="0" y="1066680"/>
            <a:ext cx="7467480" cy="5770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2005 Estimated Freshwater-Use in Ohio River Basi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43,817 Mgal/da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12.5% of National FW Average (349,418 Mgal/da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65" name="TextBox 6"/>
          <p:cNvGrpSpPr/>
          <p:nvPr/>
        </p:nvGrpSpPr>
        <p:grpSpPr>
          <a:xfrm>
            <a:off x="7338960" y="2004840"/>
            <a:ext cx="1817640" cy="3027240"/>
            <a:chOff x="7338960" y="2004840"/>
            <a:chExt cx="1817640" cy="3027240"/>
          </a:xfrm>
        </p:grpSpPr>
        <p:pic>
          <p:nvPicPr>
            <p:cNvPr id="366" name="TextBox 6" descr=""/>
            <p:cNvPicPr/>
            <p:nvPr/>
          </p:nvPicPr>
          <p:blipFill>
            <a:blip r:embed="rId2"/>
            <a:stretch/>
          </p:blipFill>
          <p:spPr>
            <a:xfrm>
              <a:off x="7338960" y="2004840"/>
              <a:ext cx="18176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353360" y="2017800"/>
              <a:ext cx="17906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w Cen MT"/>
                </a:rPr>
                <a:t>8 Categorical Uses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Public Supply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Domestic Supply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Industrial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Irrigation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Livestock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Aquaculture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Mining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w Cen MT"/>
                </a:rPr>
                <a:t>Thermoelectric</a:t>
              </a:r>
              <a:endParaRPr b="0" lang="en-US" sz="16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393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76212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w Cen MT"/>
              </a:rPr>
              <a:t>2005 Freshwater-Use in ORB by Category</a:t>
            </a:r>
            <a:endParaRPr b="0" lang="en-US" sz="30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369" name="Content Placeholder 6" descr=""/>
          <p:cNvPicPr/>
          <p:nvPr/>
        </p:nvPicPr>
        <p:blipFill>
          <a:blip r:embed="rId1"/>
          <a:stretch/>
        </p:blipFill>
        <p:spPr>
          <a:xfrm>
            <a:off x="268200" y="1335240"/>
            <a:ext cx="8742600" cy="52783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7"/>
          <p:cNvSpPr/>
          <p:nvPr/>
        </p:nvSpPr>
        <p:spPr>
          <a:xfrm>
            <a:off x="5867280" y="59436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Total = 43,817 Mgal/da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6705720" y="65152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Data Source: USGS 2005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haracterization Study #2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306000" indent="-3060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xamination of Laws and Regul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ventory existing state and federal regulation of water resources in the Bas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potential gaps in existing authorities necessary to address critic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luding inter-basin transfers, water withdrawals, and environmental flow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93560" indent="-49356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valuate unique water management issues in the Ohio River Basin, including the headwaters reg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dentify appropriate mechanisms to address nee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haracterization Study #3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 of Commission’s Role in Water Resourc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e desired Commission role in water resources mana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any expanded authorities necessary to fulfill the desired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c0504d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ommend strategy to achieve necessary authorities and propose sustainable funding mechan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Agency Visits to Build Support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imarily a travel budget to support visits to state offices and other interested part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isits will serve to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ep states apprised of the Commission’s activ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ild support through demonstration of benefits to the states of an expanded Commission role in water resources mana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vance Governors’ MO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ather information for characterization reports and other water resources activ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w Cen MT"/>
              </a:rPr>
              <a:t>Water Resources Committee Operations</a:t>
            </a:r>
            <a:endParaRPr b="0" lang="en-US" sz="36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mittee must be financially self-suppor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ports Committee operations during transition stage while more sustainable funding mechanisms are identifi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s for three meetings to be held each ye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 be held in conjunction with regularly scheduled Commission meetings or stand-alone meeting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9:41:30Z</dcterms:created>
  <dc:creator>sam</dc:creator>
  <dc:description/>
  <dc:language>en-US</dc:language>
  <cp:lastModifiedBy>jklear</cp:lastModifiedBy>
  <dcterms:modified xsi:type="dcterms:W3CDTF">2013-07-25T18:11:28Z</dcterms:modified>
  <cp:revision>68</cp:revision>
  <dc:subject/>
  <dc:title>Building ORSANCO’s Capacity to Engage in Water Resources Management</dc:title>
</cp:coreProperties>
</file>