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C4177B2-E350-48C7-A1B9-9EE518D29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7B921A0-D9ED-45E3-933F-602EA4145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1680" y="4403520"/>
            <a:ext cx="513396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F2CF485-7210-459A-9093-9FF7E4A13F2E}" type="slidenum">
              <a:rPr b="0" lang="en-US" sz="13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D230BD2-7800-4123-80FF-CBCE777AA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etails to the pilot program.  All these details are described in the Trading Plan, which will be the document signed by the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F36A336-6D26-471D-AAFD-015DC4D73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371600"/>
            <a:ext cx="84139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49560"/>
            <a:ext cx="84139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371600"/>
            <a:ext cx="4105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371600"/>
            <a:ext cx="4105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49560"/>
            <a:ext cx="4105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949560"/>
            <a:ext cx="4105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371600"/>
            <a:ext cx="27090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9760" y="1371600"/>
            <a:ext cx="27090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4840" y="1371600"/>
            <a:ext cx="27090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49560"/>
            <a:ext cx="27090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9760" y="3949560"/>
            <a:ext cx="27090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4840" y="3949560"/>
            <a:ext cx="27090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5040" y="1371600"/>
            <a:ext cx="841392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5040" y="1371600"/>
            <a:ext cx="841392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5040" y="1371600"/>
            <a:ext cx="41058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1600"/>
            <a:ext cx="41058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5040" y="182520"/>
            <a:ext cx="8413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040" y="1371600"/>
            <a:ext cx="4105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1600"/>
            <a:ext cx="41058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5040" y="3949560"/>
            <a:ext cx="4105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371600"/>
            <a:ext cx="841392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5040" y="1371600"/>
            <a:ext cx="41058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1600"/>
            <a:ext cx="4105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949560"/>
            <a:ext cx="4105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5040" y="1371600"/>
            <a:ext cx="4105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1600"/>
            <a:ext cx="4105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5040" y="3949560"/>
            <a:ext cx="84139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5040" y="1371600"/>
            <a:ext cx="84139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5040" y="3949560"/>
            <a:ext cx="84139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5040" y="1371600"/>
            <a:ext cx="4105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1600"/>
            <a:ext cx="4105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5040" y="3949560"/>
            <a:ext cx="4105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949560"/>
            <a:ext cx="4105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040" y="1371600"/>
            <a:ext cx="27090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09760" y="1371600"/>
            <a:ext cx="27090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4840" y="1371600"/>
            <a:ext cx="27090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5040" y="3949560"/>
            <a:ext cx="27090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09760" y="3949560"/>
            <a:ext cx="27090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4840" y="3949560"/>
            <a:ext cx="27090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371600"/>
            <a:ext cx="841392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371600"/>
            <a:ext cx="41058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371600"/>
            <a:ext cx="41058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182520"/>
            <a:ext cx="8413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371600"/>
            <a:ext cx="4105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371600"/>
            <a:ext cx="41058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49560"/>
            <a:ext cx="4105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371600"/>
            <a:ext cx="41058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371600"/>
            <a:ext cx="4105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949560"/>
            <a:ext cx="4105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371600"/>
            <a:ext cx="4105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371600"/>
            <a:ext cx="4105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49560"/>
            <a:ext cx="841392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" cy="109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9240" indent="-2192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6"/>
          <p:cNvSpPr/>
          <p:nvPr/>
        </p:nvSpPr>
        <p:spPr>
          <a:xfrm>
            <a:off x="4267080" y="6594480"/>
            <a:ext cx="60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90C8-B0F1-458C-AEF5-57D92650E0CB}" type="slidenum">
              <a:rPr b="0" lang="en-US" sz="10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65040" y="1371600"/>
            <a:ext cx="841392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28600">
              <a:spcAft>
                <a:spcPts val="601"/>
              </a:spcAft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-16668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97000" indent="-223920">
              <a:spcAft>
                <a:spcPts val="601"/>
              </a:spcAft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17460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174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174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47"/>
          <p:cNvSpPr/>
          <p:nvPr/>
        </p:nvSpPr>
        <p:spPr>
          <a:xfrm>
            <a:off x="232560" y="6613560"/>
            <a:ext cx="2730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Arial"/>
                <a:ea typeface="Arial"/>
              </a:rPr>
              <a:t>© 2012 Electric Power Research Institute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1" descr="EPRI logo_RGB_2@300"/>
          <p:cNvPicPr/>
          <p:nvPr/>
        </p:nvPicPr>
        <p:blipFill>
          <a:blip r:embed="rId2"/>
          <a:stretch/>
        </p:blipFill>
        <p:spPr>
          <a:xfrm>
            <a:off x="7018200" y="6446880"/>
            <a:ext cx="182880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2012 PowerPoint title banner_v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0" y="5343480"/>
            <a:ext cx="9144000" cy="151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9240" indent="-2192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2" descr="EPRI logo_RGB_4"/>
          <p:cNvPicPr/>
          <p:nvPr/>
        </p:nvPicPr>
        <p:blipFill>
          <a:blip r:embed="rId3"/>
          <a:stretch/>
        </p:blipFill>
        <p:spPr>
          <a:xfrm>
            <a:off x="2998800" y="1630440"/>
            <a:ext cx="3146400" cy="511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65040" y="1371600"/>
            <a:ext cx="841392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28600">
              <a:spcAft>
                <a:spcPts val="601"/>
              </a:spcAft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8480" indent="-16668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97000" indent="-223920">
              <a:spcAft>
                <a:spcPts val="601"/>
              </a:spcAft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17460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174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174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65040" y="4022640"/>
            <a:ext cx="8413920" cy="20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 Item 13b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65040" y="2468160"/>
            <a:ext cx="841392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Update: Ohio River Basin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ater Quality Trading Project</a:t>
            </a:r>
            <a:br>
              <a:rPr sz="2800"/>
            </a:b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hio River Trading Project Website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epri.com/ohiorivertrading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0" y="1576440"/>
            <a:ext cx="88279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 Trading Plan is Signed!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5040" y="1371600"/>
            <a:ext cx="84139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ust 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2012 in Cincinnati 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1633680" y="5753160"/>
            <a:ext cx="68245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000" tIns="0" bIns="33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une 22: A nutrient pollution article in The Economist mentions EPRI's Water Quality Trading Progra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New York Times"/>
          <p:cNvPicPr/>
          <p:nvPr/>
        </p:nvPicPr>
        <p:blipFill>
          <a:blip r:embed="rId1"/>
          <a:stretch/>
        </p:blipFill>
        <p:spPr>
          <a:xfrm>
            <a:off x="523800" y="5764320"/>
            <a:ext cx="1082880" cy="390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IMG_2725.jpg"/>
          <p:cNvPicPr/>
          <p:nvPr/>
        </p:nvPicPr>
        <p:blipFill>
          <a:blip r:embed="rId2"/>
          <a:stretch/>
        </p:blipFill>
        <p:spPr>
          <a:xfrm>
            <a:off x="0" y="1987560"/>
            <a:ext cx="9144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n the Ohio River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8" name="Content Placeholder 3" descr="IMG_2734.jpg"/>
          <p:cNvPicPr/>
          <p:nvPr/>
        </p:nvPicPr>
        <p:blipFill>
          <a:blip r:embed="rId1"/>
          <a:stretch/>
        </p:blipFill>
        <p:spPr>
          <a:xfrm>
            <a:off x="746280" y="1211400"/>
            <a:ext cx="6559560" cy="524808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4776840" y="985680"/>
            <a:ext cx="4251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ter Tennant, ORSAN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ris Sherman, Undersecretary, US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ssica Fox, EP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 Perciasepe, Deputy Administrator, E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newspapers"/>
          <p:cNvPicPr/>
          <p:nvPr/>
        </p:nvPicPr>
        <p:blipFill>
          <a:blip r:embed="rId1"/>
          <a:srcRect l="0" t="14462" r="0" b="15251"/>
          <a:stretch/>
        </p:blipFill>
        <p:spPr>
          <a:xfrm>
            <a:off x="5637240" y="885960"/>
            <a:ext cx="3506760" cy="2028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ater Quality Trading Signing Ceremony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4120" y="1177920"/>
            <a:ext cx="565488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Media Advisory and Press Release Coordinated with State and Federal Offices and Agricultur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2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sive Coverage in Daily Newspapers and National Energy and Agricultural Trade Pub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Greenwire_logo_lg"/>
          <p:cNvPicPr/>
          <p:nvPr/>
        </p:nvPicPr>
        <p:blipFill>
          <a:blip r:embed="rId2"/>
          <a:stretch/>
        </p:blipFill>
        <p:spPr>
          <a:xfrm>
            <a:off x="217440" y="3513240"/>
            <a:ext cx="2887560" cy="60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Environmental Finance"/>
          <p:cNvPicPr/>
          <p:nvPr/>
        </p:nvPicPr>
        <p:blipFill>
          <a:blip r:embed="rId3"/>
          <a:stretch/>
        </p:blipFill>
        <p:spPr>
          <a:xfrm>
            <a:off x="3424320" y="3762360"/>
            <a:ext cx="2523960" cy="666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://agriculturetoday.brownfieldagnews.com/wp-content/uploads/2011/04/agtoday-thesis.gif"/>
          <p:cNvPicPr/>
          <p:nvPr/>
        </p:nvPicPr>
        <p:blipFill>
          <a:blip r:embed="rId4"/>
          <a:stretch/>
        </p:blipFill>
        <p:spPr>
          <a:xfrm>
            <a:off x="1297080" y="5961240"/>
            <a:ext cx="4325760" cy="65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5"/>
          <a:stretch/>
        </p:blipFill>
        <p:spPr>
          <a:xfrm>
            <a:off x="6429240" y="3795840"/>
            <a:ext cx="2586240" cy="709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Inside INdiana Business"/>
          <p:cNvPicPr/>
          <p:nvPr/>
        </p:nvPicPr>
        <p:blipFill>
          <a:blip r:embed="rId6"/>
          <a:stretch/>
        </p:blipFill>
        <p:spPr>
          <a:xfrm>
            <a:off x="5754600" y="5497560"/>
            <a:ext cx="2833920" cy="646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7"/>
          <a:stretch/>
        </p:blipFill>
        <p:spPr>
          <a:xfrm>
            <a:off x="181080" y="4500720"/>
            <a:ext cx="3819600" cy="633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8"/>
          <a:stretch/>
        </p:blipFill>
        <p:spPr>
          <a:xfrm>
            <a:off x="419040" y="5300640"/>
            <a:ext cx="2514600" cy="390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"/>
          <p:cNvPicPr/>
          <p:nvPr/>
        </p:nvPicPr>
        <p:blipFill>
          <a:blip r:embed="rId9"/>
          <a:stretch/>
        </p:blipFill>
        <p:spPr>
          <a:xfrm>
            <a:off x="4371840" y="3233880"/>
            <a:ext cx="4146840" cy="474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inepa.com"/>
          <p:cNvPicPr/>
          <p:nvPr/>
        </p:nvPicPr>
        <p:blipFill>
          <a:blip r:embed="rId10"/>
          <a:stretch/>
        </p:blipFill>
        <p:spPr>
          <a:xfrm>
            <a:off x="4524480" y="4657680"/>
            <a:ext cx="2660400" cy="665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AgProfessional.com"/>
          <p:cNvPicPr/>
          <p:nvPr/>
        </p:nvPicPr>
        <p:blipFill>
          <a:blip r:embed="rId11"/>
          <a:stretch/>
        </p:blipFill>
        <p:spPr>
          <a:xfrm>
            <a:off x="3152880" y="5349960"/>
            <a:ext cx="216540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963720" y="1387440"/>
            <a:ext cx="6799320" cy="52545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5862600" y="1666800"/>
            <a:ext cx="685800" cy="129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Straight Arrow Connector 6"/>
          <p:cNvCxnSpPr>
            <a:stCxn id="114" idx="3"/>
          </p:cNvCxnSpPr>
          <p:nvPr/>
        </p:nvCxnSpPr>
        <p:spPr>
          <a:xfrm flipV="1">
            <a:off x="6548040" y="1763280"/>
            <a:ext cx="1809000" cy="551520"/>
          </a:xfrm>
          <a:prstGeom prst="straightConnector1">
            <a:avLst/>
          </a:prstGeom>
          <a:ln w="25560">
            <a:solidFill>
              <a:srgbClr val="006599"/>
            </a:solidFill>
            <a:miter/>
            <a:headEnd len="med" type="triangle" w="med"/>
          </a:ln>
        </p:spPr>
      </p:cxnSp>
      <p:sp>
        <p:nvSpPr>
          <p:cNvPr id="116" name="TextBox 7"/>
          <p:cNvSpPr/>
          <p:nvPr/>
        </p:nvSpPr>
        <p:spPr>
          <a:xfrm>
            <a:off x="7922520" y="137808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Oh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4883040" y="3398760"/>
            <a:ext cx="1143000" cy="727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9"/>
          <p:cNvCxnSpPr>
            <a:endCxn id="119" idx="0"/>
          </p:cNvCxnSpPr>
          <p:nvPr/>
        </p:nvCxnSpPr>
        <p:spPr>
          <a:xfrm>
            <a:off x="5454720" y="4125600"/>
            <a:ext cx="1459440" cy="1981800"/>
          </a:xfrm>
          <a:prstGeom prst="straightConnector1">
            <a:avLst/>
          </a:prstGeom>
          <a:ln w="25560">
            <a:solidFill>
              <a:srgbClr val="006599"/>
            </a:solidFill>
            <a:miter/>
            <a:headEnd len="med" type="triangle" w="med"/>
          </a:ln>
        </p:spPr>
      </p:cxnSp>
      <p:sp>
        <p:nvSpPr>
          <p:cNvPr id="119" name="TextBox 12"/>
          <p:cNvSpPr/>
          <p:nvPr/>
        </p:nvSpPr>
        <p:spPr>
          <a:xfrm>
            <a:off x="5999400" y="6107040"/>
            <a:ext cx="18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Musking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3476880" y="612144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 Oh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1606680" y="3897360"/>
            <a:ext cx="2590560" cy="143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Straight Arrow Connector 15"/>
          <p:cNvCxnSpPr>
            <a:endCxn id="120" idx="0"/>
          </p:cNvCxnSpPr>
          <p:nvPr/>
        </p:nvCxnSpPr>
        <p:spPr>
          <a:xfrm>
            <a:off x="2901600" y="5333760"/>
            <a:ext cx="1207080" cy="788040"/>
          </a:xfrm>
          <a:prstGeom prst="straightConnector1">
            <a:avLst/>
          </a:prstGeom>
          <a:ln w="25560">
            <a:solidFill>
              <a:srgbClr val="006599"/>
            </a:solidFill>
            <a:miter/>
            <a:headEnd len="med" type="triangle" w="med"/>
          </a:ln>
        </p:spPr>
      </p:cxnSp>
      <p:sp>
        <p:nvSpPr>
          <p:cNvPr id="123" name="Rectangle 16"/>
          <p:cNvSpPr/>
          <p:nvPr/>
        </p:nvSpPr>
        <p:spPr>
          <a:xfrm>
            <a:off x="1844640" y="2962440"/>
            <a:ext cx="593640" cy="572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17"/>
          <p:cNvCxnSpPr>
            <a:stCxn id="123" idx="1"/>
            <a:endCxn id="125" idx="2"/>
          </p:cNvCxnSpPr>
          <p:nvPr/>
        </p:nvCxnSpPr>
        <p:spPr>
          <a:xfrm flipH="1" flipV="1">
            <a:off x="389880" y="2393280"/>
            <a:ext cx="1454760" cy="856440"/>
          </a:xfrm>
          <a:prstGeom prst="straightConnector1">
            <a:avLst/>
          </a:prstGeom>
          <a:ln w="25560">
            <a:solidFill>
              <a:srgbClr val="006599"/>
            </a:solidFill>
            <a:miter/>
            <a:headEnd len="med" type="triangle" w="med"/>
          </a:ln>
        </p:spPr>
      </p:cxnSp>
      <p:sp>
        <p:nvSpPr>
          <p:cNvPr id="125" name="TextBox 18"/>
          <p:cNvSpPr/>
          <p:nvPr/>
        </p:nvSpPr>
        <p:spPr>
          <a:xfrm>
            <a:off x="29520" y="1747800"/>
            <a:ext cx="7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176040"/>
            <a:ext cx="8229600" cy="8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ilot Trade Location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Details of Pilot Progra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65040" y="1371600"/>
            <a:ext cx="84139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 of Pilot T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Credi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she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icultural Bas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rve/Insurance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entives for Early Bu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4552920" y="1274760"/>
            <a:ext cx="40482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PRI Gets $1,000,000 For Registry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65040" y="1371600"/>
            <a:ext cx="84139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redit Registry for the Ohio Basin WQT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this project is to deploy an innovative, secure and proven market infrastructure for pilot testing in the Ohio River Basin WQT Progra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M of 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ing with $1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28600">
              <a:spcAft>
                <a:spcPts val="601"/>
              </a:spcAft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io Environmental Protection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28600">
              <a:spcAft>
                <a:spcPts val="601"/>
              </a:spcAft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Department of Environmental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28600">
              <a:spcAft>
                <a:spcPts val="601"/>
              </a:spcAft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tucky Dept. of Environmental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28600">
              <a:spcAft>
                <a:spcPts val="601"/>
              </a:spcAft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io River Valley Water Sanitation Commission (ORSAN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28600">
              <a:spcAft>
                <a:spcPts val="601"/>
              </a:spcAft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Farmland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28600">
              <a:spcAft>
                <a:spcPts val="601"/>
              </a:spcAft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nton &amp; Willi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286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IMG_2721.jpg"/>
          <p:cNvPicPr/>
          <p:nvPr/>
        </p:nvPicPr>
        <p:blipFill>
          <a:blip r:embed="rId1"/>
          <a:stretch/>
        </p:blipFill>
        <p:spPr>
          <a:xfrm>
            <a:off x="6405480" y="3157560"/>
            <a:ext cx="233532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redit Trading Registry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4" name="Picture 2" descr="cid:image001.png@01CCDF74.239DB440"/>
          <p:cNvPicPr/>
          <p:nvPr/>
        </p:nvPicPr>
        <p:blipFill>
          <a:blip r:embed="rId1"/>
          <a:stretch/>
        </p:blipFill>
        <p:spPr>
          <a:xfrm>
            <a:off x="604800" y="1278000"/>
            <a:ext cx="818676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182520"/>
            <a:ext cx="841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Next Steps and Schedule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65040" y="1371600"/>
            <a:ext cx="84139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s with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P to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MPs on the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s Come to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 first transactions in early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Pilot period 2012-1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Aft>
                <a:spcPts val="601"/>
              </a:spcAft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15, EPRI will transition management to another pa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13:21:22Z</dcterms:created>
  <dc:creator>John Klear</dc:creator>
  <dc:description/>
  <dc:language>en-US</dc:language>
  <cp:lastModifiedBy>jklear</cp:lastModifiedBy>
  <dcterms:modified xsi:type="dcterms:W3CDTF">2013-07-25T18:09:56Z</dcterms:modified>
  <cp:revision>46</cp:revision>
  <dc:subject/>
  <dc:title>Update: Ohio River Basin  Water Quality Trading Project </dc:title>
</cp:coreProperties>
</file>