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D5F-A2DA-41F1-9F3D-888A4912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A57-1357-4093-BE9E-2500509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D6A-1C42-4742-A689-CF9F9A36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F11-367B-41E4-9BA9-1ACBFA56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CF3A-F8DF-4860-B642-E8FC994E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F7D4-CFAD-482A-952E-B1937E2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DADA-A2C0-4E1A-A946-41D64F3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82CF-DBDA-4223-8EB7-C4D7DDDC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CB01-D33C-41F6-A719-EDFF14E1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E2A-9713-46F8-A9E2-F0E11B71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DAEA-6353-4C25-BD6D-B2BEFFC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662-FA01-4F46-A1FE-0239C37B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8609-3A0C-4D27-9B84-0B0E0B1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AA87-3515-45A4-A518-C0E81C7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2F53-CE8F-4F55-8172-864DE0C6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860-D6E7-4D11-A282-41AA8514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A92F-A254-4F65-BF65-00774EE8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95F-5780-4544-9282-7F202421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436-BC36-492B-8407-A9FD2DE0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9C1-7BC0-4C0D-8022-E45ED581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3F5-F793-4AED-8835-5C07773A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9AD-E1F8-49CB-9BE1-0ECA150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A21-5187-4F77-BAD3-CB6FC242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D70-D47D-40EF-B070-AFDFC08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F56-110A-4AD8-82A3-3775D5083B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C4CE-A763-43B1-80B6-D110F192DF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lution Control Stand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Proposed 2012 PCS Revi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Draft Variance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) Consideration of PPG Variance Requ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) Potential Future Variance Reque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 Report of the PCS Committee attached to Commission Meeting agend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632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merican Burn Association – Scald Injury Educator’s Gu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 min exposure 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adult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ildren have thinner skin &amp; less surface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DE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lic safety value =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t tub temperatures should be &lt;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= prolonged exposure (15-20 mi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iscald Inc (based on Moritz &amp; Henriques 194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8 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857160" indent="-17136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 says 9 min 30 sec to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at 120.2 degr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8.4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15 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6.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20 min (25 according to original pu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3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 burn in 2 ho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ller 200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duce temp standards b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-4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grees to apply to child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7040" indent="-25704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uyer et al 199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8-113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= “too hot for activities; threshold for sensation of pain in adult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reational Use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Recreation season extended from May-Oct to Apr-O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Revisions based on USEPA’s proposed criteri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Fecal coliform criteria removed from Chapters 3 &amp; 5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) Monthly geometric mean E. coli criterion of 130/100mL revised to 90-day geometric mean criter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Single sample monthly max E. coli criterion of 240/100mL revised to not to be exceeded in more than 25% of samples in 90 day perio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mparison of Proposed Revis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00200"/>
          <a:ext cx="8229600" cy="1112760"/>
        </p:xfrm>
        <a:graphic>
          <a:graphicData uri="http://schemas.openxmlformats.org/drawingml/2006/table">
            <a:tbl>
              <a:tblPr/>
              <a:tblGrid>
                <a:gridCol w="1600200"/>
                <a:gridCol w="2133360"/>
                <a:gridCol w="2286000"/>
                <a:gridCol w="221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# Mos. Exc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Mos. Exc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ORM 46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Full Sup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ORM 47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Non-Sup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33520" y="3657600"/>
          <a:ext cx="8229600" cy="1122480"/>
        </p:xfrm>
        <a:graphic>
          <a:graphicData uri="http://schemas.openxmlformats.org/drawingml/2006/table">
            <a:tbl>
              <a:tblPr/>
              <a:tblGrid>
                <a:gridCol w="1523880"/>
                <a:gridCol w="2133720"/>
                <a:gridCol w="2361960"/>
                <a:gridCol w="22100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# Mos. Exc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Mos. Exce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ORM 46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Full Sup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ORM 47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Partial Sup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80" name="TextBox 6"/>
          <p:cNvSpPr/>
          <p:nvPr/>
        </p:nvSpPr>
        <p:spPr>
          <a:xfrm>
            <a:off x="1219320" y="1066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0-Day Geo Mean E. coli 130/100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3124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90-Day Geo Mean E. coli 130/100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380880" y="49528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aximum Criterion E. coli 240/100 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ent single sample max criterion not exceeded in &gt; 10% of all samp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ed 25% in 90 days:  Allows 3 exceedances in any 90 day perio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nium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rrent Selenium Criteria are considered outdat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es have been reluctant to delete criteria without replac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 EPA is said to be close to issuing new crite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ute aquatic life criterion of 20 ug/L removed while the chronic aquatic life criterion of 5 ug/L has been retain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sions to Variance 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Removed provision requiring concurrence from all affected states that a variance would be conside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Added a statement that ORSANCO would seek the state’s regulations that would allow the requested variance to be implemented (intended to be done prior to evaluating a variance application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ed a provision that approved variances would become part of the standard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:  This would require conducting the full standards revision proc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Variance not to exceed 5 yrs (instead of permit expiration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CS Review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 Comment Period Opened May 11, 201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al hundred postcard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al thousand emai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blic notice to newspapers basin-wi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inars held May 24, 2-4PM &amp; May 30, 6-8P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ring June 19, 2012, 4-7PM, Cincinnati Airport Holiday In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nt period closes July 20, 201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ission Action on Proposed Revisions October 11, 201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blic Comments Receiv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Dozen Comments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 comments concerned about revisions to contact recreation criteria, selenium, and variance language.  Support temperature revisions &amp; addition of April to recreation seas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hio Utility Group concerned about addition of temperature criterion for human health &amp; Commission authority to grant variances.  Support selenium revisions &amp; AL temp crite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W supports revisions to contact recre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Y Chamber supports selenium revis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PG Variance Requ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de public notification within 30-days of receipt of PPG’s reque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l information submittal and two subsequent submittals from ORSANCO’s info reques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te visit with WVDEP ma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info on ORSANCO’s websit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ndards Committee Recommending Commission Approval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f PPG Varia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uld allow mixing zone for mercur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de public notification and opened 30-day public comment peri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s of Proposed Approv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4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Variance not to exceed 5 yrs beginning Oct 16, 201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Monthly avg limit not to exceed 55 ng/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3) Commission’s criteria must be met outside mixing z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) WVDEP may establish daily max limi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) Mercury reduction plan must be fully implemen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roposed 2012 Revisions to ORSANCO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Pollution Control Stand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s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) Annual progress reports requir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) Monthly Ohio River instream &amp;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nnual fish tissu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onitoring required to demonstrate compliance with standar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8) Commission shall have sole authority to modify, renew or revoke the vari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) Variance would not limit WVDEP’s authority to impose additional or more stringent requirement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blic Com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16 comments in favor of granting variance, 89 oppos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siveness summary in agenda packag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isions based on comments to include fish tissue monitor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Variance Application &amp; Review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CS Committee is recommending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) Draft be followed for all requests until finaliz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) Draft be finalized after completing the first variance reque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) Initially no application fees but continue to monitor workl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) Generic process will apply to all variance reques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) Approved variances adopted into standard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blic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295280"/>
            <a:ext cx="8915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Public notification within 30 days of receipt of variance applic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PCS Committee evaluation &amp; recommendation to Commiss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) Commission authorization for 30-day public comment peri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) Commission consideration at next mee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) Standards adopted into standards if approv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roval Crite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) Demonstrate cannot meet standards without mixing z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) Demonstrate there are no reasonable alternativ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) Submission of an adequate Pollution Minimization Pl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) Identification of best effluent quality achiev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) Demonstration that best achievable effluent quality will meet standards outside mixing zone.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Variance Requ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ty of Ironton, OH WWTP won’t be able to meet mercury criterion without mixing z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EPA draft permit includes language that they must make request to ORSANC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have not received a requ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BIC in Indiana has talked with us but has not made a formal reque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ssues Under Consid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28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) Reorganization of standards document to enhance its usabil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erature criteria for aquatic life revis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erature criterion for human health add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nium criteria revis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 Recreation Criteria revis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nce section revis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9154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cument Reorganiz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nt of 2011 Standard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3270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y and Purpo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U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Quality Crite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ste Water Discharge Requir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52640" y="23270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xing Zone Desig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tical Metho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rability Cla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pend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nt of Proposed 2012 Standards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pter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l Provis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thority &amp; Purpo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l Condi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mi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rab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ria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te Specific Crite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pter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signated U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pter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er Quality Criteria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mmary Table of Criteria (Add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quatic Lif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uman Heal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pter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xing Zo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pter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stewater Discharge Require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76312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mperature Criteria for Aquatic Life Protec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0666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ed revisions were based on more recent scientific data on temperature endpoints for aquatic lif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Upper lethal value for Spotted Sucker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d more recent ambient temp data for the Ohio Riv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ed revisions were to change from 89 deg F to 87.8 deg F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eived Public Comment after Close of Comment Peri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per lethal value reported as &gt;89 deg F in litera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ever, 89 deg F was used in the criteria development mode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s received from Temp Workgroup were in favor of not including revised.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mmended revisions based on ambient temperature data developed by temperature work group rema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97000" y="0"/>
            <a:ext cx="85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emperature Criterion for Human Health Protectio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600" y="1793880"/>
            <a:ext cx="8610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protect human health from exposure to contact with water; to prevent bur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ximum temperature of 110 deg 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lies everywhere:  inside and outside the mixing zo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mperature workgroup recommended 116.5 deg 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20:15:52Z</dcterms:created>
  <dc:creator>peter</dc:creator>
  <dc:description/>
  <dc:language>en-US</dc:language>
  <cp:lastModifiedBy>jklear</cp:lastModifiedBy>
  <dcterms:modified xsi:type="dcterms:W3CDTF">2013-07-25T18:08:00Z</dcterms:modified>
  <cp:revision>288</cp:revision>
  <dc:subject/>
  <dc:title>ORSANCO Pollution Control Standards</dc:title>
</cp:coreProperties>
</file>