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38C-F0C0-4949-8ADD-75838280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209-C3B9-4BD2-9254-5EB3ED5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F546F-A638-4C4B-B96F-D8D3987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4C0E5-7F9E-40FC-B7CB-37E87AD0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C3E2C-8F15-4614-80D5-4D87EAC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3A288-9190-4C5E-B516-7F07BDB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499F55-6780-49EF-A293-A32C543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8DB7E-A7E5-4CF3-A749-C95D4FE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9860A-0D22-456F-96B1-23111B1D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93A9F-B95C-4AF0-8D47-20C1B961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2D8ED-3642-430E-8F98-33F4D7E4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8D2D3-0124-41E1-8B1E-0097AB84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433-1E52-4189-B41D-D055080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1CE27-CA12-408F-AD2A-C2028BF5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F5EE1-6220-4448-86B6-5296464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0FB6B-4611-4040-BBFA-631A462D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8AB79-257D-491D-8FB3-BB156A9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C11B1-A856-486B-9F8F-110519AB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8FFFE-3123-4217-81C1-24FAC09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4B909-7410-44F9-9B58-905B554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05E75-3443-44CD-B058-7DED7EF6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B2AF3-6CEF-4BDA-953E-9D32555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E7377-6C20-496C-96EA-DD204E4E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299-C654-4DA3-B84A-5D30950C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05BCC-283E-4D40-AA8C-396D1DAF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3B873-5897-4820-B315-E483B29F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7AA00-215A-4719-9197-583EEB16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12AF1-8331-49A2-89EF-A0AB494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F581C-889C-41A0-9D9E-C34888A0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0C6FB-A568-49FB-80D8-F954C4DE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B75A-40CD-4E85-91E4-0093477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6E73-1182-4106-8E28-A7409958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E7774-346C-42F9-AAC7-652D317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CFC58-9117-4423-B489-9A35B13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56B7-A31A-4E62-B77F-8EE37967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A8F92-D68D-4243-A41A-843D0D02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7D7BA-ECB8-43CC-A216-E7158B97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FDBC-39CB-44C8-8D2D-950C7B01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4A682-055A-4422-AB3B-184820B1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4E403-1DB6-4F19-B50C-51643CD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468CB-A6AC-47FB-83CF-B841AFD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80E2F-6889-4352-A0E1-34819CA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27EBD-9685-4890-A3EE-C573198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37FE5-253E-4B0F-8AAD-9A0A6DD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F289E-61ED-466C-9AC7-4414593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95D7-3FD4-479B-AE82-C6888A7A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22852-C42E-4A94-A7EF-F5098FC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4CEA7-3BFC-43FB-AF0F-50B795C2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0FC97-FDC0-4B2E-9B32-8361700B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5E5B5-D720-4325-BEA7-17B6085D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1E755-840F-4C23-894D-2DF332BD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60F-B3BD-4907-A5EB-FA0BB2BA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032E-AC17-4DD0-A408-2D1A453F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CD4B-572C-4D3A-AAF3-B2B36F1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8021-DFFF-4B74-87BB-C76F191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FD91-50E5-4A23-A4F8-9BCFFA5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97D-7CA7-40C9-9D52-A4FA79D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0119-6FF3-4974-82BA-5648F23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033-B6F2-4661-ADA5-D70874C6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FD2-0059-4F0A-B886-546F678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673E-C4AD-480F-A9A7-1088B09B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68C-F517-45E1-8848-81C936A2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FEB3-8AF5-45D8-A6CC-EE79F69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AA0E-581A-46B9-90F1-6278B58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DEBF-6F7B-4F65-8296-CE0B5D3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FE38-2408-411E-9E53-FB58987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3DE2-AE4B-44B7-BA83-79676DB2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91A-3D04-45CE-B77F-23D4494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0C40-2EB4-43D8-90EE-995C972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3B086-7683-4EB0-8A31-37098F7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A907-60A3-4A5E-9A80-B18F7D6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6211-2828-4F9F-871E-0FE6855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0296-E5A0-44D4-9F41-DEED713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6464-D183-4C9C-B72D-27CD217F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54A0E-061D-4D3E-B188-75016508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2CE0-39C1-4968-B5BC-7DE88D4D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B6C6-8FC0-4B07-A0F9-DB568B36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7F1C-4A12-4945-A9A3-FC2EA5C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527-10D9-4410-84B2-A3BC8C63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0ED1-DC73-4D6C-A05B-AB1BD71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C799-8318-466D-AFFA-07A010A0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AA83-D460-4A78-BC0A-68EDBB64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B3D4-0618-4331-BD33-5474DE1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27E0-4D40-4154-80B7-9FDC436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4F53-0560-402E-98AC-9449B66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5264-8387-4055-9816-D1CE3DDA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50A3-2C65-4E64-ADF0-32A7DAEB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0B09-3BDD-4C1B-B24A-71208200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4A8B-57BB-4EE0-BEA7-630A60A7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8D8-2FFF-4B14-9722-A0EC4E6F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A53C3-1E54-4C57-B48C-8CA40FF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7FE7-3757-44FF-98D5-27738AE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F1807-AC67-4486-8B1A-F9D60A21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8CA8-405E-4708-B578-6DE43A0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B17F-0901-4E47-B820-9044AA3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D6280-CE9B-4597-B665-48F1ADE6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CAA8-88BD-40E3-88D1-05280D1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29BB0-3447-41F8-BB6C-4521D19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E34D5-52E2-4EEF-9298-3AC4DD5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F532-40E9-4A5A-8C6B-6A7D2897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429-DA19-47C8-B670-7103A17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19078-B544-49B1-8345-FC8E2F30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96D3-529C-4205-B313-A6A47FCA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1320-3C94-4ED0-80CE-15EFD366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F2EC-4B51-45A0-80CC-85293B8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9D806-313B-4B45-9EE0-BFD2C7E7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384C-9038-4280-BA57-B56766C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1AD6-BEB0-49FC-8D72-11CAF1BA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9ABE-4B2F-4009-9DF8-A0E763C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10B3-063D-4739-85B9-9B0E5B6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4754-C7D4-42D1-9545-5F4813B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EE9-FCD7-4E32-9FB7-CD47822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BBF8C-BFEE-4468-A634-7F1AD593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A214-9026-4DE3-A34F-48D16701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121E-F7F3-4BE1-AE7C-F1C887D3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6E67-7916-4DB3-921D-BF699C4A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7E0EE-B47F-45C2-AB21-5FFE1AAC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2CFB-1200-40E6-8E11-F3D13F5E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A0CE-6F8B-448B-9C93-AB84268A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66FD-E0EB-469A-BE5A-AE75269E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5C10-B962-4E92-8D0D-5976406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18DFB-935B-403F-A4DA-7FF73D6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188-1DD5-401E-961D-2AC6F97E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8356-B9FA-41F2-AAC3-08CF8182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4980A-5B54-4FC7-810B-81D0BA6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87DFE-D483-44DA-8DDA-95D8D521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D7CA-9F86-4430-A6BF-3CBFB68D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3CD21-92CD-4E89-A43A-A4CB7B7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B17F-3F8C-4787-8AEC-C540E58F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83205-8031-4772-AC9A-41AF9DD8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1635-37BB-4157-8038-5CC1200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225EF-6CBD-499D-A626-BFA32484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42305-1CAA-4B7C-BA5E-29019C3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939-3172-4F27-A536-716F333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5AF7-703B-4CD0-8523-4ACBCAB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01ED-4FF1-494C-A9CD-1CB2BB7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2706-B668-48B3-B69F-6B846D5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C1F8-3996-44AF-A204-13D0524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48BC-436A-47AB-9A51-38CB193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C466-AF06-45FC-A6E6-14C3B89B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B23F-1331-4414-8EE8-EC377A9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C8FBA-31FB-4A60-9DE8-52D23FF8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F68BF-5C87-4C19-BD11-893F6075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C60A3-30FF-4651-A22B-B3AFF34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996-7F77-4619-A44C-1D60F919953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EEB7-7D2A-4501-B5D7-1784219C7399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602-4883-4810-9E67-48100E71AF87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B436-C60D-4A5E-89E9-14B706F6BF4C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1178-1576-485C-848B-21E3C9ED02A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1BD8-D58F-47CB-B3E6-2D5CA607FB1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EEC5-7FE8-4011-83BA-B6131810862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EFD6-AFD1-46A3-8AE7-D416E752969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15F-073D-468A-BFEB-2A3D80A59FD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E9BA-B8FB-4597-8C50-49F47099E41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C12-99E9-441F-A8AF-D3EE0C7D85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2F1-2C7D-4045-8CC6-CFA5E3D501B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TECHNICAL COMMITTEE MEE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OCTOBER 9-10, 201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f81bd"/>
                </a:solidFill>
                <a:latin typeface="Georgia"/>
              </a:rPr>
              <a:t>Characterization of Dissolved Solids in the Ohio River</a:t>
            </a:r>
            <a:endParaRPr b="0" lang="en-US" sz="3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114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hlor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447920" y="1447920"/>
          <a:ext cx="5983200" cy="4913280"/>
        </p:xfrm>
        <a:graphic>
          <a:graphicData uri="http://schemas.openxmlformats.org/drawingml/2006/table">
            <a:tbl>
              <a:tblPr/>
              <a:tblGrid>
                <a:gridCol w="1189080"/>
                <a:gridCol w="1171440"/>
                <a:gridCol w="917640"/>
                <a:gridCol w="985680"/>
                <a:gridCol w="905040"/>
                <a:gridCol w="814320"/>
              </a:tblGrid>
              <a:tr h="28548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Chloride Results 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oride Result, mg/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2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5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6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7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2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2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9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0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8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8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.8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4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7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0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54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9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4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7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6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.4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hlor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Results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335240" y="1670040"/>
          <a:ext cx="6360840" cy="4508640"/>
        </p:xfrm>
        <a:graphic>
          <a:graphicData uri="http://schemas.openxmlformats.org/drawingml/2006/table">
            <a:tbl>
              <a:tblPr/>
              <a:tblGrid>
                <a:gridCol w="1087200"/>
                <a:gridCol w="1073160"/>
                <a:gridCol w="839880"/>
                <a:gridCol w="901800"/>
                <a:gridCol w="826920"/>
                <a:gridCol w="746280"/>
                <a:gridCol w="885600"/>
              </a:tblGrid>
              <a:tr h="274680">
                <a:tc grid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Bromide Results 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mide Result, mg/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te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7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9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9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7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9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6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8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7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6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0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7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by Locatio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tretch/>
        </p:blipFill>
        <p:spPr>
          <a:xfrm>
            <a:off x="1498680" y="14860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Bromide by Dat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ulfate Results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644480" y="1596960"/>
          <a:ext cx="5747040" cy="4734000"/>
        </p:xfrm>
        <a:graphic>
          <a:graphicData uri="http://schemas.openxmlformats.org/drawingml/2006/table">
            <a:tbl>
              <a:tblPr/>
              <a:tblGrid>
                <a:gridCol w="1141560"/>
                <a:gridCol w="1127160"/>
                <a:gridCol w="879480"/>
                <a:gridCol w="947880"/>
                <a:gridCol w="868320"/>
                <a:gridCol w="782640"/>
              </a:tblGrid>
              <a:tr h="28980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Sulfate Results Summa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ate Result,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7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7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7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.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5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ulfate by Locatio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TDS OH012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TDS MU029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1371600" y="16192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TDS OH792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1193760" y="15238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udy Objectiv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racterize ambient background levels of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site-specific translators to convert conductivity to T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ntify TDS constituent makeup to document temporal and spatial variabi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data to support possible development of an Ohio River bromide stream criter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. TDS (Monongahela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Chloride (Monongahela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6" name="Picture 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Sulfate (Monongahela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Flow vs Bromide (Monongahela)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Overall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ampling Design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6765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ekly samples collected at 16 si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llection sites located at water intak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Georgia"/>
              </a:rPr>
              <a:t>Participants identified through the WUAC and PIAC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mpling began in December, 201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y will run for one ye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One Year TDS Study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4" name="Text Placeholder 3"/>
          <p:cNvSpPr/>
          <p:nvPr/>
        </p:nvSpPr>
        <p:spPr>
          <a:xfrm>
            <a:off x="533520" y="167652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Dissolved Solids Analy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2361960"/>
            <a:ext cx="2666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od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otas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gnes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alc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550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ithiu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Content Placeholder 4"/>
          <p:cNvSpPr/>
          <p:nvPr/>
        </p:nvSpPr>
        <p:spPr>
          <a:xfrm>
            <a:off x="457200" y="5105520"/>
            <a:ext cx="404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carbon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otal Dissolved Solid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ounded Rectangle 7"/>
          <p:cNvSpPr/>
          <p:nvPr/>
        </p:nvSpPr>
        <p:spPr>
          <a:xfrm>
            <a:off x="304920" y="4876920"/>
            <a:ext cx="4419360" cy="1295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Rounded Rectangle 8"/>
          <p:cNvSpPr/>
          <p:nvPr/>
        </p:nvSpPr>
        <p:spPr>
          <a:xfrm>
            <a:off x="304920" y="2133720"/>
            <a:ext cx="4419360" cy="259056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 Placeholder 5"/>
          <p:cNvSpPr/>
          <p:nvPr/>
        </p:nvSpPr>
        <p:spPr>
          <a:xfrm>
            <a:off x="5029200" y="1679400"/>
            <a:ext cx="39625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upplemental Paramet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025960" y="2403000"/>
            <a:ext cx="396576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ream flow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ordinate THM sampling when possib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Rounded Rectangle 11"/>
          <p:cNvSpPr/>
          <p:nvPr/>
        </p:nvSpPr>
        <p:spPr>
          <a:xfrm>
            <a:off x="4876920" y="2133720"/>
            <a:ext cx="3962160" cy="2971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Content Placeholder 4"/>
          <p:cNvSpPr/>
          <p:nvPr/>
        </p:nvSpPr>
        <p:spPr>
          <a:xfrm>
            <a:off x="2743200" y="2438280"/>
            <a:ext cx="228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l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ulf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om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550"/>
              </a:spcBef>
              <a:buClr>
                <a:srgbClr val="4f81bd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luorid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-50760" y="152280"/>
          <a:ext cx="9194760" cy="7010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52280"/>
                    <a:ext cx="919476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TDS Results Summar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486080" y="1523880"/>
          <a:ext cx="6210000" cy="4875480"/>
        </p:xfrm>
        <a:graphic>
          <a:graphicData uri="http://schemas.openxmlformats.org/drawingml/2006/table">
            <a:tbl>
              <a:tblPr/>
              <a:tblGrid>
                <a:gridCol w="1230120"/>
                <a:gridCol w="995400"/>
                <a:gridCol w="1311120"/>
                <a:gridCol w="1138320"/>
                <a:gridCol w="768240"/>
                <a:gridCol w="766800"/>
              </a:tblGrid>
              <a:tr h="51876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SANCO Total Dissolved Solids Results Summ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011 thru mid-August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 Result, mg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ghe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onga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kin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n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1346040" y="1523880"/>
            <a:ext cx="6426360" cy="481968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TDS by Location </a:t>
            </a:r>
            <a:br>
              <a:rPr sz="3000"/>
            </a:br>
            <a:r>
              <a:rPr b="0" lang="en-US" sz="3000" spc="-1" strike="noStrike">
                <a:solidFill>
                  <a:srgbClr val="88a44d"/>
                </a:solidFill>
                <a:latin typeface="Georgia"/>
              </a:rPr>
              <a:t>Ohio River Sites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1371600" y="1467000"/>
            <a:ext cx="6477120" cy="4857480"/>
          </a:xfrm>
          <a:prstGeom prst="rect">
            <a:avLst/>
          </a:prstGeom>
          <a:ln w="0">
            <a:noFill/>
          </a:ln>
        </p:spPr>
      </p:pic>
      <p:sp>
        <p:nvSpPr>
          <p:cNvPr id="631" name="Straight Connector 3"/>
          <p:cNvSpPr/>
          <p:nvPr/>
        </p:nvSpPr>
        <p:spPr>
          <a:xfrm>
            <a:off x="1981080" y="2590920"/>
            <a:ext cx="4953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TextBox 4"/>
          <p:cNvSpPr/>
          <p:nvPr/>
        </p:nvSpPr>
        <p:spPr>
          <a:xfrm>
            <a:off x="7086600" y="2233440"/>
            <a:ext cx="133992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DS Standard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500 mg/L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Oval 5"/>
          <p:cNvSpPr/>
          <p:nvPr/>
        </p:nvSpPr>
        <p:spPr>
          <a:xfrm>
            <a:off x="2057400" y="4038480"/>
            <a:ext cx="152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Oval 6"/>
          <p:cNvSpPr/>
          <p:nvPr/>
        </p:nvSpPr>
        <p:spPr>
          <a:xfrm>
            <a:off x="2286000" y="3276720"/>
            <a:ext cx="304920" cy="17524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2971800" y="3352680"/>
            <a:ext cx="22860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5334120" y="2209680"/>
            <a:ext cx="380880" cy="26672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Oval 9"/>
          <p:cNvSpPr/>
          <p:nvPr/>
        </p:nvSpPr>
        <p:spPr>
          <a:xfrm>
            <a:off x="4114800" y="2362320"/>
            <a:ext cx="380880" cy="2514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itle 2"/>
          <p:cNvSpPr/>
          <p:nvPr/>
        </p:nvSpPr>
        <p:spPr>
          <a:xfrm>
            <a:off x="301680" y="3049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8a44d"/>
                </a:solidFill>
                <a:latin typeface="Georgia"/>
              </a:rPr>
              <a:t>TDS by Location </a:t>
            </a:r>
            <a:br>
              <a:rPr sz="2700"/>
            </a:br>
            <a:r>
              <a:rPr b="0" lang="en-US" sz="2700" spc="-1" strike="noStrike">
                <a:solidFill>
                  <a:srgbClr val="88a44d"/>
                </a:solidFill>
                <a:latin typeface="Georgia"/>
              </a:rPr>
              <a:t>All Sit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371600" y="156204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640" name="Straight Connector 2"/>
          <p:cNvSpPr/>
          <p:nvPr/>
        </p:nvSpPr>
        <p:spPr>
          <a:xfrm>
            <a:off x="1981080" y="2666880"/>
            <a:ext cx="5486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543800" y="2233440"/>
            <a:ext cx="133992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DS Standard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500 mg/L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Title 2"/>
          <p:cNvSpPr/>
          <p:nvPr/>
        </p:nvSpPr>
        <p:spPr>
          <a:xfrm>
            <a:off x="30168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8a44d"/>
                </a:solidFill>
                <a:latin typeface="Georgia"/>
              </a:rPr>
              <a:t>TDS by Dat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12:18Z</dcterms:created>
  <dc:creator>jwisenall</dc:creator>
  <dc:description/>
  <dc:language>en-US</dc:language>
  <cp:lastModifiedBy>jklear</cp:lastModifiedBy>
  <dcterms:modified xsi:type="dcterms:W3CDTF">2013-07-25T18:10:12Z</dcterms:modified>
  <cp:revision>159</cp:revision>
  <dc:subject/>
  <dc:title>ORSANCO  Total Dissolved Solids Project</dc:title>
</cp:coreProperties>
</file>