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39.png" ContentType="image/png"/>
  <Override PartName="/ppt/media/image37.png" ContentType="image/png"/>
  <Override PartName="/ppt/media/image48.png" ContentType="image/png"/>
  <Override PartName="/ppt/media/image11.png" ContentType="image/png"/>
  <Override PartName="/ppt/media/image47.png" ContentType="image/png"/>
  <Override PartName="/ppt/media/image17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23.png" ContentType="image/png"/>
  <Override PartName="/ppt/media/image60.png" ContentType="image/png"/>
  <Override PartName="/ppt/media/image75.png" ContentType="image/png"/>
  <Override PartName="/ppt/media/image63.png" ContentType="image/png"/>
  <Override PartName="/ppt/media/image73.png" ContentType="image/png"/>
  <Override PartName="/ppt/media/image15.png" ContentType="image/png"/>
  <Override PartName="/ppt/media/image72.wmf" ContentType="image/x-wmf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10.jpeg" ContentType="image/jpeg"/>
  <Override PartName="/ppt/media/image2.png" ContentType="image/png"/>
  <Override PartName="/ppt/media/image14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62.png" ContentType="image/png"/>
  <Override PartName="/ppt/media/image25.png" ContentType="image/pn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9.jpeg" ContentType="image/jpe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7.jpeg" ContentType="image/jpeg"/>
  <Override PartName="/ppt/media/image16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12.png" ContentType="image/png"/>
  <Override PartName="/ppt/media/image49.png" ContentType="image/png"/>
  <Override PartName="/ppt/media/image13.png" ContentType="image/png"/>
  <Override PartName="/ppt/media/image33.png" ContentType="image/png"/>
  <Override PartName="/ppt/media/image74.jpeg" ContentType="image/jpeg"/>
  <Override PartName="/ppt/media/image34.png" ContentType="image/png"/>
  <Override PartName="/ppt/media/image3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spcBef>
                <a:spcPts val="3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5406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spcBef>
                <a:spcPts val="3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6EDA-003C-45CF-97CF-8354D1A998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H program focuses the program towards outreach – continued monitoring by research partners (disseminating data); assisting volunteer groups with data management (through 3RQ database); performing targeted studies at areas of conce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89DB-0D56-44D8-AC60-6C1C634E94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0039-8A70-4FEC-9965-F88472BD8B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38EA-2940-40FE-B951-FB6CCF9497B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CFE4-023E-4EAE-B768-E36A275EB1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C984-9DCD-42E2-BC3A-084948D9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653B-AFC5-4AB4-8D22-699E7200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DBDE-B492-482F-A724-5327C48D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3EFF-9071-4426-8E2A-BCB00DFB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783C-7BBF-4FC8-BFB0-DDF8E1D4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611-7E9D-48CC-87FB-C9D74F50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185-61C8-4B97-906B-A391AD77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35F-9FD9-4D42-AAEB-9EC8A5B4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5A10-26AC-4F60-83D9-67EDEB69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7FD7-16D3-46FA-B18F-071FBD42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7D2-E7B1-44F0-A376-F5A720FA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9019-D49D-4951-A591-F92065CB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5406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2" name="Footer Placeholder 5" descr=""/>
          <p:cNvPicPr/>
          <p:nvPr/>
        </p:nvPicPr>
        <p:blipFill>
          <a:blip r:embed="rId3"/>
          <a:stretch/>
        </p:blipFill>
        <p:spPr>
          <a:xfrm>
            <a:off x="682560" y="6394320"/>
            <a:ext cx="359100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Footer Placeholder 5" descr=""/>
          <p:cNvPicPr/>
          <p:nvPr/>
        </p:nvPicPr>
        <p:blipFill>
          <a:blip r:embed="rId3"/>
          <a:stretch/>
        </p:blipFill>
        <p:spPr>
          <a:xfrm>
            <a:off x="682560" y="6394320"/>
            <a:ext cx="3591000" cy="3970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5406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Footer Placeholder 5" descr=""/>
          <p:cNvPicPr/>
          <p:nvPr/>
        </p:nvPicPr>
        <p:blipFill>
          <a:blip r:embed="rId3"/>
          <a:stretch/>
        </p:blipFill>
        <p:spPr>
          <a:xfrm>
            <a:off x="682560" y="6394320"/>
            <a:ext cx="3591000" cy="3970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5406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Footer Placeholder 5" descr=""/>
          <p:cNvPicPr/>
          <p:nvPr/>
        </p:nvPicPr>
        <p:blipFill>
          <a:blip r:embed="rId3"/>
          <a:stretch/>
        </p:blipFill>
        <p:spPr>
          <a:xfrm>
            <a:off x="682560" y="6394320"/>
            <a:ext cx="3591000" cy="397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5406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Footer Placeholder 5" descr=""/>
          <p:cNvPicPr/>
          <p:nvPr/>
        </p:nvPicPr>
        <p:blipFill>
          <a:blip r:embed="rId3"/>
          <a:stretch/>
        </p:blipFill>
        <p:spPr>
          <a:xfrm>
            <a:off x="682560" y="6394320"/>
            <a:ext cx="3591000" cy="3970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5406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6CE8-5DDE-4BC5-93AF-B33894987580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0600" y="2286000"/>
            <a:ext cx="5857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254061"/>
                </a:solidFill>
                <a:latin typeface="Arial"/>
              </a:rPr>
              <a:t>Mine Pools in the Upper Ohio Basin:  Water Quality Management Implications</a:t>
            </a:r>
            <a:endParaRPr b="0" lang="en-US" sz="29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80520" y="4268520"/>
            <a:ext cx="48675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Paul Ziemkiewicz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, Director, Water Research Institute</a:t>
            </a:r>
            <a:endParaRPr b="0" lang="en-US" sz="16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Joseph Donovan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, Hydrogeologist, Geology and Geography Department</a:t>
            </a:r>
            <a:endParaRPr b="0" lang="en-US" sz="16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West Virginia University</a:t>
            </a:r>
            <a:endParaRPr b="0" lang="en-US" sz="16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7" name="Straight Connector 6"/>
          <p:cNvSpPr/>
          <p:nvPr/>
        </p:nvSpPr>
        <p:spPr>
          <a:xfrm>
            <a:off x="533520" y="3962520"/>
            <a:ext cx="54864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rcRect l="7941" t="23084" r="0" b="0"/>
          <a:stretch/>
        </p:blipFill>
        <p:spPr>
          <a:xfrm>
            <a:off x="380880" y="533520"/>
            <a:ext cx="2667240" cy="127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9" name="Picture 2" descr="http://www.international-power.com/wp-content/uploads/2014/01/Clean-Coal.jpg"/>
          <p:cNvPicPr/>
          <p:nvPr/>
        </p:nvPicPr>
        <p:blipFill>
          <a:blip r:embed="rId2"/>
          <a:stretch/>
        </p:blipFill>
        <p:spPr>
          <a:xfrm>
            <a:off x="6705720" y="533520"/>
            <a:ext cx="2041560" cy="12715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0" name="Picture 4" descr="http://upload.wikimedia.org/wikipedia/commons/thumb/9/9f/NesjavellirPowerPlant_edit2.jpg/280px-NesjavellirPowerPlant_edit2.jpg"/>
          <p:cNvPicPr/>
          <p:nvPr/>
        </p:nvPicPr>
        <p:blipFill>
          <a:blip r:embed="rId3"/>
          <a:stretch/>
        </p:blipFill>
        <p:spPr>
          <a:xfrm>
            <a:off x="4800600" y="533520"/>
            <a:ext cx="1905120" cy="12715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1" name="Picture 6" descr="http://assets.inhabitat.com/wp-content/blogs.dir/1/files/2013/06/switchgrass-537x356.jpg"/>
          <p:cNvPicPr/>
          <p:nvPr/>
        </p:nvPicPr>
        <p:blipFill>
          <a:blip r:embed="rId4"/>
          <a:stretch/>
        </p:blipFill>
        <p:spPr>
          <a:xfrm>
            <a:off x="2895480" y="533520"/>
            <a:ext cx="1905120" cy="12636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2" name="Picture 8" descr="http://wvwri.org/wp-content/uploads/2014/01/1391018992.jpg"/>
          <p:cNvPicPr/>
          <p:nvPr/>
        </p:nvPicPr>
        <p:blipFill>
          <a:blip r:embed="rId5"/>
          <a:srcRect l="34987" t="25471" r="19570" b="10400"/>
          <a:stretch/>
        </p:blipFill>
        <p:spPr>
          <a:xfrm>
            <a:off x="6705720" y="1805040"/>
            <a:ext cx="2057400" cy="1936800"/>
          </a:xfrm>
          <a:prstGeom prst="rect">
            <a:avLst/>
          </a:prstGeom>
          <a:ln w="0">
            <a:noFill/>
          </a:ln>
        </p:spPr>
      </p:pic>
      <p:sp>
        <p:nvSpPr>
          <p:cNvPr id="213" name="Subtitle 4"/>
          <p:cNvSpPr/>
          <p:nvPr/>
        </p:nvSpPr>
        <p:spPr>
          <a:xfrm>
            <a:off x="4513320" y="4038480"/>
            <a:ext cx="43844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Subtitle 4"/>
          <p:cNvSpPr/>
          <p:nvPr/>
        </p:nvSpPr>
        <p:spPr>
          <a:xfrm>
            <a:off x="4572000" y="4572000"/>
            <a:ext cx="4384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ORSANCO Technical Committe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7 Feb 1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Picture 17" descr="WVU Logo Poster.png"/>
          <p:cNvPicPr/>
          <p:nvPr/>
        </p:nvPicPr>
        <p:blipFill>
          <a:blip r:embed="rId6"/>
          <a:stretch/>
        </p:blipFill>
        <p:spPr>
          <a:xfrm>
            <a:off x="5230800" y="4267080"/>
            <a:ext cx="38196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8688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254061"/>
                </a:solidFill>
                <a:latin typeface="Arial"/>
              </a:rPr>
              <a:t>Mixed Br/Cl THMs are favored with increasing temperature</a:t>
            </a:r>
            <a:endParaRPr b="0" lang="en-US" sz="29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273" name="Content Placeholder 6" descr=""/>
          <p:cNvPicPr/>
          <p:nvPr/>
        </p:nvPicPr>
        <p:blipFill>
          <a:blip r:embed="rId1"/>
          <a:stretch/>
        </p:blipFill>
        <p:spPr>
          <a:xfrm>
            <a:off x="28440" y="1295280"/>
            <a:ext cx="4353120" cy="2695680"/>
          </a:xfrm>
          <a:prstGeom prst="rect">
            <a:avLst/>
          </a:prstGeom>
          <a:ln w="0">
            <a:noFill/>
          </a:ln>
        </p:spPr>
      </p:pic>
      <p:pic>
        <p:nvPicPr>
          <p:cNvPr id="274" name="Content Placeholder 7" descr=""/>
          <p:cNvPicPr/>
          <p:nvPr/>
        </p:nvPicPr>
        <p:blipFill>
          <a:blip r:embed="rId2"/>
          <a:stretch/>
        </p:blipFill>
        <p:spPr>
          <a:xfrm>
            <a:off x="4610160" y="1295280"/>
            <a:ext cx="4381560" cy="27687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"/>
          <p:cNvPicPr/>
          <p:nvPr/>
        </p:nvPicPr>
        <p:blipFill>
          <a:blip r:embed="rId3"/>
          <a:stretch/>
        </p:blipFill>
        <p:spPr>
          <a:xfrm>
            <a:off x="-30240" y="4097160"/>
            <a:ext cx="4411800" cy="27608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"/>
          <p:cNvPicPr/>
          <p:nvPr/>
        </p:nvPicPr>
        <p:blipFill>
          <a:blip r:embed="rId4"/>
          <a:stretch/>
        </p:blipFill>
        <p:spPr>
          <a:xfrm>
            <a:off x="4610160" y="4097160"/>
            <a:ext cx="430524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720" y="119160"/>
            <a:ext cx="3265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Arial"/>
              </a:rPr>
              <a:t>OUR TRENDS WERE SIMILAR TO THIS UNIV. OF TENN. STUDY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4000" y="1821960"/>
            <a:ext cx="245916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54061"/>
                </a:solidFill>
                <a:latin typeface="Arial"/>
              </a:rPr>
              <a:t>Our maximum intake Bromide concentration was only 0.05 mg/L</a:t>
            </a:r>
            <a:endParaRPr b="0" lang="en-US" sz="14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54061"/>
                </a:solidFill>
                <a:latin typeface="Arial"/>
              </a:rPr>
              <a:t>Summer ranges at Brownsville are between 0.1 and 0.2 mg Br/L</a:t>
            </a:r>
            <a:endParaRPr b="0" lang="en-US" sz="14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279" name="Picture 1" descr=""/>
          <p:cNvPicPr/>
          <p:nvPr/>
        </p:nvPicPr>
        <p:blipFill>
          <a:blip r:embed="rId1"/>
          <a:stretch/>
        </p:blipFill>
        <p:spPr>
          <a:xfrm>
            <a:off x="95400" y="3762360"/>
            <a:ext cx="3367080" cy="2282760"/>
          </a:xfrm>
          <a:prstGeom prst="rect">
            <a:avLst/>
          </a:prstGeom>
          <a:ln w="0">
            <a:noFill/>
          </a:ln>
        </p:spPr>
      </p:pic>
      <p:pic>
        <p:nvPicPr>
          <p:cNvPr id="280" name="Content Placeholder 8" descr=""/>
          <p:cNvPicPr/>
          <p:nvPr/>
        </p:nvPicPr>
        <p:blipFill>
          <a:blip r:embed="rId2"/>
          <a:stretch/>
        </p:blipFill>
        <p:spPr>
          <a:xfrm>
            <a:off x="3598920" y="119160"/>
            <a:ext cx="5545080" cy="3770280"/>
          </a:xfrm>
          <a:prstGeom prst="rect">
            <a:avLst/>
          </a:prstGeom>
          <a:ln w="0">
            <a:noFill/>
          </a:ln>
        </p:spPr>
      </p:pic>
      <p:cxnSp>
        <p:nvCxnSpPr>
          <p:cNvPr id="281" name="Straight Arrow Connector 10"/>
          <p:cNvCxnSpPr/>
          <p:nvPr/>
        </p:nvCxnSpPr>
        <p:spPr>
          <a:xfrm>
            <a:off x="2127240" y="1990440"/>
            <a:ext cx="3132720" cy="14760"/>
          </a:xfrm>
          <a:prstGeom prst="straightConnector1">
            <a:avLst/>
          </a:prstGeom>
          <a:ln w="28440">
            <a:solidFill>
              <a:srgbClr val="632523"/>
            </a:solidFill>
            <a:miter/>
            <a:tailEnd len="med" type="triangle" w="med"/>
          </a:ln>
        </p:spPr>
      </p:cxnSp>
      <p:cxnSp>
        <p:nvCxnSpPr>
          <p:cNvPr id="282" name="Straight Arrow Connector 14"/>
          <p:cNvCxnSpPr/>
          <p:nvPr/>
        </p:nvCxnSpPr>
        <p:spPr>
          <a:xfrm flipV="1">
            <a:off x="2228400" y="2711160"/>
            <a:ext cx="3461400" cy="281520"/>
          </a:xfrm>
          <a:prstGeom prst="straightConnector1">
            <a:avLst/>
          </a:prstGeom>
          <a:ln w="28440">
            <a:solidFill>
              <a:srgbClr val="632523"/>
            </a:solidFill>
            <a:miter/>
            <a:tailEnd len="med" type="triangle" w="med"/>
          </a:ln>
        </p:spPr>
      </p:cxnSp>
      <p:pic>
        <p:nvPicPr>
          <p:cNvPr id="283" name="Picture 18" descr=""/>
          <p:cNvPicPr/>
          <p:nvPr/>
        </p:nvPicPr>
        <p:blipFill>
          <a:blip r:embed="rId3"/>
          <a:stretch/>
        </p:blipFill>
        <p:spPr>
          <a:xfrm>
            <a:off x="4876920" y="4181400"/>
            <a:ext cx="34146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63160" y="88560"/>
            <a:ext cx="61722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54061"/>
                </a:solidFill>
                <a:latin typeface="Arial"/>
              </a:rPr>
              <a:t>Sulfate Trends</a:t>
            </a: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285" name="Picture 6" descr=""/>
          <p:cNvPicPr/>
          <p:nvPr/>
        </p:nvPicPr>
        <p:blipFill>
          <a:blip r:embed="rId1"/>
          <a:stretch/>
        </p:blipFill>
        <p:spPr>
          <a:xfrm>
            <a:off x="2193840" y="3654360"/>
            <a:ext cx="4579920" cy="3121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"/>
          <p:cNvPicPr/>
          <p:nvPr/>
        </p:nvPicPr>
        <p:blipFill>
          <a:blip r:embed="rId2"/>
          <a:stretch/>
        </p:blipFill>
        <p:spPr>
          <a:xfrm>
            <a:off x="4629240" y="847800"/>
            <a:ext cx="4398840" cy="2806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"/>
          <p:cNvPicPr/>
          <p:nvPr/>
        </p:nvPicPr>
        <p:blipFill>
          <a:blip r:embed="rId3"/>
          <a:stretch/>
        </p:blipFill>
        <p:spPr>
          <a:xfrm>
            <a:off x="117360" y="847800"/>
            <a:ext cx="448308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34520" y="56880"/>
            <a:ext cx="8458200" cy="73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54061"/>
                </a:solidFill>
                <a:latin typeface="Arial"/>
              </a:rPr>
              <a:t>Ohio R. Trends at Ravenswood WV</a:t>
            </a:r>
            <a:endParaRPr b="0" lang="en-US" sz="4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30240" y="831960"/>
            <a:ext cx="4633920" cy="2673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"/>
          <p:cNvPicPr/>
          <p:nvPr/>
        </p:nvPicPr>
        <p:blipFill>
          <a:blip r:embed="rId2"/>
          <a:stretch/>
        </p:blipFill>
        <p:spPr>
          <a:xfrm>
            <a:off x="4780080" y="831960"/>
            <a:ext cx="4363920" cy="2673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"/>
          <p:cNvPicPr/>
          <p:nvPr/>
        </p:nvPicPr>
        <p:blipFill>
          <a:blip r:embed="rId3"/>
          <a:stretch/>
        </p:blipFill>
        <p:spPr>
          <a:xfrm>
            <a:off x="30240" y="3581280"/>
            <a:ext cx="4633920" cy="2998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"/>
          <p:cNvPicPr/>
          <p:nvPr/>
        </p:nvPicPr>
        <p:blipFill>
          <a:blip r:embed="rId4"/>
          <a:stretch/>
        </p:blipFill>
        <p:spPr>
          <a:xfrm>
            <a:off x="4765680" y="3581280"/>
            <a:ext cx="43783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54061"/>
                </a:solidFill>
                <a:latin typeface="Arial"/>
              </a:rPr>
              <a:t>Mon R. Masontown PA:  Sulfate</a:t>
            </a: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294" name="Content Placeholder 3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4346280" cy="35244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"/>
          <p:cNvPicPr/>
          <p:nvPr/>
        </p:nvPicPr>
        <p:blipFill>
          <a:blip r:embed="rId2"/>
          <a:stretch/>
        </p:blipFill>
        <p:spPr>
          <a:xfrm>
            <a:off x="4572000" y="1590840"/>
            <a:ext cx="441972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27080" y="228600"/>
            <a:ext cx="4419720" cy="229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Arial"/>
              </a:rPr>
              <a:t>Observed Q distribution. Mon R. Masontown PA 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17640" y="28440"/>
            <a:ext cx="4568760" cy="3324240"/>
          </a:xfrm>
          <a:prstGeom prst="rect">
            <a:avLst/>
          </a:prstGeom>
          <a:ln w="0">
            <a:noFill/>
          </a:ln>
        </p:spPr>
      </p:pic>
      <p:sp>
        <p:nvSpPr>
          <p:cNvPr id="298" name="Title 1"/>
          <p:cNvSpPr/>
          <p:nvPr/>
        </p:nvSpPr>
        <p:spPr>
          <a:xfrm>
            <a:off x="152280" y="3879720"/>
            <a:ext cx="382752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254061"/>
                </a:solidFill>
                <a:latin typeface="Arial"/>
              </a:rPr>
              <a:t>Predicted increase in iron due to turning off AMD treatment plant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254061"/>
                </a:solidFill>
                <a:latin typeface="Arial"/>
              </a:rPr>
              <a:t>(The simplified model)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9" name="Picture 11" descr=""/>
          <p:cNvPicPr/>
          <p:nvPr/>
        </p:nvPicPr>
        <p:blipFill>
          <a:blip r:embed="rId2"/>
          <a:stretch/>
        </p:blipFill>
        <p:spPr>
          <a:xfrm>
            <a:off x="3979800" y="3048120"/>
            <a:ext cx="5181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54061"/>
                </a:solidFill>
                <a:latin typeface="Arial"/>
              </a:rPr>
              <a:t>Mon R. Masontown PA:  TDS</a:t>
            </a:r>
            <a:endParaRPr b="0" lang="en-US" sz="44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301" name="Picture 5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4572000" cy="35244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"/>
          <p:cNvPicPr/>
          <p:nvPr/>
        </p:nvPicPr>
        <p:blipFill>
          <a:blip r:embed="rId2"/>
          <a:stretch/>
        </p:blipFill>
        <p:spPr>
          <a:xfrm>
            <a:off x="30240" y="1752480"/>
            <a:ext cx="44956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84160" y="93240"/>
            <a:ext cx="735336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54061"/>
                </a:solidFill>
                <a:latin typeface="Arial"/>
              </a:rPr>
              <a:t>Brine discharge to Blacklick Ck.</a:t>
            </a:r>
            <a:endParaRPr b="0" lang="en-US" sz="40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934920"/>
            <a:ext cx="303048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254061"/>
                </a:solidFill>
                <a:latin typeface="Arial"/>
              </a:rPr>
              <a:t>Evidence of brine discharge</a:t>
            </a:r>
            <a:endParaRPr b="0" lang="en-US" sz="15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305" name="Content Placeholder 5" descr=""/>
          <p:cNvPicPr/>
          <p:nvPr/>
        </p:nvPicPr>
        <p:blipFill>
          <a:blip r:embed="rId1"/>
          <a:stretch/>
        </p:blipFill>
        <p:spPr>
          <a:xfrm>
            <a:off x="290520" y="1414440"/>
            <a:ext cx="3367080" cy="24685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76920" y="934920"/>
            <a:ext cx="303048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254061"/>
                </a:solidFill>
                <a:latin typeface="Arial"/>
              </a:rPr>
              <a:t>This is how it should look</a:t>
            </a:r>
            <a:endParaRPr b="0" lang="en-US" sz="17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5029200" y="1382760"/>
            <a:ext cx="3417840" cy="25002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4" descr=""/>
          <p:cNvPicPr/>
          <p:nvPr/>
        </p:nvPicPr>
        <p:blipFill>
          <a:blip r:embed="rId3"/>
          <a:stretch/>
        </p:blipFill>
        <p:spPr>
          <a:xfrm>
            <a:off x="290520" y="4071960"/>
            <a:ext cx="2529000" cy="18525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5" descr=""/>
          <p:cNvPicPr/>
          <p:nvPr/>
        </p:nvPicPr>
        <p:blipFill>
          <a:blip r:embed="rId4"/>
          <a:stretch/>
        </p:blipFill>
        <p:spPr>
          <a:xfrm>
            <a:off x="3006720" y="4071960"/>
            <a:ext cx="2568600" cy="1873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6" descr=""/>
          <p:cNvPicPr/>
          <p:nvPr/>
        </p:nvPicPr>
        <p:blipFill>
          <a:blip r:embed="rId5"/>
          <a:stretch/>
        </p:blipFill>
        <p:spPr>
          <a:xfrm>
            <a:off x="5743440" y="4071960"/>
            <a:ext cx="25257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01480" y="136440"/>
            <a:ext cx="617220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Arial"/>
              </a:rPr>
              <a:t>Are Tenmile Ck’s problems in the past?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801720"/>
            <a:ext cx="303048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254061"/>
                </a:solidFill>
                <a:latin typeface="Arial"/>
              </a:rPr>
              <a:t>Evidence of brine discharge</a:t>
            </a:r>
            <a:endParaRPr b="0" lang="en-US" sz="15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313" name="Content Placeholder 8" descr=""/>
          <p:cNvPicPr/>
          <p:nvPr/>
        </p:nvPicPr>
        <p:blipFill>
          <a:blip r:embed="rId1"/>
          <a:stretch/>
        </p:blipFill>
        <p:spPr>
          <a:xfrm>
            <a:off x="228600" y="1420920"/>
            <a:ext cx="3505320" cy="2565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81480" y="801720"/>
            <a:ext cx="303048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254061"/>
                </a:solidFill>
                <a:latin typeface="Arial"/>
              </a:rPr>
              <a:t>This is how it should look</a:t>
            </a:r>
            <a:endParaRPr b="0" lang="en-US" sz="17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315" name="Content Placeholder 10" descr=""/>
          <p:cNvPicPr/>
          <p:nvPr/>
        </p:nvPicPr>
        <p:blipFill>
          <a:blip r:embed="rId2"/>
          <a:stretch/>
        </p:blipFill>
        <p:spPr>
          <a:xfrm>
            <a:off x="4952880" y="1380960"/>
            <a:ext cx="3716280" cy="272124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2"/>
          <p:cNvSpPr/>
          <p:nvPr/>
        </p:nvSpPr>
        <p:spPr>
          <a:xfrm>
            <a:off x="5257800" y="4599000"/>
            <a:ext cx="34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Good trend, result of improved management:  Mainly reduced POTW dischar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Picture 13" descr=""/>
          <p:cNvPicPr/>
          <p:nvPr/>
        </p:nvPicPr>
        <p:blipFill>
          <a:blip r:embed="rId3"/>
          <a:stretch/>
        </p:blipFill>
        <p:spPr>
          <a:xfrm>
            <a:off x="1508040" y="4102200"/>
            <a:ext cx="37497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54061"/>
                </a:solidFill>
                <a:latin typeface="Arial"/>
              </a:rPr>
              <a:t>Mass balance:  </a:t>
            </a:r>
            <a:br>
              <a:rPr sz="4000"/>
            </a:br>
            <a:r>
              <a:rPr b="0" lang="en-US" sz="4000" spc="-1" strike="noStrike">
                <a:solidFill>
                  <a:srgbClr val="254061"/>
                </a:solidFill>
                <a:latin typeface="Arial"/>
              </a:rPr>
              <a:t>Allegheny + Monongahela = Ohio</a:t>
            </a:r>
            <a:endParaRPr b="0" lang="en-US" sz="4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319" name="Content Placeholder 8" descr=""/>
          <p:cNvPicPr/>
          <p:nvPr/>
        </p:nvPicPr>
        <p:blipFill>
          <a:blip r:embed="rId1"/>
          <a:stretch/>
        </p:blipFill>
        <p:spPr>
          <a:xfrm>
            <a:off x="2179800" y="1554120"/>
            <a:ext cx="6858000" cy="4737240"/>
          </a:xfrm>
          <a:prstGeom prst="rect">
            <a:avLst/>
          </a:prstGeom>
          <a:ln w="0">
            <a:noFill/>
          </a:ln>
        </p:spPr>
      </p:pic>
      <p:sp>
        <p:nvSpPr>
          <p:cNvPr id="320" name="Straight Connector 2"/>
          <p:cNvSpPr/>
          <p:nvPr/>
        </p:nvSpPr>
        <p:spPr>
          <a:xfrm>
            <a:off x="434880" y="2897280"/>
            <a:ext cx="660600" cy="12999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Straight Connector 5"/>
          <p:cNvSpPr/>
          <p:nvPr/>
        </p:nvSpPr>
        <p:spPr>
          <a:xfrm>
            <a:off x="1112760" y="4197240"/>
            <a:ext cx="28800" cy="16671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Straight Connector 7"/>
          <p:cNvSpPr/>
          <p:nvPr/>
        </p:nvSpPr>
        <p:spPr>
          <a:xfrm flipH="1">
            <a:off x="1157400" y="2930400"/>
            <a:ext cx="666720" cy="1279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Box 8"/>
          <p:cNvSpPr/>
          <p:nvPr/>
        </p:nvSpPr>
        <p:spPr>
          <a:xfrm>
            <a:off x="159120" y="249696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1376280" y="24969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Box 10"/>
          <p:cNvSpPr/>
          <p:nvPr/>
        </p:nvSpPr>
        <p:spPr>
          <a:xfrm>
            <a:off x="1171080" y="552132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6" name="Picture 12" descr=""/>
          <p:cNvPicPr/>
          <p:nvPr/>
        </p:nvPicPr>
        <p:blipFill>
          <a:blip r:embed="rId2"/>
          <a:stretch/>
        </p:blipFill>
        <p:spPr>
          <a:xfrm>
            <a:off x="612720" y="3170160"/>
            <a:ext cx="108900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160" y="337680"/>
            <a:ext cx="57070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Three Rivers QUEST REACH</a:t>
            </a:r>
            <a:br>
              <a:rPr sz="2400"/>
            </a:br>
            <a:r>
              <a:rPr b="1" lang="en-US" sz="24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Q</a:t>
            </a:r>
            <a:r>
              <a:rPr b="0" lang="en-US" sz="24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uality </a:t>
            </a:r>
            <a:r>
              <a:rPr b="1" lang="en-US" sz="24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U</a:t>
            </a:r>
            <a:r>
              <a:rPr b="0" lang="en-US" sz="24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seful </a:t>
            </a:r>
            <a:r>
              <a:rPr b="1" lang="en-US" sz="24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E</a:t>
            </a:r>
            <a:r>
              <a:rPr b="0" lang="en-US" sz="24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nvironmental </a:t>
            </a:r>
            <a:r>
              <a:rPr b="1" lang="en-US" sz="24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S</a:t>
            </a:r>
            <a:r>
              <a:rPr b="0" lang="en-US" sz="24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tudy </a:t>
            </a:r>
            <a:r>
              <a:rPr b="1" lang="en-US" sz="24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T</a:t>
            </a:r>
            <a:r>
              <a:rPr b="0" lang="en-US" sz="24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eams</a:t>
            </a:r>
            <a:br>
              <a:rPr sz="2400"/>
            </a:br>
            <a:r>
              <a:rPr b="1" lang="en-US" sz="24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R</a:t>
            </a:r>
            <a:r>
              <a:rPr b="0" lang="en-US" sz="24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esearch </a:t>
            </a:r>
            <a:r>
              <a:rPr b="1" lang="en-US" sz="24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E</a:t>
            </a:r>
            <a:r>
              <a:rPr b="0" lang="en-US" sz="24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nhancing </a:t>
            </a:r>
            <a:r>
              <a:rPr b="1" lang="en-US" sz="24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A</a:t>
            </a:r>
            <a:r>
              <a:rPr b="0" lang="en-US" sz="24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wareness via </a:t>
            </a:r>
            <a:r>
              <a:rPr b="1" lang="en-US" sz="24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C</a:t>
            </a:r>
            <a:r>
              <a:rPr b="0" lang="en-US" sz="24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ommunity </a:t>
            </a:r>
            <a:r>
              <a:rPr b="1" lang="en-US" sz="24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H</a:t>
            </a:r>
            <a:r>
              <a:rPr b="0" lang="en-US" sz="24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ydrology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3160" y="2495160"/>
            <a:ext cx="718164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Objectives: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254061"/>
              </a:buClr>
              <a:buFont typeface="Adobe Kaiti Std R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Monitoring </a:t>
            </a:r>
            <a:r>
              <a:rPr b="0" lang="en-US" sz="18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– monthly chemical sampling at 42 sites by research partners; field and data logger monitoring by volunteers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254061"/>
              </a:buClr>
              <a:buFont typeface="Adobe Kaiti Std R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Targeted Studies </a:t>
            </a:r>
            <a:r>
              <a:rPr b="0" lang="en-US" sz="18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– identify areas of concern through local groups; implement study plan; devise strategy to resolve issue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254061"/>
              </a:buClr>
              <a:buFont typeface="Adobe Kaiti Std R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REACH Implementation </a:t>
            </a:r>
            <a:r>
              <a:rPr b="0" lang="en-US" sz="1800" spc="-1" strike="noStrike">
                <a:solidFill>
                  <a:srgbClr val="254061"/>
                </a:solidFill>
                <a:latin typeface="Adobe Kaiti Std R"/>
                <a:ea typeface="Adobe Kaiti Std R"/>
              </a:rPr>
              <a:t>– assist volunteer groups with data management tools; connect with local water monitoring efforts; disseminate data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6343560" y="314280"/>
            <a:ext cx="2419560" cy="1362240"/>
            <a:chOff x="6343560" y="314280"/>
            <a:chExt cx="2419560" cy="1362240"/>
          </a:xfrm>
        </p:grpSpPr>
        <p:pic>
          <p:nvPicPr>
            <p:cNvPr id="221" name="Picture 4" descr=""/>
            <p:cNvPicPr/>
            <p:nvPr/>
          </p:nvPicPr>
          <p:blipFill>
            <a:blip r:embed="rId1"/>
            <a:stretch/>
          </p:blipFill>
          <p:spPr>
            <a:xfrm>
              <a:off x="6649560" y="314280"/>
              <a:ext cx="1932480" cy="75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5" descr=""/>
            <p:cNvPicPr/>
            <p:nvPr/>
          </p:nvPicPr>
          <p:blipFill>
            <a:blip r:embed="rId2"/>
            <a:stretch/>
          </p:blipFill>
          <p:spPr>
            <a:xfrm>
              <a:off x="6343560" y="1068120"/>
              <a:ext cx="2419560" cy="60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1"/>
          <p:cNvSpPr/>
          <p:nvPr/>
        </p:nvSpPr>
        <p:spPr>
          <a:xfrm>
            <a:off x="1343160" y="3811680"/>
            <a:ext cx="6472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f7f7f"/>
                </a:solidFill>
                <a:latin typeface="Times New Roman"/>
                <a:ea typeface="Arial"/>
              </a:rPr>
              <a:t>Paul Ziemkiewicz- paul.ziemkiewicz@mail.wvu.edu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f7f7f"/>
                </a:solidFill>
                <a:latin typeface="Times New Roman"/>
                <a:ea typeface="Arial"/>
              </a:rPr>
              <a:t>Melissa O’Neal – moneal@mail.wvu.edu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7f7f7f"/>
                </a:solidFill>
                <a:latin typeface="Times New Roman"/>
                <a:ea typeface="Arial"/>
              </a:rPr>
              <a:t>http://3riversquest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8" name="Picture 10" descr=""/>
          <p:cNvPicPr/>
          <p:nvPr/>
        </p:nvPicPr>
        <p:blipFill>
          <a:blip r:embed="rId1"/>
          <a:stretch/>
        </p:blipFill>
        <p:spPr>
          <a:xfrm>
            <a:off x="3086280" y="1428840"/>
            <a:ext cx="2984400" cy="21891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2"/>
          <a:stretch/>
        </p:blipFill>
        <p:spPr>
          <a:xfrm>
            <a:off x="4057560" y="5429160"/>
            <a:ext cx="1228680" cy="4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1600200" y="184320"/>
            <a:ext cx="644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obe Kaiti Std R"/>
                <a:ea typeface="Adobe Kaiti Std R"/>
              </a:rPr>
              <a:t>Water Quality Monitoring Sites/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5592600" y="1549440"/>
            <a:ext cx="264636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SEARCH PARTNERS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uquesne U.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Wheeling Jesuit U.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Iron Furnace Trout Unlimited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42 sites – grab samples analyzed monthly for TDS chemistry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Box 7"/>
          <p:cNvSpPr/>
          <p:nvPr/>
        </p:nvSpPr>
        <p:spPr>
          <a:xfrm>
            <a:off x="5605560" y="4873680"/>
            <a:ext cx="22460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OLUNTEER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gt;300 sites – field measurements; continuous data loggers; and/or grab samples for TDS chemistry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328680" y="816120"/>
            <a:ext cx="5002200" cy="497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7" name="TextBox 5"/>
          <p:cNvSpPr/>
          <p:nvPr/>
        </p:nvSpPr>
        <p:spPr>
          <a:xfrm>
            <a:off x="5646600" y="3522600"/>
            <a:ext cx="22291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ARAMETERS: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lkalinity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r, Cl, SO4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l, Fe, Mn, Ca, Na, Mg,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H, EC, TD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8" name="Group 2"/>
          <p:cNvGrpSpPr/>
          <p:nvPr/>
        </p:nvGrpSpPr>
        <p:grpSpPr>
          <a:xfrm>
            <a:off x="7361280" y="592200"/>
            <a:ext cx="1371600" cy="654120"/>
            <a:chOff x="7361280" y="592200"/>
            <a:chExt cx="1371600" cy="654120"/>
          </a:xfrm>
        </p:grpSpPr>
        <p:pic>
          <p:nvPicPr>
            <p:cNvPr id="229" name="Picture 3" descr=""/>
            <p:cNvPicPr/>
            <p:nvPr/>
          </p:nvPicPr>
          <p:blipFill>
            <a:blip r:embed="rId2"/>
            <a:stretch/>
          </p:blipFill>
          <p:spPr>
            <a:xfrm>
              <a:off x="7534800" y="592200"/>
              <a:ext cx="1095480" cy="3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" descr=""/>
            <p:cNvPicPr/>
            <p:nvPr/>
          </p:nvPicPr>
          <p:blipFill>
            <a:blip r:embed="rId3"/>
            <a:stretch/>
          </p:blipFill>
          <p:spPr>
            <a:xfrm>
              <a:off x="7361280" y="954360"/>
              <a:ext cx="1371600" cy="291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9880" y="-14400"/>
            <a:ext cx="80042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Ohio R.         Spring Melt vs. Summer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276720" y="623880"/>
            <a:ext cx="2770200" cy="2685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2"/>
          <a:stretch/>
        </p:blipFill>
        <p:spPr>
          <a:xfrm>
            <a:off x="6300720" y="615960"/>
            <a:ext cx="2801880" cy="2716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3"/>
          <a:stretch/>
        </p:blipFill>
        <p:spPr>
          <a:xfrm>
            <a:off x="3276720" y="3316320"/>
            <a:ext cx="2773080" cy="2695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"/>
          <p:cNvPicPr/>
          <p:nvPr/>
        </p:nvPicPr>
        <p:blipFill>
          <a:blip r:embed="rId4"/>
          <a:stretch/>
        </p:blipFill>
        <p:spPr>
          <a:xfrm>
            <a:off x="6303960" y="3309840"/>
            <a:ext cx="2786040" cy="2702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"/>
          <p:cNvPicPr/>
          <p:nvPr/>
        </p:nvPicPr>
        <p:blipFill>
          <a:blip r:embed="rId5"/>
          <a:stretch/>
        </p:blipFill>
        <p:spPr>
          <a:xfrm>
            <a:off x="-33480" y="615960"/>
            <a:ext cx="3313080" cy="2584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6" descr=""/>
          <p:cNvPicPr/>
          <p:nvPr/>
        </p:nvPicPr>
        <p:blipFill>
          <a:blip r:embed="rId6"/>
          <a:stretch/>
        </p:blipFill>
        <p:spPr>
          <a:xfrm>
            <a:off x="0" y="3402000"/>
            <a:ext cx="3332160" cy="2590920"/>
          </a:xfrm>
          <a:prstGeom prst="rect">
            <a:avLst/>
          </a:prstGeom>
          <a:ln w="0">
            <a:noFill/>
          </a:ln>
        </p:spPr>
      </p:pic>
      <p:cxnSp>
        <p:nvCxnSpPr>
          <p:cNvPr id="238" name="Straight Arrow Connector 19"/>
          <p:cNvCxnSpPr/>
          <p:nvPr/>
        </p:nvCxnSpPr>
        <p:spPr>
          <a:xfrm>
            <a:off x="779040" y="1157040"/>
            <a:ext cx="2716920" cy="751320"/>
          </a:xfrm>
          <a:prstGeom prst="straightConnector1">
            <a:avLst/>
          </a:prstGeom>
          <a:ln w="34920">
            <a:solidFill>
              <a:srgbClr val="1f497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240" y="68400"/>
            <a:ext cx="88758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54061"/>
                </a:solidFill>
                <a:latin typeface="Arial"/>
              </a:rPr>
              <a:t>Allegheny R.        Spring melt vs. Summer</a:t>
            </a:r>
            <a:endParaRPr b="0" lang="en-US" sz="36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3586320" y="1298520"/>
            <a:ext cx="2765160" cy="2594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6378480" y="1285920"/>
            <a:ext cx="2747880" cy="2577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"/>
          <p:cNvPicPr/>
          <p:nvPr/>
        </p:nvPicPr>
        <p:blipFill>
          <a:blip r:embed="rId3"/>
          <a:stretch/>
        </p:blipFill>
        <p:spPr>
          <a:xfrm>
            <a:off x="3586320" y="3863880"/>
            <a:ext cx="2765160" cy="2592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"/>
          <p:cNvPicPr/>
          <p:nvPr/>
        </p:nvPicPr>
        <p:blipFill>
          <a:blip r:embed="rId4"/>
          <a:stretch/>
        </p:blipFill>
        <p:spPr>
          <a:xfrm>
            <a:off x="6378480" y="3863880"/>
            <a:ext cx="2747880" cy="2576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5"/>
          <a:stretch/>
        </p:blipFill>
        <p:spPr>
          <a:xfrm>
            <a:off x="34920" y="3871800"/>
            <a:ext cx="3535200" cy="2584440"/>
          </a:xfrm>
          <a:prstGeom prst="rect">
            <a:avLst/>
          </a:prstGeom>
          <a:ln w="0">
            <a:noFill/>
          </a:ln>
        </p:spPr>
      </p:pic>
      <p:sp>
        <p:nvSpPr>
          <p:cNvPr id="245" name="Flowchart: Connector 15"/>
          <p:cNvSpPr/>
          <p:nvPr/>
        </p:nvSpPr>
        <p:spPr>
          <a:xfrm>
            <a:off x="1574640" y="4241880"/>
            <a:ext cx="252720" cy="277560"/>
          </a:xfrm>
          <a:prstGeom prst="flowChartConnector">
            <a:avLst/>
          </a:prstGeom>
          <a:noFill/>
          <a:ln w="1584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6" name="Straight Arrow Connector 18"/>
          <p:cNvCxnSpPr/>
          <p:nvPr/>
        </p:nvCxnSpPr>
        <p:spPr>
          <a:xfrm>
            <a:off x="1854360" y="4377960"/>
            <a:ext cx="2032200" cy="66420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pic>
        <p:nvPicPr>
          <p:cNvPr id="247" name="Picture 10" descr=""/>
          <p:cNvPicPr/>
          <p:nvPr/>
        </p:nvPicPr>
        <p:blipFill>
          <a:blip r:embed="rId6"/>
          <a:stretch/>
        </p:blipFill>
        <p:spPr>
          <a:xfrm>
            <a:off x="0" y="1295280"/>
            <a:ext cx="3548160" cy="2600280"/>
          </a:xfrm>
          <a:prstGeom prst="rect">
            <a:avLst/>
          </a:prstGeom>
          <a:ln w="0">
            <a:noFill/>
          </a:ln>
        </p:spPr>
      </p:pic>
      <p:cxnSp>
        <p:nvCxnSpPr>
          <p:cNvPr id="248" name="Straight Arrow Connector 21"/>
          <p:cNvCxnSpPr/>
          <p:nvPr/>
        </p:nvCxnSpPr>
        <p:spPr>
          <a:xfrm>
            <a:off x="2361960" y="1980720"/>
            <a:ext cx="1524600" cy="64548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sp>
        <p:nvSpPr>
          <p:cNvPr id="249" name="Flowchart: Connector 22"/>
          <p:cNvSpPr/>
          <p:nvPr/>
        </p:nvSpPr>
        <p:spPr>
          <a:xfrm>
            <a:off x="1981080" y="1676520"/>
            <a:ext cx="304920" cy="304560"/>
          </a:xfrm>
          <a:prstGeom prst="flowChartConnector">
            <a:avLst/>
          </a:prstGeom>
          <a:noFill/>
          <a:ln w="1584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" y="26640"/>
            <a:ext cx="82296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Monongahela R.     Spring melt vs. Summer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251" name="Picture 7" descr=""/>
          <p:cNvPicPr/>
          <p:nvPr/>
        </p:nvPicPr>
        <p:blipFill>
          <a:blip r:embed="rId1"/>
          <a:stretch/>
        </p:blipFill>
        <p:spPr>
          <a:xfrm>
            <a:off x="20520" y="1166760"/>
            <a:ext cx="3459240" cy="2532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"/>
          <p:cNvPicPr/>
          <p:nvPr/>
        </p:nvPicPr>
        <p:blipFill>
          <a:blip r:embed="rId2"/>
          <a:stretch/>
        </p:blipFill>
        <p:spPr>
          <a:xfrm>
            <a:off x="31680" y="3670200"/>
            <a:ext cx="3490920" cy="2444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6" descr=""/>
          <p:cNvPicPr/>
          <p:nvPr/>
        </p:nvPicPr>
        <p:blipFill>
          <a:blip r:embed="rId3"/>
          <a:stretch/>
        </p:blipFill>
        <p:spPr>
          <a:xfrm>
            <a:off x="3479760" y="1138320"/>
            <a:ext cx="2836800" cy="2476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7" descr=""/>
          <p:cNvPicPr/>
          <p:nvPr/>
        </p:nvPicPr>
        <p:blipFill>
          <a:blip r:embed="rId4"/>
          <a:stretch/>
        </p:blipFill>
        <p:spPr>
          <a:xfrm>
            <a:off x="6316560" y="1138320"/>
            <a:ext cx="2847960" cy="2476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8" descr=""/>
          <p:cNvPicPr/>
          <p:nvPr/>
        </p:nvPicPr>
        <p:blipFill>
          <a:blip r:embed="rId5"/>
          <a:stretch/>
        </p:blipFill>
        <p:spPr>
          <a:xfrm>
            <a:off x="3522600" y="3684600"/>
            <a:ext cx="2822760" cy="2416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9" descr=""/>
          <p:cNvPicPr/>
          <p:nvPr/>
        </p:nvPicPr>
        <p:blipFill>
          <a:blip r:embed="rId6"/>
          <a:stretch/>
        </p:blipFill>
        <p:spPr>
          <a:xfrm>
            <a:off x="6345360" y="3676680"/>
            <a:ext cx="28191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54061"/>
                </a:solidFill>
                <a:latin typeface="Arial"/>
              </a:rPr>
              <a:t>Monongahela R. Braddock PA</a:t>
            </a:r>
            <a:endParaRPr b="0" lang="en-US" sz="4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258" name="Content Placeholder 3" descr=""/>
          <p:cNvPicPr/>
          <p:nvPr/>
        </p:nvPicPr>
        <p:blipFill>
          <a:blip r:embed="rId1"/>
          <a:stretch/>
        </p:blipFill>
        <p:spPr>
          <a:xfrm>
            <a:off x="4495680" y="3571920"/>
            <a:ext cx="3915000" cy="2371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285840" y="3571920"/>
            <a:ext cx="3914640" cy="2371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3"/>
          <a:stretch/>
        </p:blipFill>
        <p:spPr>
          <a:xfrm>
            <a:off x="2514600" y="933480"/>
            <a:ext cx="4008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17220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54061"/>
                </a:solidFill>
                <a:latin typeface="Arial"/>
              </a:rPr>
              <a:t>Bromide trends</a:t>
            </a:r>
            <a:endParaRPr b="0" lang="en-US" sz="4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2843280" y="3817800"/>
            <a:ext cx="4548240" cy="2907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"/>
          <p:cNvPicPr/>
          <p:nvPr/>
        </p:nvPicPr>
        <p:blipFill>
          <a:blip r:embed="rId2"/>
          <a:stretch/>
        </p:blipFill>
        <p:spPr>
          <a:xfrm>
            <a:off x="46080" y="880920"/>
            <a:ext cx="4421160" cy="2936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3"/>
          <a:stretch/>
        </p:blipFill>
        <p:spPr>
          <a:xfrm>
            <a:off x="4576680" y="880920"/>
            <a:ext cx="395784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4240" y="81000"/>
            <a:ext cx="816588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254061"/>
                </a:solidFill>
                <a:latin typeface="Arial"/>
              </a:rPr>
              <a:t>Bromide is weakly correlated with Flow</a:t>
            </a:r>
            <a:endParaRPr b="0" lang="en-US" sz="29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800240" y="377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Arial"/>
              </a:rPr>
              <a:t>Ohio River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267" name="Content Placeholder 8" descr=""/>
          <p:cNvPicPr/>
          <p:nvPr/>
        </p:nvPicPr>
        <p:blipFill>
          <a:blip r:embed="rId1"/>
          <a:stretch/>
        </p:blipFill>
        <p:spPr>
          <a:xfrm>
            <a:off x="4541760" y="3840120"/>
            <a:ext cx="4572000" cy="27478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9" descr=""/>
          <p:cNvPicPr/>
          <p:nvPr/>
        </p:nvPicPr>
        <p:blipFill>
          <a:blip r:embed="rId2"/>
          <a:stretch/>
        </p:blipFill>
        <p:spPr>
          <a:xfrm>
            <a:off x="4572000" y="1104840"/>
            <a:ext cx="4572000" cy="2747880"/>
          </a:xfrm>
          <a:prstGeom prst="rect">
            <a:avLst/>
          </a:prstGeom>
          <a:ln w="0">
            <a:noFill/>
          </a:ln>
        </p:spPr>
      </p:pic>
      <p:sp>
        <p:nvSpPr>
          <p:cNvPr id="269" name="Text Placeholder 3"/>
          <p:cNvSpPr/>
          <p:nvPr/>
        </p:nvSpPr>
        <p:spPr>
          <a:xfrm>
            <a:off x="138240" y="576360"/>
            <a:ext cx="4039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Arial"/>
                <a:ea typeface="Arial"/>
              </a:rPr>
              <a:t>Monongahela R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" name="Picture 16" descr=""/>
          <p:cNvPicPr/>
          <p:nvPr/>
        </p:nvPicPr>
        <p:blipFill>
          <a:blip r:embed="rId3"/>
          <a:stretch/>
        </p:blipFill>
        <p:spPr>
          <a:xfrm>
            <a:off x="109440" y="1123920"/>
            <a:ext cx="4402080" cy="2697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7" descr=""/>
          <p:cNvPicPr/>
          <p:nvPr/>
        </p:nvPicPr>
        <p:blipFill>
          <a:blip r:embed="rId4"/>
          <a:stretch/>
        </p:blipFill>
        <p:spPr>
          <a:xfrm>
            <a:off x="109440" y="3852720"/>
            <a:ext cx="443232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18:33:18Z</dcterms:created>
  <dc:creator>J Donovan</dc:creator>
  <dc:description/>
  <dc:language>en-US</dc:language>
  <cp:lastModifiedBy>ORSANCO 32</cp:lastModifiedBy>
  <dcterms:modified xsi:type="dcterms:W3CDTF">2017-02-07T19:46:58Z</dcterms:modified>
  <cp:revision>30</cp:revision>
  <dc:subject/>
  <dc:title>Mapping the Upper Freeport coal and its mining hydrogeology in Northern WV</dc:title>
</cp:coreProperties>
</file>